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8C4-432B-4029-870F-017BB6CC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B69-7E68-4425-A32F-96056E6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8FD-39DF-40B8-B615-6FC4F169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00C-66C6-4D77-9B23-9BA664FF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48B-69FE-4A93-B437-0EFC7293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CE4-55AA-4CB7-B4D2-70B7B19D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12F-B4FF-4623-A864-E678BD4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954-1CB9-494D-9BFD-E9C9EF9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F76-FC0A-434A-B473-56117D48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916D-5D1E-4118-B509-75DADBAF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7723-B3A1-424C-AB28-5075F3E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992-C3F2-4F9A-AA47-B57FA6EC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F88-0993-4A32-AA65-F51A10E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59D4-D680-445F-A8DA-908DB0B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0BC-CD84-43B2-B064-E175F822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4760-D56E-4239-938F-638847B9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E136-F546-4F57-B7B1-7E2D593E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E598-5568-403E-BB57-D5C478A1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0B99-E6D7-466E-A291-883A8596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139D-9CFB-46CB-9AB2-56D0F9B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308E-0FC8-4203-AA81-94D86628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6C9E-03E7-4F72-A6D6-3F2BA7E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ABD-E96A-42ED-ACA2-670FEC8A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8BF8-02B1-4EB3-BBDB-D40EC14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782E-82B6-4529-BD1B-97F65FD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5AB5-9CA1-46B7-A7BE-348621F4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9357-8925-4F8D-B9EC-8A0C480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5E5D-629F-4AE3-BF6C-847747EC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4A29-7792-430A-831D-1806D5D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A9CA-7037-4CDD-BF5E-963F1AF1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C4AD-F74E-400D-80CD-4E19ED1C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3AAC-5C4C-41FA-A45D-1AF84CA3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D264-895E-4753-B317-E5491766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B77-4F28-4E63-8155-DBCFDE8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B726-6070-4DE9-97D9-A1E6BCD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7E73-15A3-475D-93AB-BFF0DE78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7ABE-C99C-4584-BFF5-FA1645E6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12E4-71B0-405D-8C0C-C5893FB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7A73-57F3-4C0F-AB77-D1B05BE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CAF5-C399-4013-911C-C5B9572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A7DC-3DE6-4107-85BA-6D659689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25C5E-CECB-4E12-AF7F-90CBCEA0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A115-4ABB-4369-AED9-BA4FD538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CEC7-5FBA-4B75-9462-662557F4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7DA-7256-4E2C-BA92-49A64D3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0DE2-8649-419E-84EA-443A240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A5DD-E51C-4BCE-95CF-F21648D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0755-0D69-45AD-80CD-2C607AB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56D0-FEEA-4010-8950-AA5DF54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9FD0-70F8-4D09-9ABD-834F049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65E4-8500-4CD1-8D13-8F892E6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2279-3561-4F98-8F24-17861BB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0BDF-33B6-4F72-B9F4-7408903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68C3-81D0-4D71-954E-C9ADEC1A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F0C8-79E3-48AD-AB7F-2065C60D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DD8-5AB1-49D6-9E99-E1F4A32F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782A-540B-4BBD-B6B5-F1C662F2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72C3B-F9AF-413F-89D8-C9184C95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5CAC5-61CE-4B08-BB12-85BE931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E084-2996-4FBE-8431-37928E2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7C8C0-DBBB-4F34-8B84-51858272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2423-D7DC-4BCF-9CEB-813715C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1615-4BEA-456A-9307-DA570F4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7611-CC83-4140-B612-4BFC99A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2249-16B7-4A25-8604-781B727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A65F-4395-4E2F-A02E-42750A0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48A-70F4-49F4-A321-163595B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CB86-A330-4839-95B4-E689025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B6C6D-DDA4-4EDE-8382-D7960134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C44D-7243-4EF0-84FC-70093BB4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FF0A-A858-4C81-930A-5BF749A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61523-15CE-4939-A87C-6FB823E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DE6C-1517-4884-ABC2-8D95FD3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8C74-1F03-4D86-B726-D12E75B2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A29D9-81F9-4C5D-BECD-4A818FF9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19A9-25E0-40CF-A9C4-3350CF5B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70E3D-6B55-45B4-80F2-981DE73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14D-79E6-4DC4-A5F7-2BF5731F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4AFC-4BD4-456E-BD35-A7F8A92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4E56-692D-43BC-97F2-101DFC9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5EAF-FE17-48E4-9279-CBD6272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F653-64F5-4363-B1A9-B49F7FC0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6E4F-651A-43C8-A117-DE894982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A89-DAC9-4FDF-96D9-49DF837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89C-2EAF-4FEB-B546-30AE28E31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13F-EE5B-4787-9C72-547A4B27921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A57-E95F-44EA-B122-D739835BBBA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351-B40D-4F6E-86F6-602EA04B8CE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0628-9C37-4045-988D-25DBDDC37CC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601-E8E0-4998-A0D1-AFDD5E38CAB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55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3B4C-A0F2-4036-BC16-D9DAC172379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заставка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Заголовок 4"/>
          <p:cNvSpPr/>
          <p:nvPr/>
        </p:nvSpPr>
        <p:spPr>
          <a:xfrm>
            <a:off x="0" y="1387440"/>
            <a:ext cx="91440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ПОРТ ОБЪЕКТА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РОНЕЖСКИЙ ИНСТИТУТ ГП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. ВОРОНЕ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. КРАСНОЗНАМЕННАЯ, Д. 2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Заголовок 4"/>
          <p:cNvSpPr/>
          <p:nvPr/>
        </p:nvSpPr>
        <p:spPr>
          <a:xfrm>
            <a:off x="28440" y="5243400"/>
            <a:ext cx="91155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 Иван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фон: 111-11-11; 8-916-222-22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241360" y="692280"/>
            <a:ext cx="52563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НАИМЕНОВАНИЯ ОБЪЕКТ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364000" y="0"/>
            <a:ext cx="3627720" cy="5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ложение № 2 к письму Министерства образования Московской обла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  _31.01.2012 № 908-08б/07_________________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285840" y="957240"/>
          <a:ext cx="8572320" cy="5811840"/>
        </p:xfrm>
        <a:graphic>
          <a:graphicData uri="http://schemas.openxmlformats.org/drawingml/2006/table">
            <a:tbl>
              <a:tblPr/>
              <a:tblGrid>
                <a:gridCol w="714240"/>
                <a:gridCol w="4786200"/>
                <a:gridCol w="3071880"/>
              </a:tblGrid>
              <a:tr h="642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чень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чение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начение з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епень огнестойкости з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степень огнестойк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 находящихся людей в здани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дневное 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ночное 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1000 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30 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ительные и конструктивные особенности здан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таж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ая выс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ры (геометрически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начение подв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личие черд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х. этаж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-ми этаж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 мет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0 * 90 мет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ительные конструкци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ружные ст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город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ел огнестойкост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мин. (потеря огнестойко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жарная опасность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ереннопожароопас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ел огнестойкост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 мин. (потеря несущей стойко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жарная опас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ереннопожароопас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7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перативно-технические характеристики объ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84320" y="963720"/>
          <a:ext cx="8775360" cy="5805360"/>
        </p:xfrm>
        <a:graphic>
          <a:graphicData uri="http://schemas.openxmlformats.org/drawingml/2006/table">
            <a:tbl>
              <a:tblPr/>
              <a:tblGrid>
                <a:gridCol w="731520"/>
                <a:gridCol w="4899240"/>
                <a:gridCol w="3144600"/>
              </a:tblGrid>
              <a:tr h="799920">
                <a:tc>
                  <a:txBody>
                    <a:bodyPr lIns="65160" rIns="65160" tIns="32760" bIns="32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5160" rIns="65160" tIns="32760" bIns="32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чень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5160" rIns="65160" tIns="32760" bIns="32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чение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8144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кры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ов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стничные кле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ел огнестойкост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 мин. (потеря целостнот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жарная опас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ереннопожароопас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ел огнестойкост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 мин. (потеря целостнот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жарная опас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ереннопожароопас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400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ительные материал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город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кры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32760" bIns="32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юче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меренногорю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ламеняем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воспламеня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остранение пламени по поверхност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распространя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ымообразующая способн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 умеренной дымообразующей способ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ксично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меренноопасны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юче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ормальногорю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ламеняем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воспламеня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остранение пламени по поверхност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распространяющ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ымообразующая способн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 умеренной дымообразующей способ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ксично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меренноопас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9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перативно-технические характеристики объ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285840" y="957240"/>
          <a:ext cx="8572320" cy="5676840"/>
        </p:xfrm>
        <a:graphic>
          <a:graphicData uri="http://schemas.openxmlformats.org/drawingml/2006/table">
            <a:tbl>
              <a:tblPr/>
              <a:tblGrid>
                <a:gridCol w="714240"/>
                <a:gridCol w="4786200"/>
                <a:gridCol w="3071880"/>
              </a:tblGrid>
              <a:tr h="66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чень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чение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ов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стничные кле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юче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ормальногорю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ламеняем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воспламеня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остранение пламени по поверхност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реннораспространяющ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ымообразующая способность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 умеренной дымообразующей способ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ксичност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умеренноопас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ел огнестойкости и вид противопожарных пре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ти эваку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верные и оконные про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та отключения электроэнергии, вентиляции, дымоудал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энергия от электрощитовой в помещении тамб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з 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ые элементы опасности для людей при пожар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равление СО и продуктами разложения, воздействие высокой температуры, обрушение конструкц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тивопожарное водоснаб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 пожарных водоемов, их ем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жарный водопровод, его вид, расход вод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 гидрант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личие и количество внутренних пожарных кран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6 ПК 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1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перативно-технические характеристики объ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85840" y="957240"/>
          <a:ext cx="8572320" cy="3456000"/>
        </p:xfrm>
        <a:graphic>
          <a:graphicData uri="http://schemas.openxmlformats.org/drawingml/2006/table">
            <a:tbl>
              <a:tblPr/>
              <a:tblGrid>
                <a:gridCol w="714240"/>
                <a:gridCol w="4438800"/>
                <a:gridCol w="341928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чень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чение показателей пожарно-тактической характеристики объ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тип соединения и диаметр внутренних пожарных кран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уемый расход воды на нужды пожаротушен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ы подачи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8 л/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 автоцистерны: с установкой на ПВ- расстояние 50 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мещения с наличием взрывоопасных веществ и материа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личие устройств автоматического пожаротушения и автоматической пожарной сигнализ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ымовое устройство автоматической пожарной сигнализации «С 2000». Сигнал выведен в комнату дежур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3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перативно-технические характеристики объ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85680" y="1125360"/>
          <a:ext cx="8964720" cy="5183280"/>
        </p:xfrm>
        <a:graphic>
          <a:graphicData uri="http://schemas.openxmlformats.org/drawingml/2006/table">
            <a:tbl>
              <a:tblPr/>
              <a:tblGrid>
                <a:gridCol w="560520"/>
                <a:gridCol w="2031840"/>
                <a:gridCol w="2952720"/>
                <a:gridCol w="3419640"/>
              </a:tblGrid>
              <a:tr h="739800">
                <a:tc>
                  <a:txBody>
                    <a:bodyPr lIns="25200" rIns="25200" tIns="0" bIns="0" anchor="ctr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РЯЮЩИЙ ОРГ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НЕСЕННОЕ РЕ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1520">
                <a:tc>
                  <a:txBody>
                    <a:bodyPr lIns="25200" rIns="25200" tIns="0" bIns="0" anchor="ctr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440" indent="-1440"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25200" rIns="25200" tIns="0" bIns="0" anchor="ctr">
                      <a:noAutofit/>
                    </a:bodyPr>
                    <a:p>
                      <a:pPr marL="414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440" indent="-1440"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5200" rIns="25200" tIns="0" bIns="0" anchor="ctr">
                      <a:noAutofit/>
                    </a:bodyPr>
                    <a:p>
                      <a:pPr marL="44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25200" rIns="25200" tIns="0" bIns="0" anchor="ctr">
                      <a:noAutofit/>
                    </a:bodyPr>
                    <a:p>
                      <a:pPr marL="36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25200" rIns="25200" tIns="0" bIns="0" anchor="ctr">
                      <a:noAutofit/>
                    </a:bodyPr>
                    <a:p>
                      <a:pPr marL="44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5200" rIns="25200" tIns="0" bIns="0" anchor="ctr">
                      <a:noAutofit/>
                    </a:bodyPr>
                    <a:p>
                      <a:pPr marL="49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8892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5" name="Text Box 75"/>
          <p:cNvSpPr/>
          <p:nvPr/>
        </p:nvSpPr>
        <p:spPr>
          <a:xfrm>
            <a:off x="2392920" y="2708280"/>
            <a:ext cx="4797720" cy="6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АПОЛНИТЬ ЕСЛИ БЫЛИ ПРОВЕР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СЛИ ПРОВЕРОК  НЕ БЫЛО – УКАЗ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перативно-технические характеристики объ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декларация пожарной безопасност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0" y="2664000"/>
          <a:ext cx="9144000" cy="2911320"/>
        </p:xfrm>
        <a:graphic>
          <a:graphicData uri="http://schemas.openxmlformats.org/drawingml/2006/table">
            <a:tbl>
              <a:tblPr/>
              <a:tblGrid>
                <a:gridCol w="820800"/>
                <a:gridCol w="8323200"/>
              </a:tblGrid>
              <a:tr h="15228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разде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6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Оценка пожарного риска </a:t>
                      </a: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(1)</a:t>
                      </a: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, обеспеченного на объекте защи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чет риска не проводилс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Заполняется, если проводился расчет риска. В разде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казываются  расчетные значения уровня пожарного риска и допустимы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чения уровня пожарного риска, а также комплекс выполняемых инженерно-технических 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ационных мероприятий для обеспечения  допустимого значения уровня пожарного риск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Оценка возможного ущерба имуществу третьих лиц от пожа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 000 (десять тысяч) рублей 00 копее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 Заполняется самостоятельно, исходя из собственной оцен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зможного ущерба имуществу третьих лиц от пожара, либо приводятся реквизиты документов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хования (2)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Перечень федеральных законов о технических регламентах и нормативных документов по пожарной безопасности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ыполнение которых обеспечивается на объекте защи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ъект защиты был введен в эксплуатацию до 01.05.2009г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В разделе указывается перечень выполняемых требований  федеральных законов 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объекте выполняются следующие требов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хнических  регламентах и нормативных документов по пожарной безопас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ля конкретного объекта защиты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TextBox 6"/>
          <p:cNvSpPr/>
          <p:nvPr/>
        </p:nvSpPr>
        <p:spPr>
          <a:xfrm>
            <a:off x="0" y="5572080"/>
            <a:ext cx="91440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ую декларацию разработа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                                   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лжность, фамилия, инициалы)                                                                                       (Подпис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___» ________________20___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К декларации прилагаются расчеты по оценке пожарного рис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К декларации прилагается копия страхового поли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7"/>
          <p:cNvSpPr/>
          <p:nvPr/>
        </p:nvSpPr>
        <p:spPr>
          <a:xfrm>
            <a:off x="0" y="878040"/>
            <a:ext cx="914400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КЛАРАЦИЯ ПОЖАРНОЙ БЕЗОПАС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ая декларация составлена в отношении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ывается организационно-правовая форма юридического лица, функциональное назначение, полное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 наименование (в случае, если имеется), в том числе фирменное  наименование объекта защиты)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регистрационный номер записи о государственной регистрации юридического лица 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онный номер налогоплательщика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хождения объекта защиты ___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ывается адрес фактического  места нахождения объекта защиты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овый и электронный адреса, телефон, факс юридического лица и объекта защ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F:\Бирюков декларации\ГОУ СОШ 776.JPG"/>
          <p:cNvPicPr/>
          <p:nvPr/>
        </p:nvPicPr>
        <p:blipFill>
          <a:blip r:embed="rId1"/>
          <a:stretch/>
        </p:blipFill>
        <p:spPr>
          <a:xfrm>
            <a:off x="2735280" y="928800"/>
            <a:ext cx="3600360" cy="5929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F:\Налоговая академия.jpg"/>
          <p:cNvPicPr/>
          <p:nvPr/>
        </p:nvPicPr>
        <p:blipFill>
          <a:blip r:embed="rId2"/>
          <a:stretch/>
        </p:blipFill>
        <p:spPr>
          <a:xfrm>
            <a:off x="2514600" y="907920"/>
            <a:ext cx="4148280" cy="57103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1843920" y="2924280"/>
            <a:ext cx="5586120" cy="3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0000"/>
                </a:solidFill>
                <a:latin typeface="Arial"/>
                <a:ea typeface="Arial"/>
              </a:rPr>
              <a:t>РАЗМЕСТИТЬ СКАНИРОВАННЫЙ ВАРИАНТ ДОКУМ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декларация пожарной безопасност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АВНЫЙ КОРПУС ВОРОНЕЖСКОГО ИНСТИТУТА Г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1"/>
          <p:cNvSpPr/>
          <p:nvPr/>
        </p:nvSpPr>
        <p:spPr>
          <a:xfrm>
            <a:off x="1500120" y="1413000"/>
            <a:ext cx="674064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ОБХОДИМО РАЗМЕСТИТЬ НА ВЕСЬ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ОТОГРАФИЮ ЗДАНИЯ (ГЛАВНОГО КОРП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ЪЕКТА ОБРАЗОВАНИЯ (ЦЕНТРАЛЬНОЙ ПРОХОД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68360" y="1276200"/>
          <a:ext cx="8245440" cy="3345120"/>
        </p:xfrm>
        <a:graphic>
          <a:graphicData uri="http://schemas.openxmlformats.org/drawingml/2006/table">
            <a:tbl>
              <a:tblPr/>
              <a:tblGrid>
                <a:gridCol w="1324080"/>
                <a:gridCol w="1218960"/>
                <a:gridCol w="1855800"/>
                <a:gridCol w="3846600"/>
              </a:tblGrid>
              <a:tr h="601920">
                <a:tc gridSpan="3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амилия, инициалы и занимаемая должность лица, с которым согласовывается проект доку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мечания по проекту докумен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пись должностного лица и дата соглас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альник местного гарнизона пожарной ох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-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.В. Рыб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пись, 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ставитель администрации (Глава или зам. по безоп. или глава КЧСиОП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Г. Шапор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пись, 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ководитель о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А. Ив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пись, 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ветственный за пожарную безопасность о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.Р. Се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пись, 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47"/>
          <p:cNvSpPr/>
          <p:nvPr/>
        </p:nvSpPr>
        <p:spPr>
          <a:xfrm>
            <a:off x="539640" y="4797360"/>
            <a:ext cx="818856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ПОЛНИТЕЛЬНО РАССМОТРЕТЬ ВОПРОС СОГЛАСОВАНИЯ ПАСПОРТА ОБЪЕКТА С ОТВЕТСТВЕННЫМ ЗА ПОЖАРНУЮ БЕЗОПАСНОСТЬ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лист согласова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539640" y="5950080"/>
            <a:ext cx="81885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ЛИСТ СОГЛАСОВАНИЯ ВСТАВЛЯЕТСЯ В СКАНИРОВАНН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72"/>
          <p:cNvGrpSpPr/>
          <p:nvPr/>
        </p:nvGrpSpPr>
        <p:grpSpPr>
          <a:xfrm>
            <a:off x="1230840" y="2917800"/>
            <a:ext cx="1695600" cy="696600"/>
            <a:chOff x="1230840" y="2917800"/>
            <a:chExt cx="1695600" cy="696600"/>
          </a:xfrm>
        </p:grpSpPr>
        <p:sp>
          <p:nvSpPr>
            <p:cNvPr id="300" name="Tree"/>
            <p:cNvSpPr/>
            <p:nvPr/>
          </p:nvSpPr>
          <p:spPr>
            <a:xfrm rot="20751600">
              <a:off x="2722680" y="2935440"/>
              <a:ext cx="176040" cy="245160"/>
            </a:xfrm>
            <a:custGeom>
              <a:avLst/>
              <a:gdLst>
                <a:gd name="textAreaLeft" fmla="*/ 5760 w 176040"/>
                <a:gd name="textAreaRight" fmla="*/ 171720 w 176040"/>
                <a:gd name="textAreaTop" fmla="*/ 254880 h 245160"/>
                <a:gd name="textAreaBottom" fmla="*/ 321120 h 24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ree"/>
            <p:cNvSpPr/>
            <p:nvPr/>
          </p:nvSpPr>
          <p:spPr>
            <a:xfrm rot="20751600">
              <a:off x="2451600" y="3007080"/>
              <a:ext cx="174600" cy="243360"/>
            </a:xfrm>
            <a:custGeom>
              <a:avLst/>
              <a:gdLst>
                <a:gd name="textAreaLeft" fmla="*/ 5760 w 174600"/>
                <a:gd name="textAreaRight" fmla="*/ 170280 w 174600"/>
                <a:gd name="textAreaTop" fmla="*/ 253080 h 243360"/>
                <a:gd name="textAreaBottom" fmla="*/ 31860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ree"/>
            <p:cNvSpPr/>
            <p:nvPr/>
          </p:nvSpPr>
          <p:spPr>
            <a:xfrm rot="20751600">
              <a:off x="2221920" y="3087720"/>
              <a:ext cx="174600" cy="243360"/>
            </a:xfrm>
            <a:custGeom>
              <a:avLst/>
              <a:gdLst>
                <a:gd name="textAreaLeft" fmla="*/ 5760 w 174600"/>
                <a:gd name="textAreaRight" fmla="*/ 170280 w 174600"/>
                <a:gd name="textAreaTop" fmla="*/ 253080 h 243360"/>
                <a:gd name="textAreaBottom" fmla="*/ 31860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883"/>
                  </a:moveTo>
                  <a:lnTo>
                    <a:pt x="9257" y="18883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883"/>
                  </a:lnTo>
                  <a:lnTo>
                    <a:pt x="21600" y="18883"/>
                  </a:lnTo>
                  <a:lnTo>
                    <a:pt x="12343" y="12589"/>
                  </a:lnTo>
                  <a:lnTo>
                    <a:pt x="18514" y="12589"/>
                  </a:lnTo>
                  <a:lnTo>
                    <a:pt x="12343" y="6294"/>
                  </a:lnTo>
                  <a:lnTo>
                    <a:pt x="15429" y="6294"/>
                  </a:lnTo>
                  <a:lnTo>
                    <a:pt x="10800" y="0"/>
                  </a:lnTo>
                  <a:lnTo>
                    <a:pt x="6171" y="6294"/>
                  </a:lnTo>
                  <a:lnTo>
                    <a:pt x="9257" y="6294"/>
                  </a:lnTo>
                  <a:lnTo>
                    <a:pt x="3086" y="12589"/>
                  </a:lnTo>
                  <a:lnTo>
                    <a:pt x="9257" y="1258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ree"/>
            <p:cNvSpPr/>
            <p:nvPr/>
          </p:nvSpPr>
          <p:spPr>
            <a:xfrm rot="20751600">
              <a:off x="2003040" y="3147840"/>
              <a:ext cx="176400" cy="243720"/>
            </a:xfrm>
            <a:custGeom>
              <a:avLst/>
              <a:gdLst>
                <a:gd name="textAreaLeft" fmla="*/ 5760 w 176400"/>
                <a:gd name="textAreaRight" fmla="*/ 172080 w 176400"/>
                <a:gd name="textAreaTop" fmla="*/ 253440 h 243720"/>
                <a:gd name="textAreaBottom" fmla="*/ 319320 h 24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ree"/>
            <p:cNvSpPr/>
            <p:nvPr/>
          </p:nvSpPr>
          <p:spPr>
            <a:xfrm rot="20751600">
              <a:off x="1751400" y="3224520"/>
              <a:ext cx="174600" cy="243360"/>
            </a:xfrm>
            <a:custGeom>
              <a:avLst/>
              <a:gdLst>
                <a:gd name="textAreaLeft" fmla="*/ 5760 w 174600"/>
                <a:gd name="textAreaRight" fmla="*/ 170280 w 174600"/>
                <a:gd name="textAreaTop" fmla="*/ 253080 h 243360"/>
                <a:gd name="textAreaBottom" fmla="*/ 31860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ree"/>
            <p:cNvSpPr/>
            <p:nvPr/>
          </p:nvSpPr>
          <p:spPr>
            <a:xfrm rot="20751600">
              <a:off x="1512000" y="3284280"/>
              <a:ext cx="176040" cy="243360"/>
            </a:xfrm>
            <a:custGeom>
              <a:avLst/>
              <a:gdLst>
                <a:gd name="textAreaLeft" fmla="*/ 5760 w 176040"/>
                <a:gd name="textAreaRight" fmla="*/ 171720 w 176040"/>
                <a:gd name="textAreaTop" fmla="*/ 253080 h 243360"/>
                <a:gd name="textAreaBottom" fmla="*/ 31860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ree"/>
            <p:cNvSpPr/>
            <p:nvPr/>
          </p:nvSpPr>
          <p:spPr>
            <a:xfrm rot="20751600">
              <a:off x="1257840" y="3352680"/>
              <a:ext cx="176040" cy="243720"/>
            </a:xfrm>
            <a:custGeom>
              <a:avLst/>
              <a:gdLst>
                <a:gd name="textAreaLeft" fmla="*/ 5760 w 176040"/>
                <a:gd name="textAreaRight" fmla="*/ 171720 w 176040"/>
                <a:gd name="textAreaTop" fmla="*/ 253440 h 243720"/>
                <a:gd name="textAreaBottom" fmla="*/ 319320 h 24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56"/>
          <p:cNvSpPr/>
          <p:nvPr/>
        </p:nvSpPr>
        <p:spPr>
          <a:xfrm rot="2211600">
            <a:off x="4930560" y="301788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 flipV="1">
            <a:off x="2824200" y="1011240"/>
            <a:ext cx="2415960" cy="354960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4"/>
          <p:cNvSpPr/>
          <p:nvPr/>
        </p:nvSpPr>
        <p:spPr>
          <a:xfrm>
            <a:off x="527040" y="2158920"/>
            <a:ext cx="495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СМ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56"/>
          <p:cNvGrpSpPr/>
          <p:nvPr/>
        </p:nvGrpSpPr>
        <p:grpSpPr>
          <a:xfrm>
            <a:off x="252360" y="2133360"/>
            <a:ext cx="273240" cy="273240"/>
            <a:chOff x="252360" y="2133360"/>
            <a:chExt cx="273240" cy="273240"/>
          </a:xfrm>
        </p:grpSpPr>
        <p:sp>
          <p:nvSpPr>
            <p:cNvPr id="311" name="Rectangle 57"/>
            <p:cNvSpPr/>
            <p:nvPr/>
          </p:nvSpPr>
          <p:spPr>
            <a:xfrm>
              <a:off x="252360" y="2239560"/>
              <a:ext cx="273240" cy="1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4760"/>
                  <a:tab algn="l" pos="2549520"/>
                  <a:tab algn="l" pos="3824280"/>
                  <a:tab algn="l" pos="5099040"/>
                  <a:tab algn="l" pos="6373800"/>
                  <a:tab algn="l" pos="7648560"/>
                  <a:tab algn="l" pos="8923320"/>
                  <a:tab algn="l" pos="10198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8"/>
            <p:cNvSpPr/>
            <p:nvPr/>
          </p:nvSpPr>
          <p:spPr>
            <a:xfrm flipV="1">
              <a:off x="254520" y="2133360"/>
              <a:ext cx="138960" cy="106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9"/>
            <p:cNvSpPr/>
            <p:nvPr/>
          </p:nvSpPr>
          <p:spPr>
            <a:xfrm>
              <a:off x="395640" y="2133720"/>
              <a:ext cx="127800" cy="9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60"/>
            <p:cNvGrpSpPr/>
            <p:nvPr/>
          </p:nvGrpSpPr>
          <p:grpSpPr>
            <a:xfrm>
              <a:off x="370440" y="2174760"/>
              <a:ext cx="42480" cy="46440"/>
              <a:chOff x="370440" y="2174760"/>
              <a:chExt cx="42480" cy="46440"/>
            </a:xfrm>
          </p:grpSpPr>
          <p:sp>
            <p:nvSpPr>
              <p:cNvPr id="315" name="Line 61"/>
              <p:cNvSpPr/>
              <p:nvPr/>
            </p:nvSpPr>
            <p:spPr>
              <a:xfrm>
                <a:off x="389880" y="2174760"/>
                <a:ext cx="0" cy="4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62"/>
              <p:cNvSpPr/>
              <p:nvPr/>
            </p:nvSpPr>
            <p:spPr>
              <a:xfrm>
                <a:off x="370440" y="2200320"/>
                <a:ext cx="424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Rectangle 32"/>
          <p:cNvSpPr/>
          <p:nvPr/>
        </p:nvSpPr>
        <p:spPr>
          <a:xfrm>
            <a:off x="1704960" y="534996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9"/>
          <p:cNvSpPr/>
          <p:nvPr/>
        </p:nvSpPr>
        <p:spPr>
          <a:xfrm rot="2325600">
            <a:off x="5033520" y="3943080"/>
            <a:ext cx="20628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 rot="2369400">
            <a:off x="4776480" y="373392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7"/>
          <p:cNvSpPr/>
          <p:nvPr/>
        </p:nvSpPr>
        <p:spPr>
          <a:xfrm rot="2204400">
            <a:off x="5033520" y="4660560"/>
            <a:ext cx="20628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4"/>
          <p:cNvSpPr/>
          <p:nvPr/>
        </p:nvSpPr>
        <p:spPr>
          <a:xfrm rot="1723800">
            <a:off x="3490560" y="2811600"/>
            <a:ext cx="20628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8"/>
          <p:cNvSpPr/>
          <p:nvPr/>
        </p:nvSpPr>
        <p:spPr>
          <a:xfrm rot="2435400">
            <a:off x="4829040" y="4457880"/>
            <a:ext cx="20664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9"/>
          <p:cNvSpPr/>
          <p:nvPr/>
        </p:nvSpPr>
        <p:spPr>
          <a:xfrm rot="1925400">
            <a:off x="2558880" y="2228400"/>
            <a:ext cx="20664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0"/>
          <p:cNvSpPr/>
          <p:nvPr/>
        </p:nvSpPr>
        <p:spPr>
          <a:xfrm rot="1899600">
            <a:off x="2874600" y="2451240"/>
            <a:ext cx="20628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1"/>
          <p:cNvSpPr/>
          <p:nvPr/>
        </p:nvSpPr>
        <p:spPr>
          <a:xfrm rot="1857600">
            <a:off x="3182400" y="2604960"/>
            <a:ext cx="20664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5"/>
          <p:cNvSpPr/>
          <p:nvPr/>
        </p:nvSpPr>
        <p:spPr>
          <a:xfrm rot="18295800">
            <a:off x="4161600" y="3531240"/>
            <a:ext cx="45864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346600">
            <a:off x="4726080" y="3685680"/>
            <a:ext cx="285480" cy="2318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51"/>
          <p:cNvSpPr/>
          <p:nvPr/>
        </p:nvSpPr>
        <p:spPr>
          <a:xfrm rot="2256600">
            <a:off x="4776480" y="4457520"/>
            <a:ext cx="257040" cy="180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51"/>
          <p:cNvSpPr/>
          <p:nvPr/>
        </p:nvSpPr>
        <p:spPr>
          <a:xfrm rot="1817400">
            <a:off x="2514600" y="219384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909200">
            <a:off x="2823840" y="2400480"/>
            <a:ext cx="285840" cy="2314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51"/>
          <p:cNvSpPr/>
          <p:nvPr/>
        </p:nvSpPr>
        <p:spPr>
          <a:xfrm rot="1826400">
            <a:off x="3132000" y="255420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51"/>
          <p:cNvSpPr/>
          <p:nvPr/>
        </p:nvSpPr>
        <p:spPr>
          <a:xfrm rot="1817400">
            <a:off x="3440160" y="276084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схема расположения объекта на местност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433"/>
          <p:cNvSpPr/>
          <p:nvPr/>
        </p:nvSpPr>
        <p:spPr>
          <a:xfrm rot="2160600">
            <a:off x="4264200" y="3325680"/>
            <a:ext cx="253800" cy="56520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58"/>
          <p:cNvSpPr/>
          <p:nvPr/>
        </p:nvSpPr>
        <p:spPr>
          <a:xfrm rot="5400000">
            <a:off x="5438520" y="3922560"/>
            <a:ext cx="1274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Ветеран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59"/>
          <p:cNvSpPr/>
          <p:nvPr/>
        </p:nvSpPr>
        <p:spPr>
          <a:xfrm rot="5400000">
            <a:off x="7446600" y="3821400"/>
            <a:ext cx="127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8-го мар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10"/>
          <p:cNvSpPr/>
          <p:nvPr/>
        </p:nvSpPr>
        <p:spPr>
          <a:xfrm rot="2322600">
            <a:off x="5004000" y="4654800"/>
            <a:ext cx="204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7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13"/>
          <p:cNvSpPr/>
          <p:nvPr/>
        </p:nvSpPr>
        <p:spPr>
          <a:xfrm>
            <a:off x="1663560" y="5367240"/>
            <a:ext cx="3063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1 к.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16"/>
          <p:cNvSpPr/>
          <p:nvPr/>
        </p:nvSpPr>
        <p:spPr>
          <a:xfrm rot="2100000">
            <a:off x="4773960" y="3735360"/>
            <a:ext cx="257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36"/>
          <p:cNvSpPr/>
          <p:nvPr/>
        </p:nvSpPr>
        <p:spPr>
          <a:xfrm rot="2185800">
            <a:off x="4826160" y="4456080"/>
            <a:ext cx="3078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7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38"/>
          <p:cNvSpPr/>
          <p:nvPr/>
        </p:nvSpPr>
        <p:spPr>
          <a:xfrm rot="2211600">
            <a:off x="2505600" y="2257560"/>
            <a:ext cx="204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7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39"/>
          <p:cNvSpPr/>
          <p:nvPr/>
        </p:nvSpPr>
        <p:spPr>
          <a:xfrm rot="1639200">
            <a:off x="2868480" y="2467080"/>
            <a:ext cx="2271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40"/>
          <p:cNvSpPr/>
          <p:nvPr/>
        </p:nvSpPr>
        <p:spPr>
          <a:xfrm rot="1581000">
            <a:off x="3176640" y="2620800"/>
            <a:ext cx="2268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41"/>
          <p:cNvSpPr/>
          <p:nvPr/>
        </p:nvSpPr>
        <p:spPr>
          <a:xfrm rot="2303400">
            <a:off x="3456360" y="2843280"/>
            <a:ext cx="257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574"/>
          <p:cNvGrpSpPr/>
          <p:nvPr/>
        </p:nvGrpSpPr>
        <p:grpSpPr>
          <a:xfrm>
            <a:off x="2026800" y="3549960"/>
            <a:ext cx="1156320" cy="1499400"/>
            <a:chOff x="2026800" y="3549960"/>
            <a:chExt cx="1156320" cy="1499400"/>
          </a:xfrm>
        </p:grpSpPr>
        <p:sp>
          <p:nvSpPr>
            <p:cNvPr id="346" name="Tree"/>
            <p:cNvSpPr/>
            <p:nvPr/>
          </p:nvSpPr>
          <p:spPr>
            <a:xfrm rot="18337200">
              <a:off x="2940120" y="3563280"/>
              <a:ext cx="169920" cy="26676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7560 h 266760"/>
                <a:gd name="textAreaBottom" fmla="*/ 3495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ree"/>
            <p:cNvSpPr/>
            <p:nvPr/>
          </p:nvSpPr>
          <p:spPr>
            <a:xfrm rot="18337200">
              <a:off x="2779200" y="3788640"/>
              <a:ext cx="169920" cy="26676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7560 h 266760"/>
                <a:gd name="textAreaBottom" fmla="*/ 3495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ree"/>
            <p:cNvSpPr/>
            <p:nvPr/>
          </p:nvSpPr>
          <p:spPr>
            <a:xfrm rot="18337200">
              <a:off x="2652480" y="3985560"/>
              <a:ext cx="169920" cy="26676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7560 h 266760"/>
                <a:gd name="textAreaBottom" fmla="*/ 3495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883"/>
                  </a:moveTo>
                  <a:lnTo>
                    <a:pt x="9257" y="18883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883"/>
                  </a:lnTo>
                  <a:lnTo>
                    <a:pt x="21600" y="18883"/>
                  </a:lnTo>
                  <a:lnTo>
                    <a:pt x="12343" y="12589"/>
                  </a:lnTo>
                  <a:lnTo>
                    <a:pt x="18514" y="12589"/>
                  </a:lnTo>
                  <a:lnTo>
                    <a:pt x="12343" y="6294"/>
                  </a:lnTo>
                  <a:lnTo>
                    <a:pt x="15429" y="6294"/>
                  </a:lnTo>
                  <a:lnTo>
                    <a:pt x="10800" y="0"/>
                  </a:lnTo>
                  <a:lnTo>
                    <a:pt x="6171" y="6294"/>
                  </a:lnTo>
                  <a:lnTo>
                    <a:pt x="9257" y="6294"/>
                  </a:lnTo>
                  <a:lnTo>
                    <a:pt x="3086" y="12589"/>
                  </a:lnTo>
                  <a:lnTo>
                    <a:pt x="9257" y="1258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ree"/>
            <p:cNvSpPr/>
            <p:nvPr/>
          </p:nvSpPr>
          <p:spPr>
            <a:xfrm rot="18337200">
              <a:off x="2532600" y="4161240"/>
              <a:ext cx="169920" cy="26532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5760 h 265320"/>
                <a:gd name="textAreaBottom" fmla="*/ 34776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ree"/>
            <p:cNvSpPr/>
            <p:nvPr/>
          </p:nvSpPr>
          <p:spPr>
            <a:xfrm rot="18337200">
              <a:off x="2382120" y="4373280"/>
              <a:ext cx="169920" cy="26676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7560 h 266760"/>
                <a:gd name="textAreaBottom" fmla="*/ 3495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ree"/>
            <p:cNvSpPr/>
            <p:nvPr/>
          </p:nvSpPr>
          <p:spPr>
            <a:xfrm rot="18337200">
              <a:off x="2244600" y="4563720"/>
              <a:ext cx="168120" cy="265320"/>
            </a:xfrm>
            <a:custGeom>
              <a:avLst/>
              <a:gdLst>
                <a:gd name="textAreaLeft" fmla="*/ 5400 w 168120"/>
                <a:gd name="textAreaRight" fmla="*/ 164160 w 168120"/>
                <a:gd name="textAreaTop" fmla="*/ 275760 h 265320"/>
                <a:gd name="textAreaBottom" fmla="*/ 34776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ree"/>
            <p:cNvSpPr/>
            <p:nvPr/>
          </p:nvSpPr>
          <p:spPr>
            <a:xfrm rot="18337200">
              <a:off x="2099520" y="4768920"/>
              <a:ext cx="169920" cy="266760"/>
            </a:xfrm>
            <a:custGeom>
              <a:avLst/>
              <a:gdLst>
                <a:gd name="textAreaLeft" fmla="*/ 5760 w 169920"/>
                <a:gd name="textAreaRight" fmla="*/ 165600 w 169920"/>
                <a:gd name="textAreaTop" fmla="*/ 277560 h 266760"/>
                <a:gd name="textAreaBottom" fmla="*/ 3495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3" name=""/>
          <p:cNvGraphicFramePr/>
          <p:nvPr/>
        </p:nvGraphicFramePr>
        <p:xfrm>
          <a:off x="34920" y="5157720"/>
          <a:ext cx="5796000" cy="1670040"/>
        </p:xfrm>
        <a:graphic>
          <a:graphicData uri="http://schemas.openxmlformats.org/drawingml/2006/table">
            <a:tbl>
              <a:tblPr/>
              <a:tblGrid>
                <a:gridCol w="514440"/>
                <a:gridCol w="515880"/>
                <a:gridCol w="476280"/>
                <a:gridCol w="360360"/>
                <a:gridCol w="636480"/>
                <a:gridCol w="531720"/>
                <a:gridCol w="1020960"/>
                <a:gridCol w="1020600"/>
                <a:gridCol w="719280"/>
              </a:tblGrid>
              <a:tr h="20484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ИНФОРМ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постр-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 послед. кап. ремон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этаж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.выс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ры геометри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. площ. комп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 количество нахождения людей / персонала в здании (чел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людей / персонала находящихся в здании круглосуточ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вы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6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40 х 15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1000  м</a:t>
                      </a:r>
                      <a:r>
                        <a:rPr b="0" lang="en-US" sz="900" spc="-1" strike="noStrike" baseline="30000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21/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354" name="Прямоугольник 165"/>
          <p:cNvGrpSpPr/>
          <p:nvPr/>
        </p:nvGrpSpPr>
        <p:grpSpPr>
          <a:xfrm>
            <a:off x="5916600" y="4664160"/>
            <a:ext cx="3235320" cy="264960"/>
            <a:chOff x="5916600" y="4664160"/>
            <a:chExt cx="3235320" cy="264960"/>
          </a:xfrm>
        </p:grpSpPr>
        <p:pic>
          <p:nvPicPr>
            <p:cNvPr id="355" name="Прямоугольник 165" descr=""/>
            <p:cNvPicPr/>
            <p:nvPr/>
          </p:nvPicPr>
          <p:blipFill>
            <a:blip r:embed="rId1"/>
            <a:stretch/>
          </p:blipFill>
          <p:spPr>
            <a:xfrm>
              <a:off x="5916600" y="4664160"/>
              <a:ext cx="323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94"/>
            <p:cNvSpPr/>
            <p:nvPr/>
          </p:nvSpPr>
          <p:spPr>
            <a:xfrm>
              <a:off x="5929920" y="4678560"/>
              <a:ext cx="3212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ТО ИНСТИТУТА ГП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Line 13"/>
          <p:cNvSpPr/>
          <p:nvPr/>
        </p:nvSpPr>
        <p:spPr>
          <a:xfrm>
            <a:off x="868320" y="1681200"/>
            <a:ext cx="2778120" cy="159372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46"/>
          <p:cNvSpPr/>
          <p:nvPr/>
        </p:nvSpPr>
        <p:spPr>
          <a:xfrm rot="1810800">
            <a:off x="971280" y="2142720"/>
            <a:ext cx="19684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Краснознамен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4160880" y="2708280"/>
            <a:ext cx="2468520" cy="185256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46"/>
          <p:cNvSpPr/>
          <p:nvPr/>
        </p:nvSpPr>
        <p:spPr>
          <a:xfrm rot="2294400">
            <a:off x="4160880" y="3274560"/>
            <a:ext cx="19684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Есени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2565360" y="1062000"/>
            <a:ext cx="4321080" cy="308628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546"/>
          <p:cNvSpPr/>
          <p:nvPr/>
        </p:nvSpPr>
        <p:spPr>
          <a:xfrm rot="2118000">
            <a:off x="4264200" y="2811240"/>
            <a:ext cx="1968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Астраханск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5"/>
          <p:cNvSpPr/>
          <p:nvPr/>
        </p:nvSpPr>
        <p:spPr>
          <a:xfrm rot="18295800">
            <a:off x="3699000" y="3324240"/>
            <a:ext cx="458640" cy="15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5"/>
          <p:cNvSpPr/>
          <p:nvPr/>
        </p:nvSpPr>
        <p:spPr>
          <a:xfrm rot="18295800">
            <a:off x="3405600" y="3777120"/>
            <a:ext cx="308160" cy="15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 rot="12793200">
            <a:off x="3724200" y="4122720"/>
            <a:ext cx="308160" cy="15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5"/>
          <p:cNvSpPr/>
          <p:nvPr/>
        </p:nvSpPr>
        <p:spPr>
          <a:xfrm rot="12793200">
            <a:off x="3755520" y="4428720"/>
            <a:ext cx="20664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5"/>
          <p:cNvSpPr/>
          <p:nvPr/>
        </p:nvSpPr>
        <p:spPr>
          <a:xfrm rot="18347400">
            <a:off x="4223520" y="4406040"/>
            <a:ext cx="33480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433"/>
          <p:cNvSpPr/>
          <p:nvPr/>
        </p:nvSpPr>
        <p:spPr>
          <a:xfrm rot="2160600">
            <a:off x="3835080" y="3085920"/>
            <a:ext cx="253800" cy="56664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33"/>
          <p:cNvSpPr/>
          <p:nvPr/>
        </p:nvSpPr>
        <p:spPr>
          <a:xfrm rot="2160600">
            <a:off x="3490560" y="3531960"/>
            <a:ext cx="254160" cy="56484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33"/>
          <p:cNvSpPr/>
          <p:nvPr/>
        </p:nvSpPr>
        <p:spPr>
          <a:xfrm rot="7455600">
            <a:off x="3796920" y="3997080"/>
            <a:ext cx="203400" cy="40320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33"/>
          <p:cNvSpPr/>
          <p:nvPr/>
        </p:nvSpPr>
        <p:spPr>
          <a:xfrm rot="2115000">
            <a:off x="4317480" y="4252680"/>
            <a:ext cx="203400" cy="40140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33"/>
          <p:cNvSpPr/>
          <p:nvPr/>
        </p:nvSpPr>
        <p:spPr>
          <a:xfrm rot="7340400">
            <a:off x="3750840" y="4333320"/>
            <a:ext cx="201960" cy="309600"/>
          </a:xfrm>
          <a:prstGeom prst="rect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11"/>
          <p:cNvSpPr/>
          <p:nvPr/>
        </p:nvSpPr>
        <p:spPr>
          <a:xfrm>
            <a:off x="3132000" y="3017880"/>
            <a:ext cx="1594080" cy="19018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1901880"/>
              <a:gd name="textAreaBottom" fmla="*/ 1902240 h 1901880"/>
            </a:gdLst>
            <a:ahLst/>
            <a:rect l="textAreaLeft" t="textAreaTop" r="textAreaRight" b="textAreaBottom"/>
            <a:pathLst>
              <a:path w="1406" h="1678">
                <a:moveTo>
                  <a:pt x="45" y="1089"/>
                </a:moveTo>
                <a:lnTo>
                  <a:pt x="952" y="1678"/>
                </a:lnTo>
                <a:lnTo>
                  <a:pt x="1406" y="1089"/>
                </a:lnTo>
                <a:lnTo>
                  <a:pt x="1089" y="817"/>
                </a:lnTo>
                <a:lnTo>
                  <a:pt x="1406" y="408"/>
                </a:lnTo>
                <a:lnTo>
                  <a:pt x="771" y="0"/>
                </a:lnTo>
                <a:lnTo>
                  <a:pt x="0" y="10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4622760" y="4097160"/>
            <a:ext cx="1440000" cy="107964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546"/>
          <p:cNvSpPr/>
          <p:nvPr/>
        </p:nvSpPr>
        <p:spPr>
          <a:xfrm rot="2294400">
            <a:off x="4160880" y="4354200"/>
            <a:ext cx="1968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Шитовск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4622760" y="4611600"/>
            <a:ext cx="1389240" cy="102888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46"/>
          <p:cNvSpPr/>
          <p:nvPr/>
        </p:nvSpPr>
        <p:spPr>
          <a:xfrm rot="2264400">
            <a:off x="4109760" y="4817880"/>
            <a:ext cx="1968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Гремяченск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6" descr="9 013"/>
          <p:cNvPicPr/>
          <p:nvPr/>
        </p:nvPicPr>
        <p:blipFill>
          <a:blip r:embed="rId2"/>
          <a:stretch/>
        </p:blipFill>
        <p:spPr>
          <a:xfrm>
            <a:off x="5908680" y="4919760"/>
            <a:ext cx="3235320" cy="193824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>
            <a:off x="7864560" y="1011240"/>
            <a:ext cx="769680" cy="3652920"/>
          </a:xfrm>
          <a:prstGeom prst="line">
            <a:avLst/>
          </a:prstGeom>
          <a:ln w="22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56"/>
          <p:cNvSpPr/>
          <p:nvPr/>
        </p:nvSpPr>
        <p:spPr>
          <a:xfrm rot="4683600">
            <a:off x="7486920" y="2716560"/>
            <a:ext cx="1487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Острогожск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1"/>
          <p:cNvSpPr/>
          <p:nvPr/>
        </p:nvSpPr>
        <p:spPr>
          <a:xfrm rot="2395800">
            <a:off x="5019480" y="4660560"/>
            <a:ext cx="234720" cy="1922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16"/>
          <p:cNvSpPr/>
          <p:nvPr/>
        </p:nvSpPr>
        <p:spPr>
          <a:xfrm rot="2100000">
            <a:off x="5030640" y="3943440"/>
            <a:ext cx="2588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51"/>
          <p:cNvSpPr/>
          <p:nvPr/>
        </p:nvSpPr>
        <p:spPr>
          <a:xfrm rot="2346600">
            <a:off x="5006880" y="3917880"/>
            <a:ext cx="285840" cy="2318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51"/>
          <p:cNvSpPr/>
          <p:nvPr/>
        </p:nvSpPr>
        <p:spPr>
          <a:xfrm rot="2346600">
            <a:off x="5292360" y="4175280"/>
            <a:ext cx="285840" cy="2314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6"/>
          <p:cNvSpPr/>
          <p:nvPr/>
        </p:nvSpPr>
        <p:spPr>
          <a:xfrm rot="2211600">
            <a:off x="5343120" y="4200480"/>
            <a:ext cx="20628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16"/>
          <p:cNvSpPr/>
          <p:nvPr/>
        </p:nvSpPr>
        <p:spPr>
          <a:xfrm rot="2100000">
            <a:off x="5340600" y="4199040"/>
            <a:ext cx="257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25"/>
          <p:cNvSpPr/>
          <p:nvPr/>
        </p:nvSpPr>
        <p:spPr>
          <a:xfrm>
            <a:off x="3081240" y="4354560"/>
            <a:ext cx="1541520" cy="720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360" h="636">
                <a:moveTo>
                  <a:pt x="0" y="0"/>
                </a:moveTo>
                <a:lnTo>
                  <a:pt x="997" y="636"/>
                </a:lnTo>
                <a:lnTo>
                  <a:pt x="1360" y="227"/>
                </a:lnTo>
              </a:path>
            </a:pathLst>
          </a:custGeom>
          <a:noFill/>
          <a:ln w="127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46"/>
          <p:cNvSpPr/>
          <p:nvPr/>
        </p:nvSpPr>
        <p:spPr>
          <a:xfrm rot="18102000">
            <a:off x="3459240" y="2021040"/>
            <a:ext cx="1968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Краснознамен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9"/>
          <p:cNvSpPr/>
          <p:nvPr/>
        </p:nvSpPr>
        <p:spPr>
          <a:xfrm rot="2325600">
            <a:off x="4366800" y="2553840"/>
            <a:ext cx="20628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16"/>
          <p:cNvSpPr/>
          <p:nvPr/>
        </p:nvSpPr>
        <p:spPr>
          <a:xfrm rot="2100000">
            <a:off x="4340520" y="2579760"/>
            <a:ext cx="257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1"/>
          <p:cNvSpPr/>
          <p:nvPr/>
        </p:nvSpPr>
        <p:spPr>
          <a:xfrm rot="2346600">
            <a:off x="4314960" y="2553840"/>
            <a:ext cx="285480" cy="2318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51"/>
          <p:cNvSpPr/>
          <p:nvPr/>
        </p:nvSpPr>
        <p:spPr>
          <a:xfrm rot="2346600">
            <a:off x="4622400" y="2811600"/>
            <a:ext cx="285840" cy="2314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6"/>
          <p:cNvSpPr/>
          <p:nvPr/>
        </p:nvSpPr>
        <p:spPr>
          <a:xfrm rot="2211600">
            <a:off x="4650840" y="2836440"/>
            <a:ext cx="20664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16"/>
          <p:cNvSpPr/>
          <p:nvPr/>
        </p:nvSpPr>
        <p:spPr>
          <a:xfrm rot="2100000">
            <a:off x="4619880" y="2809800"/>
            <a:ext cx="257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51"/>
          <p:cNvSpPr/>
          <p:nvPr/>
        </p:nvSpPr>
        <p:spPr>
          <a:xfrm rot="2346600">
            <a:off x="4897440" y="3000240"/>
            <a:ext cx="285840" cy="2318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6"/>
          <p:cNvSpPr/>
          <p:nvPr/>
        </p:nvSpPr>
        <p:spPr>
          <a:xfrm rot="2100000">
            <a:off x="4929480" y="3016080"/>
            <a:ext cx="257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7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1"/>
          <p:cNvSpPr/>
          <p:nvPr/>
        </p:nvSpPr>
        <p:spPr>
          <a:xfrm rot="2346600">
            <a:off x="5189400" y="3223800"/>
            <a:ext cx="285840" cy="23040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9"/>
          <p:cNvSpPr/>
          <p:nvPr/>
        </p:nvSpPr>
        <p:spPr>
          <a:xfrm rot="2325600">
            <a:off x="5229000" y="324648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16"/>
          <p:cNvSpPr/>
          <p:nvPr/>
        </p:nvSpPr>
        <p:spPr>
          <a:xfrm rot="2100000">
            <a:off x="5237640" y="3274920"/>
            <a:ext cx="257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7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4"/>
          <p:cNvSpPr/>
          <p:nvPr/>
        </p:nvSpPr>
        <p:spPr>
          <a:xfrm rot="1723800">
            <a:off x="3850920" y="229680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9"/>
          <p:cNvSpPr/>
          <p:nvPr/>
        </p:nvSpPr>
        <p:spPr>
          <a:xfrm rot="1925400">
            <a:off x="2890800" y="1715760"/>
            <a:ext cx="20628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0"/>
          <p:cNvSpPr/>
          <p:nvPr/>
        </p:nvSpPr>
        <p:spPr>
          <a:xfrm rot="1899600">
            <a:off x="3204720" y="1937880"/>
            <a:ext cx="20628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1"/>
          <p:cNvSpPr/>
          <p:nvPr/>
        </p:nvSpPr>
        <p:spPr>
          <a:xfrm rot="1857600">
            <a:off x="3514320" y="2092320"/>
            <a:ext cx="20628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51"/>
          <p:cNvSpPr/>
          <p:nvPr/>
        </p:nvSpPr>
        <p:spPr>
          <a:xfrm rot="1817400">
            <a:off x="2846160" y="1680840"/>
            <a:ext cx="28548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51"/>
          <p:cNvSpPr/>
          <p:nvPr/>
        </p:nvSpPr>
        <p:spPr>
          <a:xfrm rot="1909200">
            <a:off x="3149280" y="1900080"/>
            <a:ext cx="336600" cy="23184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1"/>
          <p:cNvSpPr/>
          <p:nvPr/>
        </p:nvSpPr>
        <p:spPr>
          <a:xfrm rot="1826400">
            <a:off x="3471840" y="209232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51"/>
          <p:cNvSpPr/>
          <p:nvPr/>
        </p:nvSpPr>
        <p:spPr>
          <a:xfrm rot="1817400">
            <a:off x="3809880" y="227340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38"/>
          <p:cNvSpPr/>
          <p:nvPr/>
        </p:nvSpPr>
        <p:spPr>
          <a:xfrm rot="2211600">
            <a:off x="2894400" y="1754280"/>
            <a:ext cx="250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5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39"/>
          <p:cNvSpPr/>
          <p:nvPr/>
        </p:nvSpPr>
        <p:spPr>
          <a:xfrm rot="1639200">
            <a:off x="3208320" y="1957320"/>
            <a:ext cx="246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6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40"/>
          <p:cNvSpPr/>
          <p:nvPr/>
        </p:nvSpPr>
        <p:spPr>
          <a:xfrm rot="1581000">
            <a:off x="3490920" y="2084400"/>
            <a:ext cx="150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6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41"/>
          <p:cNvSpPr/>
          <p:nvPr/>
        </p:nvSpPr>
        <p:spPr>
          <a:xfrm rot="2303400">
            <a:off x="3694320" y="2552760"/>
            <a:ext cx="1540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4"/>
          <p:cNvSpPr/>
          <p:nvPr/>
        </p:nvSpPr>
        <p:spPr>
          <a:xfrm rot="1723800">
            <a:off x="3696840" y="2553840"/>
            <a:ext cx="20664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51"/>
          <p:cNvSpPr/>
          <p:nvPr/>
        </p:nvSpPr>
        <p:spPr>
          <a:xfrm rot="1817400">
            <a:off x="3646440" y="2503440"/>
            <a:ext cx="285840" cy="233280"/>
          </a:xfrm>
          <a:prstGeom prst="rect">
            <a:avLst/>
          </a:prstGeom>
          <a:noFill/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39"/>
          <p:cNvSpPr/>
          <p:nvPr/>
        </p:nvSpPr>
        <p:spPr>
          <a:xfrm rot="1639200">
            <a:off x="3846600" y="2311560"/>
            <a:ext cx="2253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39"/>
          <p:cNvSpPr/>
          <p:nvPr/>
        </p:nvSpPr>
        <p:spPr>
          <a:xfrm rot="1639200">
            <a:off x="3691080" y="2573280"/>
            <a:ext cx="245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2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60"/>
          <p:cNvGrpSpPr/>
          <p:nvPr/>
        </p:nvGrpSpPr>
        <p:grpSpPr>
          <a:xfrm>
            <a:off x="3440160" y="3583080"/>
            <a:ext cx="495000" cy="277560"/>
            <a:chOff x="3440160" y="3583080"/>
            <a:chExt cx="495000" cy="277560"/>
          </a:xfrm>
        </p:grpSpPr>
        <p:grpSp>
          <p:nvGrpSpPr>
            <p:cNvPr id="417" name="Group 61"/>
            <p:cNvGrpSpPr/>
            <p:nvPr/>
          </p:nvGrpSpPr>
          <p:grpSpPr>
            <a:xfrm>
              <a:off x="3530160" y="3606120"/>
              <a:ext cx="316440" cy="254520"/>
              <a:chOff x="3530160" y="3606120"/>
              <a:chExt cx="316440" cy="254520"/>
            </a:xfrm>
          </p:grpSpPr>
          <p:grpSp>
            <p:nvGrpSpPr>
              <p:cNvPr id="418" name="Group 62"/>
              <p:cNvGrpSpPr/>
              <p:nvPr/>
            </p:nvGrpSpPr>
            <p:grpSpPr>
              <a:xfrm>
                <a:off x="3530160" y="3606120"/>
                <a:ext cx="316440" cy="254520"/>
                <a:chOff x="3530160" y="3606120"/>
                <a:chExt cx="316440" cy="254520"/>
              </a:xfrm>
            </p:grpSpPr>
            <p:sp>
              <p:nvSpPr>
                <p:cNvPr id="419" name="Line 63"/>
                <p:cNvSpPr/>
                <p:nvPr/>
              </p:nvSpPr>
              <p:spPr>
                <a:xfrm>
                  <a:off x="3530160" y="3606120"/>
                  <a:ext cx="0" cy="25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64"/>
                <p:cNvSpPr/>
                <p:nvPr/>
              </p:nvSpPr>
              <p:spPr>
                <a:xfrm>
                  <a:off x="3539160" y="360612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65"/>
                <p:cNvSpPr/>
                <p:nvPr/>
              </p:nvSpPr>
              <p:spPr>
                <a:xfrm flipV="1">
                  <a:off x="3542040" y="371412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66"/>
                <p:cNvSpPr/>
                <p:nvPr/>
              </p:nvSpPr>
              <p:spPr>
                <a:xfrm>
                  <a:off x="3836520" y="363888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Freeform 67"/>
              <p:cNvSpPr/>
              <p:nvPr/>
            </p:nvSpPr>
            <p:spPr>
              <a:xfrm>
                <a:off x="3548160" y="3617280"/>
                <a:ext cx="289080" cy="12708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91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91" y="114"/>
                    </a:lnTo>
                    <a:lnTo>
                      <a:pt x="29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68"/>
            <p:cNvSpPr/>
            <p:nvPr/>
          </p:nvSpPr>
          <p:spPr>
            <a:xfrm>
              <a:off x="3440160" y="358308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163"/>
          <p:cNvSpPr/>
          <p:nvPr/>
        </p:nvSpPr>
        <p:spPr>
          <a:xfrm>
            <a:off x="149400" y="3933720"/>
            <a:ext cx="2365200" cy="1182960"/>
          </a:xfrm>
          <a:prstGeom prst="wedgeRectCallout">
            <a:avLst>
              <a:gd name="adj1" fmla="val 89240"/>
              <a:gd name="adj2" fmla="val -5527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9"/>
          <p:cNvSpPr/>
          <p:nvPr/>
        </p:nvSpPr>
        <p:spPr>
          <a:xfrm>
            <a:off x="149400" y="3913200"/>
            <a:ext cx="2365200" cy="12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итут ГП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имость учебных аудиторий– 180 чел., вместимость общежития до 200 че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зданий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дания института имеют кирпичные стены и перегородки. Здания третьего и четвертого корпуса соответсвуют 2 степени огнестойкост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(473)-236-33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33"/>
          <p:cNvSpPr/>
          <p:nvPr/>
        </p:nvSpPr>
        <p:spPr>
          <a:xfrm rot="2160600">
            <a:off x="4260960" y="3325680"/>
            <a:ext cx="253800" cy="565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33"/>
          <p:cNvSpPr/>
          <p:nvPr/>
        </p:nvSpPr>
        <p:spPr>
          <a:xfrm rot="2160600">
            <a:off x="3831840" y="3086280"/>
            <a:ext cx="254160" cy="566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33"/>
          <p:cNvSpPr/>
          <p:nvPr/>
        </p:nvSpPr>
        <p:spPr>
          <a:xfrm rot="2160600">
            <a:off x="3487320" y="3531960"/>
            <a:ext cx="254160" cy="56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33"/>
          <p:cNvSpPr/>
          <p:nvPr/>
        </p:nvSpPr>
        <p:spPr>
          <a:xfrm rot="7455600">
            <a:off x="3793680" y="3997080"/>
            <a:ext cx="203400" cy="403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33"/>
          <p:cNvSpPr/>
          <p:nvPr/>
        </p:nvSpPr>
        <p:spPr>
          <a:xfrm rot="2115000">
            <a:off x="4314600" y="4252680"/>
            <a:ext cx="203040" cy="4014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70"/>
          <p:cNvSpPr/>
          <p:nvPr/>
        </p:nvSpPr>
        <p:spPr>
          <a:xfrm flipH="1" flipV="1">
            <a:off x="1022400" y="2708280"/>
            <a:ext cx="2417760" cy="9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1"/>
          <p:cNvSpPr/>
          <p:nvPr/>
        </p:nvSpPr>
        <p:spPr>
          <a:xfrm rot="1500600">
            <a:off x="1787760" y="2744640"/>
            <a:ext cx="452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 к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72"/>
          <p:cNvSpPr/>
          <p:nvPr/>
        </p:nvSpPr>
        <p:spPr>
          <a:xfrm>
            <a:off x="149400" y="2708280"/>
            <a:ext cx="1645920" cy="1130400"/>
          </a:xfrm>
          <a:prstGeom prst="wedgeRectCallout">
            <a:avLst>
              <a:gd name="adj1" fmla="val -34643"/>
              <a:gd name="adj2" fmla="val -79458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5"/>
          <p:cNvSpPr/>
          <p:nvPr/>
        </p:nvSpPr>
        <p:spPr>
          <a:xfrm>
            <a:off x="200160" y="2703600"/>
            <a:ext cx="153972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СМ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профи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зда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ти этажное, кирпично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5 койко –мест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2200"/>
                <a:tab algn="l" pos="2984400"/>
                <a:tab algn="l" pos="4476600"/>
                <a:tab algn="l" pos="5969160"/>
                <a:tab algn="l" pos="7461360"/>
                <a:tab algn="l" pos="8953560"/>
                <a:tab algn="l" pos="104457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(4732)- 263-69-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09"/>
          <p:cNvSpPr/>
          <p:nvPr/>
        </p:nvSpPr>
        <p:spPr>
          <a:xfrm>
            <a:off x="0" y="907920"/>
            <a:ext cx="2565360" cy="914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ая характеристика населенного пунк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о проживающего населения – 283 че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о домов – 4773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ально – значимых объектов – 18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енциально-опасных – 25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093080" y="947880"/>
            <a:ext cx="2050920" cy="950760"/>
          </a:xfrm>
          <a:prstGeom prst="rect">
            <a:avLst/>
          </a:prstGeom>
          <a:solidFill>
            <a:srgbClr val="ffff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Академии Управления МВ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полковник поли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Горл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. (486-64)-2-17-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. 8-926-100-98-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77"/>
          <p:cNvSpPr/>
          <p:nvPr/>
        </p:nvSpPr>
        <p:spPr>
          <a:xfrm>
            <a:off x="2560320" y="1125360"/>
            <a:ext cx="5787360" cy="45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Arial"/>
              </a:rPr>
              <a:t>УКАЗАТЬ КОЛИЧЕСТВО КОРПУСОВ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Arial"/>
              </a:rPr>
              <a:t>И СООТВЕТСТВЕННО КОЛИЧЕСТВО ЭТАЖ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78"/>
          <p:cNvSpPr/>
          <p:nvPr/>
        </p:nvSpPr>
        <p:spPr>
          <a:xfrm>
            <a:off x="6840" y="4653000"/>
            <a:ext cx="5494680" cy="45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Arial"/>
              </a:rPr>
              <a:t>ОБЩУЮ ИНФОРМАЦИЮ УКАЗАТЬ ПО КАЖДОМУ ЗДАНИЮ (КОРПУС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Arial"/>
              </a:rPr>
              <a:t>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схема расположения объекта на местност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1184400" y="1179360"/>
            <a:ext cx="67752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1176480" y="1165320"/>
            <a:ext cx="6777000" cy="46544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1911240" y="1247760"/>
            <a:ext cx="0" cy="351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 flipH="1">
            <a:off x="1176120" y="4757760"/>
            <a:ext cx="73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1176480" y="4921200"/>
            <a:ext cx="73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1911240" y="4921200"/>
            <a:ext cx="180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>
            <a:off x="2075040" y="4921200"/>
            <a:ext cx="1440" cy="89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075040" y="1247760"/>
            <a:ext cx="1440" cy="351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>
            <a:off x="2075040" y="4757760"/>
            <a:ext cx="579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2075040" y="4921200"/>
            <a:ext cx="579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2319480" y="2471760"/>
            <a:ext cx="1440" cy="20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"/>
          <p:cNvSpPr/>
          <p:nvPr/>
        </p:nvSpPr>
        <p:spPr>
          <a:xfrm>
            <a:off x="2319480" y="4513320"/>
            <a:ext cx="65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"/>
          <p:cNvSpPr/>
          <p:nvPr/>
        </p:nvSpPr>
        <p:spPr>
          <a:xfrm flipV="1">
            <a:off x="2973240" y="4349880"/>
            <a:ext cx="180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2973240" y="43498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3544920" y="434988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3544920" y="4513320"/>
            <a:ext cx="3021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6891480" y="4513320"/>
            <a:ext cx="40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7545240" y="451332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"/>
          <p:cNvSpPr/>
          <p:nvPr/>
        </p:nvSpPr>
        <p:spPr>
          <a:xfrm flipV="1">
            <a:off x="7790040" y="1492200"/>
            <a:ext cx="0" cy="302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2"/>
          <p:cNvSpPr/>
          <p:nvPr/>
        </p:nvSpPr>
        <p:spPr>
          <a:xfrm flipH="1">
            <a:off x="5339880" y="1492200"/>
            <a:ext cx="24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>
            <a:off x="5340240" y="1492200"/>
            <a:ext cx="0" cy="49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5340240" y="1982880"/>
            <a:ext cx="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2319120" y="2471760"/>
            <a:ext cx="302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5911920" y="1573200"/>
            <a:ext cx="1062000" cy="24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7"/>
          <p:cNvSpPr/>
          <p:nvPr/>
        </p:nvSpPr>
        <p:spPr>
          <a:xfrm>
            <a:off x="7054920" y="1573200"/>
            <a:ext cx="490320" cy="24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5994360" y="2063880"/>
            <a:ext cx="979560" cy="40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7218360" y="1819440"/>
            <a:ext cx="326880" cy="40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7300800" y="2227320"/>
            <a:ext cx="24444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6483240" y="2554200"/>
            <a:ext cx="24624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2"/>
          <p:cNvSpPr/>
          <p:nvPr/>
        </p:nvSpPr>
        <p:spPr>
          <a:xfrm>
            <a:off x="5667480" y="2144880"/>
            <a:ext cx="163440" cy="40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3"/>
          <p:cNvSpPr/>
          <p:nvPr/>
        </p:nvSpPr>
        <p:spPr>
          <a:xfrm>
            <a:off x="5423040" y="1573200"/>
            <a:ext cx="325440" cy="32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4"/>
          <p:cNvSpPr/>
          <p:nvPr/>
        </p:nvSpPr>
        <p:spPr>
          <a:xfrm>
            <a:off x="7137360" y="4268880"/>
            <a:ext cx="16344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5"/>
          <p:cNvSpPr/>
          <p:nvPr/>
        </p:nvSpPr>
        <p:spPr>
          <a:xfrm>
            <a:off x="6319800" y="3778200"/>
            <a:ext cx="817560" cy="32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6"/>
          <p:cNvSpPr/>
          <p:nvPr/>
        </p:nvSpPr>
        <p:spPr>
          <a:xfrm>
            <a:off x="5994360" y="3614760"/>
            <a:ext cx="32544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ый корпу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7"/>
          <p:cNvSpPr/>
          <p:nvPr/>
        </p:nvSpPr>
        <p:spPr>
          <a:xfrm>
            <a:off x="2973240" y="3859200"/>
            <a:ext cx="1470240" cy="32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8"/>
          <p:cNvSpPr/>
          <p:nvPr/>
        </p:nvSpPr>
        <p:spPr>
          <a:xfrm>
            <a:off x="3952800" y="3614760"/>
            <a:ext cx="49068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9"/>
          <p:cNvSpPr/>
          <p:nvPr/>
        </p:nvSpPr>
        <p:spPr>
          <a:xfrm flipH="1">
            <a:off x="2401560" y="4186080"/>
            <a:ext cx="57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0"/>
          <p:cNvSpPr/>
          <p:nvPr/>
        </p:nvSpPr>
        <p:spPr>
          <a:xfrm flipV="1">
            <a:off x="2401920" y="3533760"/>
            <a:ext cx="0" cy="65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1"/>
          <p:cNvSpPr/>
          <p:nvPr/>
        </p:nvSpPr>
        <p:spPr>
          <a:xfrm>
            <a:off x="2401920" y="353376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2"/>
          <p:cNvSpPr/>
          <p:nvPr/>
        </p:nvSpPr>
        <p:spPr>
          <a:xfrm>
            <a:off x="2646360" y="353376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3"/>
          <p:cNvSpPr/>
          <p:nvPr/>
        </p:nvSpPr>
        <p:spPr>
          <a:xfrm flipH="1">
            <a:off x="2646360" y="3859200"/>
            <a:ext cx="32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4"/>
          <p:cNvSpPr/>
          <p:nvPr/>
        </p:nvSpPr>
        <p:spPr>
          <a:xfrm flipV="1">
            <a:off x="2401920" y="3287520"/>
            <a:ext cx="0" cy="24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5"/>
          <p:cNvSpPr/>
          <p:nvPr/>
        </p:nvSpPr>
        <p:spPr>
          <a:xfrm>
            <a:off x="2401920" y="328788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6"/>
          <p:cNvSpPr/>
          <p:nvPr/>
        </p:nvSpPr>
        <p:spPr>
          <a:xfrm flipV="1">
            <a:off x="2565360" y="3043080"/>
            <a:ext cx="0" cy="24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2565360" y="3043080"/>
            <a:ext cx="8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8"/>
          <p:cNvSpPr/>
          <p:nvPr/>
        </p:nvSpPr>
        <p:spPr>
          <a:xfrm flipV="1">
            <a:off x="2646360" y="2962440"/>
            <a:ext cx="0" cy="8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9"/>
          <p:cNvSpPr/>
          <p:nvPr/>
        </p:nvSpPr>
        <p:spPr>
          <a:xfrm>
            <a:off x="2646360" y="296244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0"/>
          <p:cNvSpPr/>
          <p:nvPr/>
        </p:nvSpPr>
        <p:spPr>
          <a:xfrm>
            <a:off x="2890800" y="2962440"/>
            <a:ext cx="0" cy="8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1"/>
          <p:cNvSpPr/>
          <p:nvPr/>
        </p:nvSpPr>
        <p:spPr>
          <a:xfrm>
            <a:off x="2890800" y="304308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2"/>
          <p:cNvSpPr/>
          <p:nvPr/>
        </p:nvSpPr>
        <p:spPr>
          <a:xfrm>
            <a:off x="3054240" y="3043080"/>
            <a:ext cx="8280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3"/>
          <p:cNvSpPr/>
          <p:nvPr/>
        </p:nvSpPr>
        <p:spPr>
          <a:xfrm>
            <a:off x="2646360" y="353376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4"/>
          <p:cNvSpPr/>
          <p:nvPr/>
        </p:nvSpPr>
        <p:spPr>
          <a:xfrm flipV="1">
            <a:off x="2809800" y="33703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5"/>
          <p:cNvSpPr/>
          <p:nvPr/>
        </p:nvSpPr>
        <p:spPr>
          <a:xfrm>
            <a:off x="2809800" y="3370320"/>
            <a:ext cx="490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6"/>
          <p:cNvSpPr/>
          <p:nvPr/>
        </p:nvSpPr>
        <p:spPr>
          <a:xfrm>
            <a:off x="5994360" y="2716200"/>
            <a:ext cx="325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7"/>
          <p:cNvSpPr/>
          <p:nvPr/>
        </p:nvSpPr>
        <p:spPr>
          <a:xfrm>
            <a:off x="2973240" y="4186080"/>
            <a:ext cx="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8"/>
          <p:cNvSpPr/>
          <p:nvPr/>
        </p:nvSpPr>
        <p:spPr>
          <a:xfrm flipV="1">
            <a:off x="3544920" y="4185720"/>
            <a:ext cx="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9"/>
          <p:cNvSpPr/>
          <p:nvPr/>
        </p:nvSpPr>
        <p:spPr>
          <a:xfrm>
            <a:off x="2973240" y="42688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0"/>
          <p:cNvSpPr/>
          <p:nvPr/>
        </p:nvSpPr>
        <p:spPr>
          <a:xfrm>
            <a:off x="2973240" y="44308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1"/>
          <p:cNvSpPr/>
          <p:nvPr/>
        </p:nvSpPr>
        <p:spPr>
          <a:xfrm>
            <a:off x="3300480" y="3941640"/>
            <a:ext cx="1060560" cy="16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ый корпу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2"/>
          <p:cNvSpPr/>
          <p:nvPr/>
        </p:nvSpPr>
        <p:spPr>
          <a:xfrm>
            <a:off x="6402240" y="2144880"/>
            <a:ext cx="489240" cy="24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ый       корпу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3"/>
          <p:cNvSpPr/>
          <p:nvPr/>
        </p:nvSpPr>
        <p:spPr>
          <a:xfrm>
            <a:off x="6075360" y="2144880"/>
            <a:ext cx="326880" cy="16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ТДК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4"/>
          <p:cNvSpPr/>
          <p:nvPr/>
        </p:nvSpPr>
        <p:spPr>
          <a:xfrm>
            <a:off x="6483240" y="3859200"/>
            <a:ext cx="408240" cy="16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УПЧ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5"/>
          <p:cNvSpPr/>
          <p:nvPr/>
        </p:nvSpPr>
        <p:spPr>
          <a:xfrm>
            <a:off x="3952800" y="3614760"/>
            <a:ext cx="490680" cy="16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зал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6"/>
          <p:cNvSpPr/>
          <p:nvPr/>
        </p:nvSpPr>
        <p:spPr>
          <a:xfrm>
            <a:off x="3952800" y="3206880"/>
            <a:ext cx="571680" cy="16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Эл. щитова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7"/>
          <p:cNvSpPr/>
          <p:nvPr/>
        </p:nvSpPr>
        <p:spPr>
          <a:xfrm>
            <a:off x="3137040" y="3206880"/>
            <a:ext cx="652320" cy="16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. пунк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8"/>
          <p:cNvSpPr/>
          <p:nvPr/>
        </p:nvSpPr>
        <p:spPr>
          <a:xfrm>
            <a:off x="3054240" y="2471760"/>
            <a:ext cx="163368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инистративный корпус с общежитием               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9"/>
          <p:cNvSpPr/>
          <p:nvPr/>
        </p:nvSpPr>
        <p:spPr>
          <a:xfrm>
            <a:off x="2646360" y="3125880"/>
            <a:ext cx="326880" cy="16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АБК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0"/>
          <p:cNvSpPr/>
          <p:nvPr/>
        </p:nvSpPr>
        <p:spPr>
          <a:xfrm>
            <a:off x="2482920" y="3941640"/>
            <a:ext cx="490320" cy="16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ова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1"/>
          <p:cNvSpPr/>
          <p:nvPr/>
        </p:nvSpPr>
        <p:spPr>
          <a:xfrm>
            <a:off x="2973240" y="3859200"/>
            <a:ext cx="0" cy="32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2"/>
          <p:cNvSpPr/>
          <p:nvPr/>
        </p:nvSpPr>
        <p:spPr>
          <a:xfrm>
            <a:off x="4443480" y="3859200"/>
            <a:ext cx="1550880" cy="32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-административный корпу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3"/>
          <p:cNvSpPr/>
          <p:nvPr/>
        </p:nvSpPr>
        <p:spPr>
          <a:xfrm>
            <a:off x="1183680" y="1024560"/>
            <a:ext cx="1522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Группа 25"/>
          <p:cNvGrpSpPr/>
          <p:nvPr/>
        </p:nvGrpSpPr>
        <p:grpSpPr>
          <a:xfrm>
            <a:off x="1228680" y="5332320"/>
            <a:ext cx="614520" cy="412920"/>
            <a:chOff x="1228680" y="5332320"/>
            <a:chExt cx="614520" cy="412920"/>
          </a:xfrm>
        </p:grpSpPr>
        <p:grpSp>
          <p:nvGrpSpPr>
            <p:cNvPr id="513" name="Группа 23"/>
            <p:cNvGrpSpPr/>
            <p:nvPr/>
          </p:nvGrpSpPr>
          <p:grpSpPr>
            <a:xfrm>
              <a:off x="1638360" y="5332320"/>
              <a:ext cx="204840" cy="412920"/>
              <a:chOff x="1638360" y="5332320"/>
              <a:chExt cx="204840" cy="412920"/>
            </a:xfrm>
          </p:grpSpPr>
          <p:sp>
            <p:nvSpPr>
              <p:cNvPr id="514" name="Овал 5"/>
              <p:cNvSpPr/>
              <p:nvPr/>
            </p:nvSpPr>
            <p:spPr>
              <a:xfrm>
                <a:off x="1638360" y="5432760"/>
                <a:ext cx="204840" cy="203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Прямая соединительная линия 18"/>
              <p:cNvSpPr/>
              <p:nvPr/>
            </p:nvSpPr>
            <p:spPr>
              <a:xfrm>
                <a:off x="1638720" y="5535720"/>
                <a:ext cx="204480" cy="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Полилиния 19"/>
              <p:cNvSpPr/>
              <p:nvPr/>
            </p:nvSpPr>
            <p:spPr>
              <a:xfrm>
                <a:off x="1643760" y="5534640"/>
                <a:ext cx="195840" cy="9828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73844" h="138113">
                    <a:moveTo>
                      <a:pt x="0" y="2381"/>
                    </a:moveTo>
                    <a:lnTo>
                      <a:pt x="273844" y="0"/>
                    </a:lnTo>
                    <a:lnTo>
                      <a:pt x="269081" y="57150"/>
                    </a:lnTo>
                    <a:lnTo>
                      <a:pt x="247650" y="85725"/>
                    </a:lnTo>
                    <a:lnTo>
                      <a:pt x="202406" y="123825"/>
                    </a:lnTo>
                    <a:lnTo>
                      <a:pt x="135731" y="138113"/>
                    </a:lnTo>
                    <a:lnTo>
                      <a:pt x="54769" y="114300"/>
                    </a:lnTo>
                    <a:lnTo>
                      <a:pt x="23812" y="78581"/>
                    </a:lnTo>
                    <a:lnTo>
                      <a:pt x="0" y="2381"/>
                    </a:lnTo>
                    <a:close/>
                  </a:path>
                </a:pathLst>
              </a:custGeom>
              <a:solidFill>
                <a:srgbClr val="2323e3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Прямая соединительная линия 21"/>
              <p:cNvSpPr/>
              <p:nvPr/>
            </p:nvSpPr>
            <p:spPr>
              <a:xfrm flipV="1">
                <a:off x="1740240" y="5332320"/>
                <a:ext cx="144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Прямая соединительная линия 22"/>
              <p:cNvSpPr/>
              <p:nvPr/>
            </p:nvSpPr>
            <p:spPr>
              <a:xfrm flipV="1">
                <a:off x="1741680" y="5643720"/>
                <a:ext cx="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24"/>
            <p:cNvSpPr/>
            <p:nvPr/>
          </p:nvSpPr>
          <p:spPr>
            <a:xfrm>
              <a:off x="1228680" y="5432400"/>
              <a:ext cx="513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Г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Группа 25"/>
          <p:cNvGrpSpPr/>
          <p:nvPr/>
        </p:nvGrpSpPr>
        <p:grpSpPr>
          <a:xfrm>
            <a:off x="1231920" y="4917960"/>
            <a:ext cx="614520" cy="414360"/>
            <a:chOff x="1231920" y="4917960"/>
            <a:chExt cx="614520" cy="414360"/>
          </a:xfrm>
        </p:grpSpPr>
        <p:grpSp>
          <p:nvGrpSpPr>
            <p:cNvPr id="521" name="Группа 23"/>
            <p:cNvGrpSpPr/>
            <p:nvPr/>
          </p:nvGrpSpPr>
          <p:grpSpPr>
            <a:xfrm>
              <a:off x="1641600" y="4917960"/>
              <a:ext cx="204840" cy="414360"/>
              <a:chOff x="1641600" y="4917960"/>
              <a:chExt cx="204840" cy="414360"/>
            </a:xfrm>
          </p:grpSpPr>
          <p:sp>
            <p:nvSpPr>
              <p:cNvPr id="522" name="Овал 5"/>
              <p:cNvSpPr/>
              <p:nvPr/>
            </p:nvSpPr>
            <p:spPr>
              <a:xfrm>
                <a:off x="1641600" y="5018760"/>
                <a:ext cx="204840" cy="204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Прямая соединительная линия 18"/>
              <p:cNvSpPr/>
              <p:nvPr/>
            </p:nvSpPr>
            <p:spPr>
              <a:xfrm flipV="1">
                <a:off x="1641960" y="5121000"/>
                <a:ext cx="204480" cy="144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Полилиния 19"/>
              <p:cNvSpPr/>
              <p:nvPr/>
            </p:nvSpPr>
            <p:spPr>
              <a:xfrm>
                <a:off x="1647000" y="5121000"/>
                <a:ext cx="195840" cy="9864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73844" h="138113">
                    <a:moveTo>
                      <a:pt x="0" y="2381"/>
                    </a:moveTo>
                    <a:lnTo>
                      <a:pt x="273844" y="0"/>
                    </a:lnTo>
                    <a:lnTo>
                      <a:pt x="269081" y="57150"/>
                    </a:lnTo>
                    <a:lnTo>
                      <a:pt x="247650" y="85725"/>
                    </a:lnTo>
                    <a:lnTo>
                      <a:pt x="202406" y="123825"/>
                    </a:lnTo>
                    <a:lnTo>
                      <a:pt x="135731" y="138113"/>
                    </a:lnTo>
                    <a:lnTo>
                      <a:pt x="54769" y="114300"/>
                    </a:lnTo>
                    <a:lnTo>
                      <a:pt x="23812" y="78581"/>
                    </a:lnTo>
                    <a:lnTo>
                      <a:pt x="0" y="2381"/>
                    </a:lnTo>
                    <a:close/>
                  </a:path>
                </a:pathLst>
              </a:custGeom>
              <a:solidFill>
                <a:srgbClr val="2323e3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Прямая соединительная линия 21"/>
              <p:cNvSpPr/>
              <p:nvPr/>
            </p:nvSpPr>
            <p:spPr>
              <a:xfrm flipV="1">
                <a:off x="1743480" y="4917960"/>
                <a:ext cx="144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Прямая соединительная линия 22"/>
              <p:cNvSpPr/>
              <p:nvPr/>
            </p:nvSpPr>
            <p:spPr>
              <a:xfrm flipV="1">
                <a:off x="1744920" y="5230800"/>
                <a:ext cx="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Box 24"/>
            <p:cNvSpPr/>
            <p:nvPr/>
          </p:nvSpPr>
          <p:spPr>
            <a:xfrm>
              <a:off x="1231920" y="5019480"/>
              <a:ext cx="513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Г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5"/>
          <p:cNvGrpSpPr/>
          <p:nvPr/>
        </p:nvGrpSpPr>
        <p:grpSpPr>
          <a:xfrm>
            <a:off x="611280" y="4919760"/>
            <a:ext cx="613800" cy="414360"/>
            <a:chOff x="611280" y="4919760"/>
            <a:chExt cx="613800" cy="414360"/>
          </a:xfrm>
        </p:grpSpPr>
        <p:grpSp>
          <p:nvGrpSpPr>
            <p:cNvPr id="529" name="Группа 23"/>
            <p:cNvGrpSpPr/>
            <p:nvPr/>
          </p:nvGrpSpPr>
          <p:grpSpPr>
            <a:xfrm>
              <a:off x="1020240" y="4919760"/>
              <a:ext cx="204840" cy="414360"/>
              <a:chOff x="1020240" y="4919760"/>
              <a:chExt cx="204840" cy="414360"/>
            </a:xfrm>
          </p:grpSpPr>
          <p:sp>
            <p:nvSpPr>
              <p:cNvPr id="530" name="Овал 5"/>
              <p:cNvSpPr/>
              <p:nvPr/>
            </p:nvSpPr>
            <p:spPr>
              <a:xfrm>
                <a:off x="1020600" y="5020560"/>
                <a:ext cx="204480" cy="204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Прямая соединительная линия 18"/>
              <p:cNvSpPr/>
              <p:nvPr/>
            </p:nvSpPr>
            <p:spPr>
              <a:xfrm flipV="1">
                <a:off x="1020240" y="5122800"/>
                <a:ext cx="204120" cy="144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Полилиния 19"/>
              <p:cNvSpPr/>
              <p:nvPr/>
            </p:nvSpPr>
            <p:spPr>
              <a:xfrm>
                <a:off x="1026000" y="5122800"/>
                <a:ext cx="195480" cy="986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73844" h="138113">
                    <a:moveTo>
                      <a:pt x="0" y="2381"/>
                    </a:moveTo>
                    <a:lnTo>
                      <a:pt x="273844" y="0"/>
                    </a:lnTo>
                    <a:lnTo>
                      <a:pt x="269081" y="57150"/>
                    </a:lnTo>
                    <a:lnTo>
                      <a:pt x="247650" y="85725"/>
                    </a:lnTo>
                    <a:lnTo>
                      <a:pt x="202406" y="123825"/>
                    </a:lnTo>
                    <a:lnTo>
                      <a:pt x="135731" y="138113"/>
                    </a:lnTo>
                    <a:lnTo>
                      <a:pt x="54769" y="114300"/>
                    </a:lnTo>
                    <a:lnTo>
                      <a:pt x="23812" y="78581"/>
                    </a:lnTo>
                    <a:lnTo>
                      <a:pt x="0" y="2381"/>
                    </a:lnTo>
                    <a:close/>
                  </a:path>
                </a:pathLst>
              </a:custGeom>
              <a:solidFill>
                <a:srgbClr val="2323e3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Прямая соединительная линия 21"/>
              <p:cNvSpPr/>
              <p:nvPr/>
            </p:nvSpPr>
            <p:spPr>
              <a:xfrm flipV="1">
                <a:off x="1122120" y="4919760"/>
                <a:ext cx="144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Прямая соединительная линия 22"/>
              <p:cNvSpPr/>
              <p:nvPr/>
            </p:nvSpPr>
            <p:spPr>
              <a:xfrm flipV="1">
                <a:off x="1123920" y="5232600"/>
                <a:ext cx="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TextBox 24"/>
            <p:cNvSpPr/>
            <p:nvPr/>
          </p:nvSpPr>
          <p:spPr>
            <a:xfrm>
              <a:off x="611280" y="5021280"/>
              <a:ext cx="512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Г-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Группа 25"/>
          <p:cNvGrpSpPr/>
          <p:nvPr/>
        </p:nvGrpSpPr>
        <p:grpSpPr>
          <a:xfrm>
            <a:off x="6783480" y="3378240"/>
            <a:ext cx="613800" cy="414360"/>
            <a:chOff x="6783480" y="3378240"/>
            <a:chExt cx="613800" cy="414360"/>
          </a:xfrm>
        </p:grpSpPr>
        <p:grpSp>
          <p:nvGrpSpPr>
            <p:cNvPr id="537" name="Группа 23"/>
            <p:cNvGrpSpPr/>
            <p:nvPr/>
          </p:nvGrpSpPr>
          <p:grpSpPr>
            <a:xfrm>
              <a:off x="7192440" y="3378240"/>
              <a:ext cx="204840" cy="414360"/>
              <a:chOff x="7192440" y="3378240"/>
              <a:chExt cx="204840" cy="414360"/>
            </a:xfrm>
          </p:grpSpPr>
          <p:sp>
            <p:nvSpPr>
              <p:cNvPr id="538" name="Овал 5"/>
              <p:cNvSpPr/>
              <p:nvPr/>
            </p:nvSpPr>
            <p:spPr>
              <a:xfrm>
                <a:off x="7192800" y="3479040"/>
                <a:ext cx="204480" cy="204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Прямая соединительная линия 18"/>
              <p:cNvSpPr/>
              <p:nvPr/>
            </p:nvSpPr>
            <p:spPr>
              <a:xfrm flipV="1">
                <a:off x="7192440" y="3581280"/>
                <a:ext cx="204120" cy="144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Полилиния 19"/>
              <p:cNvSpPr/>
              <p:nvPr/>
            </p:nvSpPr>
            <p:spPr>
              <a:xfrm>
                <a:off x="7198200" y="3581280"/>
                <a:ext cx="195480" cy="986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73844" h="138113">
                    <a:moveTo>
                      <a:pt x="0" y="2381"/>
                    </a:moveTo>
                    <a:lnTo>
                      <a:pt x="273844" y="0"/>
                    </a:lnTo>
                    <a:lnTo>
                      <a:pt x="269081" y="57150"/>
                    </a:lnTo>
                    <a:lnTo>
                      <a:pt x="247650" y="85725"/>
                    </a:lnTo>
                    <a:lnTo>
                      <a:pt x="202406" y="123825"/>
                    </a:lnTo>
                    <a:lnTo>
                      <a:pt x="135731" y="138113"/>
                    </a:lnTo>
                    <a:lnTo>
                      <a:pt x="54769" y="114300"/>
                    </a:lnTo>
                    <a:lnTo>
                      <a:pt x="23812" y="78581"/>
                    </a:lnTo>
                    <a:lnTo>
                      <a:pt x="0" y="2381"/>
                    </a:lnTo>
                    <a:close/>
                  </a:path>
                </a:pathLst>
              </a:custGeom>
              <a:solidFill>
                <a:srgbClr val="2323e3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Прямая соединительная линия 21"/>
              <p:cNvSpPr/>
              <p:nvPr/>
            </p:nvSpPr>
            <p:spPr>
              <a:xfrm flipV="1">
                <a:off x="7294320" y="3378240"/>
                <a:ext cx="144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Прямая соединительная линия 22"/>
              <p:cNvSpPr/>
              <p:nvPr/>
            </p:nvSpPr>
            <p:spPr>
              <a:xfrm flipV="1">
                <a:off x="7296120" y="3691080"/>
                <a:ext cx="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TextBox 24"/>
            <p:cNvSpPr/>
            <p:nvPr/>
          </p:nvSpPr>
          <p:spPr>
            <a:xfrm>
              <a:off x="6783480" y="3479760"/>
              <a:ext cx="512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В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106"/>
          <p:cNvSpPr/>
          <p:nvPr/>
        </p:nvSpPr>
        <p:spPr>
          <a:xfrm flipH="1" flipV="1">
            <a:off x="6526080" y="3121200"/>
            <a:ext cx="617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Группа 25"/>
          <p:cNvGrpSpPr/>
          <p:nvPr/>
        </p:nvGrpSpPr>
        <p:grpSpPr>
          <a:xfrm>
            <a:off x="2363760" y="2451240"/>
            <a:ext cx="614520" cy="414360"/>
            <a:chOff x="2363760" y="2451240"/>
            <a:chExt cx="614520" cy="414360"/>
          </a:xfrm>
        </p:grpSpPr>
        <p:grpSp>
          <p:nvGrpSpPr>
            <p:cNvPr id="546" name="Группа 23"/>
            <p:cNvGrpSpPr/>
            <p:nvPr/>
          </p:nvGrpSpPr>
          <p:grpSpPr>
            <a:xfrm>
              <a:off x="2773440" y="2451240"/>
              <a:ext cx="204840" cy="414360"/>
              <a:chOff x="2773440" y="2451240"/>
              <a:chExt cx="204840" cy="414360"/>
            </a:xfrm>
          </p:grpSpPr>
          <p:sp>
            <p:nvSpPr>
              <p:cNvPr id="547" name="Овал 5"/>
              <p:cNvSpPr/>
              <p:nvPr/>
            </p:nvSpPr>
            <p:spPr>
              <a:xfrm>
                <a:off x="2773440" y="2552040"/>
                <a:ext cx="204840" cy="204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Прямая соединительная линия 18"/>
              <p:cNvSpPr/>
              <p:nvPr/>
            </p:nvSpPr>
            <p:spPr>
              <a:xfrm flipV="1">
                <a:off x="2773800" y="2654280"/>
                <a:ext cx="204480" cy="144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Полилиния 19"/>
              <p:cNvSpPr/>
              <p:nvPr/>
            </p:nvSpPr>
            <p:spPr>
              <a:xfrm>
                <a:off x="2778840" y="2654280"/>
                <a:ext cx="195840" cy="9864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73844" h="138113">
                    <a:moveTo>
                      <a:pt x="0" y="2381"/>
                    </a:moveTo>
                    <a:lnTo>
                      <a:pt x="273844" y="0"/>
                    </a:lnTo>
                    <a:lnTo>
                      <a:pt x="269081" y="57150"/>
                    </a:lnTo>
                    <a:lnTo>
                      <a:pt x="247650" y="85725"/>
                    </a:lnTo>
                    <a:lnTo>
                      <a:pt x="202406" y="123825"/>
                    </a:lnTo>
                    <a:lnTo>
                      <a:pt x="135731" y="138113"/>
                    </a:lnTo>
                    <a:lnTo>
                      <a:pt x="54769" y="114300"/>
                    </a:lnTo>
                    <a:lnTo>
                      <a:pt x="23812" y="78581"/>
                    </a:lnTo>
                    <a:lnTo>
                      <a:pt x="0" y="2381"/>
                    </a:lnTo>
                    <a:close/>
                  </a:path>
                </a:pathLst>
              </a:custGeom>
              <a:solidFill>
                <a:srgbClr val="2323e3"/>
              </a:solidFill>
              <a:ln w="255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160" rIns="6516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Прямая соединительная линия 21"/>
              <p:cNvSpPr/>
              <p:nvPr/>
            </p:nvSpPr>
            <p:spPr>
              <a:xfrm flipV="1">
                <a:off x="2875320" y="2451240"/>
                <a:ext cx="144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Прямая соединительная линия 22"/>
              <p:cNvSpPr/>
              <p:nvPr/>
            </p:nvSpPr>
            <p:spPr>
              <a:xfrm flipV="1">
                <a:off x="2876760" y="2764080"/>
                <a:ext cx="0" cy="101520"/>
              </a:xfrm>
              <a:prstGeom prst="line">
                <a:avLst/>
              </a:prstGeom>
              <a:ln w="9360">
                <a:solidFill>
                  <a:srgbClr val="232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2363760" y="2552760"/>
              <a:ext cx="513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В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115"/>
          <p:cNvSpPr/>
          <p:nvPr/>
        </p:nvSpPr>
        <p:spPr>
          <a:xfrm>
            <a:off x="3081240" y="2760840"/>
            <a:ext cx="87336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6"/>
          <p:cNvSpPr/>
          <p:nvPr/>
        </p:nvSpPr>
        <p:spPr>
          <a:xfrm>
            <a:off x="3182400" y="2811600"/>
            <a:ext cx="46332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00 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7"/>
          <p:cNvSpPr/>
          <p:nvPr/>
        </p:nvSpPr>
        <p:spPr>
          <a:xfrm>
            <a:off x="6678000" y="3057480"/>
            <a:ext cx="46332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00 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, Г. ВОРОНЕЖ, УЛ. КРАСНОЗНАМЕННАЯ, Д. 231</a:t>
            </a: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лан 1-го этажа объект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2"/>
          <p:cNvGraphicFramePr/>
          <p:nvPr/>
        </p:nvGraphicFramePr>
        <p:xfrm>
          <a:off x="303120" y="1165320"/>
          <a:ext cx="853776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165320"/>
                    <a:ext cx="85377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Box 3"/>
          <p:cNvSpPr/>
          <p:nvPr/>
        </p:nvSpPr>
        <p:spPr>
          <a:xfrm>
            <a:off x="6937200" y="3629160"/>
            <a:ext cx="204840" cy="2044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2081160" y="3633840"/>
            <a:ext cx="204840" cy="2062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2590920" y="1625760"/>
            <a:ext cx="206280" cy="2062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5335560" y="5931000"/>
            <a:ext cx="206280" cy="2062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491760" y="3213000"/>
            <a:ext cx="810468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ОТРАБОТАТЬ ПО ВСЕМ ЭТАЖАМ ВСЕХ ЗДАНИЙ (КОРПУС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ОБРАЗОВАТЕЛЬНОГО УЧРЕЖДЕНИЯ С РАССМОТРЕНИЕМ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ЭВАКУАЦИ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0" y="404640"/>
          <a:ext cx="9144000" cy="6453360"/>
        </p:xfrm>
        <a:graphic>
          <a:graphicData uri="http://schemas.openxmlformats.org/drawingml/2006/table">
            <a:tbl>
              <a:tblPr/>
              <a:tblGrid>
                <a:gridCol w="4576680"/>
                <a:gridCol w="4567320"/>
              </a:tblGrid>
              <a:tr h="2224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Финансовая Академия при Правительстве РФ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а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Федераль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онно –правовая  фор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Федеральное  образовательное учрежд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1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рес местона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СВАО г. Москвы Проспект мира д. 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762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адре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СВАО г. Москвы Проспект мира д. 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ость: Ф. И. О. руководителя, телефо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Ректор: Терентий Л. М.тел: (495) 616-26-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4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 постройки з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5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кущее состояние з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Находится в исправном состоян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4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огра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ю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5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ичие входных металлических двер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Отсутствую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4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ческая охра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еонаблюд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1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аж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этаж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матическая пожарная сигнал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ная сигнализация в здан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нопка( брелок экстренного вызова милици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стема оповещения  и управления эвакуации людей при пожаре в здан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тивопожарное водоснабжение в здан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506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сигнала о срабатывании систем  противопожарной защиты  в подразделение пожарной охраны в здан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ямая телефонная связь с пожарной охра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1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нарушение требований пожарной безопас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Соответствую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тояние эвакуационных пу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Соответствую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ность персонала СИ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меетс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3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ность персонала корпуса носилками при эваку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Отсутствую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221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даленность  от пожарного гарниз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к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5" name="Text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ОБЪЕКТА СИСТЕМЫ СОЦИАЛЬНОЙ ЗАЩИТЫ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ИЙ ИНСТИТУТ ГПС г. ВОРОНЕЖ, УЛ. КРАСНОЗНАМЕННАЯ, Д. 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Риски возникновения пожаров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3182760" y="1700280"/>
          <a:ext cx="560232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1700280"/>
                    <a:ext cx="56023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96840" y="3943440"/>
          <a:ext cx="2674800" cy="2836800"/>
        </p:xfrm>
        <a:graphic>
          <a:graphicData uri="http://schemas.openxmlformats.org/drawingml/2006/table">
            <a:tbl>
              <a:tblPr/>
              <a:tblGrid>
                <a:gridCol w="351000"/>
                <a:gridCol w="682560"/>
                <a:gridCol w="512640"/>
                <a:gridCol w="343080"/>
                <a:gridCol w="785520"/>
              </a:tblGrid>
              <a:tr h="34020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№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именование П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ех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сстояние до ПЧ, к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36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П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Н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36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Ч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27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Ч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27720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ПО-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27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Ч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36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Ч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27864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Ч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277560"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Ч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С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76200"/>
                          <a:tab algn="l" pos="2552760"/>
                          <a:tab algn="l" pos="3828960"/>
                          <a:tab algn="l" pos="5105520"/>
                          <a:tab algn="l" pos="6381720"/>
                          <a:tab algn="l" pos="7658280"/>
                          <a:tab algn="l" pos="8934480"/>
                          <a:tab algn="l" pos="1021068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0" name="Text Box 66"/>
          <p:cNvSpPr/>
          <p:nvPr/>
        </p:nvSpPr>
        <p:spPr>
          <a:xfrm>
            <a:off x="117360" y="3479760"/>
            <a:ext cx="26686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 algn="ctr"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 сил и средств привлекаемых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шения пожара, расстояние до П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0" y="907920"/>
          <a:ext cx="5364000" cy="1209960"/>
        </p:xfrm>
        <a:graphic>
          <a:graphicData uri="http://schemas.openxmlformats.org/drawingml/2006/table">
            <a:tbl>
              <a:tblPr/>
              <a:tblGrid>
                <a:gridCol w="511200"/>
                <a:gridCol w="574560"/>
                <a:gridCol w="511200"/>
                <a:gridCol w="638280"/>
                <a:gridCol w="512640"/>
                <a:gridCol w="2616120"/>
              </a:tblGrid>
              <a:tr h="320760">
                <a:tc gridSpan="6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атисти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ценка риска возникновения 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1080"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изошло 5 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изошло 5 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С не произош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С не произош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rowSpan="2"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С не произош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территории городского округа г.Воронежа сохраняется вероятность возникновения техногенных пожаров в жилой зоне и на потенциально-опасных объектах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08000" y="2205000"/>
          <a:ext cx="1143000" cy="1282680"/>
        </p:xfrm>
        <a:graphic>
          <a:graphicData uri="http://schemas.openxmlformats.org/drawingml/2006/table">
            <a:tbl>
              <a:tblPr/>
              <a:tblGrid>
                <a:gridCol w="687240"/>
                <a:gridCol w="455760"/>
              </a:tblGrid>
              <a:tr h="17460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теод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, 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12348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жность,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19548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ад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16488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имость, 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3747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е и скорость ветра, м/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428760"/>
          <a:ext cx="9144000" cy="6433920"/>
        </p:xfrm>
        <a:graphic>
          <a:graphicData uri="http://schemas.openxmlformats.org/drawingml/2006/table">
            <a:tbl>
              <a:tblPr/>
              <a:tblGrid>
                <a:gridCol w="438120"/>
                <a:gridCol w="1454040"/>
                <a:gridCol w="1087560"/>
                <a:gridCol w="1195560"/>
                <a:gridCol w="1479240"/>
                <a:gridCol w="1689120"/>
                <a:gridCol w="1800360"/>
              </a:tblGrid>
              <a:tr h="742680"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раздел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та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рмативное время готовности к выход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рмативное время приб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рмативный документ, для определения време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ДС, № телеф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2840">
                <a:tc gridSpan="7"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ункциональные подсисте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Ч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19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З №123 от 22.07.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ДДС тел. «01»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ППС СВАО ,тел. 8-499-760-29-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По СВАО 8-499-181-03-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540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БД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4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аз МВД от26.02.02 №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616-09-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260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ВД  СВА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24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аз МВД от29.01.08, 20.12.08,02.07.08 №81,№646,№6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499-181-01-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224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С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9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аз Минздрава от 01.11.04 №1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. скорой медицинской помощ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л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80-77-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2840">
                <a:tc gridSpan="7"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риториальные подсисте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ужба ЖК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5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ление правительства Москвы от 15.05.07 №374-Р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619-94-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224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П «Мосгаз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6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ление правительства Москвы от 15.05.07 №374-Р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687-63-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260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П «Мосводоканал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5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ление правительства Москвы от 15.05.07 №374-Р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8-499-188-41-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36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П «Мосводопровод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4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ление правительства Москвы от 15.05.07 №374-Р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18841-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2240"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АО «МОЭК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\с  6 чел.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ед.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ми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ление правительства Москвы от 15.05.07 №374-Р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8920" rIns="178920" tIns="89280" bIns="89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790640"/>
                          <a:tab algn="l" pos="3581280"/>
                          <a:tab algn="l" pos="5372280"/>
                          <a:tab algn="l" pos="7162920"/>
                          <a:tab algn="l" pos="8953560"/>
                          <a:tab algn="l" pos="107442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ж. 407-24-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8920" marR="17892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4" name="Прямоугольник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СИЛ И СРЕДСТВ, ПРИВЛЕКАЕМЫХ ДЛЯ ЛИКВИДАЦИИ Ч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1"/>
          <p:cNvSpPr/>
          <p:nvPr/>
        </p:nvSpPr>
        <p:spPr>
          <a:xfrm>
            <a:off x="442800" y="2744640"/>
            <a:ext cx="7712280" cy="5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0000"/>
                </a:solidFill>
                <a:latin typeface="Arial"/>
                <a:ea typeface="Arial"/>
              </a:rPr>
              <a:t>УКАЗАТЬ ВСЕ СИЛЫ И СРЕДСТВА, КОТОРЫЕ МОГУТ БЫТЬ ЗАДЕЙСТВОВ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0000"/>
                </a:solidFill>
                <a:latin typeface="Arial"/>
                <a:ea typeface="Arial"/>
              </a:rPr>
              <a:t>НА ЛИКВИДАЦИЮ ПОСЛЕДСВТЙИ ЧС (ПРОИСШЕСТВИ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3:05:04Z</dcterms:created>
  <dc:creator>GEG</dc:creator>
  <dc:description/>
  <dc:language>en-US</dc:language>
  <cp:lastModifiedBy>Alex</cp:lastModifiedBy>
  <dcterms:modified xsi:type="dcterms:W3CDTF">2012-02-08T07:54:10Z</dcterms:modified>
  <cp:revision>42</cp:revision>
  <dc:subject/>
  <dc:title>Слайд 1</dc:title>
</cp:coreProperties>
</file>