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637-39B4-458F-B5D4-2E7CE9FE7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290-A536-4BA8-8F8A-AEDF1FF7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DE1-7BDD-48E5-ADC2-47F6D197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8DA-F6C4-4088-AAAF-9B1AE518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1D2-3DAA-4D08-85BB-39B8C89C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4FF-A807-499C-982B-03587DC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EA-BD11-4DEF-AACB-D92BD2F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BE7-1534-4328-9BEA-71DCF700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04E-B0FF-4972-92DC-11AEF572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36E-814B-4629-BD1C-3C4BAA9E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8DF-6865-484A-BC77-2357361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EEE-C251-4F22-A1E7-62C6516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C88-2925-40D3-828A-92D09E7E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9E0-9A1A-49B5-97DC-51894D5EB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91640" y="1604880"/>
            <a:ext cx="34329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глы при осн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7440" y="1600200"/>
            <a:ext cx="2373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рти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85800"/>
            <a:ext cx="64659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а угла, у которых одна сторона общая, а две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вляются продолжениями одна  другой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4160" y="1600200"/>
            <a:ext cx="20203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межные у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68000" y="4149720"/>
            <a:ext cx="1511640" cy="2016000"/>
            <a:chOff x="468000" y="4149720"/>
            <a:chExt cx="1511640" cy="2016000"/>
          </a:xfrm>
        </p:grpSpPr>
        <p:sp>
          <p:nvSpPr>
            <p:cNvPr id="53" name=""/>
            <p:cNvSpPr/>
            <p:nvPr/>
          </p:nvSpPr>
          <p:spPr>
            <a:xfrm>
              <a:off x="468360" y="4149720"/>
              <a:ext cx="1511280" cy="20160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68000" y="4508640"/>
              <a:ext cx="1150920" cy="16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4508640"/>
              <a:ext cx="1150920" cy="16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1440" y="494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7080" y="515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484360" y="3860640"/>
            <a:ext cx="2376720" cy="2448000"/>
            <a:chOff x="2484360" y="3860640"/>
            <a:chExt cx="2376720" cy="2448000"/>
          </a:xfrm>
        </p:grpSpPr>
        <p:sp>
          <p:nvSpPr>
            <p:cNvPr id="59" name=""/>
            <p:cNvSpPr/>
            <p:nvPr/>
          </p:nvSpPr>
          <p:spPr>
            <a:xfrm>
              <a:off x="2484360" y="3860640"/>
              <a:ext cx="2376720" cy="244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86280" y="4025880"/>
              <a:ext cx="1125360" cy="2139840"/>
            </a:xfrm>
            <a:custGeom>
              <a:avLst/>
              <a:gdLst/>
              <a:ahLst/>
              <a:rect l="l" t="t" r="r" b="b"/>
              <a:pathLst>
                <a:path w="709" h="1348">
                  <a:moveTo>
                    <a:pt x="0" y="0"/>
                  </a:moveTo>
                  <a:lnTo>
                    <a:pt x="709" y="13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0720" y="4005360"/>
              <a:ext cx="1150920" cy="2116080"/>
            </a:xfrm>
            <a:custGeom>
              <a:avLst/>
              <a:gdLst/>
              <a:ahLst/>
              <a:rect l="l" t="t" r="r" b="b"/>
              <a:pathLst>
                <a:path w="725" h="1333">
                  <a:moveTo>
                    <a:pt x="725" y="0"/>
                  </a:moveTo>
                  <a:lnTo>
                    <a:pt x="0" y="13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36720" y="494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9440" y="494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41400" y="228600"/>
            <a:ext cx="66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каких углах это определение. Щёлкни мышкой по названию уг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906800" y="2826360"/>
            <a:ext cx="3891960" cy="3891600"/>
            <a:chOff x="4906800" y="2826360"/>
            <a:chExt cx="3891960" cy="3891600"/>
          </a:xfrm>
        </p:grpSpPr>
        <p:sp>
          <p:nvSpPr>
            <p:cNvPr id="66" name=""/>
            <p:cNvSpPr/>
            <p:nvPr/>
          </p:nvSpPr>
          <p:spPr>
            <a:xfrm rot="19945800">
              <a:off x="6539760" y="2971440"/>
              <a:ext cx="1511280" cy="3600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870000">
              <a:off x="5261760" y="3272760"/>
              <a:ext cx="2611440" cy="3168360"/>
            </a:xfrm>
            <a:prstGeom prst="triangle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736200">
              <a:off x="5046120" y="5864760"/>
              <a:ext cx="129960" cy="22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999600">
              <a:off x="7206480" y="6441480"/>
              <a:ext cx="130320" cy="22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49760" y="4641480"/>
              <a:ext cx="21564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846480" y="4928760"/>
              <a:ext cx="2160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2880" y="6011640"/>
              <a:ext cx="3838320" cy="21960"/>
            </a:xfrm>
            <a:custGeom>
              <a:avLst/>
              <a:gdLst/>
              <a:ahLst/>
              <a:rect l="l" t="t" r="r" b="b"/>
              <a:pathLst>
                <a:path w="2418" h="14">
                  <a:moveTo>
                    <a:pt x="0" y="14"/>
                  </a:moveTo>
                  <a:lnTo>
                    <a:pt x="24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19200" y="5794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92640" y="6297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28600" y="3581280"/>
            <a:ext cx="1135080" cy="6098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63320" cy="473040"/>
          </a:xfrm>
          <a:custGeom>
            <a:avLst/>
            <a:gdLst>
              <a:gd name="textAreaLeft" fmla="*/ 29880 w 463320"/>
              <a:gd name="textAreaRight" fmla="*/ 433440 w 463320"/>
              <a:gd name="textAreaTop" fmla="*/ 29880 h 473040"/>
              <a:gd name="textAreaBottom" fmla="*/ 443160 h 473040"/>
            </a:gdLst>
            <a:ahLst/>
            <a:rect l="textAreaLeft" t="textAreaTop" r="textAreaRight" b="textAreaBottom"/>
            <a:pathLst>
              <a:path w="21600" h="22053">
                <a:moveTo>
                  <a:pt x="0" y="0"/>
                </a:moveTo>
                <a:lnTo>
                  <a:pt x="21600" y="0"/>
                </a:lnTo>
                <a:lnTo>
                  <a:pt x="21600" y="22053"/>
                </a:lnTo>
                <a:lnTo>
                  <a:pt x="0" y="22053"/>
                </a:lnTo>
                <a:close/>
              </a:path>
              <a:path fill="lightenLess" w="21600" h="220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3">
                <a:moveTo>
                  <a:pt x="21600" y="0"/>
                </a:moveTo>
                <a:lnTo>
                  <a:pt x="21600" y="22053"/>
                </a:lnTo>
                <a:lnTo>
                  <a:pt x="20200" y="20653"/>
                </a:lnTo>
                <a:lnTo>
                  <a:pt x="20200" y="1400"/>
                </a:lnTo>
                <a:close/>
              </a:path>
              <a:path fill="darkenLess" w="21600" h="22053">
                <a:moveTo>
                  <a:pt x="21600" y="22053"/>
                </a:moveTo>
                <a:lnTo>
                  <a:pt x="0" y="22053"/>
                </a:lnTo>
                <a:lnTo>
                  <a:pt x="1400" y="20653"/>
                </a:lnTo>
                <a:lnTo>
                  <a:pt x="20200" y="20653"/>
                </a:lnTo>
                <a:close/>
              </a:path>
              <a:path fill="lighten" w="21600" h="22053">
                <a:moveTo>
                  <a:pt x="0" y="220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3"/>
                </a:lnTo>
                <a:close/>
              </a:path>
              <a:path fill="darken" w="21600" h="22053">
                <a:moveTo>
                  <a:pt x="3794" y="4020"/>
                </a:moveTo>
                <a:lnTo>
                  <a:pt x="17806" y="11026"/>
                </a:lnTo>
                <a:lnTo>
                  <a:pt x="3794" y="18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2320" y="63244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743200"/>
            <a:ext cx="439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глы при осн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авнобедренного треугольник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276720"/>
            <a:ext cx="3456000" cy="7905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ертикальные уг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4120" y="236232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48148E-006 L 0.74358 -0.11783 E">
                                      <p:cBhvr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52640" y="1905120"/>
            <a:ext cx="2386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3920" y="1447920"/>
            <a:ext cx="34329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глы при осн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14840" y="685800"/>
            <a:ext cx="50299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а угла называются …, если стороны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вляются продолжением сторон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600" y="1523880"/>
            <a:ext cx="26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ертикальные у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62320" y="4495680"/>
            <a:ext cx="2520720" cy="1655640"/>
            <a:chOff x="2362320" y="4495680"/>
            <a:chExt cx="2520720" cy="1655640"/>
          </a:xfrm>
        </p:grpSpPr>
        <p:sp>
          <p:nvSpPr>
            <p:cNvPr id="86" name=""/>
            <p:cNvSpPr/>
            <p:nvPr/>
          </p:nvSpPr>
          <p:spPr>
            <a:xfrm>
              <a:off x="2362320" y="4495680"/>
              <a:ext cx="2520720" cy="1655640"/>
            </a:xfrm>
            <a:prstGeom prst="cube">
              <a:avLst>
                <a:gd name="adj" fmla="val 35828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62320" y="4495680"/>
              <a:ext cx="25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8320" y="4495680"/>
              <a:ext cx="1368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55760" y="4568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6480" y="4640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3809880"/>
            <a:ext cx="1728720" cy="2232000"/>
            <a:chOff x="228600" y="3809880"/>
            <a:chExt cx="1728720" cy="2232000"/>
          </a:xfrm>
        </p:grpSpPr>
        <p:sp>
          <p:nvSpPr>
            <p:cNvPr id="92" name=""/>
            <p:cNvSpPr/>
            <p:nvPr/>
          </p:nvSpPr>
          <p:spPr>
            <a:xfrm>
              <a:off x="228600" y="3809880"/>
              <a:ext cx="1728720" cy="2232000"/>
            </a:xfrm>
            <a:prstGeom prst="triangle">
              <a:avLst>
                <a:gd name="adj" fmla="val 826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9320" y="4962600"/>
              <a:ext cx="100800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28600" y="3809880"/>
              <a:ext cx="144144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400" y="4962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0760" y="4746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36840" y="228600"/>
            <a:ext cx="66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каких углах это определение.  Щёлкни мышкой по названию уг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03640" y="2621520"/>
            <a:ext cx="3897000" cy="3892320"/>
            <a:chOff x="5003640" y="2621520"/>
            <a:chExt cx="3897000" cy="3892320"/>
          </a:xfrm>
        </p:grpSpPr>
        <p:sp>
          <p:nvSpPr>
            <p:cNvPr id="99" name=""/>
            <p:cNvSpPr/>
            <p:nvPr/>
          </p:nvSpPr>
          <p:spPr>
            <a:xfrm rot="19945800">
              <a:off x="6642000" y="2766600"/>
              <a:ext cx="1511280" cy="3600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870000">
              <a:off x="5363640" y="3068280"/>
              <a:ext cx="2611440" cy="3168720"/>
            </a:xfrm>
            <a:prstGeom prst="triangle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736200">
              <a:off x="5147640" y="5660640"/>
              <a:ext cx="129960" cy="22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99600">
              <a:off x="7308720" y="6237000"/>
              <a:ext cx="130320" cy="22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1640" y="4437000"/>
              <a:ext cx="2156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948360" y="4724280"/>
              <a:ext cx="216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5805360"/>
              <a:ext cx="388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21080" y="558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4520" y="6093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352680" y="36576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3200400"/>
            <a:ext cx="2952720" cy="647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межные уг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1280" y="2708280"/>
            <a:ext cx="439272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глы при осн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авнобедренного треугольник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65120" cy="457200"/>
          </a:xfrm>
          <a:custGeom>
            <a:avLst/>
            <a:gdLst>
              <a:gd name="textAreaLeft" fmla="*/ 29520 w 465120"/>
              <a:gd name="textAreaRight" fmla="*/ 435600 w 46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974" h="21600">
                <a:moveTo>
                  <a:pt x="0" y="0"/>
                </a:moveTo>
                <a:lnTo>
                  <a:pt x="21974" y="0"/>
                </a:lnTo>
                <a:lnTo>
                  <a:pt x="21974" y="21600"/>
                </a:lnTo>
                <a:lnTo>
                  <a:pt x="0" y="21600"/>
                </a:lnTo>
                <a:close/>
              </a:path>
              <a:path fill="lightenLess" w="21974" h="21600">
                <a:moveTo>
                  <a:pt x="0" y="0"/>
                </a:moveTo>
                <a:lnTo>
                  <a:pt x="21974" y="0"/>
                </a:lnTo>
                <a:lnTo>
                  <a:pt x="20574" y="1400"/>
                </a:lnTo>
                <a:lnTo>
                  <a:pt x="1400" y="1400"/>
                </a:lnTo>
                <a:close/>
              </a:path>
              <a:path fill="darken" w="21974" h="21600">
                <a:moveTo>
                  <a:pt x="21974" y="0"/>
                </a:moveTo>
                <a:lnTo>
                  <a:pt x="21974" y="21600"/>
                </a:lnTo>
                <a:lnTo>
                  <a:pt x="20574" y="20200"/>
                </a:lnTo>
                <a:lnTo>
                  <a:pt x="20574" y="1400"/>
                </a:lnTo>
                <a:close/>
              </a:path>
              <a:path fill="darkenLess" w="21974" h="21600">
                <a:moveTo>
                  <a:pt x="2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74" y="20200"/>
                </a:lnTo>
                <a:close/>
              </a:path>
              <a:path fill="lighten" w="2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74" h="21600">
                <a:moveTo>
                  <a:pt x="3980" y="3794"/>
                </a:moveTo>
                <a:lnTo>
                  <a:pt x="17993" y="10800"/>
                </a:lnTo>
                <a:lnTo>
                  <a:pt x="398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600" y="63244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5520" y="236232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65399 -0.11783 E">
                                      <p:cBhvr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566100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биссектрис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3068640"/>
            <a:ext cx="2560680" cy="2500200"/>
          </a:xfrm>
          <a:prstGeom prst="triangle">
            <a:avLst>
              <a:gd name="adj" fmla="val 29884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20960" y="-592560"/>
            <a:ext cx="533520" cy="7373520"/>
            <a:chOff x="3720960" y="-592560"/>
            <a:chExt cx="533520" cy="7373520"/>
          </a:xfrm>
        </p:grpSpPr>
        <p:grpSp>
          <p:nvGrpSpPr>
            <p:cNvPr id="117" name=""/>
            <p:cNvGrpSpPr/>
            <p:nvPr/>
          </p:nvGrpSpPr>
          <p:grpSpPr>
            <a:xfrm>
              <a:off x="3720960" y="-592560"/>
              <a:ext cx="457200" cy="858600"/>
              <a:chOff x="3720960" y="-592560"/>
              <a:chExt cx="457200" cy="85860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3720960" y="-5925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806640" y="167400"/>
                <a:ext cx="293760" cy="98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3772080" y="-508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797280" y="5922720"/>
              <a:ext cx="457200" cy="858240"/>
              <a:chOff x="3797280" y="5922720"/>
              <a:chExt cx="457200" cy="858240"/>
            </a:xfrm>
          </p:grpSpPr>
          <p:sp>
            <p:nvSpPr>
              <p:cNvPr id="122" name=""/>
              <p:cNvSpPr/>
              <p:nvPr/>
            </p:nvSpPr>
            <p:spPr>
              <a:xfrm>
                <a:off x="3797280" y="59493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75040" y="5922720"/>
                <a:ext cx="293760" cy="982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24640" y="6176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949560" y="215640"/>
              <a:ext cx="30240" cy="286200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75120" y="3085920"/>
              <a:ext cx="29880" cy="286164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46000">
            <a:off x="236160" y="1771560"/>
            <a:ext cx="2751120" cy="3652920"/>
          </a:xfrm>
          <a:prstGeom prst="triangle">
            <a:avLst>
              <a:gd name="adj" fmla="val 31347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473800">
            <a:off x="350640" y="3997080"/>
            <a:ext cx="27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м е д  и  а  н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7840" y="2641680"/>
            <a:ext cx="837720" cy="1892160"/>
            <a:chOff x="177840" y="2641680"/>
            <a:chExt cx="837720" cy="1892160"/>
          </a:xfrm>
        </p:grpSpPr>
        <p:sp>
          <p:nvSpPr>
            <p:cNvPr id="131" name=""/>
            <p:cNvSpPr/>
            <p:nvPr/>
          </p:nvSpPr>
          <p:spPr>
            <a:xfrm>
              <a:off x="177840" y="443232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0" y="0"/>
                  </a:moveTo>
                  <a:lnTo>
                    <a:pt x="176" y="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720" y="2641680"/>
              <a:ext cx="240840" cy="101520"/>
            </a:xfrm>
            <a:custGeom>
              <a:avLst/>
              <a:gdLst/>
              <a:ahLst/>
              <a:rect l="l" t="t" r="r" b="b"/>
              <a:pathLst>
                <a:path w="152" h="64">
                  <a:moveTo>
                    <a:pt x="152" y="6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20640" y="3594240"/>
            <a:ext cx="2222640" cy="1917720"/>
          </a:xfrm>
          <a:custGeom>
            <a:avLst/>
            <a:gdLst/>
            <a:ahLst/>
            <a:rect l="l" t="t" r="r" b="b"/>
            <a:pathLst>
              <a:path w="1400" h="1208">
                <a:moveTo>
                  <a:pt x="1400" y="120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5120" y="3073320"/>
            <a:ext cx="12600" cy="251460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79640" y="5373720"/>
            <a:ext cx="215640" cy="215640"/>
            <a:chOff x="3779640" y="5373720"/>
            <a:chExt cx="215640" cy="215640"/>
          </a:xfrm>
        </p:grpSpPr>
        <p:sp>
          <p:nvSpPr>
            <p:cNvPr id="136" name=""/>
            <p:cNvSpPr/>
            <p:nvPr/>
          </p:nvSpPr>
          <p:spPr>
            <a:xfrm flipH="1">
              <a:off x="3779640" y="537372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779640" y="5373720"/>
              <a:ext cx="9360" cy="21564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6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26800" y="3225960"/>
            <a:ext cx="570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155736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859280" y="2708280"/>
            <a:ext cx="4120920" cy="2665080"/>
            <a:chOff x="4859280" y="2708280"/>
            <a:chExt cx="4120920" cy="2665080"/>
          </a:xfrm>
        </p:grpSpPr>
        <p:sp>
          <p:nvSpPr>
            <p:cNvPr id="141" name=""/>
            <p:cNvSpPr/>
            <p:nvPr/>
          </p:nvSpPr>
          <p:spPr>
            <a:xfrm rot="2442000">
              <a:off x="8380440" y="463500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273800">
              <a:off x="8192520" y="494100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9280" y="270828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75240" y="3670200"/>
            <a:ext cx="2579760" cy="1665360"/>
          </a:xfrm>
          <a:custGeom>
            <a:avLst/>
            <a:gdLst/>
            <a:ahLst/>
            <a:rect l="l" t="t" r="r" b="b"/>
            <a:pathLst>
              <a:path w="1625" h="1049">
                <a:moveTo>
                  <a:pt x="0" y="0"/>
                </a:moveTo>
                <a:lnTo>
                  <a:pt x="1625" y="10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62000">
            <a:off x="6385320" y="4005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б и с с е к т р и 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flipH="1" rot="1926600">
            <a:off x="6012000" y="4137120"/>
            <a:ext cx="3351240" cy="371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99480" y="17524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30120" y="17524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838080"/>
            <a:ext cx="843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пендикуляр, проведенный из вершины треугольника к прямой, содержащей противоположную сторону, называется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ысот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228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резок, соединяющий вершину треугольника с середин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едиан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7000" y="1752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05920" y="2765520"/>
            <a:ext cx="3533040" cy="2993760"/>
            <a:chOff x="205920" y="2765520"/>
            <a:chExt cx="3533040" cy="2993760"/>
          </a:xfrm>
        </p:grpSpPr>
        <p:sp>
          <p:nvSpPr>
            <p:cNvPr id="153" name=""/>
            <p:cNvSpPr/>
            <p:nvPr/>
          </p:nvSpPr>
          <p:spPr>
            <a:xfrm rot="9038400">
              <a:off x="420480" y="3417480"/>
              <a:ext cx="3103560" cy="16891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6360" y="2781360"/>
              <a:ext cx="11160" cy="1466640"/>
            </a:xfrm>
            <a:custGeom>
              <a:avLst/>
              <a:gdLst/>
              <a:ahLst/>
              <a:rect l="l" t="t" r="r" b="b"/>
              <a:pathLst>
                <a:path w="7" h="924">
                  <a:moveTo>
                    <a:pt x="0" y="0"/>
                  </a:moveTo>
                  <a:lnTo>
                    <a:pt x="7" y="9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0360" y="400536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844720" y="2852640"/>
            <a:ext cx="400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13560" y="1600200"/>
            <a:ext cx="1488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600200"/>
            <a:ext cx="2140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480" y="228600"/>
            <a:ext cx="64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каком отрезке это определение. а) Щёлкни мышкой по наз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781360"/>
            <a:ext cx="1655640" cy="576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13040" y="2253960"/>
            <a:ext cx="2635920" cy="3348720"/>
            <a:chOff x="6413040" y="2253960"/>
            <a:chExt cx="2635920" cy="3348720"/>
          </a:xfrm>
        </p:grpSpPr>
        <p:sp>
          <p:nvSpPr>
            <p:cNvPr id="163" name=""/>
            <p:cNvSpPr/>
            <p:nvPr/>
          </p:nvSpPr>
          <p:spPr>
            <a:xfrm rot="20009400">
              <a:off x="7250040" y="2344320"/>
              <a:ext cx="1152720" cy="3167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46000">
              <a:off x="6516360" y="2565000"/>
              <a:ext cx="1582560" cy="2954520"/>
            </a:xfrm>
            <a:prstGeom prst="triangle">
              <a:avLst>
                <a:gd name="adj" fmla="val 30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43640" y="472428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04000" y="328428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51560" y="5041800"/>
              <a:ext cx="2578320" cy="406440"/>
            </a:xfrm>
            <a:custGeom>
              <a:avLst/>
              <a:gdLst/>
              <a:ahLst/>
              <a:rect l="l" t="t" r="r" b="b"/>
              <a:pathLst>
                <a:path w="1624" h="256">
                  <a:moveTo>
                    <a:pt x="0" y="256"/>
                  </a:moveTo>
                  <a:lnTo>
                    <a:pt x="16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732720" y="4005000"/>
              <a:ext cx="1295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50920" y="4653000"/>
            <a:ext cx="3097080" cy="1877760"/>
            <a:chOff x="250920" y="4653000"/>
            <a:chExt cx="3097080" cy="1877760"/>
          </a:xfrm>
        </p:grpSpPr>
        <p:sp>
          <p:nvSpPr>
            <p:cNvPr id="170" name=""/>
            <p:cNvSpPr/>
            <p:nvPr/>
          </p:nvSpPr>
          <p:spPr>
            <a:xfrm>
              <a:off x="250920" y="4653000"/>
              <a:ext cx="3097080" cy="1871640"/>
            </a:xfrm>
            <a:prstGeom prst="triangle">
              <a:avLst>
                <a:gd name="adj" fmla="val 7181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6360" y="5445000"/>
              <a:ext cx="187164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442000">
              <a:off x="2916000" y="6021000"/>
              <a:ext cx="152280" cy="26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273800">
              <a:off x="2771640" y="6237360"/>
              <a:ext cx="1476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698920" y="4006800"/>
            <a:ext cx="1440" cy="25416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028800">
            <a:off x="6513120" y="436680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</a:rPr>
              <a:t>м е д  и  а  н 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762200">
            <a:off x="1520640" y="56386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85800"/>
            <a:ext cx="76201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пендикуляр, проведенный из вершины тре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прямой, содержащей противоположную сторон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160" y="1676520"/>
            <a:ext cx="10645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960" y="616572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708360" y="3357720"/>
            <a:ext cx="2519280" cy="2492280"/>
            <a:chOff x="3708360" y="3357720"/>
            <a:chExt cx="2519280" cy="2492280"/>
          </a:xfrm>
        </p:grpSpPr>
        <p:sp>
          <p:nvSpPr>
            <p:cNvPr id="181" name=""/>
            <p:cNvSpPr/>
            <p:nvPr/>
          </p:nvSpPr>
          <p:spPr>
            <a:xfrm>
              <a:off x="3708360" y="3357720"/>
              <a:ext cx="2519280" cy="249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932360" y="4076640"/>
              <a:ext cx="115236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rot="20322000">
            <a:off x="4755960" y="39715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р а д и у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26480" y="2286000"/>
            <a:ext cx="49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Щёлкни мышкой по чертежу, где ты нашел вы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30226 -0.08449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37680" y="160020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600200"/>
            <a:ext cx="2098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228600"/>
            <a:ext cx="71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каком отрезке это определение. а) Щёлкни мышкой по названию.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3068640"/>
            <a:ext cx="1584360" cy="504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609480"/>
            <a:ext cx="633888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резок, соединяющий вершину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серединой противоположной сторон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03640" y="2696400"/>
            <a:ext cx="3896280" cy="3828240"/>
            <a:chOff x="5003640" y="2696400"/>
            <a:chExt cx="3896280" cy="3828240"/>
          </a:xfrm>
        </p:grpSpPr>
        <p:sp>
          <p:nvSpPr>
            <p:cNvPr id="192" name=""/>
            <p:cNvSpPr/>
            <p:nvPr/>
          </p:nvSpPr>
          <p:spPr>
            <a:xfrm rot="19945800">
              <a:off x="6660720" y="2846520"/>
              <a:ext cx="1511280" cy="351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870000">
              <a:off x="5354280" y="3139920"/>
              <a:ext cx="2611440" cy="3095640"/>
            </a:xfrm>
            <a:prstGeom prst="triangle">
              <a:avLst>
                <a:gd name="adj" fmla="val 31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92720" y="508464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5867280" y="393192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5805360"/>
              <a:ext cx="388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724000" y="4508640"/>
              <a:ext cx="1800360" cy="20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68360" y="4869000"/>
            <a:ext cx="3887640" cy="1584360"/>
            <a:chOff x="468360" y="4869000"/>
            <a:chExt cx="3887640" cy="1584360"/>
          </a:xfrm>
        </p:grpSpPr>
        <p:sp>
          <p:nvSpPr>
            <p:cNvPr id="199" name=""/>
            <p:cNvSpPr/>
            <p:nvPr/>
          </p:nvSpPr>
          <p:spPr>
            <a:xfrm>
              <a:off x="468360" y="4869000"/>
              <a:ext cx="3887640" cy="1584360"/>
            </a:xfrm>
            <a:prstGeom prst="triangle">
              <a:avLst>
                <a:gd name="adj" fmla="val 70231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916360" y="4869000"/>
              <a:ext cx="287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746400">
              <a:off x="3204360" y="5080320"/>
              <a:ext cx="142920" cy="28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7952600">
              <a:off x="2920320" y="5019840"/>
              <a:ext cx="1303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8360" y="3116520"/>
            <a:ext cx="3743280" cy="2353320"/>
            <a:chOff x="468360" y="3116520"/>
            <a:chExt cx="3743280" cy="2353320"/>
          </a:xfrm>
        </p:grpSpPr>
        <p:sp>
          <p:nvSpPr>
            <p:cNvPr id="204" name=""/>
            <p:cNvSpPr/>
            <p:nvPr/>
          </p:nvSpPr>
          <p:spPr>
            <a:xfrm>
              <a:off x="3564000" y="314172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9288000">
              <a:off x="539640" y="3789000"/>
              <a:ext cx="3384720" cy="1008000"/>
            </a:xfrm>
            <a:prstGeom prst="triangle">
              <a:avLst>
                <a:gd name="adj" fmla="val 31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68360" y="4437000"/>
              <a:ext cx="3743280" cy="14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64000" y="4221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0000" y="422100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rot="2898600">
            <a:off x="5362920" y="5223240"/>
            <a:ext cx="27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м    е   д    и   а    н   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891200">
            <a:off x="2154240" y="5519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06760" y="3048120"/>
            <a:ext cx="3682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57040" y="1600200"/>
            <a:ext cx="12733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98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7240" y="24382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45360" y="2209680"/>
            <a:ext cx="50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Щёлкни мышкой по чертежу, где ты нашел меди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17919E-006 L 0.29028 -0.11283 E">
                                      <p:cBhvr>
                                        <p:cTn id="3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64040" y="189000"/>
            <a:ext cx="3077280" cy="2115360"/>
            <a:chOff x="464040" y="189000"/>
            <a:chExt cx="3077280" cy="2115360"/>
          </a:xfrm>
        </p:grpSpPr>
        <p:sp>
          <p:nvSpPr>
            <p:cNvPr id="217" name=""/>
            <p:cNvSpPr/>
            <p:nvPr/>
          </p:nvSpPr>
          <p:spPr>
            <a:xfrm>
              <a:off x="755640" y="189000"/>
              <a:ext cx="2592360" cy="2087640"/>
            </a:xfrm>
            <a:prstGeom prst="triangle">
              <a:avLst>
                <a:gd name="adj" fmla="val 855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916000" y="692280"/>
              <a:ext cx="215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132000" y="1700280"/>
              <a:ext cx="216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4040" y="1844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3000" y="98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8360" y="4653000"/>
            <a:ext cx="2735280" cy="1728720"/>
          </a:xfrm>
          <a:prstGeom prst="triangle">
            <a:avLst>
              <a:gd name="adj" fmla="val 6815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601600">
            <a:off x="1173960" y="2095920"/>
            <a:ext cx="2230560" cy="3168720"/>
          </a:xfrm>
          <a:prstGeom prst="triangle">
            <a:avLst>
              <a:gd name="adj" fmla="val 7609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55640" y="1267920"/>
            <a:ext cx="244800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4653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124000" y="61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6165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9418800">
            <a:off x="899280" y="4437000"/>
            <a:ext cx="1573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7066200">
            <a:off x="721440" y="4255200"/>
            <a:ext cx="14436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11280" y="3284280"/>
            <a:ext cx="143964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67520" y="33336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называется отрезок А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4560" y="98100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28280" y="148428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3120" y="191628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221200">
            <a:off x="1125000" y="1371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м е д и а 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98560" y="494172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560" y="292428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29920" y="342900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6840" y="537372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2920" y="386064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27120" y="580536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978600">
            <a:off x="582120" y="36032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2360" y="4797360"/>
            <a:ext cx="36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35680" y="4437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9320" y="4581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0640" y="29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1500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4360" y="3141720"/>
            <a:ext cx="6048360" cy="2374920"/>
          </a:xfrm>
          <a:prstGeom prst="triangle">
            <a:avLst>
              <a:gd name="adj" fmla="val 29815"/>
            </a:avLst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84360" y="3141720"/>
            <a:ext cx="503280" cy="2374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84360" y="4365360"/>
            <a:ext cx="395892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115640" y="2492280"/>
            <a:ext cx="1368360" cy="649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4360" y="2923920"/>
            <a:ext cx="1295280" cy="2592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8920" y="27813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2997360"/>
            <a:ext cx="288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3432800">
            <a:off x="2626920" y="328392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7086800">
            <a:off x="2311200" y="338580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419280" y="357336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435640" y="465300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54640" y="2421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54960" y="54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6800" y="2708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112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0200" y="5516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24920" y="4005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8600" y="152280"/>
            <a:ext cx="83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рисунке построены высота, биссектриса, ме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Щелкни мышкой на ответ, который ты считаешь верны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9720" y="1125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61480" y="2708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080" y="1052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8160" y="3357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79240" y="16286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2000" y="14479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74160" y="148428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43240" y="162864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5240" y="335772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94520" y="14842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8880" y="1628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30160" y="33577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675400">
            <a:off x="758520" y="47239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  е  д  и  а  н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4603800">
            <a:off x="1953360" y="434340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 и с с е к т р и с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7882400">
            <a:off x="-16560" y="390924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В   Ы   С   О   Т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630800" y="2793240"/>
            <a:ext cx="2365920" cy="1249200"/>
            <a:chOff x="1630800" y="2793240"/>
            <a:chExt cx="2365920" cy="1249200"/>
          </a:xfrm>
        </p:grpSpPr>
        <p:sp>
          <p:nvSpPr>
            <p:cNvPr id="285" name=""/>
            <p:cNvSpPr/>
            <p:nvPr/>
          </p:nvSpPr>
          <p:spPr>
            <a:xfrm rot="21420000">
              <a:off x="2795760" y="2823480"/>
              <a:ext cx="1185120" cy="636480"/>
            </a:xfrm>
            <a:custGeom>
              <a:avLst/>
              <a:gdLst/>
              <a:ahLst/>
              <a:rect l="l" t="t" r="r" b="b"/>
              <a:pathLst>
                <a:path w="667" h="394">
                  <a:moveTo>
                    <a:pt x="485" y="356"/>
                  </a:moveTo>
                  <a:lnTo>
                    <a:pt x="667" y="0"/>
                  </a:lnTo>
                  <a:lnTo>
                    <a:pt x="235" y="46"/>
                  </a:lnTo>
                  <a:lnTo>
                    <a:pt x="190" y="46"/>
                  </a:lnTo>
                  <a:lnTo>
                    <a:pt x="0" y="394"/>
                  </a:lnTo>
                  <a:lnTo>
                    <a:pt x="485" y="35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30000">
              <a:off x="1633320" y="3400560"/>
              <a:ext cx="1185120" cy="636480"/>
            </a:xfrm>
            <a:custGeom>
              <a:avLst/>
              <a:gdLst/>
              <a:ahLst/>
              <a:rect l="l" t="t" r="r" b="b"/>
              <a:pathLst>
                <a:path w="667" h="394">
                  <a:moveTo>
                    <a:pt x="485" y="356"/>
                  </a:moveTo>
                  <a:lnTo>
                    <a:pt x="667" y="0"/>
                  </a:lnTo>
                  <a:lnTo>
                    <a:pt x="235" y="46"/>
                  </a:lnTo>
                  <a:lnTo>
                    <a:pt x="190" y="46"/>
                  </a:lnTo>
                  <a:lnTo>
                    <a:pt x="0" y="394"/>
                  </a:lnTo>
                  <a:lnTo>
                    <a:pt x="485" y="356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394000" y="2935440"/>
            <a:ext cx="822240" cy="1022040"/>
            <a:chOff x="2394000" y="2935440"/>
            <a:chExt cx="822240" cy="1022040"/>
          </a:xfrm>
        </p:grpSpPr>
        <p:sp>
          <p:nvSpPr>
            <p:cNvPr id="288" name=""/>
            <p:cNvSpPr/>
            <p:nvPr/>
          </p:nvSpPr>
          <p:spPr>
            <a:xfrm>
              <a:off x="2514600" y="3405240"/>
              <a:ext cx="701640" cy="552240"/>
            </a:xfrm>
            <a:custGeom>
              <a:avLst/>
              <a:gdLst/>
              <a:ahLst/>
              <a:rect l="l" t="t" r="r" b="b"/>
              <a:pathLst>
                <a:path w="442" h="348">
                  <a:moveTo>
                    <a:pt x="442" y="317"/>
                  </a:moveTo>
                  <a:lnTo>
                    <a:pt x="0" y="348"/>
                  </a:lnTo>
                  <a:lnTo>
                    <a:pt x="212" y="0"/>
                  </a:lnTo>
                  <a:lnTo>
                    <a:pt x="442" y="31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94000" y="2935440"/>
              <a:ext cx="698400" cy="446040"/>
            </a:xfrm>
            <a:custGeom>
              <a:avLst/>
              <a:gdLst/>
              <a:ahLst/>
              <a:rect l="l" t="t" r="r" b="b"/>
              <a:pathLst>
                <a:path w="440" h="281">
                  <a:moveTo>
                    <a:pt x="0" y="38"/>
                  </a:moveTo>
                  <a:lnTo>
                    <a:pt x="440" y="0"/>
                  </a:lnTo>
                  <a:lnTo>
                    <a:pt x="273" y="281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059280" y="285264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303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айди пары накрест лежащих углов и щелкн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042920" y="2724120"/>
            <a:ext cx="3800520" cy="41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3957480"/>
            <a:ext cx="35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45880" y="1857240"/>
            <a:ext cx="1731960" cy="28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86320" y="2444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27560" y="3668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26560" y="1579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192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1228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9000" y="29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7736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6464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9300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3264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75240" y="21337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240" y="30686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98880" y="126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75240" y="40766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03960" y="126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71960" y="21337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16320" y="52293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43240" y="30686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71960" y="40053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75240" y="53006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7440" y="90792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4360" y="184464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9080" y="270828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94520" y="90792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Односторонни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20360" y="4941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97080" y="1916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4520" y="278136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Односторонни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1080" y="3860640"/>
            <a:ext cx="20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Соответствен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4200" y="573408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Тренировочны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8317080" y="609300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3981"/>
                </a:moveTo>
                <a:lnTo>
                  <a:pt x="17806" y="10987"/>
                </a:lnTo>
                <a:lnTo>
                  <a:pt x="3794" y="17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04-24T15:25:03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