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D38B-C011-46F9-9CC2-903139BE72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вопрос и ответ на задачу, необходимо щёлкнуть мышкой по пустому месту слайда; для визуализации подсказки нажмите на кнопку столько раз, сколько указано в скобк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вопрос и ответ на задачу, необходимо щёлкнуть мышкой по пустому месту слайда; для визуализации подсказки нажмите на кнопку столько раз, сколько указано в скобк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вопрос и ответ на задачу, необходимо щёлкнуть мышкой по пустому месту слайда; для визуализации подсказки нажмите на кнопку столько раз, сколько указано в скобк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вопрос и ответ на задачу, необходимо щёлкнуть мышкой по пустому месту слайда; для визуализации подсказки нажмите на кнопку столько раз, сколько указано в скобк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вопрос и ответ на задачу, необходимо щёлкнуть мышкой по пустому месту слайда; для визуализации подсказки нажмите на кнопку столько раз, сколько указано в скобк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вопрос и ответ на задачу, необходимо щёлкнуть мышкой по пустому месту слайда; для визуализации подсказки нажмите на кнопку столько раз, сколько указано в скобк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вопрос и ответ на задачу, необходимо щёлкнуть мышкой по пустому месту слайда; для визуализации подсказки нажмите на кнопку столько раз, сколько указано в скобк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вопрос и ответ на задачу, необходимо щёлкнуть мышкой по пустому месту слайда; для визуализации подсказки нажмите на кнопку столько раз, сколько указано в скобк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вопрос и ответ на задачу, необходимо щёлкнуть мышкой по пустому месту слайда; для визуализации подсказки нажмите на кнопку столько раз, сколько указано в скобк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вопрос и ответ на задачу, необходимо щёлкнуть мышкой по пустому месту слайда; для визуализации подсказки нажмите на кнопку столько раз, сколько указано в скобк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вопрос и ответ на задачу, необходимо щёлкнуть мышкой по пустому месту слайда; для визуализации подсказки нажмите на кнопку столько раз, сколько указано в скобк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вопрос и ответ на задачу, необходимо щёлкнуть мышкой по пустому месту слайда; для визуализации подсказки нажмите на кнопку столько раз, сколько указано в скобк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вопрос и ответ на задачу, необходимо щёлкнуть мышкой по пустому месту слайда; для визуализации подсказки нажмите на кнопку столько раз, сколько указано в скобк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вопрос и ответ на задачу, необходимо щёлкнуть мышкой по пустому месту слайда; для визуализации подсказки нажмите на кнопку столько раз, сколько указано в скобк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вопрос и ответ на задачу, необходимо щёлкнуть мышкой по пустому месту слайда; для визуализации подсказки нажмите на кнопку столько раз, сколько указано в скобк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вопрос и ответ на задачу, необходимо щёлкнуть мышкой по пустому месту слайда; для визуализации подсказки нажмите на кнопку столько раз, сколько указано в скобк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вопрос и ответ на задачу, необходимо щёлкнуть мышкой по пустому месту слайда; для визуализации подсказки нажмите на кнопку столько раз, сколько указано в скобк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вопрос и ответ на задачу, необходимо щёлкнуть мышкой по пустому месту слайда; для визуализации подсказки нажмите на кнопку столько раз, сколько указано в скобк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вопрос и ответ на задачу, необходимо щёлкнуть мышкой по пустому месту слайда; для визуализации подсказки нажмите на кнопку столько раз, сколько указано в скобк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вопрос и ответ на задачу, необходимо щёлкнуть мышкой по пустому месту слайда; для визуализации подсказки нажмите на кнопку столько раз, сколько указано в скобк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вопрос и ответ на задачу, необходимо щёлкнуть мышкой по пустому месту слайда; для визуализации подсказки нажмите на кнопку столько раз, сколько указано в скобк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вопрос и ответ на задачу, необходимо щёлкнуть мышкой по пустому месту слайда; для визуализации подсказки нажмите на кнопку столько раз, сколько указано в скобк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вопрос и ответ на задачу, необходимо щёлкнуть мышкой по пустому месту слайда; для визуализации подсказки нажмите на кнопку столько раз, сколько указано в скобк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вопрос и ответ на задачу, необходимо щёлкнуть мышкой по пустому месту слайда; для визуализации подсказки нажмите на кнопку столько раз, сколько указано в скобк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вопрос и ответ на задачу, необходимо щёлкнуть мышкой по пустому месту слайда; для визуализации подсказки нажмите на кнопку столько раз, сколько указано в скобк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вопрос и ответ на задачу, необходимо щёлкнуть мышкой по пустому месту слайда; для визуализации подсказки нажмите на кнопку столько раз, сколько указано в скобк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вопрос и ответ на задачу, необходимо щёлкнуть мышкой по пустому месту слайда; для визуализации подсказки нажмите на кнопку столько раз, сколько указано в скобк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вопрос и ответ на задачу, необходимо щёлкнуть мышкой по пустому месту слайда; для визуализации подсказки нажмите на кнопку столько раз, сколько указано в скобк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вопрос и ответ на задачу, необходимо щёлкнуть мышкой по пустому месту слайда; для визуализации подсказки нажмите на кнопку столько раз, сколько указано в скобк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вопрос и ответ на задачу, необходимо щёлкнуть мышкой по пустому месту слайда; для визуализации подсказки нажмите на кнопку столько раз, сколько указано в скобк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вопрос и ответ на задачу, необходимо щёлкнуть мышкой по пустому месту слайда; для визуализации подсказки нажмите на кнопку столько раз, сколько указано в скобк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вопрос и ответ на задачу, необходимо щёлкнуть мышкой по пустому месту слайда; для визуализации подсказки нажмите на кнопку столько раз, сколько указано в скобк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вопрос и ответ на задачу, необходимо щёлкнуть мышкой по пустому месту слайда; для визуализации подсказки нажмите на кнопку столько раз, сколько указано в скобк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вопрос и ответ на задачу, необходимо щёлкнуть мышкой по пустому месту слайда; для визуализации подсказки нажмите на кнопку столько раз, сколько указано в скобк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вопрос и ответ на задачу, необходимо щёлкнуть мышкой по пустому месту слайда; для визуализации подсказки нажмите на кнопку столько раз, сколько указано в скобк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вопрос и ответ на задачу, необходимо щёлкнуть мышкой по пустому месту слайда; для визуализации подсказки нажмите на кнопку столько раз, сколько указано в скобк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689A-2696-4EEA-9958-71DA454EB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39FB-0771-4020-952D-B561BFB2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1EE6-DDEE-4371-B3F2-13CA186ED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4DB0-5944-4D37-94CD-4BFE7C4DD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8F13-B3C9-4004-B66A-2A67FC2F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FBA1-0AE8-46B9-8AFF-4E74CC97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6403-248C-460B-8444-C6E95647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4B70-50DB-4F57-8C2F-B561B6E0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7E98-455B-4C0F-9684-10CA4806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B9D4-DE60-460B-8B5C-8C2D68E5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6701-601E-4514-B1AE-62BB711C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7F61-25B0-4B09-AC54-C2B578C2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B684-5245-429C-9D56-E68B76493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11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athgia.ru:8080/or/gia12/Main.html?view=Pos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58920" y="189000"/>
            <a:ext cx="6553080" cy="1512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ГИА - 201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58920" y="1846440"/>
            <a:ext cx="6553080" cy="1512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Открытый банк зад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по математи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58920" y="3502080"/>
            <a:ext cx="6553080" cy="1512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дача №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58920" y="5200560"/>
            <a:ext cx="655308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3716280"/>
            <a:ext cx="254304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195640" y="260280"/>
            <a:ext cx="676908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рямоугольном треугольни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потенуза равна 1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один из острых углов равен 6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те площадь треуголь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9280" y="260280"/>
            <a:ext cx="187164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6984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16360" y="1989000"/>
            <a:ext cx="396108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 (3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219640" y="2565360"/>
                <a:ext cx="280836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С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A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">
            <a:hlinkClick r:id="rId2" action="ppaction://hlinksldjump"/>
          </p:cNvPr>
          <p:cNvSpPr/>
          <p:nvPr/>
        </p:nvSpPr>
        <p:spPr>
          <a:xfrm>
            <a:off x="8496360" y="6391440"/>
            <a:ext cx="647640" cy="466560"/>
          </a:xfrm>
          <a:custGeom>
            <a:avLst/>
            <a:gdLst>
              <a:gd name="textAreaLeft" fmla="*/ 30240 w 647640"/>
              <a:gd name="textAreaRight" fmla="*/ 617400 w 64764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29977" h="21600">
                <a:moveTo>
                  <a:pt x="0" y="0"/>
                </a:moveTo>
                <a:lnTo>
                  <a:pt x="29977" y="0"/>
                </a:lnTo>
                <a:lnTo>
                  <a:pt x="29977" y="21600"/>
                </a:lnTo>
                <a:lnTo>
                  <a:pt x="0" y="21600"/>
                </a:lnTo>
                <a:close/>
              </a:path>
              <a:path fill="lightenLess" w="29977" h="21600">
                <a:moveTo>
                  <a:pt x="0" y="0"/>
                </a:moveTo>
                <a:lnTo>
                  <a:pt x="29977" y="0"/>
                </a:lnTo>
                <a:lnTo>
                  <a:pt x="28577" y="1400"/>
                </a:lnTo>
                <a:lnTo>
                  <a:pt x="1400" y="1400"/>
                </a:lnTo>
                <a:close/>
              </a:path>
              <a:path fill="darken" w="29977" h="21600">
                <a:moveTo>
                  <a:pt x="29977" y="0"/>
                </a:moveTo>
                <a:lnTo>
                  <a:pt x="29977" y="21600"/>
                </a:lnTo>
                <a:lnTo>
                  <a:pt x="28577" y="20200"/>
                </a:lnTo>
                <a:lnTo>
                  <a:pt x="28577" y="1400"/>
                </a:lnTo>
                <a:close/>
              </a:path>
              <a:path fill="darkenLess" w="29977" h="21600">
                <a:moveTo>
                  <a:pt x="29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77" y="20200"/>
                </a:lnTo>
                <a:close/>
              </a:path>
              <a:path fill="lighten" w="29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77" h="21600">
                <a:moveTo>
                  <a:pt x="11490" y="10800"/>
                </a:moveTo>
                <a:lnTo>
                  <a:pt x="21995" y="3794"/>
                </a:lnTo>
                <a:lnTo>
                  <a:pt x="21995" y="17806"/>
                </a:lnTo>
                <a:close/>
              </a:path>
              <a:path fill="darken" w="29977" h="21600">
                <a:moveTo>
                  <a:pt x="7982" y="3794"/>
                </a:moveTo>
                <a:lnTo>
                  <a:pt x="9644" y="3794"/>
                </a:lnTo>
                <a:lnTo>
                  <a:pt x="9644" y="17806"/>
                </a:lnTo>
                <a:lnTo>
                  <a:pt x="7982" y="1780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42920" y="2133720"/>
            <a:ext cx="3097440" cy="4032000"/>
          </a:xfrm>
          <a:prstGeom prst="rtTriangle">
            <a:avLst/>
          </a:prstGeom>
          <a:blipFill rotWithShape="0">
            <a:blip r:embed="rId3">
              <a:alphaModFix amt="99000"/>
            </a:blip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3080" y="1916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26160" y="6165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1440" y="6021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42920" y="5734080"/>
            <a:ext cx="432000" cy="411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05080" y="436572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S-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58160" y="3789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819200">
            <a:off x="3340080" y="5513040"/>
            <a:ext cx="293760" cy="5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594" y="1361"/>
                  <a:pt x="7587" y="5080"/>
                  <a:pt x="7587" y="10800"/>
                </a:cubicBezTo>
                <a:cubicBezTo>
                  <a:pt x="7587" y="16520"/>
                  <a:pt x="14594" y="2023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852280" y="537372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42920" y="2133720"/>
            <a:ext cx="3097440" cy="4032000"/>
          </a:xfrm>
          <a:prstGeom prst="rtTriangl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292720" y="5661000"/>
            <a:ext cx="280836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6254640" y="5661000"/>
                <a:ext cx="8143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487760" y="3500280"/>
                <a:ext cx="239400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8377560" y="364500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24840" y="3932280"/>
            <a:ext cx="976320" cy="216000"/>
          </a:xfrm>
          <a:prstGeom prst="rightArrow">
            <a:avLst>
              <a:gd name="adj1" fmla="val 50000"/>
              <a:gd name="adj2" fmla="val 113000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4468680" y="4510080"/>
                <a:ext cx="242892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8376120" y="465444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В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23040" y="4941720"/>
            <a:ext cx="976320" cy="216000"/>
          </a:xfrm>
          <a:prstGeom prst="rightArrow">
            <a:avLst>
              <a:gd name="adj1" fmla="val 50000"/>
              <a:gd name="adj2" fmla="val 113000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463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195640" y="260280"/>
            <a:ext cx="676908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орона равностороннего треугольн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вна 10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6984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981440" y="1844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00" y="537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997440" y="5300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755640" y="5877000"/>
                <a:ext cx="27367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А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4859280" y="4913280"/>
                <a:ext cx="3600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Н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ВН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508720" y="3860640"/>
                <a:ext cx="21128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В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В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5003640" y="2637000"/>
                <a:ext cx="3248280" cy="12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A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757800" y="3500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8360" y="2349360"/>
            <a:ext cx="3527280" cy="3024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efefe"/>
              </a:gs>
              <a:gs pos="50000">
                <a:srgbClr val="00fff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8360" y="2322360"/>
            <a:ext cx="3527280" cy="3051360"/>
          </a:xfrm>
          <a:prstGeom prst="triangle">
            <a:avLst>
              <a:gd name="adj" fmla="val 50000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16360" y="1989000"/>
            <a:ext cx="396108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 (4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92720" y="5661000"/>
            <a:ext cx="280836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65440" y="393372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S-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222640" y="2336760"/>
            <a:ext cx="1440" cy="3035520"/>
          </a:xfrm>
          <a:custGeom>
            <a:avLst/>
            <a:gdLst/>
            <a:ahLst/>
            <a:rect l="l" t="t" r="r" b="b"/>
            <a:pathLst>
              <a:path w="1" h="1912">
                <a:moveTo>
                  <a:pt x="0" y="0"/>
                </a:moveTo>
                <a:lnTo>
                  <a:pt x="0" y="1912"/>
                </a:lnTo>
              </a:path>
            </a:pathLst>
          </a:custGeom>
          <a:noFill/>
          <a:ln w="3492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980720" y="5373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35240" y="5003640"/>
            <a:ext cx="253800" cy="343080"/>
          </a:xfrm>
          <a:custGeom>
            <a:avLst/>
            <a:gdLst/>
            <a:ahLst/>
            <a:rect l="l" t="t" r="r" b="b"/>
            <a:pathLst>
              <a:path w="160" h="216">
                <a:moveTo>
                  <a:pt x="0" y="0"/>
                </a:moveTo>
                <a:lnTo>
                  <a:pt x="160" y="0"/>
                </a:lnTo>
                <a:lnTo>
                  <a:pt x="160" y="216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6084720" y="5805360"/>
                <a:ext cx="115272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7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528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747 -0.13657 E">
                                      <p:cBhvr>
                                        <p:cTn id="537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195640" y="260280"/>
            <a:ext cx="676908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иметр равностороннего треугольн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вен 30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6984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81440" y="1844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800" y="537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97440" y="5300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116000" y="5759280"/>
                <a:ext cx="21607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АВС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5148360" y="5024520"/>
                <a:ext cx="29527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Н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ВН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2286000" y="4917960"/>
                <a:ext cx="3808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508720" y="4005360"/>
                <a:ext cx="21128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В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В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219640" y="2565360"/>
                <a:ext cx="280836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A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468360" y="2349360"/>
            <a:ext cx="3527280" cy="3024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efefe"/>
              </a:gs>
              <a:gs pos="50000">
                <a:srgbClr val="00fff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8360" y="2322360"/>
            <a:ext cx="3527280" cy="3051360"/>
          </a:xfrm>
          <a:prstGeom prst="triangle">
            <a:avLst>
              <a:gd name="adj" fmla="val 50000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16360" y="1989000"/>
            <a:ext cx="396108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 (3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292720" y="5661000"/>
            <a:ext cx="280836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765440" y="393372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S-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22640" y="2336760"/>
            <a:ext cx="1440" cy="3035520"/>
          </a:xfrm>
          <a:custGeom>
            <a:avLst/>
            <a:gdLst/>
            <a:ahLst/>
            <a:rect l="l" t="t" r="r" b="b"/>
            <a:pathLst>
              <a:path w="1" h="1912">
                <a:moveTo>
                  <a:pt x="0" y="0"/>
                </a:moveTo>
                <a:lnTo>
                  <a:pt x="0" y="1912"/>
                </a:lnTo>
              </a:path>
            </a:pathLst>
          </a:custGeom>
          <a:noFill/>
          <a:ln w="3492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980720" y="5373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235240" y="5003640"/>
            <a:ext cx="253800" cy="343080"/>
          </a:xfrm>
          <a:custGeom>
            <a:avLst/>
            <a:gdLst/>
            <a:ahLst/>
            <a:rect l="l" t="t" r="r" b="b"/>
            <a:pathLst>
              <a:path w="160" h="216">
                <a:moveTo>
                  <a:pt x="0" y="0"/>
                </a:moveTo>
                <a:lnTo>
                  <a:pt x="160" y="0"/>
                </a:lnTo>
                <a:lnTo>
                  <a:pt x="160" y="216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5219640" y="3573360"/>
                <a:ext cx="273708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А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6084720" y="5805360"/>
                <a:ext cx="115272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5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596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747 -0.13657 E">
                                      <p:cBhvr>
                                        <p:cTn id="611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2000"/>
                            </p:stCondLst>
                            <p:childTnLst>
                              <p:par>
                                <p:cTn id="6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3000"/>
                            </p:stCondLst>
                            <p:childTnLst>
                              <p:par>
                                <p:cTn id="62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4000"/>
                            </p:stCondLst>
                            <p:childTnLst>
                              <p:par>
                                <p:cTn id="63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195640" y="260280"/>
            <a:ext cx="676908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сота равностороннего треугольн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вна 10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6984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440" y="1844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81080" y="5300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97440" y="5300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1241280" y="5851440"/>
                <a:ext cx="19083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Н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5221440" y="5100480"/>
                <a:ext cx="295272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Н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ВН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286000" y="4917960"/>
                <a:ext cx="3808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5869080" y="4103640"/>
                <a:ext cx="16063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В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5364000" y="2565360"/>
                <a:ext cx="280836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A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6" name="">
            <a:hlinkClick r:id="rId2" action="ppaction://hlinksldjump"/>
          </p:cNvPr>
          <p:cNvSpPr/>
          <p:nvPr/>
        </p:nvSpPr>
        <p:spPr>
          <a:xfrm>
            <a:off x="8496360" y="6391440"/>
            <a:ext cx="647640" cy="466560"/>
          </a:xfrm>
          <a:custGeom>
            <a:avLst/>
            <a:gdLst>
              <a:gd name="textAreaLeft" fmla="*/ 30240 w 647640"/>
              <a:gd name="textAreaRight" fmla="*/ 617400 w 64764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29977" h="21600">
                <a:moveTo>
                  <a:pt x="0" y="0"/>
                </a:moveTo>
                <a:lnTo>
                  <a:pt x="29977" y="0"/>
                </a:lnTo>
                <a:lnTo>
                  <a:pt x="29977" y="21600"/>
                </a:lnTo>
                <a:lnTo>
                  <a:pt x="0" y="21600"/>
                </a:lnTo>
                <a:close/>
              </a:path>
              <a:path fill="lightenLess" w="29977" h="21600">
                <a:moveTo>
                  <a:pt x="0" y="0"/>
                </a:moveTo>
                <a:lnTo>
                  <a:pt x="29977" y="0"/>
                </a:lnTo>
                <a:lnTo>
                  <a:pt x="28577" y="1400"/>
                </a:lnTo>
                <a:lnTo>
                  <a:pt x="1400" y="1400"/>
                </a:lnTo>
                <a:close/>
              </a:path>
              <a:path fill="darken" w="29977" h="21600">
                <a:moveTo>
                  <a:pt x="29977" y="0"/>
                </a:moveTo>
                <a:lnTo>
                  <a:pt x="29977" y="21600"/>
                </a:lnTo>
                <a:lnTo>
                  <a:pt x="28577" y="20200"/>
                </a:lnTo>
                <a:lnTo>
                  <a:pt x="28577" y="1400"/>
                </a:lnTo>
                <a:close/>
              </a:path>
              <a:path fill="darkenLess" w="29977" h="21600">
                <a:moveTo>
                  <a:pt x="29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77" y="20200"/>
                </a:lnTo>
                <a:close/>
              </a:path>
              <a:path fill="lighten" w="29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77" h="21600">
                <a:moveTo>
                  <a:pt x="11490" y="10800"/>
                </a:moveTo>
                <a:lnTo>
                  <a:pt x="21995" y="3794"/>
                </a:lnTo>
                <a:lnTo>
                  <a:pt x="21995" y="17806"/>
                </a:lnTo>
                <a:close/>
              </a:path>
              <a:path fill="darken" w="29977" h="21600">
                <a:moveTo>
                  <a:pt x="7982" y="3794"/>
                </a:moveTo>
                <a:lnTo>
                  <a:pt x="9644" y="3794"/>
                </a:lnTo>
                <a:lnTo>
                  <a:pt x="9644" y="17806"/>
                </a:lnTo>
                <a:lnTo>
                  <a:pt x="7982" y="1780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68360" y="2349360"/>
            <a:ext cx="3527280" cy="3024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efefe"/>
              </a:gs>
              <a:gs pos="50000">
                <a:srgbClr val="00fff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68360" y="2322360"/>
            <a:ext cx="3527280" cy="3051360"/>
          </a:xfrm>
          <a:prstGeom prst="triangle">
            <a:avLst>
              <a:gd name="adj" fmla="val 50000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716360" y="1989000"/>
            <a:ext cx="396108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 (3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292720" y="5661000"/>
            <a:ext cx="280836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765440" y="393372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S-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222640" y="2336760"/>
            <a:ext cx="1440" cy="3035520"/>
          </a:xfrm>
          <a:custGeom>
            <a:avLst/>
            <a:gdLst/>
            <a:ahLst/>
            <a:rect l="l" t="t" r="r" b="b"/>
            <a:pathLst>
              <a:path w="1" h="1912">
                <a:moveTo>
                  <a:pt x="0" y="0"/>
                </a:moveTo>
                <a:lnTo>
                  <a:pt x="0" y="1912"/>
                </a:lnTo>
              </a:path>
            </a:pathLst>
          </a:custGeom>
          <a:noFill/>
          <a:ln w="3492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80720" y="5373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235240" y="5003640"/>
            <a:ext cx="253800" cy="343080"/>
          </a:xfrm>
          <a:custGeom>
            <a:avLst/>
            <a:gdLst/>
            <a:ahLst/>
            <a:rect l="l" t="t" r="r" b="b"/>
            <a:pathLst>
              <a:path w="160" h="216">
                <a:moveTo>
                  <a:pt x="0" y="0"/>
                </a:moveTo>
                <a:lnTo>
                  <a:pt x="160" y="0"/>
                </a:lnTo>
                <a:lnTo>
                  <a:pt x="160" y="216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5292720" y="3645000"/>
                <a:ext cx="31687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6227640" y="5661000"/>
                <a:ext cx="8114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2197800" y="3645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0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7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668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747 -0.13657 E">
                                      <p:cBhvr>
                                        <p:cTn id="683" dur="2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000"/>
                            </p:stCondLst>
                            <p:childTnLst>
                              <p:par>
                                <p:cTn id="68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3000"/>
                            </p:stCondLst>
                            <p:childTnLst>
                              <p:par>
                                <p:cTn id="69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195640" y="260280"/>
            <a:ext cx="676908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равнобедренном треугольнике бок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орона равна 10, а угол, лежащ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против основания равен 1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те площадь треуголь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698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544840" y="2562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800" y="537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005440" y="537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1979640" y="5877000"/>
                <a:ext cx="17812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5219640" y="4508640"/>
                <a:ext cx="295272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Н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ВН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822400" y="4927680"/>
                <a:ext cx="3812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284720" y="3645000"/>
                <a:ext cx="13111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АВН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5292720" y="2565360"/>
                <a:ext cx="280836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A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250920" y="2997360"/>
            <a:ext cx="5041800" cy="2376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efefe"/>
              </a:gs>
              <a:gs pos="50000">
                <a:srgbClr val="ff00f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50920" y="2997360"/>
            <a:ext cx="5041800" cy="2376360"/>
          </a:xfrm>
          <a:prstGeom prst="triangle">
            <a:avLst>
              <a:gd name="adj" fmla="val 50000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16360" y="1989000"/>
            <a:ext cx="396108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 (4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92720" y="5661000"/>
            <a:ext cx="280836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333440" y="436572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S-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759040" y="2997360"/>
            <a:ext cx="9720" cy="2384280"/>
          </a:xfrm>
          <a:custGeom>
            <a:avLst/>
            <a:gdLst/>
            <a:ahLst/>
            <a:rect l="l" t="t" r="r" b="b"/>
            <a:pathLst>
              <a:path w="6" h="1502">
                <a:moveTo>
                  <a:pt x="6" y="0"/>
                </a:moveTo>
                <a:lnTo>
                  <a:pt x="0" y="1502"/>
                </a:lnTo>
              </a:path>
            </a:pathLst>
          </a:custGeom>
          <a:noFill/>
          <a:ln w="3492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557080" y="5373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1640" y="5013360"/>
            <a:ext cx="254160" cy="342720"/>
          </a:xfrm>
          <a:custGeom>
            <a:avLst/>
            <a:gdLst/>
            <a:ahLst/>
            <a:rect l="l" t="t" r="r" b="b"/>
            <a:pathLst>
              <a:path w="160" h="216">
                <a:moveTo>
                  <a:pt x="0" y="0"/>
                </a:moveTo>
                <a:lnTo>
                  <a:pt x="160" y="0"/>
                </a:lnTo>
                <a:lnTo>
                  <a:pt x="160" y="216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5686560" y="3645000"/>
                <a:ext cx="34574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Н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А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5940360" y="5600880"/>
                <a:ext cx="151128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973800" y="3716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2624760" y="3143520"/>
            <a:ext cx="29340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594" y="1361"/>
                  <a:pt x="7587" y="5080"/>
                  <a:pt x="7587" y="10800"/>
                </a:cubicBezTo>
                <a:cubicBezTo>
                  <a:pt x="7587" y="16520"/>
                  <a:pt x="14594" y="2023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81360" y="357336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7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728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000"/>
                            </p:stCondLst>
                            <p:childTnLst>
                              <p:par>
                                <p:cTn id="75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195640" y="260280"/>
            <a:ext cx="676908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иметр равнобедренного треугольн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вен 16, а боковая сторона — 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те площадь треугольник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6985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544840" y="2562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800" y="537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005440" y="537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2149560" y="5877000"/>
                <a:ext cx="144144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5508720" y="5013360"/>
                <a:ext cx="295272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Н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ВН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2822400" y="4927680"/>
                <a:ext cx="3812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5292720" y="2565360"/>
                <a:ext cx="280836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A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250920" y="2997360"/>
            <a:ext cx="5041800" cy="2376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efefe"/>
              </a:gs>
              <a:gs pos="50000">
                <a:srgbClr val="ff00f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0920" y="2997360"/>
            <a:ext cx="5041800" cy="2376360"/>
          </a:xfrm>
          <a:prstGeom prst="triangle">
            <a:avLst>
              <a:gd name="adj" fmla="val 50000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716360" y="1989000"/>
            <a:ext cx="396108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 (4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292720" y="5661000"/>
            <a:ext cx="280836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333440" y="436572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S-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759040" y="2997360"/>
            <a:ext cx="9720" cy="2384280"/>
          </a:xfrm>
          <a:custGeom>
            <a:avLst/>
            <a:gdLst/>
            <a:ahLst/>
            <a:rect l="l" t="t" r="r" b="b"/>
            <a:pathLst>
              <a:path w="6" h="1502">
                <a:moveTo>
                  <a:pt x="6" y="0"/>
                </a:moveTo>
                <a:lnTo>
                  <a:pt x="0" y="1502"/>
                </a:lnTo>
              </a:path>
            </a:pathLst>
          </a:custGeom>
          <a:noFill/>
          <a:ln w="3492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557080" y="5373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771640" y="5013360"/>
            <a:ext cx="254160" cy="342720"/>
          </a:xfrm>
          <a:custGeom>
            <a:avLst/>
            <a:gdLst/>
            <a:ahLst/>
            <a:rect l="l" t="t" r="r" b="b"/>
            <a:pathLst>
              <a:path w="160" h="216">
                <a:moveTo>
                  <a:pt x="0" y="0"/>
                </a:moveTo>
                <a:lnTo>
                  <a:pt x="160" y="0"/>
                </a:lnTo>
                <a:lnTo>
                  <a:pt x="160" y="216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5164200" y="4437000"/>
                <a:ext cx="37321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Н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ВН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6342120" y="5726160"/>
                <a:ext cx="70632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" name=""/>
          <p:cNvSpPr/>
          <p:nvPr/>
        </p:nvSpPr>
        <p:spPr>
          <a:xfrm>
            <a:off x="973440" y="3716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4211640" y="3573360"/>
                <a:ext cx="31147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А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>
            <a:off x="7380360" y="3716280"/>
            <a:ext cx="976320" cy="216000"/>
          </a:xfrm>
          <a:prstGeom prst="rightArrow">
            <a:avLst>
              <a:gd name="adj1" fmla="val 50000"/>
              <a:gd name="adj2" fmla="val 113000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377560" y="350028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В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4427640" y="4076640"/>
                <a:ext cx="13111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АВН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0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9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800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000"/>
                            </p:stCondLst>
                            <p:childTnLst>
                              <p:par>
                                <p:cTn id="8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2000"/>
                            </p:stCondLst>
                            <p:childTnLst>
                              <p:par>
                                <p:cTn id="8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6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2195640" y="260280"/>
            <a:ext cx="676908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иметр равнобедренного треугольн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вен 16, а основание — 6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те площадь треугольник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6985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544840" y="2562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800" y="537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005440" y="537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3132000" y="5877000"/>
                <a:ext cx="14414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5508720" y="5013360"/>
                <a:ext cx="295272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Н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ВН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2822400" y="4927680"/>
                <a:ext cx="3812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5292720" y="2565360"/>
                <a:ext cx="280836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A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4" name=""/>
          <p:cNvSpPr/>
          <p:nvPr/>
        </p:nvSpPr>
        <p:spPr>
          <a:xfrm>
            <a:off x="250920" y="2997360"/>
            <a:ext cx="5041800" cy="2376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efefe"/>
              </a:gs>
              <a:gs pos="50000">
                <a:srgbClr val="ff00f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50920" y="2997360"/>
            <a:ext cx="5041800" cy="2376360"/>
          </a:xfrm>
          <a:prstGeom prst="triangle">
            <a:avLst>
              <a:gd name="adj" fmla="val 50000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716360" y="1989000"/>
            <a:ext cx="396108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 (4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92720" y="5661000"/>
            <a:ext cx="280836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333440" y="436572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S-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759040" y="2997360"/>
            <a:ext cx="9720" cy="2384280"/>
          </a:xfrm>
          <a:custGeom>
            <a:avLst/>
            <a:gdLst/>
            <a:ahLst/>
            <a:rect l="l" t="t" r="r" b="b"/>
            <a:pathLst>
              <a:path w="6" h="1502">
                <a:moveTo>
                  <a:pt x="6" y="0"/>
                </a:moveTo>
                <a:lnTo>
                  <a:pt x="0" y="1502"/>
                </a:lnTo>
              </a:path>
            </a:pathLst>
          </a:custGeom>
          <a:noFill/>
          <a:ln w="3492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557080" y="5373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771640" y="5013360"/>
            <a:ext cx="254160" cy="342720"/>
          </a:xfrm>
          <a:custGeom>
            <a:avLst/>
            <a:gdLst/>
            <a:ahLst/>
            <a:rect l="l" t="t" r="r" b="b"/>
            <a:pathLst>
              <a:path w="160" h="216">
                <a:moveTo>
                  <a:pt x="0" y="0"/>
                </a:moveTo>
                <a:lnTo>
                  <a:pt x="160" y="0"/>
                </a:lnTo>
                <a:lnTo>
                  <a:pt x="160" y="216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5164200" y="4437000"/>
                <a:ext cx="37321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Н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ВН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6342120" y="5726160"/>
                <a:ext cx="70632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4211640" y="3573360"/>
                <a:ext cx="31147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А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7380360" y="3716280"/>
            <a:ext cx="976320" cy="216000"/>
          </a:xfrm>
          <a:prstGeom prst="rightArrow">
            <a:avLst>
              <a:gd name="adj1" fmla="val 50000"/>
              <a:gd name="adj2" fmla="val 113000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377920" y="350028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4427640" y="4076640"/>
                <a:ext cx="13111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АВН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1335240" y="5877000"/>
                <a:ext cx="12888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0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1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882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2195640" y="260280"/>
            <a:ext cx="676908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равнобедренном треугольнике боков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орона равна 10, основание —               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угол, лежащий напротив основ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вен 13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Найдите площадь треуголь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698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544840" y="2562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800" y="537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005440" y="537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1258920" y="5516640"/>
                <a:ext cx="288144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4670280" y="2565360"/>
                <a:ext cx="405288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А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AС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∠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6" name=""/>
          <p:cNvSpPr/>
          <p:nvPr/>
        </p:nvSpPr>
        <p:spPr>
          <a:xfrm>
            <a:off x="8496360" y="6391440"/>
            <a:ext cx="647640" cy="466560"/>
          </a:xfrm>
          <a:custGeom>
            <a:avLst/>
            <a:gdLst>
              <a:gd name="textAreaLeft" fmla="*/ 30240 w 647640"/>
              <a:gd name="textAreaRight" fmla="*/ 617400 w 64764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29977" h="21600">
                <a:moveTo>
                  <a:pt x="0" y="0"/>
                </a:moveTo>
                <a:lnTo>
                  <a:pt x="29977" y="0"/>
                </a:lnTo>
                <a:lnTo>
                  <a:pt x="29977" y="21600"/>
                </a:lnTo>
                <a:lnTo>
                  <a:pt x="0" y="21600"/>
                </a:lnTo>
                <a:close/>
              </a:path>
              <a:path fill="lightenLess" w="29977" h="21600">
                <a:moveTo>
                  <a:pt x="0" y="0"/>
                </a:moveTo>
                <a:lnTo>
                  <a:pt x="29977" y="0"/>
                </a:lnTo>
                <a:lnTo>
                  <a:pt x="28577" y="1400"/>
                </a:lnTo>
                <a:lnTo>
                  <a:pt x="1400" y="1400"/>
                </a:lnTo>
                <a:close/>
              </a:path>
              <a:path fill="darken" w="29977" h="21600">
                <a:moveTo>
                  <a:pt x="29977" y="0"/>
                </a:moveTo>
                <a:lnTo>
                  <a:pt x="29977" y="21600"/>
                </a:lnTo>
                <a:lnTo>
                  <a:pt x="28577" y="20200"/>
                </a:lnTo>
                <a:lnTo>
                  <a:pt x="28577" y="1400"/>
                </a:lnTo>
                <a:close/>
              </a:path>
              <a:path fill="darkenLess" w="29977" h="21600">
                <a:moveTo>
                  <a:pt x="29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77" y="20200"/>
                </a:lnTo>
                <a:close/>
              </a:path>
              <a:path fill="lighten" w="29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77" h="21600">
                <a:moveTo>
                  <a:pt x="11490" y="10800"/>
                </a:moveTo>
                <a:lnTo>
                  <a:pt x="21995" y="3794"/>
                </a:lnTo>
                <a:lnTo>
                  <a:pt x="21995" y="17806"/>
                </a:lnTo>
                <a:close/>
              </a:path>
              <a:path fill="darken" w="29977" h="21600">
                <a:moveTo>
                  <a:pt x="7982" y="3794"/>
                </a:moveTo>
                <a:lnTo>
                  <a:pt x="9644" y="3794"/>
                </a:lnTo>
                <a:lnTo>
                  <a:pt x="9644" y="17806"/>
                </a:lnTo>
                <a:lnTo>
                  <a:pt x="7982" y="1780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50920" y="2997360"/>
            <a:ext cx="5041800" cy="2376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efefe"/>
              </a:gs>
              <a:gs pos="50000">
                <a:srgbClr val="ff00f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50920" y="2997360"/>
            <a:ext cx="5041800" cy="2376360"/>
          </a:xfrm>
          <a:prstGeom prst="triangle">
            <a:avLst>
              <a:gd name="adj" fmla="val 50000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716360" y="1989000"/>
            <a:ext cx="396108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 (2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364000" y="5589720"/>
            <a:ext cx="280836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333440" y="436572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S-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3995640" y="3500280"/>
                <a:ext cx="51483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7093080" y="549360"/>
                <a:ext cx="136836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 rot="16200000">
            <a:off x="2624760" y="3143520"/>
            <a:ext cx="29340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594" y="1361"/>
                  <a:pt x="7587" y="5080"/>
                  <a:pt x="7587" y="10800"/>
                </a:cubicBezTo>
                <a:cubicBezTo>
                  <a:pt x="7587" y="16520"/>
                  <a:pt x="14594" y="2023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781360" y="357336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973800" y="3716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6012000" y="5589720"/>
                <a:ext cx="151128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0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3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964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1000"/>
                            </p:stCondLst>
                            <p:childTnLst>
                              <p:par>
                                <p:cTn id="97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2" dur="1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4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2050920" y="260280"/>
            <a:ext cx="691380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треугольнике одна из сторон равна 1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ругая равна         , а угол меж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ми равен 6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те площадь треугольник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33800" y="4941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891240" y="220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800" y="2492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738160" y="364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4572000" y="3144960"/>
                <a:ext cx="424800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∠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5003640" y="620640"/>
                <a:ext cx="73188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95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6985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33360" y="2654280"/>
            <a:ext cx="4073400" cy="2438280"/>
          </a:xfrm>
          <a:custGeom>
            <a:avLst/>
            <a:gdLst/>
            <a:ahLst/>
            <a:rect l="l" t="t" r="r" b="b"/>
            <a:pathLst>
              <a:path w="2566" h="1536">
                <a:moveTo>
                  <a:pt x="2566" y="0"/>
                </a:moveTo>
                <a:lnTo>
                  <a:pt x="0" y="178"/>
                </a:lnTo>
                <a:lnTo>
                  <a:pt x="1870" y="1536"/>
                </a:lnTo>
                <a:lnTo>
                  <a:pt x="2550" y="16"/>
                </a:lnTo>
              </a:path>
            </a:pathLst>
          </a:custGeom>
          <a:noFill/>
          <a:ln w="54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69800" y="2708280"/>
            <a:ext cx="3846600" cy="2308320"/>
          </a:xfrm>
          <a:custGeom>
            <a:avLst/>
            <a:gdLst/>
            <a:ahLst/>
            <a:rect l="l" t="t" r="r" b="b"/>
            <a:pathLst>
              <a:path w="2423" h="1454">
                <a:moveTo>
                  <a:pt x="0" y="174"/>
                </a:moveTo>
                <a:lnTo>
                  <a:pt x="1776" y="1454"/>
                </a:lnTo>
                <a:lnTo>
                  <a:pt x="2423" y="0"/>
                </a:ln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747240" y="3718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865080" y="3860640"/>
                <a:ext cx="79056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5292720" y="5661000"/>
            <a:ext cx="280836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4485600">
            <a:off x="2984040" y="4295520"/>
            <a:ext cx="293760" cy="5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594" y="1361"/>
                  <a:pt x="7587" y="5080"/>
                  <a:pt x="7587" y="10800"/>
                </a:cubicBezTo>
                <a:cubicBezTo>
                  <a:pt x="7587" y="16520"/>
                  <a:pt x="14594" y="2023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530080" y="4005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658880" y="292572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S-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716360" y="1989000"/>
            <a:ext cx="396108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301800" y="57340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0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5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3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1014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2050920" y="260280"/>
            <a:ext cx="691380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треугольнике одна из сторон равна 1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ругая равна 12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косинус угла между ними равен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те площадь треугольник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133800" y="4941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891240" y="220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800" y="2492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2864400">
            <a:off x="3051000" y="4196160"/>
            <a:ext cx="287280" cy="62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738160" y="364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4500720" y="2924280"/>
                <a:ext cx="424800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∠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4572000" y="4149720"/>
                <a:ext cx="42004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7451640" y="836640"/>
                <a:ext cx="6825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5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698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33360" y="2633760"/>
            <a:ext cx="4013280" cy="2387520"/>
          </a:xfrm>
          <a:custGeom>
            <a:avLst/>
            <a:gdLst/>
            <a:ahLst/>
            <a:rect l="l" t="t" r="r" b="b"/>
            <a:pathLst>
              <a:path w="2528" h="1504">
                <a:moveTo>
                  <a:pt x="2528" y="0"/>
                </a:moveTo>
                <a:lnTo>
                  <a:pt x="0" y="192"/>
                </a:lnTo>
                <a:lnTo>
                  <a:pt x="1816" y="1504"/>
                </a:lnTo>
                <a:lnTo>
                  <a:pt x="2512" y="3"/>
                </a:lnTo>
              </a:path>
            </a:pathLst>
          </a:custGeom>
          <a:noFill/>
          <a:ln w="54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09680" y="2671920"/>
            <a:ext cx="3848040" cy="2298600"/>
          </a:xfrm>
          <a:custGeom>
            <a:avLst/>
            <a:gdLst/>
            <a:ahLst/>
            <a:rect l="l" t="t" r="r" b="b"/>
            <a:pathLst>
              <a:path w="2424" h="1448">
                <a:moveTo>
                  <a:pt x="0" y="184"/>
                </a:moveTo>
                <a:lnTo>
                  <a:pt x="1760" y="1448"/>
                </a:lnTo>
                <a:lnTo>
                  <a:pt x="2424" y="0"/>
                </a:ln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747240" y="3718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292720" y="5661000"/>
            <a:ext cx="280836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4485600">
            <a:off x="2949120" y="4224240"/>
            <a:ext cx="293760" cy="5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594" y="1361"/>
                  <a:pt x="7587" y="5080"/>
                  <a:pt x="7587" y="10800"/>
                </a:cubicBezTo>
                <a:cubicBezTo>
                  <a:pt x="7587" y="16520"/>
                  <a:pt x="14594" y="2023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658880" y="292572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S-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716360" y="1989000"/>
            <a:ext cx="396108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 (2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334160" y="3933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73440" y="57340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0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1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1052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1187280" y="1989000"/>
            <a:ext cx="6696360" cy="430200"/>
          </a:xfrm>
          <a:custGeom>
            <a:avLst/>
            <a:gdLst>
              <a:gd name="textAreaLeft" fmla="*/ 27720 w 6696360"/>
              <a:gd name="textAreaRight" fmla="*/ 6668640 w 669636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335956" h="21600">
                <a:moveTo>
                  <a:pt x="0" y="0"/>
                </a:moveTo>
                <a:lnTo>
                  <a:pt x="335956" y="0"/>
                </a:lnTo>
                <a:lnTo>
                  <a:pt x="335956" y="21600"/>
                </a:lnTo>
                <a:lnTo>
                  <a:pt x="0" y="21600"/>
                </a:lnTo>
                <a:close/>
              </a:path>
              <a:path fill="lightenLess" w="335956" h="21600">
                <a:moveTo>
                  <a:pt x="0" y="0"/>
                </a:moveTo>
                <a:lnTo>
                  <a:pt x="335956" y="0"/>
                </a:lnTo>
                <a:lnTo>
                  <a:pt x="334556" y="1400"/>
                </a:lnTo>
                <a:lnTo>
                  <a:pt x="1400" y="1400"/>
                </a:lnTo>
                <a:close/>
              </a:path>
              <a:path fill="darken" w="335956" h="21600">
                <a:moveTo>
                  <a:pt x="335956" y="0"/>
                </a:moveTo>
                <a:lnTo>
                  <a:pt x="335956" y="21600"/>
                </a:lnTo>
                <a:lnTo>
                  <a:pt x="334556" y="20200"/>
                </a:lnTo>
                <a:lnTo>
                  <a:pt x="334556" y="1400"/>
                </a:lnTo>
                <a:close/>
              </a:path>
              <a:path fill="darkenLess" w="335956" h="21600">
                <a:moveTo>
                  <a:pt x="3359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556" y="20200"/>
                </a:lnTo>
                <a:close/>
              </a:path>
              <a:path fill="lighten" w="3359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ямоугольный треуголь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1187280" y="2490840"/>
            <a:ext cx="6696360" cy="431640"/>
          </a:xfrm>
          <a:custGeom>
            <a:avLst/>
            <a:gdLst>
              <a:gd name="textAreaLeft" fmla="*/ 27720 w 6696360"/>
              <a:gd name="textAreaRight" fmla="*/ 6668640 w 669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34836" h="21600">
                <a:moveTo>
                  <a:pt x="0" y="0"/>
                </a:moveTo>
                <a:lnTo>
                  <a:pt x="334836" y="0"/>
                </a:lnTo>
                <a:lnTo>
                  <a:pt x="334836" y="21600"/>
                </a:lnTo>
                <a:lnTo>
                  <a:pt x="0" y="21600"/>
                </a:lnTo>
                <a:close/>
              </a:path>
              <a:path fill="lightenLess" w="334836" h="21600">
                <a:moveTo>
                  <a:pt x="0" y="0"/>
                </a:moveTo>
                <a:lnTo>
                  <a:pt x="334836" y="0"/>
                </a:lnTo>
                <a:lnTo>
                  <a:pt x="333436" y="1400"/>
                </a:lnTo>
                <a:lnTo>
                  <a:pt x="1400" y="1400"/>
                </a:lnTo>
                <a:close/>
              </a:path>
              <a:path fill="darken" w="334836" h="21600">
                <a:moveTo>
                  <a:pt x="334836" y="0"/>
                </a:moveTo>
                <a:lnTo>
                  <a:pt x="334836" y="21600"/>
                </a:lnTo>
                <a:lnTo>
                  <a:pt x="333436" y="20200"/>
                </a:lnTo>
                <a:lnTo>
                  <a:pt x="333436" y="1400"/>
                </a:lnTo>
                <a:close/>
              </a:path>
              <a:path fill="darkenLess" w="334836" h="21600">
                <a:moveTo>
                  <a:pt x="33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436" y="20200"/>
                </a:lnTo>
                <a:close/>
              </a:path>
              <a:path fill="lighten" w="33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вносторонний треуголь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87280" y="4003560"/>
            <a:ext cx="6696360" cy="432000"/>
          </a:xfrm>
          <a:custGeom>
            <a:avLst/>
            <a:gdLst>
              <a:gd name="textAreaLeft" fmla="*/ 27720 w 6696360"/>
              <a:gd name="textAreaRight" fmla="*/ 6668640 w 669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34557" h="21600">
                <a:moveTo>
                  <a:pt x="0" y="0"/>
                </a:moveTo>
                <a:lnTo>
                  <a:pt x="334557" y="0"/>
                </a:lnTo>
                <a:lnTo>
                  <a:pt x="334557" y="21600"/>
                </a:lnTo>
                <a:lnTo>
                  <a:pt x="0" y="21600"/>
                </a:lnTo>
                <a:close/>
              </a:path>
              <a:path fill="lightenLess" w="334557" h="21600">
                <a:moveTo>
                  <a:pt x="0" y="0"/>
                </a:moveTo>
                <a:lnTo>
                  <a:pt x="334557" y="0"/>
                </a:lnTo>
                <a:lnTo>
                  <a:pt x="333157" y="1400"/>
                </a:lnTo>
                <a:lnTo>
                  <a:pt x="1400" y="1400"/>
                </a:lnTo>
                <a:close/>
              </a:path>
              <a:path fill="darken" w="334557" h="21600">
                <a:moveTo>
                  <a:pt x="334557" y="0"/>
                </a:moveTo>
                <a:lnTo>
                  <a:pt x="334557" y="21600"/>
                </a:lnTo>
                <a:lnTo>
                  <a:pt x="333157" y="20200"/>
                </a:lnTo>
                <a:lnTo>
                  <a:pt x="333157" y="1400"/>
                </a:lnTo>
                <a:close/>
              </a:path>
              <a:path fill="darkenLess" w="334557" h="21600">
                <a:moveTo>
                  <a:pt x="3345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157" y="20200"/>
                </a:lnTo>
                <a:close/>
              </a:path>
              <a:path fill="lighten" w="3345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ямоуголь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87280" y="4506840"/>
            <a:ext cx="6696360" cy="433440"/>
          </a:xfrm>
          <a:custGeom>
            <a:avLst/>
            <a:gdLst>
              <a:gd name="textAreaLeft" fmla="*/ 28080 w 6696360"/>
              <a:gd name="textAreaRight" fmla="*/ 6668280 w 669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33447" h="21600">
                <a:moveTo>
                  <a:pt x="0" y="0"/>
                </a:moveTo>
                <a:lnTo>
                  <a:pt x="333447" y="0"/>
                </a:lnTo>
                <a:lnTo>
                  <a:pt x="333447" y="21600"/>
                </a:lnTo>
                <a:lnTo>
                  <a:pt x="0" y="21600"/>
                </a:lnTo>
                <a:close/>
              </a:path>
              <a:path fill="lightenLess" w="333447" h="21600">
                <a:moveTo>
                  <a:pt x="0" y="0"/>
                </a:moveTo>
                <a:lnTo>
                  <a:pt x="333447" y="0"/>
                </a:lnTo>
                <a:lnTo>
                  <a:pt x="332047" y="1400"/>
                </a:lnTo>
                <a:lnTo>
                  <a:pt x="1400" y="1400"/>
                </a:lnTo>
                <a:close/>
              </a:path>
              <a:path fill="darken" w="333447" h="21600">
                <a:moveTo>
                  <a:pt x="333447" y="0"/>
                </a:moveTo>
                <a:lnTo>
                  <a:pt x="333447" y="21600"/>
                </a:lnTo>
                <a:lnTo>
                  <a:pt x="332047" y="20200"/>
                </a:lnTo>
                <a:lnTo>
                  <a:pt x="332047" y="1400"/>
                </a:lnTo>
                <a:close/>
              </a:path>
              <a:path fill="darkenLess" w="333447" h="21600">
                <a:moveTo>
                  <a:pt x="333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2047" y="20200"/>
                </a:lnTo>
                <a:close/>
              </a:path>
              <a:path fill="lighten" w="333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ом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4" action="ppaction://hlinksldjump"/>
          </p:cNvPr>
          <p:cNvSpPr/>
          <p:nvPr/>
        </p:nvSpPr>
        <p:spPr>
          <a:xfrm>
            <a:off x="1187280" y="2995560"/>
            <a:ext cx="6696360" cy="433440"/>
          </a:xfrm>
          <a:custGeom>
            <a:avLst/>
            <a:gdLst>
              <a:gd name="textAreaLeft" fmla="*/ 28080 w 6696360"/>
              <a:gd name="textAreaRight" fmla="*/ 6668280 w 669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33447" h="21600">
                <a:moveTo>
                  <a:pt x="0" y="0"/>
                </a:moveTo>
                <a:lnTo>
                  <a:pt x="333447" y="0"/>
                </a:lnTo>
                <a:lnTo>
                  <a:pt x="333447" y="21600"/>
                </a:lnTo>
                <a:lnTo>
                  <a:pt x="0" y="21600"/>
                </a:lnTo>
                <a:close/>
              </a:path>
              <a:path fill="lightenLess" w="333447" h="21600">
                <a:moveTo>
                  <a:pt x="0" y="0"/>
                </a:moveTo>
                <a:lnTo>
                  <a:pt x="333447" y="0"/>
                </a:lnTo>
                <a:lnTo>
                  <a:pt x="332047" y="1400"/>
                </a:lnTo>
                <a:lnTo>
                  <a:pt x="1400" y="1400"/>
                </a:lnTo>
                <a:close/>
              </a:path>
              <a:path fill="darken" w="333447" h="21600">
                <a:moveTo>
                  <a:pt x="333447" y="0"/>
                </a:moveTo>
                <a:lnTo>
                  <a:pt x="333447" y="21600"/>
                </a:lnTo>
                <a:lnTo>
                  <a:pt x="332047" y="20200"/>
                </a:lnTo>
                <a:lnTo>
                  <a:pt x="332047" y="1400"/>
                </a:lnTo>
                <a:close/>
              </a:path>
              <a:path fill="darkenLess" w="333447" h="21600">
                <a:moveTo>
                  <a:pt x="333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2047" y="20200"/>
                </a:lnTo>
                <a:close/>
              </a:path>
              <a:path fill="lighten" w="333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внобедренный треуголь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87280" y="3498840"/>
            <a:ext cx="6696360" cy="431640"/>
          </a:xfrm>
          <a:custGeom>
            <a:avLst/>
            <a:gdLst>
              <a:gd name="textAreaLeft" fmla="*/ 27720 w 6696360"/>
              <a:gd name="textAreaRight" fmla="*/ 6668640 w 669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34836" h="21600">
                <a:moveTo>
                  <a:pt x="0" y="0"/>
                </a:moveTo>
                <a:lnTo>
                  <a:pt x="334836" y="0"/>
                </a:lnTo>
                <a:lnTo>
                  <a:pt x="334836" y="21600"/>
                </a:lnTo>
                <a:lnTo>
                  <a:pt x="0" y="21600"/>
                </a:lnTo>
                <a:close/>
              </a:path>
              <a:path fill="lightenLess" w="334836" h="21600">
                <a:moveTo>
                  <a:pt x="0" y="0"/>
                </a:moveTo>
                <a:lnTo>
                  <a:pt x="334836" y="0"/>
                </a:lnTo>
                <a:lnTo>
                  <a:pt x="333436" y="1400"/>
                </a:lnTo>
                <a:lnTo>
                  <a:pt x="1400" y="1400"/>
                </a:lnTo>
                <a:close/>
              </a:path>
              <a:path fill="darken" w="334836" h="21600">
                <a:moveTo>
                  <a:pt x="334836" y="0"/>
                </a:moveTo>
                <a:lnTo>
                  <a:pt x="334836" y="21600"/>
                </a:lnTo>
                <a:lnTo>
                  <a:pt x="333436" y="20200"/>
                </a:lnTo>
                <a:lnTo>
                  <a:pt x="333436" y="1400"/>
                </a:lnTo>
                <a:close/>
              </a:path>
              <a:path fill="darkenLess" w="334836" h="21600">
                <a:moveTo>
                  <a:pt x="33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436" y="20200"/>
                </a:lnTo>
                <a:close/>
              </a:path>
              <a:path fill="lighten" w="33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извольный треуголь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5011560"/>
            <a:ext cx="6696360" cy="432000"/>
          </a:xfrm>
          <a:custGeom>
            <a:avLst/>
            <a:gdLst>
              <a:gd name="textAreaLeft" fmla="*/ 27720 w 6696360"/>
              <a:gd name="textAreaRight" fmla="*/ 6668640 w 669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34557" h="21600">
                <a:moveTo>
                  <a:pt x="0" y="0"/>
                </a:moveTo>
                <a:lnTo>
                  <a:pt x="334557" y="0"/>
                </a:lnTo>
                <a:lnTo>
                  <a:pt x="334557" y="21600"/>
                </a:lnTo>
                <a:lnTo>
                  <a:pt x="0" y="21600"/>
                </a:lnTo>
                <a:close/>
              </a:path>
              <a:path fill="lightenLess" w="334557" h="21600">
                <a:moveTo>
                  <a:pt x="0" y="0"/>
                </a:moveTo>
                <a:lnTo>
                  <a:pt x="334557" y="0"/>
                </a:lnTo>
                <a:lnTo>
                  <a:pt x="333157" y="1400"/>
                </a:lnTo>
                <a:lnTo>
                  <a:pt x="1400" y="1400"/>
                </a:lnTo>
                <a:close/>
              </a:path>
              <a:path fill="darken" w="334557" h="21600">
                <a:moveTo>
                  <a:pt x="334557" y="0"/>
                </a:moveTo>
                <a:lnTo>
                  <a:pt x="334557" y="21600"/>
                </a:lnTo>
                <a:lnTo>
                  <a:pt x="333157" y="20200"/>
                </a:lnTo>
                <a:lnTo>
                  <a:pt x="333157" y="1400"/>
                </a:lnTo>
                <a:close/>
              </a:path>
              <a:path fill="darkenLess" w="334557" h="21600">
                <a:moveTo>
                  <a:pt x="3345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157" y="20200"/>
                </a:lnTo>
                <a:close/>
              </a:path>
              <a:path fill="lighten" w="3345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раллелогра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7280" y="5514840"/>
            <a:ext cx="6696360" cy="433440"/>
          </a:xfrm>
          <a:custGeom>
            <a:avLst/>
            <a:gdLst>
              <a:gd name="textAreaLeft" fmla="*/ 28080 w 6696360"/>
              <a:gd name="textAreaRight" fmla="*/ 6668280 w 669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33447" h="21600">
                <a:moveTo>
                  <a:pt x="0" y="0"/>
                </a:moveTo>
                <a:lnTo>
                  <a:pt x="333447" y="0"/>
                </a:lnTo>
                <a:lnTo>
                  <a:pt x="333447" y="21600"/>
                </a:lnTo>
                <a:lnTo>
                  <a:pt x="0" y="21600"/>
                </a:lnTo>
                <a:close/>
              </a:path>
              <a:path fill="lightenLess" w="333447" h="21600">
                <a:moveTo>
                  <a:pt x="0" y="0"/>
                </a:moveTo>
                <a:lnTo>
                  <a:pt x="333447" y="0"/>
                </a:lnTo>
                <a:lnTo>
                  <a:pt x="332047" y="1400"/>
                </a:lnTo>
                <a:lnTo>
                  <a:pt x="1400" y="1400"/>
                </a:lnTo>
                <a:close/>
              </a:path>
              <a:path fill="darken" w="333447" h="21600">
                <a:moveTo>
                  <a:pt x="333447" y="0"/>
                </a:moveTo>
                <a:lnTo>
                  <a:pt x="333447" y="21600"/>
                </a:lnTo>
                <a:lnTo>
                  <a:pt x="332047" y="20200"/>
                </a:lnTo>
                <a:lnTo>
                  <a:pt x="332047" y="1400"/>
                </a:lnTo>
                <a:close/>
              </a:path>
              <a:path fill="darkenLess" w="333447" h="21600">
                <a:moveTo>
                  <a:pt x="333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2047" y="20200"/>
                </a:lnTo>
                <a:close/>
              </a:path>
              <a:path fill="lighten" w="333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апе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87280" y="6019920"/>
            <a:ext cx="6696360" cy="431640"/>
          </a:xfrm>
          <a:custGeom>
            <a:avLst/>
            <a:gdLst>
              <a:gd name="textAreaLeft" fmla="*/ 27720 w 6696360"/>
              <a:gd name="textAreaRight" fmla="*/ 6668640 w 669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34836" h="21600">
                <a:moveTo>
                  <a:pt x="0" y="0"/>
                </a:moveTo>
                <a:lnTo>
                  <a:pt x="334836" y="0"/>
                </a:lnTo>
                <a:lnTo>
                  <a:pt x="334836" y="21600"/>
                </a:lnTo>
                <a:lnTo>
                  <a:pt x="0" y="21600"/>
                </a:lnTo>
                <a:close/>
              </a:path>
              <a:path fill="lightenLess" w="334836" h="21600">
                <a:moveTo>
                  <a:pt x="0" y="0"/>
                </a:moveTo>
                <a:lnTo>
                  <a:pt x="334836" y="0"/>
                </a:lnTo>
                <a:lnTo>
                  <a:pt x="333436" y="1400"/>
                </a:lnTo>
                <a:lnTo>
                  <a:pt x="1400" y="1400"/>
                </a:lnTo>
                <a:close/>
              </a:path>
              <a:path fill="darken" w="334836" h="21600">
                <a:moveTo>
                  <a:pt x="334836" y="0"/>
                </a:moveTo>
                <a:lnTo>
                  <a:pt x="334836" y="21600"/>
                </a:lnTo>
                <a:lnTo>
                  <a:pt x="333436" y="20200"/>
                </a:lnTo>
                <a:lnTo>
                  <a:pt x="333436" y="1400"/>
                </a:lnTo>
                <a:close/>
              </a:path>
              <a:path fill="darkenLess" w="334836" h="21600">
                <a:moveTo>
                  <a:pt x="33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436" y="20200"/>
                </a:lnTo>
                <a:close/>
              </a:path>
              <a:path fill="lighten" w="33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уг. Круговой сект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260280"/>
            <a:ext cx="871380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ашему вниманию представлены тридцать ше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тотипо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чи № 1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крытого банка заданий по математике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ИА – 20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lastslide"/>
          </p:cNvPr>
          <p:cNvSpPr/>
          <p:nvPr/>
        </p:nvSpPr>
        <p:spPr>
          <a:xfrm>
            <a:off x="8496360" y="6426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19699" y="10800"/>
                </a:moveTo>
                <a:lnTo>
                  <a:pt x="9194" y="17806"/>
                </a:lnTo>
                <a:lnTo>
                  <a:pt x="9194" y="3794"/>
                </a:lnTo>
                <a:close/>
              </a:path>
              <a:path fill="darken" w="32400" h="21600">
                <a:moveTo>
                  <a:pt x="21544" y="3794"/>
                </a:moveTo>
                <a:lnTo>
                  <a:pt x="21544" y="17806"/>
                </a:lnTo>
                <a:lnTo>
                  <a:pt x="23206" y="17806"/>
                </a:lnTo>
                <a:lnTo>
                  <a:pt x="23206" y="3794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2050920" y="260280"/>
            <a:ext cx="691380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треугольнике одна из сторон равна 1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ругая равна 12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тангенс угла между ними равен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те площадь треугольник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133800" y="4941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91240" y="220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00" y="2492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rot="2864400">
            <a:off x="3051000" y="4196160"/>
            <a:ext cx="287280" cy="62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738160" y="364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4500720" y="2637000"/>
                <a:ext cx="424800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∠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4572000" y="4941720"/>
                <a:ext cx="42004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4572000" y="3645000"/>
                <a:ext cx="411336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∠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7380360" y="765000"/>
                <a:ext cx="530280" cy="86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5" name=""/>
          <p:cNvSpPr/>
          <p:nvPr/>
        </p:nvSpPr>
        <p:spPr>
          <a:xfrm>
            <a:off x="8496360" y="6391440"/>
            <a:ext cx="647640" cy="466560"/>
          </a:xfrm>
          <a:custGeom>
            <a:avLst/>
            <a:gdLst>
              <a:gd name="textAreaLeft" fmla="*/ 30240 w 647640"/>
              <a:gd name="textAreaRight" fmla="*/ 617400 w 64764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29977" h="21600">
                <a:moveTo>
                  <a:pt x="0" y="0"/>
                </a:moveTo>
                <a:lnTo>
                  <a:pt x="29977" y="0"/>
                </a:lnTo>
                <a:lnTo>
                  <a:pt x="29977" y="21600"/>
                </a:lnTo>
                <a:lnTo>
                  <a:pt x="0" y="21600"/>
                </a:lnTo>
                <a:close/>
              </a:path>
              <a:path fill="lightenLess" w="29977" h="21600">
                <a:moveTo>
                  <a:pt x="0" y="0"/>
                </a:moveTo>
                <a:lnTo>
                  <a:pt x="29977" y="0"/>
                </a:lnTo>
                <a:lnTo>
                  <a:pt x="28577" y="1400"/>
                </a:lnTo>
                <a:lnTo>
                  <a:pt x="1400" y="1400"/>
                </a:lnTo>
                <a:close/>
              </a:path>
              <a:path fill="darken" w="29977" h="21600">
                <a:moveTo>
                  <a:pt x="29977" y="0"/>
                </a:moveTo>
                <a:lnTo>
                  <a:pt x="29977" y="21600"/>
                </a:lnTo>
                <a:lnTo>
                  <a:pt x="28577" y="20200"/>
                </a:lnTo>
                <a:lnTo>
                  <a:pt x="28577" y="1400"/>
                </a:lnTo>
                <a:close/>
              </a:path>
              <a:path fill="darkenLess" w="29977" h="21600">
                <a:moveTo>
                  <a:pt x="29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77" y="20200"/>
                </a:lnTo>
                <a:close/>
              </a:path>
              <a:path fill="lighten" w="29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77" h="21600">
                <a:moveTo>
                  <a:pt x="11490" y="10800"/>
                </a:moveTo>
                <a:lnTo>
                  <a:pt x="21995" y="3794"/>
                </a:lnTo>
                <a:lnTo>
                  <a:pt x="21995" y="17806"/>
                </a:lnTo>
                <a:close/>
              </a:path>
              <a:path fill="darken" w="29977" h="21600">
                <a:moveTo>
                  <a:pt x="7982" y="3794"/>
                </a:moveTo>
                <a:lnTo>
                  <a:pt x="9644" y="3794"/>
                </a:lnTo>
                <a:lnTo>
                  <a:pt x="9644" y="17806"/>
                </a:lnTo>
                <a:lnTo>
                  <a:pt x="7982" y="1780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6986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33360" y="2633760"/>
            <a:ext cx="4013280" cy="2387520"/>
          </a:xfrm>
          <a:custGeom>
            <a:avLst/>
            <a:gdLst/>
            <a:ahLst/>
            <a:rect l="l" t="t" r="r" b="b"/>
            <a:pathLst>
              <a:path w="2528" h="1504">
                <a:moveTo>
                  <a:pt x="2528" y="0"/>
                </a:moveTo>
                <a:lnTo>
                  <a:pt x="0" y="192"/>
                </a:lnTo>
                <a:lnTo>
                  <a:pt x="1816" y="1504"/>
                </a:lnTo>
                <a:lnTo>
                  <a:pt x="2512" y="3"/>
                </a:lnTo>
              </a:path>
            </a:pathLst>
          </a:custGeom>
          <a:noFill/>
          <a:ln w="54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09680" y="2671920"/>
            <a:ext cx="3848040" cy="2298600"/>
          </a:xfrm>
          <a:custGeom>
            <a:avLst/>
            <a:gdLst/>
            <a:ahLst/>
            <a:rect l="l" t="t" r="r" b="b"/>
            <a:pathLst>
              <a:path w="2424" h="1448">
                <a:moveTo>
                  <a:pt x="0" y="184"/>
                </a:moveTo>
                <a:lnTo>
                  <a:pt x="1760" y="1448"/>
                </a:lnTo>
                <a:lnTo>
                  <a:pt x="2424" y="0"/>
                </a:ln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747240" y="3718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292720" y="5661000"/>
            <a:ext cx="280836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rot="4485600">
            <a:off x="2949120" y="4224240"/>
            <a:ext cx="293760" cy="5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594" y="1361"/>
                  <a:pt x="7587" y="5080"/>
                  <a:pt x="7587" y="10800"/>
                </a:cubicBezTo>
                <a:cubicBezTo>
                  <a:pt x="7587" y="16520"/>
                  <a:pt x="14594" y="2023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658880" y="292572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S-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716360" y="1989000"/>
            <a:ext cx="396108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 (3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334160" y="3933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373440" y="57340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0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2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5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1096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2050920" y="260280"/>
            <a:ext cx="691380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рямоугольнике одна сторона 6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диагональ 1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те площадь прямоугольник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4797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800" y="2637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926160" y="2637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5508720" y="2708280"/>
                <a:ext cx="25923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В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4211640" y="3789360"/>
                <a:ext cx="33130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52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6986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8144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292720" y="5661000"/>
            <a:ext cx="280836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716360" y="1989000"/>
            <a:ext cx="396108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сказка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68360" y="2852640"/>
            <a:ext cx="3456000" cy="2089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efefe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68360" y="2852640"/>
            <a:ext cx="3456000" cy="2089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12720" y="299736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S-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468360" y="2852280"/>
            <a:ext cx="3456000" cy="2089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053440" y="3860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26520" y="472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5003640" y="3284640"/>
                <a:ext cx="12780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АВС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6372360" y="3213000"/>
                <a:ext cx="159516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64" name=""/>
          <p:cNvSpPr/>
          <p:nvPr/>
        </p:nvSpPr>
        <p:spPr>
          <a:xfrm>
            <a:off x="8377560" y="3716280"/>
            <a:ext cx="7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451640" y="4005360"/>
            <a:ext cx="976320" cy="215640"/>
          </a:xfrm>
          <a:prstGeom prst="rightArrow">
            <a:avLst>
              <a:gd name="adj1" fmla="val 50000"/>
              <a:gd name="adj2" fmla="val 113189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373440" y="57340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fill="hold">
                      <p:stCondLst>
                        <p:cond delay="0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2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0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1141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050920" y="260280"/>
            <a:ext cx="691380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рямоугольнике диагональ равна 1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угол между ней и одной из сторон 3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те площадь прямоугольник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4797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800" y="2637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926160" y="2637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611280" y="5300640"/>
                <a:ext cx="25351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ВАС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5508720" y="2708280"/>
                <a:ext cx="25923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В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4427640" y="3573360"/>
                <a:ext cx="233676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А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3708360" y="5013360"/>
                <a:ext cx="367020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75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6986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292720" y="5661000"/>
            <a:ext cx="280836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716360" y="1989000"/>
            <a:ext cx="396108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 (4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68360" y="2852640"/>
            <a:ext cx="3456000" cy="2089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efefe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68360" y="2852640"/>
            <a:ext cx="3456000" cy="2089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628720" y="393372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S-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468360" y="2852280"/>
            <a:ext cx="3456000" cy="2089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053440" y="3860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26520" y="472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4211640" y="3213000"/>
                <a:ext cx="13683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АВС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5557680" y="3179880"/>
                <a:ext cx="322452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А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>
            <a:off x="6804000" y="4076640"/>
            <a:ext cx="976320" cy="216000"/>
          </a:xfrm>
          <a:prstGeom prst="rightArrow">
            <a:avLst>
              <a:gd name="adj1" fmla="val 50000"/>
              <a:gd name="adj2" fmla="val 113000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93360" y="386064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rot="7925400">
            <a:off x="609120" y="4079160"/>
            <a:ext cx="293760" cy="5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594" y="1361"/>
                  <a:pt x="7587" y="5080"/>
                  <a:pt x="7587" y="10800"/>
                </a:cubicBezTo>
                <a:cubicBezTo>
                  <a:pt x="7587" y="16520"/>
                  <a:pt x="14594" y="2023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029800" y="3860640"/>
            <a:ext cx="7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451640" y="5300640"/>
            <a:ext cx="976320" cy="216000"/>
          </a:xfrm>
          <a:prstGeom prst="rightArrow">
            <a:avLst>
              <a:gd name="adj1" fmla="val 50000"/>
              <a:gd name="adj2" fmla="val 113000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377920" y="501336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6012000" y="5661000"/>
                <a:ext cx="14414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0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2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2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0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1201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7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3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2050920" y="260280"/>
            <a:ext cx="691380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рямоугольнике диагональ равна 1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ол между ней и одной из сторон равен 3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ина этой стороны       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те площадь прямоугольник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4797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800" y="2637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926160" y="2637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826920" y="5661000"/>
                <a:ext cx="25750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DA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5796000" y="2852640"/>
                <a:ext cx="206856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1763640" y="4941720"/>
                <a:ext cx="7192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00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698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292720" y="5661000"/>
            <a:ext cx="280836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716360" y="1989000"/>
            <a:ext cx="396108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 (2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68360" y="2852640"/>
            <a:ext cx="3456000" cy="2089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efefe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68360" y="2852640"/>
            <a:ext cx="3456000" cy="2089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57080" y="299736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S-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468360" y="2852280"/>
            <a:ext cx="3456000" cy="2089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910520" y="3357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26520" y="472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4500720" y="3500280"/>
                <a:ext cx="446400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∠</m:t>
                    </m:r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0" name=""/>
          <p:cNvSpPr/>
          <p:nvPr/>
        </p:nvSpPr>
        <p:spPr>
          <a:xfrm>
            <a:off x="1701360" y="429264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rot="9376800">
            <a:off x="1476000" y="4291920"/>
            <a:ext cx="293760" cy="5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594" y="1361"/>
                  <a:pt x="7587" y="5080"/>
                  <a:pt x="7587" y="10800"/>
                </a:cubicBezTo>
                <a:cubicBezTo>
                  <a:pt x="7587" y="16520"/>
                  <a:pt x="14594" y="2023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8496360" y="6391440"/>
            <a:ext cx="647640" cy="466560"/>
          </a:xfrm>
          <a:custGeom>
            <a:avLst/>
            <a:gdLst>
              <a:gd name="textAreaLeft" fmla="*/ 30240 w 647640"/>
              <a:gd name="textAreaRight" fmla="*/ 617400 w 64764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29977" h="21600">
                <a:moveTo>
                  <a:pt x="0" y="0"/>
                </a:moveTo>
                <a:lnTo>
                  <a:pt x="29977" y="0"/>
                </a:lnTo>
                <a:lnTo>
                  <a:pt x="29977" y="21600"/>
                </a:lnTo>
                <a:lnTo>
                  <a:pt x="0" y="21600"/>
                </a:lnTo>
                <a:close/>
              </a:path>
              <a:path fill="lightenLess" w="29977" h="21600">
                <a:moveTo>
                  <a:pt x="0" y="0"/>
                </a:moveTo>
                <a:lnTo>
                  <a:pt x="29977" y="0"/>
                </a:lnTo>
                <a:lnTo>
                  <a:pt x="28577" y="1400"/>
                </a:lnTo>
                <a:lnTo>
                  <a:pt x="1400" y="1400"/>
                </a:lnTo>
                <a:close/>
              </a:path>
              <a:path fill="darken" w="29977" h="21600">
                <a:moveTo>
                  <a:pt x="29977" y="0"/>
                </a:moveTo>
                <a:lnTo>
                  <a:pt x="29977" y="21600"/>
                </a:lnTo>
                <a:lnTo>
                  <a:pt x="28577" y="20200"/>
                </a:lnTo>
                <a:lnTo>
                  <a:pt x="28577" y="1400"/>
                </a:lnTo>
                <a:close/>
              </a:path>
              <a:path fill="darkenLess" w="29977" h="21600">
                <a:moveTo>
                  <a:pt x="29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77" y="20200"/>
                </a:lnTo>
                <a:close/>
              </a:path>
              <a:path fill="lighten" w="29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77" h="21600">
                <a:moveTo>
                  <a:pt x="11490" y="10800"/>
                </a:moveTo>
                <a:lnTo>
                  <a:pt x="21995" y="3794"/>
                </a:lnTo>
                <a:lnTo>
                  <a:pt x="21995" y="17806"/>
                </a:lnTo>
                <a:close/>
              </a:path>
              <a:path fill="darken" w="29977" h="21600">
                <a:moveTo>
                  <a:pt x="7982" y="3794"/>
                </a:moveTo>
                <a:lnTo>
                  <a:pt x="9644" y="3794"/>
                </a:lnTo>
                <a:lnTo>
                  <a:pt x="9644" y="17806"/>
                </a:lnTo>
                <a:lnTo>
                  <a:pt x="7982" y="1780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6443640" y="981000"/>
                <a:ext cx="7207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6012000" y="5734080"/>
                <a:ext cx="12967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fill="hold">
                      <p:stCondLst>
                        <p:cond delay="0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8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3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6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1277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№ 16986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050920" y="260280"/>
            <a:ext cx="691380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орона ромба равна 5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диагональ равна 6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те площадь ромб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621080" y="177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34980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549440" y="6400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26160" y="4221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4716360" y="2495520"/>
                <a:ext cx="280836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ВD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A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4643280" y="3573360"/>
                <a:ext cx="16066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АDH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6300720" y="3500280"/>
                <a:ext cx="187344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Н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5435640" y="4797360"/>
                <a:ext cx="24192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ромб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3708360" y="3933720"/>
                <a:ext cx="394992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Н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26" name=""/>
          <p:cNvSpPr/>
          <p:nvPr/>
        </p:nvSpPr>
        <p:spPr>
          <a:xfrm>
            <a:off x="7667640" y="4149720"/>
            <a:ext cx="797040" cy="270000"/>
          </a:xfrm>
          <a:prstGeom prst="rightArrow">
            <a:avLst>
              <a:gd name="adj1" fmla="val 50000"/>
              <a:gd name="adj2" fmla="val 73800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55640" y="2133720"/>
            <a:ext cx="2592360" cy="4535280"/>
          </a:xfrm>
          <a:prstGeom prst="diamond">
            <a:avLst/>
          </a:prstGeom>
          <a:gradFill rotWithShape="0">
            <a:gsLst>
              <a:gs pos="0">
                <a:srgbClr val="fefefe"/>
              </a:gs>
              <a:gs pos="100000">
                <a:srgbClr val="9ff82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55640" y="2133720"/>
            <a:ext cx="2592360" cy="4535280"/>
          </a:xfrm>
          <a:prstGeom prst="diamond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292720" y="5661000"/>
            <a:ext cx="280836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716360" y="1989000"/>
            <a:ext cx="396108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 (4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62120" y="4406760"/>
            <a:ext cx="2565360" cy="1800"/>
          </a:xfrm>
          <a:custGeom>
            <a:avLst/>
            <a:gdLst/>
            <a:ahLst/>
            <a:rect l="l" t="t" r="r" b="b"/>
            <a:pathLst>
              <a:path w="1616" h="1">
                <a:moveTo>
                  <a:pt x="0" y="0"/>
                </a:moveTo>
                <a:lnTo>
                  <a:pt x="1616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045080" y="29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549440" y="450864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S-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26920" y="2222640"/>
            <a:ext cx="2449800" cy="2144520"/>
          </a:xfrm>
          <a:custGeom>
            <a:avLst/>
            <a:gdLst/>
            <a:ahLst/>
            <a:rect l="l" t="t" r="r" b="b"/>
            <a:pathLst>
              <a:path w="1543" h="1351">
                <a:moveTo>
                  <a:pt x="0" y="1350"/>
                </a:moveTo>
                <a:lnTo>
                  <a:pt x="767" y="0"/>
                </a:lnTo>
                <a:lnTo>
                  <a:pt x="1543" y="1351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621080" y="39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050920" y="2133720"/>
            <a:ext cx="0" cy="2232000"/>
          </a:xfrm>
          <a:prstGeom prst="line">
            <a:avLst/>
          </a:prstGeom>
          <a:ln w="475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836360" y="4365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377560" y="393372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373440" y="57340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9" dur="indefinite" restart="never" nodeType="tmRoot">
          <p:childTnLst>
            <p:seq>
              <p:cTn id="1290" dur="indefinite" nodeType="mainSeq">
                <p:childTnLst>
                  <p:par>
                    <p:cTn id="1291" fill="hold">
                      <p:stCondLst>
                        <p:cond delay="0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7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2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6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1317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1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7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1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3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9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6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0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7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№ 16986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050920" y="260280"/>
            <a:ext cx="691380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иметр ромба равен 4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один из углов равен 3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те площадь ромб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621080" y="177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34980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549440" y="6400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26160" y="4221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4643280" y="3789360"/>
                <a:ext cx="19447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2556000" y="6093000"/>
                <a:ext cx="13777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4356000" y="2492280"/>
                <a:ext cx="455472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В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∠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5580000" y="4581360"/>
                <a:ext cx="24195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ромб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0" name=""/>
          <p:cNvSpPr/>
          <p:nvPr/>
        </p:nvSpPr>
        <p:spPr>
          <a:xfrm>
            <a:off x="6732720" y="3933720"/>
            <a:ext cx="796680" cy="270000"/>
          </a:xfrm>
          <a:prstGeom prst="rightArrow">
            <a:avLst>
              <a:gd name="adj1" fmla="val 50000"/>
              <a:gd name="adj2" fmla="val 73767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55640" y="2133720"/>
            <a:ext cx="2592360" cy="4535280"/>
          </a:xfrm>
          <a:prstGeom prst="diamond">
            <a:avLst/>
          </a:prstGeom>
          <a:gradFill rotWithShape="0">
            <a:gsLst>
              <a:gs pos="0">
                <a:srgbClr val="fefefe"/>
              </a:gs>
              <a:gs pos="100000">
                <a:srgbClr val="9ff82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55640" y="2133720"/>
            <a:ext cx="2592360" cy="4535280"/>
          </a:xfrm>
          <a:prstGeom prst="diamond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292720" y="5661000"/>
            <a:ext cx="280836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716360" y="1989000"/>
            <a:ext cx="396108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 (4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62120" y="4406760"/>
            <a:ext cx="2565360" cy="1800"/>
          </a:xfrm>
          <a:custGeom>
            <a:avLst/>
            <a:gdLst/>
            <a:ahLst/>
            <a:rect l="l" t="t" r="r" b="b"/>
            <a:pathLst>
              <a:path w="1616" h="1">
                <a:moveTo>
                  <a:pt x="0" y="0"/>
                </a:moveTo>
                <a:lnTo>
                  <a:pt x="1616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549440" y="450864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S-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826920" y="2222640"/>
            <a:ext cx="2449800" cy="2144520"/>
          </a:xfrm>
          <a:custGeom>
            <a:avLst/>
            <a:gdLst/>
            <a:ahLst/>
            <a:rect l="l" t="t" r="r" b="b"/>
            <a:pathLst>
              <a:path w="1543" h="1351">
                <a:moveTo>
                  <a:pt x="0" y="1350"/>
                </a:moveTo>
                <a:lnTo>
                  <a:pt x="767" y="0"/>
                </a:lnTo>
                <a:lnTo>
                  <a:pt x="1543" y="1351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773000" y="292428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669800" y="371628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373440" y="57340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rot="16200000">
            <a:off x="1905120" y="2495160"/>
            <a:ext cx="293400" cy="5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594" y="1361"/>
                  <a:pt x="7587" y="5080"/>
                  <a:pt x="7587" y="10800"/>
                </a:cubicBezTo>
                <a:cubicBezTo>
                  <a:pt x="7587" y="16520"/>
                  <a:pt x="14594" y="2023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8" dur="indefinite" restart="never" nodeType="tmRoot">
          <p:childTnLst>
            <p:seq>
              <p:cTn id="1369" dur="indefinite" nodeType="mainSeq">
                <p:childTnLst>
                  <p:par>
                    <p:cTn id="1370" fill="hold">
                      <p:stCondLst>
                        <p:cond delay="0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6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4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6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4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1395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9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6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3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0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№ 16987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050920" y="260280"/>
            <a:ext cx="691380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иметр ромба равен 24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тангенс одного из углов равен     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те площадь ромб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621080" y="177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34980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549440" y="6400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26160" y="4221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2556000" y="6111720"/>
                <a:ext cx="137772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4356000" y="3139920"/>
                <a:ext cx="455472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В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∠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5435640" y="2565360"/>
                <a:ext cx="24192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ромб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1" name=""/>
          <p:cNvSpPr/>
          <p:nvPr/>
        </p:nvSpPr>
        <p:spPr>
          <a:xfrm>
            <a:off x="755640" y="2133720"/>
            <a:ext cx="2592360" cy="4535280"/>
          </a:xfrm>
          <a:prstGeom prst="diamond">
            <a:avLst/>
          </a:prstGeom>
          <a:gradFill rotWithShape="0">
            <a:gsLst>
              <a:gs pos="0">
                <a:srgbClr val="fefefe"/>
              </a:gs>
              <a:gs pos="100000">
                <a:srgbClr val="9ff82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55640" y="2133720"/>
            <a:ext cx="2592360" cy="4535280"/>
          </a:xfrm>
          <a:prstGeom prst="diamond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292720" y="5661000"/>
            <a:ext cx="280836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716360" y="1989000"/>
            <a:ext cx="396108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 (4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62120" y="4406760"/>
            <a:ext cx="2565360" cy="1800"/>
          </a:xfrm>
          <a:custGeom>
            <a:avLst/>
            <a:gdLst/>
            <a:ahLst/>
            <a:rect l="l" t="t" r="r" b="b"/>
            <a:pathLst>
              <a:path w="1616" h="1">
                <a:moveTo>
                  <a:pt x="0" y="0"/>
                </a:moveTo>
                <a:lnTo>
                  <a:pt x="1616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549440" y="450864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S-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26920" y="2205000"/>
            <a:ext cx="2449800" cy="2144880"/>
          </a:xfrm>
          <a:custGeom>
            <a:avLst/>
            <a:gdLst/>
            <a:ahLst/>
            <a:rect l="l" t="t" r="r" b="b"/>
            <a:pathLst>
              <a:path w="1543" h="1351">
                <a:moveTo>
                  <a:pt x="0" y="1350"/>
                </a:moveTo>
                <a:lnTo>
                  <a:pt x="767" y="0"/>
                </a:lnTo>
                <a:lnTo>
                  <a:pt x="1543" y="1351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373440" y="57340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rot="16200000">
            <a:off x="1905120" y="2495160"/>
            <a:ext cx="293400" cy="5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594" y="1361"/>
                  <a:pt x="7587" y="5080"/>
                  <a:pt x="7587" y="10800"/>
                </a:cubicBezTo>
                <a:cubicBezTo>
                  <a:pt x="7587" y="16520"/>
                  <a:pt x="14594" y="2023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7451640" y="476280"/>
                <a:ext cx="6224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4572000" y="5013360"/>
                <a:ext cx="42004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4427640" y="3860640"/>
                <a:ext cx="4113000" cy="125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∠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1" dur="indefinite" restart="never" nodeType="tmRoot">
          <p:childTnLst>
            <p:seq>
              <p:cTn id="1432" dur="indefinite" nodeType="mainSeq">
                <p:childTnLst>
                  <p:par>
                    <p:cTn id="1433" fill="hold">
                      <p:stCondLst>
                        <p:cond delay="0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9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7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9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7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1458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4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8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5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0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6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7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№ 1699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050920" y="260280"/>
            <a:ext cx="691380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ромбе сторона равна 1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на из диагоналей —                  , а уго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жащий напротив этой диагонали, равен 4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те площадь ромб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621080" y="177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34980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549440" y="6400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26160" y="4221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2268360" y="6141960"/>
                <a:ext cx="28623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4356000" y="3933720"/>
                <a:ext cx="455472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В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∠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1" name=""/>
          <p:cNvSpPr/>
          <p:nvPr/>
        </p:nvSpPr>
        <p:spPr>
          <a:xfrm>
            <a:off x="755640" y="2133720"/>
            <a:ext cx="2592360" cy="4535280"/>
          </a:xfrm>
          <a:prstGeom prst="diamond">
            <a:avLst/>
          </a:prstGeom>
          <a:gradFill rotWithShape="0">
            <a:gsLst>
              <a:gs pos="0">
                <a:srgbClr val="fefefe"/>
              </a:gs>
              <a:gs pos="100000">
                <a:srgbClr val="9ff82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55640" y="2133720"/>
            <a:ext cx="2592360" cy="4535280"/>
          </a:xfrm>
          <a:prstGeom prst="diamond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292720" y="5661000"/>
            <a:ext cx="280836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716360" y="1989000"/>
            <a:ext cx="396108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 (2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62120" y="4406760"/>
            <a:ext cx="2565360" cy="1800"/>
          </a:xfrm>
          <a:custGeom>
            <a:avLst/>
            <a:gdLst/>
            <a:ahLst/>
            <a:rect l="l" t="t" r="r" b="b"/>
            <a:pathLst>
              <a:path w="1616" h="1">
                <a:moveTo>
                  <a:pt x="0" y="0"/>
                </a:moveTo>
                <a:lnTo>
                  <a:pt x="1616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549440" y="450864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S-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826920" y="2205000"/>
            <a:ext cx="2449800" cy="2144880"/>
          </a:xfrm>
          <a:custGeom>
            <a:avLst/>
            <a:gdLst/>
            <a:ahLst/>
            <a:rect l="l" t="t" r="r" b="b"/>
            <a:pathLst>
              <a:path w="1543" h="1351">
                <a:moveTo>
                  <a:pt x="0" y="1350"/>
                </a:moveTo>
                <a:lnTo>
                  <a:pt x="767" y="0"/>
                </a:lnTo>
                <a:lnTo>
                  <a:pt x="1543" y="1351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rot="16200000">
            <a:off x="1905120" y="2495160"/>
            <a:ext cx="293400" cy="5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594" y="1361"/>
                  <a:pt x="7587" y="5080"/>
                  <a:pt x="7587" y="10800"/>
                </a:cubicBezTo>
                <a:cubicBezTo>
                  <a:pt x="7587" y="16520"/>
                  <a:pt x="14594" y="2023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5796000" y="549360"/>
                <a:ext cx="141444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5508720" y="2924280"/>
                <a:ext cx="201600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01" name=""/>
          <p:cNvSpPr/>
          <p:nvPr/>
        </p:nvSpPr>
        <p:spPr>
          <a:xfrm>
            <a:off x="1773000" y="292428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29440" y="2924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6012000" y="5695920"/>
                <a:ext cx="13683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8" dur="indefinite" restart="never" nodeType="tmRoot">
          <p:childTnLst>
            <p:seq>
              <p:cTn id="1489" dur="indefinite" nodeType="mainSeq">
                <p:childTnLst>
                  <p:par>
                    <p:cTn id="1490" fill="hold">
                      <p:stCondLst>
                        <p:cond delay="0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6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6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4" restart="whenNotActive" nodeType="interactiveSeq" fill="hold">
                <p:stCondLst>
                  <p:cond evt="onClick">
                    <p:tgtEl>
                      <p:spTgt spid="594"/>
                    </p:tgtEl>
                  </p:cond>
                </p:stCondLst>
                <p:childTnLst>
                  <p:par>
                    <p:cTn id="1515" fill="hold">
                      <p:stCondLst>
                        <p:cond evt="onClick">
                          <p:tgtEl>
                            <p:spTgt spid="594"/>
                          </p:tgtEl>
                        </p:cond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4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evt="onClick">
                          <p:tgtEl>
                            <p:spTgt spid="594"/>
                          </p:tgtEl>
                        </p:cond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1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4" dur="10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10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36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№ 1699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050920" y="260280"/>
            <a:ext cx="691380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ромбе сторона равна 1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на из диагоналей —                     , а уго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которого выходит эта диагональ, равен 15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те площадь ромб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621080" y="177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34980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549440" y="6400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26160" y="4221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4356000" y="3716280"/>
                <a:ext cx="403236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АD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AВ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∠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3708360" y="4724280"/>
                <a:ext cx="149220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АDВ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5324400" y="4653000"/>
                <a:ext cx="381960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D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5435640" y="3068640"/>
                <a:ext cx="24192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ромб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14" name=""/>
          <p:cNvSpPr/>
          <p:nvPr/>
        </p:nvSpPr>
        <p:spPr>
          <a:xfrm>
            <a:off x="755640" y="2133720"/>
            <a:ext cx="2592360" cy="4535280"/>
          </a:xfrm>
          <a:prstGeom prst="diamond">
            <a:avLst/>
          </a:prstGeom>
          <a:gradFill rotWithShape="0">
            <a:gsLst>
              <a:gs pos="0">
                <a:srgbClr val="fefefe"/>
              </a:gs>
              <a:gs pos="100000">
                <a:srgbClr val="9ff82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55640" y="2133720"/>
            <a:ext cx="2592360" cy="4535280"/>
          </a:xfrm>
          <a:prstGeom prst="diamond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716360" y="1989000"/>
            <a:ext cx="396108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 (3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62120" y="4406760"/>
            <a:ext cx="2565360" cy="1800"/>
          </a:xfrm>
          <a:custGeom>
            <a:avLst/>
            <a:gdLst/>
            <a:ahLst/>
            <a:rect l="l" t="t" r="r" b="b"/>
            <a:pathLst>
              <a:path w="1616" h="1">
                <a:moveTo>
                  <a:pt x="0" y="0"/>
                </a:moveTo>
                <a:lnTo>
                  <a:pt x="1616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902520" y="2924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549440" y="450864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S-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826920" y="2205000"/>
            <a:ext cx="2449800" cy="2144880"/>
          </a:xfrm>
          <a:custGeom>
            <a:avLst/>
            <a:gdLst/>
            <a:ahLst/>
            <a:rect l="l" t="t" r="r" b="b"/>
            <a:pathLst>
              <a:path w="1543" h="1351">
                <a:moveTo>
                  <a:pt x="0" y="1350"/>
                </a:moveTo>
                <a:lnTo>
                  <a:pt x="767" y="0"/>
                </a:lnTo>
                <a:lnTo>
                  <a:pt x="1543" y="1351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rot="10591200">
            <a:off x="900000" y="4076280"/>
            <a:ext cx="293760" cy="5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594" y="1361"/>
                  <a:pt x="7587" y="5080"/>
                  <a:pt x="7587" y="10800"/>
                </a:cubicBezTo>
                <a:cubicBezTo>
                  <a:pt x="7587" y="16520"/>
                  <a:pt x="14594" y="2023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125360" y="38606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2268360" y="6175440"/>
                <a:ext cx="286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t xml:space="preserve">=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4" name=""/>
          <p:cNvSpPr/>
          <p:nvPr/>
        </p:nvSpPr>
        <p:spPr>
          <a:xfrm>
            <a:off x="5364000" y="5661000"/>
            <a:ext cx="280836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5796000" y="620640"/>
                <a:ext cx="158436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6" name=""/>
          <p:cNvSpPr/>
          <p:nvPr/>
        </p:nvSpPr>
        <p:spPr>
          <a:xfrm>
            <a:off x="6373440" y="57340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8496360" y="6391440"/>
            <a:ext cx="647640" cy="466560"/>
          </a:xfrm>
          <a:custGeom>
            <a:avLst/>
            <a:gdLst>
              <a:gd name="textAreaLeft" fmla="*/ 30240 w 647640"/>
              <a:gd name="textAreaRight" fmla="*/ 617400 w 64764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29977" h="21600">
                <a:moveTo>
                  <a:pt x="0" y="0"/>
                </a:moveTo>
                <a:lnTo>
                  <a:pt x="29977" y="0"/>
                </a:lnTo>
                <a:lnTo>
                  <a:pt x="29977" y="21600"/>
                </a:lnTo>
                <a:lnTo>
                  <a:pt x="0" y="21600"/>
                </a:lnTo>
                <a:close/>
              </a:path>
              <a:path fill="lightenLess" w="29977" h="21600">
                <a:moveTo>
                  <a:pt x="0" y="0"/>
                </a:moveTo>
                <a:lnTo>
                  <a:pt x="29977" y="0"/>
                </a:lnTo>
                <a:lnTo>
                  <a:pt x="28577" y="1400"/>
                </a:lnTo>
                <a:lnTo>
                  <a:pt x="1400" y="1400"/>
                </a:lnTo>
                <a:close/>
              </a:path>
              <a:path fill="darken" w="29977" h="21600">
                <a:moveTo>
                  <a:pt x="29977" y="0"/>
                </a:moveTo>
                <a:lnTo>
                  <a:pt x="29977" y="21600"/>
                </a:lnTo>
                <a:lnTo>
                  <a:pt x="28577" y="20200"/>
                </a:lnTo>
                <a:lnTo>
                  <a:pt x="28577" y="1400"/>
                </a:lnTo>
                <a:close/>
              </a:path>
              <a:path fill="darkenLess" w="29977" h="21600">
                <a:moveTo>
                  <a:pt x="29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77" y="20200"/>
                </a:lnTo>
                <a:close/>
              </a:path>
              <a:path fill="lighten" w="29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77" h="21600">
                <a:moveTo>
                  <a:pt x="11490" y="10800"/>
                </a:moveTo>
                <a:lnTo>
                  <a:pt x="21995" y="3794"/>
                </a:lnTo>
                <a:lnTo>
                  <a:pt x="21995" y="17806"/>
                </a:lnTo>
                <a:close/>
              </a:path>
              <a:path fill="darken" w="29977" h="21600">
                <a:moveTo>
                  <a:pt x="7982" y="3794"/>
                </a:moveTo>
                <a:lnTo>
                  <a:pt x="9644" y="3794"/>
                </a:lnTo>
                <a:lnTo>
                  <a:pt x="9644" y="17806"/>
                </a:lnTo>
                <a:lnTo>
                  <a:pt x="7982" y="1780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8" dur="indefinite" restart="never" nodeType="tmRoot">
          <p:childTnLst>
            <p:seq>
              <p:cTn id="1539" dur="indefinite" nodeType="mainSeq">
                <p:childTnLst>
                  <p:par>
                    <p:cTn id="1540" fill="hold">
                      <p:stCondLst>
                        <p:cond delay="0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4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6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1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8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9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1560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4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6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0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5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7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0" dur="100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100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2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9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4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6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№ 16987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050920" y="260280"/>
            <a:ext cx="691380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на из сторон параллелограмма равна 12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ругая равна 5, а один из углов — 4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те площадь параллелограм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044720" y="2781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069080" y="2852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133800" y="4941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160" y="494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364000" y="2565360"/>
                <a:ext cx="2953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A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4284720" y="4724280"/>
                <a:ext cx="23637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Н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5651640" y="4221000"/>
                <a:ext cx="189072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Н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7" name=""/>
          <p:cNvSpPr/>
          <p:nvPr/>
        </p:nvSpPr>
        <p:spPr>
          <a:xfrm>
            <a:off x="4716360" y="1989000"/>
            <a:ext cx="396108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 (3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292720" y="5661000"/>
            <a:ext cx="280836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50920" y="3284640"/>
            <a:ext cx="4176720" cy="1657080"/>
          </a:xfrm>
          <a:prstGeom prst="parallelogram">
            <a:avLst>
              <a:gd name="adj" fmla="val 63013"/>
            </a:avLst>
          </a:prstGeom>
          <a:gradFill rotWithShape="0">
            <a:gsLst>
              <a:gs pos="0">
                <a:srgbClr val="fefefe"/>
              </a:gs>
              <a:gs pos="5000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50920" y="3284640"/>
            <a:ext cx="4176720" cy="1657080"/>
          </a:xfrm>
          <a:prstGeom prst="parallelogram">
            <a:avLst>
              <a:gd name="adj" fmla="val 63013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485800" y="2781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41440" y="364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93360" y="407664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rot="7893000">
            <a:off x="609480" y="4366800"/>
            <a:ext cx="293400" cy="5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594" y="1361"/>
                  <a:pt x="7587" y="5080"/>
                  <a:pt x="7587" y="10800"/>
                </a:cubicBezTo>
                <a:cubicBezTo>
                  <a:pt x="7587" y="16520"/>
                  <a:pt x="14594" y="2023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052720" y="364500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S-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282680" y="3289320"/>
            <a:ext cx="12600" cy="1650960"/>
          </a:xfrm>
          <a:custGeom>
            <a:avLst/>
            <a:gdLst/>
            <a:ahLst/>
            <a:rect l="l" t="t" r="r" b="b"/>
            <a:pathLst>
              <a:path w="8" h="1040">
                <a:moveTo>
                  <a:pt x="8" y="0"/>
                </a:moveTo>
                <a:lnTo>
                  <a:pt x="0" y="1040"/>
                </a:lnTo>
              </a:path>
            </a:pathLst>
          </a:custGeom>
          <a:noFill/>
          <a:ln w="4752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258920" y="4581360"/>
            <a:ext cx="253800" cy="343080"/>
          </a:xfrm>
          <a:custGeom>
            <a:avLst/>
            <a:gdLst/>
            <a:ahLst/>
            <a:rect l="l" t="t" r="r" b="b"/>
            <a:pathLst>
              <a:path w="160" h="216">
                <a:moveTo>
                  <a:pt x="0" y="0"/>
                </a:moveTo>
                <a:lnTo>
                  <a:pt x="160" y="0"/>
                </a:lnTo>
                <a:lnTo>
                  <a:pt x="160" y="216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044000" y="4941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4809960" y="3174840"/>
                <a:ext cx="136872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АВС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4124160" y="3645000"/>
                <a:ext cx="501984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Н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А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51" name=""/>
          <p:cNvSpPr/>
          <p:nvPr/>
        </p:nvSpPr>
        <p:spPr>
          <a:xfrm>
            <a:off x="6804000" y="4869000"/>
            <a:ext cx="797040" cy="269640"/>
          </a:xfrm>
          <a:prstGeom prst="rightArrow">
            <a:avLst>
              <a:gd name="adj1" fmla="val 50000"/>
              <a:gd name="adj2" fmla="val 73899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7742520" y="458136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5940360" y="5699160"/>
                <a:ext cx="144000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7" dur="indefinite" restart="never" nodeType="tmRoot">
          <p:childTnLst>
            <p:seq>
              <p:cTn id="1598" dur="indefinite" nodeType="mainSeq">
                <p:childTnLst>
                  <p:par>
                    <p:cTn id="1599" fill="hold">
                      <p:stCondLst>
                        <p:cond delay="0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3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5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0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5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3" restart="whenNotActive" nodeType="interactiveSeq" fill="hold">
                <p:stCondLst>
                  <p:cond evt="onClick">
                    <p:tgtEl>
                      <p:spTgt spid="637"/>
                    </p:tgtEl>
                  </p:cond>
                </p:stCondLst>
                <p:childTnLst>
                  <p:par>
                    <p:cTn id="1624" fill="hold">
                      <p:stCondLst>
                        <p:cond evt="onClick">
                          <p:tgtEl>
                            <p:spTgt spid="637"/>
                          </p:tgtEl>
                        </p:cond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8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9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3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evt="onClick">
                          <p:tgtEl>
                            <p:spTgt spid="637"/>
                          </p:tgtEl>
                        </p:cond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3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4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evt="onClick">
                          <p:tgtEl>
                            <p:spTgt spid="637"/>
                          </p:tgtEl>
                        </p:cond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4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5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9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3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95640" y="260280"/>
            <a:ext cx="676908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рямоугольном треугольнике один из кат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вен 10, а угол, лежащий напротив нег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вен 3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. Найдит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ощад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треуголь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260280"/>
            <a:ext cx="187164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698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42920" y="2133720"/>
            <a:ext cx="3097440" cy="4032000"/>
          </a:xfrm>
          <a:prstGeom prst="rtTriangle">
            <a:avLst/>
          </a:prstGeom>
          <a:blipFill rotWithShape="0">
            <a:blip r:embed="rId2">
              <a:alphaModFix amt="99000"/>
            </a:blip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3080" y="1916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26160" y="6165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616572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42920" y="5734080"/>
            <a:ext cx="432000" cy="411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05080" y="436572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S-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16360" y="1989000"/>
            <a:ext cx="396108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 (3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848120" y="3500280"/>
                <a:ext cx="204156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А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435640" y="2565360"/>
                <a:ext cx="259236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695760" y="4653000"/>
                <a:ext cx="33130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2053440" y="6165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5018000">
            <a:off x="1243080" y="2869560"/>
            <a:ext cx="293400" cy="547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594" y="1361"/>
                  <a:pt x="7587" y="5080"/>
                  <a:pt x="7587" y="10800"/>
                </a:cubicBezTo>
                <a:cubicBezTo>
                  <a:pt x="7587" y="16520"/>
                  <a:pt x="14594" y="2023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67920" y="328464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42920" y="2133720"/>
            <a:ext cx="3097440" cy="4032000"/>
          </a:xfrm>
          <a:prstGeom prst="rtTriangl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292720" y="5661000"/>
            <a:ext cx="280836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51760" y="3932280"/>
            <a:ext cx="976320" cy="216000"/>
          </a:xfrm>
          <a:prstGeom prst="rightArrow">
            <a:avLst>
              <a:gd name="adj1" fmla="val 50000"/>
              <a:gd name="adj2" fmla="val 113000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377920" y="364320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224840" y="4869000"/>
            <a:ext cx="976320" cy="215640"/>
          </a:xfrm>
          <a:prstGeom prst="rightArrow">
            <a:avLst>
              <a:gd name="adj1" fmla="val 50000"/>
              <a:gd name="adj2" fmla="val 113189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77560" y="457992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012000" y="5602320"/>
                <a:ext cx="15843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№ 16987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050920" y="260280"/>
            <a:ext cx="691380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на из сторон параллелограмма равна 12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ругая равна 5, синус одного из углов равен  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те площадь параллелограм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44720" y="2781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69080" y="2852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133800" y="4941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160" y="494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4716360" y="3068640"/>
                <a:ext cx="4032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АD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∠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8532720" y="692280"/>
                <a:ext cx="26352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2" name=""/>
          <p:cNvSpPr/>
          <p:nvPr/>
        </p:nvSpPr>
        <p:spPr>
          <a:xfrm>
            <a:off x="4716360" y="1989000"/>
            <a:ext cx="396108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292720" y="5661000"/>
            <a:ext cx="280836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50920" y="3284640"/>
            <a:ext cx="4176720" cy="1657080"/>
          </a:xfrm>
          <a:prstGeom prst="parallelogram">
            <a:avLst>
              <a:gd name="adj" fmla="val 63013"/>
            </a:avLst>
          </a:prstGeom>
          <a:gradFill rotWithShape="0">
            <a:gsLst>
              <a:gs pos="0">
                <a:srgbClr val="fefefe"/>
              </a:gs>
              <a:gs pos="5000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50920" y="3284640"/>
            <a:ext cx="4176720" cy="1657080"/>
          </a:xfrm>
          <a:prstGeom prst="parallelogram">
            <a:avLst>
              <a:gd name="adj" fmla="val 63013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620720" y="4941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41440" y="364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rot="7893000">
            <a:off x="609480" y="4366800"/>
            <a:ext cx="293400" cy="5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594" y="1361"/>
                  <a:pt x="7587" y="5080"/>
                  <a:pt x="7587" y="10800"/>
                </a:cubicBezTo>
                <a:cubicBezTo>
                  <a:pt x="7587" y="16520"/>
                  <a:pt x="14594" y="2023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052720" y="364500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S-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373440" y="57340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6" dur="indefinite" restart="never" nodeType="tmRoot">
          <p:childTnLst>
            <p:seq>
              <p:cTn id="1677" dur="indefinite" nodeType="mainSeq">
                <p:childTnLst>
                  <p:par>
                    <p:cTn id="1678" fill="hold">
                      <p:stCondLst>
                        <p:cond delay="0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4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9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2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4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1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2" restart="whenNotActive" nodeType="interactiveSeq" fill="hold">
                <p:stCondLst>
                  <p:cond evt="onClick">
                    <p:tgtEl>
                      <p:spTgt spid="662"/>
                    </p:tgtEl>
                  </p:cond>
                </p:stCondLst>
                <p:childTnLst>
                  <p:par>
                    <p:cTn id="1703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3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4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№ 16987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050920" y="260280"/>
            <a:ext cx="691380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на из сторон параллелограмма равна 12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ругая равна 5, косинус одного из углов          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те площадь параллелограм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044720" y="2781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069080" y="2852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133800" y="4941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160" y="494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4716360" y="3357720"/>
                <a:ext cx="36720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АD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∠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8" name=""/>
          <p:cNvSpPr/>
          <p:nvPr/>
        </p:nvSpPr>
        <p:spPr>
          <a:xfrm>
            <a:off x="8496360" y="6391440"/>
            <a:ext cx="647640" cy="466560"/>
          </a:xfrm>
          <a:custGeom>
            <a:avLst/>
            <a:gdLst>
              <a:gd name="textAreaLeft" fmla="*/ 30240 w 647640"/>
              <a:gd name="textAreaRight" fmla="*/ 617400 w 64764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29977" h="21600">
                <a:moveTo>
                  <a:pt x="0" y="0"/>
                </a:moveTo>
                <a:lnTo>
                  <a:pt x="29977" y="0"/>
                </a:lnTo>
                <a:lnTo>
                  <a:pt x="29977" y="21600"/>
                </a:lnTo>
                <a:lnTo>
                  <a:pt x="0" y="21600"/>
                </a:lnTo>
                <a:close/>
              </a:path>
              <a:path fill="lightenLess" w="29977" h="21600">
                <a:moveTo>
                  <a:pt x="0" y="0"/>
                </a:moveTo>
                <a:lnTo>
                  <a:pt x="29977" y="0"/>
                </a:lnTo>
                <a:lnTo>
                  <a:pt x="28577" y="1400"/>
                </a:lnTo>
                <a:lnTo>
                  <a:pt x="1400" y="1400"/>
                </a:lnTo>
                <a:close/>
              </a:path>
              <a:path fill="darken" w="29977" h="21600">
                <a:moveTo>
                  <a:pt x="29977" y="0"/>
                </a:moveTo>
                <a:lnTo>
                  <a:pt x="29977" y="21600"/>
                </a:lnTo>
                <a:lnTo>
                  <a:pt x="28577" y="20200"/>
                </a:lnTo>
                <a:lnTo>
                  <a:pt x="28577" y="1400"/>
                </a:lnTo>
                <a:close/>
              </a:path>
              <a:path fill="darkenLess" w="29977" h="21600">
                <a:moveTo>
                  <a:pt x="29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77" y="20200"/>
                </a:lnTo>
                <a:close/>
              </a:path>
              <a:path fill="lighten" w="29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77" h="21600">
                <a:moveTo>
                  <a:pt x="11490" y="10800"/>
                </a:moveTo>
                <a:lnTo>
                  <a:pt x="21995" y="3794"/>
                </a:lnTo>
                <a:lnTo>
                  <a:pt x="21995" y="17806"/>
                </a:lnTo>
                <a:close/>
              </a:path>
              <a:path fill="darken" w="29977" h="21600">
                <a:moveTo>
                  <a:pt x="7982" y="3794"/>
                </a:moveTo>
                <a:lnTo>
                  <a:pt x="9644" y="3794"/>
                </a:lnTo>
                <a:lnTo>
                  <a:pt x="9644" y="17806"/>
                </a:lnTo>
                <a:lnTo>
                  <a:pt x="7982" y="1780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716360" y="1989000"/>
            <a:ext cx="396108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 (2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292720" y="5661000"/>
            <a:ext cx="280836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50920" y="3284640"/>
            <a:ext cx="4176720" cy="1657080"/>
          </a:xfrm>
          <a:prstGeom prst="parallelogram">
            <a:avLst>
              <a:gd name="adj" fmla="val 63013"/>
            </a:avLst>
          </a:prstGeom>
          <a:gradFill rotWithShape="0">
            <a:gsLst>
              <a:gs pos="0">
                <a:srgbClr val="fefefe"/>
              </a:gs>
              <a:gs pos="5000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50920" y="3284640"/>
            <a:ext cx="4176720" cy="1657080"/>
          </a:xfrm>
          <a:prstGeom prst="parallelogram">
            <a:avLst>
              <a:gd name="adj" fmla="val 63013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549440" y="4941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41440" y="364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rot="7893000">
            <a:off x="609480" y="4366800"/>
            <a:ext cx="293400" cy="5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594" y="1361"/>
                  <a:pt x="7587" y="5080"/>
                  <a:pt x="7587" y="10800"/>
                </a:cubicBezTo>
                <a:cubicBezTo>
                  <a:pt x="7587" y="16520"/>
                  <a:pt x="14594" y="2023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2720" y="364500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S-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4643280" y="4076640"/>
                <a:ext cx="40006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∠</m:t>
                    </m:r>
                    <m:r>
                      <m:t xml:space="preserve">D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∠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8028000" y="765000"/>
                <a:ext cx="68580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9" name=""/>
          <p:cNvSpPr/>
          <p:nvPr/>
        </p:nvSpPr>
        <p:spPr>
          <a:xfrm>
            <a:off x="6373440" y="57340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5" dur="indefinite" restart="never" nodeType="tmRoot">
          <p:childTnLst>
            <p:seq>
              <p:cTn id="1716" dur="indefinite" nodeType="mainSeq">
                <p:childTnLst>
                  <p:par>
                    <p:cTn id="1717" fill="hold">
                      <p:stCondLst>
                        <p:cond delay="0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1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3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8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1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3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8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9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6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7" restart="whenNotActive" nodeType="interactiveSeq" fill="hold">
                <p:stCondLst>
                  <p:cond evt="onClick">
                    <p:tgtEl>
                      <p:spTgt spid="679"/>
                    </p:tgtEl>
                  </p:cond>
                </p:stCondLst>
                <p:childTnLst>
                  <p:par>
                    <p:cTn id="1748" fill="hold">
                      <p:stCondLst>
                        <p:cond evt="onClick">
                          <p:tgtEl>
                            <p:spTgt spid="679"/>
                          </p:tgtEl>
                        </p:cond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2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3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evt="onClick">
                          <p:tgtEl>
                            <p:spTgt spid="679"/>
                          </p:tgtEl>
                        </p:cond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8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9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2195640" y="260280"/>
            <a:ext cx="676908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нования трапеции равны 18 и 12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на из боковых сторон равна         , а уго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жду ней и одним из оснований равен 13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те площадь трапе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6988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494160" y="24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853440" y="5013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4" name=""/>
              <p:cNvSpPr txBox="1"/>
              <p:nvPr/>
            </p:nvSpPr>
            <p:spPr>
              <a:xfrm>
                <a:off x="5940360" y="4508640"/>
                <a:ext cx="180036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Н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В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5" name=""/>
          <p:cNvSpPr/>
          <p:nvPr/>
        </p:nvSpPr>
        <p:spPr>
          <a:xfrm>
            <a:off x="181080" y="501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117800" y="2492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4788000" y="4941720"/>
                <a:ext cx="237312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ВН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4572000" y="2492280"/>
                <a:ext cx="409104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С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АD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В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6877080" y="549360"/>
                <a:ext cx="7491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00" name=""/>
          <p:cNvSpPr/>
          <p:nvPr/>
        </p:nvSpPr>
        <p:spPr>
          <a:xfrm>
            <a:off x="4716360" y="1989000"/>
            <a:ext cx="396108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 (3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292720" y="5661000"/>
            <a:ext cx="280836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373440" y="57340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31640" y="2844720"/>
            <a:ext cx="3759480" cy="2247840"/>
          </a:xfrm>
          <a:custGeom>
            <a:avLst/>
            <a:gdLst/>
            <a:ahLst/>
            <a:rect l="l" t="t" r="r" b="b"/>
            <a:pathLst>
              <a:path w="2368" h="1416">
                <a:moveTo>
                  <a:pt x="0" y="1416"/>
                </a:moveTo>
                <a:lnTo>
                  <a:pt x="696" y="8"/>
                </a:lnTo>
                <a:lnTo>
                  <a:pt x="1984" y="0"/>
                </a:lnTo>
                <a:lnTo>
                  <a:pt x="2368" y="1384"/>
                </a:lnTo>
                <a:lnTo>
                  <a:pt x="8" y="140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95360" y="2870280"/>
            <a:ext cx="3632040" cy="2158920"/>
          </a:xfrm>
          <a:custGeom>
            <a:avLst/>
            <a:gdLst/>
            <a:ahLst/>
            <a:rect l="l" t="t" r="r" b="b"/>
            <a:pathLst>
              <a:path w="2288" h="1360">
                <a:moveTo>
                  <a:pt x="0" y="1360"/>
                </a:moveTo>
                <a:lnTo>
                  <a:pt x="664" y="8"/>
                </a:lnTo>
                <a:lnTo>
                  <a:pt x="1928" y="0"/>
                </a:lnTo>
                <a:lnTo>
                  <a:pt x="2288" y="1344"/>
                </a:lnTo>
              </a:path>
            </a:pathLst>
          </a:custGeom>
          <a:gradFill rotWithShape="0">
            <a:gsLst>
              <a:gs pos="0">
                <a:srgbClr val="0000ff">
                  <a:alpha val="75294"/>
                </a:srgbClr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052720" y="364500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S-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341440" y="2421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052720" y="5084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324000" y="3500280"/>
                <a:ext cx="71892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09" name=""/>
          <p:cNvSpPr/>
          <p:nvPr/>
        </p:nvSpPr>
        <p:spPr>
          <a:xfrm>
            <a:off x="1844640" y="299736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rot="14395800">
            <a:off x="1544760" y="2855160"/>
            <a:ext cx="293400" cy="5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594" y="1361"/>
                  <a:pt x="7587" y="5080"/>
                  <a:pt x="7587" y="10800"/>
                </a:cubicBezTo>
                <a:cubicBezTo>
                  <a:pt x="7587" y="16520"/>
                  <a:pt x="14594" y="2023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523880" y="2832120"/>
            <a:ext cx="12960" cy="2184480"/>
          </a:xfrm>
          <a:custGeom>
            <a:avLst/>
            <a:gdLst/>
            <a:ahLst/>
            <a:rect l="l" t="t" r="r" b="b"/>
            <a:pathLst>
              <a:path w="8" h="1376">
                <a:moveTo>
                  <a:pt x="8" y="0"/>
                </a:moveTo>
                <a:lnTo>
                  <a:pt x="0" y="1376"/>
                </a:lnTo>
              </a:path>
            </a:pathLst>
          </a:custGeom>
          <a:noFill/>
          <a:ln w="4752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547640" y="4724280"/>
            <a:ext cx="254160" cy="343080"/>
          </a:xfrm>
          <a:custGeom>
            <a:avLst/>
            <a:gdLst/>
            <a:ahLst/>
            <a:rect l="l" t="t" r="r" b="b"/>
            <a:pathLst>
              <a:path w="160" h="216">
                <a:moveTo>
                  <a:pt x="0" y="0"/>
                </a:moveTo>
                <a:lnTo>
                  <a:pt x="160" y="0"/>
                </a:lnTo>
                <a:lnTo>
                  <a:pt x="160" y="216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309320" y="50101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4572000" y="3573360"/>
                <a:ext cx="14032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АВН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4489560" y="4005360"/>
                <a:ext cx="428940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Н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В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А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16" name=""/>
          <p:cNvSpPr/>
          <p:nvPr/>
        </p:nvSpPr>
        <p:spPr>
          <a:xfrm>
            <a:off x="7164360" y="5229360"/>
            <a:ext cx="797040" cy="269640"/>
          </a:xfrm>
          <a:prstGeom prst="rightArrow">
            <a:avLst>
              <a:gd name="adj1" fmla="val 50000"/>
              <a:gd name="adj2" fmla="val 73899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8102880" y="494172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В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0" dur="indefinite" restart="never" nodeType="tmRoot">
          <p:childTnLst>
            <p:seq>
              <p:cTn id="1761" dur="indefinite" nodeType="mainSeq">
                <p:childTnLst>
                  <p:par>
                    <p:cTn id="1762" fill="hold">
                      <p:stCondLst>
                        <p:cond delay="0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6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8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2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4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9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5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0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2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3" restart="whenNotActive" nodeType="interactiveSeq" fill="hold">
                <p:stCondLst>
                  <p:cond evt="onClick">
                    <p:tgtEl>
                      <p:spTgt spid="700"/>
                    </p:tgtEl>
                  </p:cond>
                </p:stCondLst>
                <p:childTnLst>
                  <p:par>
                    <p:cTn id="1794" fill="hold">
                      <p:stCondLst>
                        <p:cond evt="onClick">
                          <p:tgtEl>
                            <p:spTgt spid="700"/>
                          </p:tgtEl>
                        </p:cond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8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9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3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6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1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3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7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8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evt="onClick">
                          <p:tgtEl>
                            <p:spTgt spid="700"/>
                          </p:tgtEl>
                        </p:cond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3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4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8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9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fill="hold">
                      <p:stCondLst>
                        <p:cond evt="onClick">
                          <p:tgtEl>
                            <p:spTgt spid="700"/>
                          </p:tgtEl>
                        </p:cond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4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5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9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5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2195640" y="0"/>
            <a:ext cx="6769080" cy="1773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нования трапеции равны 18 и 12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на из боковых сторон равна 6, а син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ла между ней и одним из основ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вен      . Найдите площадь трапе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6988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494160" y="24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853440" y="5013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81080" y="501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117800" y="2492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4" name=""/>
              <p:cNvSpPr txBox="1"/>
              <p:nvPr/>
            </p:nvSpPr>
            <p:spPr>
              <a:xfrm>
                <a:off x="4716360" y="2492280"/>
                <a:ext cx="409104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С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АD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В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5" name=""/>
              <p:cNvSpPr txBox="1"/>
              <p:nvPr/>
            </p:nvSpPr>
            <p:spPr>
              <a:xfrm>
                <a:off x="3716280" y="1154160"/>
                <a:ext cx="20952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6" name=""/>
          <p:cNvSpPr/>
          <p:nvPr/>
        </p:nvSpPr>
        <p:spPr>
          <a:xfrm>
            <a:off x="4716360" y="1989000"/>
            <a:ext cx="396108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 (5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292720" y="5661000"/>
            <a:ext cx="280836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373440" y="57340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31640" y="2844720"/>
            <a:ext cx="3759480" cy="2247840"/>
          </a:xfrm>
          <a:custGeom>
            <a:avLst/>
            <a:gdLst/>
            <a:ahLst/>
            <a:rect l="l" t="t" r="r" b="b"/>
            <a:pathLst>
              <a:path w="2368" h="1416">
                <a:moveTo>
                  <a:pt x="0" y="1416"/>
                </a:moveTo>
                <a:lnTo>
                  <a:pt x="696" y="8"/>
                </a:lnTo>
                <a:lnTo>
                  <a:pt x="1984" y="0"/>
                </a:lnTo>
                <a:lnTo>
                  <a:pt x="2368" y="1384"/>
                </a:lnTo>
                <a:lnTo>
                  <a:pt x="8" y="140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95360" y="2870280"/>
            <a:ext cx="3632040" cy="2158920"/>
          </a:xfrm>
          <a:custGeom>
            <a:avLst/>
            <a:gdLst/>
            <a:ahLst/>
            <a:rect l="l" t="t" r="r" b="b"/>
            <a:pathLst>
              <a:path w="2288" h="1360">
                <a:moveTo>
                  <a:pt x="0" y="1360"/>
                </a:moveTo>
                <a:lnTo>
                  <a:pt x="664" y="8"/>
                </a:lnTo>
                <a:lnTo>
                  <a:pt x="1928" y="0"/>
                </a:lnTo>
                <a:lnTo>
                  <a:pt x="2288" y="1344"/>
                </a:lnTo>
              </a:path>
            </a:pathLst>
          </a:custGeom>
          <a:gradFill rotWithShape="0">
            <a:gsLst>
              <a:gs pos="0">
                <a:srgbClr val="0000ff">
                  <a:alpha val="75294"/>
                </a:srgbClr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557440" y="292428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S-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341440" y="2421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052720" y="5084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536840" y="2832120"/>
            <a:ext cx="2628720" cy="2171520"/>
          </a:xfrm>
          <a:custGeom>
            <a:avLst/>
            <a:gdLst/>
            <a:ahLst/>
            <a:rect l="l" t="t" r="r" b="b"/>
            <a:pathLst>
              <a:path w="1656" h="1368">
                <a:moveTo>
                  <a:pt x="0" y="0"/>
                </a:moveTo>
                <a:lnTo>
                  <a:pt x="1656" y="1368"/>
                </a:ln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309320" y="50101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4788000" y="4221000"/>
                <a:ext cx="28796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АD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3995640" y="3573360"/>
                <a:ext cx="42894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∠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8" name=""/>
          <p:cNvSpPr/>
          <p:nvPr/>
        </p:nvSpPr>
        <p:spPr>
          <a:xfrm>
            <a:off x="8352000" y="407664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В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13080" y="35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69800" y="2882880"/>
            <a:ext cx="3645000" cy="2146320"/>
          </a:xfrm>
          <a:custGeom>
            <a:avLst/>
            <a:gdLst/>
            <a:ahLst/>
            <a:rect l="l" t="t" r="r" b="b"/>
            <a:pathLst>
              <a:path w="2296" h="1352">
                <a:moveTo>
                  <a:pt x="0" y="1352"/>
                </a:moveTo>
                <a:lnTo>
                  <a:pt x="688" y="0"/>
                </a:lnTo>
                <a:lnTo>
                  <a:pt x="2296" y="1336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523880" y="2832120"/>
            <a:ext cx="12960" cy="2184480"/>
          </a:xfrm>
          <a:custGeom>
            <a:avLst/>
            <a:gdLst/>
            <a:ahLst/>
            <a:rect l="l" t="t" r="r" b="b"/>
            <a:pathLst>
              <a:path w="8" h="1376">
                <a:moveTo>
                  <a:pt x="8" y="0"/>
                </a:moveTo>
                <a:lnTo>
                  <a:pt x="0" y="1376"/>
                </a:lnTo>
              </a:path>
            </a:pathLst>
          </a:custGeom>
          <a:noFill/>
          <a:ln w="4752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rot="8056200">
            <a:off x="825480" y="4439880"/>
            <a:ext cx="293760" cy="57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594" y="1361"/>
                  <a:pt x="7587" y="5080"/>
                  <a:pt x="7587" y="10800"/>
                </a:cubicBezTo>
                <a:cubicBezTo>
                  <a:pt x="7587" y="16520"/>
                  <a:pt x="14594" y="2023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rot="10800000">
            <a:off x="8243640" y="3932280"/>
            <a:ext cx="215640" cy="1008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6" dur="indefinite" restart="never" nodeType="tmRoot">
          <p:childTnLst>
            <p:seq>
              <p:cTn id="1847" dur="indefinite" nodeType="mainSeq">
                <p:childTnLst>
                  <p:par>
                    <p:cTn id="1848" fill="hold">
                      <p:stCondLst>
                        <p:cond delay="0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2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4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9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2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4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fill="hold">
                      <p:stCondLst>
                        <p:cond delay="indefinite"/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9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1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2" restart="whenNotActive" nodeType="interactiveSeq" fill="hold">
                <p:stCondLst>
                  <p:cond evt="onClick">
                    <p:tgtEl>
                      <p:spTgt spid="726"/>
                    </p:tgtEl>
                  </p:cond>
                </p:stCondLst>
                <p:childTnLst>
                  <p:par>
                    <p:cTn id="1873" fill="hold">
                      <p:stCondLst>
                        <p:cond evt="onClick">
                          <p:tgtEl>
                            <p:spTgt spid="726"/>
                          </p:tgtEl>
                        </p:cond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evt="onClick">
                          <p:tgtEl>
                            <p:spTgt spid="726"/>
                          </p:tgtEl>
                        </p:cond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3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7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1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4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6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evt="onClick">
                          <p:tgtEl>
                            <p:spTgt spid="726"/>
                          </p:tgtEl>
                        </p:cond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evt="onClick">
                          <p:tgtEl>
                            <p:spTgt spid="726"/>
                          </p:tgtEl>
                        </p:cond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7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8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2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6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2195640" y="0"/>
            <a:ext cx="6769080" cy="1773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нования трапеции равны 18 и 12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на из боковых сторон равна 6, а косин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ла между ней и одним из основ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вен      . Найдите площадь трапе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698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494160" y="24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853440" y="5013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81080" y="501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117800" y="2492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4716360" y="2492280"/>
                <a:ext cx="409104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С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АD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В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3564000" y="1125360"/>
                <a:ext cx="5144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2" name="">
            <a:hlinkClick r:id="rId2" action="ppaction://hlinksldjump"/>
          </p:cNvPr>
          <p:cNvSpPr/>
          <p:nvPr/>
        </p:nvSpPr>
        <p:spPr>
          <a:xfrm>
            <a:off x="8496360" y="6391440"/>
            <a:ext cx="647640" cy="466560"/>
          </a:xfrm>
          <a:custGeom>
            <a:avLst/>
            <a:gdLst>
              <a:gd name="textAreaLeft" fmla="*/ 30240 w 647640"/>
              <a:gd name="textAreaRight" fmla="*/ 617400 w 64764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29977" h="21600">
                <a:moveTo>
                  <a:pt x="0" y="0"/>
                </a:moveTo>
                <a:lnTo>
                  <a:pt x="29977" y="0"/>
                </a:lnTo>
                <a:lnTo>
                  <a:pt x="29977" y="21600"/>
                </a:lnTo>
                <a:lnTo>
                  <a:pt x="0" y="21600"/>
                </a:lnTo>
                <a:close/>
              </a:path>
              <a:path fill="lightenLess" w="29977" h="21600">
                <a:moveTo>
                  <a:pt x="0" y="0"/>
                </a:moveTo>
                <a:lnTo>
                  <a:pt x="29977" y="0"/>
                </a:lnTo>
                <a:lnTo>
                  <a:pt x="28577" y="1400"/>
                </a:lnTo>
                <a:lnTo>
                  <a:pt x="1400" y="1400"/>
                </a:lnTo>
                <a:close/>
              </a:path>
              <a:path fill="darken" w="29977" h="21600">
                <a:moveTo>
                  <a:pt x="29977" y="0"/>
                </a:moveTo>
                <a:lnTo>
                  <a:pt x="29977" y="21600"/>
                </a:lnTo>
                <a:lnTo>
                  <a:pt x="28577" y="20200"/>
                </a:lnTo>
                <a:lnTo>
                  <a:pt x="28577" y="1400"/>
                </a:lnTo>
                <a:close/>
              </a:path>
              <a:path fill="darkenLess" w="29977" h="21600">
                <a:moveTo>
                  <a:pt x="29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77" y="20200"/>
                </a:lnTo>
                <a:close/>
              </a:path>
              <a:path fill="lighten" w="29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77" h="21600">
                <a:moveTo>
                  <a:pt x="11490" y="10800"/>
                </a:moveTo>
                <a:lnTo>
                  <a:pt x="21995" y="3794"/>
                </a:lnTo>
                <a:lnTo>
                  <a:pt x="21995" y="17806"/>
                </a:lnTo>
                <a:close/>
              </a:path>
              <a:path fill="darken" w="29977" h="21600">
                <a:moveTo>
                  <a:pt x="7982" y="3794"/>
                </a:moveTo>
                <a:lnTo>
                  <a:pt x="9644" y="3794"/>
                </a:lnTo>
                <a:lnTo>
                  <a:pt x="9644" y="17806"/>
                </a:lnTo>
                <a:lnTo>
                  <a:pt x="7982" y="1780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716360" y="1989000"/>
            <a:ext cx="396108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 (5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292720" y="5661000"/>
            <a:ext cx="280836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373440" y="57340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31640" y="2844720"/>
            <a:ext cx="3759480" cy="2247840"/>
          </a:xfrm>
          <a:custGeom>
            <a:avLst/>
            <a:gdLst/>
            <a:ahLst/>
            <a:rect l="l" t="t" r="r" b="b"/>
            <a:pathLst>
              <a:path w="2368" h="1416">
                <a:moveTo>
                  <a:pt x="0" y="1416"/>
                </a:moveTo>
                <a:lnTo>
                  <a:pt x="696" y="8"/>
                </a:lnTo>
                <a:lnTo>
                  <a:pt x="1984" y="0"/>
                </a:lnTo>
                <a:lnTo>
                  <a:pt x="2368" y="1384"/>
                </a:lnTo>
                <a:lnTo>
                  <a:pt x="8" y="140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95360" y="2870280"/>
            <a:ext cx="3632040" cy="2158920"/>
          </a:xfrm>
          <a:custGeom>
            <a:avLst/>
            <a:gdLst/>
            <a:ahLst/>
            <a:rect l="l" t="t" r="r" b="b"/>
            <a:pathLst>
              <a:path w="2288" h="1360">
                <a:moveTo>
                  <a:pt x="0" y="1360"/>
                </a:moveTo>
                <a:lnTo>
                  <a:pt x="664" y="8"/>
                </a:lnTo>
                <a:lnTo>
                  <a:pt x="1928" y="0"/>
                </a:lnTo>
                <a:lnTo>
                  <a:pt x="2288" y="1344"/>
                </a:lnTo>
              </a:path>
            </a:pathLst>
          </a:custGeom>
          <a:gradFill rotWithShape="0">
            <a:gsLst>
              <a:gs pos="0">
                <a:srgbClr val="0000ff">
                  <a:alpha val="75294"/>
                </a:srgbClr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557440" y="292428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S-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341440" y="2421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052720" y="5084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536840" y="2832120"/>
            <a:ext cx="2628720" cy="2171520"/>
          </a:xfrm>
          <a:custGeom>
            <a:avLst/>
            <a:gdLst/>
            <a:ahLst/>
            <a:rect l="l" t="t" r="r" b="b"/>
            <a:pathLst>
              <a:path w="1656" h="1368">
                <a:moveTo>
                  <a:pt x="0" y="0"/>
                </a:moveTo>
                <a:lnTo>
                  <a:pt x="1656" y="1368"/>
                </a:ln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309320" y="50101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4788000" y="4653000"/>
                <a:ext cx="28796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АD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3995640" y="4005360"/>
                <a:ext cx="42894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∠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5" name=""/>
          <p:cNvSpPr/>
          <p:nvPr/>
        </p:nvSpPr>
        <p:spPr>
          <a:xfrm>
            <a:off x="8352000" y="450864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В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13080" y="35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69800" y="2882880"/>
            <a:ext cx="3645000" cy="2146320"/>
          </a:xfrm>
          <a:custGeom>
            <a:avLst/>
            <a:gdLst/>
            <a:ahLst/>
            <a:rect l="l" t="t" r="r" b="b"/>
            <a:pathLst>
              <a:path w="2296" h="1352">
                <a:moveTo>
                  <a:pt x="0" y="1352"/>
                </a:moveTo>
                <a:lnTo>
                  <a:pt x="688" y="0"/>
                </a:lnTo>
                <a:lnTo>
                  <a:pt x="2296" y="1336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523880" y="2832120"/>
            <a:ext cx="12960" cy="2184480"/>
          </a:xfrm>
          <a:custGeom>
            <a:avLst/>
            <a:gdLst/>
            <a:ahLst/>
            <a:rect l="l" t="t" r="r" b="b"/>
            <a:pathLst>
              <a:path w="8" h="1376">
                <a:moveTo>
                  <a:pt x="8" y="0"/>
                </a:moveTo>
                <a:lnTo>
                  <a:pt x="0" y="1376"/>
                </a:lnTo>
              </a:path>
            </a:pathLst>
          </a:custGeom>
          <a:noFill/>
          <a:ln w="4752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rot="8056200">
            <a:off x="825480" y="4439880"/>
            <a:ext cx="293760" cy="57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594" y="1361"/>
                  <a:pt x="7587" y="5080"/>
                  <a:pt x="7587" y="10800"/>
                </a:cubicBezTo>
                <a:cubicBezTo>
                  <a:pt x="7587" y="16520"/>
                  <a:pt x="14594" y="2023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rot="10800000">
            <a:off x="8243640" y="4363560"/>
            <a:ext cx="215640" cy="1008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4626000" y="3500280"/>
                <a:ext cx="39974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∠</m:t>
                    </m:r>
                    <m:r>
                      <m:t xml:space="preserve">А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∠</m:t>
                    </m:r>
                    <m:r>
                      <m:t xml:space="preserve">А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9" dur="indefinite" restart="never" nodeType="tmRoot">
          <p:childTnLst>
            <p:seq>
              <p:cTn id="1920" dur="indefinite" nodeType="mainSeq">
                <p:childTnLst>
                  <p:par>
                    <p:cTn id="1921" fill="hold">
                      <p:stCondLst>
                        <p:cond delay="0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5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7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2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5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7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2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5" restart="whenNotActive" nodeType="interactiveSeq" fill="hold">
                <p:stCondLst>
                  <p:cond evt="onClick">
                    <p:tgtEl>
                      <p:spTgt spid="753"/>
                    </p:tgtEl>
                  </p:cond>
                </p:stCondLst>
                <p:childTnLst>
                  <p:par>
                    <p:cTn id="1946" fill="hold">
                      <p:stCondLst>
                        <p:cond evt="onClick">
                          <p:tgtEl>
                            <p:spTgt spid="753"/>
                          </p:tgtEl>
                        </p:cond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0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1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2" fill="hold">
                      <p:stCondLst>
                        <p:cond evt="onClick">
                          <p:tgtEl>
                            <p:spTgt spid="753"/>
                          </p:tgtEl>
                        </p:cond>
                      </p:stCondLst>
                      <p:childTnLst>
                        <p:par>
                          <p:cTn id="1953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6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0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4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9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fill="hold">
                      <p:stCondLst>
                        <p:cond evt="onClick">
                          <p:tgtEl>
                            <p:spTgt spid="753"/>
                          </p:tgtEl>
                        </p:cond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4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5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fill="hold">
                      <p:stCondLst>
                        <p:cond evt="onClick">
                          <p:tgtEl>
                            <p:spTgt spid="753"/>
                          </p:tgtEl>
                        </p:cond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0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1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evt="onClick">
                          <p:tgtEl>
                            <p:spTgt spid="753"/>
                          </p:tgtEl>
                        </p:cond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1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5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7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2195640" y="260280"/>
            <a:ext cx="676908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диус круга равен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те его площад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6988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5796000" y="3573360"/>
                <a:ext cx="156852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75" name=""/>
          <p:cNvSpPr/>
          <p:nvPr/>
        </p:nvSpPr>
        <p:spPr>
          <a:xfrm>
            <a:off x="4716360" y="1989000"/>
            <a:ext cx="396108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292720" y="5661000"/>
            <a:ext cx="280836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228720" y="5734080"/>
            <a:ext cx="107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,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11280" y="2637000"/>
            <a:ext cx="2952720" cy="2952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11280" y="2637000"/>
            <a:ext cx="2952720" cy="295272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909800" y="299736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S-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050920" y="4076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09480" y="4089240"/>
            <a:ext cx="1511280" cy="25560"/>
          </a:xfrm>
          <a:custGeom>
            <a:avLst/>
            <a:gdLst/>
            <a:ahLst/>
            <a:rect l="l" t="t" r="r" b="b"/>
            <a:pathLst>
              <a:path w="952" h="16">
                <a:moveTo>
                  <a:pt x="0" y="0"/>
                </a:moveTo>
                <a:lnTo>
                  <a:pt x="952" y="16"/>
                </a:ln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117800" y="364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981800" y="4076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5" name=""/>
              <p:cNvSpPr txBox="1"/>
              <p:nvPr/>
            </p:nvSpPr>
            <p:spPr>
              <a:xfrm>
                <a:off x="250920" y="5950080"/>
                <a:ext cx="161928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8" dur="indefinite" restart="never" nodeType="tmRoot">
          <p:childTnLst>
            <p:seq>
              <p:cTn id="1999" dur="indefinite" nodeType="mainSeq">
                <p:childTnLst>
                  <p:par>
                    <p:cTn id="2000" fill="hold">
                      <p:stCondLst>
                        <p:cond delay="0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4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6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fill="hold">
                      <p:stCondLst>
                        <p:cond delay="indefinite"/>
                      </p:stCondLst>
                      <p:childTnLst>
                        <p:par>
                          <p:cTn id="2008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1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4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6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1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4" restart="whenNotActive" nodeType="interactiveSeq" fill="hold">
                <p:stCondLst>
                  <p:cond evt="onClick">
                    <p:tgtEl>
                      <p:spTgt spid="775"/>
                    </p:tgtEl>
                  </p:cond>
                </p:stCondLst>
                <p:childTnLst>
                  <p:par>
                    <p:cTn id="2025" fill="hold">
                      <p:stCondLst>
                        <p:cond evt="onClick">
                          <p:tgtEl>
                            <p:spTgt spid="775"/>
                          </p:tgtEl>
                        </p:cond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9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0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2195640" y="260280"/>
            <a:ext cx="676908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те площадь кругового сектор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радиус круга равен 3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угол сектора равен 1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6988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5508720" y="3284640"/>
                <a:ext cx="2219400" cy="12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9" name=""/>
          <p:cNvSpPr/>
          <p:nvPr/>
        </p:nvSpPr>
        <p:spPr>
          <a:xfrm>
            <a:off x="4716360" y="1989000"/>
            <a:ext cx="396108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292720" y="5661000"/>
            <a:ext cx="280836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085800" y="5734080"/>
            <a:ext cx="13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,4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325440" y="184464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S-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050920" y="4076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189080" y="40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981800" y="4076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635040" y="2641680"/>
            <a:ext cx="2286000" cy="1460520"/>
          </a:xfrm>
          <a:custGeom>
            <a:avLst/>
            <a:gdLst/>
            <a:ahLst/>
            <a:rect l="l" t="t" r="r" b="b"/>
            <a:pathLst>
              <a:path w="1440" h="920">
                <a:moveTo>
                  <a:pt x="0" y="888"/>
                </a:moveTo>
                <a:lnTo>
                  <a:pt x="928" y="920"/>
                </a:lnTo>
                <a:lnTo>
                  <a:pt x="1440" y="168"/>
                </a:lnTo>
                <a:lnTo>
                  <a:pt x="1240" y="72"/>
                </a:lnTo>
                <a:lnTo>
                  <a:pt x="1088" y="8"/>
                </a:lnTo>
                <a:lnTo>
                  <a:pt x="888" y="0"/>
                </a:lnTo>
                <a:lnTo>
                  <a:pt x="656" y="40"/>
                </a:lnTo>
                <a:lnTo>
                  <a:pt x="416" y="144"/>
                </a:lnTo>
                <a:lnTo>
                  <a:pt x="272" y="280"/>
                </a:lnTo>
                <a:lnTo>
                  <a:pt x="128" y="464"/>
                </a:lnTo>
                <a:lnTo>
                  <a:pt x="40" y="664"/>
                </a:lnTo>
                <a:lnTo>
                  <a:pt x="8" y="880"/>
                </a:lnTo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11280" y="2637000"/>
            <a:ext cx="2952720" cy="295272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082960" y="2882880"/>
            <a:ext cx="799920" cy="1219320"/>
          </a:xfrm>
          <a:custGeom>
            <a:avLst/>
            <a:gdLst/>
            <a:ahLst/>
            <a:rect l="l" t="t" r="r" b="b"/>
            <a:pathLst>
              <a:path w="504" h="768">
                <a:moveTo>
                  <a:pt x="504" y="0"/>
                </a:moveTo>
                <a:lnTo>
                  <a:pt x="0" y="768"/>
                </a:ln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11280" y="4076640"/>
            <a:ext cx="1511280" cy="25560"/>
          </a:xfrm>
          <a:custGeom>
            <a:avLst/>
            <a:gdLst/>
            <a:ahLst/>
            <a:rect l="l" t="t" r="r" b="b"/>
            <a:pathLst>
              <a:path w="952" h="16">
                <a:moveTo>
                  <a:pt x="0" y="0"/>
                </a:moveTo>
                <a:lnTo>
                  <a:pt x="952" y="16"/>
                </a:ln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1268280" y="335772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rot="3552000">
            <a:off x="1760040" y="3574800"/>
            <a:ext cx="293760" cy="5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594" y="1361"/>
                  <a:pt x="7587" y="5080"/>
                  <a:pt x="7587" y="10800"/>
                </a:cubicBezTo>
                <a:cubicBezTo>
                  <a:pt x="7587" y="16520"/>
                  <a:pt x="14594" y="2023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2" name=""/>
              <p:cNvSpPr txBox="1"/>
              <p:nvPr/>
            </p:nvSpPr>
            <p:spPr>
              <a:xfrm>
                <a:off x="250920" y="5950080"/>
                <a:ext cx="161928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1" dur="indefinite" restart="never" nodeType="tmRoot">
          <p:childTnLst>
            <p:seq>
              <p:cTn id="2032" dur="indefinite" nodeType="mainSeq">
                <p:childTnLst>
                  <p:par>
                    <p:cTn id="2033" fill="hold">
                      <p:stCondLst>
                        <p:cond delay="0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7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9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fill="hold">
                      <p:stCondLst>
                        <p:cond delay="indefinite"/>
                      </p:stCondLst>
                      <p:childTnLst>
                        <p:par>
                          <p:cTn id="2041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4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7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9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fill="hold">
                      <p:stCondLst>
                        <p:cond delay="indefinite"/>
                      </p:stCondLst>
                      <p:childTnLst>
                        <p:par>
                          <p:cTn id="2051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4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6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7" restart="whenNotActive" nodeType="interactiveSeq" fill="hold">
                <p:stCondLst>
                  <p:cond evt="onClick">
                    <p:tgtEl>
                      <p:spTgt spid="789"/>
                    </p:tgtEl>
                  </p:cond>
                </p:stCondLst>
                <p:childTnLst>
                  <p:par>
                    <p:cTn id="2058" fill="hold">
                      <p:stCondLst>
                        <p:cond evt="onClick">
                          <p:tgtEl>
                            <p:spTgt spid="789"/>
                          </p:tgtEl>
                        </p:cond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2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3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2195640" y="260280"/>
            <a:ext cx="676908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те площадь кругового сектор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длина ограничивающей его дуг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вна      , а угол сектора равен 1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№ 1698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4788000" y="2852640"/>
                <a:ext cx="198756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3851280" y="1197000"/>
                <a:ext cx="4906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7" name=""/>
          <p:cNvSpPr/>
          <p:nvPr/>
        </p:nvSpPr>
        <p:spPr>
          <a:xfrm>
            <a:off x="4716360" y="1989000"/>
            <a:ext cx="396108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 (5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292720" y="5661000"/>
            <a:ext cx="280836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157440" y="5734080"/>
            <a:ext cx="107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9,6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5435640" y="4005360"/>
                <a:ext cx="230508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1" name=""/>
          <p:cNvSpPr/>
          <p:nvPr/>
        </p:nvSpPr>
        <p:spPr>
          <a:xfrm>
            <a:off x="685800" y="177336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S-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050920" y="4076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86160" y="2637000"/>
            <a:ext cx="4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981800" y="4076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35040" y="2641680"/>
            <a:ext cx="2286000" cy="1460520"/>
          </a:xfrm>
          <a:custGeom>
            <a:avLst/>
            <a:gdLst/>
            <a:ahLst/>
            <a:rect l="l" t="t" r="r" b="b"/>
            <a:pathLst>
              <a:path w="1440" h="920">
                <a:moveTo>
                  <a:pt x="0" y="888"/>
                </a:moveTo>
                <a:lnTo>
                  <a:pt x="928" y="920"/>
                </a:lnTo>
                <a:lnTo>
                  <a:pt x="1440" y="168"/>
                </a:lnTo>
                <a:lnTo>
                  <a:pt x="1240" y="72"/>
                </a:lnTo>
                <a:lnTo>
                  <a:pt x="1088" y="8"/>
                </a:lnTo>
                <a:lnTo>
                  <a:pt x="888" y="0"/>
                </a:lnTo>
                <a:lnTo>
                  <a:pt x="656" y="40"/>
                </a:lnTo>
                <a:lnTo>
                  <a:pt x="416" y="144"/>
                </a:lnTo>
                <a:lnTo>
                  <a:pt x="272" y="280"/>
                </a:lnTo>
                <a:lnTo>
                  <a:pt x="128" y="464"/>
                </a:lnTo>
                <a:lnTo>
                  <a:pt x="40" y="664"/>
                </a:lnTo>
                <a:lnTo>
                  <a:pt x="8" y="880"/>
                </a:lnTo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11280" y="2637000"/>
            <a:ext cx="2952720" cy="295272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082960" y="2882880"/>
            <a:ext cx="799920" cy="1219320"/>
          </a:xfrm>
          <a:custGeom>
            <a:avLst/>
            <a:gdLst/>
            <a:ahLst/>
            <a:rect l="l" t="t" r="r" b="b"/>
            <a:pathLst>
              <a:path w="504" h="768">
                <a:moveTo>
                  <a:pt x="504" y="0"/>
                </a:moveTo>
                <a:lnTo>
                  <a:pt x="0" y="768"/>
                </a:ln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11280" y="4076640"/>
            <a:ext cx="1511280" cy="25560"/>
          </a:xfrm>
          <a:custGeom>
            <a:avLst/>
            <a:gdLst/>
            <a:ahLst/>
            <a:rect l="l" t="t" r="r" b="b"/>
            <a:pathLst>
              <a:path w="952" h="16">
                <a:moveTo>
                  <a:pt x="0" y="0"/>
                </a:moveTo>
                <a:lnTo>
                  <a:pt x="952" y="16"/>
                </a:ln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268280" y="335772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rot="3552000">
            <a:off x="1760040" y="3574800"/>
            <a:ext cx="293760" cy="5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594" y="1361"/>
                  <a:pt x="7587" y="5080"/>
                  <a:pt x="7587" y="10800"/>
                </a:cubicBezTo>
                <a:cubicBezTo>
                  <a:pt x="7587" y="16520"/>
                  <a:pt x="14594" y="2023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7021440" y="3357720"/>
            <a:ext cx="797040" cy="269640"/>
          </a:xfrm>
          <a:prstGeom prst="rightArrow">
            <a:avLst>
              <a:gd name="adj1" fmla="val 50000"/>
              <a:gd name="adj2" fmla="val 73899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7886880" y="314172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3" name=""/>
              <p:cNvSpPr txBox="1"/>
              <p:nvPr/>
            </p:nvSpPr>
            <p:spPr>
              <a:xfrm>
                <a:off x="250920" y="5950080"/>
                <a:ext cx="161928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4" dur="indefinite" restart="never" nodeType="tmRoot">
          <p:childTnLst>
            <p:seq>
              <p:cTn id="2065" dur="indefinite" nodeType="mainSeq">
                <p:childTnLst>
                  <p:par>
                    <p:cTn id="2066" fill="hold">
                      <p:stCondLst>
                        <p:cond delay="0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0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2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7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0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2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9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0" restart="whenNotActive" nodeType="interactiveSeq" fill="hold">
                <p:stCondLst>
                  <p:cond evt="onClick">
                    <p:tgtEl>
                      <p:spTgt spid="807"/>
                    </p:tgtEl>
                  </p:cond>
                </p:stCondLst>
                <p:childTnLst>
                  <p:par>
                    <p:cTn id="2091" fill="hold">
                      <p:stCondLst>
                        <p:cond evt="onClick">
                          <p:tgtEl>
                            <p:spTgt spid="807"/>
                          </p:tgtEl>
                        </p:cond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0" dur="1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4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6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evt="onClick">
                          <p:tgtEl>
                            <p:spTgt spid="807"/>
                          </p:tgtEl>
                        </p:cond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1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2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2195640" y="260280"/>
            <a:ext cx="676908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диус круга равен 3, а дл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граничивающей его окружности равна 6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площадь кру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№ 16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1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5867280" y="2781360"/>
                <a:ext cx="156852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27" name=""/>
          <p:cNvSpPr/>
          <p:nvPr/>
        </p:nvSpPr>
        <p:spPr>
          <a:xfrm>
            <a:off x="4716360" y="1989000"/>
            <a:ext cx="396108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3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292720" y="5661000"/>
            <a:ext cx="280836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085800" y="5734080"/>
            <a:ext cx="13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11280" y="2637000"/>
            <a:ext cx="2952720" cy="2952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11280" y="2637000"/>
            <a:ext cx="2952720" cy="295272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909800" y="299736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S-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050920" y="4076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09480" y="4089240"/>
            <a:ext cx="1511280" cy="25560"/>
          </a:xfrm>
          <a:custGeom>
            <a:avLst/>
            <a:gdLst/>
            <a:ahLst/>
            <a:rect l="l" t="t" r="r" b="b"/>
            <a:pathLst>
              <a:path w="952" h="16">
                <a:moveTo>
                  <a:pt x="0" y="0"/>
                </a:moveTo>
                <a:lnTo>
                  <a:pt x="952" y="16"/>
                </a:ln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117800" y="364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981800" y="4076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7" name=""/>
              <p:cNvSpPr txBox="1"/>
              <p:nvPr/>
            </p:nvSpPr>
            <p:spPr>
              <a:xfrm>
                <a:off x="468360" y="6162840"/>
                <a:ext cx="182880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8" name=""/>
              <p:cNvSpPr txBox="1"/>
              <p:nvPr/>
            </p:nvSpPr>
            <p:spPr>
              <a:xfrm>
                <a:off x="5292720" y="3860640"/>
                <a:ext cx="16556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9" name=""/>
              <p:cNvSpPr txBox="1"/>
              <p:nvPr/>
            </p:nvSpPr>
            <p:spPr>
              <a:xfrm>
                <a:off x="2627280" y="6165720"/>
                <a:ext cx="151128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0" name=""/>
              <p:cNvSpPr txBox="1"/>
              <p:nvPr/>
            </p:nvSpPr>
            <p:spPr>
              <a:xfrm>
                <a:off x="5292720" y="4365720"/>
                <a:ext cx="14400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1" name=""/>
          <p:cNvSpPr/>
          <p:nvPr/>
        </p:nvSpPr>
        <p:spPr>
          <a:xfrm>
            <a:off x="7526520" y="400536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rot="10800000">
            <a:off x="7202520" y="3860280"/>
            <a:ext cx="216000" cy="1008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8496360" y="6391440"/>
            <a:ext cx="647640" cy="466560"/>
          </a:xfrm>
          <a:custGeom>
            <a:avLst/>
            <a:gdLst>
              <a:gd name="textAreaLeft" fmla="*/ 30240 w 647640"/>
              <a:gd name="textAreaRight" fmla="*/ 617400 w 64764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29977" h="21600">
                <a:moveTo>
                  <a:pt x="0" y="0"/>
                </a:moveTo>
                <a:lnTo>
                  <a:pt x="29977" y="0"/>
                </a:lnTo>
                <a:lnTo>
                  <a:pt x="29977" y="21600"/>
                </a:lnTo>
                <a:lnTo>
                  <a:pt x="0" y="21600"/>
                </a:lnTo>
                <a:close/>
              </a:path>
              <a:path fill="lightenLess" w="29977" h="21600">
                <a:moveTo>
                  <a:pt x="0" y="0"/>
                </a:moveTo>
                <a:lnTo>
                  <a:pt x="29977" y="0"/>
                </a:lnTo>
                <a:lnTo>
                  <a:pt x="28577" y="1400"/>
                </a:lnTo>
                <a:lnTo>
                  <a:pt x="1400" y="1400"/>
                </a:lnTo>
                <a:close/>
              </a:path>
              <a:path fill="darken" w="29977" h="21600">
                <a:moveTo>
                  <a:pt x="29977" y="0"/>
                </a:moveTo>
                <a:lnTo>
                  <a:pt x="29977" y="21600"/>
                </a:lnTo>
                <a:lnTo>
                  <a:pt x="28577" y="20200"/>
                </a:lnTo>
                <a:lnTo>
                  <a:pt x="28577" y="1400"/>
                </a:lnTo>
                <a:close/>
              </a:path>
              <a:path fill="darkenLess" w="29977" h="21600">
                <a:moveTo>
                  <a:pt x="29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77" y="20200"/>
                </a:lnTo>
                <a:close/>
              </a:path>
              <a:path fill="lighten" w="29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77" h="21600">
                <a:moveTo>
                  <a:pt x="11490" y="10800"/>
                </a:moveTo>
                <a:lnTo>
                  <a:pt x="21995" y="3794"/>
                </a:lnTo>
                <a:lnTo>
                  <a:pt x="21995" y="17806"/>
                </a:lnTo>
                <a:close/>
              </a:path>
              <a:path fill="darken" w="29977" h="21600">
                <a:moveTo>
                  <a:pt x="7982" y="3794"/>
                </a:moveTo>
                <a:lnTo>
                  <a:pt x="9644" y="3794"/>
                </a:lnTo>
                <a:lnTo>
                  <a:pt x="9644" y="17806"/>
                </a:lnTo>
                <a:lnTo>
                  <a:pt x="7982" y="1780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3" dur="indefinite" restart="never" nodeType="tmRoot">
          <p:childTnLst>
            <p:seq>
              <p:cTn id="2114" dur="indefinite" nodeType="mainSeq">
                <p:childTnLst>
                  <p:par>
                    <p:cTn id="2115" fill="hold">
                      <p:stCondLst>
                        <p:cond delay="0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9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1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fill="hold">
                      <p:stCondLst>
                        <p:cond delay="indefinite"/>
                      </p:stCondLst>
                      <p:childTnLst>
                        <p:par>
                          <p:cTn id="2123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6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9" dur="1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0" dur="1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1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2" fill="hold">
                      <p:stCondLst>
                        <p:cond delay="indefinite"/>
                      </p:stCondLst>
                      <p:childTnLst>
                        <p:par>
                          <p:cTn id="2133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6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7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8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9" restart="whenNotActive" nodeType="interactiveSeq" fill="hold">
                <p:stCondLst>
                  <p:cond evt="onClick">
                    <p:tgtEl>
                      <p:spTgt spid="827"/>
                    </p:tgtEl>
                  </p:cond>
                </p:stCondLst>
                <p:childTnLst>
                  <p:par>
                    <p:cTn id="2140" fill="hold">
                      <p:stCondLst>
                        <p:cond evt="onClick">
                          <p:tgtEl>
                            <p:spTgt spid="827"/>
                          </p:tgtEl>
                        </p:cond>
                      </p:stCondLst>
                      <p:childTnLst>
                        <p:par>
                          <p:cTn id="2141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4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5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6" fill="hold">
                      <p:stCondLst>
                        <p:cond evt="onClick">
                          <p:tgtEl>
                            <p:spTgt spid="827"/>
                          </p:tgtEl>
                        </p:cond>
                      </p:stCondLst>
                      <p:childTnLst>
                        <p:par>
                          <p:cTn id="2147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0" dur="1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1" dur="1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2" fill="hold">
                      <p:stCondLst>
                        <p:cond evt="onClick">
                          <p:tgtEl>
                            <p:spTgt spid="827"/>
                          </p:tgtEl>
                        </p:cond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6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7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1" dur="1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5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7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616320" y="2349360"/>
            <a:ext cx="796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athgia.ru:8080/or/gia12/Main.html?view=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684360" y="692280"/>
            <a:ext cx="7775280" cy="1512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создании презентации были использов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дачи с сай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Открытый банк заданий по математик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А – 20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84360" y="4653000"/>
            <a:ext cx="7775280" cy="1512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асибо за проявленный интер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 данной разработк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ЕМ ТВОРЧЕСКИХ УСПЕ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УСПЕШНЫХ УЧЕНИКОВ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95640" y="260280"/>
            <a:ext cx="676908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рямоугольном треугольнике один 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тетов равен 10, а острый уго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лежащий к нему, равен 3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те площадь треуголь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260280"/>
            <a:ext cx="187164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6983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2133720"/>
            <a:ext cx="3097440" cy="4032000"/>
          </a:xfrm>
          <a:prstGeom prst="rtTriangle">
            <a:avLst/>
          </a:prstGeom>
          <a:blipFill rotWithShape="0">
            <a:blip r:embed="rId2">
              <a:alphaModFix amt="99000"/>
            </a:blip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3080" y="1916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26160" y="6165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7440" y="6165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42920" y="5734080"/>
            <a:ext cx="432000" cy="411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05080" y="436572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S-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16360" y="1989000"/>
            <a:ext cx="396108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 (3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416480" y="3500280"/>
                <a:ext cx="239400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003640" y="2565360"/>
                <a:ext cx="273708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470520" y="4076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5018000">
            <a:off x="1243080" y="2869560"/>
            <a:ext cx="293400" cy="547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594" y="1361"/>
                  <a:pt x="7587" y="5080"/>
                  <a:pt x="7587" y="10800"/>
                </a:cubicBezTo>
                <a:cubicBezTo>
                  <a:pt x="7587" y="16520"/>
                  <a:pt x="14594" y="2023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67920" y="328464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2133720"/>
            <a:ext cx="3097440" cy="4032000"/>
          </a:xfrm>
          <a:prstGeom prst="rtTriangl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06280" y="364500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92720" y="5661000"/>
            <a:ext cx="280836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53200" y="3932280"/>
            <a:ext cx="976320" cy="216000"/>
          </a:xfrm>
          <a:prstGeom prst="rightArrow">
            <a:avLst>
              <a:gd name="adj1" fmla="val 50000"/>
              <a:gd name="adj2" fmla="val 113000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695760" y="4726080"/>
                <a:ext cx="33130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7224840" y="4941720"/>
            <a:ext cx="976320" cy="216000"/>
          </a:xfrm>
          <a:prstGeom prst="rightArrow">
            <a:avLst>
              <a:gd name="adj1" fmla="val 50000"/>
              <a:gd name="adj2" fmla="val 113000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77560" y="465300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В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227640" y="5661000"/>
                <a:ext cx="811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195640" y="260280"/>
            <a:ext cx="676908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рямоугольном треугольнике гипотену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вна 10, а один из острых углов равен 3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те площадь треуголь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260280"/>
            <a:ext cx="187164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6984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16360" y="1989000"/>
            <a:ext cx="396108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 (3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877080" y="3573360"/>
                <a:ext cx="16891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861080" y="3573360"/>
                <a:ext cx="18000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С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932360" y="4950000"/>
                <a:ext cx="33908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В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292720" y="2565360"/>
                <a:ext cx="280836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С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A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508720" y="4005360"/>
                <a:ext cx="20239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А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1042920" y="2133720"/>
            <a:ext cx="3097440" cy="4032000"/>
          </a:xfrm>
          <a:prstGeom prst="rtTriangle">
            <a:avLst/>
          </a:prstGeom>
          <a:blipFill rotWithShape="0">
            <a:blip r:embed="rId2">
              <a:alphaModFix amt="99000"/>
            </a:blip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3080" y="1916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26160" y="6165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3080" y="6093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42920" y="5734080"/>
            <a:ext cx="432000" cy="411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05080" y="436572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S-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29440" y="3789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5018000">
            <a:off x="1243080" y="2869560"/>
            <a:ext cx="293400" cy="547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594" y="1361"/>
                  <a:pt x="7587" y="5080"/>
                  <a:pt x="7587" y="10800"/>
                </a:cubicBezTo>
                <a:cubicBezTo>
                  <a:pt x="7587" y="16520"/>
                  <a:pt x="14594" y="2023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67920" y="328464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42920" y="2133720"/>
            <a:ext cx="3097440" cy="4032000"/>
          </a:xfrm>
          <a:prstGeom prst="rtTriangl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92720" y="5661000"/>
            <a:ext cx="280836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156360" y="5661000"/>
                <a:ext cx="8128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95640" y="260280"/>
            <a:ext cx="676908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рямоугольном треугольнике один из кат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вен 10, а угол, лежащий напротив нег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вен 4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. Найдит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ощад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треуголь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260280"/>
            <a:ext cx="187164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698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1640" y="1989000"/>
            <a:ext cx="3457440" cy="3456000"/>
          </a:xfrm>
          <a:prstGeom prst="rtTriangle">
            <a:avLst/>
          </a:prstGeom>
          <a:blipFill rotWithShape="0">
            <a:blip r:embed="rId2">
              <a:alphaModFix amt="99000"/>
            </a:blip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3080" y="1916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42160" y="544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3080" y="544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71640" y="5084640"/>
            <a:ext cx="431640" cy="347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33440" y="372276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S-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16360" y="1989000"/>
            <a:ext cx="396108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 (2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6804000" y="3860640"/>
                <a:ext cx="16891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788000" y="3860640"/>
                <a:ext cx="18000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С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724360" y="5084640"/>
                <a:ext cx="18799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А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С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5292720" y="2565360"/>
                <a:ext cx="280836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2197800" y="5589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5018000">
            <a:off x="1147680" y="2460600"/>
            <a:ext cx="250560" cy="60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594" y="1361"/>
                  <a:pt x="7587" y="5080"/>
                  <a:pt x="7587" y="10800"/>
                </a:cubicBezTo>
                <a:cubicBezTo>
                  <a:pt x="7587" y="16520"/>
                  <a:pt x="14594" y="2023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25000" y="285264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1989000"/>
            <a:ext cx="3457440" cy="3456000"/>
          </a:xfrm>
          <a:prstGeom prst="rtTriangl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5292720" y="4437000"/>
                <a:ext cx="27874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292720" y="5661000"/>
            <a:ext cx="280836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6156360" y="5646600"/>
                <a:ext cx="93672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195640" y="260280"/>
            <a:ext cx="676908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рямоугольном треугольнике гипотену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вна 10, а один из острых углов равен 4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те площадь треуголь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260280"/>
            <a:ext cx="187164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6984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71640" y="1989000"/>
            <a:ext cx="3457440" cy="3456000"/>
          </a:xfrm>
          <a:prstGeom prst="rtTriangle">
            <a:avLst/>
          </a:prstGeom>
          <a:blipFill rotWithShape="0">
            <a:blip r:embed="rId2">
              <a:alphaModFix amt="99000"/>
            </a:blip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3080" y="1916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42160" y="544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3080" y="544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71640" y="5084640"/>
            <a:ext cx="431640" cy="347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33440" y="372276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S-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16360" y="1989000"/>
            <a:ext cx="396108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 (3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120080" y="3573360"/>
                <a:ext cx="16891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103720" y="3573360"/>
                <a:ext cx="18003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С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7264440" y="4149720"/>
                <a:ext cx="18795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А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С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651640" y="2492280"/>
                <a:ext cx="223344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2702520" y="3284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5018000">
            <a:off x="1147680" y="2460600"/>
            <a:ext cx="250560" cy="60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594" y="1361"/>
                  <a:pt x="7587" y="5080"/>
                  <a:pt x="7587" y="10800"/>
                </a:cubicBezTo>
                <a:cubicBezTo>
                  <a:pt x="7587" y="16520"/>
                  <a:pt x="14594" y="2023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25000" y="285264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71640" y="1989000"/>
            <a:ext cx="3457440" cy="3456000"/>
          </a:xfrm>
          <a:prstGeom prst="rtTriangl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951360" y="4149720"/>
                <a:ext cx="295272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5292720" y="5661000"/>
            <a:ext cx="280836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6300720" y="5661000"/>
                <a:ext cx="9367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527720" y="4797360"/>
                <a:ext cx="233028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6975360" y="5013360"/>
            <a:ext cx="976320" cy="216000"/>
          </a:xfrm>
          <a:prstGeom prst="rightArrow">
            <a:avLst>
              <a:gd name="adj1" fmla="val 50000"/>
              <a:gd name="adj2" fmla="val 113000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068320" y="4797360"/>
            <a:ext cx="89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АС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000"/>
                            </p:stCondLst>
                            <p:childTnLst>
                              <p:par>
                                <p:cTn id="29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195640" y="260280"/>
            <a:ext cx="676908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рямоугольном треугольнике од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катетов равен 10, а уго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жащий напротив, равен 6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те площадь треуголь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9280" y="260280"/>
            <a:ext cx="187164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698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716360" y="1989000"/>
            <a:ext cx="396108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 (3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930920" y="4870440"/>
                <a:ext cx="33908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219640" y="2565360"/>
                <a:ext cx="280836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С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A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1042920" y="2133720"/>
            <a:ext cx="3097440" cy="4032000"/>
          </a:xfrm>
          <a:prstGeom prst="rtTriangle">
            <a:avLst/>
          </a:prstGeom>
          <a:blipFill rotWithShape="0">
            <a:blip r:embed="rId2">
              <a:alphaModFix amt="99000"/>
            </a:blip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13080" y="1916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26160" y="6165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1440" y="6021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42920" y="5734080"/>
            <a:ext cx="432000" cy="411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05080" y="436572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S-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42160" y="4221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819200">
            <a:off x="3340080" y="5513040"/>
            <a:ext cx="293760" cy="5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594" y="1361"/>
                  <a:pt x="7587" y="5080"/>
                  <a:pt x="7587" y="10800"/>
                </a:cubicBezTo>
                <a:cubicBezTo>
                  <a:pt x="7587" y="16520"/>
                  <a:pt x="14594" y="2023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52280" y="537372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42920" y="2133720"/>
            <a:ext cx="3097440" cy="4032000"/>
          </a:xfrm>
          <a:prstGeom prst="rtTriangl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2720" y="5661000"/>
            <a:ext cx="280836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5940360" y="5661000"/>
                <a:ext cx="1440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356000" y="3718080"/>
                <a:ext cx="239400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8246160" y="386244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093080" y="4149720"/>
            <a:ext cx="976320" cy="216000"/>
          </a:xfrm>
          <a:prstGeom prst="rightArrow">
            <a:avLst>
              <a:gd name="adj1" fmla="val 50000"/>
              <a:gd name="adj2" fmla="val 113000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195640" y="260280"/>
            <a:ext cx="676908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рямоугольном треугольнике од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катетов равен 10, а острый уго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лежащий к нему, равен 6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те площадь треуголь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260280"/>
            <a:ext cx="187164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6984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16360" y="1989000"/>
            <a:ext cx="396108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 (4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7165800" y="3573360"/>
                <a:ext cx="16891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213080" y="3573360"/>
                <a:ext cx="17668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932360" y="4950000"/>
                <a:ext cx="33908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В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5076720" y="2565360"/>
                <a:ext cx="280836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С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A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357800" y="4005360"/>
                <a:ext cx="20239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А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1042920" y="2133720"/>
            <a:ext cx="3097440" cy="4032000"/>
          </a:xfrm>
          <a:prstGeom prst="rtTriangle">
            <a:avLst/>
          </a:prstGeom>
          <a:blipFill rotWithShape="0">
            <a:blip r:embed="rId2">
              <a:alphaModFix amt="99000"/>
            </a:blip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3080" y="1916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26160" y="6165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1440" y="6021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42920" y="5734080"/>
            <a:ext cx="432000" cy="411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05080" y="436572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S-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26160" y="6165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819200">
            <a:off x="3340080" y="5513040"/>
            <a:ext cx="293760" cy="5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594" y="1361"/>
                  <a:pt x="7587" y="5080"/>
                  <a:pt x="7587" y="10800"/>
                </a:cubicBezTo>
                <a:cubicBezTo>
                  <a:pt x="7587" y="16520"/>
                  <a:pt x="14594" y="2023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52280" y="537372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42920" y="2133720"/>
            <a:ext cx="3097440" cy="4032000"/>
          </a:xfrm>
          <a:prstGeom prst="rtTriangl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92720" y="5661000"/>
            <a:ext cx="280836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5940360" y="5661000"/>
                <a:ext cx="1440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6157800" y="3789360"/>
            <a:ext cx="976320" cy="216000"/>
          </a:xfrm>
          <a:prstGeom prst="rightArrow">
            <a:avLst>
              <a:gd name="adj1" fmla="val 50000"/>
              <a:gd name="adj2" fmla="val 113000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45080" y="4437000"/>
            <a:ext cx="976320" cy="216000"/>
          </a:xfrm>
          <a:prstGeom prst="rightArrow">
            <a:avLst>
              <a:gd name="adj1" fmla="val 50000"/>
              <a:gd name="adj2" fmla="val 113000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26880" y="414972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393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8T10:13:57Z</dcterms:created>
  <dc:creator>КарМаН</dc:creator>
  <dc:description/>
  <dc:language>en-US</dc:language>
  <cp:lastModifiedBy>Марина</cp:lastModifiedBy>
  <dcterms:modified xsi:type="dcterms:W3CDTF">2011-10-07T18:52:02Z</dcterms:modified>
  <cp:revision>19</cp:revision>
  <dc:subject/>
  <dc:title>Слайд 1</dc:title>
</cp:coreProperties>
</file>