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2.png" ContentType="image/png"/>
  <Override PartName="/ppt/media/image17.png" ContentType="image/png"/>
  <Override PartName="/ppt/media/image15.gif" ContentType="image/gif"/>
  <Override PartName="/ppt/media/image16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1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6C43-6413-42A3-B2EE-C597AAA6D1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.С. Атанасян и др.   Геометрия 7-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.И. Звавич, Е.В. Потоскуев «Тестовые задания по геометрии»  8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D2E-A035-4FA0-AB90-00D6ACE1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087-33D0-4D6D-9640-DB95457C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C82-A811-4454-8324-95573BBA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7AC-F210-4AA6-8E70-5326899F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E14-75C7-4351-93AE-0482D03A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718-4F5E-4EB5-91ED-47C1345C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420-7643-443B-8313-7B50B737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B48-AD93-4DC7-B7A0-6C929CE7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36B-1BF3-4694-A6EF-3F6BB1B9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45D-BAF5-405E-9169-9775C436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093-2C93-4C1D-9EFD-7D7764E6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B24-3939-4686-803C-6B1CD3C0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3D01-D390-4223-B585-0EA25AC73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no Pro Smbd"/>
              </a:rPr>
              <a:t>Применение  анимационных презентаций на уроках геометрии и при подготовке к экзам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811680" cy="2666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 rot="10824600">
            <a:off x="760320" y="5105160"/>
            <a:ext cx="76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з опыта работы Анохиной Татьяны Петровны, учителя математики МОУ «Абрамовская основная общеобразовате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325" name="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272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888840" y="2909880"/>
            <a:ext cx="2457720" cy="4680"/>
          </a:xfrm>
          <a:custGeom>
            <a:avLst/>
            <a:gdLst/>
            <a:ahLst/>
            <a:rect l="l" t="t" r="r" b="b"/>
            <a:pathLst>
              <a:path w="1548" h="3">
                <a:moveTo>
                  <a:pt x="0" y="0"/>
                </a:moveTo>
                <a:lnTo>
                  <a:pt x="1548" y="3"/>
                </a:lnTo>
              </a:path>
            </a:pathLst>
          </a:custGeom>
          <a:noFill/>
          <a:ln w="19080">
            <a:solidFill>
              <a:srgbClr val="0000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9984200">
            <a:off x="753840" y="2619000"/>
            <a:ext cx="5905080" cy="57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491" y="6033"/>
                </a:moveTo>
                <a:arcTo wR="10800" hR="10800" stAng="-1571531" swAng="1788326"/>
                <a:lnTo>
                  <a:pt x="10800" y="10800"/>
                </a:lnTo>
                <a:close/>
              </a:path>
              <a:path fill="none" w="21600" h="21600">
                <a:moveTo>
                  <a:pt x="20491" y="6033"/>
                </a:moveTo>
                <a:arcTo wR="10800" hR="10800" stAng="-1571531" swAng="1788326"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37480" y="3273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30520" y="3747960"/>
            <a:ext cx="2552760" cy="2094120"/>
          </a:xfrm>
          <a:custGeom>
            <a:avLst/>
            <a:gdLst/>
            <a:ahLst/>
            <a:rect l="l" t="t" r="r" b="b"/>
            <a:pathLst>
              <a:path w="1608" h="1319">
                <a:moveTo>
                  <a:pt x="0" y="1160"/>
                </a:moveTo>
                <a:lnTo>
                  <a:pt x="1608" y="0"/>
                </a:lnTo>
                <a:lnTo>
                  <a:pt x="1536" y="1312"/>
                </a:lnTo>
                <a:lnTo>
                  <a:pt x="1482" y="1319"/>
                </a:lnTo>
                <a:lnTo>
                  <a:pt x="0" y="116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78160" y="714240"/>
            <a:ext cx="58770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луч </a:t>
            </a:r>
            <a:r>
              <a:rPr b="0" i="1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тложим отрезок АВ, равный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дугу с центром в т. 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радиусо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дугу с центром в т.В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радиусом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932800" y="5832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43680" y="56642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3360" y="6237360"/>
            <a:ext cx="91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Треугольник АВС искомый. Обоснуй, используя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при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1400" y="83664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26760" y="1628640"/>
            <a:ext cx="2534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рез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3633840"/>
            <a:ext cx="3097080" cy="0"/>
          </a:xfrm>
          <a:prstGeom prst="line">
            <a:avLst/>
          </a:prstGeom>
          <a:ln w="19080">
            <a:solidFill>
              <a:srgbClr val="00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21720" y="2770200"/>
            <a:ext cx="46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7480" y="269712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8760" y="48578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88400" y="3633840"/>
            <a:ext cx="46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86240" y="5591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20980800">
            <a:off x="370800" y="2818080"/>
            <a:ext cx="5631840" cy="561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3" y="11178"/>
                </a:moveTo>
                <a:arcTo wR="10800" hR="10800" stAng="120241" swAng="1476699"/>
                <a:lnTo>
                  <a:pt x="10800" y="10800"/>
                </a:lnTo>
                <a:close/>
              </a:path>
              <a:path fill="none" w="21600" h="21600">
                <a:moveTo>
                  <a:pt x="21593" y="11178"/>
                </a:moveTo>
                <a:arcTo wR="10800" hR="10800" stAng="120241" swAng="1476699"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43480" y="3735360"/>
            <a:ext cx="2527200" cy="2095560"/>
          </a:xfrm>
          <a:custGeom>
            <a:avLst/>
            <a:gdLst/>
            <a:ahLst/>
            <a:rect l="l" t="t" r="r" b="b"/>
            <a:pathLst>
              <a:path w="1592" h="1320">
                <a:moveTo>
                  <a:pt x="0" y="1176"/>
                </a:moveTo>
                <a:lnTo>
                  <a:pt x="1592" y="0"/>
                </a:lnTo>
                <a:lnTo>
                  <a:pt x="1552" y="13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5280" y="4786200"/>
            <a:ext cx="2089080" cy="0"/>
          </a:xfrm>
          <a:prstGeom prst="line">
            <a:avLst/>
          </a:prstGeom>
          <a:ln w="19080">
            <a:solidFill>
              <a:srgbClr val="00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7120" y="34178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335680" y="4786200"/>
            <a:ext cx="46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5852600">
            <a:off x="3517920" y="3661560"/>
            <a:ext cx="4632120" cy="477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65" y="8557"/>
                </a:moveTo>
                <a:arcTo wR="10800" hR="10800" stAng="-719095" swAng="2503601"/>
                <a:lnTo>
                  <a:pt x="10800" y="10800"/>
                </a:lnTo>
                <a:close/>
              </a:path>
              <a:path fill="none" w="21600" h="21600">
                <a:moveTo>
                  <a:pt x="21365" y="8557"/>
                </a:moveTo>
                <a:arcTo wR="10800" hR="10800" stAng="-719095" swAng="2503601"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529080" y="2504160"/>
            <a:ext cx="1421280" cy="3084120"/>
            <a:chOff x="3529080" y="2504160"/>
            <a:chExt cx="1421280" cy="3084120"/>
          </a:xfrm>
        </p:grpSpPr>
        <p:sp>
          <p:nvSpPr>
            <p:cNvPr id="357" name=""/>
            <p:cNvSpPr/>
            <p:nvPr/>
          </p:nvSpPr>
          <p:spPr>
            <a:xfrm flipH="1" rot="21521400">
              <a:off x="3563280" y="2518920"/>
              <a:ext cx="1352520" cy="30304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rot="21521400">
              <a:off x="3573000" y="4995360"/>
              <a:ext cx="341280" cy="588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4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rot="21521400">
              <a:off x="3584160" y="5347800"/>
              <a:ext cx="129960" cy="2239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rot="21521400">
              <a:off x="3625200" y="2536200"/>
              <a:ext cx="1181160" cy="253224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556080" y="5614920"/>
            <a:ext cx="4100400" cy="376200"/>
          </a:xfrm>
          <a:custGeom>
            <a:avLst/>
            <a:gdLst/>
            <a:ahLst/>
            <a:rect l="l" t="t" r="r" b="b"/>
            <a:pathLst>
              <a:path w="2583" h="237">
                <a:moveTo>
                  <a:pt x="0" y="0"/>
                </a:moveTo>
                <a:lnTo>
                  <a:pt x="2583" y="237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-2551320" y="716760"/>
            <a:ext cx="6253200" cy="6044400"/>
            <a:chOff x="-2551320" y="716760"/>
            <a:chExt cx="6253200" cy="6044400"/>
          </a:xfrm>
        </p:grpSpPr>
        <p:grpSp>
          <p:nvGrpSpPr>
            <p:cNvPr id="363" name=""/>
            <p:cNvGrpSpPr/>
            <p:nvPr/>
          </p:nvGrpSpPr>
          <p:grpSpPr>
            <a:xfrm>
              <a:off x="595440" y="716760"/>
              <a:ext cx="3106440" cy="3211560"/>
              <a:chOff x="595440" y="716760"/>
              <a:chExt cx="3106440" cy="321156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1711800" y="716760"/>
                <a:ext cx="1990080" cy="3211560"/>
                <a:chOff x="1711800" y="716760"/>
                <a:chExt cx="1990080" cy="3211560"/>
              </a:xfrm>
            </p:grpSpPr>
            <p:grpSp>
              <p:nvGrpSpPr>
                <p:cNvPr id="365" name=""/>
                <p:cNvGrpSpPr/>
                <p:nvPr/>
              </p:nvGrpSpPr>
              <p:grpSpPr>
                <a:xfrm>
                  <a:off x="1711800" y="716760"/>
                  <a:ext cx="1981800" cy="3211560"/>
                  <a:chOff x="1711800" y="716760"/>
                  <a:chExt cx="1981800" cy="32115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rot="20848200">
                    <a:off x="2019240" y="829440"/>
                    <a:ext cx="1366560" cy="29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rot="20848200">
                    <a:off x="2074680" y="847080"/>
                    <a:ext cx="1193400" cy="249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0000"/>
                      </a:gs>
                      <a:gs pos="100000">
                        <a:srgbClr val="ffffff"/>
                      </a:gs>
                    </a:gsLst>
                    <a:lin ang="8022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3239640" y="3058200"/>
                  <a:ext cx="462240" cy="641520"/>
                  <a:chOff x="3239640" y="3058200"/>
                  <a:chExt cx="462240" cy="641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rot="20848200">
                    <a:off x="3298320" y="3088440"/>
                    <a:ext cx="34452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4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20848200">
                    <a:off x="3536640" y="3407760"/>
                    <a:ext cx="131400" cy="22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1" name=""/>
              <p:cNvGrpSpPr/>
              <p:nvPr/>
            </p:nvGrpSpPr>
            <p:grpSpPr>
              <a:xfrm>
                <a:off x="595440" y="1303560"/>
                <a:ext cx="1894680" cy="2532240"/>
                <a:chOff x="595440" y="1303560"/>
                <a:chExt cx="1894680" cy="2532240"/>
              </a:xfrm>
            </p:grpSpPr>
            <p:sp>
              <p:nvSpPr>
                <p:cNvPr id="372" name=""/>
                <p:cNvSpPr/>
                <p:nvPr/>
              </p:nvSpPr>
              <p:spPr>
                <a:xfrm rot="1818600">
                  <a:off x="1259640" y="1205280"/>
                  <a:ext cx="350640" cy="27280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rot="1818600">
                  <a:off x="1998000" y="1395000"/>
                  <a:ext cx="420120" cy="39924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" name=""/>
            <p:cNvGrpSpPr/>
            <p:nvPr/>
          </p:nvGrpSpPr>
          <p:grpSpPr>
            <a:xfrm>
              <a:off x="-2551320" y="3485160"/>
              <a:ext cx="3150000" cy="3276000"/>
              <a:chOff x="-2551320" y="3485160"/>
              <a:chExt cx="3150000" cy="32760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-2551320" y="3517920"/>
                <a:ext cx="2245680" cy="3243240"/>
                <a:chOff x="-2551320" y="3517920"/>
                <a:chExt cx="2245680" cy="3243240"/>
              </a:xfrm>
            </p:grpSpPr>
            <p:grpSp>
              <p:nvGrpSpPr>
                <p:cNvPr id="376" name=""/>
                <p:cNvGrpSpPr/>
                <p:nvPr/>
              </p:nvGrpSpPr>
              <p:grpSpPr>
                <a:xfrm>
                  <a:off x="-2545920" y="3517920"/>
                  <a:ext cx="2240280" cy="3243240"/>
                  <a:chOff x="-2545920" y="3517920"/>
                  <a:chExt cx="2240280" cy="32432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9744600">
                    <a:off x="-2132280" y="3662280"/>
                    <a:ext cx="1413360" cy="295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9744600">
                    <a:off x="-1992960" y="4127040"/>
                    <a:ext cx="1234440" cy="246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-2551320" y="3845160"/>
                  <a:ext cx="513360" cy="654840"/>
                  <a:chOff x="-2551320" y="3845160"/>
                  <a:chExt cx="513360" cy="65484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9744600">
                    <a:off x="-2472480" y="3885120"/>
                    <a:ext cx="356400" cy="57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9744600">
                    <a:off x="-2509560" y="3938760"/>
                    <a:ext cx="13608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2" name=""/>
              <p:cNvGrpSpPr/>
              <p:nvPr/>
            </p:nvGrpSpPr>
            <p:grpSpPr>
              <a:xfrm>
                <a:off x="-1106280" y="3485160"/>
                <a:ext cx="1704960" cy="2596320"/>
                <a:chOff x="-1106280" y="3485160"/>
                <a:chExt cx="1704960" cy="2596320"/>
              </a:xfrm>
            </p:grpSpPr>
            <p:sp>
              <p:nvSpPr>
                <p:cNvPr id="383" name=""/>
                <p:cNvSpPr/>
                <p:nvPr/>
              </p:nvSpPr>
              <p:spPr>
                <a:xfrm rot="12315000">
                  <a:off x="-322200" y="3433680"/>
                  <a:ext cx="362880" cy="26992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12315000">
                  <a:off x="-1042560" y="5609880"/>
                  <a:ext cx="434520" cy="3949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5" name=""/>
          <p:cNvGrpSpPr/>
          <p:nvPr/>
        </p:nvGrpSpPr>
        <p:grpSpPr>
          <a:xfrm>
            <a:off x="-1531440" y="-66600"/>
            <a:ext cx="4879080" cy="6096600"/>
            <a:chOff x="-1531440" y="-66600"/>
            <a:chExt cx="4879080" cy="6096600"/>
          </a:xfrm>
        </p:grpSpPr>
        <p:sp>
          <p:nvSpPr>
            <p:cNvPr id="386" name=""/>
            <p:cNvSpPr/>
            <p:nvPr/>
          </p:nvSpPr>
          <p:spPr>
            <a:xfrm>
              <a:off x="826920" y="2842920"/>
              <a:ext cx="144720" cy="144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889560" y="-66600"/>
              <a:ext cx="2458080" cy="3104640"/>
              <a:chOff x="889560" y="-66600"/>
              <a:chExt cx="2458080" cy="310464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1842120" y="-66600"/>
                <a:ext cx="1505520" cy="3043440"/>
                <a:chOff x="1842120" y="-66600"/>
                <a:chExt cx="1505520" cy="304344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1842120" y="-66600"/>
                  <a:ext cx="1497240" cy="3043440"/>
                  <a:chOff x="1842120" y="-66600"/>
                  <a:chExt cx="1497240" cy="304344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21447600">
                    <a:off x="1907280" y="-37800"/>
                    <a:ext cx="1366200" cy="29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21447600">
                    <a:off x="2002680" y="-21600"/>
                    <a:ext cx="1193400" cy="249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0000"/>
                      </a:gs>
                      <a:gs pos="100000">
                        <a:srgbClr val="ffffff"/>
                      </a:gs>
                    </a:gsLst>
                    <a:lin ang="8022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2977920" y="2330640"/>
                  <a:ext cx="369720" cy="594360"/>
                  <a:chOff x="2977920" y="2330640"/>
                  <a:chExt cx="369720" cy="5943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21447600">
                    <a:off x="2990520" y="2337840"/>
                    <a:ext cx="344520" cy="57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4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21447600">
                    <a:off x="3202920" y="2678040"/>
                    <a:ext cx="131400" cy="22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5" name=""/>
              <p:cNvGrpSpPr/>
              <p:nvPr/>
            </p:nvGrpSpPr>
            <p:grpSpPr>
              <a:xfrm>
                <a:off x="889560" y="375120"/>
                <a:ext cx="1588680" cy="2662920"/>
                <a:chOff x="889560" y="375120"/>
                <a:chExt cx="1588680" cy="2662920"/>
              </a:xfrm>
            </p:grpSpPr>
            <p:sp>
              <p:nvSpPr>
                <p:cNvPr id="396" name=""/>
                <p:cNvSpPr/>
                <p:nvPr/>
              </p:nvSpPr>
              <p:spPr>
                <a:xfrm rot="1350000">
                  <a:off x="1398240" y="346680"/>
                  <a:ext cx="351360" cy="27277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rot="1350000">
                  <a:off x="1996920" y="440280"/>
                  <a:ext cx="420840" cy="39924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8" name=""/>
            <p:cNvGrpSpPr/>
            <p:nvPr/>
          </p:nvGrpSpPr>
          <p:grpSpPr>
            <a:xfrm>
              <a:off x="-1531440" y="2748960"/>
              <a:ext cx="2447640" cy="3281040"/>
              <a:chOff x="-1531440" y="2748960"/>
              <a:chExt cx="2447640" cy="328104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-1531440" y="2882520"/>
                <a:ext cx="1778400" cy="3147480"/>
                <a:chOff x="-1531440" y="2882520"/>
                <a:chExt cx="1778400" cy="314748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-1523520" y="2882520"/>
                  <a:ext cx="1770480" cy="3147480"/>
                  <a:chOff x="-1523520" y="2882520"/>
                  <a:chExt cx="1770480" cy="31474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rot="10317600">
                    <a:off x="-1321200" y="2963160"/>
                    <a:ext cx="1366200" cy="29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10317600">
                    <a:off x="-1222200" y="3438000"/>
                    <a:ext cx="1193400" cy="249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-1531440" y="3031920"/>
                  <a:ext cx="422280" cy="622440"/>
                  <a:chOff x="-1531440" y="3031920"/>
                  <a:chExt cx="422280" cy="62244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rot="10317600">
                    <a:off x="-1492200" y="3052800"/>
                    <a:ext cx="344520" cy="57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10317600">
                    <a:off x="-1506600" y="3083040"/>
                    <a:ext cx="131400" cy="22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6" name=""/>
              <p:cNvGrpSpPr/>
              <p:nvPr/>
            </p:nvGrpSpPr>
            <p:grpSpPr>
              <a:xfrm>
                <a:off x="-438480" y="2748960"/>
                <a:ext cx="1354680" cy="2734200"/>
                <a:chOff x="-438480" y="2748960"/>
                <a:chExt cx="1354680" cy="2734200"/>
              </a:xfrm>
            </p:grpSpPr>
            <p:sp>
              <p:nvSpPr>
                <p:cNvPr id="407" name=""/>
                <p:cNvSpPr/>
                <p:nvPr/>
              </p:nvSpPr>
              <p:spPr>
                <a:xfrm rot="11820000">
                  <a:off x="173520" y="2740320"/>
                  <a:ext cx="351360" cy="27277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1820000">
                  <a:off x="-389160" y="5031000"/>
                  <a:ext cx="420840" cy="39924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9" name=""/>
          <p:cNvGrpSpPr/>
          <p:nvPr/>
        </p:nvGrpSpPr>
        <p:grpSpPr>
          <a:xfrm>
            <a:off x="351000" y="1760760"/>
            <a:ext cx="4235040" cy="6069960"/>
            <a:chOff x="351000" y="1760760"/>
            <a:chExt cx="4235040" cy="6069960"/>
          </a:xfrm>
        </p:grpSpPr>
        <p:grpSp>
          <p:nvGrpSpPr>
            <p:cNvPr id="410" name=""/>
            <p:cNvGrpSpPr/>
            <p:nvPr/>
          </p:nvGrpSpPr>
          <p:grpSpPr>
            <a:xfrm>
              <a:off x="2446560" y="4685040"/>
              <a:ext cx="2139480" cy="3145680"/>
              <a:chOff x="2446560" y="4685040"/>
              <a:chExt cx="2139480" cy="314568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3155040" y="4765680"/>
                <a:ext cx="1431000" cy="3065040"/>
                <a:chOff x="3155040" y="4765680"/>
                <a:chExt cx="1431000" cy="306504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3155040" y="4765680"/>
                  <a:ext cx="1431000" cy="3065040"/>
                  <a:chOff x="3155040" y="4765680"/>
                  <a:chExt cx="1431000" cy="306504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V="1" rot="21510000">
                    <a:off x="3193920" y="4782600"/>
                    <a:ext cx="1352520" cy="303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V="1" rot="21510000">
                    <a:off x="3304440" y="5263920"/>
                    <a:ext cx="1181160" cy="253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4174200" y="4770720"/>
                  <a:ext cx="356760" cy="597600"/>
                  <a:chOff x="4174200" y="4770720"/>
                  <a:chExt cx="356760" cy="5976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V="1" rot="21510000">
                    <a:off x="4181760" y="4775040"/>
                    <a:ext cx="341280" cy="58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V="1" rot="21510000">
                    <a:off x="4397040" y="4778640"/>
                    <a:ext cx="13032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2446560" y="4685040"/>
                <a:ext cx="1383840" cy="2900880"/>
                <a:chOff x="2446560" y="4685040"/>
                <a:chExt cx="1383840" cy="2900880"/>
              </a:xfrm>
            </p:grpSpPr>
            <p:sp>
              <p:nvSpPr>
                <p:cNvPr id="419" name=""/>
                <p:cNvSpPr/>
                <p:nvPr/>
              </p:nvSpPr>
              <p:spPr>
                <a:xfrm flipV="1" rot="20658000">
                  <a:off x="2827800" y="4682520"/>
                  <a:ext cx="380880" cy="287820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 rot="20658000">
                  <a:off x="3325680" y="7110360"/>
                  <a:ext cx="45612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1" name=""/>
            <p:cNvGrpSpPr/>
            <p:nvPr/>
          </p:nvGrpSpPr>
          <p:grpSpPr>
            <a:xfrm>
              <a:off x="351000" y="1760760"/>
              <a:ext cx="2139480" cy="3145680"/>
              <a:chOff x="351000" y="1760760"/>
              <a:chExt cx="2139480" cy="314568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351000" y="1760760"/>
                <a:ext cx="1431000" cy="3065040"/>
                <a:chOff x="351000" y="1760760"/>
                <a:chExt cx="1431000" cy="3065040"/>
              </a:xfrm>
            </p:grpSpPr>
            <p:grpSp>
              <p:nvGrpSpPr>
                <p:cNvPr id="423" name=""/>
                <p:cNvGrpSpPr/>
                <p:nvPr/>
              </p:nvGrpSpPr>
              <p:grpSpPr>
                <a:xfrm>
                  <a:off x="351000" y="1760760"/>
                  <a:ext cx="1431000" cy="3065040"/>
                  <a:chOff x="351000" y="1760760"/>
                  <a:chExt cx="1431000" cy="306504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V="1" rot="10710000">
                    <a:off x="390240" y="1777680"/>
                    <a:ext cx="1352520" cy="303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 rot="10710000">
                    <a:off x="451080" y="1795680"/>
                    <a:ext cx="1181160" cy="253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406080" y="4223160"/>
                  <a:ext cx="356760" cy="597600"/>
                  <a:chOff x="406080" y="4223160"/>
                  <a:chExt cx="356760" cy="5976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flipV="1" rot="10710000">
                    <a:off x="413640" y="4227120"/>
                    <a:ext cx="341280" cy="58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4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V="1" rot="10710000">
                    <a:off x="409320" y="4587840"/>
                    <a:ext cx="13032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000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9" name=""/>
              <p:cNvGrpSpPr/>
              <p:nvPr/>
            </p:nvGrpSpPr>
            <p:grpSpPr>
              <a:xfrm>
                <a:off x="1106640" y="2005560"/>
                <a:ext cx="1383840" cy="2900880"/>
                <a:chOff x="1106640" y="2005560"/>
                <a:chExt cx="1383840" cy="2900880"/>
              </a:xfrm>
            </p:grpSpPr>
            <p:sp>
              <p:nvSpPr>
                <p:cNvPr id="430" name=""/>
                <p:cNvSpPr/>
                <p:nvPr/>
              </p:nvSpPr>
              <p:spPr>
                <a:xfrm flipV="1" rot="9857400">
                  <a:off x="1728000" y="2029680"/>
                  <a:ext cx="380880" cy="287820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 rot="9857400">
                  <a:off x="1154880" y="2058840"/>
                  <a:ext cx="45612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2" name=""/>
          <p:cNvSpPr/>
          <p:nvPr/>
        </p:nvSpPr>
        <p:spPr>
          <a:xfrm>
            <a:off x="3492360" y="5578560"/>
            <a:ext cx="142920" cy="71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5954040" y="5807160"/>
            <a:ext cx="73080" cy="698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1760" y="115920"/>
            <a:ext cx="74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остроение треугольника по трем сторо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85185E-006 L 0.43003 0.06504 E">
                                      <p:cBhvr>
                                        <p:cTn id="411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path" presetID="49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778E-017 -4.07407E-006 L 0.29132 0.39468 E">
                                      <p:cBhvr>
                                        <p:cTn id="448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200000">
                                      <p:cBhvr>
                                        <p:cTn id="45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40000">
                                      <p:cBhvr>
                                        <p:cTn id="45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75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8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9" nodeType="afterEffect" fill="hold" presetClass="path" presetID="49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-7.40741E-007 L 0.32118 0.27384 E">
                                      <p:cBhvr>
                                        <p:cTn id="50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900000">
                                      <p:cBhvr>
                                        <p:cTn id="50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8000"/>
                            </p:stCondLst>
                            <p:childTnLst>
                              <p:par>
                                <p:cTn id="5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980000">
                                      <p:cBhvr>
                                        <p:cTn id="50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500"/>
                            </p:stCondLst>
                            <p:childTnLst>
                              <p:par>
                                <p:cTn id="539" nodeType="afterEffect" fill="hold" presetClass="path" presetID="49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72222E-006 4.44444E-006 L 0.3875 0.14675 E">
                                      <p:cBhvr>
                                        <p:cTn id="540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542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500"/>
                            </p:stCondLst>
                            <p:childTnLst>
                              <p:par>
                                <p:cTn id="5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880000">
                                      <p:cBhvr>
                                        <p:cTn id="545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9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no Pro Smbd"/>
              </a:rPr>
              <a:t>Задачи на по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no Pro Smb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no Pro Smbd"/>
              </a:rPr>
              <a:t>Презент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no Pro Smbd"/>
              </a:rPr>
              <a:t>«Задачи на построение» 7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no Pro Smb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no Pro Smbd"/>
              </a:rPr>
              <a:t>Презентация «Геометрические построения» 7-9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2781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ешение текстовых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«Перевод» задачи с русского языка на язык черте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Решение парн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Решение задач разными способ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903400" y="3579840"/>
            <a:ext cx="1314720" cy="842760"/>
          </a:xfrm>
          <a:custGeom>
            <a:avLst/>
            <a:gdLst/>
            <a:ahLst/>
            <a:rect l="l" t="t" r="r" b="b"/>
            <a:pathLst>
              <a:path w="828" h="531">
                <a:moveTo>
                  <a:pt x="828" y="105"/>
                </a:moveTo>
                <a:lnTo>
                  <a:pt x="0" y="0"/>
                </a:lnTo>
                <a:lnTo>
                  <a:pt x="76" y="236"/>
                </a:lnTo>
                <a:lnTo>
                  <a:pt x="196" y="387"/>
                </a:lnTo>
                <a:lnTo>
                  <a:pt x="275" y="459"/>
                </a:lnTo>
                <a:lnTo>
                  <a:pt x="355" y="531"/>
                </a:lnTo>
                <a:lnTo>
                  <a:pt x="828" y="10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57520" y="3746520"/>
            <a:ext cx="4010040" cy="2289240"/>
          </a:xfrm>
          <a:custGeom>
            <a:avLst/>
            <a:gdLst/>
            <a:ahLst/>
            <a:rect l="l" t="t" r="r" b="b"/>
            <a:pathLst>
              <a:path w="2526" h="1442">
                <a:moveTo>
                  <a:pt x="0" y="1442"/>
                </a:moveTo>
                <a:lnTo>
                  <a:pt x="1558" y="0"/>
                </a:lnTo>
                <a:lnTo>
                  <a:pt x="2526" y="120"/>
                </a:lnTo>
                <a:lnTo>
                  <a:pt x="0" y="144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 Через точку, лежащую вне окружности, проведены две секущие, образующие угол в 3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6320" y="76320"/>
            <a:ext cx="8915040" cy="6667200"/>
            <a:chOff x="76320" y="76320"/>
            <a:chExt cx="8915040" cy="6667200"/>
          </a:xfrm>
        </p:grpSpPr>
        <p:sp>
          <p:nvSpPr>
            <p:cNvPr id="444" name=""/>
            <p:cNvSpPr/>
            <p:nvPr/>
          </p:nvSpPr>
          <p:spPr>
            <a:xfrm>
              <a:off x="537840" y="103320"/>
              <a:ext cx="80179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7080" y="6729840"/>
              <a:ext cx="79923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951760" y="538200"/>
              <a:ext cx="1440" cy="57301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8880" y="538200"/>
              <a:ext cx="26280" cy="57301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8880" y="6255000"/>
              <a:ext cx="448200" cy="48852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8542800" y="6240960"/>
              <a:ext cx="448560" cy="48852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rot="16200000">
              <a:off x="8523000" y="69840"/>
              <a:ext cx="461880" cy="474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5400000">
              <a:off x="82440" y="69840"/>
              <a:ext cx="461880" cy="474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5767560" y="3657600"/>
            <a:ext cx="5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14320" y="2701800"/>
            <a:ext cx="3584520" cy="352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060200">
            <a:off x="1360080" y="2717280"/>
            <a:ext cx="4610160" cy="546120"/>
          </a:xfrm>
          <a:custGeom>
            <a:avLst/>
            <a:gdLst/>
            <a:ahLst/>
            <a:rect l="l" t="t" r="r" b="b"/>
            <a:pathLst>
              <a:path w="2904" h="344">
                <a:moveTo>
                  <a:pt x="0" y="0"/>
                </a:moveTo>
                <a:lnTo>
                  <a:pt x="2904" y="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70120" y="3936960"/>
            <a:ext cx="4010040" cy="2098800"/>
          </a:xfrm>
          <a:custGeom>
            <a:avLst/>
            <a:gdLst/>
            <a:ahLst/>
            <a:rect l="l" t="t" r="r" b="b"/>
            <a:pathLst>
              <a:path w="2526" h="1322">
                <a:moveTo>
                  <a:pt x="2526" y="0"/>
                </a:moveTo>
                <a:lnTo>
                  <a:pt x="0" y="132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60400" y="3746520"/>
            <a:ext cx="2470320" cy="2289240"/>
          </a:xfrm>
          <a:custGeom>
            <a:avLst/>
            <a:gdLst/>
            <a:ahLst/>
            <a:rect l="l" t="t" r="r" b="b"/>
            <a:pathLst>
              <a:path w="1556" h="1442">
                <a:moveTo>
                  <a:pt x="1556" y="0"/>
                </a:moveTo>
                <a:lnTo>
                  <a:pt x="0" y="1442"/>
                </a:lnTo>
              </a:path>
            </a:pathLst>
          </a:custGeom>
          <a:noFill/>
          <a:ln w="1908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84280" y="601992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4510200">
            <a:off x="838800" y="2687760"/>
            <a:ext cx="3515760" cy="356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776" y="18082"/>
                </a:moveTo>
                <a:arcTo wR="10800" hR="10800" stAng="2543795" swAng="6033465"/>
                <a:lnTo>
                  <a:pt x="10800" y="10800"/>
                </a:lnTo>
                <a:close/>
              </a:path>
              <a:path fill="none" w="21600" h="21600">
                <a:moveTo>
                  <a:pt x="18776" y="18082"/>
                </a:moveTo>
                <a:arcTo wR="10800" hR="10800" stAng="2543795" swAng="6033465"/>
              </a:path>
            </a:pathLst>
          </a:custGeom>
          <a:noFill/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24160" y="205740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" y="853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ая дуга окружности, заключенная между сторонами этого угла, равна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20960" y="1219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меньшую д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42000" y="39117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645080" y="3870360"/>
            <a:ext cx="706320" cy="488160"/>
            <a:chOff x="4645080" y="3870360"/>
            <a:chExt cx="706320" cy="488160"/>
          </a:xfrm>
        </p:grpSpPr>
        <p:sp>
          <p:nvSpPr>
            <p:cNvPr id="464" name=""/>
            <p:cNvSpPr/>
            <p:nvPr/>
          </p:nvSpPr>
          <p:spPr>
            <a:xfrm rot="20572800">
              <a:off x="5157720" y="3885840"/>
              <a:ext cx="15228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5080" y="3898800"/>
              <a:ext cx="56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09040" y="2379960"/>
            <a:ext cx="4312080" cy="4165560"/>
            <a:chOff x="509040" y="2379960"/>
            <a:chExt cx="4312080" cy="4165560"/>
          </a:xfrm>
        </p:grpSpPr>
        <p:grpSp>
          <p:nvGrpSpPr>
            <p:cNvPr id="467" name=""/>
            <p:cNvGrpSpPr/>
            <p:nvPr/>
          </p:nvGrpSpPr>
          <p:grpSpPr>
            <a:xfrm>
              <a:off x="509040" y="2379960"/>
              <a:ext cx="4312080" cy="4165560"/>
              <a:chOff x="509040" y="2379960"/>
              <a:chExt cx="4312080" cy="4165560"/>
            </a:xfrm>
          </p:grpSpPr>
          <p:sp>
            <p:nvSpPr>
              <p:cNvPr id="468" name=""/>
              <p:cNvSpPr/>
              <p:nvPr/>
            </p:nvSpPr>
            <p:spPr>
              <a:xfrm>
                <a:off x="4167000" y="3352680"/>
                <a:ext cx="55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319640" y="4647960"/>
                <a:ext cx="50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6906800">
                <a:off x="853920" y="2682000"/>
                <a:ext cx="3512880" cy="356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126" y="19554"/>
                    </a:moveTo>
                    <a:arcTo wR="10800" hR="10800" stAng="3248826" swAng="18731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126" y="19554"/>
                    </a:moveTo>
                    <a:arcTo wR="10800" hR="10800" stAng="3248826" swAng="1873112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4027320" y="4038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 rot="17253000">
            <a:off x="269640" y="3907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e"/>
                </a:solidFill>
                <a:latin typeface="Arial"/>
              </a:rPr>
              <a:t>100</a:t>
            </a:r>
            <a:r>
              <a:rPr b="1" lang="en-US" sz="2400" spc="-1" strike="noStrike" baseline="30000">
                <a:solidFill>
                  <a:srgbClr val="003f7e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66120" y="388620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e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3f7e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79800" y="373392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e"/>
                </a:solidFill>
                <a:latin typeface="Arial"/>
              </a:rPr>
              <a:t>130</a:t>
            </a:r>
            <a:r>
              <a:rPr b="1" lang="en-US" sz="2400" spc="-1" strike="noStrike" baseline="30000">
                <a:solidFill>
                  <a:srgbClr val="003f7e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499840" y="51055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e"/>
                </a:solidFill>
                <a:latin typeface="Arial"/>
              </a:rPr>
              <a:t>18</a:t>
            </a:r>
            <a:r>
              <a:rPr b="1" lang="en-US" sz="2400" spc="-1" strike="noStrike" baseline="30000">
                <a:solidFill>
                  <a:srgbClr val="003f7e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181480" y="1676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П хорда 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4419720" y="1676520"/>
                <a:ext cx="44384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В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еореме</m:t>
                        </m:r>
                        <m:r>
                          <m:t xml:space="preserve"> </m:t>
                        </m:r>
                        <m:r>
                          <m:t xml:space="preserve">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межно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л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952880" y="1676520"/>
                <a:ext cx="368964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СВ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еореме</m:t>
                        </m:r>
                        <m:r>
                          <m:t xml:space="preserve"> </m:t>
                        </m:r>
                        <m:r>
                          <m:t xml:space="preserve">о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писанно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л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038480" y="1600200"/>
                <a:ext cx="494820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ВЕ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еореме</m:t>
                        </m:r>
                        <m:r>
                          <m:t xml:space="preserve"> </m:t>
                        </m:r>
                        <m:r>
                          <m:t xml:space="preserve">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умме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угло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ик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257800" y="1676520"/>
                <a:ext cx="326880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∪</m:t>
                        </m:r>
                        <m:r>
                          <m:rPr>
                            <m:lit/>
                            <m:nor/>
                          </m:rPr>
                          <m:t xml:space="preserve">В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еореме</m:t>
                        </m:r>
                        <m:r>
                          <m:t xml:space="preserve"> </m:t>
                        </m:r>
                        <m:r>
                          <m:t xml:space="preserve">о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писанно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л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32000">
                                      <p:cBhvr>
                                        <p:cTn id="670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44444E-006 L -0.0125 0.06666 L -0.01667 0.09583 E">
                                      <p:cBhvr>
                                        <p:cTn id="672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-0.03438 0.06296 L -0.06493 0.12222 E">
                                      <p:cBhvr>
                                        <p:cTn id="674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3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01667 L 0.31666 -0.02408 E">
                                      <p:cBhvr>
                                        <p:cTn id="749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3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09480" y="127080"/>
            <a:ext cx="480060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Дано: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АВС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 параллелограмм.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Длина одной из сторон составляет 80% от длины другой сторо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упериметр равен 18 с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Найти: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длину меньшей стороны этого параллелограмма, ес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084680" y="29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2920" y="463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132800" y="28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47000" y="4710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694600" y="2743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1640" y="3200400"/>
            <a:ext cx="3505320" cy="1585800"/>
          </a:xfrm>
          <a:custGeom>
            <a:avLst/>
            <a:gdLst/>
            <a:ahLst/>
            <a:rect l="l" t="t" r="r" b="b"/>
            <a:pathLst>
              <a:path w="2400" h="1152">
                <a:moveTo>
                  <a:pt x="0" y="1152"/>
                </a:moveTo>
                <a:lnTo>
                  <a:pt x="1920" y="1152"/>
                </a:lnTo>
                <a:lnTo>
                  <a:pt x="2400" y="0"/>
                </a:lnTo>
                <a:lnTo>
                  <a:pt x="528" y="0"/>
                </a:lnTo>
                <a:lnTo>
                  <a:pt x="0" y="115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32280" y="349092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,8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43360" y="518148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+ 0,8х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0760" y="38160"/>
            <a:ext cx="8991360" cy="6768720"/>
            <a:chOff x="50760" y="38160"/>
            <a:chExt cx="8991360" cy="6768720"/>
          </a:xfrm>
        </p:grpSpPr>
        <p:sp>
          <p:nvSpPr>
            <p:cNvPr id="491" name=""/>
            <p:cNvSpPr/>
            <p:nvPr/>
          </p:nvSpPr>
          <p:spPr>
            <a:xfrm>
              <a:off x="516240" y="65880"/>
              <a:ext cx="80866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5840" y="6792840"/>
              <a:ext cx="806076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002160" y="506880"/>
              <a:ext cx="1440" cy="58172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3680" y="506880"/>
              <a:ext cx="26640" cy="58172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3680" y="6310800"/>
              <a:ext cx="451800" cy="4960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8589960" y="6296760"/>
              <a:ext cx="452160" cy="4960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rot="16200000">
              <a:off x="8568360" y="33120"/>
              <a:ext cx="46872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55800" y="32760"/>
              <a:ext cx="46872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1220400" y="5715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8х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372680" y="62485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14479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Доказать: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АВС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 –параллелограм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15000" y="228600"/>
            <a:ext cx="312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Дано:</a:t>
            </a: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четырехуголь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О = О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,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 = О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107320" y="2743200"/>
            <a:ext cx="3760560" cy="2541600"/>
            <a:chOff x="5107320" y="2743200"/>
            <a:chExt cx="3760560" cy="2541600"/>
          </a:xfrm>
        </p:grpSpPr>
        <p:sp>
          <p:nvSpPr>
            <p:cNvPr id="504" name=""/>
            <p:cNvSpPr/>
            <p:nvPr/>
          </p:nvSpPr>
          <p:spPr>
            <a:xfrm>
              <a:off x="5845320" y="2743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07320" y="4764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431200" y="2743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60240" y="46965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73280" y="3261960"/>
              <a:ext cx="3494520" cy="1519920"/>
            </a:xfrm>
            <a:custGeom>
              <a:avLst/>
              <a:gdLst/>
              <a:ahLst/>
              <a:rect l="l" t="t" r="r" b="b"/>
              <a:pathLst>
                <a:path w="2406" h="1151">
                  <a:moveTo>
                    <a:pt x="0" y="1149"/>
                  </a:moveTo>
                  <a:lnTo>
                    <a:pt x="1870" y="1151"/>
                  </a:lnTo>
                  <a:lnTo>
                    <a:pt x="2406" y="0"/>
                  </a:lnTo>
                  <a:lnTo>
                    <a:pt x="531" y="0"/>
                  </a:lnTo>
                  <a:lnTo>
                    <a:pt x="0" y="1149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81920" y="3272400"/>
              <a:ext cx="3462840" cy="1499040"/>
            </a:xfrm>
            <a:custGeom>
              <a:avLst/>
              <a:gdLst/>
              <a:ahLst/>
              <a:rect l="l" t="t" r="r" b="b"/>
              <a:pathLst>
                <a:path w="2384" h="1136">
                  <a:moveTo>
                    <a:pt x="0" y="1136"/>
                  </a:moveTo>
                  <a:lnTo>
                    <a:pt x="238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49800" y="3261960"/>
              <a:ext cx="1951560" cy="15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2600" y="35110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5909760" y="3578760"/>
              <a:ext cx="2021760" cy="1012680"/>
              <a:chOff x="5909760" y="3578760"/>
              <a:chExt cx="2021760" cy="1012680"/>
            </a:xfrm>
          </p:grpSpPr>
          <p:sp>
            <p:nvSpPr>
              <p:cNvPr id="513" name=""/>
              <p:cNvSpPr/>
              <p:nvPr/>
            </p:nvSpPr>
            <p:spPr>
              <a:xfrm>
                <a:off x="5909760" y="4401720"/>
                <a:ext cx="209160" cy="18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722360" y="3578760"/>
                <a:ext cx="209160" cy="18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6327720" y="3453480"/>
              <a:ext cx="1325160" cy="1075320"/>
              <a:chOff x="6327720" y="3453480"/>
              <a:chExt cx="1325160" cy="107532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7427520" y="4251240"/>
                <a:ext cx="225360" cy="277560"/>
                <a:chOff x="7427520" y="4251240"/>
                <a:chExt cx="225360" cy="2775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7427520" y="4251240"/>
                  <a:ext cx="154800" cy="277560"/>
                </a:xfrm>
                <a:custGeom>
                  <a:avLst/>
                  <a:gdLst/>
                  <a:ahLst/>
                  <a:rect l="l" t="t" r="r" b="b"/>
                  <a:pathLst>
                    <a:path w="88" h="184">
                      <a:moveTo>
                        <a:pt x="0" y="184"/>
                      </a:moveTo>
                      <a:lnTo>
                        <a:pt x="88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498080" y="4251240"/>
                  <a:ext cx="154800" cy="277560"/>
                </a:xfrm>
                <a:custGeom>
                  <a:avLst/>
                  <a:gdLst/>
                  <a:ahLst/>
                  <a:rect l="l" t="t" r="r" b="b"/>
                  <a:pathLst>
                    <a:path w="88" h="184">
                      <a:moveTo>
                        <a:pt x="0" y="184"/>
                      </a:moveTo>
                      <a:lnTo>
                        <a:pt x="88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6327720" y="3453480"/>
                <a:ext cx="225000" cy="277920"/>
                <a:chOff x="6327720" y="3453480"/>
                <a:chExt cx="225000" cy="2779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6327720" y="3453480"/>
                  <a:ext cx="154440" cy="277920"/>
                </a:xfrm>
                <a:custGeom>
                  <a:avLst/>
                  <a:gdLst/>
                  <a:ahLst/>
                  <a:rect l="l" t="t" r="r" b="b"/>
                  <a:pathLst>
                    <a:path w="88" h="184">
                      <a:moveTo>
                        <a:pt x="0" y="184"/>
                      </a:moveTo>
                      <a:lnTo>
                        <a:pt x="88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398280" y="3453480"/>
                  <a:ext cx="154440" cy="277920"/>
                </a:xfrm>
                <a:custGeom>
                  <a:avLst/>
                  <a:gdLst/>
                  <a:ahLst/>
                  <a:rect l="l" t="t" r="r" b="b"/>
                  <a:pathLst>
                    <a:path w="88" h="184">
                      <a:moveTo>
                        <a:pt x="0" y="184"/>
                      </a:moveTo>
                      <a:lnTo>
                        <a:pt x="88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22" name=""/>
          <p:cNvGrpSpPr/>
          <p:nvPr/>
        </p:nvGrpSpPr>
        <p:grpSpPr>
          <a:xfrm>
            <a:off x="2590560" y="5715000"/>
            <a:ext cx="860760" cy="459720"/>
            <a:chOff x="2590560" y="5715000"/>
            <a:chExt cx="860760" cy="459720"/>
          </a:xfrm>
        </p:grpSpPr>
        <p:sp>
          <p:nvSpPr>
            <p:cNvPr id="523" name=""/>
            <p:cNvSpPr/>
            <p:nvPr/>
          </p:nvSpPr>
          <p:spPr>
            <a:xfrm flipH="1">
              <a:off x="2590560" y="5715000"/>
              <a:ext cx="2286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4640" y="57150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1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852720" y="2895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99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5720" y="1603440"/>
            <a:ext cx="2819520" cy="2525760"/>
          </a:xfrm>
          <a:custGeom>
            <a:avLst/>
            <a:gdLst/>
            <a:ahLst/>
            <a:rect l="l" t="t" r="r" b="b"/>
            <a:pathLst>
              <a:path w="1776" h="1591">
                <a:moveTo>
                  <a:pt x="1696" y="422"/>
                </a:moveTo>
                <a:lnTo>
                  <a:pt x="876" y="0"/>
                </a:lnTo>
                <a:lnTo>
                  <a:pt x="1776" y="1510"/>
                </a:lnTo>
                <a:lnTo>
                  <a:pt x="1" y="505"/>
                </a:lnTo>
                <a:lnTo>
                  <a:pt x="43" y="1591"/>
                </a:lnTo>
                <a:lnTo>
                  <a:pt x="1712" y="422"/>
                </a:lnTo>
                <a:lnTo>
                  <a:pt x="0" y="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00040" y="4038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29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1905120" y="3049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101320" y="3200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2320" y="16002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211480" y="31590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4006800" y="27115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3581280" y="1981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62412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023920" y="12193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80920" y="3505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328840" y="16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52720" y="3062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18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04960" y="3489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 rot="15367800">
            <a:off x="630360" y="1622520"/>
            <a:ext cx="3247920" cy="323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685" y="2675"/>
                </a:moveTo>
                <a:arcTo wR="10800" hR="10800" stAng="-7872419" swAng="10665630"/>
                <a:lnTo>
                  <a:pt x="10800" y="10800"/>
                </a:lnTo>
                <a:close/>
              </a:path>
              <a:path fill="none" w="21600" h="21600">
                <a:moveTo>
                  <a:pt x="3685" y="2675"/>
                </a:moveTo>
                <a:arcTo wR="10800" hR="10800" stAng="-7872419" swAng="1066563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 rot="21052200">
            <a:off x="641160" y="1613880"/>
            <a:ext cx="3231000" cy="31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523" y="15502"/>
                </a:moveTo>
                <a:arcTo wR="10800" hR="10800" stAng="1548429" swAng="6888554"/>
                <a:lnTo>
                  <a:pt x="10800" y="10800"/>
                </a:lnTo>
                <a:close/>
              </a:path>
              <a:path fill="none" w="21600" h="21600">
                <a:moveTo>
                  <a:pt x="20523" y="15502"/>
                </a:moveTo>
                <a:arcTo wR="10800" hR="10800" stAng="1548429" swAng="6888554"/>
              </a:path>
            </a:pathLst>
          </a:custGeom>
          <a:noFill/>
          <a:ln w="381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19080" y="3819600"/>
            <a:ext cx="241560" cy="155520"/>
          </a:xfrm>
          <a:custGeom>
            <a:avLst/>
            <a:gdLst/>
            <a:ahLst/>
            <a:rect l="l" t="t" r="r" b="b"/>
            <a:pathLst>
              <a:path w="152" h="98">
                <a:moveTo>
                  <a:pt x="152" y="98"/>
                </a:moveTo>
                <a:cubicBezTo>
                  <a:pt x="141" y="85"/>
                  <a:pt x="113" y="34"/>
                  <a:pt x="88" y="18"/>
                </a:cubicBezTo>
                <a:cubicBezTo>
                  <a:pt x="63" y="2"/>
                  <a:pt x="18" y="4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20574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341440" y="1676520"/>
            <a:ext cx="72720" cy="98280"/>
            <a:chOff x="2341440" y="1676520"/>
            <a:chExt cx="72720" cy="98280"/>
          </a:xfrm>
        </p:grpSpPr>
        <p:sp>
          <p:nvSpPr>
            <p:cNvPr id="554" name=""/>
            <p:cNvSpPr/>
            <p:nvPr/>
          </p:nvSpPr>
          <p:spPr>
            <a:xfrm>
              <a:off x="2354040" y="1685880"/>
              <a:ext cx="6012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36" y="0"/>
                  </a:moveTo>
                  <a:cubicBezTo>
                    <a:pt x="35" y="7"/>
                    <a:pt x="38" y="33"/>
                    <a:pt x="32" y="42"/>
                  </a:cubicBezTo>
                  <a:cubicBezTo>
                    <a:pt x="26" y="51"/>
                    <a:pt x="7" y="53"/>
                    <a:pt x="0" y="56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41440" y="1676520"/>
              <a:ext cx="50760" cy="666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32" y="0"/>
                  </a:moveTo>
                  <a:cubicBezTo>
                    <a:pt x="31" y="6"/>
                    <a:pt x="29" y="27"/>
                    <a:pt x="24" y="34"/>
                  </a:cubicBezTo>
                  <a:cubicBezTo>
                    <a:pt x="19" y="41"/>
                    <a:pt x="5" y="40"/>
                    <a:pt x="0" y="4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5351400" y="1603440"/>
            <a:ext cx="2819520" cy="2525760"/>
          </a:xfrm>
          <a:custGeom>
            <a:avLst/>
            <a:gdLst/>
            <a:ahLst/>
            <a:rect l="l" t="t" r="r" b="b"/>
            <a:pathLst>
              <a:path w="1776" h="1591">
                <a:moveTo>
                  <a:pt x="1696" y="422"/>
                </a:moveTo>
                <a:lnTo>
                  <a:pt x="876" y="0"/>
                </a:lnTo>
                <a:lnTo>
                  <a:pt x="1776" y="1510"/>
                </a:lnTo>
                <a:lnTo>
                  <a:pt x="1" y="505"/>
                </a:lnTo>
                <a:lnTo>
                  <a:pt x="43" y="1591"/>
                </a:lnTo>
                <a:lnTo>
                  <a:pt x="1712" y="422"/>
                </a:lnTo>
                <a:lnTo>
                  <a:pt x="0" y="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995720" y="4038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97000" y="3200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48360" y="16002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07160" y="31590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077320" y="1981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12016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519960" y="12193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376960" y="35053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824520" y="16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00880" y="2325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18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415120" y="3819600"/>
            <a:ext cx="241200" cy="155520"/>
          </a:xfrm>
          <a:custGeom>
            <a:avLst/>
            <a:gdLst/>
            <a:ahLst/>
            <a:rect l="l" t="t" r="r" b="b"/>
            <a:pathLst>
              <a:path w="152" h="98">
                <a:moveTo>
                  <a:pt x="152" y="98"/>
                </a:moveTo>
                <a:cubicBezTo>
                  <a:pt x="141" y="85"/>
                  <a:pt x="113" y="34"/>
                  <a:pt x="88" y="18"/>
                </a:cubicBezTo>
                <a:cubicBezTo>
                  <a:pt x="63" y="2"/>
                  <a:pt x="18" y="4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952880" y="20574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6837480" y="1676520"/>
            <a:ext cx="72720" cy="98280"/>
            <a:chOff x="6837480" y="1676520"/>
            <a:chExt cx="72720" cy="98280"/>
          </a:xfrm>
        </p:grpSpPr>
        <p:sp>
          <p:nvSpPr>
            <p:cNvPr id="570" name=""/>
            <p:cNvSpPr/>
            <p:nvPr/>
          </p:nvSpPr>
          <p:spPr>
            <a:xfrm>
              <a:off x="6850080" y="1685880"/>
              <a:ext cx="6012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36" y="0"/>
                  </a:moveTo>
                  <a:cubicBezTo>
                    <a:pt x="35" y="7"/>
                    <a:pt x="38" y="33"/>
                    <a:pt x="32" y="42"/>
                  </a:cubicBezTo>
                  <a:cubicBezTo>
                    <a:pt x="26" y="51"/>
                    <a:pt x="7" y="53"/>
                    <a:pt x="0" y="56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37480" y="1676520"/>
              <a:ext cx="50760" cy="666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32" y="0"/>
                  </a:moveTo>
                  <a:cubicBezTo>
                    <a:pt x="31" y="6"/>
                    <a:pt x="29" y="27"/>
                    <a:pt x="24" y="34"/>
                  </a:cubicBezTo>
                  <a:cubicBezTo>
                    <a:pt x="19" y="41"/>
                    <a:pt x="5" y="40"/>
                    <a:pt x="0" y="4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384880" y="3416400"/>
            <a:ext cx="761760" cy="497160"/>
            <a:chOff x="5384880" y="3416400"/>
            <a:chExt cx="761760" cy="497160"/>
          </a:xfrm>
        </p:grpSpPr>
        <p:sp>
          <p:nvSpPr>
            <p:cNvPr id="573" name=""/>
            <p:cNvSpPr/>
            <p:nvPr/>
          </p:nvSpPr>
          <p:spPr>
            <a:xfrm>
              <a:off x="5384880" y="35146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422680" y="3416400"/>
              <a:ext cx="240840" cy="155520"/>
            </a:xfrm>
            <a:custGeom>
              <a:avLst/>
              <a:gdLst/>
              <a:ahLst/>
              <a:rect l="l" t="t" r="r" b="b"/>
              <a:pathLst>
                <a:path w="152" h="98">
                  <a:moveTo>
                    <a:pt x="152" y="98"/>
                  </a:moveTo>
                  <a:cubicBezTo>
                    <a:pt x="141" y="85"/>
                    <a:pt x="113" y="34"/>
                    <a:pt x="88" y="18"/>
                  </a:cubicBezTo>
                  <a:cubicBezTo>
                    <a:pt x="63" y="2"/>
                    <a:pt x="18" y="4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019560" y="2666880"/>
            <a:ext cx="178200" cy="1079640"/>
            <a:chOff x="6019560" y="2666880"/>
            <a:chExt cx="178200" cy="1079640"/>
          </a:xfrm>
        </p:grpSpPr>
        <p:sp>
          <p:nvSpPr>
            <p:cNvPr id="576" name=""/>
            <p:cNvSpPr/>
            <p:nvPr/>
          </p:nvSpPr>
          <p:spPr>
            <a:xfrm flipH="1">
              <a:off x="6019560" y="2666880"/>
              <a:ext cx="7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21440" y="3441600"/>
              <a:ext cx="76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 rot="699000">
            <a:off x="5122080" y="1600920"/>
            <a:ext cx="3247560" cy="32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11" y="2923"/>
                </a:moveTo>
                <a:arcTo wR="10800" hR="10800" stAng="-7990191" swAng="10783401"/>
                <a:lnTo>
                  <a:pt x="10800" y="10800"/>
                </a:lnTo>
                <a:close/>
              </a:path>
              <a:path fill="none" w="21600" h="21600">
                <a:moveTo>
                  <a:pt x="3411" y="2923"/>
                </a:moveTo>
                <a:arcTo wR="10800" hR="10800" stAng="-7990191" swAng="10783401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600880" y="2324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18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 rot="699000">
            <a:off x="5126400" y="1604880"/>
            <a:ext cx="3247560" cy="323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94" y="7533"/>
                </a:moveTo>
                <a:arcTo wR="10800" hR="10800" stAng="-1056569" swAng="3849780"/>
                <a:lnTo>
                  <a:pt x="10800" y="10800"/>
                </a:lnTo>
                <a:close/>
              </a:path>
              <a:path fill="none" w="21600" h="21600">
                <a:moveTo>
                  <a:pt x="21094" y="7533"/>
                </a:moveTo>
                <a:arcTo wR="10800" hR="10800" stAng="-1056569" swAng="3849780"/>
              </a:path>
            </a:pathLst>
          </a:custGeom>
          <a:noFill/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23880" y="5943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7254"/>
                </a:srgbClr>
              </a:gs>
              <a:gs pos="100000">
                <a:srgbClr val="0066cc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943600" y="5943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7254"/>
                </a:srgbClr>
              </a:gs>
              <a:gs pos="100000">
                <a:srgbClr val="0066cc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nextslide"/>
          </p:cNvPr>
          <p:cNvSpPr/>
          <p:nvPr/>
        </p:nvSpPr>
        <p:spPr>
          <a:xfrm>
            <a:off x="81532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66cc">
                  <a:alpha val="67058"/>
                </a:srgbClr>
              </a:gs>
              <a:gs pos="100000">
                <a:srgbClr val="ffffff">
                  <a:alpha val="6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C 0.01944 -0.05255 0.04166 -0.09375 0.06389 -0.14607 C 0.08333 -0.18935 0.1 -0.27269 0.11666 -0.30301 C 0.12222 -0.31551 0.11944 -0.30834 0.12222 -0.32408 L 0.13333 -0.37107 E">
                                      <p:cBhvr>
                                        <p:cTn id="870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-0.15834 -0.18449 E">
                                      <p:cBhvr>
                                        <p:cTn id="885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-0.00556 -0.10833 L -0.00625 -0.12685 E">
                                      <p:cBhvr>
                                        <p:cTn id="914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0.10972 -0.05625 L 0.14444 -0.07477 E">
                                      <p:cBhvr>
                                        <p:cTn id="962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оказательство теор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572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Теоре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ифаг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5029200" y="1066680"/>
            <a:ext cx="3429000" cy="43783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5029200" y="5638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ИФАГОР  САМОС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КОЛО  580-500  гг.  ДО 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2743200"/>
            <a:ext cx="42670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будет  вечной  истина, как  скоро</a:t>
            </a:r>
            <a:endParaRPr b="0" lang="en-US" sz="1800" spc="1" strike="noStrike">
              <a:ln w="9360">
                <a:solidFill>
                  <a:srgbClr val="996633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е  познает  слабый  человек!</a:t>
            </a:r>
            <a:endParaRPr b="0" lang="en-US" sz="1800" spc="1" strike="noStrike">
              <a:ln w="9360">
                <a:solidFill>
                  <a:srgbClr val="996633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 ныне  теорема  Пифагора</a:t>
            </a:r>
            <a:endParaRPr b="0" lang="en-US" sz="1800" spc="1" strike="noStrike">
              <a:ln w="9360">
                <a:solidFill>
                  <a:srgbClr val="996633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рна,  как  и  в  его  далекий  век.</a:t>
            </a:r>
            <a:endParaRPr b="0" lang="en-US" sz="1800" spc="1" strike="noStrike">
              <a:ln w="9360">
                <a:solidFill>
                  <a:srgbClr val="996633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1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нтерактивные тес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no Pro Smb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no Pro Smbd"/>
              </a:rPr>
              <a:t>Тест </a:t>
            </a:r>
            <a:r>
              <a:rPr b="1" lang="en-US" sz="2800" spc="-1" strike="noStrike">
                <a:solidFill>
                  <a:srgbClr val="0000ff"/>
                </a:solidFill>
                <a:latin typeface="Arno Pro Smbd"/>
              </a:rPr>
              <a:t>«Соотношения между сторонами и углами треуголь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Тес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«Скалярное произведение вектор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Те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«Примеры из геометр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C:\Documents and Settings\Андреева\Рабочий стол\Неиспользуемые ярлыки\АНИМАШКИ\animashky\ОБЫЧНЫЕ\Компьютеры, технологии, бытовая техника\компьютеры и комплектующие\10335.gif"/>
          <p:cNvPicPr/>
          <p:nvPr/>
        </p:nvPicPr>
        <p:blipFill>
          <a:blip r:embed="rId1"/>
          <a:stretch/>
        </p:blipFill>
        <p:spPr>
          <a:xfrm>
            <a:off x="4952880" y="2666880"/>
            <a:ext cx="344808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4" dur="1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9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2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7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0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ешение примерных задач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9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Задач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Задач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Задача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Задачи на готовых чертеж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rush Script Std"/>
              </a:rPr>
              <a:t>Применение на уроках учебных презентаций, разработанных в среде </a:t>
            </a:r>
            <a:r>
              <a:rPr b="1" lang="en-US" sz="2400" spc="-1" strike="noStrike">
                <a:solidFill>
                  <a:srgbClr val="ff0000"/>
                </a:solidFill>
                <a:latin typeface="Brush Script Std"/>
              </a:rPr>
              <a:t>Power Point</a:t>
            </a:r>
            <a:r>
              <a:rPr b="1" lang="ru-RU" sz="2400" spc="-1" strike="noStrike">
                <a:solidFill>
                  <a:srgbClr val="ff0000"/>
                </a:solidFill>
                <a:latin typeface="Brush Script Std"/>
              </a:rPr>
              <a:t>, способствует решению развивающих целей, которые мы ставим на уроках геомет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askerville Old Face"/>
              </a:rPr>
              <a:t>развивать логическое мышление, пространственное воображение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askerville Old Face"/>
              </a:rPr>
              <a:t>образное мышление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askerville Old Face"/>
              </a:rPr>
              <a:t>формировать умения чётко и ясно излагать свои мыс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askerville Old Face"/>
              </a:rPr>
              <a:t>совершенствовать графическую куль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31640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пользование компьютерных презентаций на уроках математики открывает огромные возможности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мпьютер может взять на себя функцию контроля зн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оможет сэкономить время на у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огато иллюстрировать матери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рудные для понимания моменты показать в динами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овторить то, что вызвало затруд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ифференцировать урок в соответствии с индивидуальными особенностями учащихся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09480" y="8110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нечно, не факт, что использование компьютерных презентаций на уроке даёт возможность овладеть математикой «легко и счастливо». Лёгких путей в науку нет. Но необходимо использовать все возможности для того, чтобы дети учились с интересом, чтобы большинство подростков испытали и осознали притягательные стороны геометрии, её возможности в совершенствовании умственных способностей, в преодолении труд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1295280" y="304920"/>
          <a:ext cx="476568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920"/>
                    <a:ext cx="47656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Прямоугольник 5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921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езентация не должна представлять собой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шь набор иллюстраций и использоваться на уроке только в качестве нагляд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Анимационные компьютерные презентации позволя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полнить красивый  черте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анипулировать различными объектами на эк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енять размеры объектов, их цвет, связи с помощью  стрел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учителю создавать интерактивные модели для доказательства теорем, решения задач, контроля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57200" y="274680"/>
            <a:ext cx="8228880" cy="5364000"/>
            <a:chOff x="457200" y="274680"/>
            <a:chExt cx="8228880" cy="5364000"/>
          </a:xfrm>
        </p:grpSpPr>
        <p:cxnSp>
          <p:nvCxnSpPr>
            <p:cNvPr id="58" name="_s467975"/>
            <p:cNvCxnSpPr>
              <a:stCxn id="59" idx="1"/>
              <a:endCxn id="60" idx="2"/>
            </p:cNvCxnSpPr>
            <p:nvPr/>
          </p:nvCxnSpPr>
          <p:spPr>
            <a:xfrm rot="10800000">
              <a:off x="2925000" y="905040"/>
              <a:ext cx="823680" cy="441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467976"/>
            <p:cNvCxnSpPr>
              <a:stCxn id="62" idx="1"/>
              <a:endCxn id="60" idx="2"/>
            </p:cNvCxnSpPr>
            <p:nvPr/>
          </p:nvCxnSpPr>
          <p:spPr>
            <a:xfrm rot="10800000">
              <a:off x="2925000" y="905040"/>
              <a:ext cx="823680" cy="347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467977"/>
            <p:cNvCxnSpPr>
              <a:stCxn id="64" idx="1"/>
              <a:endCxn id="60" idx="2"/>
            </p:cNvCxnSpPr>
            <p:nvPr/>
          </p:nvCxnSpPr>
          <p:spPr>
            <a:xfrm rot="10800000">
              <a:off x="2925000" y="905040"/>
              <a:ext cx="823680" cy="252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467978"/>
            <p:cNvCxnSpPr>
              <a:stCxn id="66" idx="1"/>
              <a:endCxn id="60" idx="2"/>
            </p:cNvCxnSpPr>
            <p:nvPr/>
          </p:nvCxnSpPr>
          <p:spPr>
            <a:xfrm rot="10800000">
              <a:off x="2925000" y="905040"/>
              <a:ext cx="823680" cy="157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467979"/>
            <p:cNvCxnSpPr>
              <a:stCxn id="68" idx="1"/>
              <a:endCxn id="60" idx="2"/>
            </p:cNvCxnSpPr>
            <p:nvPr/>
          </p:nvCxnSpPr>
          <p:spPr>
            <a:xfrm rot="10800000">
              <a:off x="2925000" y="905040"/>
              <a:ext cx="82368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0" name="_s467980"/>
            <p:cNvSpPr/>
            <p:nvPr/>
          </p:nvSpPr>
          <p:spPr>
            <a:xfrm>
              <a:off x="457200" y="274680"/>
              <a:ext cx="4937400" cy="63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Применение презентац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467981"/>
            <p:cNvSpPr/>
            <p:nvPr/>
          </p:nvSpPr>
          <p:spPr>
            <a:xfrm>
              <a:off x="3748680" y="1221120"/>
              <a:ext cx="4937400" cy="63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Иллюстрация определе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467982"/>
            <p:cNvSpPr/>
            <p:nvPr/>
          </p:nvSpPr>
          <p:spPr>
            <a:xfrm>
              <a:off x="3748680" y="2167920"/>
              <a:ext cx="4937400" cy="63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Решение зада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67983"/>
            <p:cNvSpPr/>
            <p:nvPr/>
          </p:nvSpPr>
          <p:spPr>
            <a:xfrm>
              <a:off x="3748680" y="3114360"/>
              <a:ext cx="4937400" cy="63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Задачи на постро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467984"/>
            <p:cNvSpPr/>
            <p:nvPr/>
          </p:nvSpPr>
          <p:spPr>
            <a:xfrm>
              <a:off x="3748680" y="4061160"/>
              <a:ext cx="4937400" cy="63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Доказательство теоре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67985"/>
            <p:cNvSpPr/>
            <p:nvPr/>
          </p:nvSpPr>
          <p:spPr>
            <a:xfrm>
              <a:off x="3748680" y="5007600"/>
              <a:ext cx="4937400" cy="63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Контроль знаний (тесты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менение презентаций для иллюстрирования определений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44197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межные и вертикаль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иссектриса, медиана и высота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дносторонние, соответственные и накрест лежащи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28720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5519880" y="1676520"/>
            <a:ext cx="2711160" cy="3848760"/>
            <a:chOff x="5519880" y="1676520"/>
            <a:chExt cx="2711160" cy="3848760"/>
          </a:xfrm>
        </p:grpSpPr>
        <p:sp>
          <p:nvSpPr>
            <p:cNvPr id="73" name=""/>
            <p:cNvSpPr/>
            <p:nvPr/>
          </p:nvSpPr>
          <p:spPr>
            <a:xfrm>
              <a:off x="6426360" y="2133360"/>
              <a:ext cx="990360" cy="1333440"/>
            </a:xfrm>
            <a:custGeom>
              <a:avLst/>
              <a:gdLst/>
              <a:ahLst/>
              <a:rect l="l" t="t" r="r" b="b"/>
              <a:pathLst>
                <a:path w="624" h="840">
                  <a:moveTo>
                    <a:pt x="64" y="632"/>
                  </a:moveTo>
                  <a:lnTo>
                    <a:pt x="336" y="0"/>
                  </a:lnTo>
                  <a:lnTo>
                    <a:pt x="624" y="760"/>
                  </a:lnTo>
                  <a:lnTo>
                    <a:pt x="624" y="744"/>
                  </a:lnTo>
                  <a:lnTo>
                    <a:pt x="416" y="728"/>
                  </a:lnTo>
                  <a:lnTo>
                    <a:pt x="320" y="840"/>
                  </a:lnTo>
                  <a:lnTo>
                    <a:pt x="192" y="824"/>
                  </a:lnTo>
                  <a:lnTo>
                    <a:pt x="16" y="776"/>
                  </a:lnTo>
                  <a:lnTo>
                    <a:pt x="0" y="808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26240" y="2120760"/>
              <a:ext cx="2162160" cy="2887200"/>
            </a:xfrm>
            <a:custGeom>
              <a:avLst/>
              <a:gdLst/>
              <a:ahLst/>
              <a:rect l="l" t="t" r="r" b="b"/>
              <a:pathLst>
                <a:path w="1362" h="1819">
                  <a:moveTo>
                    <a:pt x="0" y="1819"/>
                  </a:moveTo>
                  <a:lnTo>
                    <a:pt x="698" y="0"/>
                  </a:lnTo>
                  <a:lnTo>
                    <a:pt x="1362" y="163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19880" y="506556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31160" y="471960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81680" y="167652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023840" y="3324240"/>
            <a:ext cx="2711520" cy="1896480"/>
            <a:chOff x="1023840" y="3324240"/>
            <a:chExt cx="2711520" cy="1896480"/>
          </a:xfrm>
        </p:grpSpPr>
        <p:sp>
          <p:nvSpPr>
            <p:cNvPr id="79" name=""/>
            <p:cNvSpPr/>
            <p:nvPr/>
          </p:nvSpPr>
          <p:spPr>
            <a:xfrm>
              <a:off x="1600200" y="3340080"/>
              <a:ext cx="1447920" cy="1155600"/>
            </a:xfrm>
            <a:custGeom>
              <a:avLst/>
              <a:gdLst/>
              <a:ahLst/>
              <a:rect l="l" t="t" r="r" b="b"/>
              <a:pathLst>
                <a:path w="912" h="728">
                  <a:moveTo>
                    <a:pt x="0" y="584"/>
                  </a:moveTo>
                  <a:lnTo>
                    <a:pt x="400" y="0"/>
                  </a:lnTo>
                  <a:lnTo>
                    <a:pt x="912" y="440"/>
                  </a:lnTo>
                  <a:lnTo>
                    <a:pt x="768" y="584"/>
                  </a:lnTo>
                  <a:lnTo>
                    <a:pt x="480" y="728"/>
                  </a:lnTo>
                  <a:lnTo>
                    <a:pt x="192" y="728"/>
                  </a:lnTo>
                  <a:lnTo>
                    <a:pt x="96" y="632"/>
                  </a:lnTo>
                  <a:lnTo>
                    <a:pt x="0" y="63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30200" y="3324240"/>
              <a:ext cx="2162160" cy="1379520"/>
            </a:xfrm>
            <a:custGeom>
              <a:avLst/>
              <a:gdLst/>
              <a:ahLst/>
              <a:rect l="l" t="t" r="r" b="b"/>
              <a:pathLst>
                <a:path w="1808" h="1152">
                  <a:moveTo>
                    <a:pt x="0" y="1152"/>
                  </a:moveTo>
                  <a:lnTo>
                    <a:pt x="752" y="0"/>
                  </a:lnTo>
                  <a:lnTo>
                    <a:pt x="1808" y="9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23840" y="476100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35480" y="441468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62120" y="380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похожи и чем  различаются углы АОВ и АС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85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94" name="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4960" y="2978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105520" y="2133720"/>
            <a:ext cx="3276360" cy="3162240"/>
            <a:chOff x="5105520" y="2133720"/>
            <a:chExt cx="3276360" cy="3162240"/>
          </a:xfrm>
        </p:grpSpPr>
        <p:sp>
          <p:nvSpPr>
            <p:cNvPr id="98" name=""/>
            <p:cNvSpPr/>
            <p:nvPr/>
          </p:nvSpPr>
          <p:spPr>
            <a:xfrm>
              <a:off x="5105520" y="2133720"/>
              <a:ext cx="327636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93480" y="3616560"/>
              <a:ext cx="997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04400" y="32835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858000" y="2057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219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ентральн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1295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писанн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5791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определение этих уг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638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гол с вершиной в центре окружности называется центральным уг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542592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гол, вершина которого лежит на окружности, а стороны пересекают окружность, называется вписанным уг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no Pro Smbd"/>
              </a:rPr>
              <a:t>Устное  решение задач (фронтальная работ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4100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no Pro Smb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no Pro Smbd"/>
              </a:rPr>
              <a:t>Презент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no Pro Smbd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no Pro Smbd"/>
              </a:rPr>
              <a:t>«Смежные и вертикальные углы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no Pro Smbd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Arno Pro Smbd"/>
              </a:rPr>
              <a:t>7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no Pro Smb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no Pro Smbd"/>
              </a:rPr>
              <a:t>Презент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no Pro Smbd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no Pro Smbd"/>
              </a:rPr>
              <a:t>«Признаки равенства треугольников» 7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067280" y="61009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29240" y="4635360"/>
            <a:ext cx="3181320" cy="1530360"/>
          </a:xfrm>
          <a:custGeom>
            <a:avLst/>
            <a:gdLst/>
            <a:ahLst/>
            <a:rect l="l" t="t" r="r" b="b"/>
            <a:pathLst>
              <a:path w="2004" h="964">
                <a:moveTo>
                  <a:pt x="27" y="956"/>
                </a:moveTo>
                <a:lnTo>
                  <a:pt x="0" y="964"/>
                </a:lnTo>
                <a:lnTo>
                  <a:pt x="200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60920" y="4089240"/>
            <a:ext cx="977760" cy="1511640"/>
          </a:xfrm>
          <a:custGeom>
            <a:avLst/>
            <a:gdLst/>
            <a:ahLst/>
            <a:rect l="l" t="t" r="r" b="b"/>
            <a:pathLst>
              <a:path w="616" h="952">
                <a:moveTo>
                  <a:pt x="0" y="0"/>
                </a:moveTo>
                <a:lnTo>
                  <a:pt x="616" y="952"/>
                </a:lnTo>
                <a:lnTo>
                  <a:pt x="592" y="952"/>
                </a:lnTo>
                <a:lnTo>
                  <a:pt x="0" y="8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547640" y="189000"/>
            <a:ext cx="118800" cy="4119480"/>
            <a:chOff x="1547640" y="189000"/>
            <a:chExt cx="118800" cy="4119480"/>
          </a:xfrm>
        </p:grpSpPr>
        <p:sp>
          <p:nvSpPr>
            <p:cNvPr id="115" name=""/>
            <p:cNvSpPr/>
            <p:nvPr/>
          </p:nvSpPr>
          <p:spPr>
            <a:xfrm>
              <a:off x="1547640" y="201600"/>
              <a:ext cx="115200" cy="4106880"/>
            </a:xfrm>
            <a:custGeom>
              <a:avLst/>
              <a:gdLst/>
              <a:ahLst/>
              <a:rect l="l" t="t" r="r" b="b"/>
              <a:pathLst>
                <a:path w="116" h="2587">
                  <a:moveTo>
                    <a:pt x="0" y="0"/>
                  </a:moveTo>
                  <a:lnTo>
                    <a:pt x="116" y="2"/>
                  </a:lnTo>
                  <a:lnTo>
                    <a:pt x="116" y="2587"/>
                  </a:lnTo>
                  <a:lnTo>
                    <a:pt x="25" y="25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7640" y="189000"/>
              <a:ext cx="115200" cy="303120"/>
            </a:xfrm>
            <a:custGeom>
              <a:avLst/>
              <a:gdLst/>
              <a:ahLst/>
              <a:rect l="l" t="t" r="r" b="b"/>
              <a:pathLst>
                <a:path w="116" h="191">
                  <a:moveTo>
                    <a:pt x="8" y="16"/>
                  </a:moveTo>
                  <a:lnTo>
                    <a:pt x="104" y="0"/>
                  </a:lnTo>
                  <a:lnTo>
                    <a:pt x="116" y="191"/>
                  </a:lnTo>
                  <a:lnTo>
                    <a:pt x="0" y="184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51240" y="735120"/>
              <a:ext cx="107280" cy="291960"/>
            </a:xfrm>
            <a:custGeom>
              <a:avLst/>
              <a:gdLst/>
              <a:ahLst/>
              <a:rect l="l" t="t" r="r" b="b"/>
              <a:pathLst>
                <a:path w="108" h="184">
                  <a:moveTo>
                    <a:pt x="0" y="0"/>
                  </a:moveTo>
                  <a:lnTo>
                    <a:pt x="108" y="0"/>
                  </a:lnTo>
                  <a:lnTo>
                    <a:pt x="108" y="180"/>
                  </a:lnTo>
                  <a:lnTo>
                    <a:pt x="4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51240" y="1306440"/>
              <a:ext cx="111240" cy="285840"/>
            </a:xfrm>
            <a:custGeom>
              <a:avLst/>
              <a:gdLst/>
              <a:ahLst/>
              <a:rect l="l" t="t" r="r" b="b"/>
              <a:pathLst>
                <a:path w="112" h="180">
                  <a:moveTo>
                    <a:pt x="0" y="0"/>
                  </a:moveTo>
                  <a:lnTo>
                    <a:pt x="104" y="8"/>
                  </a:lnTo>
                  <a:lnTo>
                    <a:pt x="112" y="172"/>
                  </a:lnTo>
                  <a:lnTo>
                    <a:pt x="4" y="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56280" y="1871640"/>
              <a:ext cx="110160" cy="271440"/>
            </a:xfrm>
            <a:custGeom>
              <a:avLst/>
              <a:gdLst/>
              <a:ahLst/>
              <a:rect l="l" t="t" r="r" b="b"/>
              <a:pathLst>
                <a:path w="111" h="171">
                  <a:moveTo>
                    <a:pt x="0" y="21"/>
                  </a:moveTo>
                  <a:lnTo>
                    <a:pt x="105" y="0"/>
                  </a:lnTo>
                  <a:lnTo>
                    <a:pt x="111" y="165"/>
                  </a:lnTo>
                  <a:lnTo>
                    <a:pt x="9" y="17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59520" y="2381400"/>
              <a:ext cx="104400" cy="261720"/>
            </a:xfrm>
            <a:custGeom>
              <a:avLst/>
              <a:gdLst/>
              <a:ahLst/>
              <a:rect l="l" t="t" r="r" b="b"/>
              <a:pathLst>
                <a:path w="105" h="165">
                  <a:moveTo>
                    <a:pt x="0" y="9"/>
                  </a:moveTo>
                  <a:lnTo>
                    <a:pt x="102" y="0"/>
                  </a:lnTo>
                  <a:lnTo>
                    <a:pt x="105" y="150"/>
                  </a:lnTo>
                  <a:lnTo>
                    <a:pt x="6" y="16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65280" y="2886120"/>
              <a:ext cx="101160" cy="266760"/>
            </a:xfrm>
            <a:custGeom>
              <a:avLst/>
              <a:gdLst/>
              <a:ahLst/>
              <a:rect l="l" t="t" r="r" b="b"/>
              <a:pathLst>
                <a:path w="102" h="168">
                  <a:moveTo>
                    <a:pt x="3" y="12"/>
                  </a:moveTo>
                  <a:lnTo>
                    <a:pt x="96" y="0"/>
                  </a:lnTo>
                  <a:lnTo>
                    <a:pt x="102" y="156"/>
                  </a:lnTo>
                  <a:lnTo>
                    <a:pt x="0" y="168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71400" y="3381480"/>
              <a:ext cx="86040" cy="252360"/>
            </a:xfrm>
            <a:custGeom>
              <a:avLst/>
              <a:gdLst/>
              <a:ahLst/>
              <a:rect l="l" t="t" r="r" b="b"/>
              <a:pathLst>
                <a:path w="87" h="159">
                  <a:moveTo>
                    <a:pt x="1" y="15"/>
                  </a:moveTo>
                  <a:lnTo>
                    <a:pt x="87" y="0"/>
                  </a:lnTo>
                  <a:lnTo>
                    <a:pt x="87" y="156"/>
                  </a:lnTo>
                  <a:lnTo>
                    <a:pt x="0" y="15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72120" y="3834000"/>
              <a:ext cx="88200" cy="242640"/>
            </a:xfrm>
            <a:custGeom>
              <a:avLst/>
              <a:gdLst/>
              <a:ahLst/>
              <a:rect l="l" t="t" r="r" b="b"/>
              <a:pathLst>
                <a:path w="89" h="153">
                  <a:moveTo>
                    <a:pt x="0" y="3"/>
                  </a:moveTo>
                  <a:lnTo>
                    <a:pt x="89" y="0"/>
                  </a:lnTo>
                  <a:lnTo>
                    <a:pt x="89" y="153"/>
                  </a:lnTo>
                  <a:lnTo>
                    <a:pt x="2" y="15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500720" y="2421000"/>
            <a:ext cx="215640" cy="3681360"/>
            <a:chOff x="4500720" y="2421000"/>
            <a:chExt cx="215640" cy="3681360"/>
          </a:xfrm>
        </p:grpSpPr>
        <p:grpSp>
          <p:nvGrpSpPr>
            <p:cNvPr id="125" name=""/>
            <p:cNvGrpSpPr/>
            <p:nvPr/>
          </p:nvGrpSpPr>
          <p:grpSpPr>
            <a:xfrm>
              <a:off x="4500720" y="2421000"/>
              <a:ext cx="215640" cy="3633840"/>
              <a:chOff x="4500720" y="2421000"/>
              <a:chExt cx="215640" cy="3633840"/>
            </a:xfrm>
          </p:grpSpPr>
          <p:sp>
            <p:nvSpPr>
              <p:cNvPr id="126" name=""/>
              <p:cNvSpPr/>
              <p:nvPr/>
            </p:nvSpPr>
            <p:spPr>
              <a:xfrm>
                <a:off x="4539960" y="2421000"/>
                <a:ext cx="33120" cy="1684440"/>
              </a:xfrm>
              <a:custGeom>
                <a:avLst/>
                <a:gdLst/>
                <a:ahLst/>
                <a:rect l="l" t="t" r="r" b="b"/>
                <a:pathLst>
                  <a:path w="21" h="1061">
                    <a:moveTo>
                      <a:pt x="21" y="1061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4500720" y="4105440"/>
                <a:ext cx="215640" cy="1949400"/>
                <a:chOff x="4500720" y="4105440"/>
                <a:chExt cx="215640" cy="19494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500720" y="5623200"/>
                  <a:ext cx="215640" cy="431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9933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586040" y="4105440"/>
                  <a:ext cx="12240" cy="1587600"/>
                </a:xfrm>
                <a:custGeom>
                  <a:avLst/>
                  <a:gdLst/>
                  <a:ahLst/>
                  <a:rect l="l" t="t" r="r" b="b"/>
                  <a:pathLst>
                    <a:path w="8" h="1000">
                      <a:moveTo>
                        <a:pt x="0" y="0"/>
                      </a:moveTo>
                      <a:lnTo>
                        <a:pt x="8" y="100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4500720" y="6021360"/>
              <a:ext cx="215640" cy="81000"/>
            </a:xfrm>
            <a:custGeom>
              <a:avLst/>
              <a:gdLst/>
              <a:ahLst/>
              <a:rect l="l" t="t" r="r" b="b"/>
              <a:pathLst>
                <a:path w="136" h="51">
                  <a:moveTo>
                    <a:pt x="0" y="0"/>
                  </a:moveTo>
                  <a:lnTo>
                    <a:pt x="65" y="51"/>
                  </a:lnTo>
                  <a:lnTo>
                    <a:pt x="136" y="0"/>
                  </a:lnTo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013280" y="3772080"/>
            <a:ext cx="1143000" cy="593640"/>
          </a:xfrm>
          <a:custGeom>
            <a:avLst/>
            <a:gdLst/>
            <a:ahLst/>
            <a:rect l="l" t="t" r="r" b="b"/>
            <a:pathLst>
              <a:path w="720" h="374">
                <a:moveTo>
                  <a:pt x="560" y="0"/>
                </a:moveTo>
                <a:lnTo>
                  <a:pt x="0" y="288"/>
                </a:lnTo>
                <a:lnTo>
                  <a:pt x="125" y="374"/>
                </a:lnTo>
                <a:lnTo>
                  <a:pt x="720" y="72"/>
                </a:lnTo>
                <a:lnTo>
                  <a:pt x="56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94920" y="3789360"/>
            <a:ext cx="1143000" cy="593640"/>
          </a:xfrm>
          <a:custGeom>
            <a:avLst/>
            <a:gdLst/>
            <a:ahLst/>
            <a:rect l="l" t="t" r="r" b="b"/>
            <a:pathLst>
              <a:path w="720" h="374">
                <a:moveTo>
                  <a:pt x="560" y="0"/>
                </a:moveTo>
                <a:lnTo>
                  <a:pt x="0" y="288"/>
                </a:lnTo>
                <a:lnTo>
                  <a:pt x="125" y="374"/>
                </a:lnTo>
                <a:lnTo>
                  <a:pt x="720" y="72"/>
                </a:lnTo>
                <a:lnTo>
                  <a:pt x="56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27680" y="3716280"/>
            <a:ext cx="4680" cy="169920"/>
          </a:xfrm>
          <a:custGeom>
            <a:avLst/>
            <a:gdLst/>
            <a:ahLst/>
            <a:rect l="l" t="t" r="r" b="b"/>
            <a:pathLst>
              <a:path w="3" h="107">
                <a:moveTo>
                  <a:pt x="3" y="0"/>
                </a:moveTo>
                <a:lnTo>
                  <a:pt x="0" y="107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3716280"/>
            <a:ext cx="4680" cy="169920"/>
          </a:xfrm>
          <a:custGeom>
            <a:avLst/>
            <a:gdLst/>
            <a:ahLst/>
            <a:rect l="l" t="t" r="r" b="b"/>
            <a:pathLst>
              <a:path w="3" h="107">
                <a:moveTo>
                  <a:pt x="0" y="0"/>
                </a:moveTo>
                <a:lnTo>
                  <a:pt x="3" y="107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15080" y="4127400"/>
            <a:ext cx="18720" cy="165240"/>
          </a:xfrm>
          <a:custGeom>
            <a:avLst/>
            <a:gdLst/>
            <a:ahLst/>
            <a:rect l="l" t="t" r="r" b="b"/>
            <a:pathLst>
              <a:path w="12" h="104">
                <a:moveTo>
                  <a:pt x="0" y="0"/>
                </a:moveTo>
                <a:lnTo>
                  <a:pt x="12" y="10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03720" y="4076640"/>
            <a:ext cx="7920" cy="165240"/>
          </a:xfrm>
          <a:custGeom>
            <a:avLst/>
            <a:gdLst/>
            <a:ahLst/>
            <a:rect l="l" t="t" r="r" b="b"/>
            <a:pathLst>
              <a:path w="5" h="104">
                <a:moveTo>
                  <a:pt x="5" y="0"/>
                </a:moveTo>
                <a:lnTo>
                  <a:pt x="0" y="10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425680"/>
            <a:ext cx="3548160" cy="1795320"/>
          </a:xfrm>
          <a:custGeom>
            <a:avLst/>
            <a:gdLst/>
            <a:ahLst/>
            <a:rect l="l" t="t" r="r" b="b"/>
            <a:pathLst>
              <a:path w="2235" h="1131">
                <a:moveTo>
                  <a:pt x="2235" y="0"/>
                </a:moveTo>
                <a:lnTo>
                  <a:pt x="0" y="1131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14680" y="2514600"/>
            <a:ext cx="3251160" cy="1765440"/>
          </a:xfrm>
          <a:custGeom>
            <a:avLst/>
            <a:gdLst/>
            <a:ahLst/>
            <a:rect l="l" t="t" r="r" b="b"/>
            <a:pathLst>
              <a:path w="2048" h="1112">
                <a:moveTo>
                  <a:pt x="2048" y="111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885080" y="677880"/>
            <a:ext cx="117360" cy="4119480"/>
            <a:chOff x="7885080" y="677880"/>
            <a:chExt cx="117360" cy="4119480"/>
          </a:xfrm>
        </p:grpSpPr>
        <p:sp>
          <p:nvSpPr>
            <p:cNvPr id="140" name=""/>
            <p:cNvSpPr/>
            <p:nvPr/>
          </p:nvSpPr>
          <p:spPr>
            <a:xfrm flipH="1">
              <a:off x="7888680" y="690480"/>
              <a:ext cx="113400" cy="4106880"/>
            </a:xfrm>
            <a:custGeom>
              <a:avLst/>
              <a:gdLst/>
              <a:ahLst/>
              <a:rect l="l" t="t" r="r" b="b"/>
              <a:pathLst>
                <a:path w="116" h="2587">
                  <a:moveTo>
                    <a:pt x="0" y="0"/>
                  </a:moveTo>
                  <a:lnTo>
                    <a:pt x="116" y="2"/>
                  </a:lnTo>
                  <a:lnTo>
                    <a:pt x="116" y="2587"/>
                  </a:lnTo>
                  <a:lnTo>
                    <a:pt x="25" y="25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888680" y="677880"/>
              <a:ext cx="113400" cy="303120"/>
            </a:xfrm>
            <a:custGeom>
              <a:avLst/>
              <a:gdLst/>
              <a:ahLst/>
              <a:rect l="l" t="t" r="r" b="b"/>
              <a:pathLst>
                <a:path w="116" h="191">
                  <a:moveTo>
                    <a:pt x="8" y="16"/>
                  </a:moveTo>
                  <a:lnTo>
                    <a:pt x="104" y="0"/>
                  </a:lnTo>
                  <a:lnTo>
                    <a:pt x="116" y="191"/>
                  </a:lnTo>
                  <a:lnTo>
                    <a:pt x="0" y="184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893000" y="1224000"/>
              <a:ext cx="105840" cy="291960"/>
            </a:xfrm>
            <a:custGeom>
              <a:avLst/>
              <a:gdLst/>
              <a:ahLst/>
              <a:rect l="l" t="t" r="r" b="b"/>
              <a:pathLst>
                <a:path w="108" h="184">
                  <a:moveTo>
                    <a:pt x="0" y="0"/>
                  </a:moveTo>
                  <a:lnTo>
                    <a:pt x="108" y="0"/>
                  </a:lnTo>
                  <a:lnTo>
                    <a:pt x="108" y="180"/>
                  </a:lnTo>
                  <a:lnTo>
                    <a:pt x="4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889400" y="1795320"/>
              <a:ext cx="109440" cy="285840"/>
            </a:xfrm>
            <a:custGeom>
              <a:avLst/>
              <a:gdLst/>
              <a:ahLst/>
              <a:rect l="l" t="t" r="r" b="b"/>
              <a:pathLst>
                <a:path w="112" h="180">
                  <a:moveTo>
                    <a:pt x="0" y="0"/>
                  </a:moveTo>
                  <a:lnTo>
                    <a:pt x="104" y="8"/>
                  </a:lnTo>
                  <a:lnTo>
                    <a:pt x="112" y="172"/>
                  </a:lnTo>
                  <a:lnTo>
                    <a:pt x="4" y="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7885080" y="2360520"/>
              <a:ext cx="108720" cy="271440"/>
            </a:xfrm>
            <a:custGeom>
              <a:avLst/>
              <a:gdLst/>
              <a:ahLst/>
              <a:rect l="l" t="t" r="r" b="b"/>
              <a:pathLst>
                <a:path w="111" h="171">
                  <a:moveTo>
                    <a:pt x="0" y="21"/>
                  </a:moveTo>
                  <a:lnTo>
                    <a:pt x="105" y="0"/>
                  </a:lnTo>
                  <a:lnTo>
                    <a:pt x="111" y="165"/>
                  </a:lnTo>
                  <a:lnTo>
                    <a:pt x="9" y="17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887960" y="2870280"/>
              <a:ext cx="102600" cy="261720"/>
            </a:xfrm>
            <a:custGeom>
              <a:avLst/>
              <a:gdLst/>
              <a:ahLst/>
              <a:rect l="l" t="t" r="r" b="b"/>
              <a:pathLst>
                <a:path w="105" h="165">
                  <a:moveTo>
                    <a:pt x="0" y="9"/>
                  </a:moveTo>
                  <a:lnTo>
                    <a:pt x="102" y="0"/>
                  </a:lnTo>
                  <a:lnTo>
                    <a:pt x="105" y="150"/>
                  </a:lnTo>
                  <a:lnTo>
                    <a:pt x="6" y="16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885080" y="3375000"/>
              <a:ext cx="99720" cy="266760"/>
            </a:xfrm>
            <a:custGeom>
              <a:avLst/>
              <a:gdLst/>
              <a:ahLst/>
              <a:rect l="l" t="t" r="r" b="b"/>
              <a:pathLst>
                <a:path w="102" h="168">
                  <a:moveTo>
                    <a:pt x="3" y="12"/>
                  </a:moveTo>
                  <a:lnTo>
                    <a:pt x="96" y="0"/>
                  </a:lnTo>
                  <a:lnTo>
                    <a:pt x="102" y="156"/>
                  </a:lnTo>
                  <a:lnTo>
                    <a:pt x="0" y="168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894080" y="3870360"/>
              <a:ext cx="84960" cy="252360"/>
            </a:xfrm>
            <a:custGeom>
              <a:avLst/>
              <a:gdLst/>
              <a:ahLst/>
              <a:rect l="l" t="t" r="r" b="b"/>
              <a:pathLst>
                <a:path w="87" h="159">
                  <a:moveTo>
                    <a:pt x="1" y="15"/>
                  </a:moveTo>
                  <a:lnTo>
                    <a:pt x="87" y="0"/>
                  </a:lnTo>
                  <a:lnTo>
                    <a:pt x="87" y="156"/>
                  </a:lnTo>
                  <a:lnTo>
                    <a:pt x="0" y="15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891200" y="4322880"/>
              <a:ext cx="86760" cy="242640"/>
            </a:xfrm>
            <a:custGeom>
              <a:avLst/>
              <a:gdLst/>
              <a:ahLst/>
              <a:rect l="l" t="t" r="r" b="b"/>
              <a:pathLst>
                <a:path w="89" h="153">
                  <a:moveTo>
                    <a:pt x="0" y="3"/>
                  </a:moveTo>
                  <a:lnTo>
                    <a:pt x="89" y="0"/>
                  </a:lnTo>
                  <a:lnTo>
                    <a:pt x="89" y="153"/>
                  </a:lnTo>
                  <a:lnTo>
                    <a:pt x="2" y="15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812360" y="443700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9960" y="4437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8000" y="8100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прямых угл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 местности с помощ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ейше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рибо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ый называется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эк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885080" y="5599080"/>
            <a:ext cx="1258920" cy="125892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7329600" y="4302360"/>
            <a:ext cx="952200" cy="512280"/>
            <a:chOff x="7329600" y="4302360"/>
            <a:chExt cx="952200" cy="512280"/>
          </a:xfrm>
        </p:grpSpPr>
        <p:grpSp>
          <p:nvGrpSpPr>
            <p:cNvPr id="154" name=""/>
            <p:cNvGrpSpPr/>
            <p:nvPr/>
          </p:nvGrpSpPr>
          <p:grpSpPr>
            <a:xfrm>
              <a:off x="7329600" y="4383720"/>
              <a:ext cx="494640" cy="430920"/>
              <a:chOff x="7329600" y="4383720"/>
              <a:chExt cx="494640" cy="4309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7602840" y="4383720"/>
                <a:ext cx="221400" cy="289800"/>
                <a:chOff x="7602840" y="4383720"/>
                <a:chExt cx="221400" cy="289800"/>
              </a:xfrm>
            </p:grpSpPr>
            <p:sp>
              <p:nvSpPr>
                <p:cNvPr id="156" name=""/>
                <p:cNvSpPr/>
                <p:nvPr/>
              </p:nvSpPr>
              <p:spPr>
                <a:xfrm flipH="1" rot="20635200">
                  <a:off x="7632360" y="440100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rot="20635200">
                  <a:off x="7643160" y="441036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7496280" y="4442760"/>
                <a:ext cx="243720" cy="296640"/>
                <a:chOff x="7496280" y="4442760"/>
                <a:chExt cx="243720" cy="296640"/>
              </a:xfrm>
            </p:grpSpPr>
            <p:sp>
              <p:nvSpPr>
                <p:cNvPr id="159" name=""/>
                <p:cNvSpPr/>
                <p:nvPr/>
              </p:nvSpPr>
              <p:spPr>
                <a:xfrm flipH="1" rot="20184600">
                  <a:off x="7536960" y="446472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rot="20184600">
                  <a:off x="7549920" y="447588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7329600" y="4520520"/>
                <a:ext cx="280800" cy="294120"/>
                <a:chOff x="7329600" y="4520520"/>
                <a:chExt cx="280800" cy="294120"/>
              </a:xfrm>
            </p:grpSpPr>
            <p:sp>
              <p:nvSpPr>
                <p:cNvPr id="162" name=""/>
                <p:cNvSpPr/>
                <p:nvPr/>
              </p:nvSpPr>
              <p:spPr>
                <a:xfrm flipH="1" rot="19078200">
                  <a:off x="7389000" y="454356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rot="19078200">
                  <a:off x="7408800" y="455832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7790040" y="4302360"/>
              <a:ext cx="491760" cy="311040"/>
              <a:chOff x="7790040" y="4302360"/>
              <a:chExt cx="491760" cy="31104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7790040" y="4302360"/>
                <a:ext cx="195840" cy="271440"/>
                <a:chOff x="7790040" y="4302360"/>
                <a:chExt cx="195840" cy="271440"/>
              </a:xfrm>
            </p:grpSpPr>
            <p:sp>
              <p:nvSpPr>
                <p:cNvPr id="166" name=""/>
                <p:cNvSpPr/>
                <p:nvPr/>
              </p:nvSpPr>
              <p:spPr>
                <a:xfrm rot="21080400">
                  <a:off x="7806960" y="431316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21080400">
                  <a:off x="7858080" y="43138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917840" y="4329720"/>
                <a:ext cx="166320" cy="258840"/>
                <a:chOff x="7917840" y="4329720"/>
                <a:chExt cx="166320" cy="258840"/>
              </a:xfrm>
            </p:grpSpPr>
            <p:sp>
              <p:nvSpPr>
                <p:cNvPr id="169" name=""/>
                <p:cNvSpPr/>
                <p:nvPr/>
              </p:nvSpPr>
              <p:spPr>
                <a:xfrm rot="21531000">
                  <a:off x="7920000" y="433116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21531000">
                  <a:off x="7970400" y="433440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8056080" y="4322160"/>
                <a:ext cx="225720" cy="291240"/>
                <a:chOff x="8056080" y="4322160"/>
                <a:chExt cx="225720" cy="291240"/>
              </a:xfrm>
            </p:grpSpPr>
            <p:sp>
              <p:nvSpPr>
                <p:cNvPr id="172" name=""/>
                <p:cNvSpPr/>
                <p:nvPr/>
              </p:nvSpPr>
              <p:spPr>
                <a:xfrm rot="1037400">
                  <a:off x="8087760" y="434052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1037400">
                  <a:off x="8133480" y="43498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4" name=""/>
          <p:cNvGrpSpPr/>
          <p:nvPr/>
        </p:nvGrpSpPr>
        <p:grpSpPr>
          <a:xfrm>
            <a:off x="1220760" y="4230720"/>
            <a:ext cx="952200" cy="512280"/>
            <a:chOff x="1220760" y="4230720"/>
            <a:chExt cx="952200" cy="512280"/>
          </a:xfrm>
        </p:grpSpPr>
        <p:grpSp>
          <p:nvGrpSpPr>
            <p:cNvPr id="175" name=""/>
            <p:cNvGrpSpPr/>
            <p:nvPr/>
          </p:nvGrpSpPr>
          <p:grpSpPr>
            <a:xfrm>
              <a:off x="1678320" y="4312080"/>
              <a:ext cx="494640" cy="430920"/>
              <a:chOff x="1678320" y="4312080"/>
              <a:chExt cx="494640" cy="43092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1678320" y="4312080"/>
                <a:ext cx="221400" cy="289800"/>
                <a:chOff x="1678320" y="4312080"/>
                <a:chExt cx="221400" cy="289800"/>
              </a:xfrm>
            </p:grpSpPr>
            <p:sp>
              <p:nvSpPr>
                <p:cNvPr id="177" name=""/>
                <p:cNvSpPr/>
                <p:nvPr/>
              </p:nvSpPr>
              <p:spPr>
                <a:xfrm rot="964800">
                  <a:off x="1708200" y="432936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964800">
                  <a:off x="1753560" y="433872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762560" y="4371120"/>
                <a:ext cx="243720" cy="296640"/>
                <a:chOff x="1762560" y="4371120"/>
                <a:chExt cx="243720" cy="296640"/>
              </a:xfrm>
            </p:grpSpPr>
            <p:sp>
              <p:nvSpPr>
                <p:cNvPr id="180" name=""/>
                <p:cNvSpPr/>
                <p:nvPr/>
              </p:nvSpPr>
              <p:spPr>
                <a:xfrm rot="1415400">
                  <a:off x="1803600" y="439308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415400">
                  <a:off x="1847520" y="440424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1892160" y="4448880"/>
                <a:ext cx="280800" cy="294120"/>
                <a:chOff x="1892160" y="4448880"/>
                <a:chExt cx="280800" cy="294120"/>
              </a:xfrm>
            </p:grpSpPr>
            <p:sp>
              <p:nvSpPr>
                <p:cNvPr id="183" name=""/>
                <p:cNvSpPr/>
                <p:nvPr/>
              </p:nvSpPr>
              <p:spPr>
                <a:xfrm rot="2521800">
                  <a:off x="1951560" y="447192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2521800">
                  <a:off x="1988640" y="44866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"/>
            <p:cNvGrpSpPr/>
            <p:nvPr/>
          </p:nvGrpSpPr>
          <p:grpSpPr>
            <a:xfrm>
              <a:off x="1220760" y="4230720"/>
              <a:ext cx="491760" cy="311400"/>
              <a:chOff x="1220760" y="4230720"/>
              <a:chExt cx="491760" cy="3114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1516320" y="4230720"/>
                <a:ext cx="196200" cy="271440"/>
                <a:chOff x="1516320" y="4230720"/>
                <a:chExt cx="196200" cy="271440"/>
              </a:xfrm>
            </p:grpSpPr>
            <p:sp>
              <p:nvSpPr>
                <p:cNvPr id="187" name=""/>
                <p:cNvSpPr/>
                <p:nvPr/>
              </p:nvSpPr>
              <p:spPr>
                <a:xfrm flipH="1" rot="519600">
                  <a:off x="1532880" y="4241520"/>
                  <a:ext cx="161640" cy="24012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rot="519600">
                  <a:off x="1539360" y="42418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418400" y="4258080"/>
                <a:ext cx="166320" cy="258840"/>
                <a:chOff x="1418400" y="4258080"/>
                <a:chExt cx="166320" cy="258840"/>
              </a:xfrm>
            </p:grpSpPr>
            <p:sp>
              <p:nvSpPr>
                <p:cNvPr id="190" name=""/>
                <p:cNvSpPr/>
                <p:nvPr/>
              </p:nvSpPr>
              <p:spPr>
                <a:xfrm flipH="1" rot="69000">
                  <a:off x="1420560" y="425952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rot="69000">
                  <a:off x="1427040" y="426240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1220760" y="4250520"/>
                <a:ext cx="225360" cy="291600"/>
                <a:chOff x="1220760" y="4250520"/>
                <a:chExt cx="225360" cy="291600"/>
              </a:xfrm>
            </p:grpSpPr>
            <p:sp>
              <p:nvSpPr>
                <p:cNvPr id="193" name=""/>
                <p:cNvSpPr/>
                <p:nvPr/>
              </p:nvSpPr>
              <p:spPr>
                <a:xfrm flipH="1" rot="20562600">
                  <a:off x="1252440" y="42688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 rot="20562600">
                  <a:off x="1263600" y="4278240"/>
                  <a:ext cx="104760" cy="25380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5" name=""/>
          <p:cNvSpPr/>
          <p:nvPr/>
        </p:nvSpPr>
        <p:spPr>
          <a:xfrm>
            <a:off x="1612800" y="4508640"/>
            <a:ext cx="2997360" cy="1657080"/>
          </a:xfrm>
          <a:custGeom>
            <a:avLst/>
            <a:gdLst/>
            <a:ahLst/>
            <a:rect l="l" t="t" r="r" b="b"/>
            <a:pathLst>
              <a:path w="1888" h="1044">
                <a:moveTo>
                  <a:pt x="1888" y="1040"/>
                </a:moveTo>
                <a:lnTo>
                  <a:pt x="1880" y="10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120000" y="4756680"/>
            <a:ext cx="1193760" cy="605880"/>
            <a:chOff x="6120000" y="4756680"/>
            <a:chExt cx="1193760" cy="605880"/>
          </a:xfrm>
        </p:grpSpPr>
        <p:grpSp>
          <p:nvGrpSpPr>
            <p:cNvPr id="197" name=""/>
            <p:cNvGrpSpPr/>
            <p:nvPr/>
          </p:nvGrpSpPr>
          <p:grpSpPr>
            <a:xfrm>
              <a:off x="6821640" y="4756680"/>
              <a:ext cx="492120" cy="288720"/>
              <a:chOff x="6821640" y="4756680"/>
              <a:chExt cx="492120" cy="28872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6821640" y="4766040"/>
                <a:ext cx="227880" cy="279360"/>
                <a:chOff x="6821640" y="4766040"/>
                <a:chExt cx="227880" cy="279360"/>
              </a:xfrm>
            </p:grpSpPr>
            <p:sp>
              <p:nvSpPr>
                <p:cNvPr id="199" name=""/>
                <p:cNvSpPr/>
                <p:nvPr/>
              </p:nvSpPr>
              <p:spPr>
                <a:xfrm rot="20521800">
                  <a:off x="6854400" y="478512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0521800">
                  <a:off x="6906240" y="478152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949080" y="4771800"/>
                <a:ext cx="201960" cy="272880"/>
                <a:chOff x="6949080" y="4771800"/>
                <a:chExt cx="201960" cy="272880"/>
              </a:xfrm>
            </p:grpSpPr>
            <p:sp>
              <p:nvSpPr>
                <p:cNvPr id="202" name=""/>
                <p:cNvSpPr/>
                <p:nvPr/>
              </p:nvSpPr>
              <p:spPr>
                <a:xfrm rot="20972400">
                  <a:off x="6969240" y="4784040"/>
                  <a:ext cx="16128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20972400">
                  <a:off x="7020360" y="478404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7120440" y="4756680"/>
                <a:ext cx="193320" cy="275760"/>
                <a:chOff x="7120440" y="4756680"/>
                <a:chExt cx="193320" cy="275760"/>
              </a:xfrm>
            </p:grpSpPr>
            <p:sp>
              <p:nvSpPr>
                <p:cNvPr id="205" name=""/>
                <p:cNvSpPr/>
                <p:nvPr/>
              </p:nvSpPr>
              <p:spPr>
                <a:xfrm rot="478800">
                  <a:off x="7135920" y="476640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478800">
                  <a:off x="7183800" y="477252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7" name=""/>
            <p:cNvGrpSpPr/>
            <p:nvPr/>
          </p:nvGrpSpPr>
          <p:grpSpPr>
            <a:xfrm>
              <a:off x="6120000" y="4965480"/>
              <a:ext cx="492840" cy="397080"/>
              <a:chOff x="6120000" y="4965480"/>
              <a:chExt cx="492840" cy="39708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6415560" y="4965480"/>
                <a:ext cx="197280" cy="278280"/>
                <a:chOff x="6415560" y="4965480"/>
                <a:chExt cx="197280" cy="278280"/>
              </a:xfrm>
            </p:grpSpPr>
            <p:sp>
              <p:nvSpPr>
                <p:cNvPr id="209" name=""/>
                <p:cNvSpPr/>
                <p:nvPr/>
              </p:nvSpPr>
              <p:spPr>
                <a:xfrm flipH="1" rot="21057000">
                  <a:off x="6433200" y="497664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rot="21057000">
                  <a:off x="6442200" y="49834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300720" y="5010120"/>
                <a:ext cx="222840" cy="290160"/>
                <a:chOff x="6300720" y="5010120"/>
                <a:chExt cx="222840" cy="290160"/>
              </a:xfrm>
            </p:grpSpPr>
            <p:sp>
              <p:nvSpPr>
                <p:cNvPr id="212" name=""/>
                <p:cNvSpPr/>
                <p:nvPr/>
              </p:nvSpPr>
              <p:spPr>
                <a:xfrm flipH="1" rot="20606400">
                  <a:off x="6330960" y="5028120"/>
                  <a:ext cx="16128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rot="20606400">
                  <a:off x="6341760" y="503712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6120000" y="5063400"/>
                <a:ext cx="270000" cy="299160"/>
                <a:chOff x="6120000" y="5063400"/>
                <a:chExt cx="270000" cy="299160"/>
              </a:xfrm>
            </p:grpSpPr>
            <p:sp>
              <p:nvSpPr>
                <p:cNvPr id="215" name=""/>
                <p:cNvSpPr/>
                <p:nvPr/>
              </p:nvSpPr>
              <p:spPr>
                <a:xfrm flipH="1" rot="19500000">
                  <a:off x="6174000" y="50878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rot="19500000">
                  <a:off x="6190920" y="510156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7" name=""/>
          <p:cNvGrpSpPr/>
          <p:nvPr/>
        </p:nvGrpSpPr>
        <p:grpSpPr>
          <a:xfrm>
            <a:off x="2676600" y="5230080"/>
            <a:ext cx="1231920" cy="447120"/>
            <a:chOff x="2676600" y="5230080"/>
            <a:chExt cx="1231920" cy="447120"/>
          </a:xfrm>
        </p:grpSpPr>
        <p:grpSp>
          <p:nvGrpSpPr>
            <p:cNvPr id="218" name=""/>
            <p:cNvGrpSpPr/>
            <p:nvPr/>
          </p:nvGrpSpPr>
          <p:grpSpPr>
            <a:xfrm>
              <a:off x="3414960" y="5276160"/>
              <a:ext cx="493560" cy="401040"/>
              <a:chOff x="3414960" y="5276160"/>
              <a:chExt cx="493560" cy="40104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3414960" y="5276160"/>
                <a:ext cx="200160" cy="279720"/>
                <a:chOff x="3414960" y="5276160"/>
                <a:chExt cx="200160" cy="279720"/>
              </a:xfrm>
            </p:grpSpPr>
            <p:sp>
              <p:nvSpPr>
                <p:cNvPr id="220" name=""/>
                <p:cNvSpPr/>
                <p:nvPr/>
              </p:nvSpPr>
              <p:spPr>
                <a:xfrm rot="589200">
                  <a:off x="3434040" y="528804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589200">
                  <a:off x="3481560" y="52952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504240" y="5322600"/>
                <a:ext cx="225360" cy="290880"/>
                <a:chOff x="3504240" y="5322600"/>
                <a:chExt cx="225360" cy="290880"/>
              </a:xfrm>
            </p:grpSpPr>
            <p:sp>
              <p:nvSpPr>
                <p:cNvPr id="223" name=""/>
                <p:cNvSpPr/>
                <p:nvPr/>
              </p:nvSpPr>
              <p:spPr>
                <a:xfrm rot="1039800">
                  <a:off x="3535920" y="5340960"/>
                  <a:ext cx="16128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1039800">
                  <a:off x="3581640" y="535068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637440" y="5378760"/>
                <a:ext cx="271080" cy="298440"/>
                <a:chOff x="3637440" y="5378760"/>
                <a:chExt cx="271080" cy="298440"/>
              </a:xfrm>
            </p:grpSpPr>
            <p:sp>
              <p:nvSpPr>
                <p:cNvPr id="226" name=""/>
                <p:cNvSpPr/>
                <p:nvPr/>
              </p:nvSpPr>
              <p:spPr>
                <a:xfrm rot="2146200">
                  <a:off x="3692160" y="540324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2146200">
                  <a:off x="3731400" y="541692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2676600" y="5230080"/>
              <a:ext cx="491760" cy="291240"/>
              <a:chOff x="2676600" y="5230080"/>
              <a:chExt cx="491760" cy="2912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2938320" y="5241960"/>
                <a:ext cx="230040" cy="279360"/>
                <a:chOff x="2938320" y="5241960"/>
                <a:chExt cx="230040" cy="279360"/>
              </a:xfrm>
            </p:grpSpPr>
            <p:sp>
              <p:nvSpPr>
                <p:cNvPr id="230" name=""/>
                <p:cNvSpPr/>
                <p:nvPr/>
              </p:nvSpPr>
              <p:spPr>
                <a:xfrm flipH="1" rot="1124400">
                  <a:off x="2972160" y="526140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 rot="1124400">
                  <a:off x="2977200" y="52574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2836440" y="5246280"/>
                <a:ext cx="204840" cy="273240"/>
                <a:chOff x="2836440" y="5246280"/>
                <a:chExt cx="204840" cy="273240"/>
              </a:xfrm>
            </p:grpSpPr>
            <p:sp>
              <p:nvSpPr>
                <p:cNvPr id="233" name=""/>
                <p:cNvSpPr/>
                <p:nvPr/>
              </p:nvSpPr>
              <p:spPr>
                <a:xfrm flipH="1" rot="673800">
                  <a:off x="2857680" y="5259600"/>
                  <a:ext cx="16128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rot="673800">
                  <a:off x="2862720" y="525852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2676600" y="5230080"/>
                <a:ext cx="190440" cy="273960"/>
                <a:chOff x="2676600" y="5230080"/>
                <a:chExt cx="190440" cy="273960"/>
              </a:xfrm>
            </p:grpSpPr>
            <p:sp>
              <p:nvSpPr>
                <p:cNvPr id="236" name=""/>
                <p:cNvSpPr/>
                <p:nvPr/>
              </p:nvSpPr>
              <p:spPr>
                <a:xfrm flipH="1" rot="21167400">
                  <a:off x="2690640" y="52390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21167400">
                  <a:off x="2698920" y="52448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8" name=""/>
          <p:cNvSpPr/>
          <p:nvPr/>
        </p:nvSpPr>
        <p:spPr>
          <a:xfrm>
            <a:off x="0" y="56707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нож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эк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4197240"/>
            <a:ext cx="635040" cy="1720800"/>
          </a:xfrm>
          <a:custGeom>
            <a:avLst/>
            <a:gdLst/>
            <a:ahLst/>
            <a:rect l="l" t="t" r="r" b="b"/>
            <a:pathLst>
              <a:path w="400" h="1084">
                <a:moveTo>
                  <a:pt x="400" y="0"/>
                </a:moveTo>
                <a:lnTo>
                  <a:pt x="40" y="1060"/>
                </a:lnTo>
                <a:lnTo>
                  <a:pt x="0" y="1084"/>
                </a:lnTo>
                <a:lnTo>
                  <a:pt x="363" y="15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59400" y="4197240"/>
            <a:ext cx="546120" cy="1987560"/>
          </a:xfrm>
          <a:custGeom>
            <a:avLst/>
            <a:gdLst/>
            <a:ahLst/>
            <a:rect l="l" t="t" r="r" b="b"/>
            <a:pathLst>
              <a:path w="344" h="1252">
                <a:moveTo>
                  <a:pt x="0" y="0"/>
                </a:moveTo>
                <a:lnTo>
                  <a:pt x="328" y="1252"/>
                </a:lnTo>
                <a:lnTo>
                  <a:pt x="344" y="1228"/>
                </a:lnTo>
                <a:lnTo>
                  <a:pt x="52" y="2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6165720"/>
            <a:ext cx="712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831360" y="6440760"/>
            <a:ext cx="1251720" cy="361800"/>
            <a:chOff x="6831360" y="6440760"/>
            <a:chExt cx="1251720" cy="361800"/>
          </a:xfrm>
        </p:grpSpPr>
        <p:grpSp>
          <p:nvGrpSpPr>
            <p:cNvPr id="243" name=""/>
            <p:cNvGrpSpPr/>
            <p:nvPr/>
          </p:nvGrpSpPr>
          <p:grpSpPr>
            <a:xfrm>
              <a:off x="7602120" y="6440760"/>
              <a:ext cx="480960" cy="342000"/>
              <a:chOff x="7602120" y="6440760"/>
              <a:chExt cx="480960" cy="34200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7602120" y="6440760"/>
                <a:ext cx="164880" cy="258840"/>
                <a:chOff x="7602120" y="6440760"/>
                <a:chExt cx="164880" cy="258840"/>
              </a:xfrm>
            </p:grpSpPr>
            <p:sp>
              <p:nvSpPr>
                <p:cNvPr id="245" name=""/>
                <p:cNvSpPr/>
                <p:nvPr/>
              </p:nvSpPr>
              <p:spPr>
                <a:xfrm rot="21555000">
                  <a:off x="7603560" y="644184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21555000">
                  <a:off x="7653240" y="64454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7700400" y="6466320"/>
                <a:ext cx="188280" cy="273240"/>
                <a:chOff x="7700400" y="6466320"/>
                <a:chExt cx="188280" cy="273240"/>
              </a:xfrm>
            </p:grpSpPr>
            <p:sp>
              <p:nvSpPr>
                <p:cNvPr id="248" name=""/>
                <p:cNvSpPr/>
                <p:nvPr/>
              </p:nvSpPr>
              <p:spPr>
                <a:xfrm rot="405600">
                  <a:off x="7713720" y="6474960"/>
                  <a:ext cx="16128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405600">
                  <a:off x="7761600" y="648108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834680" y="6484680"/>
                <a:ext cx="248400" cy="298080"/>
                <a:chOff x="7834680" y="6484680"/>
                <a:chExt cx="248400" cy="298080"/>
              </a:xfrm>
            </p:grpSpPr>
            <p:sp>
              <p:nvSpPr>
                <p:cNvPr id="251" name=""/>
                <p:cNvSpPr/>
                <p:nvPr/>
              </p:nvSpPr>
              <p:spPr>
                <a:xfrm rot="1512600">
                  <a:off x="7877880" y="650736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1512600">
                  <a:off x="7921440" y="65188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3" name=""/>
            <p:cNvGrpSpPr/>
            <p:nvPr/>
          </p:nvGrpSpPr>
          <p:grpSpPr>
            <a:xfrm>
              <a:off x="6831360" y="6490080"/>
              <a:ext cx="491040" cy="312480"/>
              <a:chOff x="6831360" y="6490080"/>
              <a:chExt cx="491040" cy="31248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7128360" y="6490080"/>
                <a:ext cx="194040" cy="270000"/>
                <a:chOff x="7128360" y="6490080"/>
                <a:chExt cx="194040" cy="270000"/>
              </a:xfrm>
            </p:grpSpPr>
            <p:sp>
              <p:nvSpPr>
                <p:cNvPr id="255" name=""/>
                <p:cNvSpPr/>
                <p:nvPr/>
              </p:nvSpPr>
              <p:spPr>
                <a:xfrm flipH="1" rot="490200">
                  <a:off x="7144200" y="650016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rot="490200">
                  <a:off x="7150680" y="650016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7030440" y="6518160"/>
                <a:ext cx="164160" cy="257760"/>
                <a:chOff x="7030440" y="6518160"/>
                <a:chExt cx="164160" cy="257760"/>
              </a:xfrm>
            </p:grpSpPr>
            <p:sp>
              <p:nvSpPr>
                <p:cNvPr id="258" name=""/>
                <p:cNvSpPr/>
                <p:nvPr/>
              </p:nvSpPr>
              <p:spPr>
                <a:xfrm flipH="1" rot="39600">
                  <a:off x="7031520" y="6518880"/>
                  <a:ext cx="16128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rot="39600">
                  <a:off x="7038720" y="652212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831360" y="6510960"/>
                <a:ext cx="227160" cy="291600"/>
                <a:chOff x="6831360" y="6510960"/>
                <a:chExt cx="227160" cy="29160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rot="20533200">
                  <a:off x="6863400" y="65296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rot="20533200">
                  <a:off x="6875280" y="65390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33cc33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6" dur="2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" dur="2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C 0.0158 0.01065 0.03038 0.01852 0.04722 0.02593 C 0.05798 0.03079 0.06632 0.03704 0.07777 0.03704 L -0.00278 -0.02222 E">
                                      <p:cBhvr>
                                        <p:cTn id="248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7.40741E-006 L -0.11667 0.01853 L -8.67362E-019 0.03704 E">
                                      <p:cBhvr>
                                        <p:cTn id="294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324160" y="2583000"/>
            <a:ext cx="4895640" cy="30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89160" y="2333520"/>
            <a:ext cx="5251320" cy="3567240"/>
          </a:xfrm>
          <a:custGeom>
            <a:avLst/>
            <a:gdLst/>
            <a:ahLst/>
            <a:rect l="l" t="t" r="r" b="b"/>
            <a:pathLst>
              <a:path w="3308" h="2247">
                <a:moveTo>
                  <a:pt x="8" y="8"/>
                </a:moveTo>
                <a:lnTo>
                  <a:pt x="132" y="159"/>
                </a:lnTo>
                <a:lnTo>
                  <a:pt x="3136" y="168"/>
                </a:lnTo>
                <a:lnTo>
                  <a:pt x="3268" y="23"/>
                </a:lnTo>
                <a:lnTo>
                  <a:pt x="3136" y="160"/>
                </a:lnTo>
                <a:lnTo>
                  <a:pt x="3160" y="2080"/>
                </a:lnTo>
                <a:lnTo>
                  <a:pt x="3308" y="2247"/>
                </a:lnTo>
                <a:lnTo>
                  <a:pt x="3160" y="2080"/>
                </a:lnTo>
                <a:lnTo>
                  <a:pt x="172" y="2063"/>
                </a:lnTo>
                <a:lnTo>
                  <a:pt x="16" y="2240"/>
                </a:lnTo>
                <a:lnTo>
                  <a:pt x="156" y="2071"/>
                </a:lnTo>
                <a:lnTo>
                  <a:pt x="128" y="168"/>
                </a:lnTo>
                <a:lnTo>
                  <a:pt x="0" y="0"/>
                </a:lnTo>
                <a:lnTo>
                  <a:pt x="3276" y="15"/>
                </a:lnTo>
                <a:lnTo>
                  <a:pt x="3308" y="2247"/>
                </a:lnTo>
                <a:lnTo>
                  <a:pt x="15" y="2243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75000" y="551016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4920" y="550080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29360" y="265428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33600" y="265428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54160" y="6040440"/>
            <a:ext cx="73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им способом пользуются в чертежной прак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782080" y="3739680"/>
            <a:ext cx="4939560" cy="2422440"/>
            <a:chOff x="2782080" y="3739680"/>
            <a:chExt cx="4939560" cy="2422440"/>
          </a:xfrm>
        </p:grpSpPr>
        <p:grpSp>
          <p:nvGrpSpPr>
            <p:cNvPr id="271" name=""/>
            <p:cNvGrpSpPr/>
            <p:nvPr/>
          </p:nvGrpSpPr>
          <p:grpSpPr>
            <a:xfrm>
              <a:off x="2782080" y="3739680"/>
              <a:ext cx="4871880" cy="2422440"/>
              <a:chOff x="2782080" y="3739680"/>
              <a:chExt cx="4871880" cy="2422440"/>
            </a:xfrm>
          </p:grpSpPr>
          <p:sp>
            <p:nvSpPr>
              <p:cNvPr id="272" name=""/>
              <p:cNvSpPr/>
              <p:nvPr/>
            </p:nvSpPr>
            <p:spPr>
              <a:xfrm rot="16741200">
                <a:off x="4361400" y="2620080"/>
                <a:ext cx="1712880" cy="4660920"/>
              </a:xfrm>
              <a:custGeom>
                <a:avLst/>
                <a:gdLst/>
                <a:ahLst/>
                <a:rect l="l" t="t" r="r" b="b"/>
                <a:pathLst>
                  <a:path w="1768" h="3576">
                    <a:moveTo>
                      <a:pt x="312" y="0"/>
                    </a:moveTo>
                    <a:lnTo>
                      <a:pt x="0" y="128"/>
                    </a:lnTo>
                    <a:lnTo>
                      <a:pt x="1480" y="3576"/>
                    </a:lnTo>
                    <a:lnTo>
                      <a:pt x="1768" y="3432"/>
                    </a:lnTo>
                    <a:lnTo>
                      <a:pt x="312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6741200">
                <a:off x="3094200" y="5176440"/>
                <a:ext cx="87840" cy="11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423200" y="4165560"/>
              <a:ext cx="298440" cy="941400"/>
              <a:chOff x="7423200" y="4165560"/>
              <a:chExt cx="298440" cy="941400"/>
            </a:xfrm>
          </p:grpSpPr>
          <p:sp>
            <p:nvSpPr>
              <p:cNvPr id="275" name=""/>
              <p:cNvSpPr/>
              <p:nvPr/>
            </p:nvSpPr>
            <p:spPr>
              <a:xfrm>
                <a:off x="7423200" y="4165560"/>
                <a:ext cx="298440" cy="939960"/>
              </a:xfrm>
              <a:custGeom>
                <a:avLst/>
                <a:gdLst/>
                <a:ahLst/>
                <a:rect l="l" t="t" r="r" b="b"/>
                <a:pathLst>
                  <a:path w="188" h="592">
                    <a:moveTo>
                      <a:pt x="0" y="0"/>
                    </a:moveTo>
                    <a:lnTo>
                      <a:pt x="188" y="185"/>
                    </a:lnTo>
                    <a:lnTo>
                      <a:pt x="184" y="432"/>
                    </a:lnTo>
                    <a:lnTo>
                      <a:pt x="0" y="592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7434360" y="4170600"/>
                <a:ext cx="287280" cy="936360"/>
                <a:chOff x="7434360" y="4170600"/>
                <a:chExt cx="287280" cy="9363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434360" y="4170600"/>
                  <a:ext cx="1440" cy="936360"/>
                </a:xfrm>
                <a:custGeom>
                  <a:avLst/>
                  <a:gdLst/>
                  <a:ahLst/>
                  <a:rect l="l" t="t" r="r" b="b"/>
                  <a:pathLst>
                    <a:path w="1" h="685">
                      <a:moveTo>
                        <a:pt x="0" y="0"/>
                      </a:moveTo>
                      <a:lnTo>
                        <a:pt x="1" y="685"/>
                      </a:lnTo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720200" y="4419000"/>
                  <a:ext cx="1080" cy="435960"/>
                </a:xfrm>
                <a:custGeom>
                  <a:avLst/>
                  <a:gdLst/>
                  <a:ahLst/>
                  <a:rect l="l" t="t" r="r" b="b"/>
                  <a:pathLst>
                    <a:path w="1" h="319">
                      <a:moveTo>
                        <a:pt x="1" y="0"/>
                      </a:moveTo>
                      <a:lnTo>
                        <a:pt x="0" y="319"/>
                      </a:lnTo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34360" y="4170600"/>
                  <a:ext cx="287280" cy="248400"/>
                </a:xfrm>
                <a:custGeom>
                  <a:avLst/>
                  <a:gdLst/>
                  <a:ahLst/>
                  <a:rect l="l" t="t" r="r" b="b"/>
                  <a:pathLst>
                    <a:path w="226" h="182">
                      <a:moveTo>
                        <a:pt x="0" y="0"/>
                      </a:moveTo>
                      <a:cubicBezTo>
                        <a:pt x="17" y="6"/>
                        <a:pt x="81" y="15"/>
                        <a:pt x="105" y="37"/>
                      </a:cubicBezTo>
                      <a:cubicBezTo>
                        <a:pt x="129" y="59"/>
                        <a:pt x="125" y="109"/>
                        <a:pt x="145" y="133"/>
                      </a:cubicBezTo>
                      <a:cubicBezTo>
                        <a:pt x="165" y="157"/>
                        <a:pt x="209" y="172"/>
                        <a:pt x="226" y="182"/>
                      </a:cubicBezTo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7434360" y="4851720"/>
                  <a:ext cx="287280" cy="248760"/>
                </a:xfrm>
                <a:custGeom>
                  <a:avLst/>
                  <a:gdLst/>
                  <a:ahLst/>
                  <a:rect l="l" t="t" r="r" b="b"/>
                  <a:pathLst>
                    <a:path w="226" h="182">
                      <a:moveTo>
                        <a:pt x="0" y="0"/>
                      </a:moveTo>
                      <a:cubicBezTo>
                        <a:pt x="17" y="6"/>
                        <a:pt x="81" y="15"/>
                        <a:pt x="105" y="37"/>
                      </a:cubicBezTo>
                      <a:cubicBezTo>
                        <a:pt x="129" y="59"/>
                        <a:pt x="125" y="109"/>
                        <a:pt x="145" y="133"/>
                      </a:cubicBezTo>
                      <a:cubicBezTo>
                        <a:pt x="165" y="157"/>
                        <a:pt x="209" y="172"/>
                        <a:pt x="226" y="182"/>
                      </a:cubicBezTo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7506000" y="45309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582480" y="260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особ построения параллельных прямых с помощь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рейсшины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89200" y="4370400"/>
            <a:ext cx="4195800" cy="617400"/>
          </a:xfrm>
          <a:custGeom>
            <a:avLst/>
            <a:gdLst/>
            <a:ahLst/>
            <a:rect l="l" t="t" r="r" b="b"/>
            <a:pathLst>
              <a:path w="2643" h="389">
                <a:moveTo>
                  <a:pt x="2643" y="0"/>
                </a:moveTo>
                <a:lnTo>
                  <a:pt x="0" y="3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89200" y="3705120"/>
            <a:ext cx="4178160" cy="647640"/>
          </a:xfrm>
          <a:custGeom>
            <a:avLst/>
            <a:gdLst/>
            <a:ahLst/>
            <a:rect l="l" t="t" r="r" b="b"/>
            <a:pathLst>
              <a:path w="2632" h="408">
                <a:moveTo>
                  <a:pt x="2632" y="0"/>
                </a:moveTo>
                <a:lnTo>
                  <a:pt x="0" y="4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51040" y="3014640"/>
            <a:ext cx="4143600" cy="614520"/>
          </a:xfrm>
          <a:custGeom>
            <a:avLst/>
            <a:gdLst/>
            <a:ahLst/>
            <a:rect l="l" t="t" r="r" b="b"/>
            <a:pathLst>
              <a:path w="2610" h="387">
                <a:moveTo>
                  <a:pt x="2610" y="0"/>
                </a:moveTo>
                <a:lnTo>
                  <a:pt x="0" y="38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52560" y="4861080"/>
            <a:ext cx="4191120" cy="609480"/>
          </a:xfrm>
          <a:custGeom>
            <a:avLst/>
            <a:gdLst/>
            <a:ahLst/>
            <a:rect l="l" t="t" r="r" b="b"/>
            <a:pathLst>
              <a:path w="2640" h="384">
                <a:moveTo>
                  <a:pt x="2640" y="0"/>
                </a:moveTo>
                <a:lnTo>
                  <a:pt x="0" y="3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514480" y="2907360"/>
            <a:ext cx="1392480" cy="2140920"/>
            <a:chOff x="5514480" y="2907360"/>
            <a:chExt cx="1392480" cy="2140920"/>
          </a:xfrm>
        </p:grpSpPr>
        <p:sp>
          <p:nvSpPr>
            <p:cNvPr id="288" name=""/>
            <p:cNvSpPr/>
            <p:nvPr/>
          </p:nvSpPr>
          <p:spPr>
            <a:xfrm rot="20701800">
              <a:off x="5754240" y="2989800"/>
              <a:ext cx="900360" cy="197532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0701800">
              <a:off x="6633720" y="4493880"/>
              <a:ext cx="227160" cy="38376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68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0701800">
              <a:off x="6792840" y="4702320"/>
              <a:ext cx="86400" cy="1458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5541120" y="2938320"/>
              <a:ext cx="1233000" cy="1797480"/>
              <a:chOff x="5541120" y="2938320"/>
              <a:chExt cx="1233000" cy="1797480"/>
            </a:xfrm>
          </p:grpSpPr>
          <p:sp>
            <p:nvSpPr>
              <p:cNvPr id="292" name=""/>
              <p:cNvSpPr/>
              <p:nvPr/>
            </p:nvSpPr>
            <p:spPr>
              <a:xfrm rot="20701800">
                <a:off x="5788080" y="3011760"/>
                <a:ext cx="786240" cy="16506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418600">
                <a:off x="5588640" y="3054960"/>
                <a:ext cx="43200" cy="163440"/>
              </a:xfrm>
              <a:custGeom>
                <a:avLst/>
                <a:gdLst/>
                <a:ahLst/>
                <a:rect l="l" t="t" r="r" b="b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5311080" y="2467800"/>
            <a:ext cx="1392840" cy="2141280"/>
            <a:chOff x="5311080" y="2467800"/>
            <a:chExt cx="1392840" cy="2141280"/>
          </a:xfrm>
        </p:grpSpPr>
        <p:sp>
          <p:nvSpPr>
            <p:cNvPr id="295" name=""/>
            <p:cNvSpPr/>
            <p:nvPr/>
          </p:nvSpPr>
          <p:spPr>
            <a:xfrm rot="20701800">
              <a:off x="5550840" y="2550240"/>
              <a:ext cx="900720" cy="19756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0701800">
              <a:off x="6430320" y="4054680"/>
              <a:ext cx="227520" cy="38376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68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20701800">
              <a:off x="6589800" y="4262760"/>
              <a:ext cx="86400" cy="1458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5338080" y="2498400"/>
              <a:ext cx="1233360" cy="1797480"/>
              <a:chOff x="5338080" y="2498400"/>
              <a:chExt cx="1233360" cy="1797480"/>
            </a:xfrm>
          </p:grpSpPr>
          <p:sp>
            <p:nvSpPr>
              <p:cNvPr id="299" name=""/>
              <p:cNvSpPr/>
              <p:nvPr/>
            </p:nvSpPr>
            <p:spPr>
              <a:xfrm rot="20701800">
                <a:off x="5585040" y="2571480"/>
                <a:ext cx="786600" cy="16506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418600">
                <a:off x="5385600" y="2615040"/>
                <a:ext cx="43200" cy="163440"/>
              </a:xfrm>
              <a:custGeom>
                <a:avLst/>
                <a:gdLst/>
                <a:ahLst/>
                <a:rect l="l" t="t" r="r" b="b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5383800" y="1761840"/>
            <a:ext cx="1392840" cy="2140920"/>
            <a:chOff x="5383800" y="1761840"/>
            <a:chExt cx="1392840" cy="2140920"/>
          </a:xfrm>
        </p:grpSpPr>
        <p:sp>
          <p:nvSpPr>
            <p:cNvPr id="302" name=""/>
            <p:cNvSpPr/>
            <p:nvPr/>
          </p:nvSpPr>
          <p:spPr>
            <a:xfrm rot="20701800">
              <a:off x="5623560" y="1844280"/>
              <a:ext cx="900720" cy="197532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20701800">
              <a:off x="6503040" y="3348360"/>
              <a:ext cx="227520" cy="38376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68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701800">
              <a:off x="6662520" y="3556440"/>
              <a:ext cx="86400" cy="1458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5411160" y="1792080"/>
              <a:ext cx="1233360" cy="1797480"/>
              <a:chOff x="5411160" y="1792080"/>
              <a:chExt cx="1233360" cy="1797480"/>
            </a:xfrm>
          </p:grpSpPr>
          <p:sp>
            <p:nvSpPr>
              <p:cNvPr id="306" name=""/>
              <p:cNvSpPr/>
              <p:nvPr/>
            </p:nvSpPr>
            <p:spPr>
              <a:xfrm rot="20701800">
                <a:off x="5658120" y="1865160"/>
                <a:ext cx="786600" cy="16506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2418600">
                <a:off x="5458680" y="1908720"/>
                <a:ext cx="43200" cy="163440"/>
              </a:xfrm>
              <a:custGeom>
                <a:avLst/>
                <a:gdLst/>
                <a:ahLst/>
                <a:rect l="l" t="t" r="r" b="b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311440" y="1070640"/>
            <a:ext cx="1392480" cy="2141280"/>
            <a:chOff x="5311440" y="1070640"/>
            <a:chExt cx="1392480" cy="2141280"/>
          </a:xfrm>
        </p:grpSpPr>
        <p:sp>
          <p:nvSpPr>
            <p:cNvPr id="309" name=""/>
            <p:cNvSpPr/>
            <p:nvPr/>
          </p:nvSpPr>
          <p:spPr>
            <a:xfrm rot="20701800">
              <a:off x="5551200" y="1153080"/>
              <a:ext cx="900360" cy="19756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20701800">
              <a:off x="6430680" y="2657160"/>
              <a:ext cx="227160" cy="38376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68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20701800">
              <a:off x="6589800" y="2865600"/>
              <a:ext cx="86400" cy="1458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337720" y="1101240"/>
              <a:ext cx="1233360" cy="1797480"/>
              <a:chOff x="5337720" y="1101240"/>
              <a:chExt cx="1233360" cy="1797480"/>
            </a:xfrm>
          </p:grpSpPr>
          <p:sp>
            <p:nvSpPr>
              <p:cNvPr id="313" name=""/>
              <p:cNvSpPr/>
              <p:nvPr/>
            </p:nvSpPr>
            <p:spPr>
              <a:xfrm rot="20701800">
                <a:off x="5585040" y="1174680"/>
                <a:ext cx="786240" cy="16506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418600">
                <a:off x="5385240" y="1217880"/>
                <a:ext cx="43200" cy="163440"/>
              </a:xfrm>
              <a:custGeom>
                <a:avLst/>
                <a:gdLst/>
                <a:ahLst/>
                <a:rect l="l" t="t" r="r" b="b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316" name="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328" dur="3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208 L -0.00104 -0.0743 E">
                                      <p:cBhvr>
                                        <p:cTn id="337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344" dur="3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7222 L -0.00017 -0.16667 E">
                                      <p:cBhvr>
                                        <p:cTn id="353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360" dur="3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16667 L -0.00243 -0.26875 E">
                                      <p:cBhvr>
                                        <p:cTn id="369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376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38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27245 L -0.20746 -0.43981 E">
                                      <p:cBhvr>
                                        <p:cTn id="386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">
                                      <p:cBhvr>
                                        <p:cTn id="38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1-10-16T17:10:32Z</dcterms:modified>
  <cp:revision>2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