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Построение равного отрезка" id="0">
      <p:sldLst>
        <p:sld r:id="rId5"/>
      </p:sldLst>
    </p:custShow>
    <p:custShow name="Построение равного угла" id="1">
      <p:sldLst>
        <p:sld r:id="rId6"/>
      </p:sldLst>
    </p:custShow>
    <p:custShow name="Деление отрезка пополам" id="2">
      <p:sldLst>
        <p:sld r:id="rId7"/>
      </p:sldLst>
    </p:custShow>
    <p:custShow name="Деление угла пополам" id="3">
      <p:sldLst>
        <p:sld r:id="rId8"/>
      </p:sldLst>
    </p:custShow>
    <p:custShow name="Построение треугольника по двум" id="4">
      <p:sldLst>
        <p:sld r:id="rId9"/>
      </p:sldLst>
    </p:custShow>
    <p:custShow name="Построение треугольника по стор" id="5">
      <p:sldLst>
        <p:sld r:id="rId10"/>
      </p:sldLst>
    </p:custShow>
    <p:custShow name="Построение треугольника по трем" id="6">
      <p:sldLst>
        <p:sld r:id="rId11"/>
      </p:sldLst>
    </p:custShow>
    <p:custShow name="Вписанная окружность" id="7">
      <p:sldLst>
        <p:sld r:id="rId12"/>
      </p:sldLst>
    </p:custShow>
    <p:custShow name="Описанная окружность1" id="8">
      <p:sldLst>
        <p:sld r:id="rId13"/>
      </p:sldLst>
    </p:custShow>
    <p:custShow name="Описанная окружность2" id="9">
      <p:sldLst>
        <p:sld r:id="rId14"/>
      </p:sldLst>
    </p:custShow>
    <p:custShow name="Правильный треугольник" id="10">
      <p:sldLst>
        <p:sld r:id="rId15"/>
      </p:sldLst>
    </p:custShow>
    <p:custShow name="Правильный шестиугольник" id="11">
      <p:sldLst>
        <p:sld r:id="rId16"/>
      </p:sldLst>
    </p:custShow>
    <p:custShow name="Правильный двенадцатиугольник" id="12">
      <p:sldLst>
        <p:sld r:id="rId17"/>
      </p:sldLst>
    </p:custShow>
    <p:custShow name="Правильный четырехугольник" id="13">
      <p:sldLst>
        <p:sld r:id="rId18"/>
      </p:sldLst>
    </p:custShow>
    <p:custShow name="Правильный восьмиугольник" id="14">
      <p:sldLst>
        <p:sld r:id="rId19"/>
      </p:sldLst>
    </p:custShow>
    <p:custShow name="Правильный пятиугольник1" id="15">
      <p:sldLst>
        <p:sld r:id="rId20"/>
      </p:sldLst>
    </p:custShow>
    <p:custShow name="Правильный пятиугольник2" id="16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47F-64B0-4A7C-854B-4BB1BC5A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16F-6C6A-41DE-BC9B-5C8956C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F69-EA28-4226-8BB6-F6C2E041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F7D-F86F-4E49-86DF-AE5E560D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795-8A05-4248-99B8-5322E26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81D-81A9-4E5F-B01C-BE4B2773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24B-16C1-45D3-82B1-57E9AA0B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378-4FCD-4365-BCDD-0DBD5350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6D6-9EE5-4723-800A-E1C137F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B59-7633-4913-A27C-D4D21B5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FC8-1B68-4CDD-9AD4-1FB27F26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407-D30B-4FDA-A5EB-1C394B2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597360"/>
            <a:ext cx="81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400" spc="-1" strike="noStrike">
                <a:solidFill>
                  <a:srgbClr val="c0c0c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c0c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28D0-9E5A-4AA4-90ED-4985291E2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0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4265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130500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Monotype Corsiva"/>
              </a:rPr>
              <a:t>Геометрические построения</a:t>
            </a:r>
            <a:endParaRPr b="1" i="1" lang="en-US" sz="4800" spc="1" strike="noStrike">
              <a:ln w="936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2836800"/>
            <a:ext cx="432144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ffcc99"/>
                </a:solidFill>
                <a:latin typeface="Calibri"/>
              </a:rPr>
              <a:t>Геометрия</a:t>
            </a:r>
            <a:endParaRPr b="1" i="1" lang="en-US" sz="4800" spc="1" strike="noStrike">
              <a:ln w="9360">
                <a:solidFill>
                  <a:srgbClr val="0099ff"/>
                </a:solidFill>
                <a:miter/>
              </a:ln>
              <a:solidFill>
                <a:srgbClr val="ffcc99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ffcc99"/>
                </a:solidFill>
                <a:latin typeface="Calibri"/>
              </a:rPr>
              <a:t>7 класс</a:t>
            </a:r>
            <a:endParaRPr b="1" i="1" lang="en-US" sz="4800" spc="1" strike="noStrike">
              <a:ln w="9360">
                <a:solidFill>
                  <a:srgbClr val="0099ff"/>
                </a:solidFill>
                <a:miter/>
              </a:ln>
              <a:solidFill>
                <a:srgbClr val="ffcc99"/>
              </a:solidFill>
              <a:latin typeface="Calibri"/>
              <a:ea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4041720"/>
            <a:ext cx="71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33cc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Monotype Corsiva"/>
              </a:rPr>
              <a:t>Анимированные алгоритмы</a:t>
            </a:r>
            <a:endParaRPr b="1" i="1" lang="en-US" sz="4800" spc="1" strike="noStrike">
              <a:ln w="9360">
                <a:solidFill>
                  <a:srgbClr val="0033cc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0000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51640" y="267336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2920" y="2097000"/>
            <a:ext cx="2487600" cy="16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3933720"/>
            <a:ext cx="7561440" cy="1150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9640" y="1413000"/>
            <a:ext cx="5832720" cy="2519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372360" y="1412640"/>
            <a:ext cx="1728720" cy="3671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31417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88000" y="83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44000" y="4292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3780000" y="-374400"/>
            <a:ext cx="8638920" cy="863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45" y="5055"/>
                </a:moveTo>
                <a:arcTo wR="10800" hR="10800" stAng="-1928091" swAng="3064077"/>
                <a:lnTo>
                  <a:pt x="10800" y="10800"/>
                </a:lnTo>
                <a:close/>
              </a:path>
              <a:path fill="none" w="21600" h="21600">
                <a:moveTo>
                  <a:pt x="19945" y="5055"/>
                </a:moveTo>
                <a:arcTo wR="10800" hR="10800" stAng="-1928091" swAng="3064077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3933720"/>
            <a:ext cx="4248000" cy="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780360" y="-362520"/>
            <a:ext cx="8640000" cy="86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12" y="5685"/>
                </a:moveTo>
                <a:arcTo wR="10800" hR="10800" stAng="-1696303" swAng="480420"/>
                <a:lnTo>
                  <a:pt x="10800" y="10800"/>
                </a:lnTo>
                <a:close/>
              </a:path>
              <a:path fill="none" w="21600" h="21600">
                <a:moveTo>
                  <a:pt x="20312" y="5685"/>
                </a:moveTo>
                <a:arcTo wR="10800" hR="10800" stAng="-1696303" swAng="48042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780000" y="-451440"/>
            <a:ext cx="8639280" cy="862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51" y="11823"/>
                </a:moveTo>
                <a:arcTo wR="10800" hR="10800" stAng="326036" swAng="463253"/>
                <a:lnTo>
                  <a:pt x="10800" y="10800"/>
                </a:lnTo>
                <a:close/>
              </a:path>
              <a:path fill="none" w="21600" h="21600">
                <a:moveTo>
                  <a:pt x="21551" y="11823"/>
                </a:moveTo>
                <a:arcTo wR="10800" hR="10800" stAng="326036" swAng="46325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276720" y="2205000"/>
            <a:ext cx="1224000" cy="136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3600" y="479160"/>
            <a:ext cx="3598200" cy="36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14510"/>
                </a:moveTo>
                <a:arcTo wR="10800" hR="10800" stAng="1205535" swAng="7330065"/>
                <a:lnTo>
                  <a:pt x="10800" y="10800"/>
                </a:lnTo>
                <a:close/>
              </a:path>
              <a:path fill="none" w="21600" h="21600">
                <a:moveTo>
                  <a:pt x="20943" y="14510"/>
                </a:moveTo>
                <a:arcTo wR="10800" hR="10800" stAng="1205535" swAng="7330065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88000" y="2997360"/>
            <a:ext cx="1008000" cy="1584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89080" y="2711520"/>
            <a:ext cx="359892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8" y="6489"/>
                </a:moveTo>
                <a:arcTo wR="10800" hR="10800" stAng="-9388466" swAng="7204619"/>
                <a:lnTo>
                  <a:pt x="10800" y="10800"/>
                </a:lnTo>
                <a:close/>
              </a:path>
              <a:path fill="none" w="21600" h="21600">
                <a:moveTo>
                  <a:pt x="898" y="6489"/>
                </a:moveTo>
                <a:arcTo wR="10800" hR="10800" stAng="-9388466" swAng="7204619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11280" y="3141720"/>
            <a:ext cx="597672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3240" y="477000"/>
            <a:ext cx="3597480" cy="35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7" y="19724"/>
                </a:moveTo>
                <a:arcTo wR="10800" hR="10800" stAng="7456725" swAng="1178973"/>
                <a:lnTo>
                  <a:pt x="10800" y="10800"/>
                </a:lnTo>
                <a:close/>
              </a:path>
              <a:path fill="none" w="21600" h="21600">
                <a:moveTo>
                  <a:pt x="4717" y="19724"/>
                </a:moveTo>
                <a:arcTo wR="10800" hR="10800" stAng="7456725" swAng="117897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97480" y="476280"/>
            <a:ext cx="3599640" cy="36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14510"/>
                </a:moveTo>
                <a:arcTo wR="10800" hR="10800" stAng="1205535" swAng="1185609"/>
                <a:lnTo>
                  <a:pt x="10800" y="10800"/>
                </a:lnTo>
                <a:close/>
              </a:path>
              <a:path fill="none" w="21600" h="21600">
                <a:moveTo>
                  <a:pt x="20943" y="14510"/>
                </a:moveTo>
                <a:arcTo wR="10800" hR="10800" stAng="1205535" swAng="118560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600" y="2707920"/>
            <a:ext cx="3597480" cy="36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8" y="6489"/>
                </a:moveTo>
                <a:arcTo wR="10800" hR="10800" stAng="-9388466" swAng="1240604"/>
                <a:lnTo>
                  <a:pt x="10800" y="10800"/>
                </a:lnTo>
                <a:close/>
              </a:path>
              <a:path fill="none" w="21600" h="21600">
                <a:moveTo>
                  <a:pt x="898" y="6489"/>
                </a:moveTo>
                <a:arcTo wR="10800" hR="10800" stAng="-9388466" swAng="124060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1160" y="2707560"/>
            <a:ext cx="3600720" cy="36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1" y="1861"/>
                </a:moveTo>
                <a:arcTo wR="10800" hR="10800" stAng="-3351764" swAng="1167917"/>
                <a:lnTo>
                  <a:pt x="10800" y="10800"/>
                </a:lnTo>
                <a:close/>
              </a:path>
              <a:path fill="none" w="21600" h="21600">
                <a:moveTo>
                  <a:pt x="16861" y="1861"/>
                </a:moveTo>
                <a:arcTo wR="10800" hR="10800" stAng="-3351764" swAng="116791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940360" y="4292640"/>
            <a:ext cx="2160720" cy="79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6000" y="2925360"/>
            <a:ext cx="4317480" cy="43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0393"/>
                </a:moveTo>
                <a:arcTo wR="10800" hR="10800" stAng="-10670507" swAng="4430423"/>
                <a:lnTo>
                  <a:pt x="10800" y="10800"/>
                </a:lnTo>
                <a:close/>
              </a:path>
              <a:path fill="none" w="21600" h="21600">
                <a:moveTo>
                  <a:pt x="8" y="10393"/>
                </a:moveTo>
                <a:arcTo wR="10800" hR="10800" stAng="-10670507" swAng="4430423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2916000"/>
            <a:ext cx="4317840" cy="43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28" y="1374"/>
                </a:moveTo>
                <a:arcTo wR="10800" hR="10800" stAng="-7153270" swAng="959211"/>
                <a:lnTo>
                  <a:pt x="10800" y="10800"/>
                </a:lnTo>
                <a:close/>
              </a:path>
              <a:path fill="none" w="21600" h="21600">
                <a:moveTo>
                  <a:pt x="5528" y="1374"/>
                </a:moveTo>
                <a:arcTo wR="10800" hR="10800" stAng="-7153270" swAng="95921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9240" y="2923200"/>
            <a:ext cx="4317480" cy="43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63"/>
                </a:moveTo>
                <a:arcTo wR="10800" hR="10800" stAng="10779905" swAng="1048310"/>
                <a:lnTo>
                  <a:pt x="10800" y="10800"/>
                </a:lnTo>
                <a:close/>
              </a:path>
              <a:path fill="none" w="21600" h="21600">
                <a:moveTo>
                  <a:pt x="0" y="10863"/>
                </a:moveTo>
                <a:arcTo wR="10800" hR="10800" stAng="10779905" swAng="104831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9240" y="3578400"/>
            <a:ext cx="251892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9" y="172"/>
                </a:moveTo>
                <a:arcTo wR="10800" hR="10800" stAng="-6014708" swAng="5401965"/>
                <a:lnTo>
                  <a:pt x="10800" y="10800"/>
                </a:lnTo>
                <a:close/>
              </a:path>
              <a:path fill="none" w="21600" h="21600">
                <a:moveTo>
                  <a:pt x="8879" y="172"/>
                </a:moveTo>
                <a:arcTo wR="10800" hR="10800" stAng="-6014708" swAng="5401965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832360" y="3573000"/>
            <a:ext cx="34920" cy="1150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24520" y="1808280"/>
            <a:ext cx="251964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6" y="21444"/>
                </a:moveTo>
                <a:arcTo wR="10800" hR="10800" stAng="4815841" swAng="5436475"/>
                <a:lnTo>
                  <a:pt x="10800" y="10800"/>
                </a:lnTo>
                <a:close/>
              </a:path>
              <a:path fill="none" w="21600" h="21600">
                <a:moveTo>
                  <a:pt x="12626" y="21444"/>
                </a:moveTo>
                <a:arcTo wR="10800" hR="10800" stAng="4815841" swAng="5436475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068640"/>
            <a:ext cx="71640" cy="1224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7920" y="3575160"/>
            <a:ext cx="252144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79" y="172"/>
                </a:moveTo>
                <a:arcTo wR="10800" hR="10800" stAng="-6014708" swAng="1565013"/>
                <a:lnTo>
                  <a:pt x="10800" y="10800"/>
                </a:lnTo>
                <a:close/>
              </a:path>
              <a:path fill="none" w="21600" h="21600">
                <a:moveTo>
                  <a:pt x="8879" y="172"/>
                </a:moveTo>
                <a:arcTo wR="10800" hR="10800" stAng="-6014708" swAng="156501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52360" y="3632760"/>
            <a:ext cx="2518920" cy="25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52" y="4077"/>
                </a:moveTo>
                <a:arcTo wR="10800" hR="10800" stAng="-2309887" swAng="1545469"/>
                <a:lnTo>
                  <a:pt x="10800" y="10800"/>
                </a:lnTo>
                <a:close/>
              </a:path>
              <a:path fill="none" w="21600" h="21600">
                <a:moveTo>
                  <a:pt x="19252" y="4077"/>
                </a:moveTo>
                <a:arcTo wR="10800" hR="10800" stAng="-2309887" swAng="154546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24520" y="1809360"/>
            <a:ext cx="2520360" cy="25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4" y="16760"/>
                </a:moveTo>
                <a:arcTo wR="10800" hR="10800" stAng="8790209" swAng="1462107"/>
                <a:lnTo>
                  <a:pt x="10800" y="10800"/>
                </a:lnTo>
                <a:close/>
              </a:path>
              <a:path fill="none" w="21600" h="21600">
                <a:moveTo>
                  <a:pt x="1794" y="16760"/>
                </a:moveTo>
                <a:arcTo wR="10800" hR="10800" stAng="8790209" swAng="146210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00400" y="1808280"/>
            <a:ext cx="2523600" cy="25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6" y="21444"/>
                </a:moveTo>
                <a:arcTo wR="10800" hR="10800" stAng="4815841" swAng="1573531"/>
                <a:lnTo>
                  <a:pt x="10800" y="10800"/>
                </a:lnTo>
                <a:close/>
              </a:path>
              <a:path fill="none" w="21600" h="21600">
                <a:moveTo>
                  <a:pt x="12626" y="21444"/>
                </a:moveTo>
                <a:arcTo wR="10800" hR="10800" stAng="4815841" swAng="157353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292720" y="2997360"/>
            <a:ext cx="273528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3213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08720" y="256536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1844640"/>
            <a:ext cx="2808360" cy="28065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651640" y="2565000"/>
            <a:ext cx="1296720" cy="6476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Вписанная окружность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Вписанная окружность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7000"/>
                            </p:stCondLst>
                            <p:childTnLst>
                              <p:par>
                                <p:cTn id="7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800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500"/>
                            </p:stCondLst>
                            <p:childTnLst>
                              <p:par>
                                <p:cTn id="74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75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000"/>
                            </p:stCondLst>
                            <p:childTnLst>
                              <p:par>
                                <p:cTn id="7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0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3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6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95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2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500"/>
                            </p:stCondLst>
                            <p:childTnLst>
                              <p:par>
                                <p:cTn id="79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0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64000"/>
                            </p:stCondLst>
                            <p:childTnLst>
                              <p:par>
                                <p:cTn id="80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670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0000"/>
                            </p:stCondLst>
                            <p:childTnLst>
                              <p:par>
                                <p:cTn id="81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3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60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9000"/>
                            </p:stCondLst>
                            <p:childTnLst>
                              <p:par>
                                <p:cTn id="8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2000"/>
                            </p:stCondLst>
                            <p:childTnLst>
                              <p:par>
                                <p:cTn id="82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5000"/>
                            </p:stCondLst>
                            <p:childTnLst>
                              <p:par>
                                <p:cTn id="8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6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9000"/>
                            </p:stCondLst>
                            <p:childTnLst>
                              <p:par>
                                <p:cTn id="84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91500"/>
                            </p:stCondLst>
                            <p:childTnLst>
                              <p:par>
                                <p:cTn id="84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940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97000"/>
                            </p:stCondLst>
                            <p:childTnLst>
                              <p:par>
                                <p:cTn id="858" nodeType="afterEffect" fill="hold" presetClass="entr" presetID="21" presetSubtype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8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76360" y="404640"/>
            <a:ext cx="6118200" cy="6118560"/>
          </a:xfrm>
          <a:prstGeom prst="ellipse">
            <a:avLst/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50920" y="980640"/>
            <a:ext cx="4321440" cy="424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050920" y="4797360"/>
            <a:ext cx="5185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372000" y="980640"/>
            <a:ext cx="863640" cy="38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476360" y="5013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443640" y="40464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52472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050920" y="2349360"/>
            <a:ext cx="1513080" cy="2880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95240" y="-1901880"/>
            <a:ext cx="6119280" cy="61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0" y="20681"/>
                </a:moveTo>
                <a:arcTo wR="10800" hR="10800" stAng="6828441" swAng="2938695"/>
                <a:lnTo>
                  <a:pt x="10800" y="10800"/>
                </a:lnTo>
                <a:close/>
              </a:path>
              <a:path fill="none" w="21600" h="21600">
                <a:moveTo>
                  <a:pt x="6440" y="20681"/>
                </a:moveTo>
                <a:arcTo wR="10800" hR="10800" stAng="6828441" swAng="2938695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900360" y="1992960"/>
            <a:ext cx="6118560" cy="61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96" y="1074"/>
                </a:moveTo>
                <a:arcTo wR="10800" hR="10800" stAng="-3853736" swAng="2809777"/>
                <a:lnTo>
                  <a:pt x="10800" y="10800"/>
                </a:lnTo>
                <a:close/>
              </a:path>
              <a:path fill="none" w="21600" h="21600">
                <a:moveTo>
                  <a:pt x="15496" y="1074"/>
                </a:moveTo>
                <a:arcTo wR="10800" hR="10800" stAng="-3853736" swAng="2809777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19640" y="1052640"/>
            <a:ext cx="1152720" cy="2881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863640" y="2008800"/>
            <a:ext cx="6118200" cy="61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96" y="1074"/>
                </a:moveTo>
                <a:arcTo wR="10800" hR="10800" stAng="-3853736" swAng="618690"/>
                <a:lnTo>
                  <a:pt x="10800" y="10800"/>
                </a:lnTo>
                <a:close/>
              </a:path>
              <a:path fill="none" w="21600" h="21600">
                <a:moveTo>
                  <a:pt x="15496" y="1074"/>
                </a:moveTo>
                <a:arcTo wR="10800" hR="10800" stAng="-3853736" swAng="61869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900000" y="2009880"/>
            <a:ext cx="6117840" cy="61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96" y="5136"/>
                </a:moveTo>
                <a:arcTo wR="10800" hR="10800" stAng="-1897812" swAng="746683"/>
                <a:lnTo>
                  <a:pt x="10800" y="10800"/>
                </a:lnTo>
                <a:close/>
              </a:path>
              <a:path fill="none" w="21600" h="21600">
                <a:moveTo>
                  <a:pt x="19996" y="5136"/>
                </a:moveTo>
                <a:arcTo wR="10800" hR="10800" stAng="-1897812" swAng="746683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5760" y="-1900440"/>
            <a:ext cx="6116040" cy="61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62" y="20505"/>
                </a:moveTo>
                <a:arcTo wR="10800" hR="10800" stAng="6961177" swAng="682949"/>
                <a:lnTo>
                  <a:pt x="10800" y="10800"/>
                </a:lnTo>
                <a:close/>
              </a:path>
              <a:path fill="none" w="21600" h="21600">
                <a:moveTo>
                  <a:pt x="6062" y="20505"/>
                </a:moveTo>
                <a:arcTo wR="10800" hR="10800" stAng="6961177" swAng="68294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8480" y="-1865520"/>
            <a:ext cx="6118920" cy="612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4" y="16398"/>
                </a:moveTo>
                <a:arcTo wR="10800" hR="10800" stAng="8926661" swAng="704901"/>
                <a:lnTo>
                  <a:pt x="10800" y="10800"/>
                </a:lnTo>
                <a:close/>
              </a:path>
              <a:path fill="none" w="21600" h="21600">
                <a:moveTo>
                  <a:pt x="1564" y="16398"/>
                </a:moveTo>
                <a:arcTo wR="10800" hR="10800" stAng="8926661" swAng="70490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1916280"/>
            <a:ext cx="230328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541440" y="2135520"/>
            <a:ext cx="5400360" cy="539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56" y="5583"/>
                </a:moveTo>
                <a:arcTo wR="10800" hR="10800" stAng="-1733177" swAng="3434856"/>
                <a:lnTo>
                  <a:pt x="10800" y="10800"/>
                </a:lnTo>
                <a:close/>
              </a:path>
              <a:path fill="none" w="21600" h="21600">
                <a:moveTo>
                  <a:pt x="20256" y="5583"/>
                </a:moveTo>
                <a:arcTo wR="10800" hR="10800" stAng="-1733177" swAng="3434856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27640" y="2134800"/>
            <a:ext cx="5400360" cy="539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6" y="15967"/>
                </a:moveTo>
                <a:arcTo wR="10800" hR="10800" stAng="9085117" swAng="3387734"/>
                <a:lnTo>
                  <a:pt x="10800" y="10800"/>
                </a:lnTo>
                <a:close/>
              </a:path>
              <a:path fill="none" w="21600" h="21600">
                <a:moveTo>
                  <a:pt x="1316" y="15967"/>
                </a:moveTo>
                <a:arcTo wR="10800" hR="10800" stAng="9085117" swAng="3387734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0920" y="3644640"/>
            <a:ext cx="2521080" cy="1584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258840" y="2178720"/>
            <a:ext cx="5124600" cy="53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56" y="5583"/>
                </a:moveTo>
                <a:arcTo wR="10800" hR="10800" stAng="-1733177" swAng="610595"/>
                <a:lnTo>
                  <a:pt x="10800" y="10800"/>
                </a:lnTo>
                <a:close/>
              </a:path>
              <a:path fill="none" w="21600" h="21600">
                <a:moveTo>
                  <a:pt x="20256" y="5583"/>
                </a:moveTo>
                <a:arcTo wR="10800" hR="10800" stAng="-1733177" swAng="61059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576360" y="2169000"/>
            <a:ext cx="5400720" cy="54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2" y="13977"/>
                </a:moveTo>
                <a:arcTo wR="10800" hR="10800" stAng="1026428" swAng="675252"/>
                <a:lnTo>
                  <a:pt x="10800" y="10800"/>
                </a:lnTo>
                <a:close/>
              </a:path>
              <a:path fill="none" w="21600" h="21600">
                <a:moveTo>
                  <a:pt x="21122" y="13977"/>
                </a:moveTo>
                <a:arcTo wR="10800" hR="10800" stAng="1026428" swAng="6752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642920" y="4797360"/>
            <a:ext cx="2629080" cy="11527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5480" y="2095920"/>
            <a:ext cx="5398560" cy="54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6" y="15967"/>
                </a:moveTo>
                <a:arcTo wR="10800" hR="10800" stAng="9085117" swAng="728150"/>
                <a:lnTo>
                  <a:pt x="10800" y="10800"/>
                </a:lnTo>
                <a:close/>
              </a:path>
              <a:path fill="none" w="21600" h="21600">
                <a:moveTo>
                  <a:pt x="1316" y="15967"/>
                </a:moveTo>
                <a:arcTo wR="10800" hR="10800" stAng="9085117" swAng="72815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13240" y="2136600"/>
            <a:ext cx="5397840" cy="539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7" y="7147"/>
                </a:moveTo>
                <a:arcTo wR="10800" hR="10800" stAng="-9613763" swAng="486615"/>
                <a:lnTo>
                  <a:pt x="10800" y="10800"/>
                </a:lnTo>
                <a:close/>
              </a:path>
              <a:path fill="none" w="21600" h="21600">
                <a:moveTo>
                  <a:pt x="637" y="7147"/>
                </a:moveTo>
                <a:arcTo wR="10800" hR="10800" stAng="-9613763" swAng="48661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643280" y="2924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3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88000" y="270828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43280" y="981000"/>
            <a:ext cx="1729080" cy="24480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7928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Описанная 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окружность (I)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91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10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8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2000"/>
                            </p:stCondLst>
                            <p:childTnLst>
                              <p:par>
                                <p:cTn id="942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80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4000"/>
                            </p:stCondLst>
                            <p:childTnLst>
                              <p:par>
                                <p:cTn id="96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70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96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3000"/>
                            </p:stCondLst>
                            <p:childTnLst>
                              <p:par>
                                <p:cTn id="97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66000"/>
                            </p:stCondLst>
                            <p:childTnLst>
                              <p:par>
                                <p:cTn id="9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7000"/>
                            </p:stCondLst>
                            <p:childTnLst>
                              <p:par>
                                <p:cTn id="983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71000"/>
                            </p:stCondLst>
                            <p:childTnLst>
                              <p:par>
                                <p:cTn id="98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76360" y="404640"/>
            <a:ext cx="6118200" cy="61185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47640" y="2924280"/>
            <a:ext cx="482472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47640" y="2924280"/>
            <a:ext cx="266400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211640" y="5876640"/>
            <a:ext cx="216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042560" y="478800"/>
            <a:ext cx="5037840" cy="50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86" y="13763"/>
                </a:moveTo>
                <a:arcTo wR="10800" hR="10800" stAng="955420" swAng="4341853"/>
                <a:lnTo>
                  <a:pt x="10800" y="10800"/>
                </a:lnTo>
                <a:close/>
              </a:path>
              <a:path fill="none" w="21600" h="21600">
                <a:moveTo>
                  <a:pt x="21186" y="13763"/>
                </a:moveTo>
                <a:arcTo wR="10800" hR="10800" stAng="955420" swAng="4341853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23240" y="3936960"/>
            <a:ext cx="5037120" cy="50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6" y="7867"/>
                </a:moveTo>
                <a:arcTo wR="10800" hR="10800" stAng="-9854510" swAng="4238901"/>
                <a:lnTo>
                  <a:pt x="10800" y="10800"/>
                </a:lnTo>
                <a:close/>
              </a:path>
              <a:path fill="none" w="21600" h="21600">
                <a:moveTo>
                  <a:pt x="406" y="7867"/>
                </a:moveTo>
                <a:arcTo wR="10800" hR="10800" stAng="-9854510" swAng="4238901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1115640" y="624600"/>
            <a:ext cx="5037480" cy="503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95" y="13347"/>
                </a:moveTo>
                <a:arcTo wR="10800" hR="10800" stAng="818583" swAng="475726"/>
                <a:lnTo>
                  <a:pt x="10800" y="10800"/>
                </a:lnTo>
                <a:close/>
              </a:path>
              <a:path fill="none" w="21600" h="21600">
                <a:moveTo>
                  <a:pt x="21295" y="13347"/>
                </a:moveTo>
                <a:arcTo wR="10800" hR="10800" stAng="818583" swAng="47572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47640" y="2924280"/>
            <a:ext cx="2303640" cy="936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16000" y="2421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659640" y="57340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4000" y="63342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1038600" y="478800"/>
            <a:ext cx="5029560" cy="50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17" y="21348"/>
                </a:moveTo>
                <a:arcTo wR="10800" hR="10800" stAng="4656621" swAng="640651"/>
                <a:lnTo>
                  <a:pt x="10800" y="10800"/>
                </a:lnTo>
                <a:close/>
              </a:path>
              <a:path fill="none" w="21600" h="21600">
                <a:moveTo>
                  <a:pt x="13117" y="21348"/>
                </a:moveTo>
                <a:arcTo wR="10800" hR="10800" stAng="4656621" swAng="64065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1907640" y="5300640"/>
            <a:ext cx="2303640" cy="1224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10720" y="3926160"/>
            <a:ext cx="5042520" cy="50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31" y="475"/>
                </a:moveTo>
                <a:arcTo wR="10800" hR="10800" stAng="-6423636" swAng="751522"/>
                <a:lnTo>
                  <a:pt x="10800" y="10800"/>
                </a:lnTo>
                <a:close/>
              </a:path>
              <a:path fill="none" w="21600" h="21600">
                <a:moveTo>
                  <a:pt x="7631" y="475"/>
                </a:moveTo>
                <a:arcTo wR="10800" hR="10800" stAng="-6423636" swAng="75152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98760" y="3990600"/>
            <a:ext cx="503820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0" y="7584"/>
                </a:moveTo>
                <a:arcTo wR="10800" hR="10800" stAng="-9760670" swAng="729240"/>
                <a:lnTo>
                  <a:pt x="10800" y="10800"/>
                </a:lnTo>
                <a:close/>
              </a:path>
              <a:path fill="none" w="21600" h="21600">
                <a:moveTo>
                  <a:pt x="490" y="7584"/>
                </a:moveTo>
                <a:arcTo wR="10800" hR="10800" stAng="-9760670" swAng="7292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332000" y="2637000"/>
            <a:ext cx="424980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1472760" y="-240480"/>
            <a:ext cx="6116760" cy="61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6" y="12556"/>
                </a:moveTo>
                <a:arcTo wR="10800" hR="10800" stAng="561338" swAng="2872599"/>
                <a:lnTo>
                  <a:pt x="10800" y="10800"/>
                </a:lnTo>
                <a:close/>
              </a:path>
              <a:path fill="none" w="21600" h="21600">
                <a:moveTo>
                  <a:pt x="21456" y="12556"/>
                </a:moveTo>
                <a:arcTo wR="10800" hR="10800" stAng="561338" swAng="2872599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8720" y="2928240"/>
            <a:ext cx="6117120" cy="61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" y="9110"/>
                </a:moveTo>
                <a:arcTo wR="10800" hR="10800" stAng="-10259963" swAng="2881035"/>
                <a:lnTo>
                  <a:pt x="10800" y="10800"/>
                </a:lnTo>
                <a:close/>
              </a:path>
              <a:path fill="none" w="21600" h="21600">
                <a:moveTo>
                  <a:pt x="133" y="9110"/>
                </a:moveTo>
                <a:arcTo wR="10800" hR="10800" stAng="-10259963" swAng="2881035"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2924280"/>
            <a:ext cx="2953080" cy="649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1510920" y="-133920"/>
            <a:ext cx="6116760" cy="61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6" y="12556"/>
                </a:moveTo>
                <a:arcTo wR="10800" hR="10800" stAng="561338" swAng="519775"/>
                <a:lnTo>
                  <a:pt x="10800" y="10800"/>
                </a:lnTo>
                <a:close/>
              </a:path>
              <a:path fill="none" w="21600" h="21600">
                <a:moveTo>
                  <a:pt x="21456" y="12556"/>
                </a:moveTo>
                <a:arcTo wR="10800" hR="10800" stAng="561338" swAng="51977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-1438200" y="-276840"/>
            <a:ext cx="6114960" cy="61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49" y="18896"/>
                </a:moveTo>
                <a:arcTo wR="10800" hR="10800" stAng="2913289" swAng="520648"/>
                <a:lnTo>
                  <a:pt x="10800" y="10800"/>
                </a:lnTo>
                <a:close/>
              </a:path>
              <a:path fill="none" w="21600" h="21600">
                <a:moveTo>
                  <a:pt x="17949" y="18896"/>
                </a:moveTo>
                <a:arcTo wR="10800" hR="10800" stAng="2913289" swAng="52064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419640" y="5229000"/>
            <a:ext cx="2952720" cy="64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4480" y="2919240"/>
            <a:ext cx="6114960" cy="61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86" y="3042"/>
                </a:moveTo>
                <a:arcTo wR="10800" hR="10800" stAng="-8044987" swAng="630969"/>
                <a:lnTo>
                  <a:pt x="10800" y="10800"/>
                </a:lnTo>
                <a:close/>
              </a:path>
              <a:path fill="none" w="21600" h="21600">
                <a:moveTo>
                  <a:pt x="3286" y="3042"/>
                </a:moveTo>
                <a:arcTo wR="10800" hR="10800" stAng="-8044987" swAng="63096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12360" y="3095280"/>
            <a:ext cx="6116040" cy="61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6" y="8417"/>
                </a:moveTo>
                <a:arcTo wR="10800" hR="10800" stAng="-10035285" swAng="604974"/>
                <a:lnTo>
                  <a:pt x="10800" y="10800"/>
                </a:lnTo>
                <a:close/>
              </a:path>
              <a:path fill="none" w="21600" h="21600">
                <a:moveTo>
                  <a:pt x="266" y="8417"/>
                </a:moveTo>
                <a:arcTo wR="10800" hR="10800" stAng="-10035285" swAng="60497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32000" y="2565000"/>
            <a:ext cx="2089440" cy="302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28464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427640" y="270828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16360" y="3357720"/>
            <a:ext cx="1656000" cy="25192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Описанная 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окружность (II)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6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7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8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9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9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5000"/>
                            </p:stCondLst>
                            <p:childTnLst>
                              <p:par>
                                <p:cTn id="109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71000"/>
                            </p:stCondLst>
                            <p:childTnLst>
                              <p:par>
                                <p:cTn id="1108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75000"/>
                            </p:stCondLst>
                            <p:childTnLst>
                              <p:par>
                                <p:cTn id="111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flipV="1">
            <a:off x="4572360" y="2398320"/>
            <a:ext cx="2236320" cy="1379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24000" y="234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645840" y="-390240"/>
            <a:ext cx="5393520" cy="53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53" y="4911"/>
                </a:moveTo>
                <a:arcTo wR="10800" hR="10800" stAng="-1982723" swAng="567762"/>
                <a:lnTo>
                  <a:pt x="10800" y="10800"/>
                </a:lnTo>
                <a:close/>
              </a:path>
              <a:path fill="none" w="21600" h="21600">
                <a:moveTo>
                  <a:pt x="19853" y="4911"/>
                </a:moveTo>
                <a:arcTo wR="10800" hR="10800" stAng="-1982723" swAng="5677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31240" y="1063440"/>
            <a:ext cx="2333880" cy="1208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31600" y="-1716120"/>
            <a:ext cx="5392080" cy="539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56" y="15216"/>
                </a:moveTo>
                <a:arcTo wR="10800" hR="10800" stAng="1448255" swAng="547696"/>
                <a:lnTo>
                  <a:pt x="10800" y="10800"/>
                </a:lnTo>
                <a:close/>
              </a:path>
              <a:path fill="none" w="21600" h="21600">
                <a:moveTo>
                  <a:pt x="20656" y="15216"/>
                </a:moveTo>
                <a:arcTo wR="10800" hR="10800" stAng="1448255" swAng="5476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3840" y="2301120"/>
            <a:ext cx="222840" cy="2618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29120" y="-495360"/>
            <a:ext cx="5406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3" y="21385"/>
                </a:moveTo>
                <a:arcTo wR="10800" hR="10800" stAng="4713429" swAng="669196"/>
                <a:lnTo>
                  <a:pt x="10800" y="10800"/>
                </a:lnTo>
                <a:close/>
              </a:path>
              <a:path fill="none" w="21600" h="21600">
                <a:moveTo>
                  <a:pt x="12943" y="21385"/>
                </a:moveTo>
                <a:arcTo wR="10800" hR="10800" stAng="4713429" swAng="6691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744800" y="4936320"/>
            <a:ext cx="2206440" cy="1577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2160" y="2064240"/>
            <a:ext cx="5396400" cy="53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0" y="18259"/>
                </a:moveTo>
                <a:arcTo wR="10800" hR="10800" stAng="8179032" swAng="501678"/>
                <a:lnTo>
                  <a:pt x="10800" y="10800"/>
                </a:lnTo>
                <a:close/>
              </a:path>
              <a:path fill="none" w="21600" h="21600">
                <a:moveTo>
                  <a:pt x="2990" y="18259"/>
                </a:moveTo>
                <a:arcTo wR="10800" hR="10800" stAng="8179032" swAng="5016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2213640" y="5137920"/>
            <a:ext cx="2500200" cy="1341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9800" y="3715920"/>
            <a:ext cx="5397120" cy="54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" y="6594"/>
                </a:moveTo>
                <a:arcTo wR="10800" hR="10800" stAng="-9424867" swAng="606013"/>
                <a:lnTo>
                  <a:pt x="10800" y="10800"/>
                </a:lnTo>
                <a:close/>
              </a:path>
              <a:path fill="none" w="21600" h="21600">
                <a:moveTo>
                  <a:pt x="853" y="6594"/>
                </a:moveTo>
                <a:arcTo wR="10800" hR="10800" stAng="-9424867" swAng="60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2164680" y="2414160"/>
            <a:ext cx="43920" cy="2711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323640" y="2421000"/>
            <a:ext cx="5397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58" y="215"/>
                </a:moveTo>
                <a:arcTo wR="10800" hR="10800" stAng="-6086460" swAng="780829"/>
                <a:lnTo>
                  <a:pt x="10800" y="10800"/>
                </a:lnTo>
                <a:close/>
              </a:path>
              <a:path fill="none" w="21600" h="21600">
                <a:moveTo>
                  <a:pt x="8658" y="215"/>
                </a:moveTo>
                <a:arcTo wR="10800" hR="10800" stAng="-6086460" swAng="7808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220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6381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95640" y="2276280"/>
            <a:ext cx="4608360" cy="144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788000" y="2276640"/>
            <a:ext cx="2016000" cy="4176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421000"/>
            <a:ext cx="2592360" cy="4032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тре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9711E-006 L -0.25781 -0.19791 E">
                                      <p:cBhvr>
                                        <p:cTn id="1138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4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7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9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flipV="1">
            <a:off x="4572360" y="2398320"/>
            <a:ext cx="2236320" cy="1379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234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645840" y="-390240"/>
            <a:ext cx="5393520" cy="53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53" y="4911"/>
                </a:moveTo>
                <a:arcTo wR="10800" hR="10800" stAng="-1982723" swAng="567762"/>
                <a:lnTo>
                  <a:pt x="10800" y="10800"/>
                </a:lnTo>
                <a:close/>
              </a:path>
              <a:path fill="none" w="21600" h="21600">
                <a:moveTo>
                  <a:pt x="19853" y="4911"/>
                </a:moveTo>
                <a:arcTo wR="10800" hR="10800" stAng="-1982723" swAng="5677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31240" y="1063440"/>
            <a:ext cx="2333880" cy="1208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31600" y="-1716120"/>
            <a:ext cx="5392080" cy="539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56" y="15216"/>
                </a:moveTo>
                <a:arcTo wR="10800" hR="10800" stAng="1448255" swAng="547696"/>
                <a:lnTo>
                  <a:pt x="10800" y="10800"/>
                </a:lnTo>
                <a:close/>
              </a:path>
              <a:path fill="none" w="21600" h="21600">
                <a:moveTo>
                  <a:pt x="20656" y="15216"/>
                </a:moveTo>
                <a:arcTo wR="10800" hR="10800" stAng="1448255" swAng="5476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83840" y="2301120"/>
            <a:ext cx="222840" cy="2618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29120" y="-495360"/>
            <a:ext cx="5406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3" y="21385"/>
                </a:moveTo>
                <a:arcTo wR="10800" hR="10800" stAng="4713429" swAng="669196"/>
                <a:lnTo>
                  <a:pt x="10800" y="10800"/>
                </a:lnTo>
                <a:close/>
              </a:path>
              <a:path fill="none" w="21600" h="21600">
                <a:moveTo>
                  <a:pt x="12943" y="21385"/>
                </a:moveTo>
                <a:arcTo wR="10800" hR="10800" stAng="4713429" swAng="6691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44800" y="4936320"/>
            <a:ext cx="2206440" cy="1577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2160" y="2064240"/>
            <a:ext cx="5396400" cy="53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0" y="18259"/>
                </a:moveTo>
                <a:arcTo wR="10800" hR="10800" stAng="8179032" swAng="501678"/>
                <a:lnTo>
                  <a:pt x="10800" y="10800"/>
                </a:lnTo>
                <a:close/>
              </a:path>
              <a:path fill="none" w="21600" h="21600">
                <a:moveTo>
                  <a:pt x="2990" y="18259"/>
                </a:moveTo>
                <a:arcTo wR="10800" hR="10800" stAng="8179032" swAng="5016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2213640" y="5137920"/>
            <a:ext cx="2500200" cy="1341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3715920"/>
            <a:ext cx="5397120" cy="54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" y="6594"/>
                </a:moveTo>
                <a:arcTo wR="10800" hR="10800" stAng="-9424867" swAng="606013"/>
                <a:lnTo>
                  <a:pt x="10800" y="10800"/>
                </a:lnTo>
                <a:close/>
              </a:path>
              <a:path fill="none" w="21600" h="21600">
                <a:moveTo>
                  <a:pt x="853" y="6594"/>
                </a:moveTo>
                <a:arcTo wR="10800" hR="10800" stAng="-9424867" swAng="60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64680" y="2414160"/>
            <a:ext cx="43920" cy="2711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323640" y="2421000"/>
            <a:ext cx="5397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58" y="215"/>
                </a:moveTo>
                <a:arcTo wR="10800" hR="10800" stAng="-6086460" swAng="780829"/>
                <a:lnTo>
                  <a:pt x="10800" y="10800"/>
                </a:lnTo>
                <a:close/>
              </a:path>
              <a:path fill="none" w="21600" h="21600">
                <a:moveTo>
                  <a:pt x="8658" y="215"/>
                </a:moveTo>
                <a:arcTo wR="10800" hR="10800" stAng="-6086460" swAng="7808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шести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195640" y="1052280"/>
            <a:ext cx="2232000" cy="1368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1052640"/>
            <a:ext cx="2376360" cy="12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804000" y="2276280"/>
            <a:ext cx="216000" cy="2592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788000" y="4868640"/>
            <a:ext cx="2232000" cy="16556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5157720"/>
            <a:ext cx="2592360" cy="13669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95640" y="2421000"/>
            <a:ext cx="0" cy="2736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9711E-006 L -0.25781 -0.19791 E">
                                      <p:cBhvr>
                                        <p:cTn id="1246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2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9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2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2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 flipV="1">
            <a:off x="4572360" y="2398320"/>
            <a:ext cx="2236320" cy="1379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234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645840" y="-390240"/>
            <a:ext cx="5393520" cy="53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53" y="4911"/>
                </a:moveTo>
                <a:arcTo wR="10800" hR="10800" stAng="-1982723" swAng="567762"/>
                <a:lnTo>
                  <a:pt x="10800" y="10800"/>
                </a:lnTo>
                <a:close/>
              </a:path>
              <a:path fill="none" w="21600" h="21600">
                <a:moveTo>
                  <a:pt x="19853" y="4911"/>
                </a:moveTo>
                <a:arcTo wR="10800" hR="10800" stAng="-1982723" swAng="5677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31600" y="-1716120"/>
            <a:ext cx="5392080" cy="539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56" y="15216"/>
                </a:moveTo>
                <a:arcTo wR="10800" hR="10800" stAng="1448255" swAng="547696"/>
                <a:lnTo>
                  <a:pt x="10800" y="10800"/>
                </a:lnTo>
                <a:close/>
              </a:path>
              <a:path fill="none" w="21600" h="21600">
                <a:moveTo>
                  <a:pt x="20656" y="15216"/>
                </a:moveTo>
                <a:arcTo wR="10800" hR="10800" stAng="1448255" swAng="5476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-495360"/>
            <a:ext cx="5406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3" y="21385"/>
                </a:moveTo>
                <a:arcTo wR="10800" hR="10800" stAng="4713429" swAng="669196"/>
                <a:lnTo>
                  <a:pt x="10800" y="10800"/>
                </a:lnTo>
                <a:close/>
              </a:path>
              <a:path fill="none" w="21600" h="21600">
                <a:moveTo>
                  <a:pt x="12943" y="21385"/>
                </a:moveTo>
                <a:arcTo wR="10800" hR="10800" stAng="4713429" swAng="6691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46480" y="2099160"/>
            <a:ext cx="5397480" cy="53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0" y="18259"/>
                </a:moveTo>
                <a:arcTo wR="10800" hR="10800" stAng="8179032" swAng="501678"/>
                <a:lnTo>
                  <a:pt x="10800" y="10800"/>
                </a:lnTo>
                <a:close/>
              </a:path>
              <a:path fill="none" w="21600" h="21600">
                <a:moveTo>
                  <a:pt x="2990" y="18259"/>
                </a:moveTo>
                <a:arcTo wR="10800" hR="10800" stAng="8179032" swAng="5016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3714120"/>
            <a:ext cx="5397840" cy="54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" y="6594"/>
                </a:moveTo>
                <a:arcTo wR="10800" hR="10800" stAng="-9424867" swAng="605578"/>
                <a:lnTo>
                  <a:pt x="10800" y="10800"/>
                </a:lnTo>
                <a:close/>
              </a:path>
              <a:path fill="none" w="21600" h="21600">
                <a:moveTo>
                  <a:pt x="853" y="6594"/>
                </a:moveTo>
                <a:arcTo wR="10800" hR="10800" stAng="-9424867" swAng="6055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323640" y="2421000"/>
            <a:ext cx="5397840" cy="54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58" y="215"/>
                </a:moveTo>
                <a:arcTo wR="10800" hR="10800" stAng="-6086460" swAng="780829"/>
                <a:lnTo>
                  <a:pt x="10800" y="10800"/>
                </a:lnTo>
                <a:close/>
              </a:path>
              <a:path fill="none" w="21600" h="21600">
                <a:moveTo>
                  <a:pt x="8658" y="215"/>
                </a:moveTo>
                <a:arcTo wR="10800" hR="10800" stAng="-6086460" swAng="7808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66920" y="189000"/>
            <a:ext cx="6408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двенадцати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195640" y="1052280"/>
            <a:ext cx="223200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219760" y="1656360"/>
            <a:ext cx="1435680" cy="744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8000" y="822600"/>
            <a:ext cx="3060360" cy="305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468" swAng="6499051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468" swAng="64990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163680" y="1027800"/>
            <a:ext cx="1275120" cy="993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43280" y="-485280"/>
            <a:ext cx="3060360" cy="305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29" y="21525"/>
                </a:moveTo>
                <a:arcTo wR="10800" hR="10800" stAng="5805376" swAng="5959677"/>
                <a:lnTo>
                  <a:pt x="10800" y="10800"/>
                </a:lnTo>
                <a:close/>
              </a:path>
              <a:path fill="none" w="21600" h="21600">
                <a:moveTo>
                  <a:pt x="9529" y="21525"/>
                </a:moveTo>
                <a:arcTo wR="10800" hR="10800" stAng="5805376" swAng="5959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476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88800" y="1381320"/>
            <a:ext cx="1016640" cy="1040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6000" y="1058040"/>
            <a:ext cx="3058920" cy="30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62" y="1483"/>
                </a:moveTo>
                <a:arcTo wR="10800" hR="10800" stAng="-3577025" swAng="971490"/>
                <a:lnTo>
                  <a:pt x="10800" y="10800"/>
                </a:lnTo>
                <a:close/>
              </a:path>
              <a:path fill="none" w="21600" h="21600">
                <a:moveTo>
                  <a:pt x="16262" y="1483"/>
                </a:moveTo>
                <a:arcTo wR="10800" hR="10800" stAng="-3577025" swAng="97149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05800" y="1058400"/>
            <a:ext cx="1221120" cy="389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24400" y="1036080"/>
            <a:ext cx="1419480" cy="315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25640" y="-548640"/>
            <a:ext cx="3060720" cy="305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32" y="12007"/>
                </a:moveTo>
                <a:arcTo wR="10800" hR="10800" stAng="384854" swAng="950918"/>
                <a:lnTo>
                  <a:pt x="10800" y="10800"/>
                </a:lnTo>
                <a:close/>
              </a:path>
              <a:path fill="none" w="21600" h="21600">
                <a:moveTo>
                  <a:pt x="21532" y="12007"/>
                </a:moveTo>
                <a:arcTo wR="10800" hR="10800" stAng="384854" swAng="95091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57200" y="1397160"/>
            <a:ext cx="915840" cy="902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68360" y="2306160"/>
            <a:ext cx="474840" cy="13748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03800" y="676800"/>
            <a:ext cx="3057480" cy="30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27" y="20651"/>
                </a:moveTo>
                <a:arcTo wR="10800" hR="10800" stAng="3948075" swAng="936824"/>
                <a:lnTo>
                  <a:pt x="10800" y="10800"/>
                </a:lnTo>
                <a:close/>
              </a:path>
              <a:path fill="none" w="21600" h="21600">
                <a:moveTo>
                  <a:pt x="15227" y="20651"/>
                </a:moveTo>
                <a:arcTo wR="10800" hR="10800" stAng="3948075" swAng="93682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993000" y="3637440"/>
            <a:ext cx="192960" cy="1253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69600" y="4925520"/>
            <a:ext cx="887760" cy="1152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18360" y="3285000"/>
            <a:ext cx="3056760" cy="305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5" y="20213"/>
                </a:moveTo>
                <a:arcTo wR="10800" hR="10800" stAng="7161413" swAng="834099"/>
                <a:lnTo>
                  <a:pt x="10800" y="10800"/>
                </a:lnTo>
                <a:close/>
              </a:path>
              <a:path fill="none" w="21600" h="21600">
                <a:moveTo>
                  <a:pt x="5505" y="20213"/>
                </a:moveTo>
                <a:arcTo wR="10800" hR="10800" stAng="7161413" swAng="8340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747680" y="6040800"/>
            <a:ext cx="1304640" cy="4723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353400" y="6200280"/>
            <a:ext cx="1355400" cy="295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8520" y="5015520"/>
            <a:ext cx="3057120" cy="305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9819"/>
                </a:moveTo>
                <a:arcTo wR="10800" hR="10800" stAng="-10487189" swAng="859481"/>
                <a:lnTo>
                  <a:pt x="10800" y="10800"/>
                </a:lnTo>
                <a:close/>
              </a:path>
              <a:path fill="none" w="21600" h="21600">
                <a:moveTo>
                  <a:pt x="45" y="9819"/>
                </a:moveTo>
                <a:arcTo wR="10800" hR="10800" stAng="-10487189" swAng="85948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2238120" y="5185440"/>
            <a:ext cx="1104120" cy="10368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835280" y="3665880"/>
            <a:ext cx="361800" cy="14706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28000" y="3574800"/>
            <a:ext cx="3058560" cy="305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14" y="1168"/>
                </a:moveTo>
                <a:arcTo wR="10800" hR="10800" stAng="-7013735" swAng="1042491"/>
                <a:lnTo>
                  <a:pt x="10800" y="10800"/>
                </a:lnTo>
                <a:close/>
              </a:path>
              <a:path fill="none" w="21600" h="21600">
                <a:moveTo>
                  <a:pt x="5914" y="1168"/>
                </a:moveTo>
                <a:arcTo wR="10800" hR="10800" stAng="-7013735" swAng="104249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872000" y="2404440"/>
            <a:ext cx="321480" cy="12387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195640" y="1413000"/>
            <a:ext cx="936360" cy="1008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132000" y="1052280"/>
            <a:ext cx="1295640" cy="360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7640" y="1052640"/>
            <a:ext cx="1439640" cy="288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341360"/>
            <a:ext cx="936720" cy="9352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04000" y="2276640"/>
            <a:ext cx="432000" cy="1368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020000" y="3645000"/>
            <a:ext cx="216000" cy="12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84720" y="4869000"/>
            <a:ext cx="935280" cy="12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788000" y="6093000"/>
            <a:ext cx="1296720" cy="4316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6237360"/>
            <a:ext cx="1511280" cy="2872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5157720"/>
            <a:ext cx="1081080" cy="10796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4920" y="3645000"/>
            <a:ext cx="360360" cy="1512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835280" y="2421000"/>
            <a:ext cx="360360" cy="12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9711E-006 L -0.25781 -0.19791 E">
                                      <p:cBhvr>
                                        <p:cTn id="135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2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5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5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5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47500"/>
                            </p:stCondLst>
                            <p:childTnLst>
                              <p:par>
                                <p:cTn id="156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V="1">
            <a:off x="4572360" y="2398320"/>
            <a:ext cx="2236320" cy="1379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124000" y="234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835280" y="189000"/>
            <a:ext cx="54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четырех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95640" y="2421000"/>
            <a:ext cx="468144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04000" y="508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4376880" y="2909520"/>
            <a:ext cx="2477160" cy="226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92360" y="1861920"/>
            <a:ext cx="6836040" cy="683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12905"/>
                </a:moveTo>
                <a:arcTo wR="10800" hR="10800" stAng="10125747" swAng="5132639"/>
                <a:lnTo>
                  <a:pt x="10800" y="10800"/>
                </a:lnTo>
                <a:close/>
              </a:path>
              <a:path fill="none" w="21600" h="21600">
                <a:moveTo>
                  <a:pt x="207" y="12905"/>
                </a:moveTo>
                <a:arcTo wR="10800" hR="10800" stAng="10125747" swAng="51326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-1151280" y="-1044720"/>
            <a:ext cx="6838920" cy="68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40" y="8445"/>
                </a:moveTo>
                <a:arcTo wR="10800" hR="10800" stAng="-755533" swAng="5376023"/>
                <a:lnTo>
                  <a:pt x="10800" y="10800"/>
                </a:lnTo>
                <a:close/>
              </a:path>
              <a:path fill="none" w="21600" h="21600">
                <a:moveTo>
                  <a:pt x="21340" y="8445"/>
                </a:moveTo>
                <a:arcTo wR="10800" hR="10800" stAng="-755533" swAng="537602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81240" y="2424600"/>
            <a:ext cx="3520800" cy="4514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92720" y="1845360"/>
            <a:ext cx="6838200" cy="683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5" y="1387"/>
                </a:moveTo>
                <a:arcTo wR="10800" hR="10800" stAng="-7161647" swAng="916156"/>
                <a:lnTo>
                  <a:pt x="10800" y="10800"/>
                </a:lnTo>
                <a:close/>
              </a:path>
              <a:path fill="none" w="21600" h="21600">
                <a:moveTo>
                  <a:pt x="5505" y="1387"/>
                </a:moveTo>
                <a:arcTo wR="10800" hR="10800" stAng="-7161647" swAng="916156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94160" y="1845000"/>
            <a:ext cx="6838200" cy="68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1" y="13249"/>
                </a:moveTo>
                <a:arcTo wR="10800" hR="10800" stAng="10013538" swAng="975619"/>
                <a:lnTo>
                  <a:pt x="10800" y="10800"/>
                </a:lnTo>
                <a:close/>
              </a:path>
              <a:path fill="none" w="21600" h="21600">
                <a:moveTo>
                  <a:pt x="281" y="13249"/>
                </a:moveTo>
                <a:arcTo wR="10800" hR="10800" stAng="10013538" swAng="97561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151280" y="-1020240"/>
            <a:ext cx="6838920" cy="683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73" y="8596"/>
                </a:moveTo>
                <a:arcTo wR="10800" hR="10800" stAng="-706544" swAng="790291"/>
                <a:lnTo>
                  <a:pt x="10800" y="10800"/>
                </a:lnTo>
                <a:close/>
              </a:path>
              <a:path fill="none" w="21600" h="21600">
                <a:moveTo>
                  <a:pt x="21373" y="8596"/>
                </a:moveTo>
                <a:arcTo wR="10800" hR="10800" stAng="-706544" swAng="79029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114920" y="-1068840"/>
            <a:ext cx="6836760" cy="683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14" y="20417"/>
                </a:moveTo>
                <a:arcTo wR="10800" hR="10800" stAng="3776014" swAng="895085"/>
                <a:lnTo>
                  <a:pt x="10800" y="10800"/>
                </a:lnTo>
                <a:close/>
              </a:path>
              <a:path fill="none" w="21600" h="21600">
                <a:moveTo>
                  <a:pt x="15714" y="20417"/>
                </a:moveTo>
                <a:arcTo wR="10800" hR="10800" stAng="3776014" swAng="89508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842920" y="1197000"/>
            <a:ext cx="338436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195640" y="1484280"/>
            <a:ext cx="3816360" cy="936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6011640" y="1484280"/>
            <a:ext cx="865080" cy="3673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132000" y="5157720"/>
            <a:ext cx="3745080" cy="9352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95640" y="2421000"/>
            <a:ext cx="936360" cy="3672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9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 flipV="1">
            <a:off x="4572360" y="2398320"/>
            <a:ext cx="2236320" cy="1379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24000" y="234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835280" y="189000"/>
            <a:ext cx="5472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восьми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95640" y="2421000"/>
            <a:ext cx="468144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04000" y="508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76880" y="2909520"/>
            <a:ext cx="2477160" cy="226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92360" y="1861920"/>
            <a:ext cx="6836040" cy="683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12905"/>
                </a:moveTo>
                <a:arcTo wR="10800" hR="10800" stAng="10125747" swAng="5132639"/>
                <a:lnTo>
                  <a:pt x="10800" y="10800"/>
                </a:lnTo>
                <a:close/>
              </a:path>
              <a:path fill="none" w="21600" h="21600">
                <a:moveTo>
                  <a:pt x="207" y="12905"/>
                </a:moveTo>
                <a:arcTo wR="10800" hR="10800" stAng="10125747" swAng="51326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151280" y="-1044720"/>
            <a:ext cx="6838920" cy="68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40" y="8445"/>
                </a:moveTo>
                <a:arcTo wR="10800" hR="10800" stAng="-755533" swAng="5376023"/>
                <a:lnTo>
                  <a:pt x="10800" y="10800"/>
                </a:lnTo>
                <a:close/>
              </a:path>
              <a:path fill="none" w="21600" h="21600">
                <a:moveTo>
                  <a:pt x="21340" y="8445"/>
                </a:moveTo>
                <a:arcTo wR="10800" hR="10800" stAng="-755533" swAng="537602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81240" y="2424600"/>
            <a:ext cx="3520800" cy="4514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720" y="1845360"/>
            <a:ext cx="6838200" cy="683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5" y="1387"/>
                </a:moveTo>
                <a:arcTo wR="10800" hR="10800" stAng="-7161647" swAng="916156"/>
                <a:lnTo>
                  <a:pt x="10800" y="10800"/>
                </a:lnTo>
                <a:close/>
              </a:path>
              <a:path fill="none" w="21600" h="21600">
                <a:moveTo>
                  <a:pt x="5505" y="1387"/>
                </a:moveTo>
                <a:arcTo wR="10800" hR="10800" stAng="-7161647" swAng="916156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94160" y="1845000"/>
            <a:ext cx="6838200" cy="68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1" y="13249"/>
                </a:moveTo>
                <a:arcTo wR="10800" hR="10800" stAng="10013538" swAng="975619"/>
                <a:lnTo>
                  <a:pt x="10800" y="10800"/>
                </a:lnTo>
                <a:close/>
              </a:path>
              <a:path fill="none" w="21600" h="21600">
                <a:moveTo>
                  <a:pt x="281" y="13249"/>
                </a:moveTo>
                <a:arcTo wR="10800" hR="10800" stAng="10013538" swAng="97561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1151280" y="-1020240"/>
            <a:ext cx="6838920" cy="683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73" y="8596"/>
                </a:moveTo>
                <a:arcTo wR="10800" hR="10800" stAng="-706544" swAng="790291"/>
                <a:lnTo>
                  <a:pt x="10800" y="10800"/>
                </a:lnTo>
                <a:close/>
              </a:path>
              <a:path fill="none" w="21600" h="21600">
                <a:moveTo>
                  <a:pt x="21373" y="8596"/>
                </a:moveTo>
                <a:arcTo wR="10800" hR="10800" stAng="-706544" swAng="79029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-1078560" y="-1068840"/>
            <a:ext cx="6836760" cy="683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14" y="20417"/>
                </a:moveTo>
                <a:arcTo wR="10800" hR="10800" stAng="3776014" swAng="895085"/>
                <a:lnTo>
                  <a:pt x="10800" y="10800"/>
                </a:lnTo>
                <a:close/>
              </a:path>
              <a:path fill="none" w="21600" h="21600">
                <a:moveTo>
                  <a:pt x="15714" y="20417"/>
                </a:moveTo>
                <a:arcTo wR="10800" hR="10800" stAng="3776014" swAng="89508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842920" y="1197000"/>
            <a:ext cx="338436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95640" y="1484280"/>
            <a:ext cx="381636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197080" y="935640"/>
            <a:ext cx="1515960" cy="14637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-569520"/>
            <a:ext cx="4317480" cy="43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72" y="18344"/>
                </a:moveTo>
                <a:arcTo wR="10800" hR="10800" stAng="8141340" swAng="4005200"/>
                <a:lnTo>
                  <a:pt x="10800" y="10800"/>
                </a:lnTo>
                <a:close/>
              </a:path>
              <a:path fill="none" w="21600" h="21600">
                <a:moveTo>
                  <a:pt x="3072" y="18344"/>
                </a:moveTo>
                <a:arcTo wR="10800" hR="10800" stAng="8141340" swAng="40052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720" y="250200"/>
            <a:ext cx="4317480" cy="43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00" y="2934"/>
                </a:moveTo>
                <a:arcTo wR="10800" hR="10800" stAng="-2804890" swAng="3898619"/>
                <a:lnTo>
                  <a:pt x="10800" y="10800"/>
                </a:lnTo>
                <a:close/>
              </a:path>
              <a:path fill="none" w="21600" h="21600">
                <a:moveTo>
                  <a:pt x="18200" y="2934"/>
                </a:moveTo>
                <a:arcTo wR="10800" hR="10800" stAng="-2804890" swAng="38986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20" y="190800"/>
            <a:ext cx="4316400" cy="43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62" y="2898"/>
                </a:moveTo>
                <a:arcTo wR="10800" hR="10800" stAng="-2821487" swAng="1182350"/>
                <a:lnTo>
                  <a:pt x="10800" y="10800"/>
                </a:lnTo>
                <a:close/>
              </a:path>
              <a:path fill="none" w="21600" h="21600">
                <a:moveTo>
                  <a:pt x="18162" y="2898"/>
                </a:moveTo>
                <a:arcTo wR="10800" hR="10800" stAng="-2821487" swAng="118235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720" y="259920"/>
            <a:ext cx="4317480" cy="43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6"/>
                </a:moveTo>
                <a:arcTo wR="10800" hR="10800" stAng="5236" swAng="1086067"/>
                <a:lnTo>
                  <a:pt x="10800" y="10800"/>
                </a:lnTo>
                <a:close/>
              </a:path>
              <a:path fill="none" w="21600" h="21600">
                <a:moveTo>
                  <a:pt x="21600" y="10816"/>
                </a:moveTo>
                <a:arcTo wR="10800" hR="10800" stAng="5236" swAng="108606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4520" y="-603360"/>
            <a:ext cx="4317480" cy="431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549" swAng="1308355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549" swAng="130835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961080" y="930960"/>
            <a:ext cx="1992600" cy="549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75040" y="-531000"/>
            <a:ext cx="4317840" cy="43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22" y="17968"/>
                </a:moveTo>
                <a:arcTo wR="10800" hR="10800" stAng="8304864" swAng="1173377"/>
                <a:lnTo>
                  <a:pt x="10800" y="10800"/>
                </a:lnTo>
                <a:close/>
              </a:path>
              <a:path fill="none" w="21600" h="21600">
                <a:moveTo>
                  <a:pt x="2722" y="17968"/>
                </a:moveTo>
                <a:arcTo wR="10800" hR="10800" stAng="8304864" swAng="117337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1280" y="765000"/>
            <a:ext cx="50472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18680" y="1103040"/>
            <a:ext cx="1680840" cy="1275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45480" y="1541880"/>
            <a:ext cx="1166400" cy="17582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89440" y="474480"/>
            <a:ext cx="3060360" cy="30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0" y="18947"/>
                </a:moveTo>
                <a:arcTo wR="10800" hR="10800" stAng="2938028" swAng="858557"/>
                <a:lnTo>
                  <a:pt x="10800" y="10800"/>
                </a:lnTo>
                <a:close/>
              </a:path>
              <a:path fill="none" w="21600" h="21600">
                <a:moveTo>
                  <a:pt x="17890" y="18947"/>
                </a:moveTo>
                <a:arcTo wR="10800" hR="10800" stAng="2938028" swAng="85855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196240" y="5195160"/>
            <a:ext cx="1704240" cy="1228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33800" y="4004640"/>
            <a:ext cx="3057480" cy="30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48" y="17997"/>
                </a:moveTo>
                <a:arcTo wR="10800" hR="10800" stAng="8292623" swAng="933747"/>
                <a:lnTo>
                  <a:pt x="10800" y="10800"/>
                </a:lnTo>
                <a:close/>
              </a:path>
              <a:path fill="none" w="21600" h="21600">
                <a:moveTo>
                  <a:pt x="2748" y="17997"/>
                </a:moveTo>
                <a:arcTo wR="10800" hR="10800" stAng="8292623" swAng="93374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87120" y="4401360"/>
            <a:ext cx="1251360" cy="1739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89440" y="4150800"/>
            <a:ext cx="3060000" cy="305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4" y="2522"/>
                </a:moveTo>
                <a:arcTo wR="10800" hR="10800" stAng="-7797463" swAng="887005"/>
                <a:lnTo>
                  <a:pt x="10800" y="10800"/>
                </a:lnTo>
                <a:close/>
              </a:path>
              <a:path fill="none" w="21600" h="21600">
                <a:moveTo>
                  <a:pt x="3864" y="2522"/>
                </a:moveTo>
                <a:arcTo wR="10800" hR="10800" stAng="-7797463" swAng="8870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195640" y="1123560"/>
            <a:ext cx="1728720" cy="12970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4360" y="1123920"/>
            <a:ext cx="2087640" cy="360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2000" y="1484280"/>
            <a:ext cx="1152360" cy="1800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877080" y="3284280"/>
            <a:ext cx="287280" cy="18730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219640" y="5157360"/>
            <a:ext cx="1657440" cy="12956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6165720"/>
            <a:ext cx="2087640" cy="2876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08000" y="4365720"/>
            <a:ext cx="1224000" cy="1800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07640" y="2421000"/>
            <a:ext cx="287640" cy="1944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5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9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8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5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 flipV="1">
            <a:off x="4566240" y="2396880"/>
            <a:ext cx="2313720" cy="13935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35280" y="1052640"/>
            <a:ext cx="5398920" cy="5459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00720" y="98100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пяти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836640"/>
            <a:ext cx="0" cy="583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95400" y="1098000"/>
            <a:ext cx="1819800" cy="2601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28760" y="-2187360"/>
            <a:ext cx="648000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98" y="18375"/>
                </a:moveTo>
                <a:arcTo wR="10800" hR="10800" stAng="2672349" swAng="5443748"/>
                <a:lnTo>
                  <a:pt x="10800" y="10800"/>
                </a:lnTo>
                <a:close/>
              </a:path>
              <a:path fill="none" w="21600" h="21600">
                <a:moveTo>
                  <a:pt x="18498" y="18375"/>
                </a:moveTo>
                <a:arcTo wR="10800" hR="10800" stAng="2672349" swAng="544374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33800" y="-2188440"/>
            <a:ext cx="6478920" cy="64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07" y="19018"/>
                </a:moveTo>
                <a:arcTo wR="10800" hR="10800" stAng="2972751" swAng="734084"/>
                <a:lnTo>
                  <a:pt x="10800" y="10800"/>
                </a:lnTo>
                <a:close/>
              </a:path>
              <a:path fill="none" w="21600" h="21600">
                <a:moveTo>
                  <a:pt x="17807" y="19018"/>
                </a:moveTo>
                <a:arcTo wR="10800" hR="10800" stAng="2972751" swAng="73408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1640" y="-2189160"/>
            <a:ext cx="648036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8" y="20484"/>
                </a:moveTo>
                <a:arcTo wR="10800" hR="10800" stAng="6976812" swAng="898223"/>
                <a:lnTo>
                  <a:pt x="10800" y="10800"/>
                </a:lnTo>
                <a:close/>
              </a:path>
              <a:path fill="none" w="21600" h="21600">
                <a:moveTo>
                  <a:pt x="6018" y="20484"/>
                </a:moveTo>
                <a:arcTo wR="10800" hR="10800" stAng="6976812" swAng="898223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24080" y="3213000"/>
            <a:ext cx="6478560" cy="64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88" y="2945"/>
                </a:moveTo>
                <a:arcTo wR="10800" hR="10800" stAng="-8000372" swAng="5093060"/>
                <a:lnTo>
                  <a:pt x="10800" y="10800"/>
                </a:lnTo>
                <a:close/>
              </a:path>
              <a:path fill="none" w="21600" h="21600">
                <a:moveTo>
                  <a:pt x="3388" y="2945"/>
                </a:moveTo>
                <a:arcTo wR="10800" hR="10800" stAng="-8000372" swAng="509306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0880" y="3197880"/>
            <a:ext cx="6474960" cy="647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54" y="2447"/>
                </a:moveTo>
                <a:arcTo wR="10800" hR="10800" stAng="-7760313" swAng="687639"/>
                <a:lnTo>
                  <a:pt x="10800" y="10800"/>
                </a:lnTo>
                <a:close/>
              </a:path>
              <a:path fill="none" w="21600" h="21600">
                <a:moveTo>
                  <a:pt x="3954" y="2447"/>
                </a:moveTo>
                <a:arcTo wR="10800" hR="10800" stAng="-7760313" swAng="687639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68000" y="3242880"/>
            <a:ext cx="6480720" cy="647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12" y="1341"/>
                </a:moveTo>
                <a:arcTo wR="10800" hR="10800" stAng="-3668630" swAng="502370"/>
                <a:lnTo>
                  <a:pt x="10800" y="10800"/>
                </a:lnTo>
                <a:close/>
              </a:path>
              <a:path fill="none" w="21600" h="21600">
                <a:moveTo>
                  <a:pt x="16012" y="1341"/>
                </a:moveTo>
                <a:arcTo wR="10800" hR="10800" stAng="-3668630" swAng="50237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85680" y="3566520"/>
            <a:ext cx="1469880" cy="2966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3789360"/>
            <a:ext cx="669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371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26160" y="2278440"/>
            <a:ext cx="3060360" cy="3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4" y="17618"/>
                </a:moveTo>
                <a:arcTo wR="10800" hR="10800" stAng="8451266" swAng="4901787"/>
                <a:lnTo>
                  <a:pt x="10800" y="10800"/>
                </a:lnTo>
                <a:close/>
              </a:path>
              <a:path fill="none" w="21600" h="21600">
                <a:moveTo>
                  <a:pt x="2424" y="17618"/>
                </a:moveTo>
                <a:arcTo wR="10800" hR="10800" stAng="8451266" swAng="490178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1640" y="2261160"/>
            <a:ext cx="3060360" cy="30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32" y="3158"/>
                </a:moveTo>
                <a:arcTo wR="10800" hR="10800" stAng="-2702256" swAng="5060724"/>
                <a:lnTo>
                  <a:pt x="10800" y="10800"/>
                </a:lnTo>
                <a:close/>
              </a:path>
              <a:path fill="none" w="21600" h="21600">
                <a:moveTo>
                  <a:pt x="18432" y="3158"/>
                </a:moveTo>
                <a:arcTo wR="10800" hR="10800" stAng="-2702256" swAng="506072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592520" y="2738520"/>
            <a:ext cx="1109880" cy="1039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128640" y="2761200"/>
            <a:ext cx="1126440" cy="10558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40360" y="263700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867280" y="3716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4606560" y="1119960"/>
            <a:ext cx="1366920" cy="26798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43280" y="705960"/>
            <a:ext cx="6117480" cy="61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" y="12408"/>
                </a:moveTo>
                <a:arcTo wR="10800" hR="10800" stAng="10286189" swAng="4904523"/>
                <a:lnTo>
                  <a:pt x="10800" y="10800"/>
                </a:lnTo>
                <a:close/>
              </a:path>
              <a:path fill="none" w="21600" h="21600">
                <a:moveTo>
                  <a:pt x="120" y="12408"/>
                </a:moveTo>
                <a:arcTo wR="10800" hR="10800" stAng="10286189" swAng="490452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71640" y="3716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20240" y="1009080"/>
            <a:ext cx="1699560" cy="27486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35240" y="-2187360"/>
            <a:ext cx="647856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095" y="16300"/>
                </a:moveTo>
                <a:arcTo wR="10800" hR="10800" stAng="1836837" swAng="7174756"/>
                <a:lnTo>
                  <a:pt x="10800" y="10800"/>
                </a:lnTo>
                <a:close/>
              </a:path>
              <a:path fill="none" w="21600" h="21600">
                <a:moveTo>
                  <a:pt x="20095" y="16300"/>
                </a:moveTo>
                <a:arcTo wR="10800" hR="10800" stAng="1836837" swAng="71747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68840" y="1001520"/>
            <a:ext cx="2656800" cy="19641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32720" y="-2187360"/>
            <a:ext cx="647820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8" y="16603"/>
                </a:moveTo>
                <a:arcTo wR="10800" hR="10800" stAng="1950097" swAng="516182"/>
                <a:lnTo>
                  <a:pt x="10800" y="10800"/>
                </a:lnTo>
                <a:close/>
              </a:path>
              <a:path fill="none" w="21600" h="21600">
                <a:moveTo>
                  <a:pt x="19908" y="16603"/>
                </a:moveTo>
                <a:arcTo wR="10800" hR="10800" stAng="1950097" swAng="51618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33080" y="-2192760"/>
            <a:ext cx="6477840" cy="64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82" y="17807"/>
                </a:moveTo>
                <a:arcTo wR="10800" hR="10800" stAng="8372761" swAng="541082"/>
                <a:lnTo>
                  <a:pt x="10800" y="10800"/>
                </a:lnTo>
                <a:close/>
              </a:path>
              <a:path fill="none" w="21600" h="21600">
                <a:moveTo>
                  <a:pt x="2582" y="17807"/>
                </a:moveTo>
                <a:arcTo wR="10800" hR="10800" stAng="8372761" swAng="541082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1260360" y="-235440"/>
            <a:ext cx="6479640" cy="647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05" y="3336"/>
                </a:moveTo>
                <a:arcTo wR="10800" hR="10800" stAng="-2623268" swAng="7415519"/>
                <a:lnTo>
                  <a:pt x="10800" y="10800"/>
                </a:lnTo>
                <a:close/>
              </a:path>
              <a:path fill="none" w="21600" h="21600">
                <a:moveTo>
                  <a:pt x="18605" y="3336"/>
                </a:moveTo>
                <a:arcTo wR="10800" hR="10800" stAng="-2623268" swAng="74155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-1260360" y="-243720"/>
            <a:ext cx="6480000" cy="647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1" y="20711"/>
                </a:moveTo>
                <a:arcTo wR="10800" hR="10800" stAng="3995439" swAng="530204"/>
                <a:lnTo>
                  <a:pt x="10800" y="10800"/>
                </a:lnTo>
                <a:close/>
              </a:path>
              <a:path fill="none" w="21600" h="21600">
                <a:moveTo>
                  <a:pt x="15091" y="20711"/>
                </a:moveTo>
                <a:arcTo wR="10800" hR="10800" stAng="3995439" swAng="53020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4880" y="1042920"/>
            <a:ext cx="2570040" cy="199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4360" y="-243360"/>
            <a:ext cx="6479640" cy="647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67" y="21491"/>
                </a:moveTo>
                <a:arcTo wR="10800" hR="10800" stAng="5889539" swAng="7505674"/>
                <a:lnTo>
                  <a:pt x="10800" y="10800"/>
                </a:lnTo>
                <a:close/>
              </a:path>
              <a:path fill="none" w="21600" h="21600">
                <a:moveTo>
                  <a:pt x="9267" y="21491"/>
                </a:moveTo>
                <a:arcTo wR="10800" hR="10800" stAng="5889539" swAng="75056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23280" y="-244080"/>
            <a:ext cx="6481800" cy="64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85" y="21141"/>
                </a:moveTo>
                <a:arcTo wR="10800" hR="10800" stAng="6405822" swAng="492557"/>
                <a:lnTo>
                  <a:pt x="10800" y="10800"/>
                </a:lnTo>
                <a:close/>
              </a:path>
              <a:path fill="none" w="21600" h="21600">
                <a:moveTo>
                  <a:pt x="7685" y="21141"/>
                </a:moveTo>
                <a:arcTo wR="10800" hR="10800" stAng="6405822" swAng="49255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79640" y="1052640"/>
            <a:ext cx="2592360" cy="1944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1052640"/>
            <a:ext cx="2521080" cy="1944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84360" y="2997360"/>
            <a:ext cx="1008360" cy="30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21360"/>
            <a:ext cx="3097080" cy="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79640" y="2997360"/>
            <a:ext cx="1008000" cy="302400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77080" y="620640"/>
            <a:ext cx="19908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66"/>
                </a:solidFill>
                <a:latin typeface="Monotype Corsiva"/>
              </a:rPr>
              <a:t>по Птолемею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cc66"/>
              </a:solidFill>
              <a:latin typeface="Monotype Corsiva"/>
              <a:ea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500"/>
                            </p:stCondLst>
                            <p:childTnLst>
                              <p:par>
                                <p:cTn id="18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6500"/>
                            </p:stCondLst>
                            <p:childTnLst>
                              <p:par>
                                <p:cTn id="1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8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9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36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0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40000"/>
                            </p:stCondLst>
                            <p:childTnLst>
                              <p:par>
                                <p:cTn id="20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01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48500"/>
                            </p:stCondLst>
                            <p:childTnLst>
                              <p:par>
                                <p:cTn id="20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0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49500"/>
                            </p:stCondLst>
                            <p:childTnLst>
                              <p:par>
                                <p:cTn id="203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20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4000"/>
                            </p:stCondLst>
                            <p:childTnLst>
                              <p:par>
                                <p:cTn id="2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54500"/>
                            </p:stCondLst>
                            <p:childTnLst>
                              <p:par>
                                <p:cTn id="20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5650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56500"/>
                            </p:stCondLst>
                            <p:childTnLst>
                              <p:par>
                                <p:cTn id="205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9500"/>
                            </p:stCondLst>
                            <p:childTnLst>
                              <p:par>
                                <p:cTn id="20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61500"/>
                            </p:stCondLst>
                            <p:childTnLst>
                              <p:par>
                                <p:cTn id="20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62500"/>
                            </p:stCondLst>
                            <p:childTnLst>
                              <p:par>
                                <p:cTn id="206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64500"/>
                            </p:stCondLst>
                            <p:childTnLst>
                              <p:par>
                                <p:cTn id="20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645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68500"/>
                            </p:stCondLst>
                            <p:childTnLst>
                              <p:par>
                                <p:cTn id="20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70500"/>
                            </p:stCondLst>
                            <p:childTnLst>
                              <p:par>
                                <p:cTn id="208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0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5111640" y="189000"/>
            <a:ext cx="3816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равильный пятиугольник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4149720"/>
            <a:ext cx="2519280" cy="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77080" y="620640"/>
            <a:ext cx="19908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66"/>
                </a:solidFill>
                <a:latin typeface="Monotype Corsiva"/>
              </a:rPr>
              <a:t>по Дюреру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cc66"/>
              </a:solidFill>
              <a:latin typeface="Monotype Corsiva"/>
              <a:ea typeface="Monotype Corsiva"/>
            </a:endParaRPr>
          </a:p>
        </p:txBody>
      </p:sp>
      <p:sp>
        <p:nvSpPr>
          <p:cNvPr id="525" name=""/>
          <p:cNvSpPr/>
          <p:nvPr/>
        </p:nvSpPr>
        <p:spPr>
          <a:xfrm>
            <a:off x="792000" y="162864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1628640"/>
            <a:ext cx="5038560" cy="503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364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5928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00720" y="623736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557360"/>
            <a:ext cx="0" cy="50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7400" y="3795840"/>
            <a:ext cx="5038200" cy="50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" y="12842"/>
                </a:moveTo>
                <a:arcTo wR="10800" hR="10800" stAng="10146219" swAng="12110717"/>
                <a:lnTo>
                  <a:pt x="10800" y="10800"/>
                </a:lnTo>
                <a:close/>
              </a:path>
              <a:path fill="none" w="21600" h="21600">
                <a:moveTo>
                  <a:pt x="195" y="12842"/>
                </a:moveTo>
                <a:arcTo wR="10800" hR="10800" stAng="10146219" swAng="121107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3280320" y="4128120"/>
            <a:ext cx="1284120" cy="21841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0072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79640" y="6273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511280" y="1375920"/>
            <a:ext cx="5437080" cy="548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20000" y="6237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2158560" y="1341360"/>
            <a:ext cx="5473800" cy="551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66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84360" y="166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80" y="-710280"/>
            <a:ext cx="5036400" cy="503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20" y="3680"/>
                </a:moveTo>
                <a:arcTo wR="10800" hR="10800" stAng="-2474759" swAng="995438"/>
                <a:lnTo>
                  <a:pt x="10800" y="10800"/>
                </a:lnTo>
                <a:close/>
              </a:path>
              <a:path fill="none" w="21600" h="21600">
                <a:moveTo>
                  <a:pt x="18920" y="3680"/>
                </a:moveTo>
                <a:arcTo wR="10800" hR="10800" stAng="-2474759" swAng="9954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584080" y="213840"/>
            <a:ext cx="1856880" cy="149760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746960" y="142560"/>
            <a:ext cx="1814760" cy="1562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07600" y="-745920"/>
            <a:ext cx="5036760" cy="50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6250"/>
                </a:moveTo>
                <a:arcTo wR="10800" hR="10800" stAng="-9304993" swAng="930218"/>
                <a:lnTo>
                  <a:pt x="10800" y="10800"/>
                </a:lnTo>
                <a:close/>
              </a:path>
              <a:path fill="none" w="21600" h="21600">
                <a:moveTo>
                  <a:pt x="1005" y="6250"/>
                </a:moveTo>
                <a:arcTo wR="10800" hR="10800" stAng="-9304993" swAng="93021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1700280"/>
            <a:ext cx="720720" cy="2449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519280" y="333360"/>
            <a:ext cx="2052720" cy="14032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333360"/>
            <a:ext cx="2016000" cy="140328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832000" y="1700280"/>
            <a:ext cx="755640" cy="2449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fill="hold">
                      <p:stCondLst>
                        <p:cond delay="0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0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1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4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1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2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4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6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17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34500"/>
                            </p:stCondLst>
                            <p:childTnLst>
                              <p:par>
                                <p:cTn id="21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36500"/>
                            </p:stCondLst>
                            <p:childTnLst>
                              <p:par>
                                <p:cTn id="21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7500"/>
                            </p:stCondLst>
                            <p:childTnLst>
                              <p:par>
                                <p:cTn id="218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9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24360" cy="40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1665360"/>
            <a:ext cx="805824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549360"/>
            <a:ext cx="3524040" cy="40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03280" y="907920"/>
            <a:ext cx="3524040" cy="4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84360" y="1268280"/>
            <a:ext cx="312408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042920" y="2023920"/>
            <a:ext cx="8101080" cy="4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150920" y="2384280"/>
            <a:ext cx="5791320" cy="4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332000" y="2744640"/>
            <a:ext cx="3124080" cy="4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1511280" y="3105000"/>
            <a:ext cx="3657600" cy="40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1692360" y="3465360"/>
            <a:ext cx="379080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1979640" y="4184640"/>
            <a:ext cx="3448080" cy="3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158920" y="4545000"/>
            <a:ext cx="3714840" cy="371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2303640" y="4905360"/>
            <a:ext cx="4381200" cy="3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484360" y="5265720"/>
            <a:ext cx="3981600" cy="37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664000" y="5624640"/>
            <a:ext cx="3848040" cy="37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2808360" y="5985000"/>
            <a:ext cx="4248000" cy="3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2987640" y="6308640"/>
            <a:ext cx="4381560" cy="37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endshow"/>
          </p:cNvPr>
          <p:cNvPicPr/>
          <p:nvPr/>
        </p:nvPicPr>
        <p:blipFill>
          <a:blip r:embed="rId19"/>
          <a:stretch/>
        </p:blipFill>
        <p:spPr>
          <a:xfrm>
            <a:off x="7667640" y="6308640"/>
            <a:ext cx="1143000" cy="39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1720"/>
            <a:ext cx="9144000" cy="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0"/>
          <a:stretch/>
        </p:blipFill>
        <p:spPr>
          <a:xfrm>
            <a:off x="6912000" y="2781360"/>
            <a:ext cx="212580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1"/>
          <a:stretch/>
        </p:blipFill>
        <p:spPr>
          <a:xfrm rot="6452400">
            <a:off x="-533160" y="2754000"/>
            <a:ext cx="3709800" cy="37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859280" y="152280"/>
          <a:ext cx="3780000" cy="1630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859280" y="152280"/>
                    <a:ext cx="37800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  &lt;&lt;  Геометрические построения  &gt;&gt;        7 класс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119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341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164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9640" y="1700280"/>
            <a:ext cx="7848720" cy="3889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03280" y="414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21125400">
            <a:off x="-1385280" y="-1706400"/>
            <a:ext cx="4609800" cy="55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17" y="7021"/>
                </a:moveTo>
                <a:arcTo wR="10800" hR="10800" stAng="-1229026" swAng="1360486"/>
                <a:lnTo>
                  <a:pt x="10800" y="10800"/>
                </a:lnTo>
                <a:close/>
              </a:path>
              <a:path fill="none" w="21600" h="21600">
                <a:moveTo>
                  <a:pt x="20917" y="7021"/>
                </a:moveTo>
                <a:arcTo wR="10800" hR="10800" stAng="-1229026" swAng="13604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9486200">
            <a:off x="-191520" y="1929240"/>
            <a:ext cx="4609800" cy="556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99" y="5481"/>
                </a:moveTo>
                <a:arcTo wR="10800" hR="10800" stAng="-1770439" swAng="1901899"/>
                <a:lnTo>
                  <a:pt x="10800" y="10800"/>
                </a:lnTo>
                <a:close/>
              </a:path>
              <a:path fill="none" w="21600" h="21600">
                <a:moveTo>
                  <a:pt x="20199" y="5481"/>
                </a:moveTo>
                <a:arcTo wR="10800" hR="10800" stAng="-1770439" swAng="190189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76720" y="3716280"/>
            <a:ext cx="698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40360" y="299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27280" y="3752640"/>
            <a:ext cx="2484360" cy="12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21419400">
            <a:off x="1042920" y="5121360"/>
            <a:ext cx="5256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Отрезок А'B' равен отрезку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1655640" y="49417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строение равного отрезк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66480" y="763920"/>
            <a:ext cx="2842200" cy="4183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0405E-006 L 0.14704 0.56232 E">
                                      <p:cBhvr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684000" y="1700280"/>
            <a:ext cx="216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24000" y="620280"/>
            <a:ext cx="251928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3280" y="2276640"/>
            <a:ext cx="7416720" cy="396072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560" y="334440"/>
            <a:ext cx="2806200" cy="280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65" y="2631"/>
                </a:moveTo>
                <a:arcTo wR="10800" hR="10800" stAng="-2948776" swAng="5792659"/>
                <a:lnTo>
                  <a:pt x="10800" y="10800"/>
                </a:lnTo>
                <a:close/>
              </a:path>
              <a:path fill="none" w="21600" h="21600">
                <a:moveTo>
                  <a:pt x="17865" y="2631"/>
                </a:moveTo>
                <a:arcTo wR="10800" hR="10800" stAng="-2948776" swAng="5792659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20360" y="3790800"/>
            <a:ext cx="2806560" cy="280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19"/>
                </a:moveTo>
                <a:arcTo wR="10800" hR="10800" stAng="-10646719" swAng="6332658"/>
                <a:lnTo>
                  <a:pt x="10800" y="10800"/>
                </a:lnTo>
                <a:close/>
              </a:path>
              <a:path fill="none" w="21600" h="21600">
                <a:moveTo>
                  <a:pt x="11" y="10319"/>
                </a:moveTo>
                <a:arcTo wR="10800" hR="10800" stAng="-10646719" swAng="633265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0800" y="1125360"/>
            <a:ext cx="2805120" cy="280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65" y="1586"/>
                </a:moveTo>
                <a:arcTo wR="10800" hR="10800" stAng="-7286876" swAng="4942311"/>
                <a:lnTo>
                  <a:pt x="10800" y="10800"/>
                </a:lnTo>
                <a:close/>
              </a:path>
              <a:path fill="none" w="21600" h="21600">
                <a:moveTo>
                  <a:pt x="5165" y="1586"/>
                </a:moveTo>
                <a:arcTo wR="10800" hR="10800" stAng="-7286876" swAng="4942311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71640" y="3359160"/>
            <a:ext cx="2805480" cy="28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98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9834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87640" y="907560"/>
            <a:ext cx="432000" cy="446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87640" y="2997000"/>
            <a:ext cx="4464000" cy="2376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1557360"/>
            <a:ext cx="1297080" cy="287280"/>
          </a:xfrm>
          <a:prstGeom prst="leftArrow">
            <a:avLst>
              <a:gd name="adj1" fmla="val 50000"/>
              <a:gd name="adj2" fmla="val 11287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653400">
            <a:off x="2736000" y="4599360"/>
            <a:ext cx="1476360" cy="277920"/>
          </a:xfrm>
          <a:prstGeom prst="rightArrow">
            <a:avLst>
              <a:gd name="adj1" fmla="val 50000"/>
              <a:gd name="adj2" fmla="val 1328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374400">
            <a:off x="1474560" y="1190160"/>
            <a:ext cx="287280" cy="1325520"/>
          </a:xfrm>
          <a:prstGeom prst="upArrow">
            <a:avLst>
              <a:gd name="adj1" fmla="val 50000"/>
              <a:gd name="adj2" fmla="val 115351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37000">
            <a:off x="2987280" y="4076640"/>
            <a:ext cx="1440000" cy="336600"/>
          </a:xfrm>
          <a:prstGeom prst="leftArrow">
            <a:avLst>
              <a:gd name="adj1" fmla="val 50000"/>
              <a:gd name="adj2" fmla="val 106952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43280" y="1052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11280" y="5300640"/>
            <a:ext cx="39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'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76720" y="5300640"/>
            <a:ext cx="4579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Угол А' равен углу А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строение равного угла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30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9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2627280" y="2997000"/>
            <a:ext cx="3673440" cy="647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21221400">
            <a:off x="-3240" y="980280"/>
            <a:ext cx="5401800" cy="54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37"/>
                </a:moveTo>
                <a:arcTo wR="10800" hR="10800" stAng="10788199" swAng="21437856"/>
                <a:lnTo>
                  <a:pt x="10800" y="10800"/>
                </a:lnTo>
                <a:close/>
              </a:path>
              <a:path fill="none" w="21600" h="21600">
                <a:moveTo>
                  <a:pt x="0" y="10837"/>
                </a:moveTo>
                <a:arcTo wR="10800" hR="10800" stAng="10788199" swAng="21437856"/>
              </a:path>
            </a:pathLst>
          </a:custGeom>
          <a:noFill/>
          <a:ln w="6480">
            <a:solidFill>
              <a:srgbClr val="0000e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 rot="9999000">
            <a:off x="3708360" y="403200"/>
            <a:ext cx="5435640" cy="54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14"/>
                </a:moveTo>
                <a:arcTo wR="10800" hR="10800" stAng="-10645225" swAng="21372782"/>
                <a:lnTo>
                  <a:pt x="10800" y="10800"/>
                </a:lnTo>
                <a:close/>
              </a:path>
              <a:path fill="none" w="21600" h="21600">
                <a:moveTo>
                  <a:pt x="11" y="10314"/>
                </a:moveTo>
                <a:arcTo wR="10800" hR="10800" stAng="-10645225" swAng="21372782"/>
              </a:path>
            </a:pathLst>
          </a:custGeom>
          <a:noFill/>
          <a:ln w="6480">
            <a:solidFill>
              <a:srgbClr val="0000e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8129600">
            <a:off x="-83880" y="912600"/>
            <a:ext cx="5473080" cy="55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17" y="7021"/>
                </a:moveTo>
                <a:arcTo wR="10800" hR="10800" stAng="-1229026" swAng="1360486"/>
                <a:lnTo>
                  <a:pt x="10800" y="10800"/>
                </a:lnTo>
                <a:close/>
              </a:path>
              <a:path fill="none" w="21600" h="21600">
                <a:moveTo>
                  <a:pt x="20917" y="7021"/>
                </a:moveTo>
                <a:arcTo wR="10800" hR="10800" stAng="-1229026" swAng="13604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 rot="1413000">
            <a:off x="-37440" y="820800"/>
            <a:ext cx="5473440" cy="55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17" y="7021"/>
                </a:moveTo>
                <a:arcTo wR="10800" hR="10800" stAng="-1229026" swAng="1360486"/>
                <a:lnTo>
                  <a:pt x="10800" y="10800"/>
                </a:lnTo>
                <a:close/>
              </a:path>
              <a:path fill="none" w="21600" h="21600">
                <a:moveTo>
                  <a:pt x="20917" y="7021"/>
                </a:moveTo>
                <a:arcTo wR="10800" hR="10800" stAng="-1229026" swAng="13604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2424800">
            <a:off x="3684960" y="359280"/>
            <a:ext cx="5473080" cy="55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17" y="7021"/>
                </a:moveTo>
                <a:arcTo wR="10800" hR="10800" stAng="-1229026" swAng="1360486"/>
                <a:lnTo>
                  <a:pt x="10800" y="10800"/>
                </a:lnTo>
                <a:close/>
              </a:path>
              <a:path fill="none" w="21600" h="21600">
                <a:moveTo>
                  <a:pt x="20917" y="7021"/>
                </a:moveTo>
                <a:arcTo wR="10800" hR="10800" stAng="-1229026" swAng="13604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6864600">
            <a:off x="3730680" y="300240"/>
            <a:ext cx="5473080" cy="55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17" y="7021"/>
                </a:moveTo>
                <a:arcTo wR="10800" hR="10800" stAng="-1229026" swAng="1360486"/>
                <a:lnTo>
                  <a:pt x="10800" y="10800"/>
                </a:lnTo>
                <a:close/>
              </a:path>
              <a:path fill="none" w="21600" h="21600">
                <a:moveTo>
                  <a:pt x="20917" y="7021"/>
                </a:moveTo>
                <a:arcTo wR="10800" hR="10800" stAng="-1229026" swAng="1360486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76720" y="1413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5229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03640" y="549360"/>
            <a:ext cx="936720" cy="5904000"/>
          </a:xfrm>
          <a:prstGeom prst="line">
            <a:avLst/>
          </a:prstGeom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11280" y="292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56360" y="227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328464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924280"/>
            <a:ext cx="71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21300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67280" y="2708280"/>
            <a:ext cx="3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348000" y="3645000"/>
            <a:ext cx="55404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очка О - середина отрезка АВ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720" y="5229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708360" y="1341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D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5805360"/>
            <a:ext cx="55404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CD - серединный перпендикуляр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Деление отрезка попо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500"/>
                            </p:stCondLst>
                            <p:childTnLst>
                              <p:par>
                                <p:cTn id="1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H="1">
            <a:off x="1042920" y="620640"/>
            <a:ext cx="3097440" cy="532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292640"/>
            <a:ext cx="7058160" cy="165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1692360" y="2060640"/>
            <a:ext cx="7196760" cy="719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5" y="13471"/>
                </a:moveTo>
                <a:arcTo wR="10800" hR="10800" stAng="9941040" swAng="7365567"/>
                <a:lnTo>
                  <a:pt x="10800" y="10800"/>
                </a:lnTo>
                <a:close/>
              </a:path>
              <a:path fill="none" w="21600" h="21600">
                <a:moveTo>
                  <a:pt x="335" y="13471"/>
                </a:moveTo>
                <a:arcTo wR="10800" hR="10800" stAng="9941040" swAng="7365567"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52600">
            <a:off x="630360" y="4498560"/>
            <a:ext cx="4392360" cy="274680"/>
          </a:xfrm>
          <a:prstGeom prst="rightArrow">
            <a:avLst>
              <a:gd name="adj1" fmla="val 50000"/>
              <a:gd name="adj2" fmla="val 399771"/>
            </a:avLst>
          </a:prstGeom>
          <a:solidFill>
            <a:srgbClr val="008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-1695240" y="2046960"/>
            <a:ext cx="7204680" cy="71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31" y="1264"/>
                </a:moveTo>
                <a:arcTo wR="10800" hR="10800" stAng="-7079560" swAng="922050"/>
                <a:lnTo>
                  <a:pt x="10800" y="10800"/>
                </a:lnTo>
                <a:close/>
              </a:path>
              <a:path fill="none" w="21600" h="21600">
                <a:moveTo>
                  <a:pt x="5731" y="1264"/>
                </a:moveTo>
                <a:arcTo wR="10800" hR="10800" stAng="-7079560" swAng="92205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-1693800" y="2024640"/>
            <a:ext cx="7201800" cy="719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" y="10412"/>
                </a:moveTo>
                <a:arcTo wR="10800" hR="10800" stAng="-10676483" swAng="1029947"/>
                <a:lnTo>
                  <a:pt x="10800" y="10800"/>
                </a:lnTo>
                <a:close/>
              </a:path>
              <a:path fill="none" w="21600" h="21600">
                <a:moveTo>
                  <a:pt x="7" y="10412"/>
                </a:moveTo>
                <a:arcTo wR="10800" hR="10800" stAng="-10676483" swAng="10299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924360" y="2708280"/>
            <a:ext cx="1511280" cy="2160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77400">
            <a:off x="2670480" y="2291760"/>
            <a:ext cx="5399280" cy="55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32" y="1733"/>
                </a:moveTo>
                <a:arcTo wR="10800" hR="10800" stAng="-7374786" swAng="7617875"/>
                <a:lnTo>
                  <a:pt x="10800" y="10800"/>
                </a:lnTo>
                <a:close/>
              </a:path>
              <a:path fill="none" w="21600" h="21600">
                <a:moveTo>
                  <a:pt x="4932" y="1733"/>
                </a:moveTo>
                <a:arcTo wR="10800" hR="10800" stAng="-7374786" swAng="76178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345000">
            <a:off x="464760" y="-598680"/>
            <a:ext cx="5399640" cy="539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87" y="21022"/>
                </a:moveTo>
                <a:arcTo wR="10800" hR="10800" stAng="4269774" swAng="7625970"/>
                <a:lnTo>
                  <a:pt x="10800" y="10800"/>
                </a:lnTo>
                <a:close/>
              </a:path>
              <a:path fill="none" w="21600" h="21600">
                <a:moveTo>
                  <a:pt x="14287" y="21022"/>
                </a:moveTo>
                <a:arcTo wR="10800" hR="10800" stAng="4269774" swAng="76259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2276640"/>
            <a:ext cx="1873080" cy="1728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16000" y="765000"/>
            <a:ext cx="6842160" cy="511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19640" y="620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57340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81200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latin typeface="Arial"/>
              </a:rPr>
              <a:t>С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33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20000" y="4046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D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20862600">
            <a:off x="1258920" y="5444640"/>
            <a:ext cx="568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D биссектриса угла АВ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Деление угла пополам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30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964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98900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42100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9280" y="1989000"/>
            <a:ext cx="396108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3780000" y="-1555920"/>
            <a:ext cx="7918200" cy="79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18" y="9471"/>
                </a:moveTo>
                <a:arcTo wR="10800" hR="10800" stAng="-424232" swAng="801008"/>
                <a:lnTo>
                  <a:pt x="10800" y="10800"/>
                </a:lnTo>
                <a:close/>
              </a:path>
              <a:path fill="none" w="21600" h="21600">
                <a:moveTo>
                  <a:pt x="21518" y="9471"/>
                </a:moveTo>
                <a:arcTo wR="10800" hR="10800" stAng="-424232" swAng="801008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2808000" y="-1020600"/>
            <a:ext cx="6117480" cy="61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9105"/>
                </a:moveTo>
                <a:arcTo wR="10800" hR="10800" stAng="-541872" swAng="922106"/>
                <a:lnTo>
                  <a:pt x="10800" y="10800"/>
                </a:lnTo>
                <a:close/>
              </a:path>
              <a:path fill="none" w="21600" h="21600">
                <a:moveTo>
                  <a:pt x="21466" y="9105"/>
                </a:moveTo>
                <a:arcTo wR="10800" hR="10800" stAng="-541872" swAng="92210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0920" y="162828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140360" y="5157720"/>
            <a:ext cx="3744720" cy="966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560" y="2127960"/>
            <a:ext cx="7921080" cy="79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18" y="6300"/>
                </a:moveTo>
                <a:arcTo wR="10800" hR="10800" stAng="-1477445" swAng="944056"/>
                <a:lnTo>
                  <a:pt x="10800" y="10800"/>
                </a:lnTo>
                <a:close/>
              </a:path>
              <a:path fill="none" w="21600" h="21600">
                <a:moveTo>
                  <a:pt x="20618" y="6300"/>
                </a:moveTo>
                <a:arcTo wR="10800" hR="10800" stAng="-1477445" swAng="944056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560" y="2198520"/>
            <a:ext cx="7921440" cy="791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2" y="6981"/>
                </a:moveTo>
                <a:arcTo wR="10800" hR="10800" stAng="-1242490" swAng="336686"/>
                <a:lnTo>
                  <a:pt x="10800" y="10800"/>
                </a:lnTo>
                <a:close/>
              </a:path>
              <a:path fill="none" w="21600" h="21600">
                <a:moveTo>
                  <a:pt x="20902" y="6981"/>
                </a:moveTo>
                <a:arcTo wR="10800" hR="10800" stAng="-1242490" swAng="3366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13040" y="2963880"/>
            <a:ext cx="6114600" cy="611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3" y="1"/>
                </a:moveTo>
                <a:arcTo wR="10800" hR="10800" stAng="-5351335" swAng="1085276"/>
                <a:lnTo>
                  <a:pt x="10800" y="10800"/>
                </a:lnTo>
                <a:close/>
              </a:path>
              <a:path fill="none" w="21600" h="21600">
                <a:moveTo>
                  <a:pt x="10953" y="1"/>
                </a:moveTo>
                <a:arcTo wR="10800" hR="10800" stAng="-5351335" swAng="108527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40360" y="2997360"/>
            <a:ext cx="0" cy="305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40360" y="2997000"/>
            <a:ext cx="431640" cy="31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95280" y="3068640"/>
            <a:ext cx="216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076640"/>
            <a:ext cx="1944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076640"/>
            <a:ext cx="1655640" cy="64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079640" y="2487240"/>
            <a:ext cx="3238200" cy="32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91" y="3879"/>
                </a:moveTo>
                <a:arcTo wR="10800" hR="10800" stAng="-2391212" swAng="5540865"/>
                <a:lnTo>
                  <a:pt x="10800" y="10800"/>
                </a:lnTo>
                <a:close/>
              </a:path>
              <a:path fill="none" w="21600" h="21600">
                <a:moveTo>
                  <a:pt x="19091" y="3879"/>
                </a:moveTo>
                <a:arcTo wR="10800" hR="10800" stAng="-2391212" swAng="5540865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9080" y="4366800"/>
            <a:ext cx="3237480" cy="323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2" y="5"/>
                </a:moveTo>
                <a:arcTo wR="10800" hR="10800" stAng="-5300688" swAng="4776255"/>
                <a:lnTo>
                  <a:pt x="10800" y="10800"/>
                </a:lnTo>
                <a:close/>
              </a:path>
              <a:path fill="none" w="21600" h="21600">
                <a:moveTo>
                  <a:pt x="11112" y="5"/>
                </a:moveTo>
                <a:arcTo wR="10800" hR="10800" stAng="-5300688" swAng="4776255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20960" y="3284640"/>
            <a:ext cx="359856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88" y="68"/>
                </a:moveTo>
                <a:arcTo wR="10800" hR="10800" stAng="-5786700" swAng="1690611"/>
                <a:lnTo>
                  <a:pt x="10800" y="10800"/>
                </a:lnTo>
                <a:close/>
              </a:path>
              <a:path fill="none" w="21600" h="21600">
                <a:moveTo>
                  <a:pt x="9588" y="68"/>
                </a:moveTo>
                <a:arcTo wR="10800" hR="10800" stAng="-5786700" swAng="169061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5280" y="3284280"/>
            <a:ext cx="144360" cy="176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71640" y="4149720"/>
            <a:ext cx="1260360" cy="1403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7080" y="3715920"/>
            <a:ext cx="3597840" cy="36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2"/>
                </a:moveTo>
                <a:arcTo wR="10800" hR="10800" stAng="-9284507" swAng="1561171"/>
                <a:lnTo>
                  <a:pt x="10800" y="10800"/>
                </a:lnTo>
                <a:close/>
              </a:path>
              <a:path fill="none" w="21600" h="21600">
                <a:moveTo>
                  <a:pt x="1033" y="6192"/>
                </a:moveTo>
                <a:arcTo wR="10800" hR="10800" stAng="-9284507" swAng="156117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2160" y="2989440"/>
            <a:ext cx="6116040" cy="611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94" y="29"/>
                </a:moveTo>
                <a:arcTo wR="10800" hR="10800" stAng="-5147060" swAng="531611"/>
                <a:lnTo>
                  <a:pt x="10800" y="10800"/>
                </a:lnTo>
                <a:close/>
              </a:path>
              <a:path fill="none" w="21600" h="21600">
                <a:moveTo>
                  <a:pt x="11594" y="29"/>
                </a:moveTo>
                <a:arcTo wR="10800" hR="10800" stAng="-5147060" swAng="53161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572000" y="2997000"/>
            <a:ext cx="3240000" cy="194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 двум сторонам и углу между ними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45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1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85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2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9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2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6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95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4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8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85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1052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213372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6000" y="1628280"/>
            <a:ext cx="3924360" cy="5050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3780000" y="-1845000"/>
            <a:ext cx="7918200" cy="79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18" y="9471"/>
                </a:moveTo>
                <a:arcTo wR="10800" hR="10800" stAng="-424232" swAng="801008"/>
                <a:lnTo>
                  <a:pt x="10800" y="10800"/>
                </a:lnTo>
                <a:close/>
              </a:path>
              <a:path fill="none" w="21600" h="21600">
                <a:moveTo>
                  <a:pt x="21518" y="9471"/>
                </a:moveTo>
                <a:arcTo wR="10800" hR="10800" stAng="-424232" swAng="801008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140360" y="4581000"/>
            <a:ext cx="482436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40360" y="5445000"/>
            <a:ext cx="3816360" cy="67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560" y="2127960"/>
            <a:ext cx="7921080" cy="79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18" y="6300"/>
                </a:moveTo>
                <a:arcTo wR="10800" hR="10800" stAng="-1477445" swAng="944056"/>
                <a:lnTo>
                  <a:pt x="10800" y="10800"/>
                </a:lnTo>
                <a:close/>
              </a:path>
              <a:path fill="none" w="21600" h="21600">
                <a:moveTo>
                  <a:pt x="20618" y="6300"/>
                </a:moveTo>
                <a:arcTo wR="10800" hR="10800" stAng="-1477445" swAng="944056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560" y="2164680"/>
            <a:ext cx="7921440" cy="79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2" y="6981"/>
                </a:moveTo>
                <a:arcTo wR="10800" hR="10800" stAng="-1242490" swAng="336686"/>
                <a:lnTo>
                  <a:pt x="10800" y="10800"/>
                </a:lnTo>
                <a:close/>
              </a:path>
              <a:path fill="none" w="21600" h="21600">
                <a:moveTo>
                  <a:pt x="20902" y="6981"/>
                </a:moveTo>
                <a:arcTo wR="10800" hR="10800" stAng="-1242490" swAng="3366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40360" y="4941720"/>
            <a:ext cx="3671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5280" y="2349000"/>
            <a:ext cx="1366920" cy="1008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5800" y="4365360"/>
            <a:ext cx="3237480" cy="323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12" y="5"/>
                </a:moveTo>
                <a:arcTo wR="10800" hR="10800" stAng="-5300688" swAng="4776255"/>
                <a:lnTo>
                  <a:pt x="10800" y="10800"/>
                </a:lnTo>
                <a:close/>
              </a:path>
              <a:path fill="none" w="21600" h="21600">
                <a:moveTo>
                  <a:pt x="11112" y="5"/>
                </a:moveTo>
                <a:arcTo wR="10800" hR="10800" stAng="-5300688" swAng="4776255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40360" y="4437000"/>
            <a:ext cx="576000" cy="1656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280" y="2349000"/>
            <a:ext cx="216072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357720"/>
            <a:ext cx="1944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1295280" y="1479240"/>
            <a:ext cx="3238200" cy="32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91" y="3879"/>
                </a:moveTo>
                <a:arcTo wR="10800" hR="10800" stAng="-2391212" swAng="5540865"/>
                <a:lnTo>
                  <a:pt x="10800" y="10800"/>
                </a:lnTo>
                <a:close/>
              </a:path>
              <a:path fill="none" w="21600" h="21600">
                <a:moveTo>
                  <a:pt x="19091" y="3879"/>
                </a:moveTo>
                <a:arcTo wR="10800" hR="10800" stAng="-2391212" swAng="5540865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20960" y="2637000"/>
            <a:ext cx="359856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88" y="68"/>
                </a:moveTo>
                <a:arcTo wR="10800" hR="10800" stAng="-5786700" swAng="1690611"/>
                <a:lnTo>
                  <a:pt x="10800" y="10800"/>
                </a:lnTo>
                <a:close/>
              </a:path>
              <a:path fill="none" w="21600" h="21600">
                <a:moveTo>
                  <a:pt x="9588" y="68"/>
                </a:moveTo>
                <a:arcTo wR="10800" hR="10800" stAng="-5786700" swAng="169061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47640" y="2636640"/>
            <a:ext cx="287640" cy="1476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643280" y="4149360"/>
            <a:ext cx="1224000" cy="13669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7080" y="3715920"/>
            <a:ext cx="3597840" cy="36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2"/>
                </a:moveTo>
                <a:arcTo wR="10800" hR="10800" stAng="-9284507" swAng="1561171"/>
                <a:lnTo>
                  <a:pt x="10800" y="10800"/>
                </a:lnTo>
                <a:close/>
              </a:path>
              <a:path fill="none" w="21600" h="21600">
                <a:moveTo>
                  <a:pt x="1033" y="6192"/>
                </a:moveTo>
                <a:arcTo wR="10800" hR="10800" stAng="-9284507" swAng="156117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40360" y="1844280"/>
            <a:ext cx="64764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01336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280" y="4868640"/>
            <a:ext cx="2089080" cy="14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295280" y="3360240"/>
            <a:ext cx="3238200" cy="32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4" y="7662"/>
                </a:moveTo>
                <a:arcTo wR="10800" hR="10800" stAng="-1013334" swAng="3779327"/>
                <a:lnTo>
                  <a:pt x="10800" y="10800"/>
                </a:lnTo>
                <a:close/>
              </a:path>
              <a:path fill="none" w="21600" h="21600">
                <a:moveTo>
                  <a:pt x="21134" y="7662"/>
                </a:moveTo>
                <a:arcTo wR="10800" hR="10800" stAng="-1013334" swAng="3779327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31640" y="4652640"/>
            <a:ext cx="147636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3358080"/>
            <a:ext cx="3238200" cy="323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" y="15237"/>
                </a:moveTo>
                <a:arcTo wR="10800" hR="10800" stAng="9344668" swAng="5269507"/>
                <a:lnTo>
                  <a:pt x="10800" y="10800"/>
                </a:lnTo>
                <a:close/>
              </a:path>
              <a:path fill="none" w="21600" h="21600">
                <a:moveTo>
                  <a:pt x="953" y="15237"/>
                </a:moveTo>
                <a:arcTo wR="10800" hR="10800" stAng="9344668" swAng="5269507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300720" y="4941720"/>
            <a:ext cx="1511280" cy="64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440" y="4797360"/>
            <a:ext cx="2156040" cy="21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2" y="0"/>
                </a:moveTo>
                <a:arcTo wR="10800" hR="10800" stAng="-5428065" swAng="2447856"/>
                <a:lnTo>
                  <a:pt x="10800" y="10800"/>
                </a:lnTo>
                <a:close/>
              </a:path>
              <a:path fill="none" w="21600" h="21600">
                <a:moveTo>
                  <a:pt x="10712" y="0"/>
                </a:moveTo>
                <a:arcTo wR="10800" hR="10800" stAng="-5428065" swAng="244785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78600" y="4365720"/>
            <a:ext cx="2156760" cy="21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76" y="138"/>
                </a:moveTo>
                <a:arcTo wR="10800" hR="10800" stAng="-5951131" swAng="1779271"/>
                <a:lnTo>
                  <a:pt x="10800" y="10800"/>
                </a:lnTo>
                <a:close/>
              </a:path>
              <a:path fill="none" w="21600" h="21600">
                <a:moveTo>
                  <a:pt x="9076" y="138"/>
                </a:moveTo>
                <a:arcTo wR="10800" hR="10800" stAng="-5951131" swAng="177927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84360" y="4869000"/>
            <a:ext cx="323640" cy="1116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27640" y="4437000"/>
            <a:ext cx="36036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635280" y="3357720"/>
            <a:ext cx="4176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40360" y="3645000"/>
            <a:ext cx="360360" cy="24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3645000"/>
            <a:ext cx="3311280" cy="1296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4360" y="692280"/>
            <a:ext cx="7920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 стороне и двум прилежащим угл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6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4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85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250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6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35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1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8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200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500"/>
                            </p:stCondLst>
                            <p:childTnLst>
                              <p:par>
                                <p:cTn id="5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9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2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6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0000"/>
                            </p:stCondLst>
                            <p:childTnLst>
                              <p:par>
                                <p:cTn id="5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3500"/>
                            </p:stCondLst>
                            <p:childTnLst>
                              <p:par>
                                <p:cTn id="535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7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9000"/>
                            </p:stCondLst>
                            <p:childTnLst>
                              <p:par>
                                <p:cTn id="55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55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15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19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23500"/>
                            </p:stCondLst>
                            <p:childTnLst>
                              <p:par>
                                <p:cTn id="56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26000"/>
                            </p:stCondLst>
                            <p:childTnLst>
                              <p:par>
                                <p:cTn id="571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29500"/>
                            </p:stCondLst>
                            <p:childTnLst>
                              <p:par>
                                <p:cTn id="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30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31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105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98900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34936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19640" y="4365720"/>
            <a:ext cx="554328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0920" y="1628280"/>
            <a:ext cx="2449440" cy="360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0920" y="2276280"/>
            <a:ext cx="3960720" cy="431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708360" y="-1195560"/>
            <a:ext cx="7918200" cy="79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18" y="9471"/>
                </a:moveTo>
                <a:arcTo wR="10800" hR="10800" stAng="-424232" swAng="801008"/>
                <a:lnTo>
                  <a:pt x="10800" y="10800"/>
                </a:lnTo>
                <a:close/>
              </a:path>
              <a:path fill="none" w="21600" h="21600">
                <a:moveTo>
                  <a:pt x="21518" y="9471"/>
                </a:moveTo>
                <a:arcTo wR="10800" hR="10800" stAng="-424232" swAng="801008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19640" y="5373720"/>
            <a:ext cx="3744720" cy="7905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684000" y="2199960"/>
            <a:ext cx="7921080" cy="79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18" y="6300"/>
                </a:moveTo>
                <a:arcTo wR="10800" hR="10800" stAng="-1477445" swAng="944056"/>
                <a:lnTo>
                  <a:pt x="10800" y="10800"/>
                </a:lnTo>
                <a:close/>
              </a:path>
              <a:path fill="none" w="21600" h="21600">
                <a:moveTo>
                  <a:pt x="20618" y="6300"/>
                </a:moveTo>
                <a:arcTo wR="10800" hR="10800" stAng="-1477445" swAng="944056"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684000" y="2237760"/>
            <a:ext cx="7921440" cy="79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02" y="6981"/>
                </a:moveTo>
                <a:arcTo wR="10800" hR="10800" stAng="-1242490" swAng="336686"/>
                <a:lnTo>
                  <a:pt x="10800" y="10800"/>
                </a:lnTo>
                <a:close/>
              </a:path>
              <a:path fill="none" w="21600" h="21600">
                <a:moveTo>
                  <a:pt x="20902" y="6981"/>
                </a:moveTo>
                <a:arcTo wR="10800" hR="10800" stAng="-1242490" swAng="33668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808000" y="-733320"/>
            <a:ext cx="6117480" cy="61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9105"/>
                </a:moveTo>
                <a:arcTo wR="10800" hR="10800" stAng="-541872" swAng="922106"/>
                <a:lnTo>
                  <a:pt x="10800" y="10800"/>
                </a:lnTo>
                <a:close/>
              </a:path>
              <a:path fill="none" w="21600" h="21600">
                <a:moveTo>
                  <a:pt x="21466" y="9105"/>
                </a:moveTo>
                <a:arcTo wR="10800" hR="10800" stAng="-541872" swAng="92210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0920" y="1988640"/>
            <a:ext cx="3025800" cy="3589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00" y="3032280"/>
            <a:ext cx="6119640" cy="61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62" y="129"/>
                </a:moveTo>
                <a:arcTo wR="10800" hR="10800" stAng="-4868756" swAng="3096087"/>
                <a:lnTo>
                  <a:pt x="10800" y="10800"/>
                </a:lnTo>
                <a:close/>
              </a:path>
              <a:path fill="none" w="21600" h="21600">
                <a:moveTo>
                  <a:pt x="12462" y="129"/>
                </a:moveTo>
                <a:arcTo wR="10800" hR="10800" stAng="-4868756" swAng="3096087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19640" y="3141360"/>
            <a:ext cx="502920" cy="29876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340360" y="-449280"/>
            <a:ext cx="5038920" cy="504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2" y="8901"/>
                </a:moveTo>
                <a:arcTo wR="10800" hR="10800" stAng="-607662" swAng="1089423"/>
                <a:lnTo>
                  <a:pt x="10800" y="10800"/>
                </a:lnTo>
                <a:close/>
              </a:path>
              <a:path fill="none" w="21600" h="21600">
                <a:moveTo>
                  <a:pt x="21432" y="8901"/>
                </a:moveTo>
                <a:arcTo wR="10800" hR="10800" stAng="-607662" swAng="1089423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2511360"/>
            <a:ext cx="5038920" cy="504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5"/>
                </a:moveTo>
                <a:arcTo wR="10800" hR="10800" stAng="10798396" swAng="3071366"/>
                <a:lnTo>
                  <a:pt x="10800" y="10800"/>
                </a:lnTo>
                <a:close/>
              </a:path>
              <a:path fill="none" w="21600" h="21600">
                <a:moveTo>
                  <a:pt x="0" y="10805"/>
                </a:moveTo>
                <a:arcTo wR="10800" hR="10800" stAng="10798396" swAng="307136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643280" y="4868640"/>
            <a:ext cx="2376720" cy="144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2360" y="364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19640" y="3716280"/>
            <a:ext cx="1584000" cy="24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3640" y="3716280"/>
            <a:ext cx="2016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19640" y="5013000"/>
            <a:ext cx="3600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24000" y="189000"/>
            <a:ext cx="4819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строение треугольника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340000" y="692280"/>
            <a:ext cx="44640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83c00"/>
                  </a:outerShdw>
                </a:effectLst>
                <a:latin typeface="Arial"/>
              </a:rPr>
              <a:t>по трем сторонам.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83c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ещепновская школа     &lt;&lt;  Геметрические построения  &gt;&gt;      7 класс</a:t>
            </a: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5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95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2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3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1500"/>
                            </p:stCondLst>
                            <p:childTnLst>
                              <p:par>
                                <p:cTn id="66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0"/>
                            </p:stCondLst>
                            <p:childTnLst>
                              <p:par>
                                <p:cTn id="666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300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6500"/>
                            </p:stCondLst>
                            <p:childTnLst>
                              <p:par>
                                <p:cTn id="678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80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83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86000"/>
                            </p:stCondLst>
                            <p:childTnLst>
                              <p:par>
                                <p:cTn id="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9:48:56Z</dcterms:created>
  <dc:creator>admin</dc:creator>
  <dc:description/>
  <dc:language>en-US</dc:language>
  <cp:lastModifiedBy>admin</cp:lastModifiedBy>
  <dcterms:modified xsi:type="dcterms:W3CDTF">2008-05-30T18:58:56Z</dcterms:modified>
  <cp:revision>35</cp:revision>
  <dc:subject/>
  <dc:title>Слайд 1</dc:title>
</cp:coreProperties>
</file>