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010-436F-43D3-AEC6-42849279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9EA-2F51-4F41-97DE-556512E6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7AB-8AA5-4848-953E-E0F196D8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020-B75A-4EC8-9381-13A259DD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2CF-0C9C-47FF-B28E-3786BA3C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2E7-E50E-4FEE-8D8F-F89079D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BEC-8DF5-4ED2-B708-6C628454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B0B-AB0B-42D4-B0E1-064FD4D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35D-6B16-404B-A986-D55A7B8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F52-324F-46EA-BF96-B47705F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4D7-6F0A-46E5-B490-74D6AF0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B2F-0633-4037-8DA2-B0F5F25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FA9D-66D6-4C71-8C65-E105C5242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7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gia.ru:8080/or/gia12/Main.html?view=Pos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47.xml"/><Relationship Id="rId7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42.xm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" Target="slide51.xml"/><Relationship Id="rId6" Type="http://schemas.openxmlformats.org/officeDocument/2006/relationships/slide" Target="slide52.xml"/><Relationship Id="rId7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47.xml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slide" Target="slide66.xml"/><Relationship Id="rId6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1.xml"/><Relationship Id="rId6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67.xml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8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77.xml"/><Relationship Id="rId7" Type="http://schemas.openxmlformats.org/officeDocument/2006/relationships/slideLayout" Target="../slideLayouts/slideLayout8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8.xml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slide" Target="slide81.xml"/><Relationship Id="rId6" Type="http://schemas.openxmlformats.org/officeDocument/2006/relationships/slide" Target="slide82.xml"/><Relationship Id="rId7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77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8.xml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slide" Target="slide91.xml"/><Relationship Id="rId6" Type="http://schemas.openxmlformats.org/officeDocument/2006/relationships/slide" Target="slide92.xml"/><Relationship Id="rId7" Type="http://schemas.openxmlformats.org/officeDocument/2006/relationships/slideLayout" Target="../slideLayouts/slideLayout8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87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87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3.xml"/><Relationship Id="rId3" Type="http://schemas.openxmlformats.org/officeDocument/2006/relationships/slide" Target="slide94.xml"/><Relationship Id="rId4" Type="http://schemas.openxmlformats.org/officeDocument/2006/relationships/slide" Target="slide95.xml"/><Relationship Id="rId5" Type="http://schemas.openxmlformats.org/officeDocument/2006/relationships/slide" Target="slide96.xml"/><Relationship Id="rId6" Type="http://schemas.openxmlformats.org/officeDocument/2006/relationships/slide" Target="slide97.xml"/><Relationship Id="rId7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102.xml"/><Relationship Id="rId7" Type="http://schemas.openxmlformats.org/officeDocument/2006/relationships/slideLayout" Target="../slideLayouts/slideLayout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8900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ИА - 20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84644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ткрытый банк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350208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№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200560"/>
            <a:ext cx="655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836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1280" y="836280"/>
            <a:ext cx="3816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763280" y="333360"/>
            <a:ext cx="129564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7440" y="5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9080" y="2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2400" y="2062080"/>
            <a:ext cx="4179960" cy="169920"/>
          </a:xfrm>
          <a:custGeom>
            <a:avLst/>
            <a:gdLst/>
            <a:ahLst/>
            <a:rect l="l" t="t" r="r" b="b"/>
            <a:pathLst>
              <a:path w="2633" h="107">
                <a:moveTo>
                  <a:pt x="0" y="107"/>
                </a:moveTo>
                <a:lnTo>
                  <a:pt x="263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73400" y="484200"/>
            <a:ext cx="430200" cy="3751200"/>
          </a:xfrm>
          <a:custGeom>
            <a:avLst/>
            <a:gdLst/>
            <a:ahLst/>
            <a:rect l="l" t="t" r="r" b="b"/>
            <a:pathLst>
              <a:path w="271" h="2363">
                <a:moveTo>
                  <a:pt x="0" y="0"/>
                </a:moveTo>
                <a:lnTo>
                  <a:pt x="271" y="23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00" y="1639800"/>
            <a:ext cx="3281400" cy="1036800"/>
          </a:xfrm>
          <a:custGeom>
            <a:avLst/>
            <a:gdLst/>
            <a:ahLst/>
            <a:rect l="l" t="t" r="r" b="b"/>
            <a:pathLst>
              <a:path w="2067" h="653">
                <a:moveTo>
                  <a:pt x="0" y="0"/>
                </a:moveTo>
                <a:lnTo>
                  <a:pt x="2067" y="6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2060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0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35840" y="1422360"/>
            <a:ext cx="1752480" cy="4254480"/>
          </a:xfrm>
          <a:custGeom>
            <a:avLst/>
            <a:gdLst/>
            <a:ahLst/>
            <a:rect l="l" t="t" r="r" b="b"/>
            <a:pathLst>
              <a:path w="1104" h="2680">
                <a:moveTo>
                  <a:pt x="0" y="0"/>
                </a:moveTo>
                <a:lnTo>
                  <a:pt x="1104" y="26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476440"/>
            <a:ext cx="4602240" cy="1484280"/>
          </a:xfrm>
          <a:custGeom>
            <a:avLst/>
            <a:gdLst/>
            <a:ahLst/>
            <a:rect l="l" t="t" r="r" b="b"/>
            <a:pathLst>
              <a:path w="2899" h="935">
                <a:moveTo>
                  <a:pt x="0" y="0"/>
                </a:moveTo>
                <a:lnTo>
                  <a:pt x="2899" y="9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2984400"/>
            <a:ext cx="2070000" cy="1638360"/>
          </a:xfrm>
          <a:custGeom>
            <a:avLst/>
            <a:gdLst/>
            <a:ahLst/>
            <a:rect l="l" t="t" r="r" b="b"/>
            <a:pathLst>
              <a:path w="1304" h="1032">
                <a:moveTo>
                  <a:pt x="0" y="1032"/>
                </a:moveTo>
                <a:lnTo>
                  <a:pt x="13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64240" y="2171880"/>
            <a:ext cx="1325520" cy="3157200"/>
          </a:xfrm>
          <a:custGeom>
            <a:avLst/>
            <a:gdLst/>
            <a:ahLst/>
            <a:rect l="l" t="t" r="r" b="b"/>
            <a:pathLst>
              <a:path w="835" h="1989">
                <a:moveTo>
                  <a:pt x="0" y="0"/>
                </a:moveTo>
                <a:lnTo>
                  <a:pt x="835" y="19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54480" y="2527200"/>
            <a:ext cx="2959200" cy="1473480"/>
          </a:xfrm>
          <a:custGeom>
            <a:avLst/>
            <a:gdLst/>
            <a:ahLst/>
            <a:rect l="l" t="t" r="r" b="b"/>
            <a:pathLst>
              <a:path w="1864" h="928">
                <a:moveTo>
                  <a:pt x="0" y="928"/>
                </a:moveTo>
                <a:lnTo>
                  <a:pt x="18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73200"/>
            <a:ext cx="812880" cy="4076640"/>
          </a:xfrm>
          <a:custGeom>
            <a:avLst/>
            <a:gdLst/>
            <a:ahLst/>
            <a:rect l="l" t="t" r="r" b="b"/>
            <a:pathLst>
              <a:path w="512" h="2568">
                <a:moveTo>
                  <a:pt x="512" y="0"/>
                </a:moveTo>
                <a:lnTo>
                  <a:pt x="0" y="25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0360" y="299736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85080" y="3645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3106800"/>
            <a:ext cx="430200" cy="3751200"/>
          </a:xfrm>
          <a:custGeom>
            <a:avLst/>
            <a:gdLst/>
            <a:ahLst/>
            <a:rect l="l" t="t" r="r" b="b"/>
            <a:pathLst>
              <a:path w="271" h="2363">
                <a:moveTo>
                  <a:pt x="0" y="0"/>
                </a:moveTo>
                <a:lnTo>
                  <a:pt x="271" y="23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00" y="4292640"/>
            <a:ext cx="3544920" cy="1752480"/>
          </a:xfrm>
          <a:custGeom>
            <a:avLst/>
            <a:gdLst/>
            <a:ahLst/>
            <a:rect l="l" t="t" r="r" b="b"/>
            <a:pathLst>
              <a:path w="2233" h="1104">
                <a:moveTo>
                  <a:pt x="0" y="1104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680" y="5219640"/>
            <a:ext cx="4246560" cy="1349280"/>
          </a:xfrm>
          <a:custGeom>
            <a:avLst/>
            <a:gdLst/>
            <a:ahLst/>
            <a:rect l="l" t="t" r="r" b="b"/>
            <a:pathLst>
              <a:path w="2675" h="850">
                <a:moveTo>
                  <a:pt x="0" y="0"/>
                </a:moveTo>
                <a:lnTo>
                  <a:pt x="2675" y="8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716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4437000"/>
            <a:ext cx="216000" cy="21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6360" y="5516640"/>
            <a:ext cx="216000" cy="21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237360"/>
            <a:ext cx="216000" cy="21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703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трапеции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ю полу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оснований на вы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076400" y="2782800"/>
            <a:ext cx="5700600" cy="2448000"/>
          </a:xfrm>
          <a:custGeom>
            <a:avLst/>
            <a:gdLst/>
            <a:ahLst/>
            <a:rect l="l" t="t" r="r" b="b"/>
            <a:pathLst>
              <a:path w="3591" h="1542">
                <a:moveTo>
                  <a:pt x="3591" y="1542"/>
                </a:moveTo>
                <a:lnTo>
                  <a:pt x="0" y="1542"/>
                </a:lnTo>
                <a:lnTo>
                  <a:pt x="618" y="0"/>
                </a:lnTo>
                <a:lnTo>
                  <a:pt x="2134" y="9"/>
                </a:lnTo>
                <a:lnTo>
                  <a:pt x="3583" y="153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86160" y="522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59016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6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429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057400" y="2770200"/>
            <a:ext cx="2394000" cy="12600"/>
          </a:xfrm>
          <a:custGeom>
            <a:avLst/>
            <a:gdLst/>
            <a:ahLst/>
            <a:rect l="l" t="t" r="r" b="b"/>
            <a:pathLst>
              <a:path w="1508" h="8">
                <a:moveTo>
                  <a:pt x="0" y="0"/>
                </a:moveTo>
                <a:lnTo>
                  <a:pt x="1508" y="8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050920" y="472428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044800" y="2770200"/>
            <a:ext cx="25200" cy="2433600"/>
          </a:xfrm>
          <a:custGeom>
            <a:avLst/>
            <a:gdLst/>
            <a:ahLst/>
            <a:rect l="l" t="t" r="r" b="b"/>
            <a:pathLst>
              <a:path w="16" h="1533">
                <a:moveTo>
                  <a:pt x="16" y="0"/>
                </a:moveTo>
                <a:lnTo>
                  <a:pt x="0" y="1533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2549520" y="5275440"/>
                <a:ext cx="4913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3" name=""/>
          <p:cNvSpPr/>
          <p:nvPr/>
        </p:nvSpPr>
        <p:spPr>
          <a:xfrm>
            <a:off x="1042920" y="5229360"/>
            <a:ext cx="5742000" cy="1440"/>
          </a:xfrm>
          <a:custGeom>
            <a:avLst/>
            <a:gdLst/>
            <a:ahLst/>
            <a:rect l="l" t="t" r="r" b="b"/>
            <a:pathLst>
              <a:path w="3617" h="1">
                <a:moveTo>
                  <a:pt x="0" y="0"/>
                </a:moveTo>
                <a:lnTo>
                  <a:pt x="36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36360" y="522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6" dur="indefinite" restart="never" nodeType="tmRoot">
          <p:childTnLst>
            <p:seq>
              <p:cTn id="5347" dur="indefinite" nodeType="mainSeq">
                <p:childTnLst>
                  <p:par>
                    <p:cTn id="5348" fill="hold">
                      <p:stCondLst>
                        <p:cond delay="0"/>
                      </p:stCondLst>
                      <p:childTnLst>
                        <p:par>
                          <p:cTn id="5349" fill="hold">
                            <p:stCondLst>
                              <p:cond delay="0"/>
                            </p:stCondLst>
                            <p:childTnLst>
                              <p:par>
                                <p:cTn id="5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2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3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4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8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3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6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0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9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3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пендикуляр, проведённы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прямой, меньше лю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ной, проведённой из той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2853720" y="-57960"/>
            <a:ext cx="2931840" cy="3446280"/>
            <a:chOff x="2853720" y="-57960"/>
            <a:chExt cx="2931840" cy="3446280"/>
          </a:xfrm>
        </p:grpSpPr>
        <p:sp>
          <p:nvSpPr>
            <p:cNvPr id="1719" name=""/>
            <p:cNvSpPr/>
            <p:nvPr/>
          </p:nvSpPr>
          <p:spPr>
            <a:xfrm rot="20003400">
              <a:off x="3419640" y="188640"/>
              <a:ext cx="1800000" cy="29527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20003400">
              <a:off x="3868560" y="1155600"/>
              <a:ext cx="934920" cy="1728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2484360" y="1587600"/>
            <a:ext cx="5275440" cy="2633400"/>
          </a:xfrm>
          <a:custGeom>
            <a:avLst/>
            <a:gdLst/>
            <a:ahLst/>
            <a:rect l="l" t="t" r="r" b="b"/>
            <a:pathLst>
              <a:path w="3041" h="1524">
                <a:moveTo>
                  <a:pt x="0" y="1524"/>
                </a:moveTo>
                <a:lnTo>
                  <a:pt x="30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780000" y="126828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59780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71016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851280" y="1341360"/>
            <a:ext cx="1944720" cy="1224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rot="1254000">
            <a:off x="3995280" y="333360"/>
            <a:ext cx="211320" cy="976320"/>
          </a:xfrm>
          <a:prstGeom prst="downArrow">
            <a:avLst>
              <a:gd name="adj1" fmla="val 50000"/>
              <a:gd name="adj2" fmla="val 11550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rot="17286600">
            <a:off x="3124800" y="772200"/>
            <a:ext cx="270000" cy="976320"/>
          </a:xfrm>
          <a:prstGeom prst="downArrow">
            <a:avLst>
              <a:gd name="adj1" fmla="val 50000"/>
              <a:gd name="adj2" fmla="val 904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898800" y="1344600"/>
            <a:ext cx="889200" cy="1747800"/>
          </a:xfrm>
          <a:custGeom>
            <a:avLst/>
            <a:gdLst/>
            <a:ahLst/>
            <a:rect l="l" t="t" r="r" b="b"/>
            <a:pathLst>
              <a:path w="560" h="1101">
                <a:moveTo>
                  <a:pt x="0" y="0"/>
                </a:moveTo>
                <a:lnTo>
                  <a:pt x="560" y="1101"/>
                </a:ln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4" dur="indefinite" restart="never" nodeType="tmRoot">
          <p:childTnLst>
            <p:seq>
              <p:cTn id="5385" dur="indefinite" nodeType="mainSeq">
                <p:childTnLst>
                  <p:par>
                    <p:cTn id="5386" fill="hold">
                      <p:stCondLst>
                        <p:cond delay="indefinite"/>
                      </p:stCondLst>
                      <p:childTnLst>
                        <p:par>
                          <p:cTn id="5387" fill="hold">
                            <p:stCondLst>
                              <p:cond delay="0"/>
                            </p:stCondLst>
                            <p:childTnLst>
                              <p:par>
                                <p:cTn id="53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0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1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5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6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7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21701 0.18078 E">
                                      <p:cBhvr>
                                        <p:cTn id="5400" dur="30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3" dur="3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8" fill="hold">
                      <p:stCondLst>
                        <p:cond delay="indefinite"/>
                      </p:stCondLst>
                      <p:childTnLst>
                        <p:par>
                          <p:cTn id="5409" fill="hold">
                            <p:stCondLst>
                              <p:cond delay="0"/>
                            </p:stCondLst>
                            <p:childTnLst>
                              <p:par>
                                <p:cTn id="5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0.06701 -0.04722 E">
                                      <p:cBhvr>
                                        <p:cTn id="5411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6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7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0.09636 0.23217 E">
                                      <p:cBhvr>
                                        <p:cTn id="5423" dur="2000" fill="hold"/>
                                        <p:tgtEl>
                                          <p:spTgt spid="1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7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8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9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3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/>
          <p:nvPr/>
        </p:nvSpPr>
        <p:spPr>
          <a:xfrm>
            <a:off x="616320" y="2349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ia.ru:8080/or/gia12/Main.html?view=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84360" y="69228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Открытый банк заданий по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А –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сегда три прямые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менее одной общей точ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1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6240" y="1744560"/>
            <a:ext cx="3238560" cy="282600"/>
          </a:xfrm>
          <a:custGeom>
            <a:avLst/>
            <a:gdLst/>
            <a:ahLst/>
            <a:rect l="l" t="t" r="r" b="b"/>
            <a:pathLst>
              <a:path w="2787" h="220">
                <a:moveTo>
                  <a:pt x="0" y="220"/>
                </a:moveTo>
                <a:lnTo>
                  <a:pt x="27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16160" y="114480"/>
            <a:ext cx="1272960" cy="2582640"/>
          </a:xfrm>
          <a:custGeom>
            <a:avLst/>
            <a:gdLst/>
            <a:ahLst/>
            <a:rect l="l" t="t" r="r" b="b"/>
            <a:pathLst>
              <a:path w="1095" h="2006">
                <a:moveTo>
                  <a:pt x="1095" y="0"/>
                </a:moveTo>
                <a:lnTo>
                  <a:pt x="0" y="20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3800" y="148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2720" y="26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491640" y="119700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692280"/>
            <a:ext cx="158760" cy="174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3080" y="135000"/>
            <a:ext cx="1797120" cy="2049480"/>
          </a:xfrm>
          <a:custGeom>
            <a:avLst/>
            <a:gdLst/>
            <a:ahLst/>
            <a:rect l="l" t="t" r="r" b="b"/>
            <a:pathLst>
              <a:path w="1132" h="1291">
                <a:moveTo>
                  <a:pt x="1132" y="0"/>
                </a:moveTo>
                <a:lnTo>
                  <a:pt x="0" y="12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1700280"/>
            <a:ext cx="158760" cy="174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1916280"/>
            <a:ext cx="158760" cy="174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01600"/>
            <a:ext cx="2697480" cy="2095560"/>
          </a:xfrm>
          <a:custGeom>
            <a:avLst/>
            <a:gdLst/>
            <a:ahLst/>
            <a:rect l="l" t="t" r="r" b="b"/>
            <a:pathLst>
              <a:path w="2321" h="1627">
                <a:moveTo>
                  <a:pt x="0" y="0"/>
                </a:moveTo>
                <a:lnTo>
                  <a:pt x="2321" y="16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8600" y="792000"/>
            <a:ext cx="167040" cy="171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67520" y="1368360"/>
            <a:ext cx="166680" cy="171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1080" y="547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780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15280" y="108000"/>
            <a:ext cx="1807920" cy="2103480"/>
          </a:xfrm>
          <a:custGeom>
            <a:avLst/>
            <a:gdLst/>
            <a:ahLst/>
            <a:rect l="l" t="t" r="r" b="b"/>
            <a:pathLst>
              <a:path w="1139" h="1325">
                <a:moveTo>
                  <a:pt x="1139" y="0"/>
                </a:moveTo>
                <a:lnTo>
                  <a:pt x="0" y="13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3800" y="189000"/>
            <a:ext cx="1170000" cy="1908000"/>
          </a:xfrm>
          <a:custGeom>
            <a:avLst/>
            <a:gdLst/>
            <a:ahLst/>
            <a:rect l="l" t="t" r="r" b="b"/>
            <a:pathLst>
              <a:path w="737" h="1202">
                <a:moveTo>
                  <a:pt x="0" y="0"/>
                </a:moveTo>
                <a:lnTo>
                  <a:pt x="737" y="1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997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78120" y="2706840"/>
            <a:ext cx="2676240" cy="1719000"/>
          </a:xfrm>
          <a:custGeom>
            <a:avLst/>
            <a:gdLst/>
            <a:ahLst/>
            <a:rect l="l" t="t" r="r" b="b"/>
            <a:pathLst>
              <a:path w="1953" h="1371">
                <a:moveTo>
                  <a:pt x="0" y="0"/>
                </a:moveTo>
                <a:lnTo>
                  <a:pt x="1953" y="13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7640" y="3362400"/>
            <a:ext cx="3171960" cy="269640"/>
          </a:xfrm>
          <a:custGeom>
            <a:avLst/>
            <a:gdLst/>
            <a:ahLst/>
            <a:rect l="l" t="t" r="r" b="b"/>
            <a:pathLst>
              <a:path w="1998" h="170">
                <a:moveTo>
                  <a:pt x="0" y="170"/>
                </a:moveTo>
                <a:lnTo>
                  <a:pt x="199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36920" y="2543040"/>
            <a:ext cx="1149120" cy="1967040"/>
          </a:xfrm>
          <a:custGeom>
            <a:avLst/>
            <a:gdLst/>
            <a:ahLst/>
            <a:rect l="l" t="t" r="r" b="b"/>
            <a:pathLst>
              <a:path w="838" h="1568">
                <a:moveTo>
                  <a:pt x="838" y="0"/>
                </a:moveTo>
                <a:lnTo>
                  <a:pt x="0" y="15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3429000"/>
            <a:ext cx="187200" cy="169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508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2492280"/>
            <a:ext cx="3171600" cy="270000"/>
          </a:xfrm>
          <a:custGeom>
            <a:avLst/>
            <a:gdLst/>
            <a:ahLst/>
            <a:rect l="l" t="t" r="r" b="b"/>
            <a:pathLst>
              <a:path w="1998" h="170">
                <a:moveTo>
                  <a:pt x="0" y="170"/>
                </a:moveTo>
                <a:lnTo>
                  <a:pt x="199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2997360"/>
            <a:ext cx="3171960" cy="269640"/>
          </a:xfrm>
          <a:custGeom>
            <a:avLst/>
            <a:gdLst/>
            <a:ahLst/>
            <a:rect l="l" t="t" r="r" b="b"/>
            <a:pathLst>
              <a:path w="1998" h="170">
                <a:moveTo>
                  <a:pt x="0" y="170"/>
                </a:moveTo>
                <a:lnTo>
                  <a:pt x="199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3429000"/>
            <a:ext cx="3171960" cy="270000"/>
          </a:xfrm>
          <a:custGeom>
            <a:avLst/>
            <a:gdLst/>
            <a:ahLst/>
            <a:rect l="l" t="t" r="r" b="b"/>
            <a:pathLst>
              <a:path w="1998" h="170">
                <a:moveTo>
                  <a:pt x="0" y="170"/>
                </a:moveTo>
                <a:lnTo>
                  <a:pt x="199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при пересечении двух прямых секу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 накрест лежащие углы сост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умме 9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эти две прямые параллельн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угол равен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сме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ним равен 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и пересечении двух прямых секу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енние односторонние углы равн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1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эти две прямые параллельн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з любые три точки про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лее одной прям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f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и пересечении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ых секущей су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рест лежащие углы рав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рямые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720" y="863640"/>
            <a:ext cx="4981680" cy="574560"/>
          </a:xfrm>
          <a:custGeom>
            <a:avLst/>
            <a:gdLst/>
            <a:ahLst/>
            <a:rect l="l" t="t" r="r" b="b"/>
            <a:pathLst>
              <a:path w="3138" h="362">
                <a:moveTo>
                  <a:pt x="0" y="0"/>
                </a:moveTo>
                <a:lnTo>
                  <a:pt x="3138" y="362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2360" y="2448000"/>
            <a:ext cx="5435640" cy="631800"/>
          </a:xfrm>
          <a:custGeom>
            <a:avLst/>
            <a:gdLst/>
            <a:ahLst/>
            <a:rect l="l" t="t" r="r" b="b"/>
            <a:pathLst>
              <a:path w="3424" h="398">
                <a:moveTo>
                  <a:pt x="0" y="0"/>
                </a:moveTo>
                <a:lnTo>
                  <a:pt x="3424" y="39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71280"/>
            <a:ext cx="1152720" cy="381636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7440" y="47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144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11253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5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65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6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88000" y="404640"/>
                <a:ext cx="1668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659640" y="1341360"/>
                <a:ext cx="1706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rot="18358200">
            <a:off x="3155040" y="1171800"/>
            <a:ext cx="289080" cy="48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8245800">
            <a:off x="4066920" y="2421000"/>
            <a:ext cx="288720" cy="48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2935400">
            <a:off x="3708000" y="1267920"/>
            <a:ext cx="289080" cy="48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734800">
            <a:off x="3420000" y="2348640"/>
            <a:ext cx="31572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5516640"/>
            <a:ext cx="5938920" cy="863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смежных углов равна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476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угла, у которых одна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ая, а две другие я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олжениями од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ются 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4581360"/>
            <a:ext cx="6983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635280" y="2565360"/>
            <a:ext cx="1873440" cy="20160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9223400">
            <a:off x="4858920" y="1844640"/>
            <a:ext cx="225360" cy="97632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8546400">
            <a:off x="971640" y="4581000"/>
            <a:ext cx="225360" cy="97632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180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4000" y="2924280"/>
                <a:ext cx="3203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18542 0.26504 E">
                                      <p:cBhvr>
                                        <p:cTn id="797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71215 -0.0081 E">
                                      <p:cBhvr>
                                        <p:cTn id="811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и пересечении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ых секущей су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сторонних углов равна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рямые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2720" y="863640"/>
            <a:ext cx="4981680" cy="574560"/>
          </a:xfrm>
          <a:custGeom>
            <a:avLst/>
            <a:gdLst/>
            <a:ahLst/>
            <a:rect l="l" t="t" r="r" b="b"/>
            <a:pathLst>
              <a:path w="3138" h="362">
                <a:moveTo>
                  <a:pt x="0" y="0"/>
                </a:moveTo>
                <a:lnTo>
                  <a:pt x="3138" y="362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2360" y="2448000"/>
            <a:ext cx="5435640" cy="631800"/>
          </a:xfrm>
          <a:custGeom>
            <a:avLst/>
            <a:gdLst/>
            <a:ahLst/>
            <a:rect l="l" t="t" r="r" b="b"/>
            <a:pathLst>
              <a:path w="3424" h="398">
                <a:moveTo>
                  <a:pt x="0" y="0"/>
                </a:moveTo>
                <a:lnTo>
                  <a:pt x="3424" y="39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71280"/>
            <a:ext cx="1152720" cy="381636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7440" y="47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144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3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22880" y="230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88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7440" y="237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1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516720" y="260280"/>
                <a:ext cx="1727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765000"/>
                <a:ext cx="20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012000" y="1268280"/>
                <a:ext cx="2919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580000" y="19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554880" y="2347920"/>
                <a:ext cx="1650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535800" y="2852640"/>
                <a:ext cx="1974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012000" y="3355920"/>
                <a:ext cx="2919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000"/>
                            </p:stCondLst>
                            <p:childTnLst>
                              <p:par>
                                <p:cTn id="9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всегда через три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но провести одну 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4200" y="2313000"/>
            <a:ext cx="4424400" cy="349200"/>
          </a:xfrm>
          <a:custGeom>
            <a:avLst/>
            <a:gdLst/>
            <a:ahLst/>
            <a:rect l="l" t="t" r="r" b="b"/>
            <a:pathLst>
              <a:path w="2787" h="220">
                <a:moveTo>
                  <a:pt x="0" y="220"/>
                </a:moveTo>
                <a:lnTo>
                  <a:pt x="27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6800" y="147600"/>
            <a:ext cx="2165400" cy="4021200"/>
          </a:xfrm>
          <a:custGeom>
            <a:avLst/>
            <a:gdLst/>
            <a:ahLst/>
            <a:rect l="l" t="t" r="r" b="b"/>
            <a:pathLst>
              <a:path w="1364" h="2533">
                <a:moveTo>
                  <a:pt x="1364" y="0"/>
                </a:moveTo>
                <a:lnTo>
                  <a:pt x="0" y="253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472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9800" y="54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616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98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292360" y="836640"/>
            <a:ext cx="287964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742520" y="47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4360" y="2276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58920" y="2492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55600" y="349200"/>
            <a:ext cx="3684600" cy="2583000"/>
          </a:xfrm>
          <a:custGeom>
            <a:avLst/>
            <a:gdLst/>
            <a:ahLst/>
            <a:rect l="l" t="t" r="r" b="b"/>
            <a:pathLst>
              <a:path w="2321" h="1627">
                <a:moveTo>
                  <a:pt x="0" y="0"/>
                </a:moveTo>
                <a:lnTo>
                  <a:pt x="2321" y="16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141300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4360" y="335772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7640" y="2781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6160" y="10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580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сторона треугольника мень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и двух других сторо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име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лее двух равных угл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сторона и угол од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ветственно равны стороне и углу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, то такие треугольники рав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для которого АВ = 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 = 4, АС = 5, угол С наименьши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68360" y="62064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сторон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е суммы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г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00000" y="2997360"/>
            <a:ext cx="5216760" cy="310644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232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5600" y="244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8680" y="3571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19640" y="4149720"/>
                <a:ext cx="3699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4067280" y="4743360"/>
                <a:ext cx="3673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27280" y="537372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ы 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404640"/>
            <a:ext cx="2881440" cy="36007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765000"/>
            <a:ext cx="3024360" cy="261648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180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1308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216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52720" y="3357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13440" y="33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234936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48000" y="234936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8803200">
            <a:off x="1547280" y="349956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18800">
            <a:off x="3645000" y="350784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4836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8803200">
            <a:off x="5076360" y="285192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18800">
            <a:off x="7093080" y="285228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082560" y="1126440"/>
            <a:ext cx="28728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38800" y="3267000"/>
            <a:ext cx="180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угол равен 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тикальный с ним угол равен 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ые две прямые имеют ро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у общую точк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з любые три точки проходит ро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а пряма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сстояние от точки до прямой меньше 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и длина любой наклонной, провед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данной точки к прямой, меньше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f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628400">
            <a:off x="395280" y="2491920"/>
            <a:ext cx="2684520" cy="13813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628400">
            <a:off x="395280" y="4365360"/>
            <a:ext cx="2684520" cy="13809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5865200">
            <a:off x="3663720" y="2535840"/>
            <a:ext cx="203220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5632400">
            <a:off x="3374640" y="4625280"/>
            <a:ext cx="2032200" cy="19440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4504800">
            <a:off x="6661800" y="1915200"/>
            <a:ext cx="1495440" cy="23637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5105600">
            <a:off x="6877440" y="3858480"/>
            <a:ext cx="1495440" cy="23637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476360" y="450864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476360" y="2637000"/>
            <a:ext cx="71280" cy="215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683720" y="5143320"/>
            <a:ext cx="180720" cy="355680"/>
            <a:chOff x="1683720" y="5143320"/>
            <a:chExt cx="180720" cy="355680"/>
          </a:xfrm>
        </p:grpSpPr>
        <p:sp>
          <p:nvSpPr>
            <p:cNvPr id="378" name=""/>
            <p:cNvSpPr/>
            <p:nvPr/>
          </p:nvSpPr>
          <p:spPr>
            <a:xfrm flipH="1" flipV="1">
              <a:off x="1792800" y="514332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1683720" y="5333400"/>
              <a:ext cx="71640" cy="165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674360" y="3269880"/>
            <a:ext cx="180360" cy="354960"/>
            <a:chOff x="1674360" y="3269880"/>
            <a:chExt cx="180360" cy="354960"/>
          </a:xfrm>
        </p:grpSpPr>
        <p:sp>
          <p:nvSpPr>
            <p:cNvPr id="381" name=""/>
            <p:cNvSpPr/>
            <p:nvPr/>
          </p:nvSpPr>
          <p:spPr>
            <a:xfrm flipH="1" flipV="1">
              <a:off x="1783080" y="326988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1674360" y="3459600"/>
              <a:ext cx="71640" cy="1652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 rot="19589400">
            <a:off x="2050920" y="436536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572000" y="249228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40360" y="4581360"/>
            <a:ext cx="71280" cy="2160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9589400">
            <a:off x="20509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589400">
            <a:off x="4716360" y="45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589400">
            <a:off x="5076720" y="249192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1293200">
            <a:off x="3497400" y="486180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1620200">
            <a:off x="3650400" y="479844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1293200">
            <a:off x="3841920" y="2770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1620200">
            <a:off x="3994920" y="270756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101080" y="270828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803640" y="522936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524360" y="3645000"/>
            <a:ext cx="7164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596360" y="3645000"/>
            <a:ext cx="71280" cy="2156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308360" y="4292640"/>
            <a:ext cx="7164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380360" y="4292640"/>
            <a:ext cx="71280" cy="216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67640" y="5084640"/>
            <a:ext cx="173160" cy="16668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810560" y="4940280"/>
            <a:ext cx="172800" cy="16668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37480" y="5011560"/>
            <a:ext cx="173160" cy="16704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48360" y="3141720"/>
            <a:ext cx="173160" cy="16668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1280" y="2997360"/>
            <a:ext cx="173160" cy="16668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18200" y="3068640"/>
            <a:ext cx="173160" cy="166680"/>
          </a:xfrm>
          <a:custGeom>
            <a:avLst/>
            <a:gdLst/>
            <a:ahLst/>
            <a:rect l="l" t="t" r="r" b="b"/>
            <a:pathLst>
              <a:path w="109" h="105">
                <a:moveTo>
                  <a:pt x="109" y="10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енство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яется по трём элемен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ей стороны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й 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8144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488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20360" y="174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8580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6836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944800">
            <a:off x="1987560" y="1476000"/>
            <a:ext cx="2376720" cy="233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58320 h 233280"/>
              <a:gd name="textAreaBottom" fmla="*/ 1749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638400">
            <a:off x="1565280" y="2134800"/>
            <a:ext cx="3024000" cy="233280"/>
          </a:xfrm>
          <a:custGeom>
            <a:avLst/>
            <a:gdLst>
              <a:gd name="textAreaLeft" fmla="*/ 378000 w 3024000"/>
              <a:gd name="textAreaRight" fmla="*/ 2646000 w 3024000"/>
              <a:gd name="textAreaTop" fmla="*/ 58320 h 233280"/>
              <a:gd name="textAreaBottom" fmla="*/ 1749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450200">
            <a:off x="2195280" y="1699920"/>
            <a:ext cx="4392360" cy="220680"/>
          </a:xfrm>
          <a:custGeom>
            <a:avLst/>
            <a:gdLst>
              <a:gd name="textAreaLeft" fmla="*/ 549000 w 4392360"/>
              <a:gd name="textAreaRight" fmla="*/ 3843360 w 439236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 меньшего у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жит большая сторо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один угол треугольника больше 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два других его угла меньше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все стороны треугольника меньше 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и все его высоты меньше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острых углов прямоуг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 не превосходит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7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18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его угла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ая ст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8144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9488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20360" y="174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580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6836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944800">
            <a:off x="1987560" y="1476000"/>
            <a:ext cx="2376720" cy="233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58320 h 233280"/>
              <a:gd name="textAreaBottom" fmla="*/ 1749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8638400">
            <a:off x="1565280" y="2134800"/>
            <a:ext cx="3024000" cy="233280"/>
          </a:xfrm>
          <a:custGeom>
            <a:avLst/>
            <a:gdLst>
              <a:gd name="textAreaLeft" fmla="*/ 378000 w 3024000"/>
              <a:gd name="textAreaRight" fmla="*/ 2646000 w 3024000"/>
              <a:gd name="textAreaTop" fmla="*/ 58320 h 233280"/>
              <a:gd name="textAreaBottom" fmla="*/ 174960 h 23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450200">
            <a:off x="2195280" y="1699920"/>
            <a:ext cx="4392360" cy="220680"/>
          </a:xfrm>
          <a:custGeom>
            <a:avLst/>
            <a:gdLst>
              <a:gd name="textAreaLeft" fmla="*/ 549000 w 4392360"/>
              <a:gd name="textAreaRight" fmla="*/ 3843360 w 439236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углов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8144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9488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419640" y="2924280"/>
                <a:ext cx="5256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пендикуляр, проведённы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прямой, меньше лю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ной, проведённой из той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853720" y="-57960"/>
            <a:ext cx="2931840" cy="3446280"/>
            <a:chOff x="2853720" y="-57960"/>
            <a:chExt cx="2931840" cy="3446280"/>
          </a:xfrm>
        </p:grpSpPr>
        <p:sp>
          <p:nvSpPr>
            <p:cNvPr id="459" name=""/>
            <p:cNvSpPr/>
            <p:nvPr/>
          </p:nvSpPr>
          <p:spPr>
            <a:xfrm rot="20003400">
              <a:off x="3419640" y="188640"/>
              <a:ext cx="1800000" cy="29527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20003400">
              <a:off x="3868560" y="1155600"/>
              <a:ext cx="934920" cy="1728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484360" y="1587600"/>
            <a:ext cx="5275440" cy="2633400"/>
          </a:xfrm>
          <a:custGeom>
            <a:avLst/>
            <a:gdLst/>
            <a:ahLst/>
            <a:rect l="l" t="t" r="r" b="b"/>
            <a:pathLst>
              <a:path w="3041" h="1524">
                <a:moveTo>
                  <a:pt x="0" y="1524"/>
                </a:moveTo>
                <a:lnTo>
                  <a:pt x="30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126828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780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1016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1280" y="1341360"/>
            <a:ext cx="1944720" cy="1224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254000">
            <a:off x="3995280" y="333360"/>
            <a:ext cx="211320" cy="976320"/>
          </a:xfrm>
          <a:prstGeom prst="downArrow">
            <a:avLst>
              <a:gd name="adj1" fmla="val 50000"/>
              <a:gd name="adj2" fmla="val 11550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7286600">
            <a:off x="3124800" y="772200"/>
            <a:ext cx="270000" cy="976320"/>
          </a:xfrm>
          <a:prstGeom prst="downArrow">
            <a:avLst>
              <a:gd name="adj1" fmla="val 50000"/>
              <a:gd name="adj2" fmla="val 904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98800" y="1344600"/>
            <a:ext cx="889200" cy="1747800"/>
          </a:xfrm>
          <a:custGeom>
            <a:avLst/>
            <a:gdLst/>
            <a:ahLst/>
            <a:rect l="l" t="t" r="r" b="b"/>
            <a:pathLst>
              <a:path w="560" h="1101">
                <a:moveTo>
                  <a:pt x="0" y="0"/>
                </a:moveTo>
                <a:lnTo>
                  <a:pt x="560" y="1101"/>
                </a:ln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21701 0.18078 E">
                                      <p:cBhvr>
                                        <p:cTn id="1441" dur="3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0.06701 -0.04722 E">
                                      <p:cBhvr>
                                        <p:cTn id="1452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0.09636 0.23217 E">
                                      <p:cBhvr>
                                        <p:cTn id="1464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0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острых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76360" y="620640"/>
            <a:ext cx="4608360" cy="338472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46520" y="26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8652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6520" y="3571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76360" y="350028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51280" y="555480"/>
                <a:ext cx="4681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219640" y="1197000"/>
                <a:ext cx="32814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АВС, для котор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гол А = 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ол В =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угол С = 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а ВС — наименьша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АВС, для которого АВ =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 = 5, АС = 6, угол В — наибольш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й угол треугольника боль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ого внутреннего угл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 со сторонами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532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его угла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ая ст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2180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0508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708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6640" y="2781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60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77000" y="69228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70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8640" y="1341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en-US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450200">
            <a:off x="2196720" y="1746000"/>
            <a:ext cx="3456000" cy="220680"/>
          </a:xfrm>
          <a:custGeom>
            <a:avLst/>
            <a:gdLst>
              <a:gd name="textAreaLeft" fmla="*/ 432000 w 3456000"/>
              <a:gd name="textAreaRight" fmla="*/ 3024000 w 34560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ей стороны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й 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2180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4872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580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4144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3984800">
            <a:off x="2016720" y="1513080"/>
            <a:ext cx="2376360" cy="260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0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76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угла наз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тикальными, если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го угла я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олжениями сторон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213000"/>
            <a:ext cx="5543640" cy="1944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3213000"/>
            <a:ext cx="6769080" cy="1873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944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94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3720" y="3276720"/>
            <a:ext cx="2971800" cy="1828800"/>
          </a:xfrm>
          <a:custGeom>
            <a:avLst/>
            <a:gdLst/>
            <a:ahLst/>
            <a:rect l="l" t="t" r="r" b="b"/>
            <a:pathLst>
              <a:path w="1872" h="1152">
                <a:moveTo>
                  <a:pt x="0" y="0"/>
                </a:moveTo>
                <a:lnTo>
                  <a:pt x="1872" y="525"/>
                </a:lnTo>
                <a:lnTo>
                  <a:pt x="34" y="1152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4760" y="3249720"/>
            <a:ext cx="3452760" cy="1814400"/>
          </a:xfrm>
          <a:custGeom>
            <a:avLst/>
            <a:gdLst/>
            <a:ahLst/>
            <a:rect l="l" t="t" r="r" b="b"/>
            <a:pathLst>
              <a:path w="2175" h="1143">
                <a:moveTo>
                  <a:pt x="2175" y="1143"/>
                </a:moveTo>
                <a:lnTo>
                  <a:pt x="0" y="514"/>
                </a:lnTo>
                <a:lnTo>
                  <a:pt x="1489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70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58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254000">
            <a:off x="1761840" y="2205000"/>
            <a:ext cx="210960" cy="976320"/>
          </a:xfrm>
          <a:prstGeom prst="downArrow">
            <a:avLst>
              <a:gd name="adj1" fmla="val 50000"/>
              <a:gd name="adj2" fmla="val 1157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254000">
            <a:off x="1906200" y="407808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300640"/>
            <a:ext cx="5938920" cy="93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тикальны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0.68507 0.27315 E">
                                      <p:cBhvr>
                                        <p:cTn id="91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0.57882 -0.28102 E">
                                      <p:cBhvr>
                                        <p:cTn id="10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68360" y="476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углом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угол, сме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аким-нибудь уг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223400">
            <a:off x="610920" y="3789360"/>
            <a:ext cx="225360" cy="97632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997360"/>
            <a:ext cx="3711600" cy="1801800"/>
          </a:xfrm>
          <a:custGeom>
            <a:avLst/>
            <a:gdLst/>
            <a:ahLst/>
            <a:rect l="l" t="t" r="r" b="b"/>
            <a:pathLst>
              <a:path w="2701" h="1525">
                <a:moveTo>
                  <a:pt x="0" y="1513"/>
                </a:moveTo>
                <a:lnTo>
                  <a:pt x="2701" y="1516"/>
                </a:lnTo>
                <a:lnTo>
                  <a:pt x="1998" y="0"/>
                </a:lnTo>
                <a:lnTo>
                  <a:pt x="414" y="1525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616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908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58920" y="2565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63640" y="55897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2565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19640" y="2421000"/>
            <a:ext cx="3711600" cy="2332080"/>
          </a:xfrm>
          <a:custGeom>
            <a:avLst/>
            <a:gdLst/>
            <a:ahLst/>
            <a:rect l="l" t="t" r="r" b="b"/>
            <a:pathLst>
              <a:path w="2338" h="1469">
                <a:moveTo>
                  <a:pt x="0" y="1467"/>
                </a:moveTo>
                <a:lnTo>
                  <a:pt x="2338" y="1469"/>
                </a:lnTo>
                <a:lnTo>
                  <a:pt x="569" y="0"/>
                </a:lnTo>
                <a:lnTo>
                  <a:pt x="569" y="145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9223400">
            <a:off x="5579640" y="3716280"/>
            <a:ext cx="225360" cy="97632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09800" y="5041800"/>
            <a:ext cx="4394160" cy="1656000"/>
          </a:xfrm>
          <a:custGeom>
            <a:avLst/>
            <a:gdLst/>
            <a:ahLst/>
            <a:rect l="l" t="t" r="r" b="b"/>
            <a:pathLst>
              <a:path w="2768" h="1043">
                <a:moveTo>
                  <a:pt x="51" y="1034"/>
                </a:moveTo>
                <a:lnTo>
                  <a:pt x="2768" y="1043"/>
                </a:lnTo>
                <a:lnTo>
                  <a:pt x="0" y="0"/>
                </a:lnTo>
                <a:lnTo>
                  <a:pt x="999" y="1032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9223400">
            <a:off x="3563640" y="5661000"/>
            <a:ext cx="225360" cy="97632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сторон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е су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друг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02180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5076720" y="2708280"/>
                <a:ext cx="3457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076720" y="2133720"/>
                <a:ext cx="3456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076720" y="3284640"/>
                <a:ext cx="3456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 flipH="1">
            <a:off x="1834920" y="549360"/>
            <a:ext cx="433080" cy="30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68360" y="549360"/>
            <a:ext cx="4751640" cy="936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835280" y="1484280"/>
            <a:ext cx="5184720" cy="216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сстояние между центрами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ей равно сумме их диамет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и окружности касают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исанные углы окружности рав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вписанный угол равен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д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, на которую опирается этот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з любые четыре точки, не принадлежа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й прямой, проходит един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786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798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804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сстояние между цент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окружностей равно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радиу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и окружности кас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87280" y="620640"/>
            <a:ext cx="3168720" cy="3168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1052640"/>
            <a:ext cx="2376720" cy="2376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508720" y="220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71640" y="220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19920" y="2276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28280" y="2276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36800" y="2219400"/>
            <a:ext cx="1519200" cy="1440"/>
          </a:xfrm>
          <a:custGeom>
            <a:avLst/>
            <a:gdLst/>
            <a:ahLst/>
            <a:rect l="l" t="t" r="r" b="b"/>
            <a:pathLst>
              <a:path w="957" h="1">
                <a:moveTo>
                  <a:pt x="0" y="0"/>
                </a:moveTo>
                <a:lnTo>
                  <a:pt x="957" y="0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70400" y="2219400"/>
            <a:ext cx="1216080" cy="1440"/>
          </a:xfrm>
          <a:custGeom>
            <a:avLst/>
            <a:gdLst/>
            <a:ahLst/>
            <a:rect l="l" t="t" r="r" b="b"/>
            <a:pathLst>
              <a:path w="766" h="1">
                <a:moveTo>
                  <a:pt x="0" y="0"/>
                </a:moveTo>
                <a:lnTo>
                  <a:pt x="766" y="0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29360" y="1628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i="1" lang="en-US" sz="32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26080" y="1628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i="1" lang="en-US" sz="3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724360" y="333360"/>
                <a:ext cx="3132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392616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68360" y="476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ол, вершина которого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кружности, а стор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кают окруж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вписан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2924280"/>
            <a:ext cx="3168360" cy="3168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40360" y="4508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88640" y="45799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78000" y="3389400"/>
            <a:ext cx="3992400" cy="3279600"/>
          </a:xfrm>
          <a:custGeom>
            <a:avLst/>
            <a:gdLst/>
            <a:ahLst/>
            <a:rect l="l" t="t" r="r" b="b"/>
            <a:pathLst>
              <a:path w="2515" h="2066">
                <a:moveTo>
                  <a:pt x="0" y="1185"/>
                </a:moveTo>
                <a:lnTo>
                  <a:pt x="2515" y="0"/>
                </a:lnTo>
                <a:lnTo>
                  <a:pt x="2109" y="2066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8877200">
            <a:off x="1935000" y="3790440"/>
            <a:ext cx="284040" cy="976320"/>
          </a:xfrm>
          <a:prstGeom prst="downArrow">
            <a:avLst>
              <a:gd name="adj1" fmla="val 50000"/>
              <a:gd name="adj2" fmla="val 8593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54200" y="4021200"/>
            <a:ext cx="3106800" cy="2392200"/>
          </a:xfrm>
          <a:custGeom>
            <a:avLst/>
            <a:gdLst/>
            <a:ahLst/>
            <a:rect l="l" t="t" r="r" b="b"/>
            <a:pathLst>
              <a:path w="1957" h="1507">
                <a:moveTo>
                  <a:pt x="0" y="1143"/>
                </a:moveTo>
                <a:lnTo>
                  <a:pt x="1957" y="0"/>
                </a:lnTo>
                <a:lnTo>
                  <a:pt x="280" y="1507"/>
                </a:lnTo>
              </a:path>
            </a:pathLst>
          </a:custGeom>
          <a:noFill/>
          <a:ln w="414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70200" y="3294000"/>
            <a:ext cx="2205000" cy="3133800"/>
          </a:xfrm>
          <a:custGeom>
            <a:avLst/>
            <a:gdLst/>
            <a:ahLst/>
            <a:rect l="l" t="t" r="r" b="b"/>
            <a:pathLst>
              <a:path w="1389" h="1974">
                <a:moveTo>
                  <a:pt x="0" y="1737"/>
                </a:moveTo>
                <a:lnTo>
                  <a:pt x="220" y="0"/>
                </a:lnTo>
                <a:lnTo>
                  <a:pt x="1389" y="1974"/>
                </a:lnTo>
              </a:path>
            </a:pathLst>
          </a:custGeom>
          <a:noFill/>
          <a:ln w="414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08200" y="4707000"/>
            <a:ext cx="3079800" cy="1371600"/>
          </a:xfrm>
          <a:custGeom>
            <a:avLst/>
            <a:gdLst/>
            <a:ahLst/>
            <a:rect l="l" t="t" r="r" b="b"/>
            <a:pathLst>
              <a:path w="1940" h="864">
                <a:moveTo>
                  <a:pt x="1940" y="864"/>
                </a:moveTo>
                <a:lnTo>
                  <a:pt x="0" y="135"/>
                </a:lnTo>
                <a:lnTo>
                  <a:pt x="1932" y="0"/>
                </a:lnTo>
              </a:path>
            </a:pathLst>
          </a:custGeom>
          <a:noFill/>
          <a:ln w="414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1372 -0.07061 C 0.13993 -0.08056 0.16354 -0.10487 0.19462 -0.11783 C 0.22483 -0.13195 0.28455 -0.19283 0.29462 -0.15487 C 0.30469 -0.1169 0.26719 0.02939 0.25486 0.10972 L 0.22101 0.32731 E">
                                      <p:cBhvr>
                                        <p:cTn id="1878" dur="3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90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2" nodeType="after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1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исанный угол изм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иной ду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71640" y="2852640"/>
            <a:ext cx="3168720" cy="3168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35600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04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3139920"/>
            <a:ext cx="3992400" cy="3279960"/>
          </a:xfrm>
          <a:custGeom>
            <a:avLst/>
            <a:gdLst/>
            <a:ahLst/>
            <a:rect l="l" t="t" r="r" b="b"/>
            <a:pathLst>
              <a:path w="2515" h="2066">
                <a:moveTo>
                  <a:pt x="0" y="1185"/>
                </a:moveTo>
                <a:lnTo>
                  <a:pt x="2515" y="0"/>
                </a:lnTo>
                <a:lnTo>
                  <a:pt x="2109" y="2066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14175600">
            <a:off x="2144880" y="4341960"/>
            <a:ext cx="212760" cy="976320"/>
          </a:xfrm>
          <a:prstGeom prst="downArrow">
            <a:avLst>
              <a:gd name="adj1" fmla="val 50000"/>
              <a:gd name="adj2" fmla="val 11472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5" dur="indefinite" restart="never" nodeType="tmRoot">
          <p:childTnLst>
            <p:seq>
              <p:cTn id="1916" dur="indefinite" nodeType="mainSeq">
                <p:childTnLst>
                  <p:par>
                    <p:cTn id="1917" fill="hold">
                      <p:stCondLst>
                        <p:cond delay="0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0.02448 0.07592 C 0.03837 0.10231 0.04931 0.12962 0.06111 0.14861 C 0.07292 0.16759 0.07899 0.17592 0.09497 0.18958 C 0.1158 0.21134 0.14167 0.22337 0.15677 0.23078 C 0.17153 0.23888 0.17292 0.23726 0.18316 0.23865 L 0.21858 0.23865 E">
                                      <p:cBhvr>
                                        <p:cTn id="1938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042920" y="404640"/>
            <a:ext cx="2881440" cy="2799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1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440" y="191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62160" y="26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49800" y="26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03280" y="692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48000" y="692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35280" y="2349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4508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03280" y="270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1197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59280" y="2133720"/>
            <a:ext cx="2881440" cy="27986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028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07852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16616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19640" y="242100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42100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429264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19640" y="443700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19280" y="3862440"/>
            <a:ext cx="2881440" cy="27986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3708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27016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26160" y="371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11280" y="5013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24360" y="4149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51280" y="558972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1440" y="609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7964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4360" y="35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0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1699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санные углы, опир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дну и ту же хорду окружности, рав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диусы двух окружностей равны 5 и 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расстояние между их центрами равно 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и окружности не имеют общих точе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диус окружности равен 3, а расстоя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 центра окружности до прямой равно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и прямая и окружность не пересекают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вписанный угол равен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то д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, на которую опирается этот уг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97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97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991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771640" y="2852640"/>
            <a:ext cx="3168720" cy="3168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5600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04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09800" y="3139920"/>
            <a:ext cx="2441520" cy="2843280"/>
          </a:xfrm>
          <a:custGeom>
            <a:avLst/>
            <a:gdLst/>
            <a:ahLst/>
            <a:rect l="l" t="t" r="r" b="b"/>
            <a:pathLst>
              <a:path w="1538" h="1791">
                <a:moveTo>
                  <a:pt x="0" y="707"/>
                </a:moveTo>
                <a:lnTo>
                  <a:pt x="1538" y="0"/>
                </a:lnTo>
                <a:lnTo>
                  <a:pt x="1152" y="1791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4175600">
            <a:off x="2144880" y="4341960"/>
            <a:ext cx="212760" cy="976320"/>
          </a:xfrm>
          <a:prstGeom prst="downArrow">
            <a:avLst>
              <a:gd name="adj1" fmla="val 50000"/>
              <a:gd name="adj2" fmla="val 11472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97200" y="2971800"/>
            <a:ext cx="1828800" cy="3025800"/>
          </a:xfrm>
          <a:custGeom>
            <a:avLst/>
            <a:gdLst/>
            <a:ahLst/>
            <a:rect l="l" t="t" r="r" b="b"/>
            <a:pathLst>
              <a:path w="1152" h="1906">
                <a:moveTo>
                  <a:pt x="0" y="822"/>
                </a:moveTo>
                <a:lnTo>
                  <a:pt x="576" y="0"/>
                </a:lnTo>
                <a:lnTo>
                  <a:pt x="1152" y="1906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70200" y="3522600"/>
            <a:ext cx="2932200" cy="2448000"/>
          </a:xfrm>
          <a:custGeom>
            <a:avLst/>
            <a:gdLst/>
            <a:ahLst/>
            <a:rect l="l" t="t" r="r" b="b"/>
            <a:pathLst>
              <a:path w="1847" h="1542">
                <a:moveTo>
                  <a:pt x="0" y="500"/>
                </a:moveTo>
                <a:lnTo>
                  <a:pt x="1847" y="0"/>
                </a:lnTo>
                <a:lnTo>
                  <a:pt x="1186" y="1542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исанный угол изм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иной ду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0.02448 0.07592 C 0.03837 0.10231 0.04931 0.12962 0.06111 0.14861 C 0.07292 0.16759 0.07899 0.17592 0.09497 0.18958 C 0.1158 0.21134 0.14167 0.22337 0.15677 0.23078 C 0.17153 0.23888 0.17292 0.23726 0.18316 0.23865 L 0.21858 0.23865 E">
                                      <p:cBhvr>
                                        <p:cTn id="2008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87280" y="549360"/>
            <a:ext cx="3240360" cy="3240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1052640"/>
            <a:ext cx="2376360" cy="2376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00720" y="220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71640" y="220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419920" y="2276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09360" y="220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36800" y="2205000"/>
            <a:ext cx="1600200" cy="14400"/>
          </a:xfrm>
          <a:custGeom>
            <a:avLst/>
            <a:gdLst/>
            <a:ahLst/>
            <a:rect l="l" t="t" r="r" b="b"/>
            <a:pathLst>
              <a:path w="1008" h="9">
                <a:moveTo>
                  <a:pt x="0" y="9"/>
                </a:moveTo>
                <a:lnTo>
                  <a:pt x="1008" y="0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162400" y="2219400"/>
            <a:ext cx="1216080" cy="1440"/>
          </a:xfrm>
          <a:custGeom>
            <a:avLst/>
            <a:gdLst/>
            <a:ahLst/>
            <a:rect l="l" t="t" r="r" b="b"/>
            <a:pathLst>
              <a:path w="766" h="1">
                <a:moveTo>
                  <a:pt x="0" y="0"/>
                </a:moveTo>
                <a:lnTo>
                  <a:pt x="766" y="0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29360" y="1628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i="1" lang="en-US" sz="32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18440" y="1628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i="1" lang="en-US" sz="3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92616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140360" y="134136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9272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50872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2436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94036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98764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0364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1964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3528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5128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6728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213372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24360" y="3141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13440" y="98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6478560" y="3933720"/>
            <a:ext cx="2665440" cy="201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411280" y="3933720"/>
                <a:ext cx="1319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755640" y="3933720"/>
                <a:ext cx="13651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466560" y="5518080"/>
                <a:ext cx="11368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44960" y="3933720"/>
                <a:ext cx="1365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340000" y="4508640"/>
                <a:ext cx="2184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423200" y="328680"/>
                <a:ext cx="11365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1979640" y="5734080"/>
            <a:ext cx="976320" cy="21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59280" y="5445000"/>
            <a:ext cx="4138560" cy="865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общие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23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2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27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29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31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33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35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37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39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292 0 E">
                                      <p:cBhvr>
                                        <p:cTn id="2041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9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прямые либо имеют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у общую точку, 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11280" y="836280"/>
            <a:ext cx="3816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763280" y="333360"/>
            <a:ext cx="129564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7440" y="5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308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9080" y="2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060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500360" y="404640"/>
            <a:ext cx="2879640" cy="324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579640" y="476280"/>
            <a:ext cx="287964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9800" y="3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2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сстояние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 до прямой мень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а, то прямая и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ют две общие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124000" y="2854440"/>
            <a:ext cx="3240000" cy="3240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08360" y="451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56640" y="4581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73520" y="4510080"/>
            <a:ext cx="1600200" cy="14400"/>
          </a:xfrm>
          <a:custGeom>
            <a:avLst/>
            <a:gdLst/>
            <a:ahLst/>
            <a:rect l="l" t="t" r="r" b="b"/>
            <a:pathLst>
              <a:path w="1008" h="9">
                <a:moveTo>
                  <a:pt x="0" y="9"/>
                </a:moveTo>
                <a:lnTo>
                  <a:pt x="1008" y="0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365720" y="3933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i="1" lang="en-US" sz="32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6108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437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859280" y="4437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6108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59280" y="2708280"/>
            <a:ext cx="0" cy="3816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86200" y="3213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788000" y="5589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0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исанный угол изм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иной ду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71640" y="2852640"/>
            <a:ext cx="3168720" cy="3168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04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58920" y="3139920"/>
            <a:ext cx="3992400" cy="3279960"/>
          </a:xfrm>
          <a:custGeom>
            <a:avLst/>
            <a:gdLst/>
            <a:ahLst/>
            <a:rect l="l" t="t" r="r" b="b"/>
            <a:pathLst>
              <a:path w="2515" h="2066">
                <a:moveTo>
                  <a:pt x="0" y="1185"/>
                </a:moveTo>
                <a:lnTo>
                  <a:pt x="2515" y="0"/>
                </a:lnTo>
                <a:lnTo>
                  <a:pt x="2109" y="2066"/>
                </a:lnTo>
              </a:path>
            </a:pathLst>
          </a:custGeom>
          <a:noFill/>
          <a:ln w="414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14175600">
            <a:off x="2144880" y="4341960"/>
            <a:ext cx="212760" cy="976320"/>
          </a:xfrm>
          <a:prstGeom prst="downArrow">
            <a:avLst>
              <a:gd name="adj1" fmla="val 50000"/>
              <a:gd name="adj2" fmla="val 11472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0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0.02448 0.07592 C 0.03837 0.10231 0.04931 0.12962 0.06111 0.14861 C 0.07292 0.16759 0.07899 0.17592 0.09497 0.18958 C 0.1158 0.21134 0.14167 0.22337 0.15677 0.23078 C 0.17153 0.23888 0.17292 0.23726 0.18316 0.23865 L 0.21858 0.23865 E">
                                      <p:cBhvr>
                                        <p:cTn id="2158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углов выпук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ехугольника равна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один из углов параллелограмма равен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ротивоположный ему угол равен 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гонали квадрата делят его углы попола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в четырехугольнике д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оположные стороны рав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от четырехугольник — параллелограм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2169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217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2187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39528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клым, если он лежит по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у от каждой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ходящей через две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едние вер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116000" y="3213000"/>
            <a:ext cx="5230800" cy="3429000"/>
          </a:xfrm>
          <a:custGeom>
            <a:avLst/>
            <a:gdLst/>
            <a:ahLst/>
            <a:rect l="l" t="t" r="r" b="b"/>
            <a:pathLst>
              <a:path w="3295" h="2160">
                <a:moveTo>
                  <a:pt x="0" y="2024"/>
                </a:moveTo>
                <a:lnTo>
                  <a:pt x="17" y="0"/>
                </a:lnTo>
                <a:lnTo>
                  <a:pt x="3295" y="17"/>
                </a:lnTo>
                <a:lnTo>
                  <a:pt x="3286" y="2160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26920" y="3213000"/>
            <a:ext cx="62661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0360" y="2205000"/>
            <a:ext cx="2165040" cy="4289400"/>
          </a:xfrm>
          <a:custGeom>
            <a:avLst/>
            <a:gdLst/>
            <a:ahLst/>
            <a:rect l="l" t="t" r="r" b="b"/>
            <a:pathLst>
              <a:path w="1364" h="2702">
                <a:moveTo>
                  <a:pt x="0" y="0"/>
                </a:moveTo>
                <a:lnTo>
                  <a:pt x="1364" y="2702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11280" y="2421000"/>
            <a:ext cx="5500440" cy="5270400"/>
          </a:xfrm>
          <a:custGeom>
            <a:avLst/>
            <a:gdLst/>
            <a:ahLst/>
            <a:rect l="l" t="t" r="r" b="b"/>
            <a:pathLst>
              <a:path w="3465" h="3320">
                <a:moveTo>
                  <a:pt x="0" y="1135"/>
                </a:moveTo>
                <a:lnTo>
                  <a:pt x="2288" y="0"/>
                </a:lnTo>
                <a:lnTo>
                  <a:pt x="3465" y="2354"/>
                </a:lnTo>
                <a:lnTo>
                  <a:pt x="1813" y="3320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35280" y="4503600"/>
            <a:ext cx="3065400" cy="2354400"/>
          </a:xfrm>
          <a:custGeom>
            <a:avLst/>
            <a:gdLst/>
            <a:ahLst/>
            <a:rect l="l" t="t" r="r" b="b"/>
            <a:pathLst>
              <a:path w="1931" h="1483">
                <a:moveTo>
                  <a:pt x="1931" y="0"/>
                </a:moveTo>
                <a:lnTo>
                  <a:pt x="0" y="1483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2043000"/>
            <a:ext cx="6226200" cy="4815000"/>
          </a:xfrm>
          <a:custGeom>
            <a:avLst/>
            <a:gdLst/>
            <a:ahLst/>
            <a:rect l="l" t="t" r="r" b="b"/>
            <a:pathLst>
              <a:path w="3922" h="3033">
                <a:moveTo>
                  <a:pt x="2905" y="0"/>
                </a:moveTo>
                <a:lnTo>
                  <a:pt x="3922" y="1745"/>
                </a:lnTo>
                <a:lnTo>
                  <a:pt x="2227" y="3033"/>
                </a:lnTo>
                <a:lnTo>
                  <a:pt x="0" y="1533"/>
                </a:lnTo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96800" y="4451400"/>
            <a:ext cx="4062600" cy="2473200"/>
          </a:xfrm>
          <a:custGeom>
            <a:avLst/>
            <a:gdLst/>
            <a:ahLst/>
            <a:rect l="l" t="t" r="r" b="b"/>
            <a:pathLst>
              <a:path w="2559" h="1558">
                <a:moveTo>
                  <a:pt x="0" y="0"/>
                </a:moveTo>
                <a:lnTo>
                  <a:pt x="2559" y="1558"/>
                </a:ln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79400" y="2595600"/>
            <a:ext cx="8364600" cy="4262400"/>
          </a:xfrm>
          <a:custGeom>
            <a:avLst/>
            <a:gdLst/>
            <a:ahLst/>
            <a:rect l="l" t="t" r="r" b="b"/>
            <a:pathLst>
              <a:path w="5269" h="2685">
                <a:moveTo>
                  <a:pt x="424" y="0"/>
                </a:moveTo>
                <a:lnTo>
                  <a:pt x="0" y="1261"/>
                </a:lnTo>
                <a:lnTo>
                  <a:pt x="2321" y="2685"/>
                </a:lnTo>
                <a:lnTo>
                  <a:pt x="5269" y="119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35120" y="2424240"/>
            <a:ext cx="789120" cy="4516200"/>
          </a:xfrm>
          <a:custGeom>
            <a:avLst/>
            <a:gdLst/>
            <a:ahLst/>
            <a:rect l="l" t="t" r="r" b="b"/>
            <a:pathLst>
              <a:path w="497" h="2845">
                <a:moveTo>
                  <a:pt x="497" y="0"/>
                </a:moveTo>
                <a:lnTo>
                  <a:pt x="0" y="2845"/>
                </a:lnTo>
              </a:path>
            </a:pathLst>
          </a:custGeom>
          <a:noFill/>
          <a:ln w="442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63640" y="1773360"/>
            <a:ext cx="5407200" cy="4903560"/>
          </a:xfrm>
          <a:custGeom>
            <a:avLst/>
            <a:gdLst/>
            <a:ahLst/>
            <a:rect l="l" t="t" r="r" b="b"/>
            <a:pathLst>
              <a:path w="3406" h="3089">
                <a:moveTo>
                  <a:pt x="3039" y="0"/>
                </a:moveTo>
                <a:lnTo>
                  <a:pt x="439" y="445"/>
                </a:lnTo>
                <a:lnTo>
                  <a:pt x="0" y="2862"/>
                </a:lnTo>
                <a:lnTo>
                  <a:pt x="3406" y="308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878600">
            <a:off x="1834920" y="2997360"/>
            <a:ext cx="3887640" cy="3147840"/>
          </a:xfrm>
          <a:prstGeom prst="pentagon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528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углов выпук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угольника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п – 2) 180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0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5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5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3" nodeType="after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4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3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араллелогра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оположные стороны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оположны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19280" y="3429000"/>
            <a:ext cx="5113440" cy="2232000"/>
          </a:xfrm>
          <a:prstGeom prst="parallelogram">
            <a:avLst>
              <a:gd name="adj" fmla="val 57274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60720" y="551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3452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95640" y="443700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12000" y="450864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8803200">
            <a:off x="1978920" y="5157360"/>
            <a:ext cx="23796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9210200">
            <a:off x="6089760" y="3470400"/>
            <a:ext cx="279360" cy="50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41308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3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28464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59280" y="3284640"/>
            <a:ext cx="180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08360" y="5516640"/>
            <a:ext cx="180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80000" y="551664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14250000">
            <a:off x="2898360" y="3444480"/>
            <a:ext cx="32724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3538800">
            <a:off x="5145840" y="5160240"/>
            <a:ext cx="35064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гонали квадрата рав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аимно перпендикулярны, 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делятся попол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ят углы квадрата по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35280" y="2924280"/>
            <a:ext cx="3384360" cy="338436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00360" y="393372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067280" y="393372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67280" y="530064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00360" y="530064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18879000">
            <a:off x="2916000" y="436536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35280" y="2924280"/>
            <a:ext cx="3416040" cy="3402000"/>
          </a:xfrm>
          <a:custGeom>
            <a:avLst/>
            <a:gdLst/>
            <a:ahLst/>
            <a:rect l="l" t="t" r="r" b="b"/>
            <a:pathLst>
              <a:path w="2152" h="2143">
                <a:moveTo>
                  <a:pt x="2152" y="214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835280" y="2923920"/>
            <a:ext cx="3384360" cy="3384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7246200">
            <a:off x="2008080" y="5489280"/>
            <a:ext cx="22536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3885800">
            <a:off x="1956960" y="3287160"/>
            <a:ext cx="219240" cy="39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8803200">
            <a:off x="2339280" y="5805000"/>
            <a:ext cx="23796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328400">
            <a:off x="4451400" y="2997000"/>
            <a:ext cx="30492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13327200">
            <a:off x="2295000" y="2957040"/>
            <a:ext cx="211320" cy="38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7636400">
            <a:off x="4790880" y="3344760"/>
            <a:ext cx="277920" cy="41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407000">
            <a:off x="4411800" y="5802120"/>
            <a:ext cx="276120" cy="45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3763800">
            <a:off x="4800240" y="5418720"/>
            <a:ext cx="2538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0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4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в четырёхугольнике д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ы равны и параллель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от четырёхугольн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95280" y="836280"/>
            <a:ext cx="3673440" cy="2449440"/>
          </a:xfrm>
          <a:custGeom>
            <a:avLst/>
            <a:gdLst>
              <a:gd name="textAreaLeft" fmla="*/ 807840 w 3673440"/>
              <a:gd name="textAreaRight" fmla="*/ 2865600 w 3673440"/>
              <a:gd name="textAreaTop" fmla="*/ 538560 h 2449440"/>
              <a:gd name="textAreaBottom" fmla="*/ 191088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84360" y="220500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64000" y="220500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84720" y="836640"/>
            <a:ext cx="4464000" cy="2448000"/>
          </a:xfrm>
          <a:prstGeom prst="parallelogram">
            <a:avLst>
              <a:gd name="adj" fmla="val 45588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64328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2800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16400" y="820800"/>
            <a:ext cx="1076400" cy="2446200"/>
          </a:xfrm>
          <a:custGeom>
            <a:avLst/>
            <a:gdLst/>
            <a:ahLst/>
            <a:rect l="l" t="t" r="r" b="b"/>
            <a:pathLst>
              <a:path w="678" h="1541">
                <a:moveTo>
                  <a:pt x="678" y="0"/>
                </a:moveTo>
                <a:lnTo>
                  <a:pt x="0" y="1541"/>
                </a:ln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37400" y="847800"/>
            <a:ext cx="1089000" cy="2419200"/>
          </a:xfrm>
          <a:custGeom>
            <a:avLst/>
            <a:gdLst/>
            <a:ahLst/>
            <a:rect l="l" t="t" r="r" b="b"/>
            <a:pathLst>
              <a:path w="686" h="1524">
                <a:moveTo>
                  <a:pt x="686" y="0"/>
                </a:moveTo>
                <a:lnTo>
                  <a:pt x="0" y="1524"/>
                </a:ln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3" dur="indefinite" restart="never" nodeType="tmRoot">
          <p:childTnLst>
            <p:seq>
              <p:cTn id="2404" dur="indefinite" nodeType="mainSeq">
                <p:childTnLst>
                  <p:par>
                    <p:cTn id="2405" fill="hold">
                      <p:stCondLst>
                        <p:cond delay="0"/>
                      </p:stCondLst>
                      <p:childTnLst>
                        <p:par>
                          <p:cTn id="2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отивоположные уг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клого четырехугольника рав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от четырехугольник — параллелограм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сумма трех углов выпук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ехугольника равна 2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его четвертый угол равен 1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двух противоположных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ехугольника не превосходит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основания трапеции равны 4 и 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средняя линия этой трапеции равна 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5" dur="indefinite" restart="never" nodeType="tmRoot">
          <p:childTnLst>
            <p:seq>
              <p:cTn id="2446" dur="indefinite" nodeType="mainSeq">
                <p:childTnLst>
                  <p:par>
                    <p:cTn id="2447" fill="hold">
                      <p:stCondLst>
                        <p:cond delay="0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2455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0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2461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2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2473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395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60" y="170028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ырёхугольник является параллелограмм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" y="198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42920" y="227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627280" y="2276640"/>
            <a:ext cx="3024360" cy="1152360"/>
          </a:xfrm>
          <a:prstGeom prst="parallelogram">
            <a:avLst>
              <a:gd name="adj" fmla="val 65612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641680" y="2273400"/>
            <a:ext cx="736560" cy="1143000"/>
          </a:xfrm>
          <a:custGeom>
            <a:avLst/>
            <a:gdLst/>
            <a:ahLst/>
            <a:rect l="l" t="t" r="r" b="b"/>
            <a:pathLst>
              <a:path w="464" h="720">
                <a:moveTo>
                  <a:pt x="464" y="0"/>
                </a:moveTo>
                <a:lnTo>
                  <a:pt x="0" y="72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902120" y="2247840"/>
            <a:ext cx="774720" cy="1181160"/>
          </a:xfrm>
          <a:custGeom>
            <a:avLst/>
            <a:gdLst/>
            <a:ahLst/>
            <a:rect l="l" t="t" r="r" b="b"/>
            <a:pathLst>
              <a:path w="488" h="744">
                <a:moveTo>
                  <a:pt x="488" y="0"/>
                </a:moveTo>
                <a:lnTo>
                  <a:pt x="0" y="74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19640" y="2260440"/>
            <a:ext cx="2219040" cy="16200"/>
          </a:xfrm>
          <a:custGeom>
            <a:avLst/>
            <a:gdLst/>
            <a:ahLst/>
            <a:rect l="l" t="t" r="r" b="b"/>
            <a:pathLst>
              <a:path w="1398" h="10">
                <a:moveTo>
                  <a:pt x="0" y="10"/>
                </a:moveTo>
                <a:lnTo>
                  <a:pt x="1398" y="0"/>
                </a:ln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3416400"/>
            <a:ext cx="2262240" cy="12600"/>
          </a:xfrm>
          <a:custGeom>
            <a:avLst/>
            <a:gdLst/>
            <a:ahLst/>
            <a:rect l="l" t="t" r="r" b="b"/>
            <a:pathLst>
              <a:path w="1425" h="8">
                <a:moveTo>
                  <a:pt x="0" y="8"/>
                </a:moveTo>
                <a:lnTo>
                  <a:pt x="1425" y="0"/>
                </a:lnTo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378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16360" y="2852640"/>
            <a:ext cx="215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48360" y="2852640"/>
            <a:ext cx="215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427640" y="2133360"/>
            <a:ext cx="144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852720" y="3284280"/>
            <a:ext cx="180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500720" y="2133360"/>
            <a:ext cx="144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924360" y="3284280"/>
            <a:ext cx="144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411280" y="3873600"/>
            <a:ext cx="3024360" cy="1152360"/>
          </a:xfrm>
          <a:prstGeom prst="parallelogram">
            <a:avLst>
              <a:gd name="adj" fmla="val 65612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3860640"/>
            <a:ext cx="762120" cy="1181160"/>
          </a:xfrm>
          <a:custGeom>
            <a:avLst/>
            <a:gdLst/>
            <a:ahLst/>
            <a:rect l="l" t="t" r="r" b="b"/>
            <a:pathLst>
              <a:path w="480" h="744">
                <a:moveTo>
                  <a:pt x="480" y="0"/>
                </a:moveTo>
                <a:lnTo>
                  <a:pt x="0" y="74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700360" y="4449600"/>
            <a:ext cx="21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32360" y="4449600"/>
            <a:ext cx="21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372360" y="3860640"/>
            <a:ext cx="761760" cy="1181160"/>
          </a:xfrm>
          <a:custGeom>
            <a:avLst/>
            <a:gdLst/>
            <a:ahLst/>
            <a:rect l="l" t="t" r="r" b="b"/>
            <a:pathLst>
              <a:path w="480" h="744">
                <a:moveTo>
                  <a:pt x="480" y="0"/>
                </a:moveTo>
                <a:lnTo>
                  <a:pt x="0" y="74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340000" y="5445000"/>
            <a:ext cx="3024000" cy="1152720"/>
          </a:xfrm>
          <a:prstGeom prst="parallelogram">
            <a:avLst>
              <a:gd name="adj" fmla="val 65584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042920" y="53737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374920" y="5460840"/>
            <a:ext cx="2971800" cy="1130400"/>
          </a:xfrm>
          <a:custGeom>
            <a:avLst/>
            <a:gdLst/>
            <a:ahLst/>
            <a:rect l="l" t="t" r="r" b="b"/>
            <a:pathLst>
              <a:path w="1872" h="712">
                <a:moveTo>
                  <a:pt x="0" y="712"/>
                </a:moveTo>
                <a:lnTo>
                  <a:pt x="1872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11480" y="5460840"/>
            <a:ext cx="1486080" cy="1130400"/>
          </a:xfrm>
          <a:custGeom>
            <a:avLst/>
            <a:gdLst/>
            <a:ahLst/>
            <a:rect l="l" t="t" r="r" b="b"/>
            <a:pathLst>
              <a:path w="936" h="712">
                <a:moveTo>
                  <a:pt x="0" y="0"/>
                </a:moveTo>
                <a:lnTo>
                  <a:pt x="936" y="712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4098960" y="6161040"/>
            <a:ext cx="15228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451320" y="5657760"/>
            <a:ext cx="15228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381560" y="567180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159360" y="6103080"/>
            <a:ext cx="9324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454640" y="567180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230640" y="6103440"/>
            <a:ext cx="93600" cy="194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8" dur="indefinite" restart="never" nodeType="tmRoot">
          <p:childTnLst>
            <p:seq>
              <p:cTn id="2479" dur="indefinite" nodeType="mainSeq">
                <p:childTnLst>
                  <p:par>
                    <p:cTn id="2480" fill="hold">
                      <p:stCondLst>
                        <p:cond delay="0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0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5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8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1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0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3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5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5.55556E-006 L -0.37794 5.55556E-006 E">
                                      <p:cBhvr>
                                        <p:cTn id="2597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18108 3.33333E-006 E">
                                      <p:cBhvr>
                                        <p:cTn id="260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4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а углов выпук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ёх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3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1280" y="2924280"/>
            <a:ext cx="2232000" cy="136836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059280" y="2997360"/>
            <a:ext cx="2879640" cy="1296720"/>
          </a:xfrm>
          <a:prstGeom prst="parallelogram">
            <a:avLst>
              <a:gd name="adj" fmla="val 55518"/>
            </a:avLst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300720" y="2924280"/>
            <a:ext cx="2449440" cy="1368360"/>
          </a:xfrm>
          <a:custGeom>
            <a:avLst/>
            <a:gdLst>
              <a:gd name="textAreaLeft" fmla="*/ 538560 w 2449440"/>
              <a:gd name="textAreaRight" fmla="*/ 1910880 w 2449440"/>
              <a:gd name="textAreaTop" fmla="*/ 300960 h 1368360"/>
              <a:gd name="textAreaBottom" fmla="*/ 1067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797360"/>
            <a:ext cx="3671640" cy="1513080"/>
          </a:xfrm>
          <a:prstGeom prst="diamond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00680" y="4762440"/>
            <a:ext cx="3555720" cy="1689120"/>
          </a:xfrm>
          <a:custGeom>
            <a:avLst/>
            <a:gdLst/>
            <a:ahLst/>
            <a:rect l="l" t="t" r="r" b="b"/>
            <a:pathLst>
              <a:path w="2240" h="1064">
                <a:moveTo>
                  <a:pt x="896" y="1064"/>
                </a:moveTo>
                <a:lnTo>
                  <a:pt x="0" y="120"/>
                </a:lnTo>
                <a:lnTo>
                  <a:pt x="1360" y="0"/>
                </a:lnTo>
                <a:lnTo>
                  <a:pt x="2240" y="344"/>
                </a:lnTo>
                <a:lnTo>
                  <a:pt x="888" y="106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0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всегда через три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но провести одну 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4200" y="2313000"/>
            <a:ext cx="4424400" cy="349200"/>
          </a:xfrm>
          <a:custGeom>
            <a:avLst/>
            <a:gdLst/>
            <a:ahLst/>
            <a:rect l="l" t="t" r="r" b="b"/>
            <a:pathLst>
              <a:path w="2787" h="220">
                <a:moveTo>
                  <a:pt x="0" y="220"/>
                </a:moveTo>
                <a:lnTo>
                  <a:pt x="27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6800" y="147600"/>
            <a:ext cx="2165400" cy="4021200"/>
          </a:xfrm>
          <a:custGeom>
            <a:avLst/>
            <a:gdLst/>
            <a:ahLst/>
            <a:rect l="l" t="t" r="r" b="b"/>
            <a:pathLst>
              <a:path w="1364" h="2533">
                <a:moveTo>
                  <a:pt x="1364" y="0"/>
                </a:moveTo>
                <a:lnTo>
                  <a:pt x="0" y="253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9800" y="54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616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981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292360" y="836640"/>
            <a:ext cx="287964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2520" y="47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2276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2492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5600" y="349200"/>
            <a:ext cx="3684600" cy="2583000"/>
          </a:xfrm>
          <a:custGeom>
            <a:avLst/>
            <a:gdLst/>
            <a:ahLst/>
            <a:rect l="l" t="t" r="r" b="b"/>
            <a:pathLst>
              <a:path w="2321" h="1627">
                <a:moveTo>
                  <a:pt x="0" y="0"/>
                </a:moveTo>
                <a:lnTo>
                  <a:pt x="2321" y="16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141300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335772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2781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6160" y="10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2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68360" y="431640"/>
            <a:ext cx="3672000" cy="1513080"/>
          </a:xfrm>
          <a:prstGeom prst="diamond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800" y="863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580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26160" y="194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142160" y="93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81080" y="2635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2708280"/>
            <a:ext cx="3556080" cy="1689120"/>
          </a:xfrm>
          <a:custGeom>
            <a:avLst/>
            <a:gdLst/>
            <a:ahLst/>
            <a:rect l="l" t="t" r="r" b="b"/>
            <a:pathLst>
              <a:path w="2240" h="1064">
                <a:moveTo>
                  <a:pt x="896" y="1064"/>
                </a:moveTo>
                <a:lnTo>
                  <a:pt x="0" y="120"/>
                </a:lnTo>
                <a:lnTo>
                  <a:pt x="1360" y="0"/>
                </a:lnTo>
                <a:lnTo>
                  <a:pt x="2240" y="344"/>
                </a:lnTo>
                <a:lnTo>
                  <a:pt x="888" y="106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7852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5780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068720" y="2995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55640" y="5084640"/>
            <a:ext cx="2879640" cy="1297080"/>
          </a:xfrm>
          <a:prstGeom prst="parallelogram">
            <a:avLst>
              <a:gd name="adj" fmla="val 55502"/>
            </a:avLst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7800" y="6237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80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1780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1016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1169400">
            <a:off x="2411280" y="83664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963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2338400">
            <a:off x="1907280" y="549000"/>
            <a:ext cx="219240" cy="976320"/>
          </a:xfrm>
          <a:prstGeom prst="downArrow">
            <a:avLst>
              <a:gd name="adj1" fmla="val 50000"/>
              <a:gd name="adj2" fmla="val 111330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20064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859280" y="3284640"/>
                <a:ext cx="3821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932360" y="2421000"/>
                <a:ext cx="3728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D</m:t>
                    </m:r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003640" y="4149720"/>
                <a:ext cx="3684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Т</m:t>
                    </m:r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 rot="20439000">
            <a:off x="1758600" y="3187440"/>
            <a:ext cx="214200" cy="976320"/>
          </a:xfrm>
          <a:prstGeom prst="downArrow">
            <a:avLst>
              <a:gd name="adj1" fmla="val 50000"/>
              <a:gd name="adj2" fmla="val 113950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11964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9694200">
            <a:off x="2771280" y="2781000"/>
            <a:ext cx="212760" cy="976320"/>
          </a:xfrm>
          <a:prstGeom prst="downArrow">
            <a:avLst>
              <a:gd name="adj1" fmla="val 50000"/>
              <a:gd name="adj2" fmla="val 114721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1104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20439000">
            <a:off x="2626920" y="5300280"/>
            <a:ext cx="214200" cy="976320"/>
          </a:xfrm>
          <a:prstGeom prst="downArrow">
            <a:avLst>
              <a:gd name="adj1" fmla="val 50000"/>
              <a:gd name="adj2" fmla="val 113950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11964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9694200">
            <a:off x="1547280" y="5157360"/>
            <a:ext cx="212760" cy="976320"/>
          </a:xfrm>
          <a:prstGeom prst="downArrow">
            <a:avLst>
              <a:gd name="adj1" fmla="val 50000"/>
              <a:gd name="adj2" fmla="val 114721"/>
            </a:avLst>
          </a:prstGeom>
          <a:gradFill rotWithShape="0">
            <a:gsLst>
              <a:gs pos="0">
                <a:srgbClr val="fefefe"/>
              </a:gs>
              <a:gs pos="50000">
                <a:srgbClr val="993366"/>
              </a:gs>
              <a:gs pos="100000">
                <a:srgbClr val="fefefe"/>
              </a:gs>
            </a:gsLst>
            <a:lin ang="1104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9" dur="indefinite" restart="never" nodeType="tmRoot">
          <p:childTnLst>
            <p:seq>
              <p:cTn id="2660" dur="indefinite" nodeType="mainSeq">
                <p:childTnLst>
                  <p:par>
                    <p:cTn id="2661" fill="hold">
                      <p:stCondLst>
                        <p:cond delay="0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3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6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1" dur="10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3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0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3" dur="10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5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8" dur="10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0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7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0" dur="10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2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5" dur="10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яя линия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ьна основания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их полусум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76400" y="2782800"/>
            <a:ext cx="5700600" cy="2448000"/>
          </a:xfrm>
          <a:custGeom>
            <a:avLst/>
            <a:gdLst/>
            <a:ahLst/>
            <a:rect l="l" t="t" r="r" b="b"/>
            <a:pathLst>
              <a:path w="3591" h="1542">
                <a:moveTo>
                  <a:pt x="3591" y="1542"/>
                </a:moveTo>
                <a:lnTo>
                  <a:pt x="0" y="1542"/>
                </a:lnTo>
                <a:lnTo>
                  <a:pt x="618" y="0"/>
                </a:lnTo>
                <a:lnTo>
                  <a:pt x="2134" y="9"/>
                </a:lnTo>
                <a:lnTo>
                  <a:pt x="3583" y="1534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6160" y="522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9016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29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057400" y="2770200"/>
            <a:ext cx="2394000" cy="12600"/>
          </a:xfrm>
          <a:custGeom>
            <a:avLst/>
            <a:gdLst/>
            <a:ahLst/>
            <a:rect l="l" t="t" r="r" b="b"/>
            <a:pathLst>
              <a:path w="1508" h="8">
                <a:moveTo>
                  <a:pt x="0" y="0"/>
                </a:moveTo>
                <a:lnTo>
                  <a:pt x="1508" y="8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587600" y="3924360"/>
            <a:ext cx="3924360" cy="1440"/>
          </a:xfrm>
          <a:custGeom>
            <a:avLst/>
            <a:gdLst/>
            <a:ahLst/>
            <a:rect l="l" t="t" r="r" b="b"/>
            <a:pathLst>
              <a:path w="2472" h="1">
                <a:moveTo>
                  <a:pt x="2472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844720" y="5275440"/>
                <a:ext cx="43210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1042920" y="5229360"/>
            <a:ext cx="5742000" cy="1440"/>
          </a:xfrm>
          <a:custGeom>
            <a:avLst/>
            <a:gdLst/>
            <a:ahLst/>
            <a:rect l="l" t="t" r="r" b="b"/>
            <a:pathLst>
              <a:path w="3617" h="1">
                <a:moveTo>
                  <a:pt x="0" y="0"/>
                </a:moveTo>
                <a:lnTo>
                  <a:pt x="36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117800" y="36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581800" y="35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92360" y="342900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58920" y="450864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88000" y="328464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32360" y="335772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96000" y="436572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940360" y="443700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0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1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6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любого ромба можно о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юбой треугольник можно в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окружности, описанной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, является т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биссектри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окружности, вписанной в тре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точка пересечения середи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пендикуляров треугольн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8" dur="indefinite" restart="never" nodeType="tmRoot">
          <p:childTnLst>
            <p:seq>
              <p:cTn id="2819" dur="indefinite" nodeType="mainSeq">
                <p:childTnLst>
                  <p:par>
                    <p:cTn id="2820" fill="hold">
                      <p:stCondLst>
                        <p:cond delay="0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7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2828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3" restart="whenNotActive" nodeType="interactiveSeq" fill="hold">
                <p:stCondLst>
                  <p:cond evt="onClick">
                    <p:tgtEl>
                      <p:spTgt spid="897"/>
                    </p:tgtEl>
                  </p:cond>
                </p:stCondLst>
                <p:childTnLst>
                  <p:par>
                    <p:cTn id="2834" fill="hold">
                      <p:stCondLst>
                        <p:cond evt="onClick">
                          <p:tgtEl>
                            <p:spTgt spid="897"/>
                          </p:tgtEl>
                        </p:cond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898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898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4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5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2846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любого прави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а можно о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, и притом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95280" y="2492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м много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выпук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, у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углы и все сторон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50920" y="4724280"/>
            <a:ext cx="4321440" cy="1727280"/>
          </a:xfrm>
          <a:prstGeom prst="diamond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99744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37416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9780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6210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050920" y="5589720"/>
            <a:ext cx="43214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211640" y="472428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5344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0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3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юбой треугольник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иса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187280" y="4653000"/>
            <a:ext cx="1656000" cy="165564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187280" y="2637000"/>
            <a:ext cx="2376720" cy="367164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76720" y="2997360"/>
            <a:ext cx="1655640" cy="165564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rot="10800000">
            <a:off x="2629080" y="2997360"/>
            <a:ext cx="2952720" cy="255240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300720" y="4076640"/>
            <a:ext cx="1656000" cy="165600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140360" y="2349360"/>
            <a:ext cx="4660920" cy="4025880"/>
          </a:xfrm>
          <a:custGeom>
            <a:avLst/>
            <a:gdLst/>
            <a:ahLst/>
            <a:rect l="l" t="t" r="r" b="b"/>
            <a:pathLst>
              <a:path w="2936" h="2536">
                <a:moveTo>
                  <a:pt x="2936" y="0"/>
                </a:moveTo>
                <a:lnTo>
                  <a:pt x="2312" y="2072"/>
                </a:lnTo>
                <a:lnTo>
                  <a:pt x="0" y="2536"/>
                </a:lnTo>
                <a:lnTo>
                  <a:pt x="2920" y="16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0" dur="indefinite" restart="never" nodeType="tmRoot">
          <p:childTnLst>
            <p:seq>
              <p:cTn id="2911" dur="indefinite" nodeType="mainSeq">
                <p:childTnLst>
                  <p:par>
                    <p:cTn id="2912" fill="hold">
                      <p:stCondLst>
                        <p:cond delay="0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26920" y="260280"/>
            <a:ext cx="4032360" cy="403236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27852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6300720" y="3959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755640" y="450864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описанной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 окружности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пересечения середи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пендикуляров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330120"/>
            <a:ext cx="3035520" cy="3289320"/>
          </a:xfrm>
          <a:custGeom>
            <a:avLst/>
            <a:gdLst/>
            <a:ahLst/>
            <a:rect l="l" t="t" r="r" b="b"/>
            <a:pathLst>
              <a:path w="1912" h="2072">
                <a:moveTo>
                  <a:pt x="1912" y="2072"/>
                </a:moveTo>
                <a:lnTo>
                  <a:pt x="0" y="2064"/>
                </a:lnTo>
                <a:lnTo>
                  <a:pt x="1200" y="0"/>
                </a:lnTo>
                <a:lnTo>
                  <a:pt x="1904" y="2064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843280" y="2070000"/>
            <a:ext cx="1004760" cy="279360"/>
          </a:xfrm>
          <a:custGeom>
            <a:avLst/>
            <a:gdLst/>
            <a:ahLst/>
            <a:rect l="l" t="t" r="r" b="b"/>
            <a:pathLst>
              <a:path w="633" h="176">
                <a:moveTo>
                  <a:pt x="0" y="176"/>
                </a:moveTo>
                <a:lnTo>
                  <a:pt x="633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82880" y="2336760"/>
            <a:ext cx="12600" cy="1257480"/>
          </a:xfrm>
          <a:custGeom>
            <a:avLst/>
            <a:gdLst/>
            <a:ahLst/>
            <a:rect l="l" t="t" r="r" b="b"/>
            <a:pathLst>
              <a:path w="8" h="792">
                <a:moveTo>
                  <a:pt x="8" y="0"/>
                </a:moveTo>
                <a:lnTo>
                  <a:pt x="0" y="792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60440" y="2044800"/>
            <a:ext cx="622440" cy="317520"/>
          </a:xfrm>
          <a:custGeom>
            <a:avLst/>
            <a:gdLst/>
            <a:ahLst/>
            <a:rect l="l" t="t" r="r" b="b"/>
            <a:pathLst>
              <a:path w="392" h="200">
                <a:moveTo>
                  <a:pt x="392" y="20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43280" y="22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333440" y="2324160"/>
            <a:ext cx="1587600" cy="1257120"/>
          </a:xfrm>
          <a:custGeom>
            <a:avLst/>
            <a:gdLst/>
            <a:ahLst/>
            <a:rect l="l" t="t" r="r" b="b"/>
            <a:pathLst>
              <a:path w="1000" h="792">
                <a:moveTo>
                  <a:pt x="0" y="792"/>
                </a:moveTo>
                <a:lnTo>
                  <a:pt x="100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95480" y="2349360"/>
            <a:ext cx="1447920" cy="1244880"/>
          </a:xfrm>
          <a:custGeom>
            <a:avLst/>
            <a:gdLst/>
            <a:ahLst/>
            <a:rect l="l" t="t" r="r" b="b"/>
            <a:pathLst>
              <a:path w="912" h="784">
                <a:moveTo>
                  <a:pt x="0" y="0"/>
                </a:moveTo>
                <a:lnTo>
                  <a:pt x="912" y="7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908440" y="291960"/>
            <a:ext cx="342720" cy="2032200"/>
          </a:xfrm>
          <a:custGeom>
            <a:avLst/>
            <a:gdLst/>
            <a:ahLst/>
            <a:rect l="l" t="t" r="r" b="b"/>
            <a:pathLst>
              <a:path w="216" h="1280">
                <a:moveTo>
                  <a:pt x="0" y="1280"/>
                </a:moveTo>
                <a:lnTo>
                  <a:pt x="2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7344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3578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rot="12193800">
            <a:off x="2195280" y="2060280"/>
            <a:ext cx="215640" cy="217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rot="9789000">
            <a:off x="3682800" y="2113920"/>
            <a:ext cx="215640" cy="2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16360" y="3357720"/>
            <a:ext cx="215640" cy="2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564000" y="155736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27280" y="126828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627280" y="119700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763640" y="263700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763640" y="270828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492360" y="3500280"/>
            <a:ext cx="180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419640" y="3500280"/>
            <a:ext cx="1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3348000" y="3500280"/>
            <a:ext cx="180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2268360" y="3500280"/>
            <a:ext cx="180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195640" y="3500280"/>
            <a:ext cx="1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2124000" y="3500280"/>
            <a:ext cx="180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0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rot="11449800">
            <a:off x="1801800" y="1022040"/>
            <a:ext cx="2279520" cy="227952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06320" y="990720"/>
            <a:ext cx="6977160" cy="3614760"/>
          </a:xfrm>
          <a:custGeom>
            <a:avLst/>
            <a:gdLst/>
            <a:ahLst/>
            <a:rect l="l" t="t" r="r" b="b"/>
            <a:pathLst>
              <a:path w="4395" h="2277">
                <a:moveTo>
                  <a:pt x="0" y="2277"/>
                </a:moveTo>
                <a:lnTo>
                  <a:pt x="907" y="0"/>
                </a:lnTo>
                <a:lnTo>
                  <a:pt x="4395" y="0"/>
                </a:lnTo>
                <a:lnTo>
                  <a:pt x="18" y="2265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37080" y="62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669440" y="62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5800" y="44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916360" y="2133720"/>
            <a:ext cx="73080" cy="73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05120" y="1676520"/>
            <a:ext cx="1041120" cy="482400"/>
          </a:xfrm>
          <a:custGeom>
            <a:avLst/>
            <a:gdLst/>
            <a:ahLst/>
            <a:rect l="l" t="t" r="r" b="b"/>
            <a:pathLst>
              <a:path w="656" h="304">
                <a:moveTo>
                  <a:pt x="0" y="0"/>
                </a:moveTo>
                <a:lnTo>
                  <a:pt x="656" y="30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46240" y="2158920"/>
            <a:ext cx="520920" cy="1003320"/>
          </a:xfrm>
          <a:custGeom>
            <a:avLst/>
            <a:gdLst/>
            <a:ahLst/>
            <a:rect l="l" t="t" r="r" b="b"/>
            <a:pathLst>
              <a:path w="328" h="632">
                <a:moveTo>
                  <a:pt x="0" y="0"/>
                </a:moveTo>
                <a:lnTo>
                  <a:pt x="328" y="6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12193800">
            <a:off x="1834920" y="1699920"/>
            <a:ext cx="215640" cy="2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405080" y="126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11360" y="2171880"/>
            <a:ext cx="2247840" cy="2425680"/>
          </a:xfrm>
          <a:custGeom>
            <a:avLst/>
            <a:gdLst/>
            <a:ahLst/>
            <a:rect l="l" t="t" r="r" b="b"/>
            <a:pathLst>
              <a:path w="1416" h="1528">
                <a:moveTo>
                  <a:pt x="0" y="1528"/>
                </a:moveTo>
                <a:lnTo>
                  <a:pt x="1416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rot="7246200">
            <a:off x="1143000" y="3544560"/>
            <a:ext cx="153720" cy="35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rot="8803200">
            <a:off x="1475640" y="3789000"/>
            <a:ext cx="1681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33640" y="1003320"/>
            <a:ext cx="4648320" cy="1155600"/>
          </a:xfrm>
          <a:custGeom>
            <a:avLst/>
            <a:gdLst/>
            <a:ahLst/>
            <a:rect l="l" t="t" r="r" b="b"/>
            <a:pathLst>
              <a:path w="2928" h="728">
                <a:moveTo>
                  <a:pt x="0" y="728"/>
                </a:moveTo>
                <a:lnTo>
                  <a:pt x="2928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rot="20805000">
            <a:off x="6012000" y="981000"/>
            <a:ext cx="1681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20805000">
            <a:off x="6156360" y="1341360"/>
            <a:ext cx="1681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146320" y="1003320"/>
            <a:ext cx="787320" cy="1168560"/>
          </a:xfrm>
          <a:custGeom>
            <a:avLst/>
            <a:gdLst/>
            <a:ahLst/>
            <a:rect l="l" t="t" r="r" b="b"/>
            <a:pathLst>
              <a:path w="496" h="736">
                <a:moveTo>
                  <a:pt x="0" y="0"/>
                </a:moveTo>
                <a:lnTo>
                  <a:pt x="496" y="736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rot="13960200">
            <a:off x="2075400" y="1171800"/>
            <a:ext cx="168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3960200">
            <a:off x="2364480" y="955800"/>
            <a:ext cx="168120" cy="3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3769200">
            <a:off x="3192840" y="3007800"/>
            <a:ext cx="250560" cy="23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946240" y="965160"/>
            <a:ext cx="1800" cy="1193760"/>
          </a:xfrm>
          <a:custGeom>
            <a:avLst/>
            <a:gdLst/>
            <a:ahLst/>
            <a:rect l="l" t="t" r="r" b="b"/>
            <a:pathLst>
              <a:path w="1" h="752">
                <a:moveTo>
                  <a:pt x="0" y="0"/>
                </a:moveTo>
                <a:lnTo>
                  <a:pt x="0" y="75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rot="5400000">
            <a:off x="2698920" y="981720"/>
            <a:ext cx="231840" cy="23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772720" y="54936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421080" y="3068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6300720" y="3959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755640" y="450864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вписанной в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 являетс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биссект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98980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2" dur="indefinite" restart="never" nodeType="tmRoot">
          <p:childTnLst>
            <p:seq>
              <p:cTn id="3053" dur="indefinite" nodeType="mainSeq">
                <p:childTnLst>
                  <p:par>
                    <p:cTn id="3054" fill="hold">
                      <p:stCondLst>
                        <p:cond delay="0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2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1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любого правильного мног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но описать не более одной окруж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окружности, описанной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 со сторонами, равными 3, 4, 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дится на стороне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окружности, описанной около квадра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точка пересечения его диагонале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любого ромба можно о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8" dur="indefinite" restart="never" nodeType="tmRoot">
          <p:childTnLst>
            <p:seq>
              <p:cTn id="3149" dur="indefinite" nodeType="mainSeq">
                <p:childTnLst>
                  <p:par>
                    <p:cTn id="3150" fill="hold">
                      <p:stCondLst>
                        <p:cond delay="0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7" restart="whenNotActive" nodeType="interactiveSeq" fill="hold">
                <p:stCondLst>
                  <p:cond evt="onClick">
                    <p:tgtEl>
                      <p:spTgt spid="990"/>
                    </p:tgtEl>
                  </p:cond>
                </p:stCondLst>
                <p:childTnLst>
                  <p:par>
                    <p:cTn id="3158" fill="hold">
                      <p:stCondLst>
                        <p:cond evt="onClick">
                          <p:tgtEl>
                            <p:spTgt spid="990"/>
                          </p:tgtEl>
                        </p:cond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2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3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3164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9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3170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317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0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м много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. выпуклый многоуголь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которого все углы равны и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79280" y="2997360"/>
            <a:ext cx="2808360" cy="280800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32000" y="2997360"/>
            <a:ext cx="2808360" cy="280800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6360" y="2997360"/>
            <a:ext cx="2808360" cy="280800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132000" y="2995560"/>
            <a:ext cx="2808360" cy="2808360"/>
          </a:xfrm>
          <a:prstGeom prst="diamond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50920" y="2997360"/>
            <a:ext cx="2665440" cy="2533320"/>
          </a:xfrm>
          <a:prstGeom prst="pentagon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2997360"/>
            <a:ext cx="2376360" cy="205416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1" dur="indefinite" restart="never" nodeType="tmRoot">
          <p:childTnLst>
            <p:seq>
              <p:cTn id="3182" dur="indefinite" nodeType="mainSeq">
                <p:childTnLst>
                  <p:par>
                    <p:cTn id="3183" fill="hold">
                      <p:stCondLst>
                        <p:cond delay="0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9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3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2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7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547640" y="2852640"/>
            <a:ext cx="1944720" cy="302436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17800" y="573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3800" y="23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94160" y="58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132000" y="765000"/>
                <a:ext cx="57294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356000" y="189000"/>
                <a:ext cx="4365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203640" y="1484280"/>
                <a:ext cx="25905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6" name=""/>
          <p:cNvSpPr/>
          <p:nvPr/>
        </p:nvSpPr>
        <p:spPr>
          <a:xfrm>
            <a:off x="5796000" y="1700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6877080" y="1413000"/>
                <a:ext cx="2266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8" name=""/>
          <p:cNvSpPr/>
          <p:nvPr/>
        </p:nvSpPr>
        <p:spPr>
          <a:xfrm>
            <a:off x="2484360" y="4365720"/>
            <a:ext cx="142920" cy="73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492280"/>
            <a:ext cx="3671640" cy="367200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048760" y="3675600"/>
            <a:ext cx="151200" cy="154080"/>
          </a:xfrm>
          <a:prstGeom prst="line">
            <a:avLst/>
          </a:prstGeom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2841480" y="4899600"/>
            <a:ext cx="150840" cy="154080"/>
          </a:xfrm>
          <a:prstGeom prst="line">
            <a:avLst/>
          </a:prstGeom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8" dur="indefinite" restart="never" nodeType="tmRoot">
          <p:childTnLst>
            <p:seq>
              <p:cTn id="3209" dur="indefinite" nodeType="mainSeq">
                <p:childTnLst>
                  <p:par>
                    <p:cTn id="3210" fill="hold">
                      <p:stCondLst>
                        <p:cond delay="0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53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пендикуляр, проведённы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прямой, меньше лю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ной, проведённой из той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и к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53720" y="-57960"/>
            <a:ext cx="2931840" cy="3446280"/>
            <a:chOff x="2853720" y="-57960"/>
            <a:chExt cx="2931840" cy="3446280"/>
          </a:xfrm>
        </p:grpSpPr>
        <p:sp>
          <p:nvSpPr>
            <p:cNvPr id="116" name=""/>
            <p:cNvSpPr/>
            <p:nvPr/>
          </p:nvSpPr>
          <p:spPr>
            <a:xfrm rot="20003400">
              <a:off x="3419640" y="188640"/>
              <a:ext cx="1800000" cy="29527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003400">
              <a:off x="3868560" y="1155600"/>
              <a:ext cx="934920" cy="1728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484360" y="1587600"/>
            <a:ext cx="5275440" cy="2633400"/>
          </a:xfrm>
          <a:custGeom>
            <a:avLst/>
            <a:gdLst/>
            <a:ahLst/>
            <a:rect l="l" t="t" r="r" b="b"/>
            <a:pathLst>
              <a:path w="3041" h="1524">
                <a:moveTo>
                  <a:pt x="0" y="1524"/>
                </a:moveTo>
                <a:lnTo>
                  <a:pt x="30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26828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780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016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341360"/>
            <a:ext cx="1944720" cy="1224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254000">
            <a:off x="3995280" y="333360"/>
            <a:ext cx="211320" cy="976320"/>
          </a:xfrm>
          <a:prstGeom prst="downArrow">
            <a:avLst>
              <a:gd name="adj1" fmla="val 50000"/>
              <a:gd name="adj2" fmla="val 11550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7286600">
            <a:off x="3124800" y="772200"/>
            <a:ext cx="270000" cy="976320"/>
          </a:xfrm>
          <a:prstGeom prst="downArrow">
            <a:avLst>
              <a:gd name="adj1" fmla="val 50000"/>
              <a:gd name="adj2" fmla="val 904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98800" y="1344600"/>
            <a:ext cx="889200" cy="1747800"/>
          </a:xfrm>
          <a:custGeom>
            <a:avLst/>
            <a:gdLst/>
            <a:ahLst/>
            <a:rect l="l" t="t" r="r" b="b"/>
            <a:pathLst>
              <a:path w="560" h="1101">
                <a:moveTo>
                  <a:pt x="0" y="0"/>
                </a:moveTo>
                <a:lnTo>
                  <a:pt x="560" y="1101"/>
                </a:ln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21701 0.18078 E">
                                      <p:cBhvr>
                                        <p:cTn id="295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0.06701 -0.04722 E">
                                      <p:cBhvr>
                                        <p:cTn id="30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0.09636 0.23217 E">
                                      <p:cBhvr>
                                        <p:cTn id="31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395280" y="189000"/>
            <a:ext cx="5938920" cy="1628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сумма противополо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ов четырёх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а 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то около него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иса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698920" y="3573360"/>
            <a:ext cx="2519280" cy="251964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68720" y="595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268720" y="32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221440" y="32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22180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2560" y="2997360"/>
            <a:ext cx="3671640" cy="3671640"/>
          </a:xfrm>
          <a:prstGeom prst="ellipse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698920" y="3573360"/>
            <a:ext cx="2520720" cy="251964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698920" y="3573360"/>
            <a:ext cx="2520720" cy="251964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24360" y="4797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30960" y="4146120"/>
            <a:ext cx="155160" cy="150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306960" y="5370120"/>
            <a:ext cx="155160" cy="150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3272760" y="4180680"/>
            <a:ext cx="151560" cy="154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425840" y="5331600"/>
            <a:ext cx="151200" cy="154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5280" y="1916280"/>
            <a:ext cx="6624720" cy="863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гонали квадрата рав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ой пересечения делятся поп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8216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4" dur="indefinite" restart="never" nodeType="tmRoot">
          <p:childTnLst>
            <p:seq>
              <p:cTn id="3255" dur="indefinite" nodeType="mainSeq">
                <p:childTnLst>
                  <p:par>
                    <p:cTn id="3256" fill="hold">
                      <p:stCondLst>
                        <p:cond delay="0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9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любого прави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а можно о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, и притом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249228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м много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выпук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, у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углы и все сторон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050920" y="4724280"/>
            <a:ext cx="4321440" cy="1727280"/>
          </a:xfrm>
          <a:prstGeom prst="diamond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99744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37416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99780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210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050920" y="5589720"/>
            <a:ext cx="43214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211640" y="472428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344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8" dur="indefinite" restart="never" nodeType="tmRoot">
          <p:childTnLst>
            <p:seq>
              <p:cTn id="3319" dur="indefinite" nodeType="mainSeq">
                <p:childTnLst>
                  <p:par>
                    <p:cTn id="3320" fill="hold">
                      <p:stCondLst>
                        <p:cond delay="0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4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 имеет бесконечно 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в симметр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симметрии равнобедренной трапе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точка пересечения ее диагонале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пятиугольник имеет п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й симметр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 не имеет центра симметр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6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3387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3388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2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3393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8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3399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4" restart="whenNotActive" nodeType="interactiveSeq" fill="hold">
                <p:stCondLst>
                  <p:cond evt="onClick">
                    <p:tgtEl>
                      <p:spTgt spid="1061"/>
                    </p:tgtEl>
                  </p:cond>
                </p:stCondLst>
                <p:childTnLst>
                  <p:par>
                    <p:cTn id="3405" fill="hold">
                      <p:stCondLst>
                        <p:cond evt="onClick">
                          <p:tgtEl>
                            <p:spTgt spid="1061"/>
                          </p:tgtEl>
                        </p:cond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льн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1979640" y="2708280"/>
            <a:ext cx="3816360" cy="3816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716360" y="623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478160" y="43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052720" y="58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946240" y="2933640"/>
            <a:ext cx="1879920" cy="3353040"/>
          </a:xfrm>
          <a:custGeom>
            <a:avLst/>
            <a:gdLst/>
            <a:ahLst/>
            <a:rect l="l" t="t" r="r" b="b"/>
            <a:pathLst>
              <a:path w="1184" h="2112">
                <a:moveTo>
                  <a:pt x="0" y="0"/>
                </a:moveTo>
                <a:lnTo>
                  <a:pt x="1184" y="2112"/>
                </a:ln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3454560"/>
            <a:ext cx="2934000" cy="2425680"/>
          </a:xfrm>
          <a:custGeom>
            <a:avLst/>
            <a:gdLst/>
            <a:ahLst/>
            <a:rect l="l" t="t" r="r" b="b"/>
            <a:pathLst>
              <a:path w="1848" h="1528">
                <a:moveTo>
                  <a:pt x="1848" y="0"/>
                </a:moveTo>
                <a:lnTo>
                  <a:pt x="0" y="1528"/>
                </a:ln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340000" y="573408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716360" y="616572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316400" y="5440320"/>
            <a:ext cx="15264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3379680" y="3784320"/>
            <a:ext cx="15264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4524480" y="4015800"/>
            <a:ext cx="93600" cy="194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3086280" y="5168160"/>
            <a:ext cx="93240" cy="194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4597560" y="4015440"/>
            <a:ext cx="9324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3157560" y="516852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981080" y="4559400"/>
            <a:ext cx="3810240" cy="177840"/>
          </a:xfrm>
          <a:custGeom>
            <a:avLst/>
            <a:gdLst/>
            <a:ahLst/>
            <a:rect l="l" t="t" r="r" b="b"/>
            <a:pathLst>
              <a:path w="2400" h="112">
                <a:moveTo>
                  <a:pt x="0" y="0"/>
                </a:moveTo>
                <a:lnTo>
                  <a:pt x="2400" y="112"/>
                </a:lnTo>
              </a:path>
            </a:pathLst>
          </a:custGeom>
          <a:noFill/>
          <a:ln w="414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835280" y="443700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rot="16200000">
            <a:off x="4786920" y="465300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16200000">
            <a:off x="2770920" y="450900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1280" y="4581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0" dur="indefinite" restart="never" nodeType="tmRoot">
          <p:childTnLst>
            <p:seq>
              <p:cTn id="3411" dur="indefinite" nodeType="mainSeq">
                <p:childTnLst>
                  <p:par>
                    <p:cTn id="3412" fill="hold">
                      <p:stCondLst>
                        <p:cond delay="0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20086 -0.47777 E">
                                      <p:cBhvr>
                                        <p:cTn id="3436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31892 -0.35185 E">
                                      <p:cBhvr>
                                        <p:cTn id="3461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48148E-006 L 0.42135 0.02616 E">
                                      <p:cBhvr>
                                        <p:cTn id="3490" dur="2000" fill="hold"/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льн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800280" y="3009960"/>
            <a:ext cx="5257800" cy="2882880"/>
          </a:xfrm>
          <a:custGeom>
            <a:avLst/>
            <a:gdLst/>
            <a:ahLst/>
            <a:rect l="l" t="t" r="r" b="b"/>
            <a:pathLst>
              <a:path w="3312" h="1816">
                <a:moveTo>
                  <a:pt x="16" y="1808"/>
                </a:moveTo>
                <a:lnTo>
                  <a:pt x="1224" y="0"/>
                </a:lnTo>
                <a:lnTo>
                  <a:pt x="2728" y="8"/>
                </a:lnTo>
                <a:lnTo>
                  <a:pt x="3312" y="1816"/>
                </a:lnTo>
                <a:lnTo>
                  <a:pt x="0" y="180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078520" y="256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413080" y="256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836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4160" y="587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863640" y="3048120"/>
            <a:ext cx="4241880" cy="2819160"/>
          </a:xfrm>
          <a:custGeom>
            <a:avLst/>
            <a:gdLst/>
            <a:ahLst/>
            <a:rect l="l" t="t" r="r" b="b"/>
            <a:pathLst>
              <a:path w="2672" h="1776">
                <a:moveTo>
                  <a:pt x="2672" y="0"/>
                </a:moveTo>
                <a:lnTo>
                  <a:pt x="0" y="17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700360" y="2997360"/>
            <a:ext cx="3314520" cy="2869920"/>
          </a:xfrm>
          <a:custGeom>
            <a:avLst/>
            <a:gdLst/>
            <a:ahLst/>
            <a:rect l="l" t="t" r="r" b="b"/>
            <a:pathLst>
              <a:path w="2088" h="1808">
                <a:moveTo>
                  <a:pt x="2088" y="180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708360" y="3860640"/>
            <a:ext cx="14292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940360" y="5805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5" dur="indefinite" restart="never" nodeType="tmRoot">
          <p:childTnLst>
            <p:seq>
              <p:cTn id="3506" dur="indefinite" nodeType="mainSeq">
                <p:childTnLst>
                  <p:par>
                    <p:cTn id="3507" fill="hold">
                      <p:stCondLst>
                        <p:cond delay="0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1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35816 -0.41481 E">
                                      <p:cBhvr>
                                        <p:cTn id="3534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3964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в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жащей в плоскости фигу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2268360" y="2708280"/>
            <a:ext cx="3888000" cy="3695760"/>
          </a:xfrm>
          <a:prstGeom prst="pentagon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11640" y="2492280"/>
            <a:ext cx="0" cy="436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68360" y="4149720"/>
            <a:ext cx="388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rot="16200000">
            <a:off x="3131280" y="4077360"/>
            <a:ext cx="31248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4931640" y="4077360"/>
            <a:ext cx="31248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476440" y="2362320"/>
            <a:ext cx="3187800" cy="4406760"/>
          </a:xfrm>
          <a:custGeom>
            <a:avLst/>
            <a:gdLst/>
            <a:ahLst/>
            <a:rect l="l" t="t" r="r" b="b"/>
            <a:pathLst>
              <a:path w="2008" h="2776">
                <a:moveTo>
                  <a:pt x="2008" y="277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16360" y="623736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5400000">
            <a:off x="3420000" y="630936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5400000">
            <a:off x="4644000" y="630936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140360" y="263700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16320" y="2705040"/>
            <a:ext cx="1181160" cy="3708360"/>
          </a:xfrm>
          <a:custGeom>
            <a:avLst/>
            <a:gdLst/>
            <a:ahLst/>
            <a:rect l="l" t="t" r="r" b="b"/>
            <a:pathLst>
              <a:path w="744" h="2336">
                <a:moveTo>
                  <a:pt x="0" y="0"/>
                </a:moveTo>
                <a:lnTo>
                  <a:pt x="744" y="23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4355280" y="364536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4931640" y="5301360"/>
            <a:ext cx="31248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2412000" y="486936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2699280" y="573300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27000" y="3657600"/>
            <a:ext cx="6553440" cy="2222640"/>
          </a:xfrm>
          <a:custGeom>
            <a:avLst/>
            <a:gdLst/>
            <a:ahLst/>
            <a:rect l="l" t="t" r="r" b="b"/>
            <a:pathLst>
              <a:path w="4128" h="1400">
                <a:moveTo>
                  <a:pt x="4128" y="14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17640" y="2476440"/>
            <a:ext cx="3213360" cy="4267440"/>
          </a:xfrm>
          <a:custGeom>
            <a:avLst/>
            <a:gdLst/>
            <a:ahLst/>
            <a:rect l="l" t="t" r="r" b="b"/>
            <a:pathLst>
              <a:path w="2024" h="2688">
                <a:moveTo>
                  <a:pt x="2024" y="0"/>
                </a:moveTo>
                <a:lnTo>
                  <a:pt x="0" y="26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041480" y="3708360"/>
            <a:ext cx="6375240" cy="2158920"/>
          </a:xfrm>
          <a:custGeom>
            <a:avLst/>
            <a:gdLst/>
            <a:ahLst/>
            <a:rect l="l" t="t" r="r" b="b"/>
            <a:pathLst>
              <a:path w="4016" h="1360">
                <a:moveTo>
                  <a:pt x="4016" y="0"/>
                </a:moveTo>
                <a:lnTo>
                  <a:pt x="0" y="1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5" dur="indefinite" restart="never" nodeType="tmRoot">
          <p:childTnLst>
            <p:seq>
              <p:cTn id="3536" dur="indefinite" nodeType="mainSeq">
                <p:childTnLst>
                  <p:par>
                    <p:cTn id="3537" fill="hold">
                      <p:stCondLst>
                        <p:cond delay="0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1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7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48148E-006 L 0.42916 0.00532 E">
                                      <p:cBhvr>
                                        <p:cTn id="3564" dur="2000" fill="hold"/>
                                        <p:tgtEl>
                                          <p:spTgt spid="1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2559 0.00533 E">
                                      <p:cBhvr>
                                        <p:cTn id="3584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2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6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0.12205 0.53033 E">
                                      <p:cBhvr>
                                        <p:cTn id="3638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5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0.08264 0.33079 E">
                                      <p:cBhvr>
                                        <p:cTn id="3658" dur="2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3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5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9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льн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340000" y="3068640"/>
            <a:ext cx="3168720" cy="316872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08000" y="609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510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90980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51088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340000" y="3068640"/>
            <a:ext cx="3168720" cy="3168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340000" y="3068640"/>
            <a:ext cx="3168720" cy="3168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268360" y="609300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364000" y="6093000"/>
            <a:ext cx="21600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532400" y="5297400"/>
            <a:ext cx="15228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235320" y="3929040"/>
            <a:ext cx="15264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4453200" y="3871080"/>
            <a:ext cx="93240" cy="194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3086280" y="5311080"/>
            <a:ext cx="93240" cy="194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4525920" y="387144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 flipV="1">
            <a:off x="3157560" y="531144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340000" y="4076640"/>
            <a:ext cx="3168720" cy="115272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195640" y="3933720"/>
            <a:ext cx="21564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4570920" y="486900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2844000" y="422172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51280" y="4581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0" dur="indefinite" restart="never" nodeType="tmRoot">
          <p:childTnLst>
            <p:seq>
              <p:cTn id="3711" dur="indefinite" nodeType="mainSeq">
                <p:childTnLst>
                  <p:par>
                    <p:cTn id="3712" fill="hold">
                      <p:stCondLst>
                        <p:cond delay="0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2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1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3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4254 -0.45672 E">
                                      <p:cBhvr>
                                        <p:cTn id="3736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8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34253 -0.45672 E">
                                      <p:cBhvr>
                                        <p:cTn id="3761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09 L 0.35451 0.17824 E">
                                      <p:cBhvr>
                                        <p:cTn id="3790" dur="20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3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ьный шестиугольник 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надцать осей симметр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 имеет одну ось симметр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бедренный треугольник 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оси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ом симметрии ромба является т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его диагон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5" dur="indefinite" restart="never" nodeType="tmRoot">
          <p:childTnLst>
            <p:seq>
              <p:cTn id="3806" dur="indefinite" nodeType="mainSeq">
                <p:childTnLst>
                  <p:par>
                    <p:cTn id="3807" fill="hold">
                      <p:stCondLst>
                        <p:cond delay="0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1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2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3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4" restart="whenNotActive" nodeType="interactiveSeq" fill="hold">
                <p:stCondLst>
                  <p:cond evt="onClick">
                    <p:tgtEl>
                      <p:spTgt spid="1153"/>
                    </p:tgtEl>
                  </p:cond>
                </p:stCondLst>
                <p:childTnLst>
                  <p:par>
                    <p:cTn id="3815" fill="hold">
                      <p:stCondLst>
                        <p:cond evt="onClick">
                          <p:tgtEl>
                            <p:spTgt spid="1153"/>
                          </p:tgtEl>
                        </p:cond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0" restart="whenNotActive" nodeType="interactiveSeq" fill="hold">
                <p:stCondLst>
                  <p:cond evt="onClick">
                    <p:tgtEl>
                      <p:spTgt spid="1154"/>
                    </p:tgtEl>
                  </p:cond>
                </p:stCondLst>
                <p:childTnLst>
                  <p:par>
                    <p:cTn id="3821" fill="hold">
                      <p:stCondLst>
                        <p:cond evt="onClick">
                          <p:tgtEl>
                            <p:spTgt spid="1154"/>
                          </p:tgtEl>
                        </p:cond>
                      </p:stCondLst>
                      <p:childTnLst>
                        <p:par>
                          <p:cTn id="3822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6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3827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2" restart="whenNotActive" nodeType="interactiveSeq" fill="hold">
                <p:stCondLst>
                  <p:cond evt="onClick">
                    <p:tgtEl>
                      <p:spTgt spid="1156"/>
                    </p:tgtEl>
                  </p:cond>
                </p:stCondLst>
                <p:childTnLst>
                  <p:par>
                    <p:cTn id="3833" fill="hold">
                      <p:stCondLst>
                        <p:cond evt="onClick">
                          <p:tgtEl>
                            <p:spTgt spid="1156"/>
                          </p:tgtEl>
                        </p:cond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964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в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жащей в плоскости фигу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164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908000" y="2852640"/>
            <a:ext cx="4176720" cy="3611520"/>
          </a:xfrm>
          <a:prstGeom prst="hexagon">
            <a:avLst>
              <a:gd name="adj" fmla="val 28912"/>
              <a:gd name="vf" fmla="val 11547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6880" y="1714680"/>
            <a:ext cx="3035520" cy="5232240"/>
          </a:xfrm>
          <a:custGeom>
            <a:avLst/>
            <a:gdLst/>
            <a:ahLst/>
            <a:rect l="l" t="t" r="r" b="b"/>
            <a:pathLst>
              <a:path w="1912" h="3296">
                <a:moveTo>
                  <a:pt x="1912" y="0"/>
                </a:moveTo>
                <a:lnTo>
                  <a:pt x="0" y="32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16360" y="2852640"/>
            <a:ext cx="316836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843280" y="2781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908000" y="4653000"/>
            <a:ext cx="316872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835280" y="450864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rot="16200000">
            <a:off x="3707640" y="328500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rot="16200000">
            <a:off x="5076000" y="4077360"/>
            <a:ext cx="31248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rot="16200000">
            <a:off x="2770920" y="508536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rot="16200000">
            <a:off x="3994920" y="587736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000680" y="2031840"/>
            <a:ext cx="25200" cy="4902480"/>
          </a:xfrm>
          <a:custGeom>
            <a:avLst/>
            <a:gdLst/>
            <a:ahLst/>
            <a:rect l="l" t="t" r="r" b="b"/>
            <a:pathLst>
              <a:path w="16" h="3088">
                <a:moveTo>
                  <a:pt x="16" y="0"/>
                </a:moveTo>
                <a:lnTo>
                  <a:pt x="0" y="30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843280" y="2781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843280" y="630864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835280" y="450864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930320" y="4648320"/>
            <a:ext cx="4127760" cy="12600"/>
          </a:xfrm>
          <a:custGeom>
            <a:avLst/>
            <a:gdLst/>
            <a:ahLst/>
            <a:rect l="l" t="t" r="r" b="b"/>
            <a:pathLst>
              <a:path w="2600" h="8">
                <a:moveTo>
                  <a:pt x="0" y="0"/>
                </a:moveTo>
                <a:lnTo>
                  <a:pt x="2600" y="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701720" y="2971800"/>
            <a:ext cx="4902120" cy="3124080"/>
          </a:xfrm>
          <a:custGeom>
            <a:avLst/>
            <a:gdLst/>
            <a:ahLst/>
            <a:rect l="l" t="t" r="r" b="b"/>
            <a:pathLst>
              <a:path w="3088" h="1968">
                <a:moveTo>
                  <a:pt x="3088" y="0"/>
                </a:moveTo>
                <a:lnTo>
                  <a:pt x="0" y="19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825480" y="4622760"/>
            <a:ext cx="6591240" cy="25560"/>
          </a:xfrm>
          <a:custGeom>
            <a:avLst/>
            <a:gdLst/>
            <a:ahLst/>
            <a:rect l="l" t="t" r="r" b="b"/>
            <a:pathLst>
              <a:path w="4152" h="16">
                <a:moveTo>
                  <a:pt x="4152" y="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816200" y="3251160"/>
            <a:ext cx="4457520" cy="2781360"/>
          </a:xfrm>
          <a:custGeom>
            <a:avLst/>
            <a:gdLst/>
            <a:ahLst/>
            <a:rect l="l" t="t" r="r" b="b"/>
            <a:pathLst>
              <a:path w="2808" h="1752">
                <a:moveTo>
                  <a:pt x="0" y="0"/>
                </a:moveTo>
                <a:lnTo>
                  <a:pt x="2808" y="17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54280" y="2209680"/>
            <a:ext cx="2616120" cy="4673880"/>
          </a:xfrm>
          <a:custGeom>
            <a:avLst/>
            <a:gdLst/>
            <a:ahLst/>
            <a:rect l="l" t="t" r="r" b="b"/>
            <a:pathLst>
              <a:path w="1648" h="2944">
                <a:moveTo>
                  <a:pt x="0" y="0"/>
                </a:moveTo>
                <a:lnTo>
                  <a:pt x="1648" y="29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fill="hold">
                      <p:stCondLst>
                        <p:cond delay="0"/>
                      </p:stCondLst>
                      <p:childTnLst>
                        <p:par>
                          <p:cTn id="3841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4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5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9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0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1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5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0.34271 0.25717 E">
                                      <p:cBhvr>
                                        <p:cTn id="3867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2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4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8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0.34271 0.25717 E">
                                      <p:cBhvr>
                                        <p:cTn id="3890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5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8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0" fill="hold">
                      <p:stCondLst>
                        <p:cond delay="indefinite"/>
                      </p:stCondLst>
                      <p:childTnLst>
                        <p:par>
                          <p:cTn id="3931" fill="hold">
                            <p:stCondLst>
                              <p:cond delay="0"/>
                            </p:stCondLst>
                            <p:childTnLst>
                              <p:par>
                                <p:cTn id="3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4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0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0.22448 -0.00533 E">
                                      <p:cBhvr>
                                        <p:cTn id="3942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6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8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22448 0.00532 E">
                                      <p:cBhvr>
                                        <p:cTn id="3950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5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6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0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5185E-006 L 0.45295 0.00532 E">
                                      <p:cBhvr>
                                        <p:cTn id="3962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fill="hold">
                      <p:stCondLst>
                        <p:cond delay="indefinite"/>
                      </p:stCondLst>
                      <p:childTnLst>
                        <p:par>
                          <p:cTn id="3964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2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4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8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979640" y="2708280"/>
            <a:ext cx="3816360" cy="381636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716360" y="623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478160" y="43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052720" y="58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073320" y="6286680"/>
            <a:ext cx="1752840" cy="25200"/>
          </a:xfrm>
          <a:custGeom>
            <a:avLst/>
            <a:gdLst/>
            <a:ahLst/>
            <a:rect l="l" t="t" r="r" b="b"/>
            <a:pathLst>
              <a:path w="1104" h="16">
                <a:moveTo>
                  <a:pt x="0" y="16"/>
                </a:moveTo>
                <a:lnTo>
                  <a:pt x="1104" y="0"/>
                </a:ln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3454560"/>
            <a:ext cx="2934000" cy="2425680"/>
          </a:xfrm>
          <a:custGeom>
            <a:avLst/>
            <a:gdLst/>
            <a:ahLst/>
            <a:rect l="l" t="t" r="r" b="b"/>
            <a:pathLst>
              <a:path w="1848" h="1528">
                <a:moveTo>
                  <a:pt x="1848" y="0"/>
                </a:moveTo>
                <a:lnTo>
                  <a:pt x="0" y="1528"/>
                </a:ln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340000" y="573408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16360" y="616572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4172040" y="6232320"/>
            <a:ext cx="15228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524040" y="6232320"/>
            <a:ext cx="152640" cy="152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4524480" y="4015800"/>
            <a:ext cx="93600" cy="194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 flipV="1">
            <a:off x="3086280" y="5168160"/>
            <a:ext cx="93240" cy="194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4597560" y="4015440"/>
            <a:ext cx="9324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3157560" y="5168520"/>
            <a:ext cx="93600" cy="19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943280" y="4622760"/>
            <a:ext cx="3873240" cy="12600"/>
          </a:xfrm>
          <a:custGeom>
            <a:avLst/>
            <a:gdLst/>
            <a:ahLst/>
            <a:rect l="l" t="t" r="r" b="b"/>
            <a:pathLst>
              <a:path w="2440" h="8">
                <a:moveTo>
                  <a:pt x="0" y="8"/>
                </a:moveTo>
                <a:lnTo>
                  <a:pt x="2440" y="0"/>
                </a:lnTo>
              </a:path>
            </a:pathLst>
          </a:custGeom>
          <a:noFill/>
          <a:ln w="414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35280" y="4508640"/>
            <a:ext cx="215640" cy="215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16200000">
            <a:off x="4715640" y="450900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6200000">
            <a:off x="2770920" y="4580640"/>
            <a:ext cx="31248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51280" y="458136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3964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в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жащей в плоскости фигу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3924360" y="2492280"/>
            <a:ext cx="0" cy="436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260440" y="2387520"/>
            <a:ext cx="3213360" cy="4343400"/>
          </a:xfrm>
          <a:custGeom>
            <a:avLst/>
            <a:gdLst/>
            <a:ahLst/>
            <a:rect l="l" t="t" r="r" b="b"/>
            <a:pathLst>
              <a:path w="2024" h="2736">
                <a:moveTo>
                  <a:pt x="0" y="0"/>
                </a:moveTo>
                <a:lnTo>
                  <a:pt x="2024" y="27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9" dur="indefinite" restart="never" nodeType="tmRoot">
          <p:childTnLst>
            <p:seq>
              <p:cTn id="4000" dur="indefinite" nodeType="mainSeq">
                <p:childTnLst>
                  <p:par>
                    <p:cTn id="4001" fill="hold">
                      <p:stCondLst>
                        <p:cond delay="0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5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7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fill="hold">
                            <p:stCondLst>
                              <p:cond delay="500"/>
                            </p:stCondLst>
                            <p:childTnLst>
                              <p:par>
                                <p:cTn id="4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0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5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6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305 0.0051 E">
                                      <p:cBhvr>
                                        <p:cTn id="4029" dur="2000" fill="hold"/>
                                        <p:tgtEl>
                                          <p:spTgt spid="1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3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4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6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5185E-006 L 0.42135 -0.00509 E">
                                      <p:cBhvr>
                                        <p:cTn id="4049" dur="2000" fill="hold"/>
                                        <p:tgtEl>
                                          <p:spTgt spid="1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2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9" fill="hold">
                            <p:stCondLst>
                              <p:cond delay="500"/>
                            </p:stCondLst>
                            <p:childTnLst>
                              <p:par>
                                <p:cTn id="4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8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31892 -0.35185 E">
                                      <p:cBhvr>
                                        <p:cTn id="4081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9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0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и пересечении двух прямых треть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й соответственные углы равны 6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эти две прямые параллельн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ые две прямые имеют не ме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ой общей точ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з любую точку про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лее одной прям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ые три прямые имеют не менее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й точк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f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39640" y="189000"/>
            <a:ext cx="593892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в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о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жащей в плоскости фигур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1332000" y="2708280"/>
            <a:ext cx="5616360" cy="345600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950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04472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637080" y="234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140360" y="2492280"/>
            <a:ext cx="0" cy="436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58920" y="6021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rot="16200000">
            <a:off x="2844000" y="6022080"/>
            <a:ext cx="31248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rot="16200000">
            <a:off x="5147640" y="6022080"/>
            <a:ext cx="31248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58720" y="2705040"/>
            <a:ext cx="5004000" cy="4064040"/>
          </a:xfrm>
          <a:custGeom>
            <a:avLst/>
            <a:gdLst/>
            <a:ahLst/>
            <a:rect l="l" t="t" r="r" b="b"/>
            <a:pathLst>
              <a:path w="3152" h="2560">
                <a:moveTo>
                  <a:pt x="3152" y="0"/>
                </a:moveTo>
                <a:lnTo>
                  <a:pt x="0" y="2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2" dur="indefinite" restart="never" nodeType="tmRoot">
          <p:childTnLst>
            <p:seq>
              <p:cTn id="4103" dur="indefinite" nodeType="mainSeq">
                <p:childTnLst>
                  <p:par>
                    <p:cTn id="4104" fill="hold">
                      <p:stCondLst>
                        <p:cond delay="0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0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4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fill="hold">
                      <p:stCondLst>
                        <p:cond delay="indefinite"/>
                      </p:stCondLst>
                      <p:childTnLst>
                        <p:par>
                          <p:cTn id="4116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0" fill="hold">
                            <p:stCondLst>
                              <p:cond delay="500"/>
                            </p:stCondLst>
                            <p:childTnLst>
                              <p:par>
                                <p:cTn id="4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5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61042 0.00532 E">
                                      <p:cBhvr>
                                        <p:cTn id="4128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6" nodeType="after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47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ская фигур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льной симметрией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симметрична сама с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сительно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7669440" y="414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0690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00000" y="3068640"/>
            <a:ext cx="6769080" cy="2665440"/>
          </a:xfrm>
          <a:prstGeom prst="diamond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3964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6944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124000" y="4797360"/>
            <a:ext cx="216000" cy="21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11640" y="429264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977760" y="4381560"/>
            <a:ext cx="6654960" cy="12600"/>
          </a:xfrm>
          <a:custGeom>
            <a:avLst/>
            <a:gdLst/>
            <a:ahLst/>
            <a:rect l="l" t="t" r="r" b="b"/>
            <a:pathLst>
              <a:path w="4192" h="8">
                <a:moveTo>
                  <a:pt x="0" y="8"/>
                </a:moveTo>
                <a:lnTo>
                  <a:pt x="419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280040" y="3086280"/>
            <a:ext cx="12600" cy="2641320"/>
          </a:xfrm>
          <a:custGeom>
            <a:avLst/>
            <a:gdLst/>
            <a:ahLst/>
            <a:rect l="l" t="t" r="r" b="b"/>
            <a:pathLst>
              <a:path w="8" h="1664">
                <a:moveTo>
                  <a:pt x="0" y="0"/>
                </a:moveTo>
                <a:lnTo>
                  <a:pt x="8" y="166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16200000">
            <a:off x="2844000" y="4293000"/>
            <a:ext cx="312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5507640" y="4292640"/>
            <a:ext cx="31284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00" y="431"/>
                  <a:pt x="2400" y="5080"/>
                  <a:pt x="2400" y="10800"/>
                </a:cubicBezTo>
                <a:cubicBezTo>
                  <a:pt x="2400" y="16520"/>
                  <a:pt x="12000" y="2116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4140360" y="3708000"/>
            <a:ext cx="214920" cy="17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4140360" y="5005440"/>
            <a:ext cx="214920" cy="172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2195640" y="3860280"/>
            <a:ext cx="403200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3230640" y="4519080"/>
            <a:ext cx="93600" cy="1940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3302280" y="4518720"/>
            <a:ext cx="93240" cy="194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5102280" y="4015800"/>
            <a:ext cx="93600" cy="1940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 flipV="1">
            <a:off x="5173920" y="4015440"/>
            <a:ext cx="93240" cy="194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9" dur="indefinite" restart="never" nodeType="tmRoot">
          <p:childTnLst>
            <p:seq>
              <p:cTn id="4150" dur="indefinite" nodeType="mainSeq">
                <p:childTnLst>
                  <p:par>
                    <p:cTn id="4151" fill="hold">
                      <p:stCondLst>
                        <p:cond delay="0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7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1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0.43698 -0.15232 E">
                                      <p:cBhvr>
                                        <p:cTn id="4195" dur="2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катет и гипотенуза прямоуг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 равны соответственно 6 и 1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второй катет этого треугольника равен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ые два равнобедренных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бые два прямоугольных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у которого АВ=3, ВС=4, АС=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тупоугольны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fill="hold">
                      <p:stCondLst>
                        <p:cond delay="0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6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7" restart="whenNotActive" nodeType="interactiveSeq" fill="hold">
                <p:stCondLst>
                  <p:cond evt="onClick">
                    <p:tgtEl>
                      <p:spTgt spid="1247"/>
                    </p:tgtEl>
                  </p:cond>
                </p:stCondLst>
                <p:childTnLst>
                  <p:par>
                    <p:cTn id="4228" fill="hold">
                      <p:stCondLst>
                        <p:cond evt="onClick">
                          <p:tgtEl>
                            <p:spTgt spid="1247"/>
                          </p:tgtEl>
                        </p:cond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3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4234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9" restart="whenNotActive" nodeType="interactiveSeq" fill="hold">
                <p:stCondLst>
                  <p:cond evt="onClick">
                    <p:tgtEl>
                      <p:spTgt spid="1249"/>
                    </p:tgtEl>
                  </p:cond>
                </p:stCondLst>
                <p:childTnLst>
                  <p:par>
                    <p:cTn id="4240" fill="hold">
                      <p:stCondLst>
                        <p:cond evt="onClick">
                          <p:tgtEl>
                            <p:spTgt spid="1249"/>
                          </p:tgtEl>
                        </p:cond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5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4246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е квадратов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2195640" y="2781360"/>
            <a:ext cx="3097080" cy="352728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76544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29452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76544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195640" y="5877000"/>
            <a:ext cx="360360" cy="4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rot="16200000">
            <a:off x="1007280" y="447264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700360" y="6308640"/>
            <a:ext cx="1944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2860200">
            <a:off x="2753280" y="4239000"/>
            <a:ext cx="24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 и п о т е н у з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278160" y="566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19708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421440" y="45813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5351400" y="3724200"/>
                <a:ext cx="29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364000" y="2997360"/>
                <a:ext cx="2683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1" dur="indefinite" restart="never" nodeType="tmRoot">
          <p:childTnLst>
            <p:seq>
              <p:cTn id="4252" dur="indefinite" nodeType="mainSeq">
                <p:childTnLst>
                  <p:par>
                    <p:cTn id="4253" fill="hold">
                      <p:stCondLst>
                        <p:cond delay="0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7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2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7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7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1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7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1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9628400">
            <a:off x="3276720" y="2781000"/>
            <a:ext cx="2303280" cy="109368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rot="19628400">
            <a:off x="3276720" y="4509720"/>
            <a:ext cx="2684520" cy="13809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rot="15865200">
            <a:off x="640080" y="275148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rot="9918000">
            <a:off x="731520" y="451476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 rot="4504800">
            <a:off x="6154560" y="1926360"/>
            <a:ext cx="2016000" cy="30114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 rot="15105600">
            <a:off x="6517800" y="4507200"/>
            <a:ext cx="1495440" cy="23641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rot="19589400">
            <a:off x="4932000" y="45100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rot="19589400">
            <a:off x="4643280" y="27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3913400">
            <a:off x="731520" y="4965480"/>
            <a:ext cx="198360" cy="29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rot="19589400">
            <a:off x="2052360" y="27082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rot="5621400">
            <a:off x="1194120" y="61585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rot="5915400">
            <a:off x="1221840" y="584208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rot="11293200">
            <a:off x="817560" y="2986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rot="11620200">
            <a:off x="971280" y="292356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321000" y="2514600"/>
            <a:ext cx="1963800" cy="1895400"/>
          </a:xfrm>
          <a:custGeom>
            <a:avLst/>
            <a:gdLst/>
            <a:ahLst/>
            <a:rect l="l" t="t" r="r" b="b"/>
            <a:pathLst>
              <a:path w="1237" h="1194">
                <a:moveTo>
                  <a:pt x="0" y="551"/>
                </a:moveTo>
                <a:lnTo>
                  <a:pt x="1237" y="0"/>
                </a:lnTo>
                <a:lnTo>
                  <a:pt x="280" y="119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294000" y="4222800"/>
            <a:ext cx="2327400" cy="2271600"/>
          </a:xfrm>
          <a:custGeom>
            <a:avLst/>
            <a:gdLst/>
            <a:ahLst/>
            <a:rect l="l" t="t" r="r" b="b"/>
            <a:pathLst>
              <a:path w="1466" h="1431">
                <a:moveTo>
                  <a:pt x="0" y="627"/>
                </a:moveTo>
                <a:lnTo>
                  <a:pt x="1466" y="0"/>
                </a:lnTo>
                <a:lnTo>
                  <a:pt x="390" y="1431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970600" y="2313000"/>
            <a:ext cx="2863800" cy="2460600"/>
          </a:xfrm>
          <a:custGeom>
            <a:avLst/>
            <a:gdLst/>
            <a:ahLst/>
            <a:rect l="l" t="t" r="r" b="b"/>
            <a:pathLst>
              <a:path w="1804" h="1550">
                <a:moveTo>
                  <a:pt x="0" y="1550"/>
                </a:moveTo>
                <a:lnTo>
                  <a:pt x="1804" y="966"/>
                </a:lnTo>
                <a:lnTo>
                  <a:pt x="949" y="0"/>
                </a:lnTo>
                <a:lnTo>
                  <a:pt x="0" y="1550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943600" y="4599000"/>
            <a:ext cx="2219400" cy="1949400"/>
          </a:xfrm>
          <a:custGeom>
            <a:avLst/>
            <a:gdLst/>
            <a:ahLst/>
            <a:rect l="l" t="t" r="r" b="b"/>
            <a:pathLst>
              <a:path w="1398" h="1228">
                <a:moveTo>
                  <a:pt x="8" y="551"/>
                </a:moveTo>
                <a:lnTo>
                  <a:pt x="703" y="1228"/>
                </a:lnTo>
                <a:lnTo>
                  <a:pt x="1398" y="0"/>
                </a:lnTo>
                <a:lnTo>
                  <a:pt x="0" y="551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2" dur="indefinite" restart="never" nodeType="tmRoot">
          <p:childTnLst>
            <p:seq>
              <p:cTn id="4303" dur="indefinite" nodeType="mainSeq">
                <p:childTnLst>
                  <p:par>
                    <p:cTn id="4304" fill="hold">
                      <p:stCondLst>
                        <p:cond delay="0"/>
                      </p:stCondLst>
                      <p:childTnLst>
                        <p:par>
                          <p:cTn id="4305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8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0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4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8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4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8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1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5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8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52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55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9628400">
            <a:off x="3276720" y="2781000"/>
            <a:ext cx="2303280" cy="109368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9628400">
            <a:off x="3276720" y="4509720"/>
            <a:ext cx="2684520" cy="13809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 rot="15865200">
            <a:off x="640080" y="275148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 rot="9918000">
            <a:off x="731520" y="451476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 rot="4504800">
            <a:off x="6154560" y="1926360"/>
            <a:ext cx="2016000" cy="30114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 rot="15105600">
            <a:off x="6517800" y="4507200"/>
            <a:ext cx="1495440" cy="23641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9589400">
            <a:off x="4932000" y="45100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19589400">
            <a:off x="4643280" y="27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rot="13913400">
            <a:off x="731520" y="4965480"/>
            <a:ext cx="198360" cy="29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19589400">
            <a:off x="2052360" y="27082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rot="5621400">
            <a:off x="1194120" y="61585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rot="5915400">
            <a:off x="1221840" y="584208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rot="11293200">
            <a:off x="817560" y="2986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rot="11620200">
            <a:off x="971280" y="292356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321000" y="2514600"/>
            <a:ext cx="1963800" cy="1895400"/>
          </a:xfrm>
          <a:custGeom>
            <a:avLst/>
            <a:gdLst/>
            <a:ahLst/>
            <a:rect l="l" t="t" r="r" b="b"/>
            <a:pathLst>
              <a:path w="1237" h="1194">
                <a:moveTo>
                  <a:pt x="0" y="551"/>
                </a:moveTo>
                <a:lnTo>
                  <a:pt x="1237" y="0"/>
                </a:lnTo>
                <a:lnTo>
                  <a:pt x="280" y="119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94000" y="4222800"/>
            <a:ext cx="2327400" cy="2271600"/>
          </a:xfrm>
          <a:custGeom>
            <a:avLst/>
            <a:gdLst/>
            <a:ahLst/>
            <a:rect l="l" t="t" r="r" b="b"/>
            <a:pathLst>
              <a:path w="1466" h="1431">
                <a:moveTo>
                  <a:pt x="0" y="627"/>
                </a:moveTo>
                <a:lnTo>
                  <a:pt x="1466" y="0"/>
                </a:lnTo>
                <a:lnTo>
                  <a:pt x="390" y="1431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970600" y="2313000"/>
            <a:ext cx="2863800" cy="2460600"/>
          </a:xfrm>
          <a:custGeom>
            <a:avLst/>
            <a:gdLst/>
            <a:ahLst/>
            <a:rect l="l" t="t" r="r" b="b"/>
            <a:pathLst>
              <a:path w="1804" h="1550">
                <a:moveTo>
                  <a:pt x="0" y="1550"/>
                </a:moveTo>
                <a:lnTo>
                  <a:pt x="1804" y="966"/>
                </a:lnTo>
                <a:lnTo>
                  <a:pt x="949" y="0"/>
                </a:lnTo>
                <a:lnTo>
                  <a:pt x="0" y="1550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943600" y="4599000"/>
            <a:ext cx="2219400" cy="1949400"/>
          </a:xfrm>
          <a:custGeom>
            <a:avLst/>
            <a:gdLst/>
            <a:ahLst/>
            <a:rect l="l" t="t" r="r" b="b"/>
            <a:pathLst>
              <a:path w="1398" h="1228">
                <a:moveTo>
                  <a:pt x="8" y="551"/>
                </a:moveTo>
                <a:lnTo>
                  <a:pt x="703" y="1228"/>
                </a:lnTo>
                <a:lnTo>
                  <a:pt x="1398" y="0"/>
                </a:lnTo>
                <a:lnTo>
                  <a:pt x="0" y="551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6" dur="indefinite" restart="never" nodeType="tmRoot">
          <p:childTnLst>
            <p:seq>
              <p:cTn id="4357" dur="indefinite" nodeType="mainSeq">
                <p:childTnLst>
                  <p:par>
                    <p:cTn id="4358" fill="hold">
                      <p:stCondLst>
                        <p:cond delay="0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2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5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8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5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9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2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06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09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539640" y="549360"/>
            <a:ext cx="5938920" cy="718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 flipH="1" rot="11860800">
            <a:off x="773280" y="1902960"/>
            <a:ext cx="3209760" cy="29955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5606000">
            <a:off x="1306440" y="179640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rot="7336800">
            <a:off x="762480" y="407088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rot="7627200">
            <a:off x="891720" y="3809880"/>
            <a:ext cx="2872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rot="1858200">
            <a:off x="3131640" y="4076640"/>
            <a:ext cx="2034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2178000">
            <a:off x="2842920" y="378900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rot="1858200">
            <a:off x="3003120" y="394128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82872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5272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781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836720" y="429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48616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13080" y="2708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551400" y="2708280"/>
                <a:ext cx="5592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3414600" y="2060640"/>
                <a:ext cx="5729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505320" y="3357720"/>
                <a:ext cx="56386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900000" y="5445000"/>
                <a:ext cx="2136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900000" y="4797360"/>
                <a:ext cx="2136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900000" y="6021360"/>
                <a:ext cx="2136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>
            <a:off x="3132720" y="4869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о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203640" y="55166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204360" y="609300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0" dur="indefinite" restart="never" nodeType="tmRoot">
          <p:childTnLst>
            <p:seq>
              <p:cTn id="4411" dur="indefinite" nodeType="mainSeq">
                <p:childTnLst>
                  <p:par>
                    <p:cTn id="4412" fill="hold">
                      <p:stCondLst>
                        <p:cond delay="indefinite"/>
                      </p:stCondLst>
                      <p:childTnLst>
                        <p:par>
                          <p:cTn id="4413" fill="hold">
                            <p:stCondLst>
                              <p:cond delay="0"/>
                            </p:stCondLst>
                            <p:childTnLst>
                              <p:par>
                                <p:cTn id="4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6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8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0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7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1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5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 любой стороны тр-ка равен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ов двух других сторон без удво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я этих сторон 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гла между н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катеты прямоуголь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ы 5 и 12, то его гипотенуза равна 1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у которого АВ=5, ВС=6, АС=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остроугольны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 катета равен разности квадр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енузы и другого катет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rot="20815800">
            <a:off x="7020000" y="465300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0" dur="indefinite" restart="never" nodeType="tmRoot">
          <p:childTnLst>
            <p:seq>
              <p:cTn id="4461" dur="indefinite" nodeType="mainSeq">
                <p:childTnLst>
                  <p:par>
                    <p:cTn id="4462" fill="hold">
                      <p:stCondLst>
                        <p:cond delay="0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6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9" restart="whenNotActive" nodeType="interactiveSeq" fill="hold">
                <p:stCondLst>
                  <p:cond evt="onClick">
                    <p:tgtEl>
                      <p:spTgt spid="1351"/>
                    </p:tgtEl>
                  </p:cond>
                </p:stCondLst>
                <p:childTnLst>
                  <p:par>
                    <p:cTn id="4470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5" restart="whenNotActive" nodeType="interactiveSeq" fill="hold">
                <p:stCondLst>
                  <p:cond evt="onClick">
                    <p:tgtEl>
                      <p:spTgt spid="1352"/>
                    </p:tgtEl>
                  </p:cond>
                </p:stCondLst>
                <p:childTnLst>
                  <p:par>
                    <p:cTn id="4476" fill="hold">
                      <p:stCondLst>
                        <p:cond evt="onClick">
                          <p:tgtEl>
                            <p:spTgt spid="1352"/>
                          </p:tgtEl>
                        </p:cond>
                      </p:stCondLst>
                      <p:childTnLst>
                        <p:par>
                          <p:cTn id="4477" fill="hold">
                            <p:stCondLst>
                              <p:cond delay="0"/>
                            </p:stCondLst>
                            <p:childTnLst>
                              <p:par>
                                <p:cTn id="4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0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1" restart="whenNotActive" nodeType="interactiveSeq" fill="hold">
                <p:stCondLst>
                  <p:cond evt="onClick">
                    <p:tgtEl>
                      <p:spTgt spid="1353"/>
                    </p:tgtEl>
                  </p:cond>
                </p:stCondLst>
                <p:childTnLst>
                  <p:par>
                    <p:cTn id="4482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4483" fill="hold">
                            <p:stCondLst>
                              <p:cond delay="0"/>
                            </p:stCondLst>
                            <p:childTnLst>
                              <p:par>
                                <p:cTn id="4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6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7" restart="whenNotActive" nodeType="interactiveSeq" fill="hold">
                <p:stCondLst>
                  <p:cond evt="onClick">
                    <p:tgtEl>
                      <p:spTgt spid="1354"/>
                    </p:tgtEl>
                  </p:cond>
                </p:stCondLst>
                <p:childTnLst>
                  <p:par>
                    <p:cTn id="4488" fill="hold">
                      <p:stCondLst>
                        <p:cond evt="onClick">
                          <p:tgtEl>
                            <p:spTgt spid="1354"/>
                          </p:tgtEl>
                        </p:cond>
                      </p:stCondLst>
                      <p:childTnLst>
                        <p:par>
                          <p:cTn id="4489" fill="hold">
                            <p:stCondLst>
                              <p:cond delay="0"/>
                            </p:stCondLst>
                            <p:childTnLst>
                              <p:par>
                                <p:cTn id="4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39640" y="549360"/>
            <a:ext cx="5938920" cy="718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 flipH="1" rot="11860800">
            <a:off x="773280" y="1902960"/>
            <a:ext cx="3209760" cy="29955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5606000">
            <a:off x="1306440" y="179640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rot="7336800">
            <a:off x="762480" y="407088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rot="7627200">
            <a:off x="891720" y="3809880"/>
            <a:ext cx="2872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rot="1858200">
            <a:off x="3131640" y="4076640"/>
            <a:ext cx="2034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rot="2178000">
            <a:off x="2842920" y="378900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rot="1858200">
            <a:off x="3003120" y="394128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82872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272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781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836720" y="429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48616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13080" y="2708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551400" y="2708280"/>
                <a:ext cx="5592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3414600" y="2060640"/>
                <a:ext cx="5729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395280" y="5451480"/>
                <a:ext cx="6002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3505320" y="3357720"/>
                <a:ext cx="56386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0" name=""/>
          <p:cNvSpPr/>
          <p:nvPr/>
        </p:nvSpPr>
        <p:spPr>
          <a:xfrm>
            <a:off x="2771640" y="4653000"/>
            <a:ext cx="5938920" cy="719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indefinite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9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0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9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7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8" fill="hold">
                      <p:stCondLst>
                        <p:cond delay="indefinite"/>
                      </p:stCondLst>
                      <p:childTnLst>
                        <p:par>
                          <p:cTn id="4519" fill="hold">
                            <p:stCondLst>
                              <p:cond delay="0"/>
                            </p:stCondLst>
                            <p:childTnLst>
                              <p:par>
                                <p:cTn id="4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6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е квадратов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383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195640" y="2781360"/>
            <a:ext cx="3097080" cy="352728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29452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76544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195640" y="5877000"/>
            <a:ext cx="360360" cy="4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rot="16200000">
            <a:off x="1007280" y="447264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700360" y="6308640"/>
            <a:ext cx="1944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rot="2860200">
            <a:off x="2753280" y="4239000"/>
            <a:ext cx="24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Г и п о т е н у з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78160" y="566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19708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421440" y="45813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349960" y="3724200"/>
                <a:ext cx="29113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5364000" y="2997360"/>
                <a:ext cx="2683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7" dur="indefinite" restart="never" nodeType="tmRoot">
          <p:childTnLst>
            <p:seq>
              <p:cTn id="4528" dur="indefinite" nodeType="mainSeq">
                <p:childTnLst>
                  <p:par>
                    <p:cTn id="4529" fill="hold">
                      <p:stCondLst>
                        <p:cond delay="0"/>
                      </p:stCondLst>
                      <p:childTnLst>
                        <p:par>
                          <p:cTn id="4530" fill="hold">
                            <p:stCondLst>
                              <p:cond delay="0"/>
                            </p:stCondLst>
                            <p:childTnLst>
                              <p:par>
                                <p:cTn id="4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3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9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3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7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8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3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7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ри пересечении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ых секущей соответ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ы равны, то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1052640"/>
            <a:ext cx="6697800" cy="7920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2637000"/>
            <a:ext cx="6697800" cy="7920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60280"/>
            <a:ext cx="1152720" cy="381636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4200" y="228600"/>
            <a:ext cx="1735200" cy="1116000"/>
          </a:xfrm>
          <a:custGeom>
            <a:avLst/>
            <a:gdLst/>
            <a:ahLst/>
            <a:rect l="l" t="t" r="r" b="b"/>
            <a:pathLst>
              <a:path w="1093" h="703">
                <a:moveTo>
                  <a:pt x="877" y="0"/>
                </a:moveTo>
                <a:lnTo>
                  <a:pt x="1093" y="703"/>
                </a:lnTo>
                <a:lnTo>
                  <a:pt x="0" y="567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1916280"/>
            <a:ext cx="1734840" cy="1116000"/>
          </a:xfrm>
          <a:custGeom>
            <a:avLst/>
            <a:gdLst/>
            <a:ahLst/>
            <a:rect l="l" t="t" r="r" b="b"/>
            <a:pathLst>
              <a:path w="1093" h="703">
                <a:moveTo>
                  <a:pt x="877" y="0"/>
                </a:moveTo>
                <a:lnTo>
                  <a:pt x="1093" y="703"/>
                </a:lnTo>
                <a:lnTo>
                  <a:pt x="0" y="567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252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1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308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652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0400" y="1411200"/>
            <a:ext cx="1585800" cy="1063800"/>
          </a:xfrm>
          <a:custGeom>
            <a:avLst/>
            <a:gdLst/>
            <a:ahLst/>
            <a:rect l="l" t="t" r="r" b="b"/>
            <a:pathLst>
              <a:path w="999" h="670">
                <a:moveTo>
                  <a:pt x="999" y="119"/>
                </a:moveTo>
                <a:lnTo>
                  <a:pt x="0" y="0"/>
                </a:lnTo>
                <a:lnTo>
                  <a:pt x="203" y="67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4600" y="3079800"/>
            <a:ext cx="1573200" cy="1052640"/>
          </a:xfrm>
          <a:custGeom>
            <a:avLst/>
            <a:gdLst/>
            <a:ahLst/>
            <a:rect l="l" t="t" r="r" b="b"/>
            <a:pathLst>
              <a:path w="991" h="663">
                <a:moveTo>
                  <a:pt x="991" y="127"/>
                </a:moveTo>
                <a:lnTo>
                  <a:pt x="0" y="0"/>
                </a:lnTo>
                <a:lnTo>
                  <a:pt x="206" y="663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216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39640" y="549360"/>
            <a:ext cx="5938920" cy="718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 flipH="1" rot="11860800">
            <a:off x="773280" y="1902960"/>
            <a:ext cx="3209760" cy="29955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rot="15606000">
            <a:off x="1306440" y="179640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rot="7336800">
            <a:off x="762480" y="407088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rot="7627200">
            <a:off x="891720" y="3809880"/>
            <a:ext cx="2872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rot="1858200">
            <a:off x="3131640" y="4076640"/>
            <a:ext cx="2034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rot="2178000">
            <a:off x="2842920" y="378900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rot="1858200">
            <a:off x="3003120" y="3941280"/>
            <a:ext cx="21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2872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5272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781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836720" y="429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48616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3080" y="27082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3551400" y="2708280"/>
                <a:ext cx="5592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3414600" y="2060640"/>
                <a:ext cx="5729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505320" y="3357720"/>
                <a:ext cx="56386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900000" y="5445000"/>
                <a:ext cx="2136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900000" y="4797360"/>
                <a:ext cx="2136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7" name=""/>
          <p:cNvSpPr/>
          <p:nvPr/>
        </p:nvSpPr>
        <p:spPr>
          <a:xfrm>
            <a:off x="3132720" y="4869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о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203640" y="55166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04360" y="609300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угол 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900000" y="6073920"/>
                <a:ext cx="2087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8" dur="indefinite" restart="never" nodeType="tmRoot">
          <p:childTnLst>
            <p:seq>
              <p:cTn id="4579" dur="indefinite" nodeType="mainSeq">
                <p:childTnLst>
                  <p:par>
                    <p:cTn id="4580" fill="hold">
                      <p:stCondLst>
                        <p:cond delay="indefinite"/>
                      </p:stCondLst>
                      <p:childTnLst>
                        <p:par>
                          <p:cTn id="4581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6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0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4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8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2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1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5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3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7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е квадратов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195640" y="2781360"/>
            <a:ext cx="3097080" cy="3527280"/>
          </a:xfrm>
          <a:prstGeom prst="rtTriangl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76544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94520" y="60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76544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195640" y="5877000"/>
            <a:ext cx="360360" cy="4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1007280" y="447264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00360" y="6308640"/>
            <a:ext cx="1944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а т е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rot="2860200">
            <a:off x="2753280" y="4239000"/>
            <a:ext cx="24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 и п о т е н у з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278160" y="566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19708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421440" y="45813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5464080" y="3814920"/>
                <a:ext cx="2683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5364000" y="2997360"/>
                <a:ext cx="2683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8" dur="indefinite" restart="never" nodeType="tmRoot">
          <p:childTnLst>
            <p:seq>
              <p:cTn id="4629" dur="indefinite" nodeType="mainSeq">
                <p:childTnLst>
                  <p:par>
                    <p:cTn id="4630" fill="hold">
                      <p:stCondLst>
                        <p:cond delay="0"/>
                      </p:stCondLst>
                      <p:childTnLst>
                        <p:par>
                          <p:cTn id="4631" fill="hold">
                            <p:stCondLst>
                              <p:cond delay="0"/>
                            </p:stCondLst>
                            <p:childTnLst>
                              <p:par>
                                <p:cTn id="4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4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6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4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0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8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0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4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8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0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1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8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лощади фигур рав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равны и сами фиг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апеции равна произве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ы оснований на высот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две стороны треугольника равны 4 и 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угол между ними равен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лощадь этого треугольника равна 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две соседние стороны параллел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ы 4 и 5, а угол между ними равен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лощадь этого параллелограмма равна 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9" dur="indefinite" restart="never" nodeType="tmRoot">
          <p:childTnLst>
            <p:seq>
              <p:cTn id="4680" dur="indefinite" nodeType="mainSeq">
                <p:childTnLst>
                  <p:par>
                    <p:cTn id="4681" fill="hold">
                      <p:stCondLst>
                        <p:cond delay="0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7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8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4689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4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4695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0" restart="whenNotActive" nodeType="interactiveSeq" fill="hold">
                <p:stCondLst>
                  <p:cond evt="onClick">
                    <p:tgtEl>
                      <p:spTgt spid="1445"/>
                    </p:tgtEl>
                  </p:cond>
                </p:stCondLst>
                <p:childTnLst>
                  <p:par>
                    <p:cTn id="4701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6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4707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2700360" y="62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635280" y="62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637080" y="249228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00360" y="249228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765440" y="249228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765440" y="155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65440" y="62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28720" y="155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28720" y="62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068720" y="386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003640" y="386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940360" y="386064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94036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00364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06872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13200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19564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877080" y="4797360"/>
            <a:ext cx="9144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395280" y="3573360"/>
                <a:ext cx="23432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2" dur="indefinite" restart="never" nodeType="tmRoot">
          <p:childTnLst>
            <p:seq>
              <p:cTn id="4713" dur="indefinite" nodeType="mainSeq">
                <p:childTnLst>
                  <p:par>
                    <p:cTn id="4714" fill="hold">
                      <p:stCondLst>
                        <p:cond delay="0"/>
                      </p:stCondLst>
                      <p:childTnLst>
                        <p:par>
                          <p:cTn id="4715" fill="hold">
                            <p:stCondLst>
                              <p:cond delay="0"/>
                            </p:stCondLst>
                            <p:childTnLst>
                              <p:par>
                                <p:cTn id="4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8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28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30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32" dur="2000" fill="hold"/>
                                        <p:tgtEl>
                                          <p:spTgt spid="1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34" dur="2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5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36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38" dur="2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40" dur="2000" fill="hold"/>
                                        <p:tgtEl>
                                          <p:spTgt spid="1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371 L 0.1224 -0.00371 C 0.17847 -0.00371 0.2474 0.08819 0.2474 0.16296 L 0.2474 0.32963 E">
                                      <p:cBhvr>
                                        <p:cTn id="4742" dur="200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2 0.25 0.16667 L 0.25 0.33333 E">
                                      <p:cBhvr>
                                        <p:cTn id="4744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трапеции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ю полу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оснований на вы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076400" y="2782800"/>
            <a:ext cx="5700600" cy="2448000"/>
          </a:xfrm>
          <a:custGeom>
            <a:avLst/>
            <a:gdLst/>
            <a:ahLst/>
            <a:rect l="l" t="t" r="r" b="b"/>
            <a:pathLst>
              <a:path w="3591" h="1542">
                <a:moveTo>
                  <a:pt x="3591" y="1542"/>
                </a:moveTo>
                <a:lnTo>
                  <a:pt x="0" y="1542"/>
                </a:lnTo>
                <a:lnTo>
                  <a:pt x="618" y="0"/>
                </a:lnTo>
                <a:lnTo>
                  <a:pt x="2134" y="9"/>
                </a:lnTo>
                <a:lnTo>
                  <a:pt x="3583" y="153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86160" y="522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59016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6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429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057400" y="2770200"/>
            <a:ext cx="2394000" cy="12600"/>
          </a:xfrm>
          <a:custGeom>
            <a:avLst/>
            <a:gdLst/>
            <a:ahLst/>
            <a:rect l="l" t="t" r="r" b="b"/>
            <a:pathLst>
              <a:path w="1508" h="8">
                <a:moveTo>
                  <a:pt x="0" y="0"/>
                </a:moveTo>
                <a:lnTo>
                  <a:pt x="1508" y="8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050920" y="472428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044800" y="2770200"/>
            <a:ext cx="25200" cy="2433600"/>
          </a:xfrm>
          <a:custGeom>
            <a:avLst/>
            <a:gdLst/>
            <a:ahLst/>
            <a:rect l="l" t="t" r="r" b="b"/>
            <a:pathLst>
              <a:path w="16" h="1533">
                <a:moveTo>
                  <a:pt x="16" y="0"/>
                </a:moveTo>
                <a:lnTo>
                  <a:pt x="0" y="1533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549520" y="5275440"/>
                <a:ext cx="4913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>
            <a:off x="1042920" y="5229360"/>
            <a:ext cx="5742000" cy="1440"/>
          </a:xfrm>
          <a:custGeom>
            <a:avLst/>
            <a:gdLst/>
            <a:ahLst/>
            <a:rect l="l" t="t" r="r" b="b"/>
            <a:pathLst>
              <a:path w="3617" h="1">
                <a:moveTo>
                  <a:pt x="0" y="0"/>
                </a:moveTo>
                <a:lnTo>
                  <a:pt x="36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836360" y="522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5" dur="indefinite" restart="never" nodeType="tmRoot">
          <p:childTnLst>
            <p:seq>
              <p:cTn id="4746" dur="indefinite" nodeType="mainSeq">
                <p:childTnLst>
                  <p:par>
                    <p:cTn id="4747" fill="hold">
                      <p:stCondLst>
                        <p:cond delay="0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1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2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8" fill="hold">
                      <p:stCondLst>
                        <p:cond delay="indefinite"/>
                      </p:stCondLst>
                      <p:childTnLst>
                        <p:par>
                          <p:cTn id="4759" fill="hold">
                            <p:stCondLst>
                              <p:cond delay="0"/>
                            </p:stCondLst>
                            <p:childTnLst>
                              <p:par>
                                <p:cTn id="4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2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еугольника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вине произвед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 на 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489" name=""/>
          <p:cNvSpPr/>
          <p:nvPr/>
        </p:nvSpPr>
        <p:spPr>
          <a:xfrm>
            <a:off x="1816200" y="285588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478160" y="587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90980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021800" y="3430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828800" y="2836800"/>
            <a:ext cx="5203800" cy="3106800"/>
          </a:xfrm>
          <a:custGeom>
            <a:avLst/>
            <a:gdLst/>
            <a:ahLst/>
            <a:rect l="l" t="t" r="r" b="b"/>
            <a:pathLst>
              <a:path w="3278" h="1957">
                <a:moveTo>
                  <a:pt x="280" y="0"/>
                </a:moveTo>
                <a:lnTo>
                  <a:pt x="0" y="1957"/>
                </a:lnTo>
                <a:lnTo>
                  <a:pt x="3278" y="602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rot="8803200">
            <a:off x="2050560" y="529992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3780000" y="5084640"/>
                <a:ext cx="4752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6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3" dur="indefinite" restart="never" nodeType="tmRoot">
          <p:childTnLst>
            <p:seq>
              <p:cTn id="4784" dur="indefinite" nodeType="mainSeq">
                <p:childTnLst>
                  <p:par>
                    <p:cTn id="4785" fill="hold">
                      <p:stCondLst>
                        <p:cond delay="0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9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0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1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99" dur="2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араллелограмма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ю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едних сторон на синус у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828720" y="43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413080" y="270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5265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851280" y="4941720"/>
                <a:ext cx="4360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3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58920" y="2997360"/>
            <a:ext cx="6265800" cy="1512720"/>
          </a:xfrm>
          <a:prstGeom prst="parallelogram">
            <a:avLst>
              <a:gd name="adj" fmla="val 103552"/>
            </a:avLst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258920" y="2998800"/>
            <a:ext cx="4645080" cy="1520640"/>
          </a:xfrm>
          <a:custGeom>
            <a:avLst/>
            <a:gdLst/>
            <a:ahLst/>
            <a:rect l="l" t="t" r="r" b="b"/>
            <a:pathLst>
              <a:path w="2926" h="958">
                <a:moveTo>
                  <a:pt x="977" y="0"/>
                </a:moveTo>
                <a:lnTo>
                  <a:pt x="0" y="958"/>
                </a:lnTo>
                <a:lnTo>
                  <a:pt x="2926" y="957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rot="8803200">
            <a:off x="1834560" y="4005360"/>
            <a:ext cx="237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9425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0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3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4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3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7" dur="2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многоугольника, описанного ок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, равна произведению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метра на радиус вписанной окруж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диагонали ромба равны 3 и 4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его площадь равна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апеции меньше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ы оснований на высот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рямоугольного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е произведения его катет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1" dur="indefinite" restart="never" nodeType="tmRoot">
          <p:childTnLst>
            <p:seq>
              <p:cTn id="4832" dur="indefinite" nodeType="mainSeq">
                <p:childTnLst>
                  <p:par>
                    <p:cTn id="4833" fill="hold">
                      <p:stCondLst>
                        <p:cond delay="0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7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8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9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0" restart="whenNotActive" nodeType="interactiveSeq" fill="hold">
                <p:stCondLst>
                  <p:cond evt="onClick">
                    <p:tgtEl>
                      <p:spTgt spid="1514"/>
                    </p:tgtEl>
                  </p:cond>
                </p:stCondLst>
                <p:childTnLst>
                  <p:par>
                    <p:cTn id="4841" fill="hold">
                      <p:stCondLst>
                        <p:cond evt="onClick">
                          <p:tgtEl>
                            <p:spTgt spid="1514"/>
                          </p:tgtEl>
                        </p:cond>
                      </p:stCondLst>
                      <p:childTnLst>
                        <p:par>
                          <p:cTn id="4842" fill="hold">
                            <p:stCondLst>
                              <p:cond delay="0"/>
                            </p:stCondLst>
                            <p:childTnLst>
                              <p:par>
                                <p:cTn id="4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5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6" restart="whenNotActive" nodeType="interactiveSeq" fill="hold">
                <p:stCondLst>
                  <p:cond evt="onClick">
                    <p:tgtEl>
                      <p:spTgt spid="1515"/>
                    </p:tgtEl>
                  </p:cond>
                </p:stCondLst>
                <p:childTnLst>
                  <p:par>
                    <p:cTn id="4847" fill="hold">
                      <p:stCondLst>
                        <p:cond evt="onClick">
                          <p:tgtEl>
                            <p:spTgt spid="1515"/>
                          </p:tgtEl>
                        </p:cond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1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2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4853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4854" fill="hold">
                            <p:stCondLst>
                              <p:cond delay="0"/>
                            </p:stCondLst>
                            <p:childTnLst>
                              <p:par>
                                <p:cTn id="4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8" restart="whenNotActive" nodeType="interactiveSeq" fill="hold">
                <p:stCondLst>
                  <p:cond evt="onClick">
                    <p:tgtEl>
                      <p:spTgt spid="1517"/>
                    </p:tgtEl>
                  </p:cond>
                </p:stCondLst>
                <p:childTnLst>
                  <p:par>
                    <p:cTn id="4859" fill="hold">
                      <p:stCondLst>
                        <p:cond evt="onClick">
                          <p:tgtEl>
                            <p:spTgt spid="1517"/>
                          </p:tgtEl>
                        </p:cond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3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/>
          <p:nvPr/>
        </p:nvSpPr>
        <p:spPr>
          <a:xfrm>
            <a:off x="1332000" y="576360"/>
            <a:ext cx="4105080" cy="3520800"/>
          </a:xfrm>
          <a:custGeom>
            <a:avLst/>
            <a:gdLst/>
            <a:ahLst/>
            <a:rect l="l" t="t" r="r" b="b"/>
            <a:pathLst>
              <a:path w="2586" h="2218">
                <a:moveTo>
                  <a:pt x="500" y="0"/>
                </a:moveTo>
                <a:lnTo>
                  <a:pt x="2586" y="24"/>
                </a:lnTo>
                <a:lnTo>
                  <a:pt x="2109" y="2210"/>
                </a:lnTo>
                <a:lnTo>
                  <a:pt x="545" y="2218"/>
                </a:lnTo>
                <a:lnTo>
                  <a:pt x="0" y="1143"/>
                </a:lnTo>
                <a:lnTo>
                  <a:pt x="508" y="17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547640" y="620640"/>
            <a:ext cx="3456000" cy="3456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203640" y="2349360"/>
            <a:ext cx="7128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259080" y="2390760"/>
            <a:ext cx="1671840" cy="318960"/>
          </a:xfrm>
          <a:custGeom>
            <a:avLst/>
            <a:gdLst/>
            <a:ahLst/>
            <a:rect l="l" t="t" r="r" b="b"/>
            <a:pathLst>
              <a:path w="1053" h="201">
                <a:moveTo>
                  <a:pt x="0" y="0"/>
                </a:moveTo>
                <a:lnTo>
                  <a:pt x="1053" y="201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84544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853080" y="19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981760" y="1963800"/>
                <a:ext cx="2363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0" y="4581360"/>
            <a:ext cx="6804000" cy="1872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многоугольника опис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окружности, равна полов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я пери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а на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4" dur="indefinite" restart="never" nodeType="tmRoot">
          <p:childTnLst>
            <p:seq>
              <p:cTn id="4865" dur="indefinite" nodeType="mainSeq">
                <p:childTnLst>
                  <p:par>
                    <p:cTn id="4866" fill="hold">
                      <p:stCondLst>
                        <p:cond delay="0"/>
                      </p:stCondLst>
                      <p:childTnLst>
                        <p:par>
                          <p:cTn id="4867" fill="hold">
                            <p:stCondLst>
                              <p:cond delay="0"/>
                            </p:stCondLst>
                            <p:childTnLst>
                              <p:par>
                                <p:cTn id="4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0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1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2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76" dur="2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0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4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6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0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4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39528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ромба равна полов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я его диагон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39640" y="3141720"/>
            <a:ext cx="6337440" cy="194472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77800" y="4114800"/>
            <a:ext cx="6240600" cy="1440"/>
          </a:xfrm>
          <a:custGeom>
            <a:avLst/>
            <a:gdLst/>
            <a:ahLst/>
            <a:rect l="l" t="t" r="r" b="b"/>
            <a:pathLst>
              <a:path w="3931" h="1">
                <a:moveTo>
                  <a:pt x="0" y="0"/>
                </a:moveTo>
                <a:lnTo>
                  <a:pt x="3931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708360" y="3141720"/>
            <a:ext cx="0" cy="194292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494160" y="270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8788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81080" y="38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49452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2943360" y="5451480"/>
                <a:ext cx="32749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335016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5" dur="indefinite" restart="never" nodeType="tmRoot">
          <p:childTnLst>
            <p:seq>
              <p:cTn id="4896" dur="indefinite" nodeType="mainSeq">
                <p:childTnLst>
                  <p:par>
                    <p:cTn id="4897" fill="hold">
                      <p:stCondLst>
                        <p:cond delay="0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1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3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8" fill="hold">
                      <p:stCondLst>
                        <p:cond delay="indefinite"/>
                      </p:stCondLst>
                      <p:childTnLst>
                        <p:par>
                          <p:cTn id="4909" fill="hold">
                            <p:stCondLst>
                              <p:cond delay="0"/>
                            </p:stCondLst>
                            <p:childTnLst>
                              <p:par>
                                <p:cTn id="4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2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6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прямые либо имеют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у общую точку, 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54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1280" y="836280"/>
            <a:ext cx="3816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763280" y="333360"/>
            <a:ext cx="129564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7440" y="5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308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9080" y="2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060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00360" y="404640"/>
            <a:ext cx="2879640" cy="324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579640" y="476280"/>
            <a:ext cx="287964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29800" y="3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4160" y="2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трапеции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ию полу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оснований на вы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076400" y="2782800"/>
            <a:ext cx="5700600" cy="2448000"/>
          </a:xfrm>
          <a:custGeom>
            <a:avLst/>
            <a:gdLst/>
            <a:ahLst/>
            <a:rect l="l" t="t" r="r" b="b"/>
            <a:pathLst>
              <a:path w="3591" h="1542">
                <a:moveTo>
                  <a:pt x="3591" y="1542"/>
                </a:moveTo>
                <a:lnTo>
                  <a:pt x="0" y="1542"/>
                </a:lnTo>
                <a:lnTo>
                  <a:pt x="618" y="0"/>
                </a:lnTo>
                <a:lnTo>
                  <a:pt x="2134" y="9"/>
                </a:lnTo>
                <a:lnTo>
                  <a:pt x="3583" y="153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6160" y="522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59016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69416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429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057400" y="2770200"/>
            <a:ext cx="2394000" cy="12600"/>
          </a:xfrm>
          <a:custGeom>
            <a:avLst/>
            <a:gdLst/>
            <a:ahLst/>
            <a:rect l="l" t="t" r="r" b="b"/>
            <a:pathLst>
              <a:path w="1508" h="8">
                <a:moveTo>
                  <a:pt x="0" y="0"/>
                </a:moveTo>
                <a:lnTo>
                  <a:pt x="1508" y="8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050920" y="472428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044800" y="2770200"/>
            <a:ext cx="25200" cy="2433600"/>
          </a:xfrm>
          <a:custGeom>
            <a:avLst/>
            <a:gdLst/>
            <a:ahLst/>
            <a:rect l="l" t="t" r="r" b="b"/>
            <a:pathLst>
              <a:path w="16" h="1533">
                <a:moveTo>
                  <a:pt x="16" y="0"/>
                </a:moveTo>
                <a:lnTo>
                  <a:pt x="0" y="1533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549520" y="5275440"/>
                <a:ext cx="4913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7" name=""/>
          <p:cNvSpPr/>
          <p:nvPr/>
        </p:nvSpPr>
        <p:spPr>
          <a:xfrm>
            <a:off x="1042920" y="5229360"/>
            <a:ext cx="5742000" cy="1440"/>
          </a:xfrm>
          <a:custGeom>
            <a:avLst/>
            <a:gdLst/>
            <a:ahLst/>
            <a:rect l="l" t="t" r="r" b="b"/>
            <a:pathLst>
              <a:path w="3617" h="1">
                <a:moveTo>
                  <a:pt x="0" y="0"/>
                </a:moveTo>
                <a:lnTo>
                  <a:pt x="3617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36360" y="522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6" dur="indefinite" restart="never" nodeType="tmRoot">
          <p:childTnLst>
            <p:seq>
              <p:cTn id="4927" dur="indefinite" nodeType="mainSeq">
                <p:childTnLst>
                  <p:par>
                    <p:cTn id="4928" fill="hold">
                      <p:stCondLst>
                        <p:cond delay="0"/>
                      </p:stCondLst>
                      <p:childTnLst>
                        <p:par>
                          <p:cTn id="4929" fill="hold">
                            <p:stCondLst>
                              <p:cond delay="0"/>
                            </p:stCondLst>
                            <p:childTnLst>
                              <p:par>
                                <p:cTn id="49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2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3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4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8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3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6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0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4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8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3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539640" y="549360"/>
            <a:ext cx="5938920" cy="180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рямоуг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угольника равна полов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я его ка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95016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901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>
            <a:hlinkClick r:id="rId3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332000" y="2708280"/>
            <a:ext cx="5616360" cy="2376360"/>
          </a:xfrm>
          <a:prstGeom prst="rtTriangl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90180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332000" y="4581360"/>
            <a:ext cx="503280" cy="503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332000" y="5084640"/>
            <a:ext cx="5580000" cy="1800"/>
          </a:xfrm>
          <a:custGeom>
            <a:avLst/>
            <a:gdLst/>
            <a:ahLst/>
            <a:rect l="l" t="t" r="r" b="b"/>
            <a:pathLst>
              <a:path w="3515" h="1">
                <a:moveTo>
                  <a:pt x="0" y="1"/>
                </a:moveTo>
                <a:lnTo>
                  <a:pt x="3515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332000" y="2708280"/>
            <a:ext cx="1440" cy="2340000"/>
          </a:xfrm>
          <a:custGeom>
            <a:avLst/>
            <a:gdLst/>
            <a:ahLst/>
            <a:rect l="l" t="t" r="r" b="b"/>
            <a:pathLst>
              <a:path w="1" h="1474">
                <a:moveTo>
                  <a:pt x="0" y="1474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4716360" y="2852640"/>
                <a:ext cx="333720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4" dur="indefinite" restart="never" nodeType="tmRoot">
          <p:childTnLst>
            <p:seq>
              <p:cTn id="4965" dur="indefinite" nodeType="mainSeq">
                <p:childTnLst>
                  <p:par>
                    <p:cTn id="4966" fill="hold">
                      <p:stCondLst>
                        <p:cond delay="0"/>
                      </p:stCondLst>
                      <p:childTnLst>
                        <p:par>
                          <p:cTn id="4967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2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0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4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7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1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для которого АВ=4, ВС=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=6, уго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ибольш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сторона треугольника не превос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ммы двух других сторон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два треугольника подобны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сходственные стороны пропорциональ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многоугольника, описанного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и, равна произведению его пери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радиус вписанной окруж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2" dur="indefinite" restart="never" nodeType="tmRoot">
          <p:childTnLst>
            <p:seq>
              <p:cTn id="4993" dur="indefinite" nodeType="mainSeq">
                <p:childTnLst>
                  <p:par>
                    <p:cTn id="4994" fill="hold">
                      <p:stCondLst>
                        <p:cond delay="0"/>
                      </p:stCondLst>
                      <p:childTnLst>
                        <p:par>
                          <p:cTn id="4995" fill="hold">
                            <p:stCondLst>
                              <p:cond delay="0"/>
                            </p:stCondLst>
                            <p:childTnLst>
                              <p:par>
                                <p:cTn id="4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8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9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0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1" restart="whenNotActive" nodeType="interactiveSeq" fill="hold">
                <p:stCondLst>
                  <p:cond evt="onClick">
                    <p:tgtEl>
                      <p:spTgt spid="1576"/>
                    </p:tgtEl>
                  </p:cond>
                </p:stCondLst>
                <p:childTnLst>
                  <p:par>
                    <p:cTn id="5002" fill="hold">
                      <p:stCondLst>
                        <p:cond evt="onClick">
                          <p:tgtEl>
                            <p:spTgt spid="1576"/>
                          </p:tgtEl>
                        </p:cond>
                      </p:stCondLst>
                      <p:childTnLst>
                        <p:par>
                          <p:cTn id="5003" fill="hold">
                            <p:stCondLst>
                              <p:cond delay="0"/>
                            </p:stCondLst>
                            <p:childTnLst>
                              <p:par>
                                <p:cTn id="5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6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7" restart="whenNotActive" nodeType="interactiveSeq" fill="hold">
                <p:stCondLst>
                  <p:cond evt="onClick">
                    <p:tgtEl>
                      <p:spTgt spid="1577"/>
                    </p:tgtEl>
                  </p:cond>
                </p:stCondLst>
                <p:childTnLst>
                  <p:par>
                    <p:cTn id="5008" fill="hold">
                      <p:stCondLst>
                        <p:cond evt="onClick">
                          <p:tgtEl>
                            <p:spTgt spid="1577"/>
                          </p:tgtEl>
                        </p:cond>
                      </p:stCondLst>
                      <p:childTnLst>
                        <p:par>
                          <p:cTn id="5009" fill="hold">
                            <p:stCondLst>
                              <p:cond delay="0"/>
                            </p:stCondLst>
                            <p:childTnLst>
                              <p:par>
                                <p:cTn id="5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3" restart="whenNotActive" nodeType="interactiveSeq" fill="hold">
                <p:stCondLst>
                  <p:cond evt="onClick">
                    <p:tgtEl>
                      <p:spTgt spid="1578"/>
                    </p:tgtEl>
                  </p:cond>
                </p:stCondLst>
                <p:childTnLst>
                  <p:par>
                    <p:cTn id="5014" fill="hold">
                      <p:stCondLst>
                        <p:cond evt="onClick">
                          <p:tgtEl>
                            <p:spTgt spid="1578"/>
                          </p:tgtEl>
                        </p:cond>
                      </p:stCondLst>
                      <p:childTnLst>
                        <p:par>
                          <p:cTn id="5015" fill="hold">
                            <p:stCondLst>
                              <p:cond delay="0"/>
                            </p:stCondLst>
                            <p:childTnLst>
                              <p:par>
                                <p:cTn id="5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8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9" restart="whenNotActive" nodeType="interactiveSeq" fill="hold">
                <p:stCondLst>
                  <p:cond evt="onClick">
                    <p:tgtEl>
                      <p:spTgt spid="1579"/>
                    </p:tgtEl>
                  </p:cond>
                </p:stCondLst>
                <p:childTnLst>
                  <p:par>
                    <p:cTn id="5020" fill="hold">
                      <p:stCondLst>
                        <p:cond evt="onClick">
                          <p:tgtEl>
                            <p:spTgt spid="1579"/>
                          </p:tgtEl>
                        </p:cond>
                      </p:stCondLst>
                      <p:childTnLst>
                        <p:par>
                          <p:cTn id="5021" fill="hold">
                            <p:stCondLst>
                              <p:cond delay="0"/>
                            </p:stCondLst>
                            <p:childTnLst>
                              <p:par>
                                <p:cTn id="5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4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реугольнике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ей стороны л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й 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02180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54872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28580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14144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rot="13984800">
            <a:off x="2016720" y="1513080"/>
            <a:ext cx="2376360" cy="260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5" dur="indefinite" restart="never" nodeType="tmRoot">
          <p:childTnLst>
            <p:seq>
              <p:cTn id="5026" dur="indefinite" nodeType="mainSeq">
                <p:childTnLst>
                  <p:par>
                    <p:cTn id="5027" fill="hold">
                      <p:stCondLst>
                        <p:cond delay="0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3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7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9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4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9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0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1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5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9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2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5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68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сторон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ньше су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друг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816200" y="550800"/>
            <a:ext cx="5216400" cy="31068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47816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702180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5076720" y="2708280"/>
                <a:ext cx="3457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5076720" y="2133720"/>
                <a:ext cx="3456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B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076720" y="3284640"/>
                <a:ext cx="3456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А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6" name=""/>
          <p:cNvSpPr/>
          <p:nvPr/>
        </p:nvSpPr>
        <p:spPr>
          <a:xfrm flipH="1">
            <a:off x="1834920" y="549360"/>
            <a:ext cx="433080" cy="30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268360" y="549360"/>
            <a:ext cx="4751640" cy="936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1835280" y="1484280"/>
            <a:ext cx="5184720" cy="216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0" dur="indefinite" restart="never" nodeType="tmRoot">
          <p:childTnLst>
            <p:seq>
              <p:cTn id="5071" dur="indefinite" nodeType="mainSeq">
                <p:childTnLst>
                  <p:par>
                    <p:cTn id="5072" fill="hold">
                      <p:stCondLst>
                        <p:cond delay="0"/>
                      </p:stCondLst>
                      <p:childTnLst>
                        <p:par>
                          <p:cTn id="5073" fill="hold">
                            <p:stCondLst>
                              <p:cond delay="0"/>
                            </p:stCondLst>
                            <p:childTnLst>
                              <p:par>
                                <p:cTn id="50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6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7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8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2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7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4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6" fill="hold">
                      <p:stCondLst>
                        <p:cond delay="indefinite"/>
                      </p:stCondLst>
                      <p:childTnLst>
                        <p:par>
                          <p:cTn id="5097" fill="hold">
                            <p:stCondLst>
                              <p:cond delay="0"/>
                            </p:stCondLst>
                            <p:childTnLst>
                              <p:par>
                                <p:cTn id="5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0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4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3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7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20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rot="19628400">
            <a:off x="3276720" y="2781000"/>
            <a:ext cx="2303280" cy="109368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rot="19628400">
            <a:off x="3276720" y="4509720"/>
            <a:ext cx="2684520" cy="13809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 rot="15865200">
            <a:off x="640080" y="275148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 rot="9918000">
            <a:off x="731520" y="451476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 rot="4504800">
            <a:off x="6154560" y="1926360"/>
            <a:ext cx="2016000" cy="30114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 rot="15105600">
            <a:off x="6517800" y="4507200"/>
            <a:ext cx="1495440" cy="23641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rot="19589400">
            <a:off x="4932000" y="45100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rot="19589400">
            <a:off x="4643280" y="27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rot="13913400">
            <a:off x="731520" y="4965480"/>
            <a:ext cx="198360" cy="29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rot="19589400">
            <a:off x="2052360" y="27082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rot="5621400">
            <a:off x="1194120" y="61585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rot="5915400">
            <a:off x="1221840" y="584208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rot="11293200">
            <a:off x="817560" y="2986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rot="11620200">
            <a:off x="971280" y="292356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321000" y="2514600"/>
            <a:ext cx="1963800" cy="1895400"/>
          </a:xfrm>
          <a:custGeom>
            <a:avLst/>
            <a:gdLst/>
            <a:ahLst/>
            <a:rect l="l" t="t" r="r" b="b"/>
            <a:pathLst>
              <a:path w="1237" h="1194">
                <a:moveTo>
                  <a:pt x="0" y="551"/>
                </a:moveTo>
                <a:lnTo>
                  <a:pt x="1237" y="0"/>
                </a:lnTo>
                <a:lnTo>
                  <a:pt x="280" y="119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294000" y="4222800"/>
            <a:ext cx="2327400" cy="2271600"/>
          </a:xfrm>
          <a:custGeom>
            <a:avLst/>
            <a:gdLst/>
            <a:ahLst/>
            <a:rect l="l" t="t" r="r" b="b"/>
            <a:pathLst>
              <a:path w="1466" h="1431">
                <a:moveTo>
                  <a:pt x="0" y="627"/>
                </a:moveTo>
                <a:lnTo>
                  <a:pt x="1466" y="0"/>
                </a:lnTo>
                <a:lnTo>
                  <a:pt x="390" y="1431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970600" y="2313000"/>
            <a:ext cx="2863800" cy="2460600"/>
          </a:xfrm>
          <a:custGeom>
            <a:avLst/>
            <a:gdLst/>
            <a:ahLst/>
            <a:rect l="l" t="t" r="r" b="b"/>
            <a:pathLst>
              <a:path w="1804" h="1550">
                <a:moveTo>
                  <a:pt x="0" y="1550"/>
                </a:moveTo>
                <a:lnTo>
                  <a:pt x="1804" y="966"/>
                </a:lnTo>
                <a:lnTo>
                  <a:pt x="949" y="0"/>
                </a:lnTo>
                <a:lnTo>
                  <a:pt x="0" y="1550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943600" y="4599000"/>
            <a:ext cx="2219400" cy="1949400"/>
          </a:xfrm>
          <a:custGeom>
            <a:avLst/>
            <a:gdLst/>
            <a:ahLst/>
            <a:rect l="l" t="t" r="r" b="b"/>
            <a:pathLst>
              <a:path w="1398" h="1228">
                <a:moveTo>
                  <a:pt x="8" y="551"/>
                </a:moveTo>
                <a:lnTo>
                  <a:pt x="703" y="1228"/>
                </a:lnTo>
                <a:lnTo>
                  <a:pt x="1398" y="0"/>
                </a:lnTo>
                <a:lnTo>
                  <a:pt x="0" y="551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2" dur="indefinite" restart="never" nodeType="tmRoot">
          <p:childTnLst>
            <p:seq>
              <p:cTn id="5123" dur="indefinite" nodeType="mainSeq">
                <p:childTnLst>
                  <p:par>
                    <p:cTn id="5124" fill="hold">
                      <p:stCondLst>
                        <p:cond delay="0"/>
                      </p:stCondLst>
                      <p:childTnLst>
                        <p:par>
                          <p:cTn id="5125" fill="hold">
                            <p:stCondLst>
                              <p:cond delay="0"/>
                            </p:stCondLst>
                            <p:childTnLst>
                              <p:par>
                                <p:cTn id="5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8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9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0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8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1" dur="1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5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8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1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4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8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1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5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8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72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75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4" name="" descr=""/>
          <p:cNvPicPr/>
          <p:nvPr/>
        </p:nvPicPr>
        <p:blipFill>
          <a:blip r:embed="rId3"/>
          <a:stretch/>
        </p:blipFill>
        <p:spPr>
          <a:xfrm>
            <a:off x="5938920" y="4105440"/>
            <a:ext cx="2665440" cy="201420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/>
          <p:nvPr/>
        </p:nvSpPr>
        <p:spPr>
          <a:xfrm>
            <a:off x="0" y="4581360"/>
            <a:ext cx="6804000" cy="1872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многоугольника опис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окружности, равна полов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я пери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угольника на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332000" y="576360"/>
            <a:ext cx="4105080" cy="3520800"/>
          </a:xfrm>
          <a:custGeom>
            <a:avLst/>
            <a:gdLst/>
            <a:ahLst/>
            <a:rect l="l" t="t" r="r" b="b"/>
            <a:pathLst>
              <a:path w="2586" h="2218">
                <a:moveTo>
                  <a:pt x="500" y="0"/>
                </a:moveTo>
                <a:lnTo>
                  <a:pt x="2586" y="24"/>
                </a:lnTo>
                <a:lnTo>
                  <a:pt x="2109" y="2210"/>
                </a:lnTo>
                <a:lnTo>
                  <a:pt x="545" y="2218"/>
                </a:lnTo>
                <a:lnTo>
                  <a:pt x="0" y="1143"/>
                </a:lnTo>
                <a:lnTo>
                  <a:pt x="508" y="17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547640" y="620640"/>
            <a:ext cx="3456000" cy="34560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203640" y="2349360"/>
            <a:ext cx="7128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259080" y="2390760"/>
            <a:ext cx="1671840" cy="318960"/>
          </a:xfrm>
          <a:custGeom>
            <a:avLst/>
            <a:gdLst/>
            <a:ahLst/>
            <a:rect l="l" t="t" r="r" b="b"/>
            <a:pathLst>
              <a:path w="1053" h="201">
                <a:moveTo>
                  <a:pt x="0" y="0"/>
                </a:moveTo>
                <a:lnTo>
                  <a:pt x="1053" y="201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84544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53080" y="19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5981760" y="1963800"/>
                <a:ext cx="23637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6" dur="indefinite" restart="never" nodeType="tmRoot">
          <p:childTnLst>
            <p:seq>
              <p:cTn id="5177" dur="indefinite" nodeType="mainSeq">
                <p:childTnLst>
                  <p:par>
                    <p:cTn id="5178" fill="hold">
                      <p:stCondLst>
                        <p:cond delay="0"/>
                      </p:stCondLst>
                      <p:childTnLst>
                        <p:par>
                          <p:cTn id="5179" fill="hold">
                            <p:stCondLst>
                              <p:cond delay="0"/>
                            </p:stCondLst>
                            <p:childTnLst>
                              <p:par>
                                <p:cTn id="5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8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92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6" dur="1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0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1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2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6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2195640" y="260280"/>
            <a:ext cx="6769080" cy="720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следующих утвержден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ер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699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>
            <a:hlinkClick r:id="rId2" action="ppaction://hlinksldjump"/>
          </p:cNvPr>
          <p:cNvSpPr/>
          <p:nvPr/>
        </p:nvSpPr>
        <p:spPr>
          <a:xfrm>
            <a:off x="539640" y="21319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>
            <a:hlinkClick r:id="rId3" action="ppaction://hlinksldjump"/>
          </p:cNvPr>
          <p:cNvSpPr/>
          <p:nvPr/>
        </p:nvSpPr>
        <p:spPr>
          <a:xfrm>
            <a:off x="53964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rId4" action="ppaction://hlinksldjump"/>
          </p:cNvPr>
          <p:cNvSpPr/>
          <p:nvPr/>
        </p:nvSpPr>
        <p:spPr>
          <a:xfrm>
            <a:off x="539640" y="450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rId5" action="ppaction://hlinksldjump"/>
          </p:cNvPr>
          <p:cNvSpPr/>
          <p:nvPr/>
        </p:nvSpPr>
        <p:spPr>
          <a:xfrm>
            <a:off x="53964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332000" y="1844640"/>
            <a:ext cx="763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две стороны и угол между ними одного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енно равны двум сторонам и уг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ними другого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такие тр-ки подобн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332000" y="3068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име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менее двух равных угл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332000" y="4292640"/>
            <a:ext cx="763272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трапеции не превос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я средней линии на высот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332000" y="5516640"/>
            <a:ext cx="763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асстояние от точки до прямой меньше 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и длина любой наклонной, проведенно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нной точки к прямой, меньше 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rot="20786400">
            <a:off x="7093080" y="2276280"/>
            <a:ext cx="1743120" cy="502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rot="20815800">
            <a:off x="7093080" y="3500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rot="20815800">
            <a:off x="7093080" y="472428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rot="20850600">
            <a:off x="7092720" y="5949720"/>
            <a:ext cx="17431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>
            <a:hlinkClick r:id="rId6" action="ppaction://hlinksldjump"/>
          </p:cNvPr>
          <p:cNvSpPr/>
          <p:nvPr/>
        </p:nvSpPr>
        <p:spPr>
          <a:xfrm>
            <a:off x="8101080" y="11253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7" dur="indefinite" restart="never" nodeType="tmRoot">
          <p:childTnLst>
            <p:seq>
              <p:cTn id="5208" dur="indefinite" nodeType="mainSeq">
                <p:childTnLst>
                  <p:par>
                    <p:cTn id="5209" fill="hold">
                      <p:stCondLst>
                        <p:cond delay="0"/>
                      </p:stCondLst>
                      <p:childTnLst>
                        <p:par>
                          <p:cTn id="5210" fill="hold">
                            <p:stCondLst>
                              <p:cond delay="0"/>
                            </p:stCondLst>
                            <p:childTnLst>
                              <p:par>
                                <p:cTn id="5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3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4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5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6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5217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5218" fill="hold">
                            <p:stCondLst>
                              <p:cond delay="0"/>
                            </p:stCondLst>
                            <p:childTnLst>
                              <p:par>
                                <p:cTn id="5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1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2" restart="whenNotActive" nodeType="interactiveSeq" fill="hold">
                <p:stCondLst>
                  <p:cond evt="onClick">
                    <p:tgtEl>
                      <p:spTgt spid="1650"/>
                    </p:tgtEl>
                  </p:cond>
                </p:stCondLst>
                <p:childTnLst>
                  <p:par>
                    <p:cTn id="5223" fill="hold">
                      <p:stCondLst>
                        <p:cond evt="onClick">
                          <p:tgtEl>
                            <p:spTgt spid="1650"/>
                          </p:tgtEl>
                        </p:cond>
                      </p:stCondLst>
                      <p:childTnLst>
                        <p:par>
                          <p:cTn id="5224" fill="hold">
                            <p:stCondLst>
                              <p:cond delay="0"/>
                            </p:stCondLst>
                            <p:childTnLst>
                              <p:par>
                                <p:cTn id="5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7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8" restart="whenNotActive" nodeType="interactiveSeq" fill="hold">
                <p:stCondLst>
                  <p:cond evt="onClick">
                    <p:tgtEl>
                      <p:spTgt spid="1651"/>
                    </p:tgtEl>
                  </p:cond>
                </p:stCondLst>
                <p:childTnLst>
                  <p:par>
                    <p:cTn id="5229" fill="hold">
                      <p:stCondLst>
                        <p:cond evt="onClick">
                          <p:tgtEl>
                            <p:spTgt spid="1651"/>
                          </p:tgtEl>
                        </p:cond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3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4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5235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5236" fill="hold">
                            <p:stCondLst>
                              <p:cond delay="0"/>
                            </p:stCondLst>
                            <p:childTnLst>
                              <p:par>
                                <p:cTn id="5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9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611280" y="549360"/>
            <a:ext cx="59389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помним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бия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rot="19628400">
            <a:off x="3276720" y="2781000"/>
            <a:ext cx="2303280" cy="109368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rot="19628400">
            <a:off x="3276720" y="4509720"/>
            <a:ext cx="2684520" cy="138096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7928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20364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940360" y="17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 rot="15865200">
            <a:off x="640080" y="275148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 rot="9918000">
            <a:off x="731520" y="4514760"/>
            <a:ext cx="2031840" cy="19447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 rot="4504800">
            <a:off x="6154560" y="1926360"/>
            <a:ext cx="2016000" cy="301140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 rot="15105600">
            <a:off x="6517800" y="4507200"/>
            <a:ext cx="1495440" cy="2364120"/>
          </a:xfrm>
          <a:custGeom>
            <a:avLst/>
            <a:gdLst/>
            <a:ahLst/>
            <a:rect l="l" t="t" r="r" b="b"/>
            <a:pathLst>
              <a:path w="3286" h="1957">
                <a:moveTo>
                  <a:pt x="12" y="1949"/>
                </a:moveTo>
                <a:lnTo>
                  <a:pt x="279" y="0"/>
                </a:lnTo>
                <a:lnTo>
                  <a:pt x="3286" y="593"/>
                </a:lnTo>
                <a:lnTo>
                  <a:pt x="0" y="1957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19589400">
            <a:off x="4932000" y="45100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rot="19589400">
            <a:off x="4643280" y="2781000"/>
            <a:ext cx="19872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rot="13913400">
            <a:off x="731520" y="4965480"/>
            <a:ext cx="198360" cy="29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rot="19589400">
            <a:off x="2052360" y="2708280"/>
            <a:ext cx="19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rot="5621400">
            <a:off x="1194120" y="61585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rot="5915400">
            <a:off x="1221840" y="5842080"/>
            <a:ext cx="2890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1293200">
            <a:off x="817560" y="2986920"/>
            <a:ext cx="2030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11620200">
            <a:off x="971280" y="2923560"/>
            <a:ext cx="28872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71" y="994"/>
                  <a:pt x="5542" y="5080"/>
                  <a:pt x="5542" y="10800"/>
                </a:cubicBezTo>
                <a:cubicBezTo>
                  <a:pt x="5542" y="16520"/>
                  <a:pt x="13571" y="20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321000" y="2514600"/>
            <a:ext cx="1963800" cy="1895400"/>
          </a:xfrm>
          <a:custGeom>
            <a:avLst/>
            <a:gdLst/>
            <a:ahLst/>
            <a:rect l="l" t="t" r="r" b="b"/>
            <a:pathLst>
              <a:path w="1237" h="1194">
                <a:moveTo>
                  <a:pt x="0" y="551"/>
                </a:moveTo>
                <a:lnTo>
                  <a:pt x="1237" y="0"/>
                </a:lnTo>
                <a:lnTo>
                  <a:pt x="280" y="1194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294000" y="4222800"/>
            <a:ext cx="2327400" cy="2271600"/>
          </a:xfrm>
          <a:custGeom>
            <a:avLst/>
            <a:gdLst/>
            <a:ahLst/>
            <a:rect l="l" t="t" r="r" b="b"/>
            <a:pathLst>
              <a:path w="1466" h="1431">
                <a:moveTo>
                  <a:pt x="0" y="627"/>
                </a:moveTo>
                <a:lnTo>
                  <a:pt x="1466" y="0"/>
                </a:lnTo>
                <a:lnTo>
                  <a:pt x="390" y="1431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970600" y="2313000"/>
            <a:ext cx="2863800" cy="2460600"/>
          </a:xfrm>
          <a:custGeom>
            <a:avLst/>
            <a:gdLst/>
            <a:ahLst/>
            <a:rect l="l" t="t" r="r" b="b"/>
            <a:pathLst>
              <a:path w="1804" h="1550">
                <a:moveTo>
                  <a:pt x="0" y="1550"/>
                </a:moveTo>
                <a:lnTo>
                  <a:pt x="1804" y="966"/>
                </a:lnTo>
                <a:lnTo>
                  <a:pt x="949" y="0"/>
                </a:lnTo>
                <a:lnTo>
                  <a:pt x="0" y="1550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943600" y="4599000"/>
            <a:ext cx="2219400" cy="1949400"/>
          </a:xfrm>
          <a:custGeom>
            <a:avLst/>
            <a:gdLst/>
            <a:ahLst/>
            <a:rect l="l" t="t" r="r" b="b"/>
            <a:pathLst>
              <a:path w="1398" h="1228">
                <a:moveTo>
                  <a:pt x="8" y="551"/>
                </a:moveTo>
                <a:lnTo>
                  <a:pt x="703" y="1228"/>
                </a:lnTo>
                <a:lnTo>
                  <a:pt x="1398" y="0"/>
                </a:lnTo>
                <a:lnTo>
                  <a:pt x="0" y="551"/>
                </a:lnTo>
              </a:path>
            </a:pathLst>
          </a:custGeom>
          <a:noFill/>
          <a:ln w="41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0" dur="indefinite" restart="never" nodeType="tmRoot">
          <p:childTnLst>
            <p:seq>
              <p:cTn id="5241" dur="indefinite" nodeType="mainSeq">
                <p:childTnLst>
                  <p:par>
                    <p:cTn id="5242" fill="hold">
                      <p:stCondLst>
                        <p:cond delay="0"/>
                      </p:stCondLst>
                      <p:childTnLst>
                        <p:par>
                          <p:cTn id="5243" fill="hold">
                            <p:stCondLst>
                              <p:cond delay="0"/>
                            </p:stCondLst>
                            <p:childTnLst>
                              <p:par>
                                <p:cTn id="5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6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7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8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2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9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3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6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9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2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6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3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6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0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3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>
            <a:hlinkClick r:id="rId2" action="ppaction://hlinksldjump"/>
          </p:cNvPr>
          <p:cNvSpPr/>
          <p:nvPr/>
        </p:nvSpPr>
        <p:spPr>
          <a:xfrm>
            <a:off x="7885080" y="6237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39640" y="4581360"/>
            <a:ext cx="593892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ы 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258920" y="404640"/>
            <a:ext cx="2881440" cy="360072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716360" y="765000"/>
            <a:ext cx="3024360" cy="2616480"/>
          </a:xfrm>
          <a:prstGeom prst="triangle">
            <a:avLst>
              <a:gd name="adj" fmla="val 50000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90180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997440" y="400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0216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452720" y="3357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3440" y="33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835280" y="2349360"/>
            <a:ext cx="21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348000" y="2349360"/>
            <a:ext cx="2160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rot="8803200">
            <a:off x="1547280" y="349956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rot="1618800">
            <a:off x="3645000" y="350784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29272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948360" y="2205000"/>
            <a:ext cx="21600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rot="8803200">
            <a:off x="5076360" y="2851920"/>
            <a:ext cx="238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rot="1618800">
            <a:off x="7093080" y="2852280"/>
            <a:ext cx="22356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16200000">
            <a:off x="6082560" y="1126440"/>
            <a:ext cx="28728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3"/>
                  <a:pt x="9495" y="5080"/>
                  <a:pt x="9495" y="10800"/>
                </a:cubicBezTo>
                <a:cubicBezTo>
                  <a:pt x="9495" y="16520"/>
                  <a:pt x="15548" y="1989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238800" y="3267000"/>
            <a:ext cx="180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4" dur="indefinite" restart="never" nodeType="tmRoot">
          <p:childTnLst>
            <p:seq>
              <p:cTn id="5295" dur="indefinite" nodeType="mainSeq">
                <p:childTnLst>
                  <p:par>
                    <p:cTn id="5296" fill="hold">
                      <p:stCondLst>
                        <p:cond delay="0"/>
                      </p:stCondLst>
                      <p:childTnLst>
                        <p:par>
                          <p:cTn id="5297" fill="hold">
                            <p:stCondLst>
                              <p:cond delay="0"/>
                            </p:stCondLst>
                            <p:childTnLst>
                              <p:par>
                                <p:cTn id="5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0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1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5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8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7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8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3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6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Марина</cp:lastModifiedBy>
  <dcterms:modified xsi:type="dcterms:W3CDTF">2011-10-07T18:52:28Z</dcterms:modified>
  <cp:revision>52</cp:revision>
  <dc:subject/>
  <dc:title>Слайд 1</dc:title>
</cp:coreProperties>
</file>