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06C6-D957-4A94-AE62-6AA98C7EF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1205-9B1D-4F3D-9F9F-4971C1744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CE37-CE0C-4EF6-AD01-0000824B8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F193-AE9E-4DC3-9AF7-856DE4C62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38E0C-DB4F-43D8-8BCF-8955FB124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B1881-ABF9-4674-95E4-AB597CDB7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97F3A-35C0-4C06-96BE-80F238951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8288E-9D32-4CE7-BB4A-DC177D337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0BE76-9BFA-4CAB-B14B-D4CEB8734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F5A07-659E-4C19-8496-73EEDDD7E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13E84-75DB-4787-839D-3BB802AFE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C377-21DB-435F-BA39-B21E9AB07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BA2D1-76CE-48D3-9FCE-16D52ABA8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9F109-2F6F-4BD5-BA4C-33103BC5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FBE31-846B-4FA7-9E1D-E4B4D1286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92AB9-C73D-476C-82C6-3F08E3708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8F94B-84EF-49FC-843B-86215DE07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AD0B-808E-4B26-B81B-5E9142E23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2769-DEF9-40C5-83B6-3FE0C5EDB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AA6C-79F0-4B7A-9161-3F92E77EC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0705-E513-403D-B7A7-AF536F8DA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F39B-C9D3-4F33-8D7F-90A85CB50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5400-75BB-482B-B58E-E8C2C47A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ECA5-DB6C-42C9-80A5-C9A4C891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EE57D-4961-4A15-9627-3DB58637150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05746-2688-41B9-9E30-65FA8835E14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" Target="slide2.xml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7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3.xml"/><Relationship Id="rId12" Type="http://schemas.openxmlformats.org/officeDocument/2006/relationships/slide" Target="slide14.xml"/><Relationship Id="rId13" Type="http://schemas.openxmlformats.org/officeDocument/2006/relationships/slide" Target="slide15.xml"/><Relationship Id="rId1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971640" y="1125360"/>
            <a:ext cx="748800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5c008a"/>
                </a:solidFill>
                <a:effectLst>
                  <a:outerShdw dist="40186" dir="1096358" blurRad="0" rotWithShape="0">
                    <a:srgbClr val="ffffcc">
                      <a:alpha val="80000"/>
                    </a:srgbClr>
                  </a:outerShdw>
                </a:effectLst>
                <a:latin typeface="Tahoma"/>
              </a:rPr>
              <a:t>Задачи 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5c008a"/>
              </a:solidFill>
              <a:effectLst>
                <a:outerShdw dist="40186" dir="1096358" blurRad="0" rotWithShape="0">
                  <a:srgbClr val="ffffcc">
                    <a:alpha val="80000"/>
                  </a:srgbClr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5c008a"/>
                </a:solidFill>
                <a:effectLst>
                  <a:outerShdw dist="40186" dir="1096358" blurRad="0" rotWithShape="0">
                    <a:srgbClr val="ffffcc">
                      <a:alpha val="80000"/>
                    </a:srgbClr>
                  </a:outerShdw>
                </a:effectLst>
                <a:latin typeface="Tahoma"/>
              </a:rPr>
              <a:t>на  готовых  чертежах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5c008a"/>
              </a:solidFill>
              <a:effectLst>
                <a:outerShdw dist="40186" dir="1096358" blurRad="0" rotWithShape="0">
                  <a:srgbClr val="ffffcc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3635280" y="5157720"/>
            <a:ext cx="504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1763640" y="1052640"/>
            <a:ext cx="5472360" cy="3097080"/>
          </a:xfrm>
          <a:custGeom>
            <a:avLst/>
            <a:gdLst/>
            <a:ahLst/>
            <a:rect l="l" t="t" r="r" b="b"/>
            <a:pathLst>
              <a:path w="3447" h="1951">
                <a:moveTo>
                  <a:pt x="98" y="1940"/>
                </a:moveTo>
                <a:cubicBezTo>
                  <a:pt x="183" y="1926"/>
                  <a:pt x="126" y="1933"/>
                  <a:pt x="269" y="1933"/>
                </a:cubicBezTo>
                <a:lnTo>
                  <a:pt x="1814" y="1951"/>
                </a:lnTo>
                <a:lnTo>
                  <a:pt x="3447" y="590"/>
                </a:lnTo>
                <a:lnTo>
                  <a:pt x="3130" y="363"/>
                </a:lnTo>
                <a:lnTo>
                  <a:pt x="2948" y="227"/>
                </a:lnTo>
                <a:lnTo>
                  <a:pt x="2812" y="182"/>
                </a:lnTo>
                <a:lnTo>
                  <a:pt x="2631" y="91"/>
                </a:lnTo>
                <a:lnTo>
                  <a:pt x="2359" y="91"/>
                </a:lnTo>
                <a:lnTo>
                  <a:pt x="2132" y="46"/>
                </a:lnTo>
                <a:lnTo>
                  <a:pt x="1905" y="0"/>
                </a:lnTo>
                <a:lnTo>
                  <a:pt x="1769" y="0"/>
                </a:lnTo>
                <a:lnTo>
                  <a:pt x="1588" y="46"/>
                </a:lnTo>
                <a:lnTo>
                  <a:pt x="1406" y="0"/>
                </a:lnTo>
                <a:lnTo>
                  <a:pt x="1225" y="46"/>
                </a:lnTo>
                <a:lnTo>
                  <a:pt x="1043" y="46"/>
                </a:lnTo>
                <a:lnTo>
                  <a:pt x="907" y="91"/>
                </a:lnTo>
                <a:lnTo>
                  <a:pt x="771" y="136"/>
                </a:lnTo>
                <a:lnTo>
                  <a:pt x="680" y="136"/>
                </a:lnTo>
                <a:lnTo>
                  <a:pt x="499" y="182"/>
                </a:lnTo>
                <a:lnTo>
                  <a:pt x="408" y="227"/>
                </a:lnTo>
                <a:lnTo>
                  <a:pt x="272" y="318"/>
                </a:lnTo>
                <a:lnTo>
                  <a:pt x="181" y="454"/>
                </a:lnTo>
                <a:lnTo>
                  <a:pt x="91" y="590"/>
                </a:lnTo>
                <a:lnTo>
                  <a:pt x="45" y="907"/>
                </a:lnTo>
                <a:lnTo>
                  <a:pt x="0" y="998"/>
                </a:lnTo>
                <a:lnTo>
                  <a:pt x="0" y="1089"/>
                </a:lnTo>
                <a:lnTo>
                  <a:pt x="45" y="1270"/>
                </a:lnTo>
                <a:lnTo>
                  <a:pt x="0" y="1406"/>
                </a:lnTo>
                <a:lnTo>
                  <a:pt x="0" y="1588"/>
                </a:lnTo>
                <a:lnTo>
                  <a:pt x="0" y="1633"/>
                </a:lnTo>
              </a:path>
            </a:pathLst>
          </a:custGeom>
          <a:gradFill rotWithShape="0">
            <a:gsLst>
              <a:gs pos="0">
                <a:srgbClr val="cc99ff">
                  <a:alpha val="44313"/>
                </a:srgbClr>
              </a:gs>
              <a:gs pos="100000">
                <a:srgbClr val="ffffff">
                  <a:alpha val="99215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rot="20391600">
            <a:off x="4284360" y="2421000"/>
            <a:ext cx="3548160" cy="1152360"/>
          </a:xfrm>
          <a:custGeom>
            <a:avLst/>
            <a:gdLst/>
            <a:ahLst/>
            <a:rect l="l" t="t" r="r" b="b"/>
            <a:pathLst>
              <a:path w="2235" h="726">
                <a:moveTo>
                  <a:pt x="2041" y="726"/>
                </a:moveTo>
                <a:lnTo>
                  <a:pt x="0" y="726"/>
                </a:lnTo>
                <a:lnTo>
                  <a:pt x="1996" y="0"/>
                </a:lnTo>
                <a:cubicBezTo>
                  <a:pt x="2010" y="16"/>
                  <a:pt x="2020" y="36"/>
                  <a:pt x="2036" y="50"/>
                </a:cubicBezTo>
                <a:cubicBezTo>
                  <a:pt x="2055" y="67"/>
                  <a:pt x="2079" y="78"/>
                  <a:pt x="2100" y="92"/>
                </a:cubicBezTo>
                <a:cubicBezTo>
                  <a:pt x="2145" y="122"/>
                  <a:pt x="2183" y="162"/>
                  <a:pt x="2228" y="192"/>
                </a:cubicBezTo>
                <a:cubicBezTo>
                  <a:pt x="2230" y="199"/>
                  <a:pt x="2235" y="213"/>
                  <a:pt x="2235" y="213"/>
                </a:cubicBezTo>
              </a:path>
            </a:pathLst>
          </a:custGeom>
          <a:blipFill rotWithShape="0">
            <a:blip r:embed="rId1">
              <a:alphaModFix amt="55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643280" y="2997360"/>
            <a:ext cx="3548160" cy="1152360"/>
          </a:xfrm>
          <a:custGeom>
            <a:avLst/>
            <a:gdLst/>
            <a:ahLst/>
            <a:rect l="l" t="t" r="r" b="b"/>
            <a:pathLst>
              <a:path w="2235" h="726">
                <a:moveTo>
                  <a:pt x="2041" y="726"/>
                </a:moveTo>
                <a:lnTo>
                  <a:pt x="0" y="726"/>
                </a:lnTo>
                <a:lnTo>
                  <a:pt x="1996" y="0"/>
                </a:lnTo>
                <a:cubicBezTo>
                  <a:pt x="2010" y="16"/>
                  <a:pt x="2020" y="36"/>
                  <a:pt x="2036" y="50"/>
                </a:cubicBezTo>
                <a:cubicBezTo>
                  <a:pt x="2055" y="67"/>
                  <a:pt x="2079" y="78"/>
                  <a:pt x="2100" y="92"/>
                </a:cubicBezTo>
                <a:cubicBezTo>
                  <a:pt x="2145" y="122"/>
                  <a:pt x="2183" y="162"/>
                  <a:pt x="2228" y="192"/>
                </a:cubicBezTo>
                <a:cubicBezTo>
                  <a:pt x="2230" y="199"/>
                  <a:pt x="2235" y="213"/>
                  <a:pt x="2235" y="213"/>
                </a:cubicBezTo>
              </a:path>
            </a:pathLst>
          </a:custGeom>
          <a:blipFill rotWithShape="0">
            <a:blip r:embed="rId2">
              <a:alphaModFix amt="51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716360" y="414828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4643280" y="2997000"/>
            <a:ext cx="3168720" cy="11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489320" y="4076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868880" y="409896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813440" y="22050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746760" y="126828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345200" y="414828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979640" y="4148280"/>
            <a:ext cx="60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618080" y="1916280"/>
            <a:ext cx="2617920" cy="2236680"/>
          </a:xfrm>
          <a:custGeom>
            <a:avLst/>
            <a:gdLst/>
            <a:ahLst/>
            <a:rect l="l" t="t" r="r" b="b"/>
            <a:pathLst>
              <a:path w="1649" h="1409">
                <a:moveTo>
                  <a:pt x="0" y="1409"/>
                </a:moveTo>
                <a:lnTo>
                  <a:pt x="1649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5694120" y="5661000"/>
            <a:ext cx="3054600" cy="797040"/>
            <a:chOff x="5694120" y="5661000"/>
            <a:chExt cx="3054600" cy="797040"/>
          </a:xfrm>
        </p:grpSpPr>
        <p:sp>
          <p:nvSpPr>
            <p:cNvPr id="367" name=""/>
            <p:cNvSpPr/>
            <p:nvPr/>
          </p:nvSpPr>
          <p:spPr>
            <a:xfrm>
              <a:off x="5694120" y="5876640"/>
              <a:ext cx="1538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Univers"/>
                </a:rPr>
                <a:t>Найти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797440" y="5661000"/>
              <a:ext cx="2951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9" name=""/>
                <p:cNvSpPr txBox="1"/>
                <p:nvPr/>
              </p:nvSpPr>
              <p:spPr>
                <a:xfrm>
                  <a:off x="7219800" y="5876640"/>
                  <a:ext cx="1405080" cy="501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AOD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70" name=""/>
          <p:cNvSpPr/>
          <p:nvPr/>
        </p:nvSpPr>
        <p:spPr>
          <a:xfrm>
            <a:off x="5940360" y="3573720"/>
            <a:ext cx="431640" cy="115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217" y="93"/>
                </a:moveTo>
                <a:arcTo wR="10800" hR="10800" stAng="-4947606" swAng="4947606"/>
                <a:lnTo>
                  <a:pt x="10800" y="10800"/>
                </a:lnTo>
                <a:close/>
              </a:path>
              <a:path fill="none" w="21600" h="21600">
                <a:moveTo>
                  <a:pt x="12217" y="93"/>
                </a:moveTo>
                <a:arcTo wR="10800" hR="10800" stAng="-4947606" swAng="4947606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436000" y="3141720"/>
            <a:ext cx="720000" cy="862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5157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51576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3708360" y="3429000"/>
                <a:ext cx="86364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8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73" name=""/>
          <p:cNvSpPr/>
          <p:nvPr/>
        </p:nvSpPr>
        <p:spPr>
          <a:xfrm>
            <a:off x="714384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Univers"/>
              </a:rPr>
              <a:t>Задача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>
            <a:hlinkClick r:id="rId3" action="ppaction://hlinksldjump"/>
          </p:cNvPr>
          <p:cNvSpPr/>
          <p:nvPr/>
        </p:nvSpPr>
        <p:spPr>
          <a:xfrm>
            <a:off x="395280" y="6021360"/>
            <a:ext cx="649440" cy="647640"/>
          </a:xfrm>
          <a:custGeom>
            <a:avLst/>
            <a:gdLst>
              <a:gd name="textAreaLeft" fmla="*/ 41760 w 649440"/>
              <a:gd name="textAreaRight" fmla="*/ 607680 w 6494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60" h="21600">
                <a:moveTo>
                  <a:pt x="0" y="0"/>
                </a:moveTo>
                <a:lnTo>
                  <a:pt x="21660" y="0"/>
                </a:lnTo>
                <a:lnTo>
                  <a:pt x="21660" y="21600"/>
                </a:lnTo>
                <a:lnTo>
                  <a:pt x="0" y="21600"/>
                </a:lnTo>
                <a:close/>
              </a:path>
              <a:path fill="lightenLess" w="21660" h="21600">
                <a:moveTo>
                  <a:pt x="0" y="0"/>
                </a:moveTo>
                <a:lnTo>
                  <a:pt x="21660" y="0"/>
                </a:lnTo>
                <a:lnTo>
                  <a:pt x="20260" y="1400"/>
                </a:lnTo>
                <a:lnTo>
                  <a:pt x="1400" y="1400"/>
                </a:lnTo>
                <a:close/>
              </a:path>
              <a:path fill="darken" w="21660" h="21600">
                <a:moveTo>
                  <a:pt x="21660" y="0"/>
                </a:moveTo>
                <a:lnTo>
                  <a:pt x="21660" y="21600"/>
                </a:lnTo>
                <a:lnTo>
                  <a:pt x="20260" y="20200"/>
                </a:lnTo>
                <a:lnTo>
                  <a:pt x="20260" y="1400"/>
                </a:lnTo>
                <a:close/>
              </a:path>
              <a:path fill="darkenLess" w="21660" h="21600">
                <a:moveTo>
                  <a:pt x="216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0" y="20200"/>
                </a:lnTo>
                <a:close/>
              </a:path>
              <a:path fill="lighten" w="216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0" h="21600">
                <a:moveTo>
                  <a:pt x="10830" y="3837"/>
                </a:moveTo>
                <a:lnTo>
                  <a:pt x="13406" y="6448"/>
                </a:lnTo>
                <a:lnTo>
                  <a:pt x="13406" y="4707"/>
                </a:lnTo>
                <a:lnTo>
                  <a:pt x="15182" y="4707"/>
                </a:lnTo>
                <a:lnTo>
                  <a:pt x="15182" y="8224"/>
                </a:lnTo>
                <a:lnTo>
                  <a:pt x="17793" y="10800"/>
                </a:lnTo>
                <a:lnTo>
                  <a:pt x="16139" y="10800"/>
                </a:lnTo>
                <a:lnTo>
                  <a:pt x="16139" y="17989"/>
                </a:lnTo>
                <a:lnTo>
                  <a:pt x="5521" y="17989"/>
                </a:lnTo>
                <a:lnTo>
                  <a:pt x="5521" y="10800"/>
                </a:lnTo>
                <a:lnTo>
                  <a:pt x="3867" y="10800"/>
                </a:lnTo>
                <a:close/>
              </a:path>
              <a:path fill="darkenLess" w="21660" h="21600">
                <a:moveTo>
                  <a:pt x="13406" y="6448"/>
                </a:moveTo>
                <a:lnTo>
                  <a:pt x="13406" y="4707"/>
                </a:lnTo>
                <a:lnTo>
                  <a:pt x="15182" y="4707"/>
                </a:lnTo>
                <a:lnTo>
                  <a:pt x="15182" y="8224"/>
                </a:lnTo>
                <a:close/>
              </a:path>
              <a:path fill="darkenLess" w="21660" h="21600">
                <a:moveTo>
                  <a:pt x="9907" y="14299"/>
                </a:moveTo>
                <a:lnTo>
                  <a:pt x="11753" y="14299"/>
                </a:lnTo>
                <a:lnTo>
                  <a:pt x="11753" y="17989"/>
                </a:lnTo>
                <a:lnTo>
                  <a:pt x="16139" y="17989"/>
                </a:lnTo>
                <a:lnTo>
                  <a:pt x="16139" y="10800"/>
                </a:lnTo>
                <a:lnTo>
                  <a:pt x="5521" y="10800"/>
                </a:lnTo>
                <a:lnTo>
                  <a:pt x="5521" y="17989"/>
                </a:lnTo>
                <a:lnTo>
                  <a:pt x="9907" y="17989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2dffd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4356000" y="1844640"/>
            <a:ext cx="3672000" cy="2160720"/>
          </a:xfrm>
          <a:custGeom>
            <a:avLst/>
            <a:gdLst/>
            <a:ahLst/>
            <a:rect l="l" t="t" r="r" b="b"/>
            <a:pathLst>
              <a:path w="2313" h="1361">
                <a:moveTo>
                  <a:pt x="1633" y="0"/>
                </a:moveTo>
                <a:lnTo>
                  <a:pt x="0" y="1361"/>
                </a:lnTo>
                <a:lnTo>
                  <a:pt x="2177" y="1361"/>
                </a:lnTo>
                <a:lnTo>
                  <a:pt x="2313" y="1134"/>
                </a:lnTo>
                <a:lnTo>
                  <a:pt x="2313" y="1043"/>
                </a:lnTo>
                <a:lnTo>
                  <a:pt x="2313" y="953"/>
                </a:lnTo>
                <a:lnTo>
                  <a:pt x="2313" y="907"/>
                </a:lnTo>
                <a:lnTo>
                  <a:pt x="2313" y="817"/>
                </a:lnTo>
                <a:lnTo>
                  <a:pt x="2223" y="726"/>
                </a:lnTo>
                <a:lnTo>
                  <a:pt x="2223" y="635"/>
                </a:lnTo>
                <a:lnTo>
                  <a:pt x="2177" y="499"/>
                </a:lnTo>
                <a:lnTo>
                  <a:pt x="2086" y="363"/>
                </a:lnTo>
                <a:lnTo>
                  <a:pt x="2041" y="227"/>
                </a:lnTo>
                <a:lnTo>
                  <a:pt x="1950" y="136"/>
                </a:lnTo>
                <a:lnTo>
                  <a:pt x="1724" y="45"/>
                </a:lnTo>
                <a:lnTo>
                  <a:pt x="1678" y="45"/>
                </a:lnTo>
                <a:lnTo>
                  <a:pt x="1633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6ffff">
                  <a:alpha val="51372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116000" y="620640"/>
            <a:ext cx="5832360" cy="3384720"/>
          </a:xfrm>
          <a:custGeom>
            <a:avLst/>
            <a:gdLst/>
            <a:ahLst/>
            <a:rect l="l" t="t" r="r" b="b"/>
            <a:pathLst>
              <a:path w="3674" h="2132">
                <a:moveTo>
                  <a:pt x="0" y="2132"/>
                </a:moveTo>
                <a:lnTo>
                  <a:pt x="2041" y="2132"/>
                </a:lnTo>
                <a:lnTo>
                  <a:pt x="3674" y="771"/>
                </a:lnTo>
                <a:lnTo>
                  <a:pt x="3356" y="454"/>
                </a:lnTo>
                <a:lnTo>
                  <a:pt x="3175" y="318"/>
                </a:lnTo>
                <a:lnTo>
                  <a:pt x="3039" y="227"/>
                </a:lnTo>
                <a:lnTo>
                  <a:pt x="2721" y="181"/>
                </a:lnTo>
                <a:lnTo>
                  <a:pt x="2585" y="91"/>
                </a:lnTo>
                <a:lnTo>
                  <a:pt x="2313" y="91"/>
                </a:lnTo>
                <a:lnTo>
                  <a:pt x="2177" y="0"/>
                </a:lnTo>
                <a:lnTo>
                  <a:pt x="1950" y="0"/>
                </a:lnTo>
                <a:lnTo>
                  <a:pt x="1769" y="0"/>
                </a:lnTo>
                <a:lnTo>
                  <a:pt x="1633" y="0"/>
                </a:lnTo>
                <a:lnTo>
                  <a:pt x="1497" y="0"/>
                </a:lnTo>
                <a:lnTo>
                  <a:pt x="1315" y="45"/>
                </a:lnTo>
                <a:lnTo>
                  <a:pt x="1179" y="45"/>
                </a:lnTo>
                <a:lnTo>
                  <a:pt x="1134" y="136"/>
                </a:lnTo>
                <a:lnTo>
                  <a:pt x="998" y="181"/>
                </a:lnTo>
                <a:lnTo>
                  <a:pt x="907" y="318"/>
                </a:lnTo>
                <a:lnTo>
                  <a:pt x="726" y="454"/>
                </a:lnTo>
                <a:lnTo>
                  <a:pt x="635" y="544"/>
                </a:lnTo>
                <a:lnTo>
                  <a:pt x="589" y="680"/>
                </a:lnTo>
                <a:lnTo>
                  <a:pt x="453" y="816"/>
                </a:lnTo>
                <a:lnTo>
                  <a:pt x="317" y="998"/>
                </a:lnTo>
                <a:lnTo>
                  <a:pt x="272" y="1134"/>
                </a:lnTo>
                <a:cubicBezTo>
                  <a:pt x="257" y="1149"/>
                  <a:pt x="237" y="1160"/>
                  <a:pt x="227" y="1179"/>
                </a:cubicBezTo>
                <a:cubicBezTo>
                  <a:pt x="223" y="1186"/>
                  <a:pt x="236" y="1194"/>
                  <a:pt x="237" y="1202"/>
                </a:cubicBezTo>
                <a:cubicBezTo>
                  <a:pt x="237" y="1204"/>
                  <a:pt x="241" y="1283"/>
                  <a:pt x="249" y="1302"/>
                </a:cubicBezTo>
                <a:cubicBezTo>
                  <a:pt x="271" y="1357"/>
                  <a:pt x="267" y="1306"/>
                  <a:pt x="267" y="1355"/>
                </a:cubicBezTo>
                <a:cubicBezTo>
                  <a:pt x="277" y="1414"/>
                  <a:pt x="260" y="1415"/>
                  <a:pt x="237" y="1466"/>
                </a:cubicBezTo>
                <a:cubicBezTo>
                  <a:pt x="220" y="1504"/>
                  <a:pt x="208" y="1548"/>
                  <a:pt x="208" y="1590"/>
                </a:cubicBezTo>
                <a:cubicBezTo>
                  <a:pt x="139" y="1585"/>
                  <a:pt x="203" y="1613"/>
                  <a:pt x="190" y="1672"/>
                </a:cubicBezTo>
                <a:cubicBezTo>
                  <a:pt x="182" y="1707"/>
                  <a:pt x="172" y="1742"/>
                  <a:pt x="167" y="1778"/>
                </a:cubicBezTo>
                <a:cubicBezTo>
                  <a:pt x="165" y="1794"/>
                  <a:pt x="164" y="1810"/>
                  <a:pt x="161" y="1825"/>
                </a:cubicBezTo>
                <a:cubicBezTo>
                  <a:pt x="158" y="1836"/>
                  <a:pt x="132" y="1876"/>
                  <a:pt x="132" y="1878"/>
                </a:cubicBezTo>
                <a:lnTo>
                  <a:pt x="45" y="2041"/>
                </a:lnTo>
                <a:lnTo>
                  <a:pt x="0" y="2087"/>
                </a:lnTo>
                <a:lnTo>
                  <a:pt x="0" y="2132"/>
                </a:lnTo>
                <a:close/>
              </a:path>
            </a:pathLst>
          </a:custGeom>
          <a:gradFill rotWithShape="0">
            <a:gsLst>
              <a:gs pos="0">
                <a:srgbClr val="ffff99">
                  <a:alpha val="67058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500720" y="400356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4427640" y="2852280"/>
            <a:ext cx="3168720" cy="11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4356000" y="1844280"/>
            <a:ext cx="2592360" cy="215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763640" y="4003560"/>
            <a:ext cx="60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H="1" flipV="1">
            <a:off x="3564000" y="1052280"/>
            <a:ext cx="792000" cy="29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273320" y="3932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665840" y="395460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493800" y="33192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7597440" y="206064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492960" y="1123920"/>
            <a:ext cx="5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129560" y="400356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077080" y="3213000"/>
            <a:ext cx="431280" cy="72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8158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81586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rot="1542000">
            <a:off x="5156280" y="3580920"/>
            <a:ext cx="431640" cy="72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93505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935051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rot="19621800">
            <a:off x="3692520" y="2739960"/>
            <a:ext cx="182916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019" y="28"/>
                </a:moveTo>
                <a:arcTo wR="10800" hR="10800" stAng="-5648837" swAng="5623636"/>
                <a:lnTo>
                  <a:pt x="10800" y="10800"/>
                </a:lnTo>
                <a:close/>
              </a:path>
              <a:path fill="none" w="21600" h="21600">
                <a:moveTo>
                  <a:pt x="10019" y="28"/>
                </a:moveTo>
                <a:arcTo wR="10800" hR="10800" stAng="-5648837" swAng="5623636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rot="15868200">
            <a:off x="3244680" y="2882520"/>
            <a:ext cx="182952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610" y="66"/>
                </a:moveTo>
                <a:arcTo wR="10800" hR="10800" stAng="-5779589" swAng="5754388"/>
                <a:lnTo>
                  <a:pt x="10800" y="10800"/>
                </a:lnTo>
                <a:close/>
              </a:path>
              <a:path fill="none" w="21600" h="21600">
                <a:moveTo>
                  <a:pt x="9610" y="66"/>
                </a:moveTo>
                <a:arcTo wR="10800" hR="10800" stAng="-5779589" swAng="5754388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291280" y="2133720"/>
            <a:ext cx="145440" cy="142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rot="15868200">
            <a:off x="3318120" y="2955240"/>
            <a:ext cx="18280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288" y="12"/>
                </a:moveTo>
                <a:arcTo wR="10800" hR="10800" stAng="-5563041" swAng="5343800"/>
                <a:lnTo>
                  <a:pt x="10800" y="10800"/>
                </a:lnTo>
                <a:close/>
              </a:path>
              <a:path fill="none" w="21600" h="21600">
                <a:moveTo>
                  <a:pt x="10288" y="12"/>
                </a:moveTo>
                <a:arcTo wR="10800" hR="10800" stAng="-5563041" swAng="53438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rot="19621800">
            <a:off x="3681000" y="2865600"/>
            <a:ext cx="1829160" cy="1828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028" y="2"/>
                </a:moveTo>
                <a:arcTo wR="10800" hR="10800" stAng="-5327364" swAng="4906574"/>
                <a:lnTo>
                  <a:pt x="10800" y="10800"/>
                </a:lnTo>
                <a:close/>
              </a:path>
              <a:path fill="none" w="21600" h="21600">
                <a:moveTo>
                  <a:pt x="11028" y="2"/>
                </a:moveTo>
                <a:arcTo wR="10800" hR="10800" stAng="-5327364" swAng="4906574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81800" y="5661000"/>
            <a:ext cx="3311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478480" y="5875200"/>
            <a:ext cx="15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vers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7164360" y="5877000"/>
                <a:ext cx="131292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CO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8" name=""/>
          <p:cNvSpPr/>
          <p:nvPr/>
        </p:nvSpPr>
        <p:spPr>
          <a:xfrm>
            <a:off x="714384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Univers"/>
              </a:rPr>
              <a:t>Задача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>
            <a:hlinkClick r:id="rId1" action="ppaction://hlinksldjump"/>
          </p:cNvPr>
          <p:cNvSpPr/>
          <p:nvPr/>
        </p:nvSpPr>
        <p:spPr>
          <a:xfrm>
            <a:off x="395280" y="6021360"/>
            <a:ext cx="649440" cy="647640"/>
          </a:xfrm>
          <a:custGeom>
            <a:avLst/>
            <a:gdLst>
              <a:gd name="textAreaLeft" fmla="*/ 41760 w 649440"/>
              <a:gd name="textAreaRight" fmla="*/ 607680 w 6494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60" h="21600">
                <a:moveTo>
                  <a:pt x="0" y="0"/>
                </a:moveTo>
                <a:lnTo>
                  <a:pt x="21660" y="0"/>
                </a:lnTo>
                <a:lnTo>
                  <a:pt x="21660" y="21600"/>
                </a:lnTo>
                <a:lnTo>
                  <a:pt x="0" y="21600"/>
                </a:lnTo>
                <a:close/>
              </a:path>
              <a:path fill="lightenLess" w="21660" h="21600">
                <a:moveTo>
                  <a:pt x="0" y="0"/>
                </a:moveTo>
                <a:lnTo>
                  <a:pt x="21660" y="0"/>
                </a:lnTo>
                <a:lnTo>
                  <a:pt x="20260" y="1400"/>
                </a:lnTo>
                <a:lnTo>
                  <a:pt x="1400" y="1400"/>
                </a:lnTo>
                <a:close/>
              </a:path>
              <a:path fill="darken" w="21660" h="21600">
                <a:moveTo>
                  <a:pt x="21660" y="0"/>
                </a:moveTo>
                <a:lnTo>
                  <a:pt x="21660" y="21600"/>
                </a:lnTo>
                <a:lnTo>
                  <a:pt x="20260" y="20200"/>
                </a:lnTo>
                <a:lnTo>
                  <a:pt x="20260" y="1400"/>
                </a:lnTo>
                <a:close/>
              </a:path>
              <a:path fill="darkenLess" w="21660" h="21600">
                <a:moveTo>
                  <a:pt x="216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0" y="20200"/>
                </a:lnTo>
                <a:close/>
              </a:path>
              <a:path fill="lighten" w="216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0" h="21600">
                <a:moveTo>
                  <a:pt x="10830" y="3837"/>
                </a:moveTo>
                <a:lnTo>
                  <a:pt x="13406" y="6448"/>
                </a:lnTo>
                <a:lnTo>
                  <a:pt x="13406" y="4707"/>
                </a:lnTo>
                <a:lnTo>
                  <a:pt x="15182" y="4707"/>
                </a:lnTo>
                <a:lnTo>
                  <a:pt x="15182" y="8224"/>
                </a:lnTo>
                <a:lnTo>
                  <a:pt x="17793" y="10800"/>
                </a:lnTo>
                <a:lnTo>
                  <a:pt x="16139" y="10800"/>
                </a:lnTo>
                <a:lnTo>
                  <a:pt x="16139" y="17989"/>
                </a:lnTo>
                <a:lnTo>
                  <a:pt x="5521" y="17989"/>
                </a:lnTo>
                <a:lnTo>
                  <a:pt x="5521" y="10800"/>
                </a:lnTo>
                <a:lnTo>
                  <a:pt x="3867" y="10800"/>
                </a:lnTo>
                <a:close/>
              </a:path>
              <a:path fill="darkenLess" w="21660" h="21600">
                <a:moveTo>
                  <a:pt x="13406" y="6448"/>
                </a:moveTo>
                <a:lnTo>
                  <a:pt x="13406" y="4707"/>
                </a:lnTo>
                <a:lnTo>
                  <a:pt x="15182" y="4707"/>
                </a:lnTo>
                <a:lnTo>
                  <a:pt x="15182" y="8224"/>
                </a:lnTo>
                <a:close/>
              </a:path>
              <a:path fill="darkenLess" w="21660" h="21600">
                <a:moveTo>
                  <a:pt x="9907" y="14299"/>
                </a:moveTo>
                <a:lnTo>
                  <a:pt x="11753" y="14299"/>
                </a:lnTo>
                <a:lnTo>
                  <a:pt x="11753" y="17989"/>
                </a:lnTo>
                <a:lnTo>
                  <a:pt x="16139" y="17989"/>
                </a:lnTo>
                <a:lnTo>
                  <a:pt x="16139" y="10800"/>
                </a:lnTo>
                <a:lnTo>
                  <a:pt x="5521" y="10800"/>
                </a:lnTo>
                <a:lnTo>
                  <a:pt x="5521" y="17989"/>
                </a:lnTo>
                <a:lnTo>
                  <a:pt x="9907" y="17989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2dffd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1258920" y="765000"/>
            <a:ext cx="5361120" cy="4719960"/>
          </a:xfrm>
          <a:custGeom>
            <a:avLst/>
            <a:gdLst/>
            <a:ahLst/>
            <a:rect l="l" t="t" r="r" b="b"/>
            <a:pathLst>
              <a:path w="3377" h="2973">
                <a:moveTo>
                  <a:pt x="1895" y="1450"/>
                </a:moveTo>
                <a:lnTo>
                  <a:pt x="3176" y="454"/>
                </a:lnTo>
                <a:lnTo>
                  <a:pt x="3085" y="318"/>
                </a:lnTo>
                <a:lnTo>
                  <a:pt x="3040" y="227"/>
                </a:lnTo>
                <a:lnTo>
                  <a:pt x="2994" y="182"/>
                </a:lnTo>
                <a:lnTo>
                  <a:pt x="2903" y="136"/>
                </a:lnTo>
                <a:lnTo>
                  <a:pt x="2858" y="91"/>
                </a:lnTo>
                <a:lnTo>
                  <a:pt x="2722" y="91"/>
                </a:lnTo>
                <a:lnTo>
                  <a:pt x="2586" y="0"/>
                </a:lnTo>
                <a:lnTo>
                  <a:pt x="2495" y="0"/>
                </a:lnTo>
                <a:lnTo>
                  <a:pt x="2405" y="0"/>
                </a:lnTo>
                <a:lnTo>
                  <a:pt x="2268" y="0"/>
                </a:lnTo>
                <a:lnTo>
                  <a:pt x="2132" y="0"/>
                </a:lnTo>
                <a:lnTo>
                  <a:pt x="1951" y="0"/>
                </a:lnTo>
                <a:lnTo>
                  <a:pt x="1815" y="0"/>
                </a:lnTo>
                <a:lnTo>
                  <a:pt x="1633" y="0"/>
                </a:lnTo>
                <a:lnTo>
                  <a:pt x="1497" y="0"/>
                </a:lnTo>
                <a:lnTo>
                  <a:pt x="1361" y="0"/>
                </a:lnTo>
                <a:lnTo>
                  <a:pt x="1134" y="46"/>
                </a:lnTo>
                <a:lnTo>
                  <a:pt x="953" y="136"/>
                </a:lnTo>
                <a:lnTo>
                  <a:pt x="726" y="182"/>
                </a:lnTo>
                <a:lnTo>
                  <a:pt x="590" y="318"/>
                </a:lnTo>
                <a:lnTo>
                  <a:pt x="499" y="409"/>
                </a:lnTo>
                <a:lnTo>
                  <a:pt x="318" y="545"/>
                </a:lnTo>
                <a:lnTo>
                  <a:pt x="137" y="726"/>
                </a:lnTo>
                <a:lnTo>
                  <a:pt x="137" y="908"/>
                </a:lnTo>
                <a:lnTo>
                  <a:pt x="46" y="1044"/>
                </a:lnTo>
                <a:lnTo>
                  <a:pt x="0" y="1225"/>
                </a:lnTo>
                <a:lnTo>
                  <a:pt x="0" y="1361"/>
                </a:lnTo>
                <a:lnTo>
                  <a:pt x="0" y="1452"/>
                </a:lnTo>
                <a:lnTo>
                  <a:pt x="46" y="1588"/>
                </a:lnTo>
                <a:cubicBezTo>
                  <a:pt x="46" y="1638"/>
                  <a:pt x="43" y="1689"/>
                  <a:pt x="47" y="1739"/>
                </a:cubicBezTo>
                <a:cubicBezTo>
                  <a:pt x="50" y="1783"/>
                  <a:pt x="83" y="1803"/>
                  <a:pt x="83" y="1862"/>
                </a:cubicBezTo>
                <a:cubicBezTo>
                  <a:pt x="86" y="1892"/>
                  <a:pt x="92" y="1921"/>
                  <a:pt x="91" y="1951"/>
                </a:cubicBezTo>
                <a:cubicBezTo>
                  <a:pt x="86" y="2084"/>
                  <a:pt x="66" y="1958"/>
                  <a:pt x="83" y="2056"/>
                </a:cubicBezTo>
                <a:cubicBezTo>
                  <a:pt x="86" y="2071"/>
                  <a:pt x="92" y="2115"/>
                  <a:pt x="100" y="2138"/>
                </a:cubicBezTo>
                <a:cubicBezTo>
                  <a:pt x="104" y="2148"/>
                  <a:pt x="112" y="2168"/>
                  <a:pt x="112" y="2168"/>
                </a:cubicBezTo>
                <a:cubicBezTo>
                  <a:pt x="120" y="2217"/>
                  <a:pt x="121" y="2267"/>
                  <a:pt x="137" y="2314"/>
                </a:cubicBezTo>
                <a:cubicBezTo>
                  <a:pt x="142" y="2328"/>
                  <a:pt x="161" y="2332"/>
                  <a:pt x="171" y="2344"/>
                </a:cubicBezTo>
                <a:cubicBezTo>
                  <a:pt x="182" y="2357"/>
                  <a:pt x="183" y="2375"/>
                  <a:pt x="189" y="2391"/>
                </a:cubicBezTo>
                <a:cubicBezTo>
                  <a:pt x="199" y="2418"/>
                  <a:pt x="209" y="2449"/>
                  <a:pt x="224" y="2473"/>
                </a:cubicBezTo>
                <a:cubicBezTo>
                  <a:pt x="228" y="2480"/>
                  <a:pt x="241" y="2491"/>
                  <a:pt x="241" y="2491"/>
                </a:cubicBezTo>
                <a:lnTo>
                  <a:pt x="409" y="2677"/>
                </a:lnTo>
                <a:lnTo>
                  <a:pt x="590" y="2767"/>
                </a:lnTo>
                <a:cubicBezTo>
                  <a:pt x="638" y="2791"/>
                  <a:pt x="687" y="2814"/>
                  <a:pt x="735" y="2838"/>
                </a:cubicBezTo>
                <a:cubicBezTo>
                  <a:pt x="746" y="2843"/>
                  <a:pt x="738" y="2864"/>
                  <a:pt x="747" y="2873"/>
                </a:cubicBezTo>
                <a:cubicBezTo>
                  <a:pt x="774" y="2900"/>
                  <a:pt x="830" y="2902"/>
                  <a:pt x="864" y="2902"/>
                </a:cubicBezTo>
                <a:cubicBezTo>
                  <a:pt x="937" y="2903"/>
                  <a:pt x="980" y="2894"/>
                  <a:pt x="1041" y="2914"/>
                </a:cubicBezTo>
                <a:cubicBezTo>
                  <a:pt x="1072" y="2938"/>
                  <a:pt x="1103" y="2943"/>
                  <a:pt x="1141" y="2955"/>
                </a:cubicBezTo>
                <a:cubicBezTo>
                  <a:pt x="1145" y="2961"/>
                  <a:pt x="1145" y="2973"/>
                  <a:pt x="1152" y="2973"/>
                </a:cubicBezTo>
                <a:cubicBezTo>
                  <a:pt x="1171" y="2973"/>
                  <a:pt x="1205" y="2955"/>
                  <a:pt x="1205" y="2955"/>
                </a:cubicBezTo>
                <a:cubicBezTo>
                  <a:pt x="1272" y="2938"/>
                  <a:pt x="1342" y="2926"/>
                  <a:pt x="1407" y="2903"/>
                </a:cubicBezTo>
                <a:cubicBezTo>
                  <a:pt x="1415" y="2900"/>
                  <a:pt x="1413" y="2887"/>
                  <a:pt x="1417" y="2879"/>
                </a:cubicBezTo>
                <a:cubicBezTo>
                  <a:pt x="1430" y="2854"/>
                  <a:pt x="1429" y="2861"/>
                  <a:pt x="1458" y="2850"/>
                </a:cubicBezTo>
                <a:cubicBezTo>
                  <a:pt x="1500" y="2798"/>
                  <a:pt x="1523" y="2803"/>
                  <a:pt x="1587" y="2803"/>
                </a:cubicBezTo>
                <a:lnTo>
                  <a:pt x="1860" y="2677"/>
                </a:lnTo>
                <a:lnTo>
                  <a:pt x="2087" y="2631"/>
                </a:lnTo>
                <a:cubicBezTo>
                  <a:pt x="2117" y="2616"/>
                  <a:pt x="2145" y="2594"/>
                  <a:pt x="2178" y="2586"/>
                </a:cubicBezTo>
                <a:cubicBezTo>
                  <a:pt x="2190" y="2583"/>
                  <a:pt x="2198" y="2602"/>
                  <a:pt x="2210" y="2603"/>
                </a:cubicBezTo>
                <a:cubicBezTo>
                  <a:pt x="2289" y="2608"/>
                  <a:pt x="2367" y="2603"/>
                  <a:pt x="2446" y="2603"/>
                </a:cubicBezTo>
                <a:lnTo>
                  <a:pt x="2813" y="2586"/>
                </a:lnTo>
                <a:lnTo>
                  <a:pt x="3040" y="2495"/>
                </a:lnTo>
                <a:lnTo>
                  <a:pt x="3176" y="2132"/>
                </a:lnTo>
                <a:lnTo>
                  <a:pt x="3176" y="1860"/>
                </a:lnTo>
                <a:lnTo>
                  <a:pt x="3221" y="1633"/>
                </a:lnTo>
                <a:lnTo>
                  <a:pt x="3221" y="1543"/>
                </a:lnTo>
                <a:lnTo>
                  <a:pt x="3377" y="1456"/>
                </a:lnTo>
                <a:lnTo>
                  <a:pt x="1895" y="145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ff6b0">
                  <a:alpha val="71372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341440" y="4653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352760" y="765000"/>
            <a:ext cx="3362400" cy="2292480"/>
          </a:xfrm>
          <a:custGeom>
            <a:avLst/>
            <a:gdLst/>
            <a:ahLst/>
            <a:rect l="l" t="t" r="r" b="b"/>
            <a:pathLst>
              <a:path w="2118" h="1444">
                <a:moveTo>
                  <a:pt x="1692" y="0"/>
                </a:moveTo>
                <a:lnTo>
                  <a:pt x="0" y="1444"/>
                </a:lnTo>
                <a:lnTo>
                  <a:pt x="1926" y="1432"/>
                </a:lnTo>
                <a:lnTo>
                  <a:pt x="2064" y="834"/>
                </a:lnTo>
                <a:lnTo>
                  <a:pt x="2094" y="714"/>
                </a:lnTo>
                <a:lnTo>
                  <a:pt x="2118" y="588"/>
                </a:lnTo>
                <a:lnTo>
                  <a:pt x="2070" y="408"/>
                </a:lnTo>
                <a:lnTo>
                  <a:pt x="1806" y="390"/>
                </a:lnTo>
                <a:lnTo>
                  <a:pt x="1662" y="198"/>
                </a:lnTo>
                <a:lnTo>
                  <a:pt x="1680" y="108"/>
                </a:lnTo>
                <a:lnTo>
                  <a:pt x="1734" y="66"/>
                </a:lnTo>
                <a:lnTo>
                  <a:pt x="1806" y="18"/>
                </a:lnTo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200240" y="24192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258920" y="3057480"/>
            <a:ext cx="5832360" cy="11160"/>
          </a:xfrm>
          <a:custGeom>
            <a:avLst/>
            <a:gdLst/>
            <a:ahLst/>
            <a:rect l="l" t="t" r="r" b="b"/>
            <a:pathLst>
              <a:path w="3674" h="7">
                <a:moveTo>
                  <a:pt x="0" y="6"/>
                </a:moveTo>
                <a:lnTo>
                  <a:pt x="1931" y="0"/>
                </a:lnTo>
                <a:lnTo>
                  <a:pt x="3674" y="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735880" y="9079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948360" y="23479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2050920" y="1410840"/>
            <a:ext cx="4249800" cy="352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5148360" y="2349360"/>
                <a:ext cx="71892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09" name=""/>
          <p:cNvSpPr/>
          <p:nvPr/>
        </p:nvSpPr>
        <p:spPr>
          <a:xfrm>
            <a:off x="3925440" y="24210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576680" y="5616720"/>
            <a:ext cx="15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vers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427640" y="5445000"/>
            <a:ext cx="446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5972040" y="5661000"/>
                <a:ext cx="248616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OB</m:t>
                    </m:r>
                    <m:r>
                      <m:t xml:space="preserve">;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OC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6049800" y="6094440"/>
                <a:ext cx="11653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CO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4" name=""/>
          <p:cNvSpPr/>
          <p:nvPr/>
        </p:nvSpPr>
        <p:spPr>
          <a:xfrm>
            <a:off x="7152120" y="217440"/>
            <a:ext cx="176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Univers"/>
              </a:rPr>
              <a:t>Задача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>
            <a:hlinkClick r:id="rId2" action="ppaction://hlinksldjump"/>
          </p:cNvPr>
          <p:cNvSpPr/>
          <p:nvPr/>
        </p:nvSpPr>
        <p:spPr>
          <a:xfrm>
            <a:off x="395280" y="6021360"/>
            <a:ext cx="649440" cy="647640"/>
          </a:xfrm>
          <a:custGeom>
            <a:avLst/>
            <a:gdLst>
              <a:gd name="textAreaLeft" fmla="*/ 41760 w 649440"/>
              <a:gd name="textAreaRight" fmla="*/ 607680 w 6494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60" h="21600">
                <a:moveTo>
                  <a:pt x="0" y="0"/>
                </a:moveTo>
                <a:lnTo>
                  <a:pt x="21660" y="0"/>
                </a:lnTo>
                <a:lnTo>
                  <a:pt x="21660" y="21600"/>
                </a:lnTo>
                <a:lnTo>
                  <a:pt x="0" y="21600"/>
                </a:lnTo>
                <a:close/>
              </a:path>
              <a:path fill="lightenLess" w="21660" h="21600">
                <a:moveTo>
                  <a:pt x="0" y="0"/>
                </a:moveTo>
                <a:lnTo>
                  <a:pt x="21660" y="0"/>
                </a:lnTo>
                <a:lnTo>
                  <a:pt x="20260" y="1400"/>
                </a:lnTo>
                <a:lnTo>
                  <a:pt x="1400" y="1400"/>
                </a:lnTo>
                <a:close/>
              </a:path>
              <a:path fill="darken" w="21660" h="21600">
                <a:moveTo>
                  <a:pt x="21660" y="0"/>
                </a:moveTo>
                <a:lnTo>
                  <a:pt x="21660" y="21600"/>
                </a:lnTo>
                <a:lnTo>
                  <a:pt x="20260" y="20200"/>
                </a:lnTo>
                <a:lnTo>
                  <a:pt x="20260" y="1400"/>
                </a:lnTo>
                <a:close/>
              </a:path>
              <a:path fill="darkenLess" w="21660" h="21600">
                <a:moveTo>
                  <a:pt x="216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0" y="20200"/>
                </a:lnTo>
                <a:close/>
              </a:path>
              <a:path fill="lighten" w="216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0" h="21600">
                <a:moveTo>
                  <a:pt x="10830" y="3837"/>
                </a:moveTo>
                <a:lnTo>
                  <a:pt x="13406" y="6448"/>
                </a:lnTo>
                <a:lnTo>
                  <a:pt x="13406" y="4707"/>
                </a:lnTo>
                <a:lnTo>
                  <a:pt x="15182" y="4707"/>
                </a:lnTo>
                <a:lnTo>
                  <a:pt x="15182" y="8224"/>
                </a:lnTo>
                <a:lnTo>
                  <a:pt x="17793" y="10800"/>
                </a:lnTo>
                <a:lnTo>
                  <a:pt x="16139" y="10800"/>
                </a:lnTo>
                <a:lnTo>
                  <a:pt x="16139" y="17989"/>
                </a:lnTo>
                <a:lnTo>
                  <a:pt x="5521" y="17989"/>
                </a:lnTo>
                <a:lnTo>
                  <a:pt x="5521" y="10800"/>
                </a:lnTo>
                <a:lnTo>
                  <a:pt x="3867" y="10800"/>
                </a:lnTo>
                <a:close/>
              </a:path>
              <a:path fill="darkenLess" w="21660" h="21600">
                <a:moveTo>
                  <a:pt x="13406" y="6448"/>
                </a:moveTo>
                <a:lnTo>
                  <a:pt x="13406" y="4707"/>
                </a:lnTo>
                <a:lnTo>
                  <a:pt x="15182" y="4707"/>
                </a:lnTo>
                <a:lnTo>
                  <a:pt x="15182" y="8224"/>
                </a:lnTo>
                <a:close/>
              </a:path>
              <a:path fill="darkenLess" w="21660" h="21600">
                <a:moveTo>
                  <a:pt x="9907" y="14299"/>
                </a:moveTo>
                <a:lnTo>
                  <a:pt x="11753" y="14299"/>
                </a:lnTo>
                <a:lnTo>
                  <a:pt x="11753" y="17989"/>
                </a:lnTo>
                <a:lnTo>
                  <a:pt x="16139" y="17989"/>
                </a:lnTo>
                <a:lnTo>
                  <a:pt x="16139" y="10800"/>
                </a:lnTo>
                <a:lnTo>
                  <a:pt x="5521" y="10800"/>
                </a:lnTo>
                <a:lnTo>
                  <a:pt x="5521" y="17989"/>
                </a:lnTo>
                <a:lnTo>
                  <a:pt x="9907" y="17989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2dffd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1258920" y="692280"/>
            <a:ext cx="5113440" cy="4719600"/>
          </a:xfrm>
          <a:custGeom>
            <a:avLst/>
            <a:gdLst/>
            <a:ahLst/>
            <a:rect l="l" t="t" r="r" b="b"/>
            <a:pathLst>
              <a:path w="3221" h="2973">
                <a:moveTo>
                  <a:pt x="1906" y="1497"/>
                </a:moveTo>
                <a:lnTo>
                  <a:pt x="3176" y="454"/>
                </a:lnTo>
                <a:lnTo>
                  <a:pt x="3085" y="318"/>
                </a:lnTo>
                <a:lnTo>
                  <a:pt x="3040" y="227"/>
                </a:lnTo>
                <a:lnTo>
                  <a:pt x="2994" y="182"/>
                </a:lnTo>
                <a:lnTo>
                  <a:pt x="2903" y="136"/>
                </a:lnTo>
                <a:lnTo>
                  <a:pt x="2858" y="91"/>
                </a:lnTo>
                <a:lnTo>
                  <a:pt x="2722" y="91"/>
                </a:lnTo>
                <a:lnTo>
                  <a:pt x="2586" y="0"/>
                </a:lnTo>
                <a:lnTo>
                  <a:pt x="2495" y="0"/>
                </a:lnTo>
                <a:lnTo>
                  <a:pt x="2405" y="0"/>
                </a:lnTo>
                <a:lnTo>
                  <a:pt x="2268" y="0"/>
                </a:lnTo>
                <a:lnTo>
                  <a:pt x="2132" y="0"/>
                </a:lnTo>
                <a:lnTo>
                  <a:pt x="1951" y="0"/>
                </a:lnTo>
                <a:lnTo>
                  <a:pt x="1815" y="0"/>
                </a:lnTo>
                <a:lnTo>
                  <a:pt x="1633" y="0"/>
                </a:lnTo>
                <a:lnTo>
                  <a:pt x="1497" y="0"/>
                </a:lnTo>
                <a:lnTo>
                  <a:pt x="1361" y="0"/>
                </a:lnTo>
                <a:lnTo>
                  <a:pt x="1134" y="46"/>
                </a:lnTo>
                <a:lnTo>
                  <a:pt x="953" y="136"/>
                </a:lnTo>
                <a:lnTo>
                  <a:pt x="726" y="182"/>
                </a:lnTo>
                <a:lnTo>
                  <a:pt x="590" y="318"/>
                </a:lnTo>
                <a:lnTo>
                  <a:pt x="499" y="409"/>
                </a:lnTo>
                <a:lnTo>
                  <a:pt x="318" y="545"/>
                </a:lnTo>
                <a:lnTo>
                  <a:pt x="137" y="726"/>
                </a:lnTo>
                <a:lnTo>
                  <a:pt x="137" y="908"/>
                </a:lnTo>
                <a:lnTo>
                  <a:pt x="46" y="1044"/>
                </a:lnTo>
                <a:lnTo>
                  <a:pt x="0" y="1225"/>
                </a:lnTo>
                <a:lnTo>
                  <a:pt x="0" y="1361"/>
                </a:lnTo>
                <a:lnTo>
                  <a:pt x="0" y="1452"/>
                </a:lnTo>
                <a:lnTo>
                  <a:pt x="46" y="1588"/>
                </a:lnTo>
                <a:cubicBezTo>
                  <a:pt x="46" y="1638"/>
                  <a:pt x="43" y="1689"/>
                  <a:pt x="47" y="1739"/>
                </a:cubicBezTo>
                <a:cubicBezTo>
                  <a:pt x="50" y="1783"/>
                  <a:pt x="83" y="1803"/>
                  <a:pt x="83" y="1862"/>
                </a:cubicBezTo>
                <a:cubicBezTo>
                  <a:pt x="86" y="1892"/>
                  <a:pt x="92" y="1921"/>
                  <a:pt x="91" y="1951"/>
                </a:cubicBezTo>
                <a:cubicBezTo>
                  <a:pt x="86" y="2084"/>
                  <a:pt x="66" y="1958"/>
                  <a:pt x="83" y="2056"/>
                </a:cubicBezTo>
                <a:cubicBezTo>
                  <a:pt x="86" y="2071"/>
                  <a:pt x="92" y="2115"/>
                  <a:pt x="100" y="2138"/>
                </a:cubicBezTo>
                <a:cubicBezTo>
                  <a:pt x="104" y="2148"/>
                  <a:pt x="112" y="2168"/>
                  <a:pt x="112" y="2168"/>
                </a:cubicBezTo>
                <a:cubicBezTo>
                  <a:pt x="120" y="2217"/>
                  <a:pt x="121" y="2267"/>
                  <a:pt x="137" y="2314"/>
                </a:cubicBezTo>
                <a:cubicBezTo>
                  <a:pt x="142" y="2328"/>
                  <a:pt x="161" y="2332"/>
                  <a:pt x="171" y="2344"/>
                </a:cubicBezTo>
                <a:cubicBezTo>
                  <a:pt x="182" y="2357"/>
                  <a:pt x="183" y="2375"/>
                  <a:pt x="189" y="2391"/>
                </a:cubicBezTo>
                <a:cubicBezTo>
                  <a:pt x="199" y="2418"/>
                  <a:pt x="209" y="2449"/>
                  <a:pt x="224" y="2473"/>
                </a:cubicBezTo>
                <a:cubicBezTo>
                  <a:pt x="228" y="2480"/>
                  <a:pt x="241" y="2491"/>
                  <a:pt x="241" y="2491"/>
                </a:cubicBezTo>
                <a:lnTo>
                  <a:pt x="409" y="2677"/>
                </a:lnTo>
                <a:lnTo>
                  <a:pt x="590" y="2767"/>
                </a:lnTo>
                <a:cubicBezTo>
                  <a:pt x="638" y="2791"/>
                  <a:pt x="687" y="2814"/>
                  <a:pt x="735" y="2838"/>
                </a:cubicBezTo>
                <a:cubicBezTo>
                  <a:pt x="746" y="2843"/>
                  <a:pt x="738" y="2864"/>
                  <a:pt x="747" y="2873"/>
                </a:cubicBezTo>
                <a:cubicBezTo>
                  <a:pt x="774" y="2900"/>
                  <a:pt x="830" y="2902"/>
                  <a:pt x="864" y="2902"/>
                </a:cubicBezTo>
                <a:cubicBezTo>
                  <a:pt x="937" y="2903"/>
                  <a:pt x="980" y="2894"/>
                  <a:pt x="1041" y="2914"/>
                </a:cubicBezTo>
                <a:cubicBezTo>
                  <a:pt x="1072" y="2938"/>
                  <a:pt x="1103" y="2943"/>
                  <a:pt x="1141" y="2955"/>
                </a:cubicBezTo>
                <a:cubicBezTo>
                  <a:pt x="1145" y="2961"/>
                  <a:pt x="1145" y="2973"/>
                  <a:pt x="1152" y="2973"/>
                </a:cubicBezTo>
                <a:cubicBezTo>
                  <a:pt x="1171" y="2973"/>
                  <a:pt x="1205" y="2955"/>
                  <a:pt x="1205" y="2955"/>
                </a:cubicBezTo>
                <a:cubicBezTo>
                  <a:pt x="1272" y="2938"/>
                  <a:pt x="1342" y="2926"/>
                  <a:pt x="1407" y="2903"/>
                </a:cubicBezTo>
                <a:cubicBezTo>
                  <a:pt x="1415" y="2900"/>
                  <a:pt x="1413" y="2887"/>
                  <a:pt x="1417" y="2879"/>
                </a:cubicBezTo>
                <a:cubicBezTo>
                  <a:pt x="1430" y="2854"/>
                  <a:pt x="1429" y="2861"/>
                  <a:pt x="1458" y="2850"/>
                </a:cubicBezTo>
                <a:cubicBezTo>
                  <a:pt x="1500" y="2798"/>
                  <a:pt x="1523" y="2803"/>
                  <a:pt x="1587" y="2803"/>
                </a:cubicBezTo>
                <a:lnTo>
                  <a:pt x="1860" y="2677"/>
                </a:lnTo>
                <a:lnTo>
                  <a:pt x="2087" y="2631"/>
                </a:lnTo>
                <a:cubicBezTo>
                  <a:pt x="2117" y="2616"/>
                  <a:pt x="2145" y="2594"/>
                  <a:pt x="2178" y="2586"/>
                </a:cubicBezTo>
                <a:cubicBezTo>
                  <a:pt x="2190" y="2583"/>
                  <a:pt x="2198" y="2602"/>
                  <a:pt x="2210" y="2603"/>
                </a:cubicBezTo>
                <a:cubicBezTo>
                  <a:pt x="2289" y="2608"/>
                  <a:pt x="2367" y="2603"/>
                  <a:pt x="2446" y="2603"/>
                </a:cubicBezTo>
                <a:lnTo>
                  <a:pt x="2813" y="2586"/>
                </a:lnTo>
                <a:lnTo>
                  <a:pt x="3040" y="2495"/>
                </a:lnTo>
                <a:lnTo>
                  <a:pt x="3176" y="2132"/>
                </a:lnTo>
                <a:lnTo>
                  <a:pt x="3176" y="1860"/>
                </a:lnTo>
                <a:lnTo>
                  <a:pt x="3221" y="1633"/>
                </a:lnTo>
                <a:lnTo>
                  <a:pt x="3221" y="1543"/>
                </a:lnTo>
                <a:lnTo>
                  <a:pt x="3221" y="1497"/>
                </a:lnTo>
                <a:lnTo>
                  <a:pt x="1906" y="1497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ff6b0">
                  <a:alpha val="71372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341440" y="4653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329000" y="1770120"/>
            <a:ext cx="2257560" cy="1297080"/>
          </a:xfrm>
          <a:custGeom>
            <a:avLst/>
            <a:gdLst/>
            <a:ahLst/>
            <a:rect l="l" t="t" r="r" b="b"/>
            <a:pathLst>
              <a:path w="1422" h="817">
                <a:moveTo>
                  <a:pt x="993" y="0"/>
                </a:moveTo>
                <a:lnTo>
                  <a:pt x="0" y="813"/>
                </a:lnTo>
                <a:lnTo>
                  <a:pt x="1255" y="817"/>
                </a:lnTo>
                <a:lnTo>
                  <a:pt x="1351" y="721"/>
                </a:lnTo>
                <a:lnTo>
                  <a:pt x="1422" y="601"/>
                </a:lnTo>
                <a:lnTo>
                  <a:pt x="1374" y="529"/>
                </a:lnTo>
                <a:lnTo>
                  <a:pt x="1374" y="409"/>
                </a:lnTo>
                <a:lnTo>
                  <a:pt x="1303" y="288"/>
                </a:lnTo>
                <a:lnTo>
                  <a:pt x="1231" y="168"/>
                </a:lnTo>
                <a:lnTo>
                  <a:pt x="1184" y="72"/>
                </a:lnTo>
                <a:lnTo>
                  <a:pt x="1113" y="48"/>
                </a:lnTo>
                <a:lnTo>
                  <a:pt x="1088" y="24"/>
                </a:lnTo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200240" y="24192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258920" y="3067200"/>
            <a:ext cx="583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735880" y="9079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955920" y="2347920"/>
            <a:ext cx="45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2050920" y="1410840"/>
            <a:ext cx="4249800" cy="352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181400" y="5761080"/>
            <a:ext cx="15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vers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84720" y="5589720"/>
            <a:ext cx="446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5497560" y="5727600"/>
                <a:ext cx="81576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1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"/>
              <p:cNvSpPr txBox="1"/>
              <p:nvPr/>
            </p:nvSpPr>
            <p:spPr>
              <a:xfrm>
                <a:off x="6300720" y="5734080"/>
                <a:ext cx="8542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2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7093080" y="5734080"/>
                <a:ext cx="85536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3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5148360" y="2421000"/>
                <a:ext cx="3474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3635280" y="2349360"/>
                <a:ext cx="3859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3132000" y="3141720"/>
                <a:ext cx="38592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4356000" y="3141720"/>
                <a:ext cx="3859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7956720" y="5734080"/>
                <a:ext cx="7380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4284720" y="4797360"/>
                <a:ext cx="41180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4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16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35" name=""/>
          <p:cNvSpPr/>
          <p:nvPr/>
        </p:nvSpPr>
        <p:spPr>
          <a:xfrm>
            <a:off x="4644360" y="256536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7152120" y="217440"/>
            <a:ext cx="176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Univers"/>
              </a:rPr>
              <a:t>Задача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>
            <a:hlinkClick r:id="rId2" action="ppaction://hlinksldjump"/>
          </p:cNvPr>
          <p:cNvSpPr/>
          <p:nvPr/>
        </p:nvSpPr>
        <p:spPr>
          <a:xfrm>
            <a:off x="395280" y="6021360"/>
            <a:ext cx="649440" cy="647640"/>
          </a:xfrm>
          <a:custGeom>
            <a:avLst/>
            <a:gdLst>
              <a:gd name="textAreaLeft" fmla="*/ 41760 w 649440"/>
              <a:gd name="textAreaRight" fmla="*/ 607680 w 6494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60" h="21600">
                <a:moveTo>
                  <a:pt x="0" y="0"/>
                </a:moveTo>
                <a:lnTo>
                  <a:pt x="21660" y="0"/>
                </a:lnTo>
                <a:lnTo>
                  <a:pt x="21660" y="21600"/>
                </a:lnTo>
                <a:lnTo>
                  <a:pt x="0" y="21600"/>
                </a:lnTo>
                <a:close/>
              </a:path>
              <a:path fill="lightenLess" w="21660" h="21600">
                <a:moveTo>
                  <a:pt x="0" y="0"/>
                </a:moveTo>
                <a:lnTo>
                  <a:pt x="21660" y="0"/>
                </a:lnTo>
                <a:lnTo>
                  <a:pt x="20260" y="1400"/>
                </a:lnTo>
                <a:lnTo>
                  <a:pt x="1400" y="1400"/>
                </a:lnTo>
                <a:close/>
              </a:path>
              <a:path fill="darken" w="21660" h="21600">
                <a:moveTo>
                  <a:pt x="21660" y="0"/>
                </a:moveTo>
                <a:lnTo>
                  <a:pt x="21660" y="21600"/>
                </a:lnTo>
                <a:lnTo>
                  <a:pt x="20260" y="20200"/>
                </a:lnTo>
                <a:lnTo>
                  <a:pt x="20260" y="1400"/>
                </a:lnTo>
                <a:close/>
              </a:path>
              <a:path fill="darkenLess" w="21660" h="21600">
                <a:moveTo>
                  <a:pt x="216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0" y="20200"/>
                </a:lnTo>
                <a:close/>
              </a:path>
              <a:path fill="lighten" w="216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0" h="21600">
                <a:moveTo>
                  <a:pt x="10830" y="3837"/>
                </a:moveTo>
                <a:lnTo>
                  <a:pt x="13406" y="6448"/>
                </a:lnTo>
                <a:lnTo>
                  <a:pt x="13406" y="4707"/>
                </a:lnTo>
                <a:lnTo>
                  <a:pt x="15182" y="4707"/>
                </a:lnTo>
                <a:lnTo>
                  <a:pt x="15182" y="8224"/>
                </a:lnTo>
                <a:lnTo>
                  <a:pt x="17793" y="10800"/>
                </a:lnTo>
                <a:lnTo>
                  <a:pt x="16139" y="10800"/>
                </a:lnTo>
                <a:lnTo>
                  <a:pt x="16139" y="17989"/>
                </a:lnTo>
                <a:lnTo>
                  <a:pt x="5521" y="17989"/>
                </a:lnTo>
                <a:lnTo>
                  <a:pt x="5521" y="10800"/>
                </a:lnTo>
                <a:lnTo>
                  <a:pt x="3867" y="10800"/>
                </a:lnTo>
                <a:close/>
              </a:path>
              <a:path fill="darkenLess" w="21660" h="21600">
                <a:moveTo>
                  <a:pt x="13406" y="6448"/>
                </a:moveTo>
                <a:lnTo>
                  <a:pt x="13406" y="4707"/>
                </a:lnTo>
                <a:lnTo>
                  <a:pt x="15182" y="4707"/>
                </a:lnTo>
                <a:lnTo>
                  <a:pt x="15182" y="8224"/>
                </a:lnTo>
                <a:close/>
              </a:path>
              <a:path fill="darkenLess" w="21660" h="21600">
                <a:moveTo>
                  <a:pt x="9907" y="14299"/>
                </a:moveTo>
                <a:lnTo>
                  <a:pt x="11753" y="14299"/>
                </a:lnTo>
                <a:lnTo>
                  <a:pt x="11753" y="17989"/>
                </a:lnTo>
                <a:lnTo>
                  <a:pt x="16139" y="17989"/>
                </a:lnTo>
                <a:lnTo>
                  <a:pt x="16139" y="10800"/>
                </a:lnTo>
                <a:lnTo>
                  <a:pt x="5521" y="10800"/>
                </a:lnTo>
                <a:lnTo>
                  <a:pt x="5521" y="17989"/>
                </a:lnTo>
                <a:lnTo>
                  <a:pt x="9907" y="17989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2dffd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1116000" y="476280"/>
            <a:ext cx="6669000" cy="4753080"/>
          </a:xfrm>
          <a:custGeom>
            <a:avLst/>
            <a:gdLst/>
            <a:ahLst/>
            <a:rect l="l" t="t" r="r" b="b"/>
            <a:pathLst>
              <a:path w="4201" h="2994">
                <a:moveTo>
                  <a:pt x="2341" y="1361"/>
                </a:moveTo>
                <a:lnTo>
                  <a:pt x="3566" y="318"/>
                </a:lnTo>
                <a:lnTo>
                  <a:pt x="3521" y="272"/>
                </a:lnTo>
                <a:lnTo>
                  <a:pt x="3158" y="91"/>
                </a:lnTo>
                <a:lnTo>
                  <a:pt x="2795" y="0"/>
                </a:lnTo>
                <a:lnTo>
                  <a:pt x="2659" y="0"/>
                </a:lnTo>
                <a:lnTo>
                  <a:pt x="2251" y="46"/>
                </a:lnTo>
                <a:lnTo>
                  <a:pt x="1706" y="136"/>
                </a:lnTo>
                <a:lnTo>
                  <a:pt x="935" y="182"/>
                </a:lnTo>
                <a:lnTo>
                  <a:pt x="572" y="272"/>
                </a:lnTo>
                <a:lnTo>
                  <a:pt x="346" y="499"/>
                </a:lnTo>
                <a:cubicBezTo>
                  <a:pt x="285" y="514"/>
                  <a:pt x="222" y="521"/>
                  <a:pt x="164" y="545"/>
                </a:cubicBezTo>
                <a:cubicBezTo>
                  <a:pt x="131" y="558"/>
                  <a:pt x="148" y="596"/>
                  <a:pt x="151" y="616"/>
                </a:cubicBezTo>
                <a:cubicBezTo>
                  <a:pt x="160" y="670"/>
                  <a:pt x="179" y="715"/>
                  <a:pt x="179" y="770"/>
                </a:cubicBezTo>
                <a:lnTo>
                  <a:pt x="210" y="953"/>
                </a:lnTo>
                <a:lnTo>
                  <a:pt x="164" y="1134"/>
                </a:lnTo>
                <a:lnTo>
                  <a:pt x="119" y="1316"/>
                </a:lnTo>
                <a:cubicBezTo>
                  <a:pt x="89" y="1391"/>
                  <a:pt x="37" y="1461"/>
                  <a:pt x="28" y="1542"/>
                </a:cubicBezTo>
                <a:cubicBezTo>
                  <a:pt x="12" y="1691"/>
                  <a:pt x="0" y="1849"/>
                  <a:pt x="46" y="1992"/>
                </a:cubicBezTo>
                <a:cubicBezTo>
                  <a:pt x="55" y="2021"/>
                  <a:pt x="74" y="2054"/>
                  <a:pt x="74" y="2084"/>
                </a:cubicBezTo>
                <a:cubicBezTo>
                  <a:pt x="90" y="2147"/>
                  <a:pt x="96" y="2217"/>
                  <a:pt x="130" y="2273"/>
                </a:cubicBezTo>
                <a:cubicBezTo>
                  <a:pt x="137" y="2302"/>
                  <a:pt x="147" y="2331"/>
                  <a:pt x="158" y="2358"/>
                </a:cubicBezTo>
                <a:cubicBezTo>
                  <a:pt x="164" y="2373"/>
                  <a:pt x="179" y="2400"/>
                  <a:pt x="179" y="2400"/>
                </a:cubicBezTo>
                <a:cubicBezTo>
                  <a:pt x="255" y="2450"/>
                  <a:pt x="324" y="2506"/>
                  <a:pt x="397" y="2561"/>
                </a:cubicBezTo>
                <a:cubicBezTo>
                  <a:pt x="424" y="2582"/>
                  <a:pt x="438" y="2613"/>
                  <a:pt x="467" y="2632"/>
                </a:cubicBezTo>
                <a:cubicBezTo>
                  <a:pt x="487" y="2673"/>
                  <a:pt x="518" y="2704"/>
                  <a:pt x="538" y="2744"/>
                </a:cubicBezTo>
                <a:cubicBezTo>
                  <a:pt x="635" y="2809"/>
                  <a:pt x="499" y="2727"/>
                  <a:pt x="622" y="2765"/>
                </a:cubicBezTo>
                <a:cubicBezTo>
                  <a:pt x="636" y="2769"/>
                  <a:pt x="645" y="2785"/>
                  <a:pt x="657" y="2793"/>
                </a:cubicBezTo>
                <a:cubicBezTo>
                  <a:pt x="706" y="2826"/>
                  <a:pt x="759" y="2856"/>
                  <a:pt x="819" y="2856"/>
                </a:cubicBezTo>
                <a:cubicBezTo>
                  <a:pt x="873" y="2857"/>
                  <a:pt x="928" y="2849"/>
                  <a:pt x="981" y="2858"/>
                </a:cubicBezTo>
                <a:cubicBezTo>
                  <a:pt x="990" y="2860"/>
                  <a:pt x="980" y="2879"/>
                  <a:pt x="987" y="2885"/>
                </a:cubicBezTo>
                <a:cubicBezTo>
                  <a:pt x="996" y="2893"/>
                  <a:pt x="1090" y="2932"/>
                  <a:pt x="1100" y="2934"/>
                </a:cubicBezTo>
                <a:cubicBezTo>
                  <a:pt x="1133" y="2956"/>
                  <a:pt x="1113" y="2948"/>
                  <a:pt x="1163" y="2948"/>
                </a:cubicBezTo>
                <a:lnTo>
                  <a:pt x="1480" y="2949"/>
                </a:lnTo>
                <a:lnTo>
                  <a:pt x="1752" y="2949"/>
                </a:lnTo>
                <a:lnTo>
                  <a:pt x="1888" y="2994"/>
                </a:lnTo>
                <a:lnTo>
                  <a:pt x="1979" y="2949"/>
                </a:lnTo>
                <a:lnTo>
                  <a:pt x="2160" y="2949"/>
                </a:lnTo>
                <a:lnTo>
                  <a:pt x="2387" y="2949"/>
                </a:lnTo>
                <a:lnTo>
                  <a:pt x="2614" y="2858"/>
                </a:lnTo>
                <a:lnTo>
                  <a:pt x="2795" y="2767"/>
                </a:lnTo>
                <a:lnTo>
                  <a:pt x="3067" y="2722"/>
                </a:lnTo>
                <a:lnTo>
                  <a:pt x="3249" y="2631"/>
                </a:lnTo>
                <a:lnTo>
                  <a:pt x="3339" y="2495"/>
                </a:lnTo>
                <a:lnTo>
                  <a:pt x="3521" y="2404"/>
                </a:lnTo>
                <a:lnTo>
                  <a:pt x="3657" y="2177"/>
                </a:lnTo>
                <a:cubicBezTo>
                  <a:pt x="3717" y="2147"/>
                  <a:pt x="3775" y="2111"/>
                  <a:pt x="3838" y="2087"/>
                </a:cubicBezTo>
                <a:cubicBezTo>
                  <a:pt x="3846" y="2084"/>
                  <a:pt x="3852" y="2097"/>
                  <a:pt x="3860" y="2098"/>
                </a:cubicBezTo>
                <a:cubicBezTo>
                  <a:pt x="3881" y="2100"/>
                  <a:pt x="3956" y="2073"/>
                  <a:pt x="3980" y="2070"/>
                </a:cubicBezTo>
                <a:cubicBezTo>
                  <a:pt x="4010" y="2052"/>
                  <a:pt x="4040" y="2038"/>
                  <a:pt x="4071" y="2021"/>
                </a:cubicBezTo>
                <a:cubicBezTo>
                  <a:pt x="4080" y="2016"/>
                  <a:pt x="4089" y="2011"/>
                  <a:pt x="4099" y="2007"/>
                </a:cubicBezTo>
                <a:cubicBezTo>
                  <a:pt x="4106" y="2004"/>
                  <a:pt x="4120" y="2000"/>
                  <a:pt x="4120" y="2000"/>
                </a:cubicBezTo>
                <a:lnTo>
                  <a:pt x="4201" y="1769"/>
                </a:lnTo>
                <a:lnTo>
                  <a:pt x="4156" y="1542"/>
                </a:lnTo>
                <a:lnTo>
                  <a:pt x="4156" y="1361"/>
                </a:lnTo>
                <a:lnTo>
                  <a:pt x="4111" y="1361"/>
                </a:lnTo>
                <a:lnTo>
                  <a:pt x="2341" y="136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99">
                  <a:alpha val="62352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896000" y="1339920"/>
            <a:ext cx="2189160" cy="1297080"/>
          </a:xfrm>
          <a:custGeom>
            <a:avLst/>
            <a:gdLst/>
            <a:ahLst/>
            <a:rect l="l" t="t" r="r" b="b"/>
            <a:pathLst>
              <a:path w="1379" h="817">
                <a:moveTo>
                  <a:pt x="966" y="0"/>
                </a:moveTo>
                <a:lnTo>
                  <a:pt x="0" y="811"/>
                </a:lnTo>
                <a:lnTo>
                  <a:pt x="1218" y="817"/>
                </a:lnTo>
                <a:lnTo>
                  <a:pt x="1310" y="721"/>
                </a:lnTo>
                <a:lnTo>
                  <a:pt x="1379" y="601"/>
                </a:lnTo>
                <a:lnTo>
                  <a:pt x="1333" y="529"/>
                </a:lnTo>
                <a:lnTo>
                  <a:pt x="1333" y="409"/>
                </a:lnTo>
                <a:lnTo>
                  <a:pt x="1264" y="288"/>
                </a:lnTo>
                <a:lnTo>
                  <a:pt x="1195" y="168"/>
                </a:lnTo>
                <a:lnTo>
                  <a:pt x="1149" y="72"/>
                </a:lnTo>
                <a:lnTo>
                  <a:pt x="1081" y="48"/>
                </a:lnTo>
                <a:lnTo>
                  <a:pt x="1057" y="24"/>
                </a:lnTo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965240" y="2637000"/>
            <a:ext cx="56246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2700360" y="980640"/>
            <a:ext cx="4098960" cy="352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4494240" y="1992240"/>
                <a:ext cx="37944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4781520" y="2711520"/>
                <a:ext cx="38088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5357880" y="2063880"/>
                <a:ext cx="37944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45" name=""/>
          <p:cNvGrpSpPr/>
          <p:nvPr/>
        </p:nvGrpSpPr>
        <p:grpSpPr>
          <a:xfrm>
            <a:off x="4397400" y="5589720"/>
            <a:ext cx="4422240" cy="824400"/>
            <a:chOff x="4397400" y="5589720"/>
            <a:chExt cx="4422240" cy="824400"/>
          </a:xfrm>
        </p:grpSpPr>
        <mc:AlternateContent>
          <mc:Choice xmlns:a14="http://schemas.microsoft.com/office/drawing/2010/main" Requires="a14">
            <p:sp>
              <p:nvSpPr>
                <p:cNvPr id="446" name=""/>
                <p:cNvSpPr txBox="1"/>
                <p:nvPr/>
              </p:nvSpPr>
              <p:spPr>
                <a:xfrm>
                  <a:off x="5867280" y="5877000"/>
                  <a:ext cx="2383920" cy="471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+∠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+∠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47" name=""/>
            <p:cNvSpPr/>
            <p:nvPr/>
          </p:nvSpPr>
          <p:spPr>
            <a:xfrm>
              <a:off x="4498920" y="5589720"/>
              <a:ext cx="432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397400" y="5832720"/>
              <a:ext cx="1538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Univers"/>
                </a:rPr>
                <a:t>Найти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"/>
          <p:cNvSpPr/>
          <p:nvPr/>
        </p:nvSpPr>
        <p:spPr>
          <a:xfrm>
            <a:off x="1903320" y="19191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224760" y="4795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304040" y="19191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903320" y="39355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063320" y="25686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6203880" y="1847880"/>
                <a:ext cx="61272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55" name=""/>
          <p:cNvSpPr/>
          <p:nvPr/>
        </p:nvSpPr>
        <p:spPr>
          <a:xfrm>
            <a:off x="5285520" y="2063880"/>
            <a:ext cx="576720" cy="115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3630600" y="2711520"/>
                <a:ext cx="34308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7" name=""/>
          <p:cNvSpPr/>
          <p:nvPr/>
        </p:nvSpPr>
        <p:spPr>
          <a:xfrm>
            <a:off x="7152120" y="217440"/>
            <a:ext cx="176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Univers"/>
              </a:rPr>
              <a:t>Задача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>
            <a:hlinkClick r:id="rId2" action="ppaction://hlinksldjump"/>
          </p:cNvPr>
          <p:cNvSpPr/>
          <p:nvPr/>
        </p:nvSpPr>
        <p:spPr>
          <a:xfrm>
            <a:off x="395280" y="6021360"/>
            <a:ext cx="649440" cy="647640"/>
          </a:xfrm>
          <a:custGeom>
            <a:avLst/>
            <a:gdLst>
              <a:gd name="textAreaLeft" fmla="*/ 41760 w 649440"/>
              <a:gd name="textAreaRight" fmla="*/ 607680 w 6494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60" h="21600">
                <a:moveTo>
                  <a:pt x="0" y="0"/>
                </a:moveTo>
                <a:lnTo>
                  <a:pt x="21660" y="0"/>
                </a:lnTo>
                <a:lnTo>
                  <a:pt x="21660" y="21600"/>
                </a:lnTo>
                <a:lnTo>
                  <a:pt x="0" y="21600"/>
                </a:lnTo>
                <a:close/>
              </a:path>
              <a:path fill="lightenLess" w="21660" h="21600">
                <a:moveTo>
                  <a:pt x="0" y="0"/>
                </a:moveTo>
                <a:lnTo>
                  <a:pt x="21660" y="0"/>
                </a:lnTo>
                <a:lnTo>
                  <a:pt x="20260" y="1400"/>
                </a:lnTo>
                <a:lnTo>
                  <a:pt x="1400" y="1400"/>
                </a:lnTo>
                <a:close/>
              </a:path>
              <a:path fill="darken" w="21660" h="21600">
                <a:moveTo>
                  <a:pt x="21660" y="0"/>
                </a:moveTo>
                <a:lnTo>
                  <a:pt x="21660" y="21600"/>
                </a:lnTo>
                <a:lnTo>
                  <a:pt x="20260" y="20200"/>
                </a:lnTo>
                <a:lnTo>
                  <a:pt x="20260" y="1400"/>
                </a:lnTo>
                <a:close/>
              </a:path>
              <a:path fill="darkenLess" w="21660" h="21600">
                <a:moveTo>
                  <a:pt x="216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0" y="20200"/>
                </a:lnTo>
                <a:close/>
              </a:path>
              <a:path fill="lighten" w="216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0" h="21600">
                <a:moveTo>
                  <a:pt x="10830" y="3837"/>
                </a:moveTo>
                <a:lnTo>
                  <a:pt x="13406" y="6448"/>
                </a:lnTo>
                <a:lnTo>
                  <a:pt x="13406" y="4707"/>
                </a:lnTo>
                <a:lnTo>
                  <a:pt x="15182" y="4707"/>
                </a:lnTo>
                <a:lnTo>
                  <a:pt x="15182" y="8224"/>
                </a:lnTo>
                <a:lnTo>
                  <a:pt x="17793" y="10800"/>
                </a:lnTo>
                <a:lnTo>
                  <a:pt x="16139" y="10800"/>
                </a:lnTo>
                <a:lnTo>
                  <a:pt x="16139" y="17989"/>
                </a:lnTo>
                <a:lnTo>
                  <a:pt x="5521" y="17989"/>
                </a:lnTo>
                <a:lnTo>
                  <a:pt x="5521" y="10800"/>
                </a:lnTo>
                <a:lnTo>
                  <a:pt x="3867" y="10800"/>
                </a:lnTo>
                <a:close/>
              </a:path>
              <a:path fill="darkenLess" w="21660" h="21600">
                <a:moveTo>
                  <a:pt x="13406" y="6448"/>
                </a:moveTo>
                <a:lnTo>
                  <a:pt x="13406" y="4707"/>
                </a:lnTo>
                <a:lnTo>
                  <a:pt x="15182" y="4707"/>
                </a:lnTo>
                <a:lnTo>
                  <a:pt x="15182" y="8224"/>
                </a:lnTo>
                <a:close/>
              </a:path>
              <a:path fill="darkenLess" w="21660" h="21600">
                <a:moveTo>
                  <a:pt x="9907" y="14299"/>
                </a:moveTo>
                <a:lnTo>
                  <a:pt x="11753" y="14299"/>
                </a:lnTo>
                <a:lnTo>
                  <a:pt x="11753" y="17989"/>
                </a:lnTo>
                <a:lnTo>
                  <a:pt x="16139" y="17989"/>
                </a:lnTo>
                <a:lnTo>
                  <a:pt x="16139" y="10800"/>
                </a:lnTo>
                <a:lnTo>
                  <a:pt x="5521" y="10800"/>
                </a:lnTo>
                <a:lnTo>
                  <a:pt x="5521" y="17989"/>
                </a:lnTo>
                <a:lnTo>
                  <a:pt x="9907" y="17989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2dffd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2413080" y="2619360"/>
            <a:ext cx="2168280" cy="1892160"/>
          </a:xfrm>
          <a:custGeom>
            <a:avLst/>
            <a:gdLst/>
            <a:ahLst/>
            <a:rect l="l" t="t" r="r" b="b"/>
            <a:pathLst>
              <a:path w="1366" h="1192">
                <a:moveTo>
                  <a:pt x="1366" y="984"/>
                </a:moveTo>
                <a:lnTo>
                  <a:pt x="1240" y="0"/>
                </a:lnTo>
                <a:lnTo>
                  <a:pt x="0" y="745"/>
                </a:lnTo>
                <a:lnTo>
                  <a:pt x="21" y="738"/>
                </a:lnTo>
                <a:lnTo>
                  <a:pt x="67" y="920"/>
                </a:lnTo>
                <a:lnTo>
                  <a:pt x="158" y="1056"/>
                </a:lnTo>
                <a:lnTo>
                  <a:pt x="384" y="1147"/>
                </a:lnTo>
                <a:lnTo>
                  <a:pt x="612" y="1192"/>
                </a:lnTo>
                <a:lnTo>
                  <a:pt x="884" y="1192"/>
                </a:lnTo>
                <a:lnTo>
                  <a:pt x="1111" y="1192"/>
                </a:lnTo>
                <a:lnTo>
                  <a:pt x="1202" y="1147"/>
                </a:lnTo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rot="10800000">
            <a:off x="4355640" y="2565360"/>
            <a:ext cx="2233800" cy="1728720"/>
          </a:xfrm>
          <a:custGeom>
            <a:avLst/>
            <a:gdLst/>
            <a:ahLst/>
            <a:rect l="l" t="t" r="r" b="b"/>
            <a:pathLst>
              <a:path w="1406" h="1089">
                <a:moveTo>
                  <a:pt x="0" y="817"/>
                </a:moveTo>
                <a:lnTo>
                  <a:pt x="1406" y="1089"/>
                </a:lnTo>
                <a:lnTo>
                  <a:pt x="1270" y="0"/>
                </a:lnTo>
                <a:lnTo>
                  <a:pt x="1089" y="0"/>
                </a:lnTo>
                <a:lnTo>
                  <a:pt x="862" y="46"/>
                </a:lnTo>
                <a:lnTo>
                  <a:pt x="590" y="136"/>
                </a:lnTo>
                <a:lnTo>
                  <a:pt x="227" y="272"/>
                </a:lnTo>
                <a:lnTo>
                  <a:pt x="91" y="499"/>
                </a:lnTo>
                <a:lnTo>
                  <a:pt x="91" y="590"/>
                </a:lnTo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429080" y="1486080"/>
            <a:ext cx="2665440" cy="1584000"/>
          </a:xfrm>
          <a:custGeom>
            <a:avLst/>
            <a:gdLst/>
            <a:ahLst/>
            <a:rect l="l" t="t" r="r" b="b"/>
            <a:pathLst>
              <a:path w="1678" h="998">
                <a:moveTo>
                  <a:pt x="1225" y="0"/>
                </a:moveTo>
                <a:lnTo>
                  <a:pt x="0" y="680"/>
                </a:lnTo>
                <a:lnTo>
                  <a:pt x="1497" y="998"/>
                </a:lnTo>
                <a:lnTo>
                  <a:pt x="1633" y="771"/>
                </a:lnTo>
                <a:lnTo>
                  <a:pt x="1678" y="544"/>
                </a:lnTo>
                <a:lnTo>
                  <a:pt x="1678" y="453"/>
                </a:lnTo>
                <a:lnTo>
                  <a:pt x="1633" y="363"/>
                </a:lnTo>
                <a:lnTo>
                  <a:pt x="1587" y="272"/>
                </a:lnTo>
                <a:lnTo>
                  <a:pt x="1587" y="181"/>
                </a:lnTo>
                <a:lnTo>
                  <a:pt x="1542" y="136"/>
                </a:lnTo>
                <a:lnTo>
                  <a:pt x="1542" y="91"/>
                </a:lnTo>
                <a:lnTo>
                  <a:pt x="1497" y="45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0fa90">
                  <a:alpha val="64313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214880" y="693720"/>
            <a:ext cx="2386080" cy="1897200"/>
          </a:xfrm>
          <a:custGeom>
            <a:avLst/>
            <a:gdLst/>
            <a:ahLst/>
            <a:rect l="l" t="t" r="r" b="b"/>
            <a:pathLst>
              <a:path w="1503" h="1195">
                <a:moveTo>
                  <a:pt x="0" y="227"/>
                </a:moveTo>
                <a:lnTo>
                  <a:pt x="94" y="1146"/>
                </a:lnTo>
                <a:lnTo>
                  <a:pt x="111" y="1195"/>
                </a:lnTo>
                <a:lnTo>
                  <a:pt x="1383" y="447"/>
                </a:lnTo>
                <a:lnTo>
                  <a:pt x="1503" y="397"/>
                </a:lnTo>
                <a:lnTo>
                  <a:pt x="1316" y="272"/>
                </a:lnTo>
                <a:lnTo>
                  <a:pt x="1225" y="136"/>
                </a:lnTo>
                <a:lnTo>
                  <a:pt x="999" y="45"/>
                </a:lnTo>
                <a:lnTo>
                  <a:pt x="772" y="0"/>
                </a:lnTo>
                <a:lnTo>
                  <a:pt x="499" y="0"/>
                </a:lnTo>
                <a:lnTo>
                  <a:pt x="272" y="0"/>
                </a:lnTo>
                <a:lnTo>
                  <a:pt x="181" y="45"/>
                </a:lnTo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124000" y="857160"/>
            <a:ext cx="2247840" cy="1704960"/>
          </a:xfrm>
          <a:custGeom>
            <a:avLst/>
            <a:gdLst/>
            <a:ahLst/>
            <a:rect l="l" t="t" r="r" b="b"/>
            <a:pathLst>
              <a:path w="1416" h="1074">
                <a:moveTo>
                  <a:pt x="0" y="815"/>
                </a:moveTo>
                <a:lnTo>
                  <a:pt x="1416" y="1074"/>
                </a:lnTo>
                <a:lnTo>
                  <a:pt x="1290" y="0"/>
                </a:lnTo>
                <a:lnTo>
                  <a:pt x="1089" y="33"/>
                </a:lnTo>
                <a:lnTo>
                  <a:pt x="862" y="77"/>
                </a:lnTo>
                <a:lnTo>
                  <a:pt x="590" y="163"/>
                </a:lnTo>
                <a:lnTo>
                  <a:pt x="227" y="294"/>
                </a:lnTo>
                <a:lnTo>
                  <a:pt x="91" y="511"/>
                </a:lnTo>
                <a:lnTo>
                  <a:pt x="91" y="598"/>
                </a:lnTo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124000" y="2133720"/>
            <a:ext cx="4684680" cy="93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692360" y="2133720"/>
            <a:ext cx="2727360" cy="1662120"/>
          </a:xfrm>
          <a:custGeom>
            <a:avLst/>
            <a:gdLst/>
            <a:ahLst/>
            <a:rect l="l" t="t" r="r" b="b"/>
            <a:pathLst>
              <a:path w="1718" h="1047">
                <a:moveTo>
                  <a:pt x="376" y="1047"/>
                </a:moveTo>
                <a:lnTo>
                  <a:pt x="1718" y="288"/>
                </a:lnTo>
                <a:lnTo>
                  <a:pt x="1688" y="282"/>
                </a:lnTo>
                <a:lnTo>
                  <a:pt x="181" y="0"/>
                </a:lnTo>
                <a:lnTo>
                  <a:pt x="45" y="207"/>
                </a:lnTo>
                <a:lnTo>
                  <a:pt x="0" y="413"/>
                </a:lnTo>
                <a:lnTo>
                  <a:pt x="0" y="496"/>
                </a:lnTo>
                <a:lnTo>
                  <a:pt x="45" y="578"/>
                </a:lnTo>
                <a:lnTo>
                  <a:pt x="91" y="661"/>
                </a:lnTo>
                <a:lnTo>
                  <a:pt x="91" y="743"/>
                </a:lnTo>
                <a:lnTo>
                  <a:pt x="136" y="784"/>
                </a:lnTo>
                <a:lnTo>
                  <a:pt x="136" y="825"/>
                </a:lnTo>
                <a:lnTo>
                  <a:pt x="181" y="867"/>
                </a:lnTo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2125800" y="1341000"/>
            <a:ext cx="4468680" cy="259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622160" y="1989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638520" y="477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374880" y="69372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734160" y="242100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718160" y="3645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414520" y="3789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140360" y="620640"/>
            <a:ext cx="433080" cy="352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4" name=""/>
              <p:cNvSpPr txBox="1"/>
              <p:nvPr/>
            </p:nvSpPr>
            <p:spPr>
              <a:xfrm>
                <a:off x="3564000" y="3068640"/>
                <a:ext cx="79200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5292720" y="2060640"/>
                <a:ext cx="71928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58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76" name=""/>
          <p:cNvSpPr/>
          <p:nvPr/>
        </p:nvSpPr>
        <p:spPr>
          <a:xfrm>
            <a:off x="4428720" y="256536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4397400" y="5589720"/>
            <a:ext cx="4565160" cy="870480"/>
            <a:chOff x="4397400" y="5589720"/>
            <a:chExt cx="4565160" cy="870480"/>
          </a:xfrm>
        </p:grpSpPr>
        <p:sp>
          <p:nvSpPr>
            <p:cNvPr id="478" name=""/>
            <p:cNvSpPr/>
            <p:nvPr/>
          </p:nvSpPr>
          <p:spPr>
            <a:xfrm>
              <a:off x="4397400" y="5878800"/>
              <a:ext cx="1538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Univers"/>
                </a:rPr>
                <a:t>Найти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498920" y="5589720"/>
              <a:ext cx="4463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0" name=""/>
                <p:cNvSpPr txBox="1"/>
                <p:nvPr/>
              </p:nvSpPr>
              <p:spPr>
                <a:xfrm>
                  <a:off x="5960880" y="5878800"/>
                  <a:ext cx="2692080" cy="529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АОС</m:t>
                      </m:r>
                      <m:r>
                        <m:t xml:space="preserve">;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COK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81" name=""/>
          <p:cNvSpPr/>
          <p:nvPr/>
        </p:nvSpPr>
        <p:spPr>
          <a:xfrm>
            <a:off x="7152120" y="217440"/>
            <a:ext cx="176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Univers"/>
              </a:rPr>
              <a:t>Задача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>
            <a:hlinkClick r:id="rId6" action="ppaction://hlinksldjump"/>
          </p:cNvPr>
          <p:cNvSpPr/>
          <p:nvPr/>
        </p:nvSpPr>
        <p:spPr>
          <a:xfrm>
            <a:off x="395280" y="6021360"/>
            <a:ext cx="649440" cy="647640"/>
          </a:xfrm>
          <a:custGeom>
            <a:avLst/>
            <a:gdLst>
              <a:gd name="textAreaLeft" fmla="*/ 41760 w 649440"/>
              <a:gd name="textAreaRight" fmla="*/ 607680 w 6494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60" h="21600">
                <a:moveTo>
                  <a:pt x="0" y="0"/>
                </a:moveTo>
                <a:lnTo>
                  <a:pt x="21660" y="0"/>
                </a:lnTo>
                <a:lnTo>
                  <a:pt x="21660" y="21600"/>
                </a:lnTo>
                <a:lnTo>
                  <a:pt x="0" y="21600"/>
                </a:lnTo>
                <a:close/>
              </a:path>
              <a:path fill="lightenLess" w="21660" h="21600">
                <a:moveTo>
                  <a:pt x="0" y="0"/>
                </a:moveTo>
                <a:lnTo>
                  <a:pt x="21660" y="0"/>
                </a:lnTo>
                <a:lnTo>
                  <a:pt x="20260" y="1400"/>
                </a:lnTo>
                <a:lnTo>
                  <a:pt x="1400" y="1400"/>
                </a:lnTo>
                <a:close/>
              </a:path>
              <a:path fill="darken" w="21660" h="21600">
                <a:moveTo>
                  <a:pt x="21660" y="0"/>
                </a:moveTo>
                <a:lnTo>
                  <a:pt x="21660" y="21600"/>
                </a:lnTo>
                <a:lnTo>
                  <a:pt x="20260" y="20200"/>
                </a:lnTo>
                <a:lnTo>
                  <a:pt x="20260" y="1400"/>
                </a:lnTo>
                <a:close/>
              </a:path>
              <a:path fill="darkenLess" w="21660" h="21600">
                <a:moveTo>
                  <a:pt x="216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0" y="20200"/>
                </a:lnTo>
                <a:close/>
              </a:path>
              <a:path fill="lighten" w="216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0" h="21600">
                <a:moveTo>
                  <a:pt x="10830" y="3837"/>
                </a:moveTo>
                <a:lnTo>
                  <a:pt x="13406" y="6448"/>
                </a:lnTo>
                <a:lnTo>
                  <a:pt x="13406" y="4707"/>
                </a:lnTo>
                <a:lnTo>
                  <a:pt x="15182" y="4707"/>
                </a:lnTo>
                <a:lnTo>
                  <a:pt x="15182" y="8224"/>
                </a:lnTo>
                <a:lnTo>
                  <a:pt x="17793" y="10800"/>
                </a:lnTo>
                <a:lnTo>
                  <a:pt x="16139" y="10800"/>
                </a:lnTo>
                <a:lnTo>
                  <a:pt x="16139" y="17989"/>
                </a:lnTo>
                <a:lnTo>
                  <a:pt x="5521" y="17989"/>
                </a:lnTo>
                <a:lnTo>
                  <a:pt x="5521" y="10800"/>
                </a:lnTo>
                <a:lnTo>
                  <a:pt x="3867" y="10800"/>
                </a:lnTo>
                <a:close/>
              </a:path>
              <a:path fill="darkenLess" w="21660" h="21600">
                <a:moveTo>
                  <a:pt x="13406" y="6448"/>
                </a:moveTo>
                <a:lnTo>
                  <a:pt x="13406" y="4707"/>
                </a:lnTo>
                <a:lnTo>
                  <a:pt x="15182" y="4707"/>
                </a:lnTo>
                <a:lnTo>
                  <a:pt x="15182" y="8224"/>
                </a:lnTo>
                <a:close/>
              </a:path>
              <a:path fill="darkenLess" w="21660" h="21600">
                <a:moveTo>
                  <a:pt x="9907" y="14299"/>
                </a:moveTo>
                <a:lnTo>
                  <a:pt x="11753" y="14299"/>
                </a:lnTo>
                <a:lnTo>
                  <a:pt x="11753" y="17989"/>
                </a:lnTo>
                <a:lnTo>
                  <a:pt x="16139" y="17989"/>
                </a:lnTo>
                <a:lnTo>
                  <a:pt x="16139" y="10800"/>
                </a:lnTo>
                <a:lnTo>
                  <a:pt x="5521" y="10800"/>
                </a:lnTo>
                <a:lnTo>
                  <a:pt x="5521" y="17989"/>
                </a:lnTo>
                <a:lnTo>
                  <a:pt x="9907" y="17989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2dffd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2340000" y="2852640"/>
            <a:ext cx="2232000" cy="1944720"/>
          </a:xfrm>
          <a:custGeom>
            <a:avLst/>
            <a:gdLst/>
            <a:ahLst/>
            <a:rect l="l" t="t" r="r" b="b"/>
            <a:pathLst>
              <a:path w="1406" h="1225">
                <a:moveTo>
                  <a:pt x="0" y="772"/>
                </a:moveTo>
                <a:lnTo>
                  <a:pt x="1270" y="0"/>
                </a:lnTo>
                <a:lnTo>
                  <a:pt x="1406" y="1089"/>
                </a:lnTo>
                <a:lnTo>
                  <a:pt x="1315" y="1134"/>
                </a:lnTo>
                <a:lnTo>
                  <a:pt x="1270" y="1134"/>
                </a:lnTo>
                <a:lnTo>
                  <a:pt x="1133" y="1134"/>
                </a:lnTo>
                <a:lnTo>
                  <a:pt x="861" y="1225"/>
                </a:lnTo>
                <a:lnTo>
                  <a:pt x="635" y="1180"/>
                </a:lnTo>
                <a:lnTo>
                  <a:pt x="362" y="1180"/>
                </a:lnTo>
                <a:lnTo>
                  <a:pt x="90" y="1089"/>
                </a:lnTo>
                <a:lnTo>
                  <a:pt x="90" y="998"/>
                </a:lnTo>
                <a:lnTo>
                  <a:pt x="45" y="953"/>
                </a:lnTo>
                <a:lnTo>
                  <a:pt x="45" y="908"/>
                </a:lnTo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343400" y="2895480"/>
            <a:ext cx="2219400" cy="1792440"/>
          </a:xfrm>
          <a:custGeom>
            <a:avLst/>
            <a:gdLst/>
            <a:ahLst/>
            <a:rect l="l" t="t" r="r" b="b"/>
            <a:pathLst>
              <a:path w="1398" h="1129">
                <a:moveTo>
                  <a:pt x="1398" y="276"/>
                </a:moveTo>
                <a:lnTo>
                  <a:pt x="0" y="0"/>
                </a:lnTo>
                <a:lnTo>
                  <a:pt x="144" y="1129"/>
                </a:lnTo>
                <a:lnTo>
                  <a:pt x="325" y="1129"/>
                </a:lnTo>
                <a:lnTo>
                  <a:pt x="551" y="1083"/>
                </a:lnTo>
                <a:lnTo>
                  <a:pt x="823" y="993"/>
                </a:lnTo>
                <a:lnTo>
                  <a:pt x="1186" y="857"/>
                </a:lnTo>
                <a:lnTo>
                  <a:pt x="1322" y="630"/>
                </a:lnTo>
                <a:lnTo>
                  <a:pt x="1322" y="539"/>
                </a:lnTo>
              </a:path>
            </a:pathLst>
          </a:custGeom>
          <a:blipFill rotWithShape="0">
            <a:blip r:embed="rId2">
              <a:alphaModFix amt="94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357800" y="1735200"/>
            <a:ext cx="2663640" cy="1622520"/>
          </a:xfrm>
          <a:custGeom>
            <a:avLst/>
            <a:gdLst/>
            <a:ahLst/>
            <a:rect l="l" t="t" r="r" b="b"/>
            <a:pathLst>
              <a:path w="1678" h="1022">
                <a:moveTo>
                  <a:pt x="1216" y="0"/>
                </a:moveTo>
                <a:lnTo>
                  <a:pt x="0" y="704"/>
                </a:lnTo>
                <a:lnTo>
                  <a:pt x="1497" y="1022"/>
                </a:lnTo>
                <a:lnTo>
                  <a:pt x="1633" y="795"/>
                </a:lnTo>
                <a:lnTo>
                  <a:pt x="1678" y="568"/>
                </a:lnTo>
                <a:lnTo>
                  <a:pt x="1678" y="477"/>
                </a:lnTo>
                <a:lnTo>
                  <a:pt x="1633" y="387"/>
                </a:lnTo>
                <a:lnTo>
                  <a:pt x="1587" y="296"/>
                </a:lnTo>
                <a:lnTo>
                  <a:pt x="1587" y="205"/>
                </a:lnTo>
                <a:lnTo>
                  <a:pt x="1542" y="160"/>
                </a:lnTo>
                <a:lnTo>
                  <a:pt x="1542" y="115"/>
                </a:lnTo>
                <a:lnTo>
                  <a:pt x="1497" y="69"/>
                </a:lnTo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141800" y="981000"/>
            <a:ext cx="2193840" cy="1901880"/>
          </a:xfrm>
          <a:custGeom>
            <a:avLst/>
            <a:gdLst/>
            <a:ahLst/>
            <a:rect l="l" t="t" r="r" b="b"/>
            <a:pathLst>
              <a:path w="1382" h="1198">
                <a:moveTo>
                  <a:pt x="0" y="227"/>
                </a:moveTo>
                <a:lnTo>
                  <a:pt x="124" y="1198"/>
                </a:lnTo>
                <a:lnTo>
                  <a:pt x="1382" y="447"/>
                </a:lnTo>
                <a:lnTo>
                  <a:pt x="1361" y="454"/>
                </a:lnTo>
                <a:lnTo>
                  <a:pt x="1315" y="272"/>
                </a:lnTo>
                <a:lnTo>
                  <a:pt x="1224" y="136"/>
                </a:lnTo>
                <a:lnTo>
                  <a:pt x="998" y="45"/>
                </a:lnTo>
                <a:lnTo>
                  <a:pt x="771" y="0"/>
                </a:lnTo>
                <a:lnTo>
                  <a:pt x="499" y="0"/>
                </a:lnTo>
                <a:lnTo>
                  <a:pt x="272" y="0"/>
                </a:lnTo>
                <a:lnTo>
                  <a:pt x="181" y="45"/>
                </a:lnTo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124000" y="1197000"/>
            <a:ext cx="2232000" cy="1728720"/>
          </a:xfrm>
          <a:custGeom>
            <a:avLst/>
            <a:gdLst/>
            <a:ahLst/>
            <a:rect l="l" t="t" r="r" b="b"/>
            <a:pathLst>
              <a:path w="1406" h="1089">
                <a:moveTo>
                  <a:pt x="0" y="817"/>
                </a:moveTo>
                <a:lnTo>
                  <a:pt x="1406" y="1089"/>
                </a:lnTo>
                <a:lnTo>
                  <a:pt x="1270" y="0"/>
                </a:lnTo>
                <a:lnTo>
                  <a:pt x="1089" y="0"/>
                </a:lnTo>
                <a:lnTo>
                  <a:pt x="862" y="46"/>
                </a:lnTo>
                <a:lnTo>
                  <a:pt x="590" y="136"/>
                </a:lnTo>
                <a:lnTo>
                  <a:pt x="227" y="272"/>
                </a:lnTo>
                <a:lnTo>
                  <a:pt x="91" y="499"/>
                </a:lnTo>
                <a:lnTo>
                  <a:pt x="91" y="590"/>
                </a:lnTo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050920" y="2421000"/>
            <a:ext cx="4681800" cy="936720"/>
          </a:xfrm>
          <a:custGeom>
            <a:avLst/>
            <a:gdLst/>
            <a:ahLst/>
            <a:rect l="l" t="t" r="r" b="b"/>
            <a:pathLst>
              <a:path w="2949" h="590">
                <a:moveTo>
                  <a:pt x="0" y="0"/>
                </a:moveTo>
                <a:lnTo>
                  <a:pt x="1475" y="291"/>
                </a:lnTo>
                <a:lnTo>
                  <a:pt x="2949" y="59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141800" y="1341360"/>
            <a:ext cx="360360" cy="295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619280" y="2421000"/>
            <a:ext cx="2663640" cy="1662120"/>
          </a:xfrm>
          <a:custGeom>
            <a:avLst/>
            <a:gdLst/>
            <a:ahLst/>
            <a:rect l="l" t="t" r="r" b="b"/>
            <a:pathLst>
              <a:path w="1678" h="1047">
                <a:moveTo>
                  <a:pt x="376" y="1047"/>
                </a:moveTo>
                <a:lnTo>
                  <a:pt x="1678" y="289"/>
                </a:lnTo>
                <a:lnTo>
                  <a:pt x="181" y="0"/>
                </a:lnTo>
                <a:lnTo>
                  <a:pt x="45" y="207"/>
                </a:lnTo>
                <a:lnTo>
                  <a:pt x="0" y="413"/>
                </a:lnTo>
                <a:lnTo>
                  <a:pt x="0" y="496"/>
                </a:lnTo>
                <a:lnTo>
                  <a:pt x="45" y="578"/>
                </a:lnTo>
                <a:lnTo>
                  <a:pt x="91" y="661"/>
                </a:lnTo>
                <a:lnTo>
                  <a:pt x="91" y="743"/>
                </a:lnTo>
                <a:lnTo>
                  <a:pt x="136" y="784"/>
                </a:lnTo>
                <a:lnTo>
                  <a:pt x="136" y="825"/>
                </a:lnTo>
                <a:lnTo>
                  <a:pt x="181" y="867"/>
                </a:lnTo>
              </a:path>
            </a:pathLst>
          </a:cu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2124000" y="1557000"/>
            <a:ext cx="4391280" cy="266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49080" y="2276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565440" y="765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6301800" y="98100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6661080" y="270828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645080" y="3932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41800" y="4076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flipH="1" rot="4513800">
            <a:off x="3603960" y="1986840"/>
            <a:ext cx="1583280" cy="129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 rot="5767200">
            <a:off x="4174200" y="2602080"/>
            <a:ext cx="1583640" cy="129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596" y="368"/>
                </a:moveTo>
                <a:arcTo wR="10800" hR="10800" stAng="-4499619" swAng="4499619"/>
                <a:lnTo>
                  <a:pt x="10800" y="10800"/>
                </a:lnTo>
                <a:close/>
              </a:path>
              <a:path fill="none" w="21600" h="21600">
                <a:moveTo>
                  <a:pt x="13596" y="368"/>
                </a:moveTo>
                <a:arcTo wR="10800" hR="10800" stAng="-4499619" swAng="4499619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0" name=""/>
              <p:cNvSpPr txBox="1"/>
              <p:nvPr/>
            </p:nvSpPr>
            <p:spPr>
              <a:xfrm>
                <a:off x="5796000" y="2205000"/>
                <a:ext cx="79200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01" name=""/>
          <p:cNvSpPr/>
          <p:nvPr/>
        </p:nvSpPr>
        <p:spPr>
          <a:xfrm>
            <a:off x="4541760" y="5877000"/>
            <a:ext cx="15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vers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500720" y="5589720"/>
            <a:ext cx="446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428720" y="292428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4" name=""/>
              <p:cNvSpPr txBox="1"/>
              <p:nvPr/>
            </p:nvSpPr>
            <p:spPr>
              <a:xfrm>
                <a:off x="6195960" y="5950080"/>
                <a:ext cx="251136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АОB</m:t>
                    </m:r>
                    <m:r>
                      <m:t xml:space="preserve">;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BO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5" name=""/>
          <p:cNvSpPr/>
          <p:nvPr/>
        </p:nvSpPr>
        <p:spPr>
          <a:xfrm>
            <a:off x="7152120" y="217440"/>
            <a:ext cx="176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Univers"/>
              </a:rPr>
              <a:t>Задача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>
            <a:hlinkClick r:id="rId7" action="ppaction://hlinksldjump"/>
          </p:cNvPr>
          <p:cNvSpPr/>
          <p:nvPr/>
        </p:nvSpPr>
        <p:spPr>
          <a:xfrm>
            <a:off x="395280" y="6021360"/>
            <a:ext cx="649440" cy="647640"/>
          </a:xfrm>
          <a:custGeom>
            <a:avLst/>
            <a:gdLst>
              <a:gd name="textAreaLeft" fmla="*/ 41760 w 649440"/>
              <a:gd name="textAreaRight" fmla="*/ 607680 w 6494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60" h="21600">
                <a:moveTo>
                  <a:pt x="0" y="0"/>
                </a:moveTo>
                <a:lnTo>
                  <a:pt x="21660" y="0"/>
                </a:lnTo>
                <a:lnTo>
                  <a:pt x="21660" y="21600"/>
                </a:lnTo>
                <a:lnTo>
                  <a:pt x="0" y="21600"/>
                </a:lnTo>
                <a:close/>
              </a:path>
              <a:path fill="lightenLess" w="21660" h="21600">
                <a:moveTo>
                  <a:pt x="0" y="0"/>
                </a:moveTo>
                <a:lnTo>
                  <a:pt x="21660" y="0"/>
                </a:lnTo>
                <a:lnTo>
                  <a:pt x="20260" y="1400"/>
                </a:lnTo>
                <a:lnTo>
                  <a:pt x="1400" y="1400"/>
                </a:lnTo>
                <a:close/>
              </a:path>
              <a:path fill="darken" w="21660" h="21600">
                <a:moveTo>
                  <a:pt x="21660" y="0"/>
                </a:moveTo>
                <a:lnTo>
                  <a:pt x="21660" y="21600"/>
                </a:lnTo>
                <a:lnTo>
                  <a:pt x="20260" y="20200"/>
                </a:lnTo>
                <a:lnTo>
                  <a:pt x="20260" y="1400"/>
                </a:lnTo>
                <a:close/>
              </a:path>
              <a:path fill="darkenLess" w="21660" h="21600">
                <a:moveTo>
                  <a:pt x="216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0" y="20200"/>
                </a:lnTo>
                <a:close/>
              </a:path>
              <a:path fill="lighten" w="216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0" h="21600">
                <a:moveTo>
                  <a:pt x="10830" y="3837"/>
                </a:moveTo>
                <a:lnTo>
                  <a:pt x="13406" y="6448"/>
                </a:lnTo>
                <a:lnTo>
                  <a:pt x="13406" y="4707"/>
                </a:lnTo>
                <a:lnTo>
                  <a:pt x="15182" y="4707"/>
                </a:lnTo>
                <a:lnTo>
                  <a:pt x="15182" y="8224"/>
                </a:lnTo>
                <a:lnTo>
                  <a:pt x="17793" y="10800"/>
                </a:lnTo>
                <a:lnTo>
                  <a:pt x="16139" y="10800"/>
                </a:lnTo>
                <a:lnTo>
                  <a:pt x="16139" y="17989"/>
                </a:lnTo>
                <a:lnTo>
                  <a:pt x="5521" y="17989"/>
                </a:lnTo>
                <a:lnTo>
                  <a:pt x="5521" y="10800"/>
                </a:lnTo>
                <a:lnTo>
                  <a:pt x="3867" y="10800"/>
                </a:lnTo>
                <a:close/>
              </a:path>
              <a:path fill="darkenLess" w="21660" h="21600">
                <a:moveTo>
                  <a:pt x="13406" y="6448"/>
                </a:moveTo>
                <a:lnTo>
                  <a:pt x="13406" y="4707"/>
                </a:lnTo>
                <a:lnTo>
                  <a:pt x="15182" y="4707"/>
                </a:lnTo>
                <a:lnTo>
                  <a:pt x="15182" y="8224"/>
                </a:lnTo>
                <a:close/>
              </a:path>
              <a:path fill="darkenLess" w="21660" h="21600">
                <a:moveTo>
                  <a:pt x="9907" y="14299"/>
                </a:moveTo>
                <a:lnTo>
                  <a:pt x="11753" y="14299"/>
                </a:lnTo>
                <a:lnTo>
                  <a:pt x="11753" y="17989"/>
                </a:lnTo>
                <a:lnTo>
                  <a:pt x="16139" y="17989"/>
                </a:lnTo>
                <a:lnTo>
                  <a:pt x="16139" y="10800"/>
                </a:lnTo>
                <a:lnTo>
                  <a:pt x="5521" y="10800"/>
                </a:lnTo>
                <a:lnTo>
                  <a:pt x="5521" y="17989"/>
                </a:lnTo>
                <a:lnTo>
                  <a:pt x="9907" y="17989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2dffd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4788000" y="3789360"/>
            <a:ext cx="36036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484360" y="568440"/>
            <a:ext cx="4967280" cy="3220920"/>
          </a:xfrm>
          <a:custGeom>
            <a:avLst/>
            <a:gdLst/>
            <a:ahLst/>
            <a:rect l="l" t="t" r="r" b="b"/>
            <a:pathLst>
              <a:path w="3129" h="2029">
                <a:moveTo>
                  <a:pt x="0" y="2029"/>
                </a:moveTo>
                <a:lnTo>
                  <a:pt x="3084" y="2029"/>
                </a:lnTo>
                <a:lnTo>
                  <a:pt x="3129" y="1802"/>
                </a:lnTo>
                <a:lnTo>
                  <a:pt x="3129" y="1666"/>
                </a:lnTo>
                <a:lnTo>
                  <a:pt x="3129" y="1484"/>
                </a:lnTo>
                <a:lnTo>
                  <a:pt x="3084" y="1303"/>
                </a:lnTo>
                <a:lnTo>
                  <a:pt x="3039" y="1076"/>
                </a:lnTo>
                <a:lnTo>
                  <a:pt x="2812" y="940"/>
                </a:lnTo>
                <a:cubicBezTo>
                  <a:pt x="2767" y="895"/>
                  <a:pt x="2714" y="856"/>
                  <a:pt x="2676" y="804"/>
                </a:cubicBezTo>
                <a:cubicBezTo>
                  <a:pt x="2668" y="793"/>
                  <a:pt x="2685" y="779"/>
                  <a:pt x="2685" y="766"/>
                </a:cubicBezTo>
                <a:cubicBezTo>
                  <a:pt x="2686" y="647"/>
                  <a:pt x="2678" y="408"/>
                  <a:pt x="2678" y="408"/>
                </a:cubicBezTo>
                <a:lnTo>
                  <a:pt x="2449" y="351"/>
                </a:lnTo>
                <a:lnTo>
                  <a:pt x="2041" y="214"/>
                </a:lnTo>
                <a:cubicBezTo>
                  <a:pt x="1965" y="199"/>
                  <a:pt x="1888" y="191"/>
                  <a:pt x="1814" y="169"/>
                </a:cubicBezTo>
                <a:cubicBezTo>
                  <a:pt x="1803" y="166"/>
                  <a:pt x="1800" y="150"/>
                  <a:pt x="1793" y="141"/>
                </a:cubicBezTo>
                <a:cubicBezTo>
                  <a:pt x="1769" y="108"/>
                  <a:pt x="1758" y="71"/>
                  <a:pt x="1729" y="42"/>
                </a:cubicBezTo>
                <a:cubicBezTo>
                  <a:pt x="1718" y="31"/>
                  <a:pt x="1706" y="23"/>
                  <a:pt x="1694" y="14"/>
                </a:cubicBezTo>
                <a:cubicBezTo>
                  <a:pt x="1687" y="9"/>
                  <a:pt x="1673" y="0"/>
                  <a:pt x="1673" y="0"/>
                </a:cubicBezTo>
                <a:lnTo>
                  <a:pt x="1270" y="33"/>
                </a:lnTo>
                <a:lnTo>
                  <a:pt x="952" y="124"/>
                </a:lnTo>
                <a:lnTo>
                  <a:pt x="771" y="260"/>
                </a:lnTo>
                <a:lnTo>
                  <a:pt x="453" y="487"/>
                </a:lnTo>
                <a:lnTo>
                  <a:pt x="408" y="623"/>
                </a:lnTo>
                <a:lnTo>
                  <a:pt x="317" y="849"/>
                </a:lnTo>
                <a:lnTo>
                  <a:pt x="181" y="1031"/>
                </a:lnTo>
                <a:lnTo>
                  <a:pt x="45" y="1258"/>
                </a:lnTo>
                <a:lnTo>
                  <a:pt x="0" y="1575"/>
                </a:lnTo>
                <a:lnTo>
                  <a:pt x="0" y="1893"/>
                </a:lnTo>
                <a:lnTo>
                  <a:pt x="0" y="1938"/>
                </a:lnTo>
                <a:lnTo>
                  <a:pt x="0" y="1983"/>
                </a:lnTo>
                <a:lnTo>
                  <a:pt x="0" y="2029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5ebf9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476440" y="3790800"/>
            <a:ext cx="489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780080" y="765000"/>
            <a:ext cx="0" cy="374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4780080" y="1846080"/>
            <a:ext cx="2089080" cy="19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flipH="1" flipV="1">
            <a:off x="2908080" y="1917360"/>
            <a:ext cx="1871640" cy="18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3" name=""/>
              <p:cNvSpPr txBox="1"/>
              <p:nvPr/>
            </p:nvSpPr>
            <p:spPr>
              <a:xfrm>
                <a:off x="3627360" y="3070080"/>
                <a:ext cx="39708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4" name=""/>
              <p:cNvSpPr txBox="1"/>
              <p:nvPr/>
            </p:nvSpPr>
            <p:spPr>
              <a:xfrm>
                <a:off x="4132440" y="2349360"/>
                <a:ext cx="4428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4924440" y="2349360"/>
                <a:ext cx="44280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6" name=""/>
              <p:cNvSpPr txBox="1"/>
              <p:nvPr/>
            </p:nvSpPr>
            <p:spPr>
              <a:xfrm>
                <a:off x="5838840" y="3070080"/>
                <a:ext cx="4428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7" name=""/>
          <p:cNvSpPr/>
          <p:nvPr/>
        </p:nvSpPr>
        <p:spPr>
          <a:xfrm>
            <a:off x="4285800" y="378936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269240" y="5761080"/>
            <a:ext cx="216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vers"/>
              </a:rPr>
              <a:t>Равны ли</a:t>
            </a:r>
            <a:r>
              <a:rPr b="1" lang="en-US" sz="2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356000" y="5589720"/>
            <a:ext cx="446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0" name=""/>
              <p:cNvSpPr txBox="1"/>
              <p:nvPr/>
            </p:nvSpPr>
            <p:spPr>
              <a:xfrm>
                <a:off x="6372360" y="5805360"/>
                <a:ext cx="57600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1" name=""/>
              <p:cNvSpPr txBox="1"/>
              <p:nvPr/>
            </p:nvSpPr>
            <p:spPr>
              <a:xfrm>
                <a:off x="7451640" y="5805360"/>
                <a:ext cx="60804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2" name=""/>
          <p:cNvSpPr/>
          <p:nvPr/>
        </p:nvSpPr>
        <p:spPr>
          <a:xfrm>
            <a:off x="7017480" y="5734080"/>
            <a:ext cx="53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vers"/>
              </a:rPr>
              <a:t>и</a:t>
            </a:r>
            <a:r>
              <a:rPr b="1" lang="en-US" sz="2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3995640" y="3284640"/>
            <a:ext cx="577440" cy="100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004360" y="3429000"/>
            <a:ext cx="288000" cy="72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flipV="1" rot="10548000">
            <a:off x="4291920" y="3050640"/>
            <a:ext cx="1005840" cy="431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110200" y="3284640"/>
            <a:ext cx="431280" cy="864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303" y="104"/>
                </a:moveTo>
                <a:arcTo wR="10800" hR="10800" stAng="-5878126" swAng="6662227"/>
                <a:lnTo>
                  <a:pt x="10800" y="10800"/>
                </a:lnTo>
                <a:close/>
              </a:path>
              <a:path fill="none" w="21600" h="21600">
                <a:moveTo>
                  <a:pt x="9303" y="104"/>
                </a:moveTo>
                <a:arcTo wR="10800" hR="10800" stAng="-5878126" swAng="6662227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4428000" y="3213000"/>
            <a:ext cx="720000" cy="4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283640" y="2997360"/>
            <a:ext cx="1008720" cy="57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8194680" y="5734080"/>
            <a:ext cx="44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Univers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125800" y="3213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270160" y="1989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213080" y="692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6229080" y="1268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237440" y="3213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7152120" y="217440"/>
            <a:ext cx="176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Univers"/>
              </a:rPr>
              <a:t>Задача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>
            <a:hlinkClick r:id="rId1" action="ppaction://hlinksldjump"/>
          </p:cNvPr>
          <p:cNvSpPr/>
          <p:nvPr/>
        </p:nvSpPr>
        <p:spPr>
          <a:xfrm>
            <a:off x="250920" y="5950080"/>
            <a:ext cx="649080" cy="64764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48" h="21600">
                <a:moveTo>
                  <a:pt x="0" y="0"/>
                </a:moveTo>
                <a:lnTo>
                  <a:pt x="21648" y="0"/>
                </a:lnTo>
                <a:lnTo>
                  <a:pt x="21648" y="21600"/>
                </a:lnTo>
                <a:lnTo>
                  <a:pt x="0" y="21600"/>
                </a:lnTo>
                <a:close/>
              </a:path>
              <a:path fill="lightenLess" w="21648" h="21600">
                <a:moveTo>
                  <a:pt x="0" y="0"/>
                </a:moveTo>
                <a:lnTo>
                  <a:pt x="21648" y="0"/>
                </a:lnTo>
                <a:lnTo>
                  <a:pt x="20248" y="1400"/>
                </a:lnTo>
                <a:lnTo>
                  <a:pt x="1400" y="1400"/>
                </a:lnTo>
                <a:close/>
              </a:path>
              <a:path fill="darken" w="21648" h="21600">
                <a:moveTo>
                  <a:pt x="21648" y="0"/>
                </a:moveTo>
                <a:lnTo>
                  <a:pt x="21648" y="21600"/>
                </a:lnTo>
                <a:lnTo>
                  <a:pt x="20248" y="20200"/>
                </a:lnTo>
                <a:lnTo>
                  <a:pt x="20248" y="1400"/>
                </a:lnTo>
                <a:close/>
              </a:path>
              <a:path fill="darkenLess" w="21648" h="21600">
                <a:moveTo>
                  <a:pt x="21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48" y="20200"/>
                </a:lnTo>
                <a:close/>
              </a:path>
              <a:path fill="lighten" w="21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48" h="21600">
                <a:moveTo>
                  <a:pt x="10824" y="3837"/>
                </a:moveTo>
                <a:lnTo>
                  <a:pt x="13400" y="6448"/>
                </a:lnTo>
                <a:lnTo>
                  <a:pt x="13400" y="4707"/>
                </a:lnTo>
                <a:lnTo>
                  <a:pt x="15176" y="4707"/>
                </a:lnTo>
                <a:lnTo>
                  <a:pt x="15176" y="8224"/>
                </a:lnTo>
                <a:lnTo>
                  <a:pt x="17787" y="10800"/>
                </a:lnTo>
                <a:lnTo>
                  <a:pt x="16133" y="10800"/>
                </a:lnTo>
                <a:lnTo>
                  <a:pt x="16133" y="17989"/>
                </a:lnTo>
                <a:lnTo>
                  <a:pt x="5515" y="17989"/>
                </a:lnTo>
                <a:lnTo>
                  <a:pt x="5515" y="10800"/>
                </a:lnTo>
                <a:lnTo>
                  <a:pt x="3861" y="10800"/>
                </a:lnTo>
                <a:close/>
              </a:path>
              <a:path fill="darkenLess" w="21648" h="21600">
                <a:moveTo>
                  <a:pt x="13400" y="6448"/>
                </a:moveTo>
                <a:lnTo>
                  <a:pt x="13400" y="4707"/>
                </a:lnTo>
                <a:lnTo>
                  <a:pt x="15176" y="4707"/>
                </a:lnTo>
                <a:lnTo>
                  <a:pt x="15176" y="8224"/>
                </a:lnTo>
                <a:close/>
              </a:path>
              <a:path fill="darkenLess" w="21648" h="21600">
                <a:moveTo>
                  <a:pt x="9901" y="14299"/>
                </a:moveTo>
                <a:lnTo>
                  <a:pt x="11747" y="14299"/>
                </a:lnTo>
                <a:lnTo>
                  <a:pt x="11747" y="17989"/>
                </a:lnTo>
                <a:lnTo>
                  <a:pt x="16133" y="17989"/>
                </a:lnTo>
                <a:lnTo>
                  <a:pt x="16133" y="10800"/>
                </a:lnTo>
                <a:lnTo>
                  <a:pt x="5515" y="10800"/>
                </a:lnTo>
                <a:lnTo>
                  <a:pt x="5515" y="17989"/>
                </a:lnTo>
                <a:lnTo>
                  <a:pt x="9901" y="17989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2dffd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684360" y="155520"/>
            <a:ext cx="3665520" cy="3546360"/>
          </a:xfrm>
          <a:custGeom>
            <a:avLst/>
            <a:gdLst/>
            <a:ahLst/>
            <a:rect l="l" t="t" r="r" b="b"/>
            <a:pathLst>
              <a:path w="2309" h="2234">
                <a:moveTo>
                  <a:pt x="89" y="2234"/>
                </a:moveTo>
                <a:lnTo>
                  <a:pt x="2301" y="2234"/>
                </a:lnTo>
                <a:lnTo>
                  <a:pt x="2309" y="780"/>
                </a:lnTo>
                <a:lnTo>
                  <a:pt x="2301" y="0"/>
                </a:lnTo>
                <a:lnTo>
                  <a:pt x="644" y="274"/>
                </a:lnTo>
                <a:lnTo>
                  <a:pt x="812" y="176"/>
                </a:lnTo>
                <a:lnTo>
                  <a:pt x="503" y="366"/>
                </a:lnTo>
                <a:lnTo>
                  <a:pt x="533" y="745"/>
                </a:lnTo>
                <a:lnTo>
                  <a:pt x="442" y="871"/>
                </a:lnTo>
                <a:lnTo>
                  <a:pt x="625" y="668"/>
                </a:lnTo>
                <a:lnTo>
                  <a:pt x="442" y="731"/>
                </a:lnTo>
                <a:lnTo>
                  <a:pt x="0" y="1609"/>
                </a:lnTo>
              </a:path>
            </a:pathLst>
          </a:custGeom>
          <a:blipFill rotWithShape="0">
            <a:blip r:embed="rId1">
              <a:alphaModFix amt="69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044800" y="3718080"/>
            <a:ext cx="489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348080" y="1628640"/>
            <a:ext cx="1944720" cy="2087640"/>
          </a:xfrm>
          <a:custGeom>
            <a:avLst/>
            <a:gdLst/>
            <a:ahLst/>
            <a:rect l="l" t="t" r="r" b="b"/>
            <a:pathLst>
              <a:path w="1225" h="1315">
                <a:moveTo>
                  <a:pt x="0" y="136"/>
                </a:moveTo>
                <a:lnTo>
                  <a:pt x="0" y="1315"/>
                </a:lnTo>
                <a:lnTo>
                  <a:pt x="1225" y="181"/>
                </a:lnTo>
                <a:lnTo>
                  <a:pt x="1089" y="90"/>
                </a:lnTo>
                <a:lnTo>
                  <a:pt x="907" y="45"/>
                </a:lnTo>
                <a:lnTo>
                  <a:pt x="635" y="0"/>
                </a:lnTo>
                <a:lnTo>
                  <a:pt x="408" y="0"/>
                </a:lnTo>
                <a:lnTo>
                  <a:pt x="318" y="0"/>
                </a:lnTo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348080" y="692280"/>
            <a:ext cx="0" cy="374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4348080" y="1844640"/>
            <a:ext cx="2952720" cy="1873440"/>
          </a:xfrm>
          <a:custGeom>
            <a:avLst/>
            <a:gdLst/>
            <a:ahLst/>
            <a:rect l="l" t="t" r="r" b="b"/>
            <a:pathLst>
              <a:path w="1815" h="1180">
                <a:moveTo>
                  <a:pt x="1270" y="0"/>
                </a:moveTo>
                <a:lnTo>
                  <a:pt x="0" y="1180"/>
                </a:lnTo>
                <a:lnTo>
                  <a:pt x="1633" y="1180"/>
                </a:lnTo>
                <a:lnTo>
                  <a:pt x="1815" y="953"/>
                </a:lnTo>
                <a:lnTo>
                  <a:pt x="1769" y="817"/>
                </a:lnTo>
                <a:lnTo>
                  <a:pt x="1815" y="590"/>
                </a:lnTo>
                <a:lnTo>
                  <a:pt x="1769" y="454"/>
                </a:lnTo>
                <a:lnTo>
                  <a:pt x="1633" y="408"/>
                </a:lnTo>
                <a:lnTo>
                  <a:pt x="1724" y="272"/>
                </a:lnTo>
                <a:lnTo>
                  <a:pt x="1542" y="136"/>
                </a:lnTo>
                <a:lnTo>
                  <a:pt x="1542" y="91"/>
                </a:lnTo>
              </a:path>
            </a:pathLst>
          </a:custGeom>
          <a:blipFill rotWithShape="0">
            <a:blip r:embed="rId3">
              <a:alphaModFix amt="82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4348080" y="1773360"/>
            <a:ext cx="2089080" cy="19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356000" y="3716280"/>
            <a:ext cx="36036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4500720" y="2421000"/>
                <a:ext cx="3981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5148360" y="3068640"/>
                <a:ext cx="4428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6" name=""/>
          <p:cNvSpPr/>
          <p:nvPr/>
        </p:nvSpPr>
        <p:spPr>
          <a:xfrm>
            <a:off x="1405080" y="3716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781440" y="9079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157800" y="1125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878520" y="3068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4499640" y="3284640"/>
            <a:ext cx="576720" cy="862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rot="20005800">
            <a:off x="4250880" y="2966040"/>
            <a:ext cx="576720" cy="862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92720" y="5589720"/>
            <a:ext cx="3598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3" name=""/>
              <p:cNvSpPr txBox="1"/>
              <p:nvPr/>
            </p:nvSpPr>
            <p:spPr>
              <a:xfrm>
                <a:off x="6804000" y="5805360"/>
                <a:ext cx="124956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АОС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4" name=""/>
          <p:cNvSpPr/>
          <p:nvPr/>
        </p:nvSpPr>
        <p:spPr>
          <a:xfrm>
            <a:off x="3709440" y="378936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5189400" y="5734080"/>
            <a:ext cx="15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vers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7152120" y="217440"/>
            <a:ext cx="176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Univers"/>
              </a:rPr>
              <a:t>Задача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>
            <a:hlinkClick r:id="rId4" action="ppaction://hlinksldjump"/>
          </p:cNvPr>
          <p:cNvSpPr/>
          <p:nvPr/>
        </p:nvSpPr>
        <p:spPr>
          <a:xfrm>
            <a:off x="250920" y="5950080"/>
            <a:ext cx="649080" cy="64764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48" h="21600">
                <a:moveTo>
                  <a:pt x="0" y="0"/>
                </a:moveTo>
                <a:lnTo>
                  <a:pt x="21648" y="0"/>
                </a:lnTo>
                <a:lnTo>
                  <a:pt x="21648" y="21600"/>
                </a:lnTo>
                <a:lnTo>
                  <a:pt x="0" y="21600"/>
                </a:lnTo>
                <a:close/>
              </a:path>
              <a:path fill="lightenLess" w="21648" h="21600">
                <a:moveTo>
                  <a:pt x="0" y="0"/>
                </a:moveTo>
                <a:lnTo>
                  <a:pt x="21648" y="0"/>
                </a:lnTo>
                <a:lnTo>
                  <a:pt x="20248" y="1400"/>
                </a:lnTo>
                <a:lnTo>
                  <a:pt x="1400" y="1400"/>
                </a:lnTo>
                <a:close/>
              </a:path>
              <a:path fill="darken" w="21648" h="21600">
                <a:moveTo>
                  <a:pt x="21648" y="0"/>
                </a:moveTo>
                <a:lnTo>
                  <a:pt x="21648" y="21600"/>
                </a:lnTo>
                <a:lnTo>
                  <a:pt x="20248" y="20200"/>
                </a:lnTo>
                <a:lnTo>
                  <a:pt x="20248" y="1400"/>
                </a:lnTo>
                <a:close/>
              </a:path>
              <a:path fill="darkenLess" w="21648" h="21600">
                <a:moveTo>
                  <a:pt x="21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48" y="20200"/>
                </a:lnTo>
                <a:close/>
              </a:path>
              <a:path fill="lighten" w="21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48" h="21600">
                <a:moveTo>
                  <a:pt x="10824" y="3837"/>
                </a:moveTo>
                <a:lnTo>
                  <a:pt x="13400" y="6448"/>
                </a:lnTo>
                <a:lnTo>
                  <a:pt x="13400" y="4707"/>
                </a:lnTo>
                <a:lnTo>
                  <a:pt x="15176" y="4707"/>
                </a:lnTo>
                <a:lnTo>
                  <a:pt x="15176" y="8224"/>
                </a:lnTo>
                <a:lnTo>
                  <a:pt x="17787" y="10800"/>
                </a:lnTo>
                <a:lnTo>
                  <a:pt x="16133" y="10800"/>
                </a:lnTo>
                <a:lnTo>
                  <a:pt x="16133" y="17989"/>
                </a:lnTo>
                <a:lnTo>
                  <a:pt x="5515" y="17989"/>
                </a:lnTo>
                <a:lnTo>
                  <a:pt x="5515" y="10800"/>
                </a:lnTo>
                <a:lnTo>
                  <a:pt x="3861" y="10800"/>
                </a:lnTo>
                <a:close/>
              </a:path>
              <a:path fill="darkenLess" w="21648" h="21600">
                <a:moveTo>
                  <a:pt x="13400" y="6448"/>
                </a:moveTo>
                <a:lnTo>
                  <a:pt x="13400" y="4707"/>
                </a:lnTo>
                <a:lnTo>
                  <a:pt x="15176" y="4707"/>
                </a:lnTo>
                <a:lnTo>
                  <a:pt x="15176" y="8224"/>
                </a:lnTo>
                <a:close/>
              </a:path>
              <a:path fill="darkenLess" w="21648" h="21600">
                <a:moveTo>
                  <a:pt x="9901" y="14299"/>
                </a:moveTo>
                <a:lnTo>
                  <a:pt x="11747" y="14299"/>
                </a:lnTo>
                <a:lnTo>
                  <a:pt x="11747" y="17989"/>
                </a:lnTo>
                <a:lnTo>
                  <a:pt x="16133" y="17989"/>
                </a:lnTo>
                <a:lnTo>
                  <a:pt x="16133" y="10800"/>
                </a:lnTo>
                <a:lnTo>
                  <a:pt x="5515" y="10800"/>
                </a:lnTo>
                <a:lnTo>
                  <a:pt x="5515" y="17989"/>
                </a:lnTo>
                <a:lnTo>
                  <a:pt x="9901" y="17989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2dffd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4356000" y="692280"/>
            <a:ext cx="2613240" cy="3024000"/>
          </a:xfrm>
          <a:custGeom>
            <a:avLst/>
            <a:gdLst/>
            <a:ahLst/>
            <a:rect l="l" t="t" r="r" b="b"/>
            <a:pathLst>
              <a:path w="1646" h="1905">
                <a:moveTo>
                  <a:pt x="0" y="0"/>
                </a:moveTo>
                <a:lnTo>
                  <a:pt x="0" y="1905"/>
                </a:lnTo>
                <a:lnTo>
                  <a:pt x="1633" y="1905"/>
                </a:lnTo>
                <a:lnTo>
                  <a:pt x="1588" y="1633"/>
                </a:lnTo>
                <a:lnTo>
                  <a:pt x="1633" y="1543"/>
                </a:lnTo>
                <a:lnTo>
                  <a:pt x="1633" y="1452"/>
                </a:lnTo>
                <a:lnTo>
                  <a:pt x="1633" y="1270"/>
                </a:lnTo>
                <a:lnTo>
                  <a:pt x="1633" y="1180"/>
                </a:lnTo>
                <a:lnTo>
                  <a:pt x="1633" y="953"/>
                </a:lnTo>
                <a:cubicBezTo>
                  <a:pt x="1628" y="916"/>
                  <a:pt x="1618" y="879"/>
                  <a:pt x="1618" y="842"/>
                </a:cubicBezTo>
                <a:cubicBezTo>
                  <a:pt x="1618" y="753"/>
                  <a:pt x="1646" y="677"/>
                  <a:pt x="1646" y="590"/>
                </a:cubicBezTo>
                <a:lnTo>
                  <a:pt x="1588" y="454"/>
                </a:lnTo>
                <a:lnTo>
                  <a:pt x="1361" y="273"/>
                </a:lnTo>
                <a:lnTo>
                  <a:pt x="1179" y="182"/>
                </a:lnTo>
                <a:lnTo>
                  <a:pt x="862" y="136"/>
                </a:lnTo>
                <a:lnTo>
                  <a:pt x="454" y="46"/>
                </a:lnTo>
                <a:lnTo>
                  <a:pt x="181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99">
                  <a:alpha val="71372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319480" y="235080"/>
            <a:ext cx="2030400" cy="3477960"/>
          </a:xfrm>
          <a:custGeom>
            <a:avLst/>
            <a:gdLst/>
            <a:ahLst/>
            <a:rect l="l" t="t" r="r" b="b"/>
            <a:pathLst>
              <a:path w="1279" h="2191">
                <a:moveTo>
                  <a:pt x="49" y="913"/>
                </a:moveTo>
                <a:lnTo>
                  <a:pt x="1271" y="2191"/>
                </a:lnTo>
                <a:lnTo>
                  <a:pt x="1279" y="14"/>
                </a:lnTo>
                <a:lnTo>
                  <a:pt x="1054" y="0"/>
                </a:lnTo>
                <a:lnTo>
                  <a:pt x="660" y="42"/>
                </a:lnTo>
                <a:lnTo>
                  <a:pt x="183" y="133"/>
                </a:lnTo>
                <a:lnTo>
                  <a:pt x="105" y="351"/>
                </a:lnTo>
                <a:lnTo>
                  <a:pt x="0" y="611"/>
                </a:lnTo>
              </a:path>
            </a:pathLst>
          </a:custGeom>
          <a:blipFill rotWithShape="0">
            <a:blip r:embed="rId1">
              <a:alphaModFix amt="44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356000" y="3716280"/>
            <a:ext cx="25844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348080" y="692280"/>
            <a:ext cx="0" cy="374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4348080" y="1773360"/>
            <a:ext cx="2089080" cy="19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4356000" y="3716280"/>
            <a:ext cx="36036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3492360" y="2205000"/>
                <a:ext cx="79236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65" name=""/>
          <p:cNvSpPr/>
          <p:nvPr/>
        </p:nvSpPr>
        <p:spPr>
          <a:xfrm>
            <a:off x="2125800" y="1844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781440" y="9079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6157800" y="1125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6878520" y="3068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356000" y="3716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411280" y="1700280"/>
            <a:ext cx="1944720" cy="20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930920" y="2924280"/>
            <a:ext cx="577440" cy="158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492720" y="2637000"/>
            <a:ext cx="1726560" cy="57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709440" y="36450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508720" y="5589720"/>
            <a:ext cx="3166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5" name=""/>
              <p:cNvSpPr txBox="1"/>
              <p:nvPr/>
            </p:nvSpPr>
            <p:spPr>
              <a:xfrm>
                <a:off x="7236000" y="5877000"/>
                <a:ext cx="122364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АОС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6" name=""/>
          <p:cNvSpPr/>
          <p:nvPr/>
        </p:nvSpPr>
        <p:spPr>
          <a:xfrm>
            <a:off x="5621400" y="5805360"/>
            <a:ext cx="15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vers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7152120" y="217440"/>
            <a:ext cx="176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Univers"/>
              </a:rPr>
              <a:t>Задача 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>
            <a:hlinkClick r:id="rId2" action="ppaction://hlinksldjump"/>
          </p:cNvPr>
          <p:cNvSpPr/>
          <p:nvPr/>
        </p:nvSpPr>
        <p:spPr>
          <a:xfrm>
            <a:off x="250920" y="5950080"/>
            <a:ext cx="649080" cy="64764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48" h="21600">
                <a:moveTo>
                  <a:pt x="0" y="0"/>
                </a:moveTo>
                <a:lnTo>
                  <a:pt x="21648" y="0"/>
                </a:lnTo>
                <a:lnTo>
                  <a:pt x="21648" y="21600"/>
                </a:lnTo>
                <a:lnTo>
                  <a:pt x="0" y="21600"/>
                </a:lnTo>
                <a:close/>
              </a:path>
              <a:path fill="lightenLess" w="21648" h="21600">
                <a:moveTo>
                  <a:pt x="0" y="0"/>
                </a:moveTo>
                <a:lnTo>
                  <a:pt x="21648" y="0"/>
                </a:lnTo>
                <a:lnTo>
                  <a:pt x="20248" y="1400"/>
                </a:lnTo>
                <a:lnTo>
                  <a:pt x="1400" y="1400"/>
                </a:lnTo>
                <a:close/>
              </a:path>
              <a:path fill="darken" w="21648" h="21600">
                <a:moveTo>
                  <a:pt x="21648" y="0"/>
                </a:moveTo>
                <a:lnTo>
                  <a:pt x="21648" y="21600"/>
                </a:lnTo>
                <a:lnTo>
                  <a:pt x="20248" y="20200"/>
                </a:lnTo>
                <a:lnTo>
                  <a:pt x="20248" y="1400"/>
                </a:lnTo>
                <a:close/>
              </a:path>
              <a:path fill="darkenLess" w="21648" h="21600">
                <a:moveTo>
                  <a:pt x="21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48" y="20200"/>
                </a:lnTo>
                <a:close/>
              </a:path>
              <a:path fill="lighten" w="21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48" h="21600">
                <a:moveTo>
                  <a:pt x="10824" y="3837"/>
                </a:moveTo>
                <a:lnTo>
                  <a:pt x="13400" y="6448"/>
                </a:lnTo>
                <a:lnTo>
                  <a:pt x="13400" y="4707"/>
                </a:lnTo>
                <a:lnTo>
                  <a:pt x="15176" y="4707"/>
                </a:lnTo>
                <a:lnTo>
                  <a:pt x="15176" y="8224"/>
                </a:lnTo>
                <a:lnTo>
                  <a:pt x="17787" y="10800"/>
                </a:lnTo>
                <a:lnTo>
                  <a:pt x="16133" y="10800"/>
                </a:lnTo>
                <a:lnTo>
                  <a:pt x="16133" y="17989"/>
                </a:lnTo>
                <a:lnTo>
                  <a:pt x="5515" y="17989"/>
                </a:lnTo>
                <a:lnTo>
                  <a:pt x="5515" y="10800"/>
                </a:lnTo>
                <a:lnTo>
                  <a:pt x="3861" y="10800"/>
                </a:lnTo>
                <a:close/>
              </a:path>
              <a:path fill="darkenLess" w="21648" h="21600">
                <a:moveTo>
                  <a:pt x="13400" y="6448"/>
                </a:moveTo>
                <a:lnTo>
                  <a:pt x="13400" y="4707"/>
                </a:lnTo>
                <a:lnTo>
                  <a:pt x="15176" y="4707"/>
                </a:lnTo>
                <a:lnTo>
                  <a:pt x="15176" y="8224"/>
                </a:lnTo>
                <a:close/>
              </a:path>
              <a:path fill="darkenLess" w="21648" h="21600">
                <a:moveTo>
                  <a:pt x="9901" y="14299"/>
                </a:moveTo>
                <a:lnTo>
                  <a:pt x="11747" y="14299"/>
                </a:lnTo>
                <a:lnTo>
                  <a:pt x="11747" y="17989"/>
                </a:lnTo>
                <a:lnTo>
                  <a:pt x="16133" y="17989"/>
                </a:lnTo>
                <a:lnTo>
                  <a:pt x="16133" y="10800"/>
                </a:lnTo>
                <a:lnTo>
                  <a:pt x="5515" y="10800"/>
                </a:lnTo>
                <a:lnTo>
                  <a:pt x="5515" y="17989"/>
                </a:lnTo>
                <a:lnTo>
                  <a:pt x="9901" y="17989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2dffd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3995640" y="2421000"/>
            <a:ext cx="647640" cy="647640"/>
            <a:chOff x="3995640" y="2421000"/>
            <a:chExt cx="647640" cy="647640"/>
          </a:xfrm>
        </p:grpSpPr>
        <p:sp>
          <p:nvSpPr>
            <p:cNvPr id="169" name=""/>
            <p:cNvSpPr/>
            <p:nvPr/>
          </p:nvSpPr>
          <p:spPr>
            <a:xfrm>
              <a:off x="3995640" y="2421000"/>
              <a:ext cx="647640" cy="647640"/>
            </a:xfrm>
            <a:custGeom>
              <a:avLst/>
              <a:gdLst>
                <a:gd name="textAreaLeft" fmla="*/ 41760 w 647640"/>
                <a:gd name="textAreaRight" fmla="*/ 605880 w 647640"/>
                <a:gd name="textAreaTop" fmla="*/ 41760 h 647640"/>
                <a:gd name="textAreaBottom" fmla="*/ 6058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54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>
              <a:hlinkClick r:id="rId1" action="ppaction://hlinksldjump"/>
            </p:cNvPr>
            <p:cNvSpPr/>
            <p:nvPr/>
          </p:nvSpPr>
          <p:spPr>
            <a:xfrm>
              <a:off x="4138560" y="249228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bf7ff"/>
                  </a:solidFill>
                  <a:latin typeface="Verdana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859280" y="2421000"/>
            <a:ext cx="647640" cy="647640"/>
            <a:chOff x="4859280" y="2421000"/>
            <a:chExt cx="647640" cy="647640"/>
          </a:xfrm>
        </p:grpSpPr>
        <p:sp>
          <p:nvSpPr>
            <p:cNvPr id="172" name=""/>
            <p:cNvSpPr/>
            <p:nvPr/>
          </p:nvSpPr>
          <p:spPr>
            <a:xfrm>
              <a:off x="4859280" y="2421000"/>
              <a:ext cx="647640" cy="647640"/>
            </a:xfrm>
            <a:custGeom>
              <a:avLst/>
              <a:gdLst>
                <a:gd name="textAreaLeft" fmla="*/ 41760 w 647640"/>
                <a:gd name="textAreaRight" fmla="*/ 605880 w 647640"/>
                <a:gd name="textAreaTop" fmla="*/ 41760 h 647640"/>
                <a:gd name="textAreaBottom" fmla="*/ 6058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54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>
              <a:hlinkClick r:id="rId2" action="ppaction://hlinksldjump"/>
            </p:cNvPr>
            <p:cNvSpPr/>
            <p:nvPr/>
          </p:nvSpPr>
          <p:spPr>
            <a:xfrm>
              <a:off x="5002200" y="249228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bf7ff"/>
                  </a:solidFill>
                  <a:latin typeface="Verdana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5724360" y="2421000"/>
            <a:ext cx="647640" cy="647640"/>
            <a:chOff x="5724360" y="2421000"/>
            <a:chExt cx="647640" cy="647640"/>
          </a:xfrm>
        </p:grpSpPr>
        <p:sp>
          <p:nvSpPr>
            <p:cNvPr id="175" name=""/>
            <p:cNvSpPr/>
            <p:nvPr/>
          </p:nvSpPr>
          <p:spPr>
            <a:xfrm>
              <a:off x="5724360" y="2421000"/>
              <a:ext cx="647640" cy="647640"/>
            </a:xfrm>
            <a:custGeom>
              <a:avLst/>
              <a:gdLst>
                <a:gd name="textAreaLeft" fmla="*/ 41760 w 647640"/>
                <a:gd name="textAreaRight" fmla="*/ 605880 w 647640"/>
                <a:gd name="textAreaTop" fmla="*/ 41760 h 647640"/>
                <a:gd name="textAreaBottom" fmla="*/ 6058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54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>
              <a:hlinkClick r:id="rId3" action="ppaction://hlinksldjump"/>
            </p:cNvPr>
            <p:cNvSpPr/>
            <p:nvPr/>
          </p:nvSpPr>
          <p:spPr>
            <a:xfrm>
              <a:off x="5867280" y="249228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bf7ff"/>
                  </a:solidFill>
                  <a:latin typeface="Verdana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6588000" y="2421000"/>
            <a:ext cx="647640" cy="647640"/>
            <a:chOff x="6588000" y="2421000"/>
            <a:chExt cx="647640" cy="647640"/>
          </a:xfrm>
        </p:grpSpPr>
        <p:sp>
          <p:nvSpPr>
            <p:cNvPr id="178" name=""/>
            <p:cNvSpPr/>
            <p:nvPr/>
          </p:nvSpPr>
          <p:spPr>
            <a:xfrm>
              <a:off x="6588000" y="2421000"/>
              <a:ext cx="647640" cy="647640"/>
            </a:xfrm>
            <a:custGeom>
              <a:avLst/>
              <a:gdLst>
                <a:gd name="textAreaLeft" fmla="*/ 41760 w 647640"/>
                <a:gd name="textAreaRight" fmla="*/ 605880 w 647640"/>
                <a:gd name="textAreaTop" fmla="*/ 41760 h 647640"/>
                <a:gd name="textAreaBottom" fmla="*/ 6058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54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>
              <a:hlinkClick r:id="rId4" action="ppaction://hlinksldjump"/>
            </p:cNvPr>
            <p:cNvSpPr/>
            <p:nvPr/>
          </p:nvSpPr>
          <p:spPr>
            <a:xfrm>
              <a:off x="6730920" y="249228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bf7ff"/>
                  </a:solidFill>
                  <a:latin typeface="Verdana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3995640" y="3213000"/>
            <a:ext cx="647640" cy="647640"/>
            <a:chOff x="3995640" y="3213000"/>
            <a:chExt cx="647640" cy="647640"/>
          </a:xfrm>
        </p:grpSpPr>
        <p:sp>
          <p:nvSpPr>
            <p:cNvPr id="181" name=""/>
            <p:cNvSpPr/>
            <p:nvPr/>
          </p:nvSpPr>
          <p:spPr>
            <a:xfrm>
              <a:off x="3995640" y="3213000"/>
              <a:ext cx="647640" cy="647640"/>
            </a:xfrm>
            <a:custGeom>
              <a:avLst/>
              <a:gdLst>
                <a:gd name="textAreaLeft" fmla="*/ 41760 w 647640"/>
                <a:gd name="textAreaRight" fmla="*/ 605880 w 647640"/>
                <a:gd name="textAreaTop" fmla="*/ 41760 h 647640"/>
                <a:gd name="textAreaBottom" fmla="*/ 6058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54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>
              <a:hlinkClick r:id="rId5" action="ppaction://hlinksldjump"/>
            </p:cNvPr>
            <p:cNvSpPr/>
            <p:nvPr/>
          </p:nvSpPr>
          <p:spPr>
            <a:xfrm>
              <a:off x="4138560" y="328428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bf7ff"/>
                  </a:solidFill>
                  <a:latin typeface="Verdana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4859280" y="3213000"/>
            <a:ext cx="647640" cy="647640"/>
            <a:chOff x="4859280" y="3213000"/>
            <a:chExt cx="647640" cy="647640"/>
          </a:xfrm>
        </p:grpSpPr>
        <p:sp>
          <p:nvSpPr>
            <p:cNvPr id="184" name=""/>
            <p:cNvSpPr/>
            <p:nvPr/>
          </p:nvSpPr>
          <p:spPr>
            <a:xfrm>
              <a:off x="4859280" y="3213000"/>
              <a:ext cx="647640" cy="647640"/>
            </a:xfrm>
            <a:custGeom>
              <a:avLst/>
              <a:gdLst>
                <a:gd name="textAreaLeft" fmla="*/ 41760 w 647640"/>
                <a:gd name="textAreaRight" fmla="*/ 605880 w 647640"/>
                <a:gd name="textAreaTop" fmla="*/ 41760 h 647640"/>
                <a:gd name="textAreaBottom" fmla="*/ 6058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54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>
              <a:hlinkClick r:id="rId6" action="ppaction://hlinksldjump"/>
            </p:cNvPr>
            <p:cNvSpPr/>
            <p:nvPr/>
          </p:nvSpPr>
          <p:spPr>
            <a:xfrm>
              <a:off x="5002200" y="328428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bf7ff"/>
                  </a:solidFill>
                  <a:latin typeface="Verdana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"/>
          <p:cNvSpPr txBox="1"/>
          <p:nvPr/>
        </p:nvSpPr>
        <p:spPr>
          <a:xfrm>
            <a:off x="1116000" y="765000"/>
            <a:ext cx="66247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edfad2"/>
                  </a:solidFill>
                  <a:miter/>
                </a:ln>
                <a:solidFill>
                  <a:srgbClr val="54007e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Cмежные и  вертикальные углы</a:t>
            </a:r>
            <a:endParaRPr b="1" lang="en-US" sz="1800" spc="1" strike="noStrike">
              <a:ln w="9360">
                <a:solidFill>
                  <a:srgbClr val="edfad2"/>
                </a:solidFill>
                <a:miter/>
              </a:ln>
              <a:solidFill>
                <a:srgbClr val="54007e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451640" y="2421000"/>
            <a:ext cx="647640" cy="647640"/>
            <a:chOff x="7451640" y="2421000"/>
            <a:chExt cx="647640" cy="647640"/>
          </a:xfrm>
        </p:grpSpPr>
        <p:sp>
          <p:nvSpPr>
            <p:cNvPr id="188" name=""/>
            <p:cNvSpPr/>
            <p:nvPr/>
          </p:nvSpPr>
          <p:spPr>
            <a:xfrm>
              <a:off x="7451640" y="2421000"/>
              <a:ext cx="647640" cy="647640"/>
            </a:xfrm>
            <a:custGeom>
              <a:avLst/>
              <a:gdLst>
                <a:gd name="textAreaLeft" fmla="*/ 41760 w 647640"/>
                <a:gd name="textAreaRight" fmla="*/ 605880 w 647640"/>
                <a:gd name="textAreaTop" fmla="*/ 41760 h 647640"/>
                <a:gd name="textAreaBottom" fmla="*/ 6058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54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>
              <a:hlinkClick r:id="rId7" action="ppaction://hlinksldjump"/>
            </p:cNvPr>
            <p:cNvSpPr/>
            <p:nvPr/>
          </p:nvSpPr>
          <p:spPr>
            <a:xfrm>
              <a:off x="7594560" y="249228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bf7ff"/>
                  </a:solidFill>
                  <a:latin typeface="Verdana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5724360" y="3213000"/>
            <a:ext cx="647640" cy="647640"/>
            <a:chOff x="5724360" y="3213000"/>
            <a:chExt cx="647640" cy="647640"/>
          </a:xfrm>
        </p:grpSpPr>
        <p:sp>
          <p:nvSpPr>
            <p:cNvPr id="191" name=""/>
            <p:cNvSpPr/>
            <p:nvPr/>
          </p:nvSpPr>
          <p:spPr>
            <a:xfrm>
              <a:off x="5724360" y="3213000"/>
              <a:ext cx="647640" cy="647640"/>
            </a:xfrm>
            <a:custGeom>
              <a:avLst/>
              <a:gdLst>
                <a:gd name="textAreaLeft" fmla="*/ 41760 w 647640"/>
                <a:gd name="textAreaRight" fmla="*/ 605880 w 647640"/>
                <a:gd name="textAreaTop" fmla="*/ 41760 h 647640"/>
                <a:gd name="textAreaBottom" fmla="*/ 6058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54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>
              <a:hlinkClick r:id="rId8" action="ppaction://hlinksldjump"/>
            </p:cNvPr>
            <p:cNvSpPr/>
            <p:nvPr/>
          </p:nvSpPr>
          <p:spPr>
            <a:xfrm>
              <a:off x="5867280" y="328428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bf7ff"/>
                  </a:solidFill>
                  <a:latin typeface="Verdana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6588000" y="3213000"/>
            <a:ext cx="647640" cy="647640"/>
            <a:chOff x="6588000" y="3213000"/>
            <a:chExt cx="647640" cy="647640"/>
          </a:xfrm>
        </p:grpSpPr>
        <p:sp>
          <p:nvSpPr>
            <p:cNvPr id="194" name=""/>
            <p:cNvSpPr/>
            <p:nvPr/>
          </p:nvSpPr>
          <p:spPr>
            <a:xfrm>
              <a:off x="6588000" y="3213000"/>
              <a:ext cx="647640" cy="647640"/>
            </a:xfrm>
            <a:custGeom>
              <a:avLst/>
              <a:gdLst>
                <a:gd name="textAreaLeft" fmla="*/ 41760 w 647640"/>
                <a:gd name="textAreaRight" fmla="*/ 605880 w 647640"/>
                <a:gd name="textAreaTop" fmla="*/ 41760 h 647640"/>
                <a:gd name="textAreaBottom" fmla="*/ 6058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54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>
              <a:hlinkClick r:id="rId9" action="ppaction://hlinksldjump"/>
            </p:cNvPr>
            <p:cNvSpPr/>
            <p:nvPr/>
          </p:nvSpPr>
          <p:spPr>
            <a:xfrm>
              <a:off x="6730920" y="328428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bf7ff"/>
                  </a:solidFill>
                  <a:latin typeface="Verdana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451640" y="3213000"/>
            <a:ext cx="647640" cy="647640"/>
            <a:chOff x="7451640" y="3213000"/>
            <a:chExt cx="647640" cy="647640"/>
          </a:xfrm>
        </p:grpSpPr>
        <p:sp>
          <p:nvSpPr>
            <p:cNvPr id="197" name=""/>
            <p:cNvSpPr/>
            <p:nvPr/>
          </p:nvSpPr>
          <p:spPr>
            <a:xfrm>
              <a:off x="7451640" y="3213000"/>
              <a:ext cx="647640" cy="647640"/>
            </a:xfrm>
            <a:custGeom>
              <a:avLst/>
              <a:gdLst>
                <a:gd name="textAreaLeft" fmla="*/ 41760 w 647640"/>
                <a:gd name="textAreaRight" fmla="*/ 605880 w 647640"/>
                <a:gd name="textAreaTop" fmla="*/ 41760 h 647640"/>
                <a:gd name="textAreaBottom" fmla="*/ 6058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54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>
              <a:hlinkClick r:id="rId10" action="ppaction://hlinksldjump"/>
            </p:cNvPr>
            <p:cNvSpPr/>
            <p:nvPr/>
          </p:nvSpPr>
          <p:spPr>
            <a:xfrm>
              <a:off x="7522920" y="3355920"/>
              <a:ext cx="57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bf7ff"/>
                  </a:solidFill>
                  <a:latin typeface="Verdana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995640" y="4005360"/>
            <a:ext cx="647640" cy="647640"/>
            <a:chOff x="3995640" y="4005360"/>
            <a:chExt cx="647640" cy="647640"/>
          </a:xfrm>
        </p:grpSpPr>
        <p:sp>
          <p:nvSpPr>
            <p:cNvPr id="200" name=""/>
            <p:cNvSpPr/>
            <p:nvPr/>
          </p:nvSpPr>
          <p:spPr>
            <a:xfrm>
              <a:off x="3995640" y="4005360"/>
              <a:ext cx="647640" cy="647640"/>
            </a:xfrm>
            <a:custGeom>
              <a:avLst/>
              <a:gdLst>
                <a:gd name="textAreaLeft" fmla="*/ 41760 w 647640"/>
                <a:gd name="textAreaRight" fmla="*/ 605880 w 647640"/>
                <a:gd name="textAreaTop" fmla="*/ 41760 h 647640"/>
                <a:gd name="textAreaBottom" fmla="*/ 6058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54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>
              <a:hlinkClick r:id="rId11" action="ppaction://hlinksldjump"/>
            </p:cNvPr>
            <p:cNvSpPr/>
            <p:nvPr/>
          </p:nvSpPr>
          <p:spPr>
            <a:xfrm>
              <a:off x="4066920" y="4148280"/>
              <a:ext cx="57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bf7ff"/>
                  </a:solidFill>
                  <a:latin typeface="Verdana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4859280" y="4005360"/>
            <a:ext cx="647640" cy="647640"/>
            <a:chOff x="4859280" y="4005360"/>
            <a:chExt cx="647640" cy="647640"/>
          </a:xfrm>
        </p:grpSpPr>
        <p:sp>
          <p:nvSpPr>
            <p:cNvPr id="203" name=""/>
            <p:cNvSpPr/>
            <p:nvPr/>
          </p:nvSpPr>
          <p:spPr>
            <a:xfrm>
              <a:off x="4859280" y="4005360"/>
              <a:ext cx="647640" cy="647640"/>
            </a:xfrm>
            <a:custGeom>
              <a:avLst/>
              <a:gdLst>
                <a:gd name="textAreaLeft" fmla="*/ 41760 w 647640"/>
                <a:gd name="textAreaRight" fmla="*/ 605880 w 647640"/>
                <a:gd name="textAreaTop" fmla="*/ 41760 h 647640"/>
                <a:gd name="textAreaBottom" fmla="*/ 6058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54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>
              <a:hlinkClick r:id="rId12" action="ppaction://hlinksldjump"/>
            </p:cNvPr>
            <p:cNvSpPr/>
            <p:nvPr/>
          </p:nvSpPr>
          <p:spPr>
            <a:xfrm>
              <a:off x="4930560" y="4148280"/>
              <a:ext cx="57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bf7ff"/>
                  </a:solidFill>
                  <a:latin typeface="Verdana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5724360" y="4005360"/>
            <a:ext cx="647640" cy="647640"/>
            <a:chOff x="5724360" y="4005360"/>
            <a:chExt cx="647640" cy="647640"/>
          </a:xfrm>
        </p:grpSpPr>
        <p:sp>
          <p:nvSpPr>
            <p:cNvPr id="206" name=""/>
            <p:cNvSpPr/>
            <p:nvPr/>
          </p:nvSpPr>
          <p:spPr>
            <a:xfrm>
              <a:off x="5724360" y="4005360"/>
              <a:ext cx="647640" cy="647640"/>
            </a:xfrm>
            <a:custGeom>
              <a:avLst/>
              <a:gdLst>
                <a:gd name="textAreaLeft" fmla="*/ 41760 w 647640"/>
                <a:gd name="textAreaRight" fmla="*/ 605880 w 647640"/>
                <a:gd name="textAreaTop" fmla="*/ 41760 h 647640"/>
                <a:gd name="textAreaBottom" fmla="*/ 6058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54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>
              <a:hlinkClick r:id="rId13" action="ppaction://hlinksldjump"/>
            </p:cNvPr>
            <p:cNvSpPr/>
            <p:nvPr/>
          </p:nvSpPr>
          <p:spPr>
            <a:xfrm>
              <a:off x="5795640" y="4148280"/>
              <a:ext cx="57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bf7ff"/>
                  </a:solidFill>
                  <a:latin typeface="Verdana"/>
                </a:rPr>
                <a:t>1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6588000" y="4005360"/>
            <a:ext cx="647640" cy="647640"/>
            <a:chOff x="6588000" y="4005360"/>
            <a:chExt cx="647640" cy="647640"/>
          </a:xfrm>
        </p:grpSpPr>
        <p:sp>
          <p:nvSpPr>
            <p:cNvPr id="209" name=""/>
            <p:cNvSpPr/>
            <p:nvPr/>
          </p:nvSpPr>
          <p:spPr>
            <a:xfrm>
              <a:off x="6588000" y="4005360"/>
              <a:ext cx="647640" cy="647640"/>
            </a:xfrm>
            <a:custGeom>
              <a:avLst/>
              <a:gdLst>
                <a:gd name="textAreaLeft" fmla="*/ 41760 w 647640"/>
                <a:gd name="textAreaRight" fmla="*/ 605880 w 647640"/>
                <a:gd name="textAreaTop" fmla="*/ 41760 h 647640"/>
                <a:gd name="textAreaBottom" fmla="*/ 6058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54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659280" y="4148280"/>
              <a:ext cx="57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bf7ff"/>
                  </a:solidFill>
                  <a:latin typeface="Verdana"/>
                </a:rPr>
                <a:t>1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7451640" y="4005360"/>
            <a:ext cx="647640" cy="647640"/>
            <a:chOff x="7451640" y="4005360"/>
            <a:chExt cx="647640" cy="647640"/>
          </a:xfrm>
        </p:grpSpPr>
        <p:sp>
          <p:nvSpPr>
            <p:cNvPr id="212" name=""/>
            <p:cNvSpPr/>
            <p:nvPr/>
          </p:nvSpPr>
          <p:spPr>
            <a:xfrm>
              <a:off x="7451640" y="4005360"/>
              <a:ext cx="647640" cy="647640"/>
            </a:xfrm>
            <a:custGeom>
              <a:avLst/>
              <a:gdLst>
                <a:gd name="textAreaLeft" fmla="*/ 41760 w 647640"/>
                <a:gd name="textAreaRight" fmla="*/ 605880 w 647640"/>
                <a:gd name="textAreaTop" fmla="*/ 41760 h 647640"/>
                <a:gd name="textAreaBottom" fmla="*/ 6058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54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522920" y="4148280"/>
              <a:ext cx="57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bf7ff"/>
                  </a:solidFill>
                  <a:latin typeface="Verdana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3995640" y="4797360"/>
            <a:ext cx="647640" cy="647640"/>
            <a:chOff x="3995640" y="4797360"/>
            <a:chExt cx="647640" cy="647640"/>
          </a:xfrm>
        </p:grpSpPr>
        <p:sp>
          <p:nvSpPr>
            <p:cNvPr id="215" name=""/>
            <p:cNvSpPr/>
            <p:nvPr/>
          </p:nvSpPr>
          <p:spPr>
            <a:xfrm>
              <a:off x="3995640" y="4797360"/>
              <a:ext cx="647640" cy="647640"/>
            </a:xfrm>
            <a:custGeom>
              <a:avLst/>
              <a:gdLst>
                <a:gd name="textAreaLeft" fmla="*/ 41760 w 647640"/>
                <a:gd name="textAreaRight" fmla="*/ 605880 w 647640"/>
                <a:gd name="textAreaTop" fmla="*/ 41760 h 647640"/>
                <a:gd name="textAreaBottom" fmla="*/ 6058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54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066920" y="4940280"/>
              <a:ext cx="57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bf7ff"/>
                  </a:solidFill>
                  <a:latin typeface="Verdana"/>
                </a:rPr>
                <a:t>1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4859280" y="4797360"/>
            <a:ext cx="647640" cy="647640"/>
            <a:chOff x="4859280" y="4797360"/>
            <a:chExt cx="647640" cy="647640"/>
          </a:xfrm>
        </p:grpSpPr>
        <p:sp>
          <p:nvSpPr>
            <p:cNvPr id="218" name=""/>
            <p:cNvSpPr/>
            <p:nvPr/>
          </p:nvSpPr>
          <p:spPr>
            <a:xfrm>
              <a:off x="4859280" y="4797360"/>
              <a:ext cx="647640" cy="647640"/>
            </a:xfrm>
            <a:custGeom>
              <a:avLst/>
              <a:gdLst>
                <a:gd name="textAreaLeft" fmla="*/ 41760 w 647640"/>
                <a:gd name="textAreaRight" fmla="*/ 605880 w 647640"/>
                <a:gd name="textAreaTop" fmla="*/ 41760 h 647640"/>
                <a:gd name="textAreaBottom" fmla="*/ 6058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54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30560" y="4940280"/>
              <a:ext cx="57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bf7ff"/>
                  </a:solidFill>
                  <a:latin typeface="Verdana"/>
                </a:rPr>
                <a:t>1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5724360" y="4797360"/>
            <a:ext cx="647640" cy="647640"/>
            <a:chOff x="5724360" y="4797360"/>
            <a:chExt cx="647640" cy="647640"/>
          </a:xfrm>
        </p:grpSpPr>
        <p:sp>
          <p:nvSpPr>
            <p:cNvPr id="221" name=""/>
            <p:cNvSpPr/>
            <p:nvPr/>
          </p:nvSpPr>
          <p:spPr>
            <a:xfrm>
              <a:off x="5724360" y="4797360"/>
              <a:ext cx="647640" cy="647640"/>
            </a:xfrm>
            <a:custGeom>
              <a:avLst/>
              <a:gdLst>
                <a:gd name="textAreaLeft" fmla="*/ 41760 w 647640"/>
                <a:gd name="textAreaRight" fmla="*/ 605880 w 647640"/>
                <a:gd name="textAreaTop" fmla="*/ 41760 h 647640"/>
                <a:gd name="textAreaBottom" fmla="*/ 6058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54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95640" y="4940280"/>
              <a:ext cx="57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bf7ff"/>
                  </a:solidFill>
                  <a:latin typeface="Verdana"/>
                </a:rPr>
                <a:t>1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6588000" y="4797360"/>
            <a:ext cx="647640" cy="647640"/>
            <a:chOff x="6588000" y="4797360"/>
            <a:chExt cx="647640" cy="647640"/>
          </a:xfrm>
        </p:grpSpPr>
        <p:sp>
          <p:nvSpPr>
            <p:cNvPr id="224" name=""/>
            <p:cNvSpPr/>
            <p:nvPr/>
          </p:nvSpPr>
          <p:spPr>
            <a:xfrm>
              <a:off x="6588000" y="4797360"/>
              <a:ext cx="647640" cy="647640"/>
            </a:xfrm>
            <a:custGeom>
              <a:avLst/>
              <a:gdLst>
                <a:gd name="textAreaLeft" fmla="*/ 41760 w 647640"/>
                <a:gd name="textAreaRight" fmla="*/ 605880 w 647640"/>
                <a:gd name="textAreaTop" fmla="*/ 41760 h 647640"/>
                <a:gd name="textAreaBottom" fmla="*/ 6058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54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659280" y="4940280"/>
              <a:ext cx="57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bf7ff"/>
                  </a:solidFill>
                  <a:latin typeface="Verdana"/>
                </a:rPr>
                <a:t>1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7451640" y="4797360"/>
            <a:ext cx="647640" cy="647640"/>
            <a:chOff x="7451640" y="4797360"/>
            <a:chExt cx="647640" cy="647640"/>
          </a:xfrm>
        </p:grpSpPr>
        <p:sp>
          <p:nvSpPr>
            <p:cNvPr id="227" name=""/>
            <p:cNvSpPr/>
            <p:nvPr/>
          </p:nvSpPr>
          <p:spPr>
            <a:xfrm>
              <a:off x="7451640" y="4797360"/>
              <a:ext cx="647640" cy="647640"/>
            </a:xfrm>
            <a:custGeom>
              <a:avLst/>
              <a:gdLst>
                <a:gd name="textAreaLeft" fmla="*/ 41760 w 647640"/>
                <a:gd name="textAreaRight" fmla="*/ 605880 w 647640"/>
                <a:gd name="textAreaTop" fmla="*/ 41760 h 647640"/>
                <a:gd name="textAreaBottom" fmla="*/ 6058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54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522920" y="4940280"/>
              <a:ext cx="57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bf7ff"/>
                  </a:solidFill>
                  <a:latin typeface="Verdana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3995640" y="5661000"/>
            <a:ext cx="647640" cy="647640"/>
            <a:chOff x="3995640" y="5661000"/>
            <a:chExt cx="647640" cy="647640"/>
          </a:xfrm>
        </p:grpSpPr>
        <p:sp>
          <p:nvSpPr>
            <p:cNvPr id="230" name=""/>
            <p:cNvSpPr/>
            <p:nvPr/>
          </p:nvSpPr>
          <p:spPr>
            <a:xfrm>
              <a:off x="3995640" y="5661000"/>
              <a:ext cx="647640" cy="647640"/>
            </a:xfrm>
            <a:custGeom>
              <a:avLst/>
              <a:gdLst>
                <a:gd name="textAreaLeft" fmla="*/ 41760 w 647640"/>
                <a:gd name="textAreaRight" fmla="*/ 605880 w 647640"/>
                <a:gd name="textAreaTop" fmla="*/ 41760 h 647640"/>
                <a:gd name="textAreaBottom" fmla="*/ 6058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54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066920" y="5803920"/>
              <a:ext cx="57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bf7ff"/>
                  </a:solidFill>
                  <a:latin typeface="Verdana"/>
                </a:rPr>
                <a:t>2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4859280" y="5734080"/>
            <a:ext cx="3241800" cy="576360"/>
          </a:xfrm>
          <a:custGeom>
            <a:avLst/>
            <a:gdLst>
              <a:gd name="textAreaLeft" fmla="*/ 37080 w 3241800"/>
              <a:gd name="textAreaRight" fmla="*/ 3204720 w 32418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21429" h="21600">
                <a:moveTo>
                  <a:pt x="0" y="0"/>
                </a:moveTo>
                <a:lnTo>
                  <a:pt x="121429" y="0"/>
                </a:lnTo>
                <a:lnTo>
                  <a:pt x="121429" y="21600"/>
                </a:lnTo>
                <a:lnTo>
                  <a:pt x="0" y="21600"/>
                </a:lnTo>
                <a:close/>
              </a:path>
              <a:path fill="lightenLess" w="121429" h="21600">
                <a:moveTo>
                  <a:pt x="0" y="0"/>
                </a:moveTo>
                <a:lnTo>
                  <a:pt x="121429" y="0"/>
                </a:lnTo>
                <a:lnTo>
                  <a:pt x="120029" y="1400"/>
                </a:lnTo>
                <a:lnTo>
                  <a:pt x="1400" y="1400"/>
                </a:lnTo>
                <a:close/>
              </a:path>
              <a:path fill="darken" w="121429" h="21600">
                <a:moveTo>
                  <a:pt x="121429" y="0"/>
                </a:moveTo>
                <a:lnTo>
                  <a:pt x="121429" y="21600"/>
                </a:lnTo>
                <a:lnTo>
                  <a:pt x="120029" y="20200"/>
                </a:lnTo>
                <a:lnTo>
                  <a:pt x="120029" y="1400"/>
                </a:lnTo>
                <a:close/>
              </a:path>
              <a:path fill="darkenLess" w="121429" h="21600">
                <a:moveTo>
                  <a:pt x="1214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0029" y="20200"/>
                </a:lnTo>
                <a:close/>
              </a:path>
              <a:path fill="lighten" w="1214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>
              <a:alpha val="41000"/>
            </a:srgbClr>
          </a:solidFill>
          <a:ln w="38160">
            <a:solidFill>
              <a:srgbClr val="5400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00a2"/>
                </a:solidFill>
                <a:latin typeface="Verdana"/>
              </a:rPr>
              <a:t>Литера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2697120" y="1119240"/>
            <a:ext cx="4392720" cy="2233440"/>
          </a:xfrm>
          <a:custGeom>
            <a:avLst/>
            <a:gdLst/>
            <a:ahLst/>
            <a:rect l="l" t="t" r="r" b="b"/>
            <a:pathLst>
              <a:path w="2132" h="1044">
                <a:moveTo>
                  <a:pt x="0" y="1044"/>
                </a:moveTo>
                <a:lnTo>
                  <a:pt x="2132" y="1044"/>
                </a:lnTo>
                <a:lnTo>
                  <a:pt x="1452" y="0"/>
                </a:lnTo>
                <a:lnTo>
                  <a:pt x="0" y="104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6ffff">
                  <a:alpha val="44313"/>
                </a:srgbClr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969840" y="3352680"/>
            <a:ext cx="7274160" cy="5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557440" y="3429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1042920" y="1125360"/>
            <a:ext cx="4629240" cy="3451320"/>
          </a:xfrm>
          <a:custGeom>
            <a:avLst/>
            <a:gdLst/>
            <a:ahLst/>
            <a:rect l="l" t="t" r="r" b="b"/>
            <a:pathLst>
              <a:path w="2916" h="2174">
                <a:moveTo>
                  <a:pt x="2916" y="0"/>
                </a:moveTo>
                <a:lnTo>
                  <a:pt x="0" y="217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365800" y="476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949800" y="3429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 flipH="1" rot="3640800">
            <a:off x="6176520" y="2539080"/>
            <a:ext cx="182880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341" y="964"/>
                </a:moveTo>
                <a:arcTo wR="10800" hR="10800" stAng="-6863191" swAng="6832293"/>
                <a:lnTo>
                  <a:pt x="10800" y="10800"/>
                </a:lnTo>
                <a:close/>
              </a:path>
              <a:path fill="none" w="21600" h="21600">
                <a:moveTo>
                  <a:pt x="6341" y="964"/>
                </a:moveTo>
                <a:arcTo wR="10800" hR="10800" stAng="-6863191" swAng="6832293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V="1" rot="7710000">
            <a:off x="1149480" y="2814480"/>
            <a:ext cx="1728720" cy="1874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615" y="373"/>
                </a:moveTo>
                <a:arcTo wR="10800" hR="10800" stAng="-4493448" swAng="3917528"/>
                <a:lnTo>
                  <a:pt x="10800" y="10800"/>
                </a:lnTo>
                <a:close/>
              </a:path>
              <a:path fill="none" w="21600" h="21600">
                <a:moveTo>
                  <a:pt x="13615" y="373"/>
                </a:moveTo>
                <a:arcTo wR="10800" hR="10800" stAng="-4493448" swAng="3917528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7" name=""/>
              <p:cNvSpPr txBox="1"/>
              <p:nvPr/>
            </p:nvSpPr>
            <p:spPr>
              <a:xfrm>
                <a:off x="1692360" y="3429000"/>
                <a:ext cx="34272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8" name=""/>
              <p:cNvSpPr txBox="1"/>
              <p:nvPr/>
            </p:nvSpPr>
            <p:spPr>
              <a:xfrm>
                <a:off x="7093080" y="2781360"/>
                <a:ext cx="38088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9" name=""/>
              <p:cNvSpPr txBox="1"/>
              <p:nvPr/>
            </p:nvSpPr>
            <p:spPr>
              <a:xfrm>
                <a:off x="3400560" y="2762280"/>
                <a:ext cx="38088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0" name=""/>
              <p:cNvSpPr txBox="1"/>
              <p:nvPr/>
            </p:nvSpPr>
            <p:spPr>
              <a:xfrm>
                <a:off x="6281640" y="2781360"/>
                <a:ext cx="38124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91" name=""/>
          <p:cNvGrpSpPr/>
          <p:nvPr/>
        </p:nvGrpSpPr>
        <p:grpSpPr>
          <a:xfrm>
            <a:off x="4397760" y="5157720"/>
            <a:ext cx="4493880" cy="1373760"/>
            <a:chOff x="4397760" y="5157720"/>
            <a:chExt cx="4493880" cy="1373760"/>
          </a:xfrm>
        </p:grpSpPr>
        <p:sp>
          <p:nvSpPr>
            <p:cNvPr id="592" name=""/>
            <p:cNvSpPr/>
            <p:nvPr/>
          </p:nvSpPr>
          <p:spPr>
            <a:xfrm>
              <a:off x="4427640" y="5805720"/>
              <a:ext cx="4464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3" name=""/>
            <p:cNvGrpSpPr/>
            <p:nvPr/>
          </p:nvGrpSpPr>
          <p:grpSpPr>
            <a:xfrm>
              <a:off x="4397760" y="5157720"/>
              <a:ext cx="4222440" cy="1373760"/>
              <a:chOff x="4397760" y="5157720"/>
              <a:chExt cx="4222440" cy="1373760"/>
            </a:xfrm>
          </p:grpSpPr>
          <mc:AlternateContent>
            <mc:Choice xmlns:a14="http://schemas.microsoft.com/office/drawing/2010/main" Requires="a14">
              <p:sp>
                <p:nvSpPr>
                  <p:cNvPr id="594" name=""/>
                  <p:cNvSpPr txBox="1"/>
                  <p:nvPr/>
                </p:nvSpPr>
                <p:spPr>
                  <a:xfrm>
                    <a:off x="4499280" y="5157720"/>
                    <a:ext cx="1677960" cy="594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∠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57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;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595" name=""/>
                  <p:cNvSpPr txBox="1"/>
                  <p:nvPr/>
                </p:nvSpPr>
                <p:spPr>
                  <a:xfrm>
                    <a:off x="6804360" y="5157720"/>
                    <a:ext cx="1800000" cy="543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∠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8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596" name=""/>
              <p:cNvSpPr/>
              <p:nvPr/>
            </p:nvSpPr>
            <p:spPr>
              <a:xfrm>
                <a:off x="4397760" y="5950080"/>
                <a:ext cx="2201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Univers"/>
                  </a:rPr>
                  <a:t>Сравните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97" name=""/>
                  <p:cNvSpPr txBox="1"/>
                  <p:nvPr/>
                </p:nvSpPr>
                <p:spPr>
                  <a:xfrm>
                    <a:off x="6444000" y="5950080"/>
                    <a:ext cx="736560" cy="541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∠</m:t>
                        </m:r>
                        <m:r>
                          <m:t xml:space="preserve">3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598" name=""/>
                  <p:cNvSpPr txBox="1"/>
                  <p:nvPr/>
                </p:nvSpPr>
                <p:spPr>
                  <a:xfrm>
                    <a:off x="7883640" y="5950080"/>
                    <a:ext cx="736560" cy="503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∠</m:t>
                        </m:r>
                        <m:r>
                          <m:t xml:space="preserve">4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599" name=""/>
              <p:cNvSpPr/>
              <p:nvPr/>
            </p:nvSpPr>
            <p:spPr>
              <a:xfrm>
                <a:off x="7364520" y="5950080"/>
                <a:ext cx="442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Univers"/>
                  </a:rPr>
                  <a:t>и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0" name=""/>
          <p:cNvSpPr/>
          <p:nvPr/>
        </p:nvSpPr>
        <p:spPr>
          <a:xfrm flipV="1" rot="7710000">
            <a:off x="1325880" y="2795040"/>
            <a:ext cx="1727280" cy="1874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615" y="373"/>
                </a:moveTo>
                <a:arcTo wR="10800" hR="10800" stAng="-4493448" swAng="3705873"/>
                <a:lnTo>
                  <a:pt x="10800" y="10800"/>
                </a:lnTo>
                <a:close/>
              </a:path>
              <a:path fill="none" w="21600" h="21600">
                <a:moveTo>
                  <a:pt x="13615" y="373"/>
                </a:moveTo>
                <a:arcTo wR="10800" hR="10800" stAng="-4493448" swAng="3705873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7152120" y="217440"/>
            <a:ext cx="176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Univers"/>
              </a:rPr>
              <a:t>Задача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>
            <a:hlinkClick r:id="rId1" action="ppaction://hlinksldjump"/>
          </p:cNvPr>
          <p:cNvSpPr/>
          <p:nvPr/>
        </p:nvSpPr>
        <p:spPr>
          <a:xfrm>
            <a:off x="250920" y="5950080"/>
            <a:ext cx="649080" cy="64764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48" h="21600">
                <a:moveTo>
                  <a:pt x="0" y="0"/>
                </a:moveTo>
                <a:lnTo>
                  <a:pt x="21648" y="0"/>
                </a:lnTo>
                <a:lnTo>
                  <a:pt x="21648" y="21600"/>
                </a:lnTo>
                <a:lnTo>
                  <a:pt x="0" y="21600"/>
                </a:lnTo>
                <a:close/>
              </a:path>
              <a:path fill="lightenLess" w="21648" h="21600">
                <a:moveTo>
                  <a:pt x="0" y="0"/>
                </a:moveTo>
                <a:lnTo>
                  <a:pt x="21648" y="0"/>
                </a:lnTo>
                <a:lnTo>
                  <a:pt x="20248" y="1400"/>
                </a:lnTo>
                <a:lnTo>
                  <a:pt x="1400" y="1400"/>
                </a:lnTo>
                <a:close/>
              </a:path>
              <a:path fill="darken" w="21648" h="21600">
                <a:moveTo>
                  <a:pt x="21648" y="0"/>
                </a:moveTo>
                <a:lnTo>
                  <a:pt x="21648" y="21600"/>
                </a:lnTo>
                <a:lnTo>
                  <a:pt x="20248" y="20200"/>
                </a:lnTo>
                <a:lnTo>
                  <a:pt x="20248" y="1400"/>
                </a:lnTo>
                <a:close/>
              </a:path>
              <a:path fill="darkenLess" w="21648" h="21600">
                <a:moveTo>
                  <a:pt x="21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48" y="20200"/>
                </a:lnTo>
                <a:close/>
              </a:path>
              <a:path fill="lighten" w="21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48" h="21600">
                <a:moveTo>
                  <a:pt x="10824" y="3837"/>
                </a:moveTo>
                <a:lnTo>
                  <a:pt x="13400" y="6448"/>
                </a:lnTo>
                <a:lnTo>
                  <a:pt x="13400" y="4707"/>
                </a:lnTo>
                <a:lnTo>
                  <a:pt x="15176" y="4707"/>
                </a:lnTo>
                <a:lnTo>
                  <a:pt x="15176" y="8224"/>
                </a:lnTo>
                <a:lnTo>
                  <a:pt x="17787" y="10800"/>
                </a:lnTo>
                <a:lnTo>
                  <a:pt x="16133" y="10800"/>
                </a:lnTo>
                <a:lnTo>
                  <a:pt x="16133" y="17989"/>
                </a:lnTo>
                <a:lnTo>
                  <a:pt x="5515" y="17989"/>
                </a:lnTo>
                <a:lnTo>
                  <a:pt x="5515" y="10800"/>
                </a:lnTo>
                <a:lnTo>
                  <a:pt x="3861" y="10800"/>
                </a:lnTo>
                <a:close/>
              </a:path>
              <a:path fill="darkenLess" w="21648" h="21600">
                <a:moveTo>
                  <a:pt x="13400" y="6448"/>
                </a:moveTo>
                <a:lnTo>
                  <a:pt x="13400" y="4707"/>
                </a:lnTo>
                <a:lnTo>
                  <a:pt x="15176" y="4707"/>
                </a:lnTo>
                <a:lnTo>
                  <a:pt x="15176" y="8224"/>
                </a:lnTo>
                <a:close/>
              </a:path>
              <a:path fill="darkenLess" w="21648" h="21600">
                <a:moveTo>
                  <a:pt x="9901" y="14299"/>
                </a:moveTo>
                <a:lnTo>
                  <a:pt x="11747" y="14299"/>
                </a:lnTo>
                <a:lnTo>
                  <a:pt x="11747" y="17989"/>
                </a:lnTo>
                <a:lnTo>
                  <a:pt x="16133" y="17989"/>
                </a:lnTo>
                <a:lnTo>
                  <a:pt x="16133" y="10800"/>
                </a:lnTo>
                <a:lnTo>
                  <a:pt x="5515" y="10800"/>
                </a:lnTo>
                <a:lnTo>
                  <a:pt x="5515" y="17989"/>
                </a:lnTo>
                <a:lnTo>
                  <a:pt x="9901" y="17989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2dffd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3132000" y="1052640"/>
            <a:ext cx="3961080" cy="23749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cc99ff">
                  <a:alpha val="76078"/>
                </a:srgbClr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547640" y="3429000"/>
            <a:ext cx="705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5" name=""/>
              <p:cNvSpPr txBox="1"/>
              <p:nvPr/>
            </p:nvSpPr>
            <p:spPr>
              <a:xfrm>
                <a:off x="2843280" y="2781360"/>
                <a:ext cx="39852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6" name=""/>
              <p:cNvSpPr txBox="1"/>
              <p:nvPr/>
            </p:nvSpPr>
            <p:spPr>
              <a:xfrm>
                <a:off x="7020000" y="2781360"/>
                <a:ext cx="4428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7" name=""/>
              <p:cNvSpPr txBox="1"/>
              <p:nvPr/>
            </p:nvSpPr>
            <p:spPr>
              <a:xfrm>
                <a:off x="3564000" y="2781360"/>
                <a:ext cx="41112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8" name=""/>
              <p:cNvSpPr txBox="1"/>
              <p:nvPr/>
            </p:nvSpPr>
            <p:spPr>
              <a:xfrm>
                <a:off x="6227640" y="2781360"/>
                <a:ext cx="4431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9" name=""/>
          <p:cNvSpPr/>
          <p:nvPr/>
        </p:nvSpPr>
        <p:spPr>
          <a:xfrm>
            <a:off x="2846520" y="3429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005440" y="476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878520" y="3429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5745240" y="2492280"/>
            <a:ext cx="182844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256" y="598"/>
                </a:moveTo>
                <a:arcTo wR="10800" hR="10800" stAng="-6549305" swAng="6549305"/>
                <a:lnTo>
                  <a:pt x="10800" y="10800"/>
                </a:lnTo>
                <a:close/>
              </a:path>
              <a:path fill="none" w="21600" h="21600">
                <a:moveTo>
                  <a:pt x="7256" y="598"/>
                </a:moveTo>
                <a:arcTo wR="10800" hR="10800" stAng="-6549305" swAng="6549305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 flipH="1">
            <a:off x="2555640" y="2565360"/>
            <a:ext cx="182772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256" y="598"/>
                </a:moveTo>
                <a:arcTo wR="10800" hR="10800" stAng="-6549305" swAng="6378071"/>
                <a:lnTo>
                  <a:pt x="10800" y="10800"/>
                </a:lnTo>
                <a:close/>
              </a:path>
              <a:path fill="none" w="21600" h="21600">
                <a:moveTo>
                  <a:pt x="7256" y="598"/>
                </a:moveTo>
                <a:arcTo wR="10800" hR="10800" stAng="-6549305" swAng="6378071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284720" y="5805360"/>
            <a:ext cx="446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5" name=""/>
              <p:cNvSpPr txBox="1"/>
              <p:nvPr/>
            </p:nvSpPr>
            <p:spPr>
              <a:xfrm>
                <a:off x="4284720" y="5157720"/>
                <a:ext cx="151272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6" name=""/>
              <p:cNvSpPr txBox="1"/>
              <p:nvPr/>
            </p:nvSpPr>
            <p:spPr>
              <a:xfrm>
                <a:off x="7308720" y="5229360"/>
                <a:ext cx="30636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17" name=""/>
          <p:cNvSpPr/>
          <p:nvPr/>
        </p:nvSpPr>
        <p:spPr>
          <a:xfrm>
            <a:off x="4132800" y="6093000"/>
            <a:ext cx="304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vers"/>
              </a:rPr>
              <a:t>Докажите, ч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8" name=""/>
              <p:cNvSpPr txBox="1"/>
              <p:nvPr/>
            </p:nvSpPr>
            <p:spPr>
              <a:xfrm>
                <a:off x="7093080" y="6093000"/>
                <a:ext cx="172692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9" name=""/>
          <p:cNvSpPr/>
          <p:nvPr/>
        </p:nvSpPr>
        <p:spPr>
          <a:xfrm>
            <a:off x="7152120" y="217440"/>
            <a:ext cx="176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Univers"/>
              </a:rPr>
              <a:t>Задача 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>
            <a:hlinkClick r:id="rId1" action="ppaction://hlinksldjump"/>
          </p:cNvPr>
          <p:cNvSpPr/>
          <p:nvPr/>
        </p:nvSpPr>
        <p:spPr>
          <a:xfrm>
            <a:off x="250920" y="5950080"/>
            <a:ext cx="649080" cy="64764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48" h="21600">
                <a:moveTo>
                  <a:pt x="0" y="0"/>
                </a:moveTo>
                <a:lnTo>
                  <a:pt x="21648" y="0"/>
                </a:lnTo>
                <a:lnTo>
                  <a:pt x="21648" y="21600"/>
                </a:lnTo>
                <a:lnTo>
                  <a:pt x="0" y="21600"/>
                </a:lnTo>
                <a:close/>
              </a:path>
              <a:path fill="lightenLess" w="21648" h="21600">
                <a:moveTo>
                  <a:pt x="0" y="0"/>
                </a:moveTo>
                <a:lnTo>
                  <a:pt x="21648" y="0"/>
                </a:lnTo>
                <a:lnTo>
                  <a:pt x="20248" y="1400"/>
                </a:lnTo>
                <a:lnTo>
                  <a:pt x="1400" y="1400"/>
                </a:lnTo>
                <a:close/>
              </a:path>
              <a:path fill="darken" w="21648" h="21600">
                <a:moveTo>
                  <a:pt x="21648" y="0"/>
                </a:moveTo>
                <a:lnTo>
                  <a:pt x="21648" y="21600"/>
                </a:lnTo>
                <a:lnTo>
                  <a:pt x="20248" y="20200"/>
                </a:lnTo>
                <a:lnTo>
                  <a:pt x="20248" y="1400"/>
                </a:lnTo>
                <a:close/>
              </a:path>
              <a:path fill="darkenLess" w="21648" h="21600">
                <a:moveTo>
                  <a:pt x="21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48" y="20200"/>
                </a:lnTo>
                <a:close/>
              </a:path>
              <a:path fill="lighten" w="21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48" h="21600">
                <a:moveTo>
                  <a:pt x="10824" y="3837"/>
                </a:moveTo>
                <a:lnTo>
                  <a:pt x="13400" y="6448"/>
                </a:lnTo>
                <a:lnTo>
                  <a:pt x="13400" y="4707"/>
                </a:lnTo>
                <a:lnTo>
                  <a:pt x="15176" y="4707"/>
                </a:lnTo>
                <a:lnTo>
                  <a:pt x="15176" y="8224"/>
                </a:lnTo>
                <a:lnTo>
                  <a:pt x="17787" y="10800"/>
                </a:lnTo>
                <a:lnTo>
                  <a:pt x="16133" y="10800"/>
                </a:lnTo>
                <a:lnTo>
                  <a:pt x="16133" y="17989"/>
                </a:lnTo>
                <a:lnTo>
                  <a:pt x="5515" y="17989"/>
                </a:lnTo>
                <a:lnTo>
                  <a:pt x="5515" y="10800"/>
                </a:lnTo>
                <a:lnTo>
                  <a:pt x="3861" y="10800"/>
                </a:lnTo>
                <a:close/>
              </a:path>
              <a:path fill="darkenLess" w="21648" h="21600">
                <a:moveTo>
                  <a:pt x="13400" y="6448"/>
                </a:moveTo>
                <a:lnTo>
                  <a:pt x="13400" y="4707"/>
                </a:lnTo>
                <a:lnTo>
                  <a:pt x="15176" y="4707"/>
                </a:lnTo>
                <a:lnTo>
                  <a:pt x="15176" y="8224"/>
                </a:lnTo>
                <a:close/>
              </a:path>
              <a:path fill="darkenLess" w="21648" h="21600">
                <a:moveTo>
                  <a:pt x="9901" y="14299"/>
                </a:moveTo>
                <a:lnTo>
                  <a:pt x="11747" y="14299"/>
                </a:lnTo>
                <a:lnTo>
                  <a:pt x="11747" y="17989"/>
                </a:lnTo>
                <a:lnTo>
                  <a:pt x="16133" y="17989"/>
                </a:lnTo>
                <a:lnTo>
                  <a:pt x="16133" y="10800"/>
                </a:lnTo>
                <a:lnTo>
                  <a:pt x="5515" y="10800"/>
                </a:lnTo>
                <a:lnTo>
                  <a:pt x="5515" y="17989"/>
                </a:lnTo>
                <a:lnTo>
                  <a:pt x="9901" y="17989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2dffd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/>
          <p:nvPr/>
        </p:nvSpPr>
        <p:spPr>
          <a:xfrm>
            <a:off x="2843280" y="765000"/>
            <a:ext cx="3960720" cy="23749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d4f397">
                  <a:alpha val="52156"/>
                </a:srgbClr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971640" y="3141720"/>
            <a:ext cx="763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3" name=""/>
              <p:cNvSpPr txBox="1"/>
              <p:nvPr/>
            </p:nvSpPr>
            <p:spPr>
              <a:xfrm>
                <a:off x="2050920" y="3141720"/>
                <a:ext cx="34776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4" name=""/>
              <p:cNvSpPr txBox="1"/>
              <p:nvPr/>
            </p:nvSpPr>
            <p:spPr>
              <a:xfrm>
                <a:off x="7236000" y="3141720"/>
                <a:ext cx="3870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5" name=""/>
              <p:cNvSpPr txBox="1"/>
              <p:nvPr/>
            </p:nvSpPr>
            <p:spPr>
              <a:xfrm>
                <a:off x="3348000" y="2565360"/>
                <a:ext cx="3589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6" name=""/>
              <p:cNvSpPr txBox="1"/>
              <p:nvPr/>
            </p:nvSpPr>
            <p:spPr>
              <a:xfrm>
                <a:off x="5867280" y="2492280"/>
                <a:ext cx="38736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7" name=""/>
          <p:cNvSpPr/>
          <p:nvPr/>
        </p:nvSpPr>
        <p:spPr>
          <a:xfrm>
            <a:off x="2413080" y="2421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4716360" y="189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4807080" y="758880"/>
            <a:ext cx="3078000" cy="3678120"/>
          </a:xfrm>
          <a:custGeom>
            <a:avLst/>
            <a:gdLst/>
            <a:ahLst/>
            <a:rect l="l" t="t" r="r" b="b"/>
            <a:pathLst>
              <a:path w="1711" h="2045">
                <a:moveTo>
                  <a:pt x="0" y="0"/>
                </a:moveTo>
                <a:lnTo>
                  <a:pt x="1711" y="204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0" name=""/>
              <p:cNvSpPr txBox="1"/>
              <p:nvPr/>
            </p:nvSpPr>
            <p:spPr>
              <a:xfrm>
                <a:off x="3551400" y="5481720"/>
                <a:ext cx="390240" cy="84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31" name=""/>
          <p:cNvSpPr/>
          <p:nvPr/>
        </p:nvSpPr>
        <p:spPr>
          <a:xfrm>
            <a:off x="6732360" y="2421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763640" y="781200"/>
            <a:ext cx="3036960" cy="3655800"/>
          </a:xfrm>
          <a:custGeom>
            <a:avLst/>
            <a:gdLst/>
            <a:ahLst/>
            <a:rect l="l" t="t" r="r" b="b"/>
            <a:pathLst>
              <a:path w="1913" h="2303">
                <a:moveTo>
                  <a:pt x="1913" y="0"/>
                </a:moveTo>
                <a:lnTo>
                  <a:pt x="0" y="230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 flipH="1" flipV="1">
            <a:off x="1474920" y="2349000"/>
            <a:ext cx="1294560" cy="158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246" y="14"/>
                </a:moveTo>
                <a:arcTo wR="10800" hR="10800" stAng="-5576466" swAng="5576466"/>
                <a:lnTo>
                  <a:pt x="10800" y="10800"/>
                </a:lnTo>
                <a:close/>
              </a:path>
              <a:path fill="none" w="21600" h="21600">
                <a:moveTo>
                  <a:pt x="10246" y="14"/>
                </a:moveTo>
                <a:arcTo wR="10800" hR="10800" stAng="-5576466" swAng="5576466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 flipV="1">
            <a:off x="6837120" y="2349000"/>
            <a:ext cx="1295280" cy="158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246" y="14"/>
                </a:moveTo>
                <a:arcTo wR="10800" hR="10800" stAng="-5576466" swAng="5576466"/>
                <a:lnTo>
                  <a:pt x="10800" y="10800"/>
                </a:lnTo>
                <a:close/>
              </a:path>
              <a:path fill="none" w="21600" h="21600">
                <a:moveTo>
                  <a:pt x="10246" y="14"/>
                </a:moveTo>
                <a:arcTo wR="10800" hR="10800" stAng="-5576466" swAng="5576466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84720" y="5805360"/>
            <a:ext cx="446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4284720" y="5157720"/>
                <a:ext cx="151272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7308720" y="5229360"/>
                <a:ext cx="30636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38" name=""/>
          <p:cNvSpPr/>
          <p:nvPr/>
        </p:nvSpPr>
        <p:spPr>
          <a:xfrm>
            <a:off x="4132800" y="6093000"/>
            <a:ext cx="304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vers"/>
              </a:rPr>
              <a:t>Докажите, ч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9" name=""/>
              <p:cNvSpPr txBox="1"/>
              <p:nvPr/>
            </p:nvSpPr>
            <p:spPr>
              <a:xfrm>
                <a:off x="7093080" y="6093000"/>
                <a:ext cx="172692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0" name=""/>
          <p:cNvSpPr/>
          <p:nvPr/>
        </p:nvSpPr>
        <p:spPr>
          <a:xfrm>
            <a:off x="7152120" y="217440"/>
            <a:ext cx="176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Univers"/>
              </a:rPr>
              <a:t>Задача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>
            <a:hlinkClick r:id="rId1" action="ppaction://hlinksldjump"/>
          </p:cNvPr>
          <p:cNvSpPr/>
          <p:nvPr/>
        </p:nvSpPr>
        <p:spPr>
          <a:xfrm>
            <a:off x="250920" y="5950080"/>
            <a:ext cx="649080" cy="64764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48" h="21600">
                <a:moveTo>
                  <a:pt x="0" y="0"/>
                </a:moveTo>
                <a:lnTo>
                  <a:pt x="21648" y="0"/>
                </a:lnTo>
                <a:lnTo>
                  <a:pt x="21648" y="21600"/>
                </a:lnTo>
                <a:lnTo>
                  <a:pt x="0" y="21600"/>
                </a:lnTo>
                <a:close/>
              </a:path>
              <a:path fill="lightenLess" w="21648" h="21600">
                <a:moveTo>
                  <a:pt x="0" y="0"/>
                </a:moveTo>
                <a:lnTo>
                  <a:pt x="21648" y="0"/>
                </a:lnTo>
                <a:lnTo>
                  <a:pt x="20248" y="1400"/>
                </a:lnTo>
                <a:lnTo>
                  <a:pt x="1400" y="1400"/>
                </a:lnTo>
                <a:close/>
              </a:path>
              <a:path fill="darken" w="21648" h="21600">
                <a:moveTo>
                  <a:pt x="21648" y="0"/>
                </a:moveTo>
                <a:lnTo>
                  <a:pt x="21648" y="21600"/>
                </a:lnTo>
                <a:lnTo>
                  <a:pt x="20248" y="20200"/>
                </a:lnTo>
                <a:lnTo>
                  <a:pt x="20248" y="1400"/>
                </a:lnTo>
                <a:close/>
              </a:path>
              <a:path fill="darkenLess" w="21648" h="21600">
                <a:moveTo>
                  <a:pt x="21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48" y="20200"/>
                </a:lnTo>
                <a:close/>
              </a:path>
              <a:path fill="lighten" w="21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48" h="21600">
                <a:moveTo>
                  <a:pt x="10824" y="3837"/>
                </a:moveTo>
                <a:lnTo>
                  <a:pt x="13400" y="6448"/>
                </a:lnTo>
                <a:lnTo>
                  <a:pt x="13400" y="4707"/>
                </a:lnTo>
                <a:lnTo>
                  <a:pt x="15176" y="4707"/>
                </a:lnTo>
                <a:lnTo>
                  <a:pt x="15176" y="8224"/>
                </a:lnTo>
                <a:lnTo>
                  <a:pt x="17787" y="10800"/>
                </a:lnTo>
                <a:lnTo>
                  <a:pt x="16133" y="10800"/>
                </a:lnTo>
                <a:lnTo>
                  <a:pt x="16133" y="17989"/>
                </a:lnTo>
                <a:lnTo>
                  <a:pt x="5515" y="17989"/>
                </a:lnTo>
                <a:lnTo>
                  <a:pt x="5515" y="10800"/>
                </a:lnTo>
                <a:lnTo>
                  <a:pt x="3861" y="10800"/>
                </a:lnTo>
                <a:close/>
              </a:path>
              <a:path fill="darkenLess" w="21648" h="21600">
                <a:moveTo>
                  <a:pt x="13400" y="6448"/>
                </a:moveTo>
                <a:lnTo>
                  <a:pt x="13400" y="4707"/>
                </a:lnTo>
                <a:lnTo>
                  <a:pt x="15176" y="4707"/>
                </a:lnTo>
                <a:lnTo>
                  <a:pt x="15176" y="8224"/>
                </a:lnTo>
                <a:close/>
              </a:path>
              <a:path fill="darkenLess" w="21648" h="21600">
                <a:moveTo>
                  <a:pt x="9901" y="14299"/>
                </a:moveTo>
                <a:lnTo>
                  <a:pt x="11747" y="14299"/>
                </a:lnTo>
                <a:lnTo>
                  <a:pt x="11747" y="17989"/>
                </a:lnTo>
                <a:lnTo>
                  <a:pt x="16133" y="17989"/>
                </a:lnTo>
                <a:lnTo>
                  <a:pt x="16133" y="10800"/>
                </a:lnTo>
                <a:lnTo>
                  <a:pt x="5515" y="10800"/>
                </a:lnTo>
                <a:lnTo>
                  <a:pt x="5515" y="17989"/>
                </a:lnTo>
                <a:lnTo>
                  <a:pt x="9901" y="17989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2dffd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>
            <a:off x="4068720" y="2637000"/>
            <a:ext cx="3672000" cy="865080"/>
          </a:xfrm>
          <a:custGeom>
            <a:avLst/>
            <a:gdLst/>
            <a:ahLst/>
            <a:rect l="l" t="t" r="r" b="b"/>
            <a:pathLst>
              <a:path w="2313" h="545">
                <a:moveTo>
                  <a:pt x="1905" y="46"/>
                </a:moveTo>
                <a:lnTo>
                  <a:pt x="0" y="545"/>
                </a:lnTo>
                <a:lnTo>
                  <a:pt x="2222" y="545"/>
                </a:lnTo>
                <a:lnTo>
                  <a:pt x="2268" y="454"/>
                </a:lnTo>
                <a:lnTo>
                  <a:pt x="2268" y="363"/>
                </a:lnTo>
                <a:lnTo>
                  <a:pt x="2313" y="272"/>
                </a:lnTo>
                <a:lnTo>
                  <a:pt x="2313" y="227"/>
                </a:lnTo>
                <a:lnTo>
                  <a:pt x="2222" y="136"/>
                </a:lnTo>
                <a:lnTo>
                  <a:pt x="2177" y="46"/>
                </a:lnTo>
                <a:lnTo>
                  <a:pt x="2086" y="0"/>
                </a:lnTo>
                <a:lnTo>
                  <a:pt x="1995" y="0"/>
                </a:lnTo>
                <a:lnTo>
                  <a:pt x="1905" y="4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6ffff">
                  <a:alpha val="44313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1905120" y="477720"/>
            <a:ext cx="2163600" cy="3024360"/>
          </a:xfrm>
          <a:custGeom>
            <a:avLst/>
            <a:gdLst/>
            <a:ahLst/>
            <a:rect l="l" t="t" r="r" b="b"/>
            <a:pathLst>
              <a:path w="1363" h="1905">
                <a:moveTo>
                  <a:pt x="2" y="635"/>
                </a:moveTo>
                <a:lnTo>
                  <a:pt x="1363" y="1905"/>
                </a:lnTo>
                <a:lnTo>
                  <a:pt x="1045" y="90"/>
                </a:lnTo>
                <a:lnTo>
                  <a:pt x="909" y="45"/>
                </a:lnTo>
                <a:lnTo>
                  <a:pt x="773" y="0"/>
                </a:lnTo>
                <a:lnTo>
                  <a:pt x="728" y="45"/>
                </a:lnTo>
                <a:lnTo>
                  <a:pt x="637" y="45"/>
                </a:lnTo>
                <a:lnTo>
                  <a:pt x="455" y="45"/>
                </a:lnTo>
                <a:lnTo>
                  <a:pt x="274" y="136"/>
                </a:lnTo>
                <a:lnTo>
                  <a:pt x="138" y="272"/>
                </a:lnTo>
                <a:lnTo>
                  <a:pt x="47" y="408"/>
                </a:lnTo>
                <a:lnTo>
                  <a:pt x="2" y="498"/>
                </a:lnTo>
                <a:lnTo>
                  <a:pt x="2" y="589"/>
                </a:lnTo>
                <a:cubicBezTo>
                  <a:pt x="1" y="629"/>
                  <a:pt x="0" y="614"/>
                  <a:pt x="2" y="635"/>
                </a:cubicBezTo>
                <a:close/>
              </a:path>
            </a:pathLst>
          </a:custGeom>
          <a:gradFill rotWithShape="0">
            <a:gsLst>
              <a:gs pos="0">
                <a:srgbClr val="d6f49a">
                  <a:alpha val="67058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3635280" y="765000"/>
            <a:ext cx="3457800" cy="2737080"/>
          </a:xfrm>
          <a:custGeom>
            <a:avLst/>
            <a:gdLst/>
            <a:ahLst/>
            <a:rect l="l" t="t" r="r" b="b"/>
            <a:pathLst>
              <a:path w="2178" h="1724">
                <a:moveTo>
                  <a:pt x="0" y="91"/>
                </a:moveTo>
                <a:lnTo>
                  <a:pt x="273" y="1724"/>
                </a:lnTo>
                <a:lnTo>
                  <a:pt x="2178" y="1225"/>
                </a:lnTo>
                <a:lnTo>
                  <a:pt x="2178" y="1043"/>
                </a:lnTo>
                <a:lnTo>
                  <a:pt x="2132" y="907"/>
                </a:lnTo>
                <a:lnTo>
                  <a:pt x="2087" y="726"/>
                </a:lnTo>
                <a:lnTo>
                  <a:pt x="1996" y="499"/>
                </a:lnTo>
                <a:lnTo>
                  <a:pt x="1905" y="363"/>
                </a:lnTo>
                <a:lnTo>
                  <a:pt x="1724" y="227"/>
                </a:lnTo>
                <a:lnTo>
                  <a:pt x="1588" y="136"/>
                </a:lnTo>
                <a:lnTo>
                  <a:pt x="1361" y="45"/>
                </a:lnTo>
                <a:lnTo>
                  <a:pt x="1044" y="45"/>
                </a:lnTo>
                <a:lnTo>
                  <a:pt x="726" y="0"/>
                </a:lnTo>
                <a:lnTo>
                  <a:pt x="545" y="0"/>
                </a:lnTo>
                <a:lnTo>
                  <a:pt x="318" y="0"/>
                </a:lnTo>
                <a:lnTo>
                  <a:pt x="136" y="0"/>
                </a:lnTo>
                <a:lnTo>
                  <a:pt x="46" y="45"/>
                </a:lnTo>
                <a:lnTo>
                  <a:pt x="0" y="45"/>
                </a:lnTo>
                <a:cubicBezTo>
                  <a:pt x="16" y="85"/>
                  <a:pt x="23" y="71"/>
                  <a:pt x="0" y="91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33ff">
                  <a:alpha val="40000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1908000" y="1486080"/>
            <a:ext cx="5688360" cy="2016000"/>
          </a:xfrm>
          <a:custGeom>
            <a:avLst/>
            <a:gdLst/>
            <a:ahLst/>
            <a:rect l="l" t="t" r="r" b="b"/>
            <a:pathLst>
              <a:path w="3464" h="1364">
                <a:moveTo>
                  <a:pt x="0" y="0"/>
                </a:moveTo>
                <a:lnTo>
                  <a:pt x="1319" y="1364"/>
                </a:lnTo>
                <a:lnTo>
                  <a:pt x="3464" y="136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 flipH="1" flipV="1">
            <a:off x="2843280" y="1052640"/>
            <a:ext cx="1224000" cy="2449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 flipH="1" flipV="1">
            <a:off x="3635280" y="909360"/>
            <a:ext cx="432000" cy="259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4059360" y="3141720"/>
            <a:ext cx="3321000" cy="336600"/>
          </a:xfrm>
          <a:custGeom>
            <a:avLst/>
            <a:gdLst/>
            <a:ahLst/>
            <a:rect l="l" t="t" r="r" b="b"/>
            <a:pathLst>
              <a:path w="2092" h="212">
                <a:moveTo>
                  <a:pt x="0" y="212"/>
                </a:moveTo>
                <a:cubicBezTo>
                  <a:pt x="16" y="212"/>
                  <a:pt x="33" y="212"/>
                  <a:pt x="49" y="212"/>
                </a:cubicBezTo>
                <a:lnTo>
                  <a:pt x="209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 flipV="1">
            <a:off x="4068720" y="2709360"/>
            <a:ext cx="3024360" cy="79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5869080" y="2997360"/>
            <a:ext cx="142560" cy="57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939640" y="3286080"/>
            <a:ext cx="144720" cy="4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 flipV="1" rot="11409000">
            <a:off x="2801880" y="1951560"/>
            <a:ext cx="866160" cy="862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 flipV="1" rot="12901200">
            <a:off x="3112920" y="1570680"/>
            <a:ext cx="866520" cy="860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134" y="83"/>
                </a:moveTo>
                <a:arcTo wR="10800" hR="10800" stAng="-4974258" swAng="4974258"/>
                <a:lnTo>
                  <a:pt x="10800" y="10800"/>
                </a:lnTo>
                <a:close/>
              </a:path>
              <a:path fill="none" w="21600" h="21600">
                <a:moveTo>
                  <a:pt x="12134" y="83"/>
                </a:moveTo>
                <a:arcTo wR="10800" hR="10800" stAng="-4974258" swAng="4974258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 flipH="1">
            <a:off x="2627280" y="1703160"/>
            <a:ext cx="1152000" cy="864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364" y="15"/>
                </a:moveTo>
                <a:arcTo wR="10800" hR="10800" stAng="-5220328" swAng="5372007"/>
                <a:lnTo>
                  <a:pt x="10800" y="10800"/>
                </a:lnTo>
                <a:close/>
              </a:path>
              <a:path fill="none" w="21600" h="21600">
                <a:moveTo>
                  <a:pt x="11364" y="15"/>
                </a:moveTo>
                <a:arcTo wR="10800" hR="10800" stAng="-5220328" swAng="5372007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 flipV="1" rot="11736600">
            <a:off x="3228840" y="1834200"/>
            <a:ext cx="1006200" cy="579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607" y="30"/>
                </a:moveTo>
                <a:arcTo wR="10800" hR="10800" stAng="-5142794" swAng="4371157"/>
                <a:lnTo>
                  <a:pt x="10800" y="10800"/>
                </a:lnTo>
                <a:close/>
              </a:path>
              <a:path fill="none" w="21600" h="21600">
                <a:moveTo>
                  <a:pt x="11607" y="30"/>
                </a:moveTo>
                <a:arcTo wR="10800" hR="10800" stAng="-5142794" swAng="4371157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709440" y="34290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1621080" y="1557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7237440" y="35020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709800" y="549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6878520" y="2060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410000" y="5950080"/>
            <a:ext cx="210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vers"/>
              </a:rPr>
              <a:t>Найдите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427640" y="5734080"/>
            <a:ext cx="4537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3" name=""/>
              <p:cNvSpPr txBox="1"/>
              <p:nvPr/>
            </p:nvSpPr>
            <p:spPr>
              <a:xfrm>
                <a:off x="6372360" y="6021360"/>
                <a:ext cx="121752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КО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4" name=""/>
          <p:cNvSpPr/>
          <p:nvPr/>
        </p:nvSpPr>
        <p:spPr>
          <a:xfrm>
            <a:off x="2269440" y="62064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7526520" y="2565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6" name=""/>
              <p:cNvSpPr txBox="1"/>
              <p:nvPr/>
            </p:nvSpPr>
            <p:spPr>
              <a:xfrm>
                <a:off x="4427640" y="5084640"/>
                <a:ext cx="448452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АОВ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56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;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COD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88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67" name=""/>
          <p:cNvSpPr/>
          <p:nvPr/>
        </p:nvSpPr>
        <p:spPr>
          <a:xfrm>
            <a:off x="7152120" y="217440"/>
            <a:ext cx="176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Univers"/>
              </a:rPr>
              <a:t>Задача 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>
            <a:hlinkClick r:id="rId1" action="ppaction://hlinksldjump"/>
          </p:cNvPr>
          <p:cNvSpPr/>
          <p:nvPr/>
        </p:nvSpPr>
        <p:spPr>
          <a:xfrm>
            <a:off x="250920" y="5950080"/>
            <a:ext cx="649080" cy="64764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48" h="21600">
                <a:moveTo>
                  <a:pt x="0" y="0"/>
                </a:moveTo>
                <a:lnTo>
                  <a:pt x="21648" y="0"/>
                </a:lnTo>
                <a:lnTo>
                  <a:pt x="21648" y="21600"/>
                </a:lnTo>
                <a:lnTo>
                  <a:pt x="0" y="21600"/>
                </a:lnTo>
                <a:close/>
              </a:path>
              <a:path fill="lightenLess" w="21648" h="21600">
                <a:moveTo>
                  <a:pt x="0" y="0"/>
                </a:moveTo>
                <a:lnTo>
                  <a:pt x="21648" y="0"/>
                </a:lnTo>
                <a:lnTo>
                  <a:pt x="20248" y="1400"/>
                </a:lnTo>
                <a:lnTo>
                  <a:pt x="1400" y="1400"/>
                </a:lnTo>
                <a:close/>
              </a:path>
              <a:path fill="darken" w="21648" h="21600">
                <a:moveTo>
                  <a:pt x="21648" y="0"/>
                </a:moveTo>
                <a:lnTo>
                  <a:pt x="21648" y="21600"/>
                </a:lnTo>
                <a:lnTo>
                  <a:pt x="20248" y="20200"/>
                </a:lnTo>
                <a:lnTo>
                  <a:pt x="20248" y="1400"/>
                </a:lnTo>
                <a:close/>
              </a:path>
              <a:path fill="darkenLess" w="21648" h="21600">
                <a:moveTo>
                  <a:pt x="21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48" y="20200"/>
                </a:lnTo>
                <a:close/>
              </a:path>
              <a:path fill="lighten" w="21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48" h="21600">
                <a:moveTo>
                  <a:pt x="10824" y="3837"/>
                </a:moveTo>
                <a:lnTo>
                  <a:pt x="13400" y="6448"/>
                </a:lnTo>
                <a:lnTo>
                  <a:pt x="13400" y="4707"/>
                </a:lnTo>
                <a:lnTo>
                  <a:pt x="15176" y="4707"/>
                </a:lnTo>
                <a:lnTo>
                  <a:pt x="15176" y="8224"/>
                </a:lnTo>
                <a:lnTo>
                  <a:pt x="17787" y="10800"/>
                </a:lnTo>
                <a:lnTo>
                  <a:pt x="16133" y="10800"/>
                </a:lnTo>
                <a:lnTo>
                  <a:pt x="16133" y="17989"/>
                </a:lnTo>
                <a:lnTo>
                  <a:pt x="5515" y="17989"/>
                </a:lnTo>
                <a:lnTo>
                  <a:pt x="5515" y="10800"/>
                </a:lnTo>
                <a:lnTo>
                  <a:pt x="3861" y="10800"/>
                </a:lnTo>
                <a:close/>
              </a:path>
              <a:path fill="darkenLess" w="21648" h="21600">
                <a:moveTo>
                  <a:pt x="13400" y="6448"/>
                </a:moveTo>
                <a:lnTo>
                  <a:pt x="13400" y="4707"/>
                </a:lnTo>
                <a:lnTo>
                  <a:pt x="15176" y="4707"/>
                </a:lnTo>
                <a:lnTo>
                  <a:pt x="15176" y="8224"/>
                </a:lnTo>
                <a:close/>
              </a:path>
              <a:path fill="darkenLess" w="21648" h="21600">
                <a:moveTo>
                  <a:pt x="9901" y="14299"/>
                </a:moveTo>
                <a:lnTo>
                  <a:pt x="11747" y="14299"/>
                </a:lnTo>
                <a:lnTo>
                  <a:pt x="11747" y="17989"/>
                </a:lnTo>
                <a:lnTo>
                  <a:pt x="16133" y="17989"/>
                </a:lnTo>
                <a:lnTo>
                  <a:pt x="16133" y="10800"/>
                </a:lnTo>
                <a:lnTo>
                  <a:pt x="5515" y="10800"/>
                </a:lnTo>
                <a:lnTo>
                  <a:pt x="5515" y="17989"/>
                </a:lnTo>
                <a:lnTo>
                  <a:pt x="9901" y="17989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2dffd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 txBox="1"/>
          <p:nvPr/>
        </p:nvSpPr>
        <p:spPr>
          <a:xfrm>
            <a:off x="1476360" y="333360"/>
            <a:ext cx="5111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54007e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Список литературы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54007e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sp>
        <p:nvSpPr>
          <p:cNvPr id="670" name=""/>
          <p:cNvSpPr/>
          <p:nvPr/>
        </p:nvSpPr>
        <p:spPr>
          <a:xfrm>
            <a:off x="1166760" y="2363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775440" y="1268280"/>
            <a:ext cx="692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009a"/>
                </a:solidFill>
                <a:latin typeface="Verdana"/>
              </a:rPr>
              <a:t>1.Ершова А.П., Голобородько В.В, Ершова А.С</a:t>
            </a:r>
            <a:r>
              <a:rPr b="0" lang="ru-RU" sz="1800" spc="-1" strike="noStrike">
                <a:solidFill>
                  <a:srgbClr val="7200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2009a"/>
                </a:solidFill>
                <a:latin typeface="Verdana"/>
              </a:rPr>
              <a:t>Самостоятельные и контрольные работы по алгебр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2009a"/>
                </a:solidFill>
                <a:latin typeface="Verdana"/>
              </a:rPr>
              <a:t>и геометриидля 7 класса.-М:Илекса, 2004.-176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006560" y="2205000"/>
            <a:ext cx="651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009a"/>
                </a:solidFill>
                <a:latin typeface="Verdana"/>
              </a:rPr>
              <a:t>2.Саврасова С.М.,Ястребинецкий Г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2009a"/>
                </a:solidFill>
                <a:latin typeface="Verdana"/>
              </a:rPr>
              <a:t>Упражнения по планиметрии на готовых чертежах.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2009a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72009a"/>
                </a:solidFill>
                <a:latin typeface="Verdana"/>
              </a:rPr>
              <a:t>М.: просвещение, 1987.-112 с.: и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933840" y="3141720"/>
            <a:ext cx="800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009a"/>
                </a:solidFill>
                <a:latin typeface="Verdana"/>
              </a:rPr>
              <a:t>3. Зив Б.Г.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2009a"/>
                </a:solidFill>
                <a:latin typeface="Verdana"/>
              </a:rPr>
              <a:t>Задачи по геометрии: Пособие для учащихся 7-11 к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2009a"/>
                </a:solidFill>
                <a:latin typeface="Verdana"/>
              </a:rPr>
              <a:t>общеобразоват.учреждений.-М.:Просвещение, 2000.-271 с.: и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909000" y="4221000"/>
            <a:ext cx="646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2009a"/>
                </a:solidFill>
                <a:latin typeface="Verdana"/>
              </a:rPr>
              <a:t>4. Рабинович Е.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9a"/>
                </a:solidFill>
                <a:latin typeface="Verdana"/>
              </a:rPr>
              <a:t>Сборник задач на готовых чертежах.-К.:1996.-56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884520" y="4941720"/>
            <a:ext cx="708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009a"/>
                </a:solidFill>
                <a:latin typeface="Verdana"/>
              </a:rPr>
              <a:t>5. Гаврилова Н.Ф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2009a"/>
                </a:solidFill>
                <a:latin typeface="Verdana"/>
              </a:rPr>
              <a:t>Поурочные разработки по геометрии: 7 класс.-2-е изд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2009a"/>
                </a:solidFill>
                <a:latin typeface="Verdana"/>
              </a:rPr>
              <a:t>перераб. и доп.-М.: ВАКО,2009.-304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8172360" y="5950080"/>
            <a:ext cx="649440" cy="647640"/>
          </a:xfrm>
          <a:custGeom>
            <a:avLst/>
            <a:gdLst>
              <a:gd name="textAreaLeft" fmla="*/ 41760 w 649440"/>
              <a:gd name="textAreaRight" fmla="*/ 607680 w 6494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60" h="21600">
                <a:moveTo>
                  <a:pt x="0" y="0"/>
                </a:moveTo>
                <a:lnTo>
                  <a:pt x="21660" y="0"/>
                </a:lnTo>
                <a:lnTo>
                  <a:pt x="21660" y="21600"/>
                </a:lnTo>
                <a:lnTo>
                  <a:pt x="0" y="21600"/>
                </a:lnTo>
                <a:close/>
              </a:path>
              <a:path fill="lightenLess" w="21660" h="21600">
                <a:moveTo>
                  <a:pt x="0" y="0"/>
                </a:moveTo>
                <a:lnTo>
                  <a:pt x="21660" y="0"/>
                </a:lnTo>
                <a:lnTo>
                  <a:pt x="20260" y="1400"/>
                </a:lnTo>
                <a:lnTo>
                  <a:pt x="1400" y="1400"/>
                </a:lnTo>
                <a:close/>
              </a:path>
              <a:path fill="darken" w="21660" h="21600">
                <a:moveTo>
                  <a:pt x="21660" y="0"/>
                </a:moveTo>
                <a:lnTo>
                  <a:pt x="21660" y="21600"/>
                </a:lnTo>
                <a:lnTo>
                  <a:pt x="20260" y="20200"/>
                </a:lnTo>
                <a:lnTo>
                  <a:pt x="20260" y="1400"/>
                </a:lnTo>
                <a:close/>
              </a:path>
              <a:path fill="darkenLess" w="21660" h="21600">
                <a:moveTo>
                  <a:pt x="216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0" y="20200"/>
                </a:lnTo>
                <a:close/>
              </a:path>
              <a:path fill="lighten" w="216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0" h="21600">
                <a:moveTo>
                  <a:pt x="10830" y="3837"/>
                </a:moveTo>
                <a:lnTo>
                  <a:pt x="13406" y="6448"/>
                </a:lnTo>
                <a:lnTo>
                  <a:pt x="13406" y="4707"/>
                </a:lnTo>
                <a:lnTo>
                  <a:pt x="15182" y="4707"/>
                </a:lnTo>
                <a:lnTo>
                  <a:pt x="15182" y="8224"/>
                </a:lnTo>
                <a:lnTo>
                  <a:pt x="17793" y="10800"/>
                </a:lnTo>
                <a:lnTo>
                  <a:pt x="16139" y="10800"/>
                </a:lnTo>
                <a:lnTo>
                  <a:pt x="16139" y="17989"/>
                </a:lnTo>
                <a:lnTo>
                  <a:pt x="5521" y="17989"/>
                </a:lnTo>
                <a:lnTo>
                  <a:pt x="5521" y="10800"/>
                </a:lnTo>
                <a:lnTo>
                  <a:pt x="3867" y="10800"/>
                </a:lnTo>
                <a:close/>
              </a:path>
              <a:path fill="darkenLess" w="21660" h="21600">
                <a:moveTo>
                  <a:pt x="13406" y="6448"/>
                </a:moveTo>
                <a:lnTo>
                  <a:pt x="13406" y="4707"/>
                </a:lnTo>
                <a:lnTo>
                  <a:pt x="15182" y="4707"/>
                </a:lnTo>
                <a:lnTo>
                  <a:pt x="15182" y="8224"/>
                </a:lnTo>
                <a:close/>
              </a:path>
              <a:path fill="darkenLess" w="21660" h="21600">
                <a:moveTo>
                  <a:pt x="9907" y="14299"/>
                </a:moveTo>
                <a:lnTo>
                  <a:pt x="11753" y="14299"/>
                </a:lnTo>
                <a:lnTo>
                  <a:pt x="11753" y="17989"/>
                </a:lnTo>
                <a:lnTo>
                  <a:pt x="16139" y="17989"/>
                </a:lnTo>
                <a:lnTo>
                  <a:pt x="16139" y="10800"/>
                </a:lnTo>
                <a:lnTo>
                  <a:pt x="5521" y="10800"/>
                </a:lnTo>
                <a:lnTo>
                  <a:pt x="5521" y="17989"/>
                </a:lnTo>
                <a:lnTo>
                  <a:pt x="9907" y="17989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2dffd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533680" y="1770120"/>
            <a:ext cx="3413160" cy="2382840"/>
          </a:xfrm>
          <a:custGeom>
            <a:avLst/>
            <a:gdLst/>
            <a:ahLst/>
            <a:rect l="l" t="t" r="r" b="b"/>
            <a:pathLst>
              <a:path w="2150" h="1501">
                <a:moveTo>
                  <a:pt x="2150" y="708"/>
                </a:moveTo>
                <a:lnTo>
                  <a:pt x="1060" y="0"/>
                </a:lnTo>
                <a:lnTo>
                  <a:pt x="0" y="1501"/>
                </a:lnTo>
                <a:lnTo>
                  <a:pt x="2150" y="70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556000" y="4148280"/>
            <a:ext cx="468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2556000" y="907560"/>
            <a:ext cx="2233440" cy="324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2556000" y="2637000"/>
            <a:ext cx="4176720" cy="151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610000" y="2637000"/>
            <a:ext cx="4437000" cy="1511280"/>
          </a:xfrm>
          <a:custGeom>
            <a:avLst/>
            <a:gdLst/>
            <a:ahLst/>
            <a:rect l="l" t="t" r="r" b="b"/>
            <a:pathLst>
              <a:path w="2795" h="952">
                <a:moveTo>
                  <a:pt x="2795" y="938"/>
                </a:moveTo>
                <a:lnTo>
                  <a:pt x="2610" y="0"/>
                </a:lnTo>
                <a:lnTo>
                  <a:pt x="0" y="952"/>
                </a:lnTo>
                <a:lnTo>
                  <a:pt x="2795" y="938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34117"/>
                </a:srgbClr>
              </a:gs>
              <a:gs pos="100000">
                <a:srgbClr val="ff00ff">
                  <a:alpha val="42352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068720" y="692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31480" y="371808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373800" y="1916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949800" y="3573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262480" y="6021360"/>
            <a:ext cx="15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vers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64000" y="5877000"/>
            <a:ext cx="295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6877080" y="6021360"/>
                <a:ext cx="129528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АО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3635280" y="2781360"/>
                <a:ext cx="64944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4140360" y="3500280"/>
                <a:ext cx="64764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7" name="">
            <a:hlinkClick r:id="rId1" action="ppaction://hlinksldjump"/>
          </p:cNvPr>
          <p:cNvSpPr/>
          <p:nvPr/>
        </p:nvSpPr>
        <p:spPr>
          <a:xfrm>
            <a:off x="395280" y="6021360"/>
            <a:ext cx="649440" cy="647640"/>
          </a:xfrm>
          <a:custGeom>
            <a:avLst/>
            <a:gdLst>
              <a:gd name="textAreaLeft" fmla="*/ 41760 w 649440"/>
              <a:gd name="textAreaRight" fmla="*/ 607680 w 6494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60" h="21600">
                <a:moveTo>
                  <a:pt x="0" y="0"/>
                </a:moveTo>
                <a:lnTo>
                  <a:pt x="21660" y="0"/>
                </a:lnTo>
                <a:lnTo>
                  <a:pt x="21660" y="21600"/>
                </a:lnTo>
                <a:lnTo>
                  <a:pt x="0" y="21600"/>
                </a:lnTo>
                <a:close/>
              </a:path>
              <a:path fill="lightenLess" w="21660" h="21600">
                <a:moveTo>
                  <a:pt x="0" y="0"/>
                </a:moveTo>
                <a:lnTo>
                  <a:pt x="21660" y="0"/>
                </a:lnTo>
                <a:lnTo>
                  <a:pt x="20260" y="1400"/>
                </a:lnTo>
                <a:lnTo>
                  <a:pt x="1400" y="1400"/>
                </a:lnTo>
                <a:close/>
              </a:path>
              <a:path fill="darken" w="21660" h="21600">
                <a:moveTo>
                  <a:pt x="21660" y="0"/>
                </a:moveTo>
                <a:lnTo>
                  <a:pt x="21660" y="21600"/>
                </a:lnTo>
                <a:lnTo>
                  <a:pt x="20260" y="20200"/>
                </a:lnTo>
                <a:lnTo>
                  <a:pt x="20260" y="1400"/>
                </a:lnTo>
                <a:close/>
              </a:path>
              <a:path fill="darkenLess" w="21660" h="21600">
                <a:moveTo>
                  <a:pt x="216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0" y="20200"/>
                </a:lnTo>
                <a:close/>
              </a:path>
              <a:path fill="lighten" w="216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0" h="21600">
                <a:moveTo>
                  <a:pt x="10830" y="3837"/>
                </a:moveTo>
                <a:lnTo>
                  <a:pt x="13406" y="6448"/>
                </a:lnTo>
                <a:lnTo>
                  <a:pt x="13406" y="4707"/>
                </a:lnTo>
                <a:lnTo>
                  <a:pt x="15182" y="4707"/>
                </a:lnTo>
                <a:lnTo>
                  <a:pt x="15182" y="8224"/>
                </a:lnTo>
                <a:lnTo>
                  <a:pt x="17793" y="10800"/>
                </a:lnTo>
                <a:lnTo>
                  <a:pt x="16139" y="10800"/>
                </a:lnTo>
                <a:lnTo>
                  <a:pt x="16139" y="17989"/>
                </a:lnTo>
                <a:lnTo>
                  <a:pt x="5521" y="17989"/>
                </a:lnTo>
                <a:lnTo>
                  <a:pt x="5521" y="10800"/>
                </a:lnTo>
                <a:lnTo>
                  <a:pt x="3867" y="10800"/>
                </a:lnTo>
                <a:close/>
              </a:path>
              <a:path fill="darkenLess" w="21660" h="21600">
                <a:moveTo>
                  <a:pt x="13406" y="6448"/>
                </a:moveTo>
                <a:lnTo>
                  <a:pt x="13406" y="4707"/>
                </a:lnTo>
                <a:lnTo>
                  <a:pt x="15182" y="4707"/>
                </a:lnTo>
                <a:lnTo>
                  <a:pt x="15182" y="8224"/>
                </a:lnTo>
                <a:close/>
              </a:path>
              <a:path fill="darkenLess" w="21660" h="21600">
                <a:moveTo>
                  <a:pt x="9907" y="14299"/>
                </a:moveTo>
                <a:lnTo>
                  <a:pt x="11753" y="14299"/>
                </a:lnTo>
                <a:lnTo>
                  <a:pt x="11753" y="17989"/>
                </a:lnTo>
                <a:lnTo>
                  <a:pt x="16139" y="17989"/>
                </a:lnTo>
                <a:lnTo>
                  <a:pt x="16139" y="10800"/>
                </a:lnTo>
                <a:lnTo>
                  <a:pt x="5521" y="10800"/>
                </a:lnTo>
                <a:lnTo>
                  <a:pt x="5521" y="17989"/>
                </a:lnTo>
                <a:lnTo>
                  <a:pt x="9907" y="17989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2dffd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14384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Univers"/>
              </a:rPr>
              <a:t>Задача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222720" y="1339920"/>
            <a:ext cx="3506760" cy="2930400"/>
          </a:xfrm>
          <a:custGeom>
            <a:avLst/>
            <a:gdLst/>
            <a:ahLst/>
            <a:rect l="l" t="t" r="r" b="b"/>
            <a:pathLst>
              <a:path w="2209" h="1846">
                <a:moveTo>
                  <a:pt x="2209" y="930"/>
                </a:moveTo>
                <a:lnTo>
                  <a:pt x="585" y="0"/>
                </a:lnTo>
                <a:lnTo>
                  <a:pt x="0" y="1846"/>
                </a:lnTo>
                <a:lnTo>
                  <a:pt x="2209" y="93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62352"/>
                </a:srgbClr>
              </a:gs>
              <a:gs pos="100000">
                <a:srgbClr val="ff75ff">
                  <a:alpha val="63137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276720" y="2997360"/>
            <a:ext cx="3681360" cy="1282680"/>
          </a:xfrm>
          <a:custGeom>
            <a:avLst/>
            <a:gdLst/>
            <a:ahLst/>
            <a:rect l="l" t="t" r="r" b="b"/>
            <a:pathLst>
              <a:path w="2319" h="808">
                <a:moveTo>
                  <a:pt x="2319" y="725"/>
                </a:moveTo>
                <a:lnTo>
                  <a:pt x="1930" y="0"/>
                </a:lnTo>
                <a:lnTo>
                  <a:pt x="0" y="808"/>
                </a:lnTo>
                <a:lnTo>
                  <a:pt x="2319" y="725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78039"/>
                </a:srgbClr>
              </a:gs>
              <a:gs pos="100000">
                <a:srgbClr val="3399ff">
                  <a:alpha val="65098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411280" y="763560"/>
            <a:ext cx="1884600" cy="3463920"/>
          </a:xfrm>
          <a:custGeom>
            <a:avLst/>
            <a:gdLst/>
            <a:ahLst/>
            <a:rect l="l" t="t" r="r" b="b"/>
            <a:pathLst>
              <a:path w="1187" h="2182">
                <a:moveTo>
                  <a:pt x="1187" y="0"/>
                </a:moveTo>
                <a:lnTo>
                  <a:pt x="0" y="391"/>
                </a:lnTo>
                <a:lnTo>
                  <a:pt x="487" y="2182"/>
                </a:lnTo>
                <a:lnTo>
                  <a:pt x="1187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54117"/>
                </a:srgbClr>
              </a:gs>
              <a:gs pos="100000">
                <a:srgbClr val="ffff00">
                  <a:alpha val="5333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3203640" y="4149360"/>
            <a:ext cx="403236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3203640" y="2852640"/>
            <a:ext cx="3527280" cy="1440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266920" y="1052640"/>
            <a:ext cx="936720" cy="3240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3203640" y="1052640"/>
            <a:ext cx="1008000" cy="3240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557080" y="393228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765440" y="620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636720" y="692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373800" y="2205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950160" y="3573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5675400" y="5013360"/>
                <a:ext cx="240804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АОВ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22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62" name=""/>
          <p:cNvSpPr/>
          <p:nvPr/>
        </p:nvSpPr>
        <p:spPr>
          <a:xfrm>
            <a:off x="5621400" y="5950080"/>
            <a:ext cx="15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vers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651640" y="5805360"/>
            <a:ext cx="331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2843280" y="2565360"/>
                <a:ext cx="66204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4716360" y="3573360"/>
                <a:ext cx="72072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66" name=""/>
          <p:cNvSpPr/>
          <p:nvPr/>
        </p:nvSpPr>
        <p:spPr>
          <a:xfrm>
            <a:off x="714384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Univers"/>
              </a:rPr>
              <a:t>Задача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7219800" y="5950080"/>
                <a:ext cx="1295640" cy="46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CO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8" name="">
            <a:hlinkClick r:id="rId1" action="ppaction://hlinksldjump"/>
          </p:cNvPr>
          <p:cNvSpPr/>
          <p:nvPr/>
        </p:nvSpPr>
        <p:spPr>
          <a:xfrm>
            <a:off x="395280" y="6021360"/>
            <a:ext cx="649440" cy="647640"/>
          </a:xfrm>
          <a:custGeom>
            <a:avLst/>
            <a:gdLst>
              <a:gd name="textAreaLeft" fmla="*/ 41760 w 649440"/>
              <a:gd name="textAreaRight" fmla="*/ 607680 w 6494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60" h="21600">
                <a:moveTo>
                  <a:pt x="0" y="0"/>
                </a:moveTo>
                <a:lnTo>
                  <a:pt x="21660" y="0"/>
                </a:lnTo>
                <a:lnTo>
                  <a:pt x="21660" y="21600"/>
                </a:lnTo>
                <a:lnTo>
                  <a:pt x="0" y="21600"/>
                </a:lnTo>
                <a:close/>
              </a:path>
              <a:path fill="lightenLess" w="21660" h="21600">
                <a:moveTo>
                  <a:pt x="0" y="0"/>
                </a:moveTo>
                <a:lnTo>
                  <a:pt x="21660" y="0"/>
                </a:lnTo>
                <a:lnTo>
                  <a:pt x="20260" y="1400"/>
                </a:lnTo>
                <a:lnTo>
                  <a:pt x="1400" y="1400"/>
                </a:lnTo>
                <a:close/>
              </a:path>
              <a:path fill="darken" w="21660" h="21600">
                <a:moveTo>
                  <a:pt x="21660" y="0"/>
                </a:moveTo>
                <a:lnTo>
                  <a:pt x="21660" y="21600"/>
                </a:lnTo>
                <a:lnTo>
                  <a:pt x="20260" y="20200"/>
                </a:lnTo>
                <a:lnTo>
                  <a:pt x="20260" y="1400"/>
                </a:lnTo>
                <a:close/>
              </a:path>
              <a:path fill="darkenLess" w="21660" h="21600">
                <a:moveTo>
                  <a:pt x="216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0" y="20200"/>
                </a:lnTo>
                <a:close/>
              </a:path>
              <a:path fill="lighten" w="216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0" h="21600">
                <a:moveTo>
                  <a:pt x="10830" y="3837"/>
                </a:moveTo>
                <a:lnTo>
                  <a:pt x="13406" y="6448"/>
                </a:lnTo>
                <a:lnTo>
                  <a:pt x="13406" y="4707"/>
                </a:lnTo>
                <a:lnTo>
                  <a:pt x="15182" y="4707"/>
                </a:lnTo>
                <a:lnTo>
                  <a:pt x="15182" y="8224"/>
                </a:lnTo>
                <a:lnTo>
                  <a:pt x="17793" y="10800"/>
                </a:lnTo>
                <a:lnTo>
                  <a:pt x="16139" y="10800"/>
                </a:lnTo>
                <a:lnTo>
                  <a:pt x="16139" y="17989"/>
                </a:lnTo>
                <a:lnTo>
                  <a:pt x="5521" y="17989"/>
                </a:lnTo>
                <a:lnTo>
                  <a:pt x="5521" y="10800"/>
                </a:lnTo>
                <a:lnTo>
                  <a:pt x="3867" y="10800"/>
                </a:lnTo>
                <a:close/>
              </a:path>
              <a:path fill="darkenLess" w="21660" h="21600">
                <a:moveTo>
                  <a:pt x="13406" y="6448"/>
                </a:moveTo>
                <a:lnTo>
                  <a:pt x="13406" y="4707"/>
                </a:lnTo>
                <a:lnTo>
                  <a:pt x="15182" y="4707"/>
                </a:lnTo>
                <a:lnTo>
                  <a:pt x="15182" y="8224"/>
                </a:lnTo>
                <a:close/>
              </a:path>
              <a:path fill="darkenLess" w="21660" h="21600">
                <a:moveTo>
                  <a:pt x="9907" y="14299"/>
                </a:moveTo>
                <a:lnTo>
                  <a:pt x="11753" y="14299"/>
                </a:lnTo>
                <a:lnTo>
                  <a:pt x="11753" y="17989"/>
                </a:lnTo>
                <a:lnTo>
                  <a:pt x="16139" y="17989"/>
                </a:lnTo>
                <a:lnTo>
                  <a:pt x="16139" y="10800"/>
                </a:lnTo>
                <a:lnTo>
                  <a:pt x="5521" y="10800"/>
                </a:lnTo>
                <a:lnTo>
                  <a:pt x="5521" y="17989"/>
                </a:lnTo>
                <a:lnTo>
                  <a:pt x="9907" y="17989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2dffd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4284720" y="907920"/>
            <a:ext cx="3382920" cy="1513080"/>
          </a:xfrm>
          <a:custGeom>
            <a:avLst/>
            <a:gdLst/>
            <a:ahLst/>
            <a:rect l="l" t="t" r="r" b="b"/>
            <a:pathLst>
              <a:path w="2131" h="953">
                <a:moveTo>
                  <a:pt x="1678" y="0"/>
                </a:moveTo>
                <a:lnTo>
                  <a:pt x="0" y="953"/>
                </a:lnTo>
                <a:lnTo>
                  <a:pt x="1995" y="953"/>
                </a:lnTo>
                <a:lnTo>
                  <a:pt x="2086" y="862"/>
                </a:lnTo>
                <a:lnTo>
                  <a:pt x="2086" y="817"/>
                </a:lnTo>
                <a:lnTo>
                  <a:pt x="2131" y="635"/>
                </a:lnTo>
                <a:lnTo>
                  <a:pt x="2131" y="545"/>
                </a:lnTo>
                <a:lnTo>
                  <a:pt x="2131" y="454"/>
                </a:lnTo>
                <a:lnTo>
                  <a:pt x="2086" y="318"/>
                </a:lnTo>
                <a:lnTo>
                  <a:pt x="1995" y="182"/>
                </a:lnTo>
                <a:lnTo>
                  <a:pt x="1859" y="46"/>
                </a:lnTo>
                <a:lnTo>
                  <a:pt x="1769" y="0"/>
                </a:lnTo>
                <a:lnTo>
                  <a:pt x="1678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99">
                  <a:alpha val="44313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4284720" y="792000"/>
            <a:ext cx="2879640" cy="165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765440" y="2303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195640" y="2448000"/>
            <a:ext cx="2808000" cy="2448000"/>
          </a:xfrm>
          <a:custGeom>
            <a:avLst/>
            <a:gdLst/>
            <a:ahLst/>
            <a:rect l="l" t="t" r="r" b="b"/>
            <a:pathLst>
              <a:path w="1769" h="1542">
                <a:moveTo>
                  <a:pt x="0" y="0"/>
                </a:moveTo>
                <a:lnTo>
                  <a:pt x="1316" y="0"/>
                </a:lnTo>
                <a:lnTo>
                  <a:pt x="1769" y="1497"/>
                </a:lnTo>
                <a:lnTo>
                  <a:pt x="1497" y="1497"/>
                </a:lnTo>
                <a:lnTo>
                  <a:pt x="1180" y="1542"/>
                </a:lnTo>
                <a:lnTo>
                  <a:pt x="953" y="1406"/>
                </a:lnTo>
                <a:lnTo>
                  <a:pt x="771" y="1316"/>
                </a:lnTo>
                <a:lnTo>
                  <a:pt x="590" y="1270"/>
                </a:lnTo>
                <a:lnTo>
                  <a:pt x="499" y="998"/>
                </a:lnTo>
                <a:lnTo>
                  <a:pt x="227" y="817"/>
                </a:lnTo>
                <a:lnTo>
                  <a:pt x="227" y="635"/>
                </a:lnTo>
                <a:lnTo>
                  <a:pt x="46" y="408"/>
                </a:lnTo>
                <a:lnTo>
                  <a:pt x="0" y="182"/>
                </a:lnTo>
                <a:lnTo>
                  <a:pt x="46" y="13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ff6b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284720" y="2448000"/>
            <a:ext cx="3600360" cy="2448000"/>
          </a:xfrm>
          <a:custGeom>
            <a:avLst/>
            <a:gdLst/>
            <a:ahLst/>
            <a:rect l="l" t="t" r="r" b="b"/>
            <a:pathLst>
              <a:path w="2268" h="1542">
                <a:moveTo>
                  <a:pt x="479" y="1500"/>
                </a:moveTo>
                <a:cubicBezTo>
                  <a:pt x="469" y="1485"/>
                  <a:pt x="453" y="1474"/>
                  <a:pt x="444" y="1458"/>
                </a:cubicBezTo>
                <a:cubicBezTo>
                  <a:pt x="437" y="1445"/>
                  <a:pt x="429" y="1415"/>
                  <a:pt x="429" y="1415"/>
                </a:cubicBezTo>
                <a:lnTo>
                  <a:pt x="0" y="0"/>
                </a:lnTo>
                <a:lnTo>
                  <a:pt x="2268" y="0"/>
                </a:lnTo>
                <a:lnTo>
                  <a:pt x="2177" y="136"/>
                </a:lnTo>
                <a:lnTo>
                  <a:pt x="2041" y="318"/>
                </a:lnTo>
                <a:cubicBezTo>
                  <a:pt x="2033" y="358"/>
                  <a:pt x="2050" y="448"/>
                  <a:pt x="1994" y="469"/>
                </a:cubicBezTo>
                <a:cubicBezTo>
                  <a:pt x="1957" y="483"/>
                  <a:pt x="1916" y="480"/>
                  <a:pt x="1880" y="498"/>
                </a:cubicBezTo>
                <a:cubicBezTo>
                  <a:pt x="1790" y="543"/>
                  <a:pt x="1903" y="489"/>
                  <a:pt x="1830" y="519"/>
                </a:cubicBezTo>
                <a:cubicBezTo>
                  <a:pt x="1820" y="523"/>
                  <a:pt x="1802" y="533"/>
                  <a:pt x="1802" y="533"/>
                </a:cubicBezTo>
                <a:lnTo>
                  <a:pt x="1723" y="771"/>
                </a:lnTo>
                <a:cubicBezTo>
                  <a:pt x="1641" y="813"/>
                  <a:pt x="1615" y="825"/>
                  <a:pt x="1560" y="889"/>
                </a:cubicBezTo>
                <a:cubicBezTo>
                  <a:pt x="1546" y="905"/>
                  <a:pt x="1517" y="923"/>
                  <a:pt x="1517" y="946"/>
                </a:cubicBezTo>
                <a:lnTo>
                  <a:pt x="1361" y="1089"/>
                </a:lnTo>
                <a:lnTo>
                  <a:pt x="862" y="1361"/>
                </a:lnTo>
                <a:lnTo>
                  <a:pt x="680" y="1452"/>
                </a:lnTo>
                <a:lnTo>
                  <a:pt x="544" y="1542"/>
                </a:lnTo>
                <a:lnTo>
                  <a:pt x="453" y="1452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99ff">
                  <a:alpha val="63137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268360" y="2448000"/>
            <a:ext cx="5112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284720" y="2448000"/>
            <a:ext cx="718920" cy="23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73800" y="216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078160" y="4248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021440" y="1800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5292720" y="1800360"/>
                <a:ext cx="71928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3419640" y="2565360"/>
                <a:ext cx="79200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6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1" name=""/>
          <p:cNvSpPr/>
          <p:nvPr/>
        </p:nvSpPr>
        <p:spPr>
          <a:xfrm>
            <a:off x="2195640" y="189000"/>
            <a:ext cx="4608360" cy="2241360"/>
          </a:xfrm>
          <a:custGeom>
            <a:avLst/>
            <a:gdLst/>
            <a:ahLst/>
            <a:rect l="l" t="t" r="r" b="b"/>
            <a:pathLst>
              <a:path w="2903" h="1412">
                <a:moveTo>
                  <a:pt x="46" y="1406"/>
                </a:moveTo>
                <a:lnTo>
                  <a:pt x="1321" y="1412"/>
                </a:lnTo>
                <a:lnTo>
                  <a:pt x="2903" y="499"/>
                </a:lnTo>
                <a:lnTo>
                  <a:pt x="2812" y="363"/>
                </a:lnTo>
                <a:lnTo>
                  <a:pt x="2722" y="272"/>
                </a:lnTo>
                <a:lnTo>
                  <a:pt x="2631" y="181"/>
                </a:lnTo>
                <a:lnTo>
                  <a:pt x="2540" y="136"/>
                </a:lnTo>
                <a:lnTo>
                  <a:pt x="2450" y="91"/>
                </a:lnTo>
                <a:lnTo>
                  <a:pt x="2404" y="91"/>
                </a:lnTo>
                <a:lnTo>
                  <a:pt x="2223" y="91"/>
                </a:lnTo>
                <a:lnTo>
                  <a:pt x="2132" y="45"/>
                </a:lnTo>
                <a:lnTo>
                  <a:pt x="2041" y="45"/>
                </a:lnTo>
                <a:lnTo>
                  <a:pt x="1860" y="45"/>
                </a:lnTo>
                <a:lnTo>
                  <a:pt x="1724" y="45"/>
                </a:lnTo>
                <a:lnTo>
                  <a:pt x="1588" y="0"/>
                </a:lnTo>
                <a:lnTo>
                  <a:pt x="1497" y="45"/>
                </a:lnTo>
                <a:lnTo>
                  <a:pt x="1361" y="45"/>
                </a:lnTo>
                <a:lnTo>
                  <a:pt x="1179" y="45"/>
                </a:lnTo>
                <a:lnTo>
                  <a:pt x="1043" y="45"/>
                </a:lnTo>
                <a:lnTo>
                  <a:pt x="817" y="91"/>
                </a:lnTo>
                <a:lnTo>
                  <a:pt x="726" y="136"/>
                </a:lnTo>
                <a:lnTo>
                  <a:pt x="544" y="136"/>
                </a:lnTo>
                <a:lnTo>
                  <a:pt x="454" y="272"/>
                </a:lnTo>
                <a:lnTo>
                  <a:pt x="408" y="363"/>
                </a:lnTo>
                <a:cubicBezTo>
                  <a:pt x="396" y="373"/>
                  <a:pt x="387" y="387"/>
                  <a:pt x="373" y="394"/>
                </a:cubicBezTo>
                <a:cubicBezTo>
                  <a:pt x="349" y="407"/>
                  <a:pt x="283" y="417"/>
                  <a:pt x="254" y="429"/>
                </a:cubicBezTo>
                <a:cubicBezTo>
                  <a:pt x="225" y="441"/>
                  <a:pt x="191" y="449"/>
                  <a:pt x="169" y="471"/>
                </a:cubicBezTo>
                <a:cubicBezTo>
                  <a:pt x="157" y="483"/>
                  <a:pt x="134" y="506"/>
                  <a:pt x="134" y="506"/>
                </a:cubicBezTo>
                <a:lnTo>
                  <a:pt x="91" y="635"/>
                </a:lnTo>
                <a:lnTo>
                  <a:pt x="91" y="816"/>
                </a:lnTo>
                <a:lnTo>
                  <a:pt x="0" y="952"/>
                </a:lnTo>
                <a:lnTo>
                  <a:pt x="46" y="1179"/>
                </a:lnTo>
                <a:lnTo>
                  <a:pt x="46" y="1270"/>
                </a:lnTo>
                <a:lnTo>
                  <a:pt x="46" y="1361"/>
                </a:lnTo>
                <a:lnTo>
                  <a:pt x="46" y="1406"/>
                </a:lnTo>
                <a:close/>
              </a:path>
            </a:pathLst>
          </a:custGeom>
          <a:gradFill rotWithShape="0">
            <a:gsLst>
              <a:gs pos="0">
                <a:srgbClr val="66ffff">
                  <a:alpha val="38039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6053040" y="5877000"/>
                <a:ext cx="246240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СОD</m:t>
                    </m:r>
                    <m:r>
                      <m:t xml:space="preserve">;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АО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3" name=""/>
          <p:cNvSpPr/>
          <p:nvPr/>
        </p:nvSpPr>
        <p:spPr>
          <a:xfrm>
            <a:off x="4397400" y="5805360"/>
            <a:ext cx="15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vers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427640" y="5589720"/>
            <a:ext cx="439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14384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Univers"/>
              </a:rPr>
              <a:t>Задача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>
            <a:hlinkClick r:id="rId1" action="ppaction://hlinksldjump"/>
          </p:cNvPr>
          <p:cNvSpPr/>
          <p:nvPr/>
        </p:nvSpPr>
        <p:spPr>
          <a:xfrm>
            <a:off x="395280" y="6021360"/>
            <a:ext cx="649440" cy="647640"/>
          </a:xfrm>
          <a:custGeom>
            <a:avLst/>
            <a:gdLst>
              <a:gd name="textAreaLeft" fmla="*/ 41760 w 649440"/>
              <a:gd name="textAreaRight" fmla="*/ 607680 w 6494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60" h="21600">
                <a:moveTo>
                  <a:pt x="0" y="0"/>
                </a:moveTo>
                <a:lnTo>
                  <a:pt x="21660" y="0"/>
                </a:lnTo>
                <a:lnTo>
                  <a:pt x="21660" y="21600"/>
                </a:lnTo>
                <a:lnTo>
                  <a:pt x="0" y="21600"/>
                </a:lnTo>
                <a:close/>
              </a:path>
              <a:path fill="lightenLess" w="21660" h="21600">
                <a:moveTo>
                  <a:pt x="0" y="0"/>
                </a:moveTo>
                <a:lnTo>
                  <a:pt x="21660" y="0"/>
                </a:lnTo>
                <a:lnTo>
                  <a:pt x="20260" y="1400"/>
                </a:lnTo>
                <a:lnTo>
                  <a:pt x="1400" y="1400"/>
                </a:lnTo>
                <a:close/>
              </a:path>
              <a:path fill="darken" w="21660" h="21600">
                <a:moveTo>
                  <a:pt x="21660" y="0"/>
                </a:moveTo>
                <a:lnTo>
                  <a:pt x="21660" y="21600"/>
                </a:lnTo>
                <a:lnTo>
                  <a:pt x="20260" y="20200"/>
                </a:lnTo>
                <a:lnTo>
                  <a:pt x="20260" y="1400"/>
                </a:lnTo>
                <a:close/>
              </a:path>
              <a:path fill="darkenLess" w="21660" h="21600">
                <a:moveTo>
                  <a:pt x="216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0" y="20200"/>
                </a:lnTo>
                <a:close/>
              </a:path>
              <a:path fill="lighten" w="216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0" h="21600">
                <a:moveTo>
                  <a:pt x="10830" y="3837"/>
                </a:moveTo>
                <a:lnTo>
                  <a:pt x="13406" y="6448"/>
                </a:lnTo>
                <a:lnTo>
                  <a:pt x="13406" y="4707"/>
                </a:lnTo>
                <a:lnTo>
                  <a:pt x="15182" y="4707"/>
                </a:lnTo>
                <a:lnTo>
                  <a:pt x="15182" y="8224"/>
                </a:lnTo>
                <a:lnTo>
                  <a:pt x="17793" y="10800"/>
                </a:lnTo>
                <a:lnTo>
                  <a:pt x="16139" y="10800"/>
                </a:lnTo>
                <a:lnTo>
                  <a:pt x="16139" y="17989"/>
                </a:lnTo>
                <a:lnTo>
                  <a:pt x="5521" y="17989"/>
                </a:lnTo>
                <a:lnTo>
                  <a:pt x="5521" y="10800"/>
                </a:lnTo>
                <a:lnTo>
                  <a:pt x="3867" y="10800"/>
                </a:lnTo>
                <a:close/>
              </a:path>
              <a:path fill="darkenLess" w="21660" h="21600">
                <a:moveTo>
                  <a:pt x="13406" y="6448"/>
                </a:moveTo>
                <a:lnTo>
                  <a:pt x="13406" y="4707"/>
                </a:lnTo>
                <a:lnTo>
                  <a:pt x="15182" y="4707"/>
                </a:lnTo>
                <a:lnTo>
                  <a:pt x="15182" y="8224"/>
                </a:lnTo>
                <a:close/>
              </a:path>
              <a:path fill="darkenLess" w="21660" h="21600">
                <a:moveTo>
                  <a:pt x="9907" y="14299"/>
                </a:moveTo>
                <a:lnTo>
                  <a:pt x="11753" y="14299"/>
                </a:lnTo>
                <a:lnTo>
                  <a:pt x="11753" y="17989"/>
                </a:lnTo>
                <a:lnTo>
                  <a:pt x="16139" y="17989"/>
                </a:lnTo>
                <a:lnTo>
                  <a:pt x="16139" y="10800"/>
                </a:lnTo>
                <a:lnTo>
                  <a:pt x="5521" y="10800"/>
                </a:lnTo>
                <a:lnTo>
                  <a:pt x="5521" y="17989"/>
                </a:lnTo>
                <a:lnTo>
                  <a:pt x="9907" y="17989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2dffd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140360" y="1484280"/>
            <a:ext cx="3336840" cy="2664000"/>
          </a:xfrm>
          <a:custGeom>
            <a:avLst/>
            <a:gdLst/>
            <a:ahLst/>
            <a:rect l="l" t="t" r="r" b="b"/>
            <a:pathLst>
              <a:path w="2102" h="1678">
                <a:moveTo>
                  <a:pt x="0" y="1678"/>
                </a:moveTo>
                <a:lnTo>
                  <a:pt x="2102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4788000" y="4869000"/>
                <a:ext cx="240660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β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9" name=""/>
          <p:cNvSpPr/>
          <p:nvPr/>
        </p:nvSpPr>
        <p:spPr>
          <a:xfrm>
            <a:off x="4643280" y="5734080"/>
            <a:ext cx="3829320" cy="23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6372360" y="5877000"/>
                <a:ext cx="221112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−</m:t>
                    </m:r>
                    <m:r>
                      <m:t xml:space="preserve">?</m:t>
                    </m:r>
                    <m:r>
                      <m:t xml:space="preserve">β</m:t>
                    </m:r>
                    <m:r>
                      <m:t xml:space="preserve">−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1" name=""/>
          <p:cNvSpPr/>
          <p:nvPr/>
        </p:nvSpPr>
        <p:spPr>
          <a:xfrm>
            <a:off x="4140360" y="1557360"/>
            <a:ext cx="4392360" cy="2592360"/>
          </a:xfrm>
          <a:custGeom>
            <a:avLst/>
            <a:gdLst/>
            <a:ahLst/>
            <a:rect l="l" t="t" r="r" b="b"/>
            <a:pathLst>
              <a:path w="2767" h="1633">
                <a:moveTo>
                  <a:pt x="2087" y="0"/>
                </a:moveTo>
                <a:lnTo>
                  <a:pt x="0" y="1633"/>
                </a:lnTo>
                <a:lnTo>
                  <a:pt x="2513" y="1627"/>
                </a:lnTo>
                <a:lnTo>
                  <a:pt x="2722" y="1361"/>
                </a:lnTo>
                <a:lnTo>
                  <a:pt x="2767" y="1088"/>
                </a:lnTo>
                <a:lnTo>
                  <a:pt x="2722" y="862"/>
                </a:lnTo>
                <a:lnTo>
                  <a:pt x="2631" y="544"/>
                </a:lnTo>
                <a:lnTo>
                  <a:pt x="2540" y="363"/>
                </a:lnTo>
                <a:lnTo>
                  <a:pt x="2404" y="227"/>
                </a:lnTo>
                <a:lnTo>
                  <a:pt x="2268" y="91"/>
                </a:lnTo>
                <a:lnTo>
                  <a:pt x="2132" y="45"/>
                </a:lnTo>
                <a:lnTo>
                  <a:pt x="2087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66ff">
                  <a:alpha val="44313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547640" y="1125360"/>
            <a:ext cx="5616720" cy="3024360"/>
          </a:xfrm>
          <a:custGeom>
            <a:avLst/>
            <a:gdLst/>
            <a:ahLst/>
            <a:rect l="l" t="t" r="r" b="b"/>
            <a:pathLst>
              <a:path w="3538" h="1905">
                <a:moveTo>
                  <a:pt x="0" y="1905"/>
                </a:moveTo>
                <a:lnTo>
                  <a:pt x="1613" y="1899"/>
                </a:lnTo>
                <a:lnTo>
                  <a:pt x="3538" y="363"/>
                </a:lnTo>
                <a:lnTo>
                  <a:pt x="3221" y="136"/>
                </a:lnTo>
                <a:lnTo>
                  <a:pt x="2994" y="45"/>
                </a:lnTo>
                <a:lnTo>
                  <a:pt x="2631" y="45"/>
                </a:lnTo>
                <a:lnTo>
                  <a:pt x="2314" y="45"/>
                </a:lnTo>
                <a:lnTo>
                  <a:pt x="2132" y="0"/>
                </a:lnTo>
                <a:lnTo>
                  <a:pt x="2041" y="0"/>
                </a:lnTo>
                <a:lnTo>
                  <a:pt x="1769" y="0"/>
                </a:lnTo>
                <a:lnTo>
                  <a:pt x="1543" y="45"/>
                </a:lnTo>
                <a:lnTo>
                  <a:pt x="1406" y="90"/>
                </a:lnTo>
                <a:lnTo>
                  <a:pt x="1225" y="136"/>
                </a:lnTo>
                <a:lnTo>
                  <a:pt x="908" y="226"/>
                </a:lnTo>
                <a:lnTo>
                  <a:pt x="726" y="317"/>
                </a:lnTo>
                <a:lnTo>
                  <a:pt x="635" y="453"/>
                </a:lnTo>
                <a:lnTo>
                  <a:pt x="499" y="544"/>
                </a:lnTo>
                <a:lnTo>
                  <a:pt x="409" y="725"/>
                </a:lnTo>
                <a:cubicBezTo>
                  <a:pt x="363" y="770"/>
                  <a:pt x="312" y="811"/>
                  <a:pt x="272" y="861"/>
                </a:cubicBezTo>
                <a:cubicBezTo>
                  <a:pt x="267" y="867"/>
                  <a:pt x="282" y="874"/>
                  <a:pt x="284" y="882"/>
                </a:cubicBezTo>
                <a:cubicBezTo>
                  <a:pt x="289" y="905"/>
                  <a:pt x="289" y="929"/>
                  <a:pt x="290" y="953"/>
                </a:cubicBezTo>
                <a:cubicBezTo>
                  <a:pt x="291" y="990"/>
                  <a:pt x="290" y="1028"/>
                  <a:pt x="290" y="1065"/>
                </a:cubicBezTo>
                <a:cubicBezTo>
                  <a:pt x="249" y="1110"/>
                  <a:pt x="210" y="1153"/>
                  <a:pt x="190" y="1212"/>
                </a:cubicBezTo>
                <a:cubicBezTo>
                  <a:pt x="188" y="1228"/>
                  <a:pt x="186" y="1243"/>
                  <a:pt x="184" y="1259"/>
                </a:cubicBezTo>
                <a:cubicBezTo>
                  <a:pt x="182" y="1271"/>
                  <a:pt x="178" y="1294"/>
                  <a:pt x="178" y="1294"/>
                </a:cubicBezTo>
                <a:lnTo>
                  <a:pt x="136" y="1406"/>
                </a:lnTo>
                <a:cubicBezTo>
                  <a:pt x="127" y="1445"/>
                  <a:pt x="113" y="1483"/>
                  <a:pt x="108" y="1523"/>
                </a:cubicBezTo>
                <a:cubicBezTo>
                  <a:pt x="99" y="1588"/>
                  <a:pt x="100" y="1659"/>
                  <a:pt x="84" y="1723"/>
                </a:cubicBezTo>
                <a:cubicBezTo>
                  <a:pt x="82" y="1737"/>
                  <a:pt x="82" y="1750"/>
                  <a:pt x="79" y="1764"/>
                </a:cubicBezTo>
                <a:cubicBezTo>
                  <a:pt x="78" y="1770"/>
                  <a:pt x="73" y="1782"/>
                  <a:pt x="73" y="1782"/>
                </a:cubicBezTo>
                <a:lnTo>
                  <a:pt x="0" y="1859"/>
                </a:lnTo>
                <a:lnTo>
                  <a:pt x="0" y="1905"/>
                </a:lnTo>
                <a:close/>
              </a:path>
            </a:pathLst>
          </a:custGeom>
          <a:gradFill rotWithShape="0">
            <a:gsLst>
              <a:gs pos="0">
                <a:srgbClr val="f0fa90">
                  <a:alpha val="76078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5148360" y="3502080"/>
                <a:ext cx="57600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3564000" y="3430440"/>
                <a:ext cx="58572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5" name=""/>
          <p:cNvSpPr/>
          <p:nvPr/>
        </p:nvSpPr>
        <p:spPr>
          <a:xfrm>
            <a:off x="971640" y="4149720"/>
            <a:ext cx="6697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14384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Univers"/>
              </a:rPr>
              <a:t>Задача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01800" y="35020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734160" y="10540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381800" y="35020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996720" y="429264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>
            <a:hlinkClick r:id="rId1" action="ppaction://hlinksldjump"/>
          </p:cNvPr>
          <p:cNvSpPr/>
          <p:nvPr/>
        </p:nvSpPr>
        <p:spPr>
          <a:xfrm>
            <a:off x="395280" y="6021360"/>
            <a:ext cx="649440" cy="647640"/>
          </a:xfrm>
          <a:custGeom>
            <a:avLst/>
            <a:gdLst>
              <a:gd name="textAreaLeft" fmla="*/ 41760 w 649440"/>
              <a:gd name="textAreaRight" fmla="*/ 607680 w 6494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60" h="21600">
                <a:moveTo>
                  <a:pt x="0" y="0"/>
                </a:moveTo>
                <a:lnTo>
                  <a:pt x="21660" y="0"/>
                </a:lnTo>
                <a:lnTo>
                  <a:pt x="21660" y="21600"/>
                </a:lnTo>
                <a:lnTo>
                  <a:pt x="0" y="21600"/>
                </a:lnTo>
                <a:close/>
              </a:path>
              <a:path fill="lightenLess" w="21660" h="21600">
                <a:moveTo>
                  <a:pt x="0" y="0"/>
                </a:moveTo>
                <a:lnTo>
                  <a:pt x="21660" y="0"/>
                </a:lnTo>
                <a:lnTo>
                  <a:pt x="20260" y="1400"/>
                </a:lnTo>
                <a:lnTo>
                  <a:pt x="1400" y="1400"/>
                </a:lnTo>
                <a:close/>
              </a:path>
              <a:path fill="darken" w="21660" h="21600">
                <a:moveTo>
                  <a:pt x="21660" y="0"/>
                </a:moveTo>
                <a:lnTo>
                  <a:pt x="21660" y="21600"/>
                </a:lnTo>
                <a:lnTo>
                  <a:pt x="20260" y="20200"/>
                </a:lnTo>
                <a:lnTo>
                  <a:pt x="20260" y="1400"/>
                </a:lnTo>
                <a:close/>
              </a:path>
              <a:path fill="darkenLess" w="21660" h="21600">
                <a:moveTo>
                  <a:pt x="216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0" y="20200"/>
                </a:lnTo>
                <a:close/>
              </a:path>
              <a:path fill="lighten" w="216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0" h="21600">
                <a:moveTo>
                  <a:pt x="10830" y="3837"/>
                </a:moveTo>
                <a:lnTo>
                  <a:pt x="13406" y="6448"/>
                </a:lnTo>
                <a:lnTo>
                  <a:pt x="13406" y="4707"/>
                </a:lnTo>
                <a:lnTo>
                  <a:pt x="15182" y="4707"/>
                </a:lnTo>
                <a:lnTo>
                  <a:pt x="15182" y="8224"/>
                </a:lnTo>
                <a:lnTo>
                  <a:pt x="17793" y="10800"/>
                </a:lnTo>
                <a:lnTo>
                  <a:pt x="16139" y="10800"/>
                </a:lnTo>
                <a:lnTo>
                  <a:pt x="16139" y="17989"/>
                </a:lnTo>
                <a:lnTo>
                  <a:pt x="5521" y="17989"/>
                </a:lnTo>
                <a:lnTo>
                  <a:pt x="5521" y="10800"/>
                </a:lnTo>
                <a:lnTo>
                  <a:pt x="3867" y="10800"/>
                </a:lnTo>
                <a:close/>
              </a:path>
              <a:path fill="darkenLess" w="21660" h="21600">
                <a:moveTo>
                  <a:pt x="13406" y="6448"/>
                </a:moveTo>
                <a:lnTo>
                  <a:pt x="13406" y="4707"/>
                </a:lnTo>
                <a:lnTo>
                  <a:pt x="15182" y="4707"/>
                </a:lnTo>
                <a:lnTo>
                  <a:pt x="15182" y="8224"/>
                </a:lnTo>
                <a:close/>
              </a:path>
              <a:path fill="darkenLess" w="21660" h="21600">
                <a:moveTo>
                  <a:pt x="9907" y="14299"/>
                </a:moveTo>
                <a:lnTo>
                  <a:pt x="11753" y="14299"/>
                </a:lnTo>
                <a:lnTo>
                  <a:pt x="11753" y="17989"/>
                </a:lnTo>
                <a:lnTo>
                  <a:pt x="16139" y="17989"/>
                </a:lnTo>
                <a:lnTo>
                  <a:pt x="16139" y="10800"/>
                </a:lnTo>
                <a:lnTo>
                  <a:pt x="5521" y="10800"/>
                </a:lnTo>
                <a:lnTo>
                  <a:pt x="5521" y="17989"/>
                </a:lnTo>
                <a:lnTo>
                  <a:pt x="9907" y="17989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2dffd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757760" y="5950080"/>
            <a:ext cx="15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vers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211400" y="627120"/>
            <a:ext cx="6192720" cy="3313080"/>
          </a:xfrm>
          <a:custGeom>
            <a:avLst/>
            <a:gdLst/>
            <a:ahLst/>
            <a:rect l="l" t="t" r="r" b="b"/>
            <a:pathLst>
              <a:path w="3901" h="2087">
                <a:moveTo>
                  <a:pt x="45" y="2087"/>
                </a:moveTo>
                <a:lnTo>
                  <a:pt x="1804" y="2081"/>
                </a:lnTo>
                <a:lnTo>
                  <a:pt x="3901" y="408"/>
                </a:lnTo>
                <a:lnTo>
                  <a:pt x="3583" y="182"/>
                </a:lnTo>
                <a:lnTo>
                  <a:pt x="3447" y="91"/>
                </a:lnTo>
                <a:lnTo>
                  <a:pt x="3266" y="46"/>
                </a:lnTo>
                <a:lnTo>
                  <a:pt x="3084" y="46"/>
                </a:lnTo>
                <a:lnTo>
                  <a:pt x="2767" y="0"/>
                </a:lnTo>
                <a:lnTo>
                  <a:pt x="2540" y="0"/>
                </a:lnTo>
                <a:lnTo>
                  <a:pt x="2268" y="0"/>
                </a:lnTo>
                <a:lnTo>
                  <a:pt x="1950" y="0"/>
                </a:lnTo>
                <a:lnTo>
                  <a:pt x="1588" y="46"/>
                </a:lnTo>
                <a:lnTo>
                  <a:pt x="1270" y="46"/>
                </a:lnTo>
                <a:lnTo>
                  <a:pt x="998" y="91"/>
                </a:lnTo>
                <a:lnTo>
                  <a:pt x="726" y="227"/>
                </a:lnTo>
                <a:lnTo>
                  <a:pt x="454" y="363"/>
                </a:lnTo>
                <a:lnTo>
                  <a:pt x="363" y="590"/>
                </a:lnTo>
                <a:lnTo>
                  <a:pt x="272" y="726"/>
                </a:lnTo>
                <a:lnTo>
                  <a:pt x="227" y="907"/>
                </a:lnTo>
                <a:lnTo>
                  <a:pt x="136" y="1225"/>
                </a:lnTo>
                <a:lnTo>
                  <a:pt x="91" y="1542"/>
                </a:lnTo>
                <a:lnTo>
                  <a:pt x="0" y="1769"/>
                </a:lnTo>
                <a:lnTo>
                  <a:pt x="0" y="1996"/>
                </a:lnTo>
                <a:lnTo>
                  <a:pt x="45" y="2041"/>
                </a:lnTo>
                <a:lnTo>
                  <a:pt x="45" y="2087"/>
                </a:lnTo>
                <a:close/>
              </a:path>
            </a:pathLst>
          </a:custGeom>
          <a:gradFill rotWithShape="0">
            <a:gsLst>
              <a:gs pos="0">
                <a:srgbClr val="adf0f9">
                  <a:alpha val="74117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091040" y="1347840"/>
            <a:ext cx="4740120" cy="2597040"/>
          </a:xfrm>
          <a:custGeom>
            <a:avLst/>
            <a:gdLst/>
            <a:ahLst/>
            <a:rect l="l" t="t" r="r" b="b"/>
            <a:pathLst>
              <a:path w="2986" h="1636">
                <a:moveTo>
                  <a:pt x="2477" y="1621"/>
                </a:moveTo>
                <a:lnTo>
                  <a:pt x="0" y="1623"/>
                </a:lnTo>
                <a:lnTo>
                  <a:pt x="1977" y="52"/>
                </a:lnTo>
                <a:lnTo>
                  <a:pt x="2445" y="0"/>
                </a:lnTo>
                <a:lnTo>
                  <a:pt x="2978" y="726"/>
                </a:lnTo>
                <a:lnTo>
                  <a:pt x="2986" y="1081"/>
                </a:lnTo>
                <a:lnTo>
                  <a:pt x="2936" y="1508"/>
                </a:lnTo>
                <a:lnTo>
                  <a:pt x="2360" y="1636"/>
                </a:lnTo>
                <a:lnTo>
                  <a:pt x="2360" y="1622"/>
                </a:lnTo>
                <a:lnTo>
                  <a:pt x="2351" y="1621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0fa90">
                  <a:alpha val="81176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282680" y="3938760"/>
            <a:ext cx="6711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067280" y="1268280"/>
            <a:ext cx="3355920" cy="266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3514680" y="3363840"/>
                <a:ext cx="64764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5027760" y="3219480"/>
                <a:ext cx="5857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5076720" y="4724280"/>
                <a:ext cx="266868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−</m:t>
                    </m:r>
                    <m:r>
                      <m:t xml:space="preserve">β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10" name=""/>
          <p:cNvSpPr/>
          <p:nvPr/>
        </p:nvSpPr>
        <p:spPr>
          <a:xfrm>
            <a:off x="4572000" y="5516640"/>
            <a:ext cx="396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6012000" y="5805360"/>
                <a:ext cx="244944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−</m:t>
                    </m:r>
                    <m:r>
                      <m:t xml:space="preserve">?</m:t>
                    </m:r>
                    <m:r>
                      <m:t xml:space="preserve">β</m:t>
                    </m:r>
                    <m:r>
                      <m:t xml:space="preserve">−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2" name=""/>
          <p:cNvSpPr/>
          <p:nvPr/>
        </p:nvSpPr>
        <p:spPr>
          <a:xfrm>
            <a:off x="1141560" y="32194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973920" y="7714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621560" y="32907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804840" y="401148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14384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Univers"/>
              </a:rPr>
              <a:t>Задача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>
            <a:hlinkClick r:id="rId1" action="ppaction://hlinksldjump"/>
          </p:cNvPr>
          <p:cNvSpPr/>
          <p:nvPr/>
        </p:nvSpPr>
        <p:spPr>
          <a:xfrm>
            <a:off x="395280" y="6021360"/>
            <a:ext cx="649440" cy="647640"/>
          </a:xfrm>
          <a:custGeom>
            <a:avLst/>
            <a:gdLst>
              <a:gd name="textAreaLeft" fmla="*/ 41760 w 649440"/>
              <a:gd name="textAreaRight" fmla="*/ 607680 w 6494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60" h="21600">
                <a:moveTo>
                  <a:pt x="0" y="0"/>
                </a:moveTo>
                <a:lnTo>
                  <a:pt x="21660" y="0"/>
                </a:lnTo>
                <a:lnTo>
                  <a:pt x="21660" y="21600"/>
                </a:lnTo>
                <a:lnTo>
                  <a:pt x="0" y="21600"/>
                </a:lnTo>
                <a:close/>
              </a:path>
              <a:path fill="lightenLess" w="21660" h="21600">
                <a:moveTo>
                  <a:pt x="0" y="0"/>
                </a:moveTo>
                <a:lnTo>
                  <a:pt x="21660" y="0"/>
                </a:lnTo>
                <a:lnTo>
                  <a:pt x="20260" y="1400"/>
                </a:lnTo>
                <a:lnTo>
                  <a:pt x="1400" y="1400"/>
                </a:lnTo>
                <a:close/>
              </a:path>
              <a:path fill="darken" w="21660" h="21600">
                <a:moveTo>
                  <a:pt x="21660" y="0"/>
                </a:moveTo>
                <a:lnTo>
                  <a:pt x="21660" y="21600"/>
                </a:lnTo>
                <a:lnTo>
                  <a:pt x="20260" y="20200"/>
                </a:lnTo>
                <a:lnTo>
                  <a:pt x="20260" y="1400"/>
                </a:lnTo>
                <a:close/>
              </a:path>
              <a:path fill="darkenLess" w="21660" h="21600">
                <a:moveTo>
                  <a:pt x="216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0" y="20200"/>
                </a:lnTo>
                <a:close/>
              </a:path>
              <a:path fill="lighten" w="216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0" h="21600">
                <a:moveTo>
                  <a:pt x="10830" y="3837"/>
                </a:moveTo>
                <a:lnTo>
                  <a:pt x="13406" y="6448"/>
                </a:lnTo>
                <a:lnTo>
                  <a:pt x="13406" y="4707"/>
                </a:lnTo>
                <a:lnTo>
                  <a:pt x="15182" y="4707"/>
                </a:lnTo>
                <a:lnTo>
                  <a:pt x="15182" y="8224"/>
                </a:lnTo>
                <a:lnTo>
                  <a:pt x="17793" y="10800"/>
                </a:lnTo>
                <a:lnTo>
                  <a:pt x="16139" y="10800"/>
                </a:lnTo>
                <a:lnTo>
                  <a:pt x="16139" y="17989"/>
                </a:lnTo>
                <a:lnTo>
                  <a:pt x="5521" y="17989"/>
                </a:lnTo>
                <a:lnTo>
                  <a:pt x="5521" y="10800"/>
                </a:lnTo>
                <a:lnTo>
                  <a:pt x="3867" y="10800"/>
                </a:lnTo>
                <a:close/>
              </a:path>
              <a:path fill="darkenLess" w="21660" h="21600">
                <a:moveTo>
                  <a:pt x="13406" y="6448"/>
                </a:moveTo>
                <a:lnTo>
                  <a:pt x="13406" y="4707"/>
                </a:lnTo>
                <a:lnTo>
                  <a:pt x="15182" y="4707"/>
                </a:lnTo>
                <a:lnTo>
                  <a:pt x="15182" y="8224"/>
                </a:lnTo>
                <a:close/>
              </a:path>
              <a:path fill="darkenLess" w="21660" h="21600">
                <a:moveTo>
                  <a:pt x="9907" y="14299"/>
                </a:moveTo>
                <a:lnTo>
                  <a:pt x="11753" y="14299"/>
                </a:lnTo>
                <a:lnTo>
                  <a:pt x="11753" y="17989"/>
                </a:lnTo>
                <a:lnTo>
                  <a:pt x="16139" y="17989"/>
                </a:lnTo>
                <a:lnTo>
                  <a:pt x="16139" y="10800"/>
                </a:lnTo>
                <a:lnTo>
                  <a:pt x="5521" y="10800"/>
                </a:lnTo>
                <a:lnTo>
                  <a:pt x="5521" y="17989"/>
                </a:lnTo>
                <a:lnTo>
                  <a:pt x="9907" y="17989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2dffd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470480" y="5877000"/>
            <a:ext cx="15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vers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771480" y="541440"/>
            <a:ext cx="5784840" cy="3313080"/>
          </a:xfrm>
          <a:custGeom>
            <a:avLst/>
            <a:gdLst/>
            <a:ahLst/>
            <a:rect l="l" t="t" r="r" b="b"/>
            <a:pathLst>
              <a:path w="3644" h="2087">
                <a:moveTo>
                  <a:pt x="50" y="2087"/>
                </a:moveTo>
                <a:lnTo>
                  <a:pt x="1793" y="2087"/>
                </a:lnTo>
                <a:lnTo>
                  <a:pt x="3644" y="635"/>
                </a:lnTo>
                <a:lnTo>
                  <a:pt x="3634" y="635"/>
                </a:lnTo>
                <a:lnTo>
                  <a:pt x="3588" y="454"/>
                </a:lnTo>
                <a:lnTo>
                  <a:pt x="3498" y="363"/>
                </a:lnTo>
                <a:lnTo>
                  <a:pt x="3407" y="227"/>
                </a:lnTo>
                <a:lnTo>
                  <a:pt x="3180" y="227"/>
                </a:lnTo>
                <a:lnTo>
                  <a:pt x="2953" y="46"/>
                </a:lnTo>
                <a:lnTo>
                  <a:pt x="2772" y="46"/>
                </a:lnTo>
                <a:lnTo>
                  <a:pt x="2681" y="46"/>
                </a:lnTo>
                <a:lnTo>
                  <a:pt x="2636" y="0"/>
                </a:lnTo>
                <a:lnTo>
                  <a:pt x="2500" y="0"/>
                </a:lnTo>
                <a:lnTo>
                  <a:pt x="2364" y="0"/>
                </a:lnTo>
                <a:lnTo>
                  <a:pt x="2227" y="0"/>
                </a:lnTo>
                <a:lnTo>
                  <a:pt x="2091" y="0"/>
                </a:lnTo>
                <a:lnTo>
                  <a:pt x="1910" y="46"/>
                </a:lnTo>
                <a:lnTo>
                  <a:pt x="1729" y="46"/>
                </a:lnTo>
                <a:lnTo>
                  <a:pt x="1592" y="46"/>
                </a:lnTo>
                <a:lnTo>
                  <a:pt x="1320" y="91"/>
                </a:lnTo>
                <a:lnTo>
                  <a:pt x="1139" y="136"/>
                </a:lnTo>
                <a:cubicBezTo>
                  <a:pt x="1098" y="142"/>
                  <a:pt x="1057" y="142"/>
                  <a:pt x="1017" y="153"/>
                </a:cubicBezTo>
                <a:cubicBezTo>
                  <a:pt x="999" y="158"/>
                  <a:pt x="986" y="173"/>
                  <a:pt x="970" y="183"/>
                </a:cubicBezTo>
                <a:cubicBezTo>
                  <a:pt x="953" y="194"/>
                  <a:pt x="931" y="195"/>
                  <a:pt x="911" y="200"/>
                </a:cubicBezTo>
                <a:cubicBezTo>
                  <a:pt x="901" y="206"/>
                  <a:pt x="882" y="218"/>
                  <a:pt x="882" y="218"/>
                </a:cubicBezTo>
                <a:lnTo>
                  <a:pt x="640" y="363"/>
                </a:lnTo>
                <a:lnTo>
                  <a:pt x="504" y="454"/>
                </a:lnTo>
                <a:lnTo>
                  <a:pt x="368" y="635"/>
                </a:lnTo>
                <a:lnTo>
                  <a:pt x="141" y="862"/>
                </a:lnTo>
                <a:cubicBezTo>
                  <a:pt x="64" y="978"/>
                  <a:pt x="22" y="983"/>
                  <a:pt x="88" y="1076"/>
                </a:cubicBezTo>
                <a:cubicBezTo>
                  <a:pt x="96" y="1100"/>
                  <a:pt x="110" y="1117"/>
                  <a:pt x="118" y="1141"/>
                </a:cubicBezTo>
                <a:cubicBezTo>
                  <a:pt x="120" y="1148"/>
                  <a:pt x="123" y="1164"/>
                  <a:pt x="123" y="1164"/>
                </a:cubicBezTo>
                <a:lnTo>
                  <a:pt x="141" y="1452"/>
                </a:lnTo>
                <a:lnTo>
                  <a:pt x="5" y="1633"/>
                </a:lnTo>
                <a:cubicBezTo>
                  <a:pt x="3" y="1688"/>
                  <a:pt x="0" y="1744"/>
                  <a:pt x="0" y="1799"/>
                </a:cubicBezTo>
                <a:cubicBezTo>
                  <a:pt x="0" y="1816"/>
                  <a:pt x="17" y="1877"/>
                  <a:pt x="18" y="1887"/>
                </a:cubicBezTo>
                <a:cubicBezTo>
                  <a:pt x="20" y="1916"/>
                  <a:pt x="18" y="1946"/>
                  <a:pt x="18" y="1975"/>
                </a:cubicBezTo>
                <a:lnTo>
                  <a:pt x="50" y="2087"/>
                </a:lnTo>
                <a:close/>
              </a:path>
            </a:pathLst>
          </a:custGeom>
          <a:gradFill rotWithShape="0">
            <a:gsLst>
              <a:gs pos="0">
                <a:srgbClr val="dff6b0">
                  <a:alpha val="65098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35280" y="1143000"/>
            <a:ext cx="4718160" cy="2714760"/>
          </a:xfrm>
          <a:custGeom>
            <a:avLst/>
            <a:gdLst/>
            <a:ahLst/>
            <a:rect l="l" t="t" r="r" b="b"/>
            <a:pathLst>
              <a:path w="2972" h="1710">
                <a:moveTo>
                  <a:pt x="2343" y="1710"/>
                </a:moveTo>
                <a:lnTo>
                  <a:pt x="0" y="1710"/>
                </a:lnTo>
                <a:lnTo>
                  <a:pt x="1976" y="154"/>
                </a:lnTo>
                <a:lnTo>
                  <a:pt x="2306" y="0"/>
                </a:lnTo>
                <a:lnTo>
                  <a:pt x="2792" y="402"/>
                </a:lnTo>
                <a:lnTo>
                  <a:pt x="2930" y="380"/>
                </a:lnTo>
                <a:lnTo>
                  <a:pt x="2972" y="1056"/>
                </a:lnTo>
                <a:lnTo>
                  <a:pt x="2498" y="1704"/>
                </a:lnTo>
                <a:lnTo>
                  <a:pt x="2357" y="1710"/>
                </a:lnTo>
                <a:lnTo>
                  <a:pt x="2357" y="1696"/>
                </a:lnTo>
                <a:lnTo>
                  <a:pt x="2348" y="1695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66ff">
                  <a:alpha val="41176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851040" y="3867120"/>
            <a:ext cx="6711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3635280" y="1196640"/>
            <a:ext cx="3355920" cy="266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3156120" y="3205080"/>
                <a:ext cx="57600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4595760" y="3133800"/>
                <a:ext cx="58428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5580000" y="4724280"/>
                <a:ext cx="266868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:</m:t>
                    </m:r>
                    <m:r>
                      <m:t xml:space="preserve">β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: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6" name=""/>
          <p:cNvSpPr/>
          <p:nvPr/>
        </p:nvSpPr>
        <p:spPr>
          <a:xfrm>
            <a:off x="4788000" y="5589720"/>
            <a:ext cx="3816360" cy="25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6227640" y="5877000"/>
                <a:ext cx="2451240" cy="75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−</m:t>
                    </m:r>
                    <m:r>
                      <m:t xml:space="preserve">?</m:t>
                    </m:r>
                    <m:r>
                      <m:t xml:space="preserve">β</m:t>
                    </m:r>
                    <m:r>
                      <m:t xml:space="preserve">−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8" name=""/>
          <p:cNvSpPr/>
          <p:nvPr/>
        </p:nvSpPr>
        <p:spPr>
          <a:xfrm>
            <a:off x="925560" y="31338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326280" y="7570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261200" y="32050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444480" y="399744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14384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Univers"/>
              </a:rPr>
              <a:t>Задача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>
            <a:hlinkClick r:id="rId1" action="ppaction://hlinksldjump"/>
          </p:cNvPr>
          <p:cNvSpPr/>
          <p:nvPr/>
        </p:nvSpPr>
        <p:spPr>
          <a:xfrm>
            <a:off x="395280" y="6021360"/>
            <a:ext cx="649440" cy="647640"/>
          </a:xfrm>
          <a:custGeom>
            <a:avLst/>
            <a:gdLst>
              <a:gd name="textAreaLeft" fmla="*/ 41760 w 649440"/>
              <a:gd name="textAreaRight" fmla="*/ 607680 w 6494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60" h="21600">
                <a:moveTo>
                  <a:pt x="0" y="0"/>
                </a:moveTo>
                <a:lnTo>
                  <a:pt x="21660" y="0"/>
                </a:lnTo>
                <a:lnTo>
                  <a:pt x="21660" y="21600"/>
                </a:lnTo>
                <a:lnTo>
                  <a:pt x="0" y="21600"/>
                </a:lnTo>
                <a:close/>
              </a:path>
              <a:path fill="lightenLess" w="21660" h="21600">
                <a:moveTo>
                  <a:pt x="0" y="0"/>
                </a:moveTo>
                <a:lnTo>
                  <a:pt x="21660" y="0"/>
                </a:lnTo>
                <a:lnTo>
                  <a:pt x="20260" y="1400"/>
                </a:lnTo>
                <a:lnTo>
                  <a:pt x="1400" y="1400"/>
                </a:lnTo>
                <a:close/>
              </a:path>
              <a:path fill="darken" w="21660" h="21600">
                <a:moveTo>
                  <a:pt x="21660" y="0"/>
                </a:moveTo>
                <a:lnTo>
                  <a:pt x="21660" y="21600"/>
                </a:lnTo>
                <a:lnTo>
                  <a:pt x="20260" y="20200"/>
                </a:lnTo>
                <a:lnTo>
                  <a:pt x="20260" y="1400"/>
                </a:lnTo>
                <a:close/>
              </a:path>
              <a:path fill="darkenLess" w="21660" h="21600">
                <a:moveTo>
                  <a:pt x="216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0" y="20200"/>
                </a:lnTo>
                <a:close/>
              </a:path>
              <a:path fill="lighten" w="216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0" h="21600">
                <a:moveTo>
                  <a:pt x="10830" y="3837"/>
                </a:moveTo>
                <a:lnTo>
                  <a:pt x="13406" y="6448"/>
                </a:lnTo>
                <a:lnTo>
                  <a:pt x="13406" y="4707"/>
                </a:lnTo>
                <a:lnTo>
                  <a:pt x="15182" y="4707"/>
                </a:lnTo>
                <a:lnTo>
                  <a:pt x="15182" y="8224"/>
                </a:lnTo>
                <a:lnTo>
                  <a:pt x="17793" y="10800"/>
                </a:lnTo>
                <a:lnTo>
                  <a:pt x="16139" y="10800"/>
                </a:lnTo>
                <a:lnTo>
                  <a:pt x="16139" y="17989"/>
                </a:lnTo>
                <a:lnTo>
                  <a:pt x="5521" y="17989"/>
                </a:lnTo>
                <a:lnTo>
                  <a:pt x="5521" y="10800"/>
                </a:lnTo>
                <a:lnTo>
                  <a:pt x="3867" y="10800"/>
                </a:lnTo>
                <a:close/>
              </a:path>
              <a:path fill="darkenLess" w="21660" h="21600">
                <a:moveTo>
                  <a:pt x="13406" y="6448"/>
                </a:moveTo>
                <a:lnTo>
                  <a:pt x="13406" y="4707"/>
                </a:lnTo>
                <a:lnTo>
                  <a:pt x="15182" y="4707"/>
                </a:lnTo>
                <a:lnTo>
                  <a:pt x="15182" y="8224"/>
                </a:lnTo>
                <a:close/>
              </a:path>
              <a:path fill="darkenLess" w="21660" h="21600">
                <a:moveTo>
                  <a:pt x="9907" y="14299"/>
                </a:moveTo>
                <a:lnTo>
                  <a:pt x="11753" y="14299"/>
                </a:lnTo>
                <a:lnTo>
                  <a:pt x="11753" y="17989"/>
                </a:lnTo>
                <a:lnTo>
                  <a:pt x="16139" y="17989"/>
                </a:lnTo>
                <a:lnTo>
                  <a:pt x="16139" y="10800"/>
                </a:lnTo>
                <a:lnTo>
                  <a:pt x="5521" y="10800"/>
                </a:lnTo>
                <a:lnTo>
                  <a:pt x="5521" y="17989"/>
                </a:lnTo>
                <a:lnTo>
                  <a:pt x="9907" y="17989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2dffd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686120" y="5950080"/>
            <a:ext cx="15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vers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4643280" y="1916280"/>
            <a:ext cx="3529080" cy="2233440"/>
          </a:xfrm>
          <a:custGeom>
            <a:avLst/>
            <a:gdLst/>
            <a:ahLst/>
            <a:rect l="l" t="t" r="r" b="b"/>
            <a:pathLst>
              <a:path w="2223" h="1407">
                <a:moveTo>
                  <a:pt x="1633" y="0"/>
                </a:moveTo>
                <a:lnTo>
                  <a:pt x="0" y="1407"/>
                </a:lnTo>
                <a:lnTo>
                  <a:pt x="2132" y="1407"/>
                </a:lnTo>
                <a:lnTo>
                  <a:pt x="2178" y="1271"/>
                </a:lnTo>
                <a:lnTo>
                  <a:pt x="2223" y="1089"/>
                </a:lnTo>
                <a:lnTo>
                  <a:pt x="2223" y="953"/>
                </a:lnTo>
                <a:lnTo>
                  <a:pt x="2223" y="862"/>
                </a:lnTo>
                <a:lnTo>
                  <a:pt x="2223" y="681"/>
                </a:lnTo>
                <a:lnTo>
                  <a:pt x="2132" y="545"/>
                </a:lnTo>
                <a:lnTo>
                  <a:pt x="2042" y="409"/>
                </a:lnTo>
                <a:lnTo>
                  <a:pt x="2042" y="318"/>
                </a:lnTo>
                <a:lnTo>
                  <a:pt x="1905" y="182"/>
                </a:lnTo>
                <a:cubicBezTo>
                  <a:pt x="1890" y="167"/>
                  <a:pt x="1872" y="154"/>
                  <a:pt x="1860" y="137"/>
                </a:cubicBezTo>
                <a:cubicBezTo>
                  <a:pt x="1856" y="131"/>
                  <a:pt x="1863" y="121"/>
                  <a:pt x="1859" y="115"/>
                </a:cubicBezTo>
                <a:cubicBezTo>
                  <a:pt x="1846" y="95"/>
                  <a:pt x="1757" y="57"/>
                  <a:pt x="1730" y="39"/>
                </a:cubicBezTo>
                <a:cubicBezTo>
                  <a:pt x="1717" y="19"/>
                  <a:pt x="1725" y="21"/>
                  <a:pt x="1712" y="21"/>
                </a:cubicBezTo>
                <a:lnTo>
                  <a:pt x="1633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0fa90">
                  <a:alpha val="50196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763640" y="1052640"/>
            <a:ext cx="5448240" cy="3097080"/>
          </a:xfrm>
          <a:custGeom>
            <a:avLst/>
            <a:gdLst/>
            <a:ahLst/>
            <a:rect l="l" t="t" r="r" b="b"/>
            <a:pathLst>
              <a:path w="3432" h="1951">
                <a:moveTo>
                  <a:pt x="98" y="1940"/>
                </a:moveTo>
                <a:cubicBezTo>
                  <a:pt x="183" y="1926"/>
                  <a:pt x="126" y="1933"/>
                  <a:pt x="269" y="1933"/>
                </a:cubicBezTo>
                <a:lnTo>
                  <a:pt x="1814" y="1951"/>
                </a:lnTo>
                <a:lnTo>
                  <a:pt x="3432" y="548"/>
                </a:lnTo>
                <a:lnTo>
                  <a:pt x="3130" y="363"/>
                </a:lnTo>
                <a:lnTo>
                  <a:pt x="2948" y="227"/>
                </a:lnTo>
                <a:lnTo>
                  <a:pt x="2812" y="182"/>
                </a:lnTo>
                <a:lnTo>
                  <a:pt x="2631" y="91"/>
                </a:lnTo>
                <a:lnTo>
                  <a:pt x="2359" y="91"/>
                </a:lnTo>
                <a:lnTo>
                  <a:pt x="2132" y="46"/>
                </a:lnTo>
                <a:lnTo>
                  <a:pt x="1905" y="0"/>
                </a:lnTo>
                <a:lnTo>
                  <a:pt x="1769" y="0"/>
                </a:lnTo>
                <a:lnTo>
                  <a:pt x="1588" y="46"/>
                </a:lnTo>
                <a:lnTo>
                  <a:pt x="1406" y="0"/>
                </a:lnTo>
                <a:lnTo>
                  <a:pt x="1225" y="46"/>
                </a:lnTo>
                <a:lnTo>
                  <a:pt x="1043" y="46"/>
                </a:lnTo>
                <a:lnTo>
                  <a:pt x="907" y="91"/>
                </a:lnTo>
                <a:lnTo>
                  <a:pt x="771" y="136"/>
                </a:lnTo>
                <a:lnTo>
                  <a:pt x="680" y="136"/>
                </a:lnTo>
                <a:lnTo>
                  <a:pt x="499" y="182"/>
                </a:lnTo>
                <a:lnTo>
                  <a:pt x="408" y="227"/>
                </a:lnTo>
                <a:lnTo>
                  <a:pt x="272" y="318"/>
                </a:lnTo>
                <a:lnTo>
                  <a:pt x="181" y="454"/>
                </a:lnTo>
                <a:lnTo>
                  <a:pt x="91" y="590"/>
                </a:lnTo>
                <a:lnTo>
                  <a:pt x="45" y="907"/>
                </a:lnTo>
                <a:lnTo>
                  <a:pt x="0" y="998"/>
                </a:lnTo>
                <a:lnTo>
                  <a:pt x="0" y="1089"/>
                </a:lnTo>
                <a:lnTo>
                  <a:pt x="45" y="1270"/>
                </a:lnTo>
                <a:lnTo>
                  <a:pt x="0" y="1406"/>
                </a:lnTo>
                <a:lnTo>
                  <a:pt x="0" y="1588"/>
                </a:lnTo>
                <a:lnTo>
                  <a:pt x="0" y="1633"/>
                </a:lnTo>
              </a:path>
            </a:pathLst>
          </a:custGeom>
          <a:gradFill rotWithShape="0">
            <a:gsLst>
              <a:gs pos="0">
                <a:srgbClr val="ff99cc">
                  <a:alpha val="42352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716360" y="414828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4643280" y="2997000"/>
            <a:ext cx="3168720" cy="11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489320" y="4076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868880" y="409896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813440" y="22050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746760" y="126828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345200" y="414828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979640" y="4148280"/>
            <a:ext cx="60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4643280" y="1916280"/>
            <a:ext cx="2592720" cy="22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37040" y="5877000"/>
            <a:ext cx="15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vers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867280" y="5661000"/>
            <a:ext cx="2951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7362720" y="5877000"/>
                <a:ext cx="140508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АО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9" name=""/>
          <p:cNvSpPr/>
          <p:nvPr/>
        </p:nvSpPr>
        <p:spPr>
          <a:xfrm>
            <a:off x="5722920" y="3716280"/>
            <a:ext cx="288720" cy="86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580000" y="3213000"/>
            <a:ext cx="288720" cy="100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6227640" y="3500280"/>
                <a:ext cx="72072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52" name=""/>
          <p:cNvSpPr/>
          <p:nvPr/>
        </p:nvSpPr>
        <p:spPr>
          <a:xfrm>
            <a:off x="714384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Univers"/>
              </a:rPr>
              <a:t>Задача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>
            <a:hlinkClick r:id="rId1" action="ppaction://hlinksldjump"/>
          </p:cNvPr>
          <p:cNvSpPr/>
          <p:nvPr/>
        </p:nvSpPr>
        <p:spPr>
          <a:xfrm>
            <a:off x="395280" y="6021360"/>
            <a:ext cx="649440" cy="647640"/>
          </a:xfrm>
          <a:custGeom>
            <a:avLst/>
            <a:gdLst>
              <a:gd name="textAreaLeft" fmla="*/ 41760 w 649440"/>
              <a:gd name="textAreaRight" fmla="*/ 607680 w 6494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60" h="21600">
                <a:moveTo>
                  <a:pt x="0" y="0"/>
                </a:moveTo>
                <a:lnTo>
                  <a:pt x="21660" y="0"/>
                </a:lnTo>
                <a:lnTo>
                  <a:pt x="21660" y="21600"/>
                </a:lnTo>
                <a:lnTo>
                  <a:pt x="0" y="21600"/>
                </a:lnTo>
                <a:close/>
              </a:path>
              <a:path fill="lightenLess" w="21660" h="21600">
                <a:moveTo>
                  <a:pt x="0" y="0"/>
                </a:moveTo>
                <a:lnTo>
                  <a:pt x="21660" y="0"/>
                </a:lnTo>
                <a:lnTo>
                  <a:pt x="20260" y="1400"/>
                </a:lnTo>
                <a:lnTo>
                  <a:pt x="1400" y="1400"/>
                </a:lnTo>
                <a:close/>
              </a:path>
              <a:path fill="darken" w="21660" h="21600">
                <a:moveTo>
                  <a:pt x="21660" y="0"/>
                </a:moveTo>
                <a:lnTo>
                  <a:pt x="21660" y="21600"/>
                </a:lnTo>
                <a:lnTo>
                  <a:pt x="20260" y="20200"/>
                </a:lnTo>
                <a:lnTo>
                  <a:pt x="20260" y="1400"/>
                </a:lnTo>
                <a:close/>
              </a:path>
              <a:path fill="darkenLess" w="21660" h="21600">
                <a:moveTo>
                  <a:pt x="216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0" y="20200"/>
                </a:lnTo>
                <a:close/>
              </a:path>
              <a:path fill="lighten" w="216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0" h="21600">
                <a:moveTo>
                  <a:pt x="10830" y="3837"/>
                </a:moveTo>
                <a:lnTo>
                  <a:pt x="13406" y="6448"/>
                </a:lnTo>
                <a:lnTo>
                  <a:pt x="13406" y="4707"/>
                </a:lnTo>
                <a:lnTo>
                  <a:pt x="15182" y="4707"/>
                </a:lnTo>
                <a:lnTo>
                  <a:pt x="15182" y="8224"/>
                </a:lnTo>
                <a:lnTo>
                  <a:pt x="17793" y="10800"/>
                </a:lnTo>
                <a:lnTo>
                  <a:pt x="16139" y="10800"/>
                </a:lnTo>
                <a:lnTo>
                  <a:pt x="16139" y="17989"/>
                </a:lnTo>
                <a:lnTo>
                  <a:pt x="5521" y="17989"/>
                </a:lnTo>
                <a:lnTo>
                  <a:pt x="5521" y="10800"/>
                </a:lnTo>
                <a:lnTo>
                  <a:pt x="3867" y="10800"/>
                </a:lnTo>
                <a:close/>
              </a:path>
              <a:path fill="darkenLess" w="21660" h="21600">
                <a:moveTo>
                  <a:pt x="13406" y="6448"/>
                </a:moveTo>
                <a:lnTo>
                  <a:pt x="13406" y="4707"/>
                </a:lnTo>
                <a:lnTo>
                  <a:pt x="15182" y="4707"/>
                </a:lnTo>
                <a:lnTo>
                  <a:pt x="15182" y="8224"/>
                </a:lnTo>
                <a:close/>
              </a:path>
              <a:path fill="darkenLess" w="21660" h="21600">
                <a:moveTo>
                  <a:pt x="9907" y="14299"/>
                </a:moveTo>
                <a:lnTo>
                  <a:pt x="11753" y="14299"/>
                </a:lnTo>
                <a:lnTo>
                  <a:pt x="11753" y="17989"/>
                </a:lnTo>
                <a:lnTo>
                  <a:pt x="16139" y="17989"/>
                </a:lnTo>
                <a:lnTo>
                  <a:pt x="16139" y="10800"/>
                </a:lnTo>
                <a:lnTo>
                  <a:pt x="5521" y="10800"/>
                </a:lnTo>
                <a:lnTo>
                  <a:pt x="5521" y="17989"/>
                </a:lnTo>
                <a:lnTo>
                  <a:pt x="9907" y="17989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2dffd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9T20:41:58Z</dcterms:created>
  <dc:creator>Наталия Обухова</dc:creator>
  <dc:description/>
  <dc:language>en-US</dc:language>
  <cp:lastModifiedBy>Марина</cp:lastModifiedBy>
  <dcterms:modified xsi:type="dcterms:W3CDTF">2011-04-10T15:41:52Z</dcterms:modified>
  <cp:revision>14</cp:revision>
  <dc:subject/>
  <dc:title>Слайд 1</dc:title>
</cp:coreProperties>
</file>