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414-D75C-4CE1-98A4-95547D9A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2B1-A14E-454B-8AD9-67F2A78C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43A-F58C-4246-9B09-D25385E6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985-1859-40CB-99FE-DA7F7786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DB0D-E924-4354-96D2-A12AD1D5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7B40-DB44-467C-8AF5-BCF34D77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C91A-69D5-45FE-8241-EA39C4EE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C1E4-A3CF-4DC6-8366-CBEF4129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D757-5A26-4E84-A9A5-5BE25B15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4AAB-14CC-4C9C-9F4A-15E4394E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1C61-456C-463A-A7BA-DB02EA67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B2D-BC18-4039-8309-CD3BAE29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1654-1592-42C6-B3EF-FF16F146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1C6E-DD0D-4EC4-9902-FA76823B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6105-A93C-43AD-ADDD-2ECE18F0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BAA1-6875-4662-BD0E-61878A53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14E3-5527-4F48-9B77-391FE83A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D31-08D9-4603-A216-B99F3691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504-EBE1-4FF5-8BBD-C758CCFA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15D-3244-4112-A678-76346FB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840-C0D0-427E-885C-12C6AFCD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0C7-975B-4110-99ED-4AE19624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79B-3EFE-40EC-8E79-2FD584A3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EDD-5359-4CF2-8B27-EAA6F68D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5942-94FA-4BAE-845E-A21CEAF14805}" type="datetime">
              <a:rPr b="0" lang="ru-RU" sz="1400" spc="-1" strike="noStrike">
                <a:solidFill>
                  <a:srgbClr val="40458c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1C70-3E0C-4FB9-A240-04B952964C24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F821-5027-460F-94C9-93BD105BF83B}" type="datetime">
              <a:rPr b="0" lang="ru-RU" sz="1400" spc="-1" strike="noStrike">
                <a:solidFill>
                  <a:srgbClr val="40458c"/>
                </a:solidFill>
                <a:latin typeface="Tahom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E7E9-9F8C-4FEC-BA33-6E51081513DD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268360" y="692280"/>
            <a:ext cx="47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еометрия - 7</a:t>
            </a:r>
            <a:endParaRPr b="1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209" name="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755640" y="1628640"/>
            <a:ext cx="7856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чи на построение</a:t>
            </a:r>
            <a:endParaRPr b="1" lang="en-US" sz="6600" spc="1" strike="noStrike">
              <a:ln w="64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" y="4365720"/>
            <a:ext cx="813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чебник "Геометрия 7-9"  Автор Л.С. Атанасян</a:t>
            </a:r>
            <a:endParaRPr b="1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5246640" y="1413000"/>
            <a:ext cx="1846440" cy="4335480"/>
          </a:xfrm>
          <a:custGeom>
            <a:avLst/>
            <a:gdLst/>
            <a:ahLst/>
            <a:rect l="l" t="t" r="r" b="b"/>
            <a:pathLst>
              <a:path w="1163" h="2731">
                <a:moveTo>
                  <a:pt x="9" y="0"/>
                </a:moveTo>
                <a:lnTo>
                  <a:pt x="0" y="2731"/>
                </a:lnTo>
                <a:lnTo>
                  <a:pt x="1163" y="1286"/>
                </a:lnTo>
                <a:lnTo>
                  <a:pt x="9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333600" y="1403280"/>
            <a:ext cx="1914840" cy="4345200"/>
          </a:xfrm>
          <a:custGeom>
            <a:avLst/>
            <a:gdLst/>
            <a:ahLst/>
            <a:rect l="l" t="t" r="r" b="b"/>
            <a:pathLst>
              <a:path w="1206" h="2737">
                <a:moveTo>
                  <a:pt x="1206" y="0"/>
                </a:moveTo>
                <a:lnTo>
                  <a:pt x="1200" y="2737"/>
                </a:lnTo>
                <a:lnTo>
                  <a:pt x="0" y="1304"/>
                </a:lnTo>
                <a:lnTo>
                  <a:pt x="120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11600" y="3481560"/>
            <a:ext cx="5616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4762200">
            <a:off x="2539440" y="-1099440"/>
            <a:ext cx="5375160" cy="53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52" y="3833"/>
                </a:moveTo>
                <a:arcTo wR="10800" hR="10800" stAng="-2410388" swAng="6316870"/>
                <a:lnTo>
                  <a:pt x="10800" y="10800"/>
                </a:lnTo>
                <a:close/>
              </a:path>
              <a:path fill="none" w="21600" h="21600">
                <a:moveTo>
                  <a:pt x="19052" y="3833"/>
                </a:moveTo>
                <a:arcTo wR="10800" hR="10800" stAng="-2410388" swAng="6316870"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 rot="859800">
            <a:off x="4205520" y="723240"/>
            <a:ext cx="5807160" cy="57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30" y="494"/>
                </a:moveTo>
                <a:arcTo wR="10800" hR="10800" stAng="-4355956" swAng="8689113"/>
                <a:lnTo>
                  <a:pt x="10800" y="10800"/>
                </a:lnTo>
                <a:close/>
              </a:path>
              <a:path fill="none" w="21600" h="21600">
                <a:moveTo>
                  <a:pt x="14030" y="494"/>
                </a:moveTo>
                <a:arcTo wR="10800" hR="10800" stAng="-4355956" swAng="8689113"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314880" y="3429000"/>
            <a:ext cx="3817800" cy="73080"/>
            <a:chOff x="3314880" y="3429000"/>
            <a:chExt cx="3817800" cy="73080"/>
          </a:xfrm>
        </p:grpSpPr>
        <p:sp>
          <p:nvSpPr>
            <p:cNvPr id="745" name=""/>
            <p:cNvSpPr/>
            <p:nvPr/>
          </p:nvSpPr>
          <p:spPr>
            <a:xfrm>
              <a:off x="7059960" y="3429000"/>
              <a:ext cx="7272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14880" y="3429000"/>
              <a:ext cx="7164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 flipV="1">
            <a:off x="5259240" y="3212280"/>
            <a:ext cx="182880" cy="258840"/>
          </a:xfrm>
          <a:custGeom>
            <a:avLst/>
            <a:gdLst/>
            <a:ahLst/>
            <a:rect l="l" t="t" r="r" b="b"/>
            <a:pathLst>
              <a:path w="115" h="163">
                <a:moveTo>
                  <a:pt x="112" y="0"/>
                </a:moveTo>
                <a:lnTo>
                  <a:pt x="115" y="163"/>
                </a:lnTo>
                <a:lnTo>
                  <a:pt x="0" y="160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99740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333040" y="5467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06108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7885440" y="2276640"/>
            <a:ext cx="1075320" cy="581400"/>
            <a:chOff x="7885440" y="2276640"/>
            <a:chExt cx="1075320" cy="581400"/>
          </a:xfrm>
        </p:grpSpPr>
        <p:sp>
          <p:nvSpPr>
            <p:cNvPr id="752" name=""/>
            <p:cNvSpPr/>
            <p:nvPr/>
          </p:nvSpPr>
          <p:spPr>
            <a:xfrm>
              <a:off x="7885440" y="227664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М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3" name=""/>
                <p:cNvSpPr txBox="1"/>
                <p:nvPr/>
              </p:nvSpPr>
              <p:spPr>
                <a:xfrm>
                  <a:off x="8316720" y="2347560"/>
                  <a:ext cx="41904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4" name=""/>
          <p:cNvSpPr/>
          <p:nvPr/>
        </p:nvSpPr>
        <p:spPr>
          <a:xfrm rot="20419800">
            <a:off x="454680" y="732960"/>
            <a:ext cx="5807160" cy="57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32" y="907"/>
                </a:moveTo>
                <a:arcTo wR="10800" hR="10800" stAng="-3981079" swAng="8588871"/>
                <a:lnTo>
                  <a:pt x="10800" y="10800"/>
                </a:lnTo>
                <a:close/>
              </a:path>
              <a:path fill="none" w="21600" h="21600">
                <a:moveTo>
                  <a:pt x="15132" y="907"/>
                </a:moveTo>
                <a:arcTo wR="10800" hR="10800" stAng="-3981079" swAng="8588871"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5216400" y="1350360"/>
            <a:ext cx="698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5213520" y="5722200"/>
            <a:ext cx="698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5249520" y="1380960"/>
            <a:ext cx="3469320" cy="2728080"/>
            <a:chOff x="5249520" y="1380960"/>
            <a:chExt cx="3469320" cy="2728080"/>
          </a:xfrm>
        </p:grpSpPr>
        <p:sp>
          <p:nvSpPr>
            <p:cNvPr id="758" name=""/>
            <p:cNvSpPr/>
            <p:nvPr/>
          </p:nvSpPr>
          <p:spPr>
            <a:xfrm rot="3799800">
              <a:off x="6505200" y="1402920"/>
              <a:ext cx="127008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5249520" y="1380960"/>
              <a:ext cx="3425040" cy="2728080"/>
              <a:chOff x="5249520" y="1380960"/>
              <a:chExt cx="3425040" cy="272808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6010200" y="3565800"/>
                <a:ext cx="632160" cy="543240"/>
                <a:chOff x="6010200" y="3565800"/>
                <a:chExt cx="632160" cy="543240"/>
              </a:xfrm>
            </p:grpSpPr>
            <p:sp>
              <p:nvSpPr>
                <p:cNvPr id="761" name=""/>
                <p:cNvSpPr/>
                <p:nvPr/>
              </p:nvSpPr>
              <p:spPr>
                <a:xfrm rot="4398600">
                  <a:off x="6123240" y="3567960"/>
                  <a:ext cx="405720" cy="53820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4398600">
                  <a:off x="6118920" y="3860640"/>
                  <a:ext cx="18540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5249520" y="1380960"/>
                <a:ext cx="3425040" cy="2420280"/>
                <a:chOff x="5249520" y="1380960"/>
                <a:chExt cx="3425040" cy="2420280"/>
              </a:xfrm>
            </p:grpSpPr>
            <p:sp>
              <p:nvSpPr>
                <p:cNvPr id="764" name=""/>
                <p:cNvSpPr/>
                <p:nvPr/>
              </p:nvSpPr>
              <p:spPr>
                <a:xfrm rot="3799800">
                  <a:off x="6789600" y="1553400"/>
                  <a:ext cx="111060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5" name=""/>
                <p:cNvGrpSpPr/>
                <p:nvPr/>
              </p:nvGrpSpPr>
              <p:grpSpPr>
                <a:xfrm>
                  <a:off x="5249520" y="1380960"/>
                  <a:ext cx="2829240" cy="957240"/>
                  <a:chOff x="5249520" y="1380960"/>
                  <a:chExt cx="2829240" cy="95724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 rot="5851800">
                    <a:off x="6455880" y="364320"/>
                    <a:ext cx="357840" cy="27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rot="5851800">
                    <a:off x="7636680" y="1897920"/>
                    <a:ext cx="42912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68" name=""/>
          <p:cNvGrpSpPr/>
          <p:nvPr/>
        </p:nvGrpSpPr>
        <p:grpSpPr>
          <a:xfrm>
            <a:off x="5227560" y="-97200"/>
            <a:ext cx="3151800" cy="3589200"/>
            <a:chOff x="5227560" y="-97200"/>
            <a:chExt cx="3151800" cy="3589200"/>
          </a:xfrm>
        </p:grpSpPr>
        <p:sp>
          <p:nvSpPr>
            <p:cNvPr id="769" name=""/>
            <p:cNvSpPr/>
            <p:nvPr/>
          </p:nvSpPr>
          <p:spPr>
            <a:xfrm flipH="1" rot="3547800">
              <a:off x="6203880" y="-272160"/>
              <a:ext cx="1234080" cy="28936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5227560" y="-34200"/>
              <a:ext cx="3090600" cy="3526200"/>
              <a:chOff x="5227560" y="-34200"/>
              <a:chExt cx="3090600" cy="352620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5227560" y="1022400"/>
                <a:ext cx="668880" cy="650520"/>
                <a:chOff x="5227560" y="1022400"/>
                <a:chExt cx="668880" cy="650520"/>
              </a:xfrm>
            </p:grpSpPr>
            <p:sp>
              <p:nvSpPr>
                <p:cNvPr id="772" name=""/>
                <p:cNvSpPr/>
                <p:nvPr/>
              </p:nvSpPr>
              <p:spPr>
                <a:xfrm flipH="1" rot="2949000">
                  <a:off x="5366160" y="1078560"/>
                  <a:ext cx="394560" cy="53820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2949000">
                  <a:off x="5289840" y="1243080"/>
                  <a:ext cx="18036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5689800" y="-34200"/>
                <a:ext cx="2628360" cy="3526200"/>
                <a:chOff x="5689800" y="-34200"/>
                <a:chExt cx="2628360" cy="3526200"/>
              </a:xfrm>
            </p:grpSpPr>
            <p:sp>
              <p:nvSpPr>
                <p:cNvPr id="775" name=""/>
                <p:cNvSpPr/>
                <p:nvPr/>
              </p:nvSpPr>
              <p:spPr>
                <a:xfrm flipH="1" rot="3547800">
                  <a:off x="6464160" y="-159480"/>
                  <a:ext cx="1078920" cy="2417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6" name=""/>
                <p:cNvGrpSpPr/>
                <p:nvPr/>
              </p:nvGrpSpPr>
              <p:grpSpPr>
                <a:xfrm>
                  <a:off x="6728760" y="697320"/>
                  <a:ext cx="1473120" cy="2794680"/>
                  <a:chOff x="6728760" y="697320"/>
                  <a:chExt cx="1473120" cy="279468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flipH="1" rot="1495200">
                    <a:off x="7291440" y="798840"/>
                    <a:ext cx="347760" cy="27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rot="1495200">
                    <a:off x="7617960" y="766080"/>
                    <a:ext cx="41688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79" name=""/>
          <p:cNvGrpSpPr/>
          <p:nvPr/>
        </p:nvGrpSpPr>
        <p:grpSpPr>
          <a:xfrm>
            <a:off x="2069640" y="-165240"/>
            <a:ext cx="3172680" cy="3640680"/>
            <a:chOff x="2069640" y="-165240"/>
            <a:chExt cx="3172680" cy="3640680"/>
          </a:xfrm>
        </p:grpSpPr>
        <p:sp>
          <p:nvSpPr>
            <p:cNvPr id="780" name=""/>
            <p:cNvSpPr/>
            <p:nvPr/>
          </p:nvSpPr>
          <p:spPr>
            <a:xfrm rot="18094800">
              <a:off x="2999880" y="-313200"/>
              <a:ext cx="127008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2132280" y="-99720"/>
              <a:ext cx="3110040" cy="3575160"/>
              <a:chOff x="2132280" y="-99720"/>
              <a:chExt cx="3110040" cy="3575160"/>
            </a:xfrm>
          </p:grpSpPr>
          <p:grpSp>
            <p:nvGrpSpPr>
              <p:cNvPr id="782" name=""/>
              <p:cNvGrpSpPr/>
              <p:nvPr/>
            </p:nvGrpSpPr>
            <p:grpSpPr>
              <a:xfrm>
                <a:off x="4566960" y="976680"/>
                <a:ext cx="675360" cy="660600"/>
                <a:chOff x="4566960" y="976680"/>
                <a:chExt cx="675360" cy="660600"/>
              </a:xfrm>
            </p:grpSpPr>
            <p:sp>
              <p:nvSpPr>
                <p:cNvPr id="783" name=""/>
                <p:cNvSpPr/>
                <p:nvPr/>
              </p:nvSpPr>
              <p:spPr>
                <a:xfrm rot="18693600">
                  <a:off x="4699800" y="1037520"/>
                  <a:ext cx="405720" cy="53820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rot="18693600">
                  <a:off x="4995360" y="1202400"/>
                  <a:ext cx="18540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2132280" y="-99720"/>
                <a:ext cx="2641320" cy="3575160"/>
                <a:chOff x="2132280" y="-99720"/>
                <a:chExt cx="2641320" cy="3575160"/>
              </a:xfrm>
            </p:grpSpPr>
            <p:sp>
              <p:nvSpPr>
                <p:cNvPr id="786" name=""/>
                <p:cNvSpPr/>
                <p:nvPr/>
              </p:nvSpPr>
              <p:spPr>
                <a:xfrm rot="18094800">
                  <a:off x="2897640" y="-202320"/>
                  <a:ext cx="111060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7" name=""/>
                <p:cNvGrpSpPr/>
                <p:nvPr/>
              </p:nvGrpSpPr>
              <p:grpSpPr>
                <a:xfrm>
                  <a:off x="2228760" y="653400"/>
                  <a:ext cx="1453680" cy="2822040"/>
                  <a:chOff x="2228760" y="653400"/>
                  <a:chExt cx="1453680" cy="282204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 rot="20147400">
                    <a:off x="2776320" y="775080"/>
                    <a:ext cx="357840" cy="27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rot="20147400">
                    <a:off x="2407680" y="723600"/>
                    <a:ext cx="42912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90" name=""/>
          <p:cNvSpPr/>
          <p:nvPr/>
        </p:nvSpPr>
        <p:spPr>
          <a:xfrm>
            <a:off x="7061760" y="337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79016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267600" y="4365720"/>
            <a:ext cx="215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4074120" y="4397040"/>
            <a:ext cx="2102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102280" y="3070080"/>
            <a:ext cx="301680" cy="863640"/>
          </a:xfrm>
          <a:custGeom>
            <a:avLst/>
            <a:gdLst/>
            <a:ahLst/>
            <a:rect l="l" t="t" r="r" b="b"/>
            <a:pathLst>
              <a:path w="190" h="544">
                <a:moveTo>
                  <a:pt x="144" y="0"/>
                </a:moveTo>
                <a:cubicBezTo>
                  <a:pt x="72" y="34"/>
                  <a:pt x="0" y="68"/>
                  <a:pt x="8" y="136"/>
                </a:cubicBezTo>
                <a:cubicBezTo>
                  <a:pt x="16" y="204"/>
                  <a:pt x="190" y="340"/>
                  <a:pt x="190" y="408"/>
                </a:cubicBezTo>
                <a:cubicBezTo>
                  <a:pt x="190" y="476"/>
                  <a:pt x="99" y="510"/>
                  <a:pt x="8" y="5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611280" y="4365720"/>
            <a:ext cx="1512360" cy="369720"/>
            <a:chOff x="611280" y="4365720"/>
            <a:chExt cx="1512360" cy="369720"/>
          </a:xfrm>
        </p:grpSpPr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1765440" y="4365720"/>
                  <a:ext cx="3582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7" name=""/>
                <p:cNvSpPr txBox="1"/>
                <p:nvPr/>
              </p:nvSpPr>
              <p:spPr>
                <a:xfrm>
                  <a:off x="611280" y="4365720"/>
                  <a:ext cx="3582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8" name=""/>
          <p:cNvGrpSpPr/>
          <p:nvPr/>
        </p:nvGrpSpPr>
        <p:grpSpPr>
          <a:xfrm>
            <a:off x="1187280" y="5324400"/>
            <a:ext cx="1485360" cy="459720"/>
            <a:chOff x="1187280" y="5324400"/>
            <a:chExt cx="1485360" cy="459720"/>
          </a:xfrm>
        </p:grpSpPr>
        <p:sp>
          <p:nvSpPr>
            <p:cNvPr id="799" name=""/>
            <p:cNvSpPr/>
            <p:nvPr/>
          </p:nvSpPr>
          <p:spPr>
            <a:xfrm>
              <a:off x="1561320" y="532440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1 =    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0" name=""/>
                <p:cNvSpPr txBox="1"/>
                <p:nvPr/>
              </p:nvSpPr>
              <p:spPr>
                <a:xfrm>
                  <a:off x="1187280" y="5373360"/>
                  <a:ext cx="5396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1" name=""/>
                <p:cNvSpPr txBox="1"/>
                <p:nvPr/>
              </p:nvSpPr>
              <p:spPr>
                <a:xfrm>
                  <a:off x="2132640" y="5373360"/>
                  <a:ext cx="540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2" name=""/>
          <p:cNvSpPr/>
          <p:nvPr/>
        </p:nvSpPr>
        <p:spPr>
          <a:xfrm>
            <a:off x="3346560" y="1405080"/>
            <a:ext cx="3765600" cy="2074680"/>
          </a:xfrm>
          <a:custGeom>
            <a:avLst/>
            <a:gdLst/>
            <a:ahLst/>
            <a:rect l="l" t="t" r="r" b="b"/>
            <a:pathLst>
              <a:path w="2372" h="1307">
                <a:moveTo>
                  <a:pt x="0" y="1303"/>
                </a:moveTo>
                <a:lnTo>
                  <a:pt x="1198" y="0"/>
                </a:lnTo>
                <a:lnTo>
                  <a:pt x="2372" y="1299"/>
                </a:lnTo>
                <a:lnTo>
                  <a:pt x="4" y="130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4860720" y="1700280"/>
            <a:ext cx="817200" cy="586800"/>
            <a:chOff x="4860720" y="1700280"/>
            <a:chExt cx="817200" cy="586800"/>
          </a:xfrm>
        </p:grpSpPr>
        <p:sp>
          <p:nvSpPr>
            <p:cNvPr id="804" name=""/>
            <p:cNvSpPr/>
            <p:nvPr/>
          </p:nvSpPr>
          <p:spPr>
            <a:xfrm>
              <a:off x="4860720" y="1827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344920" y="1827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98240" y="1700280"/>
              <a:ext cx="276480" cy="145080"/>
            </a:xfrm>
            <a:custGeom>
              <a:avLst/>
              <a:gdLst/>
              <a:ahLst/>
              <a:rect l="l" t="t" r="r" b="b"/>
              <a:pathLst>
                <a:path w="181" h="104">
                  <a:moveTo>
                    <a:pt x="0" y="0"/>
                  </a:moveTo>
                  <a:cubicBezTo>
                    <a:pt x="11" y="15"/>
                    <a:pt x="39" y="74"/>
                    <a:pt x="69" y="89"/>
                  </a:cubicBezTo>
                  <a:cubicBezTo>
                    <a:pt x="99" y="104"/>
                    <a:pt x="158" y="91"/>
                    <a:pt x="181" y="9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274720" y="1700280"/>
              <a:ext cx="276480" cy="145080"/>
            </a:xfrm>
            <a:custGeom>
              <a:avLst/>
              <a:gdLst/>
              <a:ahLst/>
              <a:rect l="l" t="t" r="r" b="b"/>
              <a:pathLst>
                <a:path w="181" h="104">
                  <a:moveTo>
                    <a:pt x="0" y="0"/>
                  </a:moveTo>
                  <a:cubicBezTo>
                    <a:pt x="11" y="15"/>
                    <a:pt x="39" y="74"/>
                    <a:pt x="69" y="89"/>
                  </a:cubicBezTo>
                  <a:cubicBezTo>
                    <a:pt x="99" y="104"/>
                    <a:pt x="158" y="91"/>
                    <a:pt x="181" y="9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4106880" y="2421000"/>
            <a:ext cx="21600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162840" y="2381040"/>
            <a:ext cx="210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46640" y="617400"/>
            <a:ext cx="1800" cy="5381640"/>
          </a:xfrm>
          <a:custGeom>
            <a:avLst/>
            <a:gdLst/>
            <a:ahLst/>
            <a:rect l="l" t="t" r="r" b="b"/>
            <a:pathLst>
              <a:path w="1" h="3390">
                <a:moveTo>
                  <a:pt x="0" y="0"/>
                </a:moveTo>
                <a:lnTo>
                  <a:pt x="0" y="33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-82800" y="5877000"/>
            <a:ext cx="9347760" cy="865080"/>
            <a:chOff x="-82800" y="5877000"/>
            <a:chExt cx="9347760" cy="865080"/>
          </a:xfrm>
        </p:grpSpPr>
        <p:sp>
          <p:nvSpPr>
            <p:cNvPr id="812" name=""/>
            <p:cNvSpPr/>
            <p:nvPr/>
          </p:nvSpPr>
          <p:spPr>
            <a:xfrm>
              <a:off x="-82800" y="5877000"/>
              <a:ext cx="934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В р/б треугольнике АМВ отрезок МС является биссектрисой,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а значит, и высотой.   Тогда, </a:t>
              </a:r>
              <a:r>
                <a:rPr b="0" i="1" lang="ru-RU" sz="2400" spc="-1" strike="noStrike">
                  <a:solidFill>
                    <a:srgbClr val="000066"/>
                  </a:solidFill>
                  <a:latin typeface="Tahoma"/>
                </a:rPr>
                <a:t>а     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М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N.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4662360" y="6165720"/>
                  <a:ext cx="53208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814" name=""/>
          <p:cNvSpPr/>
          <p:nvPr/>
        </p:nvSpPr>
        <p:spPr>
          <a:xfrm>
            <a:off x="4502160" y="1125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862440" y="189000"/>
            <a:ext cx="3211920" cy="459720"/>
            <a:chOff x="3862440" y="189000"/>
            <a:chExt cx="3211920" cy="459720"/>
          </a:xfrm>
        </p:grpSpPr>
        <p:sp>
          <p:nvSpPr>
            <p:cNvPr id="816" name=""/>
            <p:cNvSpPr/>
            <p:nvPr/>
          </p:nvSpPr>
          <p:spPr>
            <a:xfrm>
              <a:off x="3862440" y="189000"/>
              <a:ext cx="32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Докажем, что </a:t>
              </a:r>
              <a:r>
                <a:rPr b="0" i="1" lang="ru-RU" sz="2400" spc="-1" strike="noStrike">
                  <a:solidFill>
                    <a:srgbClr val="000066"/>
                  </a:solidFill>
                  <a:latin typeface="Tahoma"/>
                </a:rPr>
                <a:t>а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M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"/>
                <p:cNvSpPr txBox="1"/>
                <p:nvPr/>
              </p:nvSpPr>
              <p:spPr>
                <a:xfrm>
                  <a:off x="6227640" y="261720"/>
                  <a:ext cx="333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818" name=""/>
          <p:cNvSpPr/>
          <p:nvPr/>
        </p:nvSpPr>
        <p:spPr>
          <a:xfrm>
            <a:off x="611280" y="333360"/>
            <a:ext cx="273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смотрим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а расположение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циркулей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М=А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=MB=BN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 равные радиусы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М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-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щая сторона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= 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N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 трем сторона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500"/>
                            </p:stCondLst>
                            <p:childTnLst>
                              <p:par>
                                <p:cTn id="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500"/>
                            </p:stCondLst>
                            <p:childTnLst>
                              <p:par>
                                <p:cTn id="9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9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2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2019240" y="6237360"/>
            <a:ext cx="60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окажем, что О – середина отрезка АВ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3087360" y="656640"/>
            <a:ext cx="2851560" cy="3070080"/>
            <a:chOff x="3087360" y="656640"/>
            <a:chExt cx="2851560" cy="3070080"/>
          </a:xfrm>
        </p:grpSpPr>
        <p:sp>
          <p:nvSpPr>
            <p:cNvPr id="821" name=""/>
            <p:cNvSpPr/>
            <p:nvPr/>
          </p:nvSpPr>
          <p:spPr>
            <a:xfrm rot="21001200">
              <a:off x="4389120" y="744480"/>
              <a:ext cx="127008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3087360" y="683640"/>
              <a:ext cx="2851560" cy="2999160"/>
              <a:chOff x="3087360" y="683640"/>
              <a:chExt cx="2851560" cy="2999160"/>
            </a:xfrm>
          </p:grpSpPr>
          <p:grpSp>
            <p:nvGrpSpPr>
              <p:cNvPr id="823" name=""/>
              <p:cNvGrpSpPr/>
              <p:nvPr/>
            </p:nvGrpSpPr>
            <p:grpSpPr>
              <a:xfrm>
                <a:off x="5533200" y="2985840"/>
                <a:ext cx="405720" cy="544680"/>
                <a:chOff x="5533200" y="2985840"/>
                <a:chExt cx="405720" cy="54468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5533200" y="2985840"/>
                  <a:ext cx="405720" cy="53820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751720" y="3282840"/>
                  <a:ext cx="18540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3087360" y="683640"/>
                <a:ext cx="2667960" cy="2999160"/>
                <a:chOff x="3087360" y="683640"/>
                <a:chExt cx="2667960" cy="2999160"/>
              </a:xfrm>
            </p:grpSpPr>
            <p:sp>
              <p:nvSpPr>
                <p:cNvPr id="827" name=""/>
                <p:cNvSpPr/>
                <p:nvPr/>
              </p:nvSpPr>
              <p:spPr>
                <a:xfrm rot="21001200">
                  <a:off x="4443480" y="761400"/>
                  <a:ext cx="111060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8" name=""/>
                <p:cNvGrpSpPr/>
                <p:nvPr/>
              </p:nvGrpSpPr>
              <p:grpSpPr>
                <a:xfrm>
                  <a:off x="3087360" y="1023480"/>
                  <a:ext cx="1699920" cy="2659320"/>
                  <a:chOff x="3087360" y="1023480"/>
                  <a:chExt cx="1699920" cy="265932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 rot="1453200">
                    <a:off x="3634920" y="982080"/>
                    <a:ext cx="357840" cy="27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rot="1453200">
                    <a:off x="4294440" y="1093680"/>
                    <a:ext cx="42912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831" name=""/>
          <p:cNvGrpSpPr/>
          <p:nvPr/>
        </p:nvGrpSpPr>
        <p:grpSpPr>
          <a:xfrm>
            <a:off x="4428720" y="404640"/>
            <a:ext cx="418320" cy="5571360"/>
            <a:chOff x="4428720" y="404640"/>
            <a:chExt cx="418320" cy="5571360"/>
          </a:xfrm>
        </p:grpSpPr>
        <p:sp>
          <p:nvSpPr>
            <p:cNvPr id="832" name=""/>
            <p:cNvSpPr/>
            <p:nvPr/>
          </p:nvSpPr>
          <p:spPr>
            <a:xfrm>
              <a:off x="4428720" y="5516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473720" y="404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 rot="20740200">
            <a:off x="550800" y="620640"/>
            <a:ext cx="5374800" cy="568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61" y="1010"/>
                </a:moveTo>
                <a:arcTo wR="10800" hR="10800" stAng="-3901205" swAng="9375808"/>
                <a:lnTo>
                  <a:pt x="10800" y="10800"/>
                </a:lnTo>
                <a:close/>
              </a:path>
              <a:path fill="none" w="21600" h="21600">
                <a:moveTo>
                  <a:pt x="15361" y="1010"/>
                </a:moveTo>
                <a:arcTo wR="10800" hR="10800" stAng="-3901205" swAng="9375808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rot="859800">
            <a:off x="3145680" y="550440"/>
            <a:ext cx="5616360" cy="582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85" y="1118"/>
                </a:moveTo>
                <a:arcTo wR="10800" hR="10800" stAng="-3821935" swAng="8906219"/>
                <a:lnTo>
                  <a:pt x="10800" y="10800"/>
                </a:lnTo>
                <a:close/>
              </a:path>
              <a:path fill="none" w="21600" h="21600">
                <a:moveTo>
                  <a:pt x="15585" y="1118"/>
                </a:moveTo>
                <a:arcTo wR="10800" hR="10800" stAng="-3821935" swAng="8906219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500720" y="59500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487760" y="96048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2557800" y="3213000"/>
            <a:ext cx="4085280" cy="797400"/>
            <a:chOff x="2557800" y="3213000"/>
            <a:chExt cx="4085280" cy="797400"/>
          </a:xfrm>
        </p:grpSpPr>
        <p:sp>
          <p:nvSpPr>
            <p:cNvPr id="839" name=""/>
            <p:cNvSpPr/>
            <p:nvPr/>
          </p:nvSpPr>
          <p:spPr>
            <a:xfrm>
              <a:off x="6190920" y="3213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55780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19400" y="3543480"/>
              <a:ext cx="2811240" cy="1440"/>
            </a:xfrm>
            <a:custGeom>
              <a:avLst/>
              <a:gdLst/>
              <a:ahLst/>
              <a:rect l="l" t="t" r="r" b="b"/>
              <a:pathLst>
                <a:path w="1720" h="1">
                  <a:moveTo>
                    <a:pt x="0" y="0"/>
                  </a:moveTo>
                  <a:lnTo>
                    <a:pt x="1720" y="0"/>
                  </a:lnTo>
                </a:path>
              </a:pathLst>
            </a:custGeom>
            <a:noFill/>
            <a:ln w="38160">
              <a:solidFill>
                <a:srgbClr val="cc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068720" y="3429000"/>
            <a:ext cx="503280" cy="581400"/>
            <a:chOff x="4068720" y="3429000"/>
            <a:chExt cx="503280" cy="581400"/>
          </a:xfrm>
        </p:grpSpPr>
        <p:sp>
          <p:nvSpPr>
            <p:cNvPr id="843" name=""/>
            <p:cNvSpPr/>
            <p:nvPr/>
          </p:nvSpPr>
          <p:spPr>
            <a:xfrm>
              <a:off x="4068720" y="342900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502160" y="3500280"/>
              <a:ext cx="69840" cy="71640"/>
            </a:xfrm>
            <a:prstGeom prst="ellipse">
              <a:avLst/>
            </a:prstGeom>
            <a:solidFill>
              <a:srgbClr val="0000cc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-129600" y="666360"/>
            <a:ext cx="6492240" cy="5661000"/>
            <a:chOff x="-129600" y="666360"/>
            <a:chExt cx="6492240" cy="5661000"/>
          </a:xfrm>
        </p:grpSpPr>
        <p:sp>
          <p:nvSpPr>
            <p:cNvPr id="846" name=""/>
            <p:cNvSpPr/>
            <p:nvPr/>
          </p:nvSpPr>
          <p:spPr>
            <a:xfrm flipH="1" flipV="1" rot="4206600">
              <a:off x="811800" y="351360"/>
              <a:ext cx="127008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-91440" y="666360"/>
              <a:ext cx="3284280" cy="2806920"/>
              <a:chOff x="-91440" y="666360"/>
              <a:chExt cx="3284280" cy="2806920"/>
            </a:xfrm>
          </p:grpSpPr>
          <p:grpSp>
            <p:nvGrpSpPr>
              <p:cNvPr id="848" name=""/>
              <p:cNvGrpSpPr/>
              <p:nvPr/>
            </p:nvGrpSpPr>
            <p:grpSpPr>
              <a:xfrm>
                <a:off x="2072160" y="666360"/>
                <a:ext cx="599760" cy="492120"/>
                <a:chOff x="2072160" y="666360"/>
                <a:chExt cx="599760" cy="492120"/>
              </a:xfrm>
            </p:grpSpPr>
            <p:sp>
              <p:nvSpPr>
                <p:cNvPr id="849" name=""/>
                <p:cNvSpPr/>
                <p:nvPr/>
              </p:nvSpPr>
              <p:spPr>
                <a:xfrm flipH="1" flipV="1" rot="4804800">
                  <a:off x="2169000" y="642960"/>
                  <a:ext cx="405720" cy="53784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 flipV="1" rot="4804800">
                  <a:off x="2409840" y="655560"/>
                  <a:ext cx="18540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-91440" y="926280"/>
                <a:ext cx="3284280" cy="2547000"/>
                <a:chOff x="-91440" y="926280"/>
                <a:chExt cx="3284280" cy="2547000"/>
              </a:xfrm>
            </p:grpSpPr>
            <p:sp>
              <p:nvSpPr>
                <p:cNvPr id="852" name=""/>
                <p:cNvSpPr/>
                <p:nvPr/>
              </p:nvSpPr>
              <p:spPr>
                <a:xfrm flipH="1" flipV="1" rot="4206000">
                  <a:off x="678960" y="650160"/>
                  <a:ext cx="110988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3" name=""/>
                <p:cNvGrpSpPr/>
                <p:nvPr/>
              </p:nvGrpSpPr>
              <p:grpSpPr>
                <a:xfrm>
                  <a:off x="404640" y="2200680"/>
                  <a:ext cx="2788200" cy="1272600"/>
                  <a:chOff x="404640" y="2200680"/>
                  <a:chExt cx="2788200" cy="127260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 flipH="1" flipV="1" rot="6258000">
                    <a:off x="1638000" y="1586160"/>
                    <a:ext cx="357840" cy="27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 flipV="1" rot="6258000">
                    <a:off x="437760" y="225684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56" name=""/>
            <p:cNvGrpSpPr/>
            <p:nvPr/>
          </p:nvGrpSpPr>
          <p:grpSpPr>
            <a:xfrm>
              <a:off x="3039840" y="3520800"/>
              <a:ext cx="3322800" cy="2806560"/>
              <a:chOff x="3039840" y="3520800"/>
              <a:chExt cx="3322800" cy="2806560"/>
            </a:xfrm>
          </p:grpSpPr>
          <p:sp>
            <p:nvSpPr>
              <p:cNvPr id="857" name=""/>
              <p:cNvSpPr/>
              <p:nvPr/>
            </p:nvSpPr>
            <p:spPr>
              <a:xfrm rot="4206000">
                <a:off x="4151160" y="3750480"/>
                <a:ext cx="1269360" cy="28940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3039840" y="3520800"/>
                <a:ext cx="3284640" cy="2806560"/>
                <a:chOff x="3039840" y="3520800"/>
                <a:chExt cx="3284640" cy="2806560"/>
              </a:xfrm>
            </p:grpSpPr>
            <p:grpSp>
              <p:nvGrpSpPr>
                <p:cNvPr id="859" name=""/>
                <p:cNvGrpSpPr/>
                <p:nvPr/>
              </p:nvGrpSpPr>
              <p:grpSpPr>
                <a:xfrm>
                  <a:off x="3561120" y="5835240"/>
                  <a:ext cx="599760" cy="492120"/>
                  <a:chOff x="3561120" y="5835240"/>
                  <a:chExt cx="599760" cy="49212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 rot="4804800">
                    <a:off x="3657960" y="5812200"/>
                    <a:ext cx="405720" cy="53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rot="4804800">
                    <a:off x="3637080" y="6090480"/>
                    <a:ext cx="1854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3039840" y="3520800"/>
                  <a:ext cx="3284640" cy="2547000"/>
                  <a:chOff x="3039840" y="3520800"/>
                  <a:chExt cx="3284640" cy="254700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 rot="4206000">
                    <a:off x="4444200" y="3925440"/>
                    <a:ext cx="1109520" cy="241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4" name=""/>
                  <p:cNvGrpSpPr/>
                  <p:nvPr/>
                </p:nvGrpSpPr>
                <p:grpSpPr>
                  <a:xfrm>
                    <a:off x="3039840" y="3520800"/>
                    <a:ext cx="2788200" cy="1272600"/>
                    <a:chOff x="3039840" y="3520800"/>
                    <a:chExt cx="2788200" cy="1272600"/>
                  </a:xfrm>
                </p:grpSpPr>
                <p:sp>
                  <p:nvSpPr>
                    <p:cNvPr id="865" name=""/>
                    <p:cNvSpPr/>
                    <p:nvPr/>
                  </p:nvSpPr>
                  <p:spPr>
                    <a:xfrm rot="6258000">
                      <a:off x="4236120" y="2660400"/>
                      <a:ext cx="357840" cy="27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 rot="6258000">
                      <a:off x="5365800" y="4334760"/>
                      <a:ext cx="428760" cy="40212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867" name=""/>
          <p:cNvGrpSpPr/>
          <p:nvPr/>
        </p:nvGrpSpPr>
        <p:grpSpPr>
          <a:xfrm>
            <a:off x="2673360" y="707760"/>
            <a:ext cx="6492240" cy="5661000"/>
            <a:chOff x="2673360" y="707760"/>
            <a:chExt cx="6492240" cy="5661000"/>
          </a:xfrm>
        </p:grpSpPr>
        <p:sp>
          <p:nvSpPr>
            <p:cNvPr id="868" name=""/>
            <p:cNvSpPr/>
            <p:nvPr/>
          </p:nvSpPr>
          <p:spPr>
            <a:xfrm flipV="1" rot="17393400">
              <a:off x="6953400" y="392760"/>
              <a:ext cx="127008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5843160" y="707760"/>
              <a:ext cx="3284280" cy="2806920"/>
              <a:chOff x="5843160" y="707760"/>
              <a:chExt cx="3284280" cy="280692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6364080" y="707760"/>
                <a:ext cx="599760" cy="492120"/>
                <a:chOff x="6364080" y="707760"/>
                <a:chExt cx="599760" cy="492120"/>
              </a:xfrm>
            </p:grpSpPr>
            <p:sp>
              <p:nvSpPr>
                <p:cNvPr id="871" name=""/>
                <p:cNvSpPr/>
                <p:nvPr/>
              </p:nvSpPr>
              <p:spPr>
                <a:xfrm flipV="1" rot="16795200">
                  <a:off x="6460920" y="684360"/>
                  <a:ext cx="405720" cy="53784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 rot="16795200">
                  <a:off x="6440400" y="696960"/>
                  <a:ext cx="18540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5843160" y="967680"/>
                <a:ext cx="3284280" cy="2547000"/>
                <a:chOff x="5843160" y="967680"/>
                <a:chExt cx="3284280" cy="2547000"/>
              </a:xfrm>
            </p:grpSpPr>
            <p:sp>
              <p:nvSpPr>
                <p:cNvPr id="874" name=""/>
                <p:cNvSpPr/>
                <p:nvPr/>
              </p:nvSpPr>
              <p:spPr>
                <a:xfrm flipV="1" rot="17394000">
                  <a:off x="7246800" y="691560"/>
                  <a:ext cx="110988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5843160" y="2242080"/>
                  <a:ext cx="2788200" cy="1272600"/>
                  <a:chOff x="5843160" y="2242080"/>
                  <a:chExt cx="2788200" cy="127260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 flipV="1" rot="15342000">
                    <a:off x="7039440" y="1627560"/>
                    <a:ext cx="357840" cy="27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V="1" rot="15342000">
                    <a:off x="8169120" y="229824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78" name=""/>
            <p:cNvGrpSpPr/>
            <p:nvPr/>
          </p:nvGrpSpPr>
          <p:grpSpPr>
            <a:xfrm>
              <a:off x="2673360" y="3562200"/>
              <a:ext cx="3322800" cy="2806560"/>
              <a:chOff x="2673360" y="3562200"/>
              <a:chExt cx="3322800" cy="2806560"/>
            </a:xfrm>
          </p:grpSpPr>
          <p:sp>
            <p:nvSpPr>
              <p:cNvPr id="879" name=""/>
              <p:cNvSpPr/>
              <p:nvPr/>
            </p:nvSpPr>
            <p:spPr>
              <a:xfrm flipH="1" rot="17394000">
                <a:off x="3614760" y="3791880"/>
                <a:ext cx="1269360" cy="28940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880" name=""/>
              <p:cNvGrpSpPr/>
              <p:nvPr/>
            </p:nvGrpSpPr>
            <p:grpSpPr>
              <a:xfrm>
                <a:off x="2711520" y="3562200"/>
                <a:ext cx="3284640" cy="2806560"/>
                <a:chOff x="2711520" y="3562200"/>
                <a:chExt cx="3284640" cy="2806560"/>
              </a:xfrm>
            </p:grpSpPr>
            <p:grpSp>
              <p:nvGrpSpPr>
                <p:cNvPr id="881" name=""/>
                <p:cNvGrpSpPr/>
                <p:nvPr/>
              </p:nvGrpSpPr>
              <p:grpSpPr>
                <a:xfrm>
                  <a:off x="4875120" y="5876640"/>
                  <a:ext cx="599760" cy="492120"/>
                  <a:chOff x="4875120" y="5876640"/>
                  <a:chExt cx="599760" cy="49212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 flipH="1" rot="16795200">
                    <a:off x="4971960" y="5853600"/>
                    <a:ext cx="405720" cy="53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H="1" rot="16795200">
                    <a:off x="5213160" y="6131880"/>
                    <a:ext cx="1854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4" name=""/>
                <p:cNvGrpSpPr/>
                <p:nvPr/>
              </p:nvGrpSpPr>
              <p:grpSpPr>
                <a:xfrm>
                  <a:off x="2711520" y="3562200"/>
                  <a:ext cx="3284640" cy="2547000"/>
                  <a:chOff x="2711520" y="3562200"/>
                  <a:chExt cx="3284640" cy="25470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 flipH="1" rot="17394000">
                    <a:off x="3482280" y="3966840"/>
                    <a:ext cx="1109520" cy="241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3207960" y="3562200"/>
                    <a:ext cx="2788200" cy="1272600"/>
                    <a:chOff x="3207960" y="3562200"/>
                    <a:chExt cx="2788200" cy="127260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 flipH="1" rot="15342000">
                      <a:off x="4441320" y="2701800"/>
                      <a:ext cx="357840" cy="27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 flipH="1" rot="15342000">
                      <a:off x="3241080" y="4376160"/>
                      <a:ext cx="428760" cy="40212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889" name=""/>
          <p:cNvSpPr/>
          <p:nvPr/>
        </p:nvSpPr>
        <p:spPr>
          <a:xfrm>
            <a:off x="4533840" y="660240"/>
            <a:ext cx="12600" cy="5473800"/>
          </a:xfrm>
          <a:custGeom>
            <a:avLst/>
            <a:gdLst/>
            <a:ahLst/>
            <a:rect l="l" t="t" r="r" b="b"/>
            <a:pathLst>
              <a:path w="8" h="3448">
                <a:moveTo>
                  <a:pt x="0" y="0"/>
                </a:moveTo>
                <a:lnTo>
                  <a:pt x="8" y="34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50920" y="32220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строение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едины отрезка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0">
                                      <p:cBhvr>
                                        <p:cTn id="1205" dur="2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0">
                                      <p:cBhvr>
                                        <p:cTn id="1219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"/>
          <p:cNvGrpSpPr/>
          <p:nvPr/>
        </p:nvGrpSpPr>
        <p:grpSpPr>
          <a:xfrm>
            <a:off x="4064040" y="1028880"/>
            <a:ext cx="2793960" cy="4848120"/>
            <a:chOff x="4064040" y="1028880"/>
            <a:chExt cx="2793960" cy="4848120"/>
          </a:xfrm>
        </p:grpSpPr>
        <p:sp>
          <p:nvSpPr>
            <p:cNvPr id="892" name=""/>
            <p:cNvSpPr/>
            <p:nvPr/>
          </p:nvSpPr>
          <p:spPr>
            <a:xfrm>
              <a:off x="4064040" y="1068480"/>
              <a:ext cx="1388880" cy="4782960"/>
            </a:xfrm>
            <a:custGeom>
              <a:avLst/>
              <a:gdLst/>
              <a:ahLst/>
              <a:rect l="l" t="t" r="r" b="b"/>
              <a:pathLst>
                <a:path w="875" h="3013">
                  <a:moveTo>
                    <a:pt x="875" y="3013"/>
                  </a:moveTo>
                  <a:lnTo>
                    <a:pt x="0" y="1575"/>
                  </a:lnTo>
                  <a:lnTo>
                    <a:pt x="875" y="0"/>
                  </a:lnTo>
                  <a:lnTo>
                    <a:pt x="875" y="30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465880" y="1028880"/>
              <a:ext cx="1392120" cy="4848120"/>
            </a:xfrm>
            <a:custGeom>
              <a:avLst/>
              <a:gdLst/>
              <a:ahLst/>
              <a:rect l="l" t="t" r="r" b="b"/>
              <a:pathLst>
                <a:path w="877" h="3054">
                  <a:moveTo>
                    <a:pt x="8" y="3054"/>
                  </a:moveTo>
                  <a:lnTo>
                    <a:pt x="877" y="1600"/>
                  </a:lnTo>
                  <a:lnTo>
                    <a:pt x="0" y="0"/>
                  </a:lnTo>
                  <a:lnTo>
                    <a:pt x="8" y="305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064040" y="1041480"/>
            <a:ext cx="2793960" cy="2539800"/>
          </a:xfrm>
          <a:custGeom>
            <a:avLst/>
            <a:gdLst/>
            <a:ahLst/>
            <a:rect l="l" t="t" r="r" b="b"/>
            <a:pathLst>
              <a:path w="1760" h="1600">
                <a:moveTo>
                  <a:pt x="0" y="1595"/>
                </a:moveTo>
                <a:lnTo>
                  <a:pt x="1760" y="1600"/>
                </a:lnTo>
                <a:lnTo>
                  <a:pt x="872" y="0"/>
                </a:lnTo>
                <a:lnTo>
                  <a:pt x="0" y="1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 rot="859800">
            <a:off x="4079880" y="674640"/>
            <a:ext cx="5616360" cy="556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01" y="343"/>
                </a:moveTo>
                <a:arcTo wR="10800" hR="10800" stAng="-4531049" swAng="9527136"/>
                <a:lnTo>
                  <a:pt x="10800" y="10800"/>
                </a:lnTo>
                <a:close/>
              </a:path>
              <a:path fill="none" w="21600" h="21600">
                <a:moveTo>
                  <a:pt x="13501" y="343"/>
                </a:moveTo>
                <a:arcTo wR="10800" hR="10800" stAng="-4531049" swAng="9527136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rot="20740200">
            <a:off x="1478880" y="690840"/>
            <a:ext cx="5374080" cy="552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61" y="1010"/>
                </a:moveTo>
                <a:arcTo wR="10800" hR="10800" stAng="-3901205" swAng="9125169"/>
                <a:lnTo>
                  <a:pt x="10800" y="10800"/>
                </a:lnTo>
                <a:close/>
              </a:path>
              <a:path fill="none" w="21600" h="21600">
                <a:moveTo>
                  <a:pt x="15361" y="1010"/>
                </a:moveTo>
                <a:arcTo wR="10800" hR="10800" stAng="-3901205" swAng="9125169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064040" y="3556080"/>
            <a:ext cx="2793960" cy="1440"/>
          </a:xfrm>
          <a:custGeom>
            <a:avLst/>
            <a:gdLst/>
            <a:ahLst/>
            <a:rect l="l" t="t" r="r" b="b"/>
            <a:pathLst>
              <a:path w="1760" h="1">
                <a:moveTo>
                  <a:pt x="0" y="0"/>
                </a:moveTo>
                <a:lnTo>
                  <a:pt x="1760" y="0"/>
                </a:lnTo>
              </a:path>
            </a:pathLst>
          </a:custGeom>
          <a:noFill/>
          <a:ln w="38160">
            <a:solidFill>
              <a:srgbClr val="cc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1884960" y="441360"/>
            <a:ext cx="3076920" cy="3087000"/>
            <a:chOff x="1884960" y="441360"/>
            <a:chExt cx="3076920" cy="3087000"/>
          </a:xfrm>
        </p:grpSpPr>
        <p:sp>
          <p:nvSpPr>
            <p:cNvPr id="899" name=""/>
            <p:cNvSpPr/>
            <p:nvPr/>
          </p:nvSpPr>
          <p:spPr>
            <a:xfrm rot="16681200">
              <a:off x="2771640" y="-174960"/>
              <a:ext cx="126900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1914480" y="509400"/>
              <a:ext cx="3047400" cy="3018960"/>
              <a:chOff x="1914480" y="509400"/>
              <a:chExt cx="3047400" cy="3018960"/>
            </a:xfrm>
          </p:grpSpPr>
          <p:grpSp>
            <p:nvGrpSpPr>
              <p:cNvPr id="901" name=""/>
              <p:cNvGrpSpPr/>
              <p:nvPr/>
            </p:nvGrpSpPr>
            <p:grpSpPr>
              <a:xfrm>
                <a:off x="4319280" y="647640"/>
                <a:ext cx="642600" cy="552240"/>
                <a:chOff x="4319280" y="647640"/>
                <a:chExt cx="642600" cy="552240"/>
              </a:xfrm>
            </p:grpSpPr>
            <p:sp>
              <p:nvSpPr>
                <p:cNvPr id="902" name=""/>
                <p:cNvSpPr/>
                <p:nvPr/>
              </p:nvSpPr>
              <p:spPr>
                <a:xfrm rot="17280000">
                  <a:off x="4434840" y="654480"/>
                  <a:ext cx="405720" cy="53820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7280000">
                  <a:off x="4722840" y="743400"/>
                  <a:ext cx="18540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1914480" y="509400"/>
                <a:ext cx="2548800" cy="3018960"/>
                <a:chOff x="1914480" y="509400"/>
                <a:chExt cx="2548800" cy="3018960"/>
              </a:xfrm>
            </p:grpSpPr>
            <p:sp>
              <p:nvSpPr>
                <p:cNvPr id="905" name=""/>
                <p:cNvSpPr/>
                <p:nvPr/>
              </p:nvSpPr>
              <p:spPr>
                <a:xfrm rot="16681200">
                  <a:off x="2634120" y="18360"/>
                  <a:ext cx="110952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6" name=""/>
                <p:cNvGrpSpPr/>
                <p:nvPr/>
              </p:nvGrpSpPr>
              <p:grpSpPr>
                <a:xfrm>
                  <a:off x="2052000" y="1190160"/>
                  <a:ext cx="2275560" cy="2338200"/>
                  <a:chOff x="2052000" y="1190160"/>
                  <a:chExt cx="2275560" cy="233820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 rot="18733800">
                    <a:off x="3010680" y="1098720"/>
                    <a:ext cx="357840" cy="27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rot="18733800">
                    <a:off x="2179800" y="1282680"/>
                    <a:ext cx="42876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09" name=""/>
          <p:cNvGrpSpPr/>
          <p:nvPr/>
        </p:nvGrpSpPr>
        <p:grpSpPr>
          <a:xfrm>
            <a:off x="5907240" y="375480"/>
            <a:ext cx="3105720" cy="3164400"/>
            <a:chOff x="5907240" y="375480"/>
            <a:chExt cx="3105720" cy="3164400"/>
          </a:xfrm>
        </p:grpSpPr>
        <p:sp>
          <p:nvSpPr>
            <p:cNvPr id="910" name=""/>
            <p:cNvSpPr/>
            <p:nvPr/>
          </p:nvSpPr>
          <p:spPr>
            <a:xfrm flipH="1" rot="4812600">
              <a:off x="6837120" y="-194400"/>
              <a:ext cx="128052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5907240" y="443880"/>
              <a:ext cx="3074040" cy="3096000"/>
              <a:chOff x="5907240" y="443880"/>
              <a:chExt cx="3074040" cy="309600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5907240" y="652680"/>
                <a:ext cx="649800" cy="567360"/>
                <a:chOff x="5907240" y="652680"/>
                <a:chExt cx="649800" cy="567360"/>
              </a:xfrm>
            </p:grpSpPr>
            <p:sp>
              <p:nvSpPr>
                <p:cNvPr id="913" name=""/>
                <p:cNvSpPr/>
                <p:nvPr/>
              </p:nvSpPr>
              <p:spPr>
                <a:xfrm flipH="1" rot="4213800">
                  <a:off x="6029280" y="667080"/>
                  <a:ext cx="409320" cy="53784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4213800">
                  <a:off x="5961600" y="761040"/>
                  <a:ext cx="187200" cy="24732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6408360" y="443880"/>
                <a:ext cx="2572920" cy="3096000"/>
                <a:chOff x="6408360" y="443880"/>
                <a:chExt cx="2572920" cy="3096000"/>
              </a:xfrm>
            </p:grpSpPr>
            <p:sp>
              <p:nvSpPr>
                <p:cNvPr id="916" name=""/>
                <p:cNvSpPr/>
                <p:nvPr/>
              </p:nvSpPr>
              <p:spPr>
                <a:xfrm flipH="1" rot="4812600">
                  <a:off x="7134480" y="-7560"/>
                  <a:ext cx="111960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7" name=""/>
                <p:cNvGrpSpPr/>
                <p:nvPr/>
              </p:nvGrpSpPr>
              <p:grpSpPr>
                <a:xfrm>
                  <a:off x="6621840" y="1142280"/>
                  <a:ext cx="2227680" cy="2397600"/>
                  <a:chOff x="6621840" y="1142280"/>
                  <a:chExt cx="2227680" cy="239760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 flipH="1" rot="2760000">
                    <a:off x="7554960" y="1081800"/>
                    <a:ext cx="360720" cy="27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H="1" rot="2760000">
                    <a:off x="8281440" y="1236240"/>
                    <a:ext cx="43236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20" name=""/>
          <p:cNvSpPr/>
          <p:nvPr/>
        </p:nvSpPr>
        <p:spPr>
          <a:xfrm>
            <a:off x="5425920" y="102060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432400" y="5824440"/>
            <a:ext cx="7632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376240" y="606600"/>
            <a:ext cx="418320" cy="5703840"/>
            <a:chOff x="5376240" y="606600"/>
            <a:chExt cx="418320" cy="5703840"/>
          </a:xfrm>
        </p:grpSpPr>
        <p:sp>
          <p:nvSpPr>
            <p:cNvPr id="923" name=""/>
            <p:cNvSpPr/>
            <p:nvPr/>
          </p:nvSpPr>
          <p:spPr>
            <a:xfrm>
              <a:off x="5376240" y="5850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421240" y="606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694548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56076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87840" y="2060640"/>
            <a:ext cx="3960360" cy="1922760"/>
            <a:chOff x="87840" y="2060640"/>
            <a:chExt cx="3960360" cy="1922760"/>
          </a:xfrm>
        </p:grpSpPr>
        <p:sp>
          <p:nvSpPr>
            <p:cNvPr id="928" name=""/>
            <p:cNvSpPr/>
            <p:nvPr/>
          </p:nvSpPr>
          <p:spPr>
            <a:xfrm>
              <a:off x="87840" y="2060640"/>
              <a:ext cx="39603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     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АР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Q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=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  BPQ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,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по трем сторонам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917640" y="3213360"/>
              <a:ext cx="1582560" cy="340920"/>
              <a:chOff x="917640" y="3213360"/>
              <a:chExt cx="1582560" cy="340920"/>
            </a:xfrm>
          </p:grpSpPr>
          <mc:AlternateContent>
            <mc:Choice xmlns:a14="http://schemas.microsoft.com/office/drawing/2010/main" Requires="a14">
              <p:sp>
                <p:nvSpPr>
                  <p:cNvPr id="930" name=""/>
                  <p:cNvSpPr txBox="1"/>
                  <p:nvPr/>
                </p:nvSpPr>
                <p:spPr>
                  <a:xfrm>
                    <a:off x="917640" y="3213360"/>
                    <a:ext cx="429120" cy="33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31" name=""/>
                  <p:cNvSpPr txBox="1"/>
                  <p:nvPr/>
                </p:nvSpPr>
                <p:spPr>
                  <a:xfrm>
                    <a:off x="2070720" y="3222000"/>
                    <a:ext cx="429480" cy="33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932" name=""/>
          <p:cNvGrpSpPr/>
          <p:nvPr/>
        </p:nvGrpSpPr>
        <p:grpSpPr>
          <a:xfrm>
            <a:off x="4092120" y="680040"/>
            <a:ext cx="2783880" cy="3063600"/>
            <a:chOff x="4092120" y="680040"/>
            <a:chExt cx="2783880" cy="3063600"/>
          </a:xfrm>
        </p:grpSpPr>
        <p:sp>
          <p:nvSpPr>
            <p:cNvPr id="933" name=""/>
            <p:cNvSpPr/>
            <p:nvPr/>
          </p:nvSpPr>
          <p:spPr>
            <a:xfrm rot="21001200">
              <a:off x="5371920" y="764640"/>
              <a:ext cx="123228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4092120" y="707040"/>
              <a:ext cx="2783880" cy="2994120"/>
              <a:chOff x="4092120" y="707040"/>
              <a:chExt cx="2783880" cy="299412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6482160" y="3006360"/>
                <a:ext cx="393840" cy="544680"/>
                <a:chOff x="6482160" y="3006360"/>
                <a:chExt cx="393840" cy="5446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6482160" y="3006360"/>
                  <a:ext cx="393840" cy="53820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94200" y="3303360"/>
                  <a:ext cx="18000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4092120" y="707040"/>
                <a:ext cx="2612160" cy="2994120"/>
                <a:chOff x="4092120" y="707040"/>
                <a:chExt cx="2612160" cy="2994120"/>
              </a:xfrm>
            </p:grpSpPr>
            <p:sp>
              <p:nvSpPr>
                <p:cNvPr id="939" name=""/>
                <p:cNvSpPr/>
                <p:nvPr/>
              </p:nvSpPr>
              <p:spPr>
                <a:xfrm rot="21001200">
                  <a:off x="5425200" y="781920"/>
                  <a:ext cx="107748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0" name=""/>
                <p:cNvGrpSpPr/>
                <p:nvPr/>
              </p:nvGrpSpPr>
              <p:grpSpPr>
                <a:xfrm>
                  <a:off x="4092120" y="1046520"/>
                  <a:ext cx="1668960" cy="2654640"/>
                  <a:chOff x="4092120" y="1046520"/>
                  <a:chExt cx="1668960" cy="265464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 rot="1453200">
                    <a:off x="4640040" y="1002960"/>
                    <a:ext cx="347400" cy="27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rot="1453200">
                    <a:off x="5280840" y="1114200"/>
                    <a:ext cx="41616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43" name=""/>
          <p:cNvGrpSpPr/>
          <p:nvPr/>
        </p:nvGrpSpPr>
        <p:grpSpPr>
          <a:xfrm>
            <a:off x="4567320" y="2133720"/>
            <a:ext cx="1801800" cy="2519280"/>
            <a:chOff x="4567320" y="2133720"/>
            <a:chExt cx="1801800" cy="2519280"/>
          </a:xfrm>
        </p:grpSpPr>
        <p:sp>
          <p:nvSpPr>
            <p:cNvPr id="944" name=""/>
            <p:cNvSpPr/>
            <p:nvPr/>
          </p:nvSpPr>
          <p:spPr>
            <a:xfrm>
              <a:off x="4712040" y="2133720"/>
              <a:ext cx="217440" cy="144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6007320" y="2133720"/>
              <a:ext cx="217440" cy="144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51680" y="4508640"/>
              <a:ext cx="217440" cy="144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567320" y="4437000"/>
              <a:ext cx="217440" cy="144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5000760" y="1625760"/>
            <a:ext cx="836280" cy="607320"/>
            <a:chOff x="5000760" y="1625760"/>
            <a:chExt cx="836280" cy="607320"/>
          </a:xfrm>
        </p:grpSpPr>
        <p:sp>
          <p:nvSpPr>
            <p:cNvPr id="949" name=""/>
            <p:cNvSpPr/>
            <p:nvPr/>
          </p:nvSpPr>
          <p:spPr>
            <a:xfrm>
              <a:off x="500076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50404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43680" y="1628640"/>
              <a:ext cx="287280" cy="165240"/>
            </a:xfrm>
            <a:custGeom>
              <a:avLst/>
              <a:gdLst/>
              <a:ahLst/>
              <a:rect l="l" t="t" r="r" b="b"/>
              <a:pathLst>
                <a:path w="181" h="104">
                  <a:moveTo>
                    <a:pt x="0" y="0"/>
                  </a:moveTo>
                  <a:cubicBezTo>
                    <a:pt x="11" y="15"/>
                    <a:pt x="39" y="74"/>
                    <a:pt x="69" y="89"/>
                  </a:cubicBezTo>
                  <a:cubicBezTo>
                    <a:pt x="99" y="104"/>
                    <a:pt x="158" y="91"/>
                    <a:pt x="181" y="9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432400" y="1625760"/>
              <a:ext cx="345960" cy="169560"/>
            </a:xfrm>
            <a:custGeom>
              <a:avLst/>
              <a:gdLst/>
              <a:ahLst/>
              <a:rect l="l" t="t" r="r" b="b"/>
              <a:pathLst>
                <a:path w="218" h="107">
                  <a:moveTo>
                    <a:pt x="218" y="0"/>
                  </a:moveTo>
                  <a:cubicBezTo>
                    <a:pt x="199" y="15"/>
                    <a:pt x="148" y="75"/>
                    <a:pt x="112" y="91"/>
                  </a:cubicBezTo>
                  <a:cubicBezTo>
                    <a:pt x="76" y="107"/>
                    <a:pt x="23" y="93"/>
                    <a:pt x="0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5460840" y="266760"/>
            <a:ext cx="12960" cy="6108480"/>
          </a:xfrm>
          <a:custGeom>
            <a:avLst/>
            <a:gdLst/>
            <a:ahLst/>
            <a:rect l="l" t="t" r="r" b="b"/>
            <a:pathLst>
              <a:path w="8" h="3848">
                <a:moveTo>
                  <a:pt x="0" y="0"/>
                </a:moveTo>
                <a:lnTo>
                  <a:pt x="0" y="120"/>
                </a:lnTo>
                <a:lnTo>
                  <a:pt x="8" y="38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971640" y="4076640"/>
            <a:ext cx="1661760" cy="520560"/>
            <a:chOff x="971640" y="4076640"/>
            <a:chExt cx="1661760" cy="520560"/>
          </a:xfrm>
        </p:grpSpPr>
        <p:sp>
          <p:nvSpPr>
            <p:cNvPr id="955" name=""/>
            <p:cNvSpPr/>
            <p:nvPr/>
          </p:nvSpPr>
          <p:spPr>
            <a:xfrm>
              <a:off x="1379880" y="4076640"/>
              <a:ext cx="125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Tahoma"/>
                </a:rPr>
                <a:t>1 =    2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971640" y="4178160"/>
                  <a:ext cx="585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7" name=""/>
                <p:cNvSpPr txBox="1"/>
                <p:nvPr/>
              </p:nvSpPr>
              <p:spPr>
                <a:xfrm>
                  <a:off x="1997640" y="4178160"/>
                  <a:ext cx="586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8" name=""/>
          <p:cNvSpPr/>
          <p:nvPr/>
        </p:nvSpPr>
        <p:spPr>
          <a:xfrm>
            <a:off x="3600" y="4971960"/>
            <a:ext cx="562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Треугольник АРВ р/б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трезок РО является биссектрисой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 значит, и медианой.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Тогда, точка  О – середина АВ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275440" y="3213000"/>
            <a:ext cx="384120" cy="647640"/>
          </a:xfrm>
          <a:custGeom>
            <a:avLst/>
            <a:gdLst/>
            <a:ahLst/>
            <a:rect l="l" t="t" r="r" b="b"/>
            <a:pathLst>
              <a:path w="242" h="408">
                <a:moveTo>
                  <a:pt x="53" y="0"/>
                </a:moveTo>
                <a:cubicBezTo>
                  <a:pt x="147" y="19"/>
                  <a:pt x="242" y="38"/>
                  <a:pt x="235" y="91"/>
                </a:cubicBezTo>
                <a:cubicBezTo>
                  <a:pt x="228" y="144"/>
                  <a:pt x="16" y="264"/>
                  <a:pt x="8" y="317"/>
                </a:cubicBezTo>
                <a:cubicBezTo>
                  <a:pt x="0" y="370"/>
                  <a:pt x="94" y="389"/>
                  <a:pt x="189" y="408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5000040" y="3429000"/>
            <a:ext cx="502200" cy="581400"/>
            <a:chOff x="5000040" y="3429000"/>
            <a:chExt cx="502200" cy="581400"/>
          </a:xfrm>
        </p:grpSpPr>
        <p:sp>
          <p:nvSpPr>
            <p:cNvPr id="961" name=""/>
            <p:cNvSpPr/>
            <p:nvPr/>
          </p:nvSpPr>
          <p:spPr>
            <a:xfrm>
              <a:off x="5000040" y="3429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2400" y="3500280"/>
              <a:ext cx="69840" cy="71640"/>
            </a:xfrm>
            <a:prstGeom prst="ellipse">
              <a:avLst/>
            </a:prstGeom>
            <a:solidFill>
              <a:srgbClr val="0000cc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-215280" y="404640"/>
            <a:ext cx="43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окажем, что О –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ередина отрезка АВ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4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0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 rot="503400">
            <a:off x="340560" y="4216680"/>
            <a:ext cx="2752200" cy="2793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15" y="347"/>
                </a:moveTo>
                <a:arcTo wR="10800" hR="10800" stAng="-4526277" swAng="6092152"/>
                <a:lnTo>
                  <a:pt x="10800" y="10800"/>
                </a:lnTo>
                <a:close/>
              </a:path>
              <a:path fill="none" w="21600" h="21600">
                <a:moveTo>
                  <a:pt x="13515" y="347"/>
                </a:moveTo>
                <a:arcTo wR="10800" hR="10800" stAng="-4526277" swAng="6092152"/>
              </a:path>
            </a:pathLst>
          </a:cu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581880" y="5877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448760" y="3284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76720" y="3819600"/>
            <a:ext cx="2486160" cy="2127240"/>
          </a:xfrm>
          <a:custGeom>
            <a:avLst/>
            <a:gdLst/>
            <a:ahLst/>
            <a:rect l="l" t="t" r="r" b="b"/>
            <a:pathLst>
              <a:path w="1566" h="1340">
                <a:moveTo>
                  <a:pt x="0" y="1206"/>
                </a:moveTo>
                <a:lnTo>
                  <a:pt x="1566" y="0"/>
                </a:lnTo>
                <a:lnTo>
                  <a:pt x="1562" y="1340"/>
                </a:lnTo>
                <a:lnTo>
                  <a:pt x="0" y="12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67360" y="5727600"/>
            <a:ext cx="3479760" cy="317520"/>
          </a:xfrm>
          <a:custGeom>
            <a:avLst/>
            <a:gdLst/>
            <a:ahLst/>
            <a:rect l="l" t="t" r="r" b="b"/>
            <a:pathLst>
              <a:path w="2192" h="200">
                <a:moveTo>
                  <a:pt x="0" y="0"/>
                </a:moveTo>
                <a:lnTo>
                  <a:pt x="2192" y="200"/>
                </a:lnTo>
              </a:path>
            </a:pathLst>
          </a:custGeom>
          <a:noFill/>
          <a:ln w="28440">
            <a:solidFill>
              <a:srgbClr val="40458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92560" y="3556080"/>
            <a:ext cx="2806920" cy="2171520"/>
          </a:xfrm>
          <a:custGeom>
            <a:avLst/>
            <a:gdLst/>
            <a:ahLst/>
            <a:rect l="l" t="t" r="r" b="b"/>
            <a:pathLst>
              <a:path w="1768" h="1368">
                <a:moveTo>
                  <a:pt x="1768" y="0"/>
                </a:moveTo>
                <a:lnTo>
                  <a:pt x="0" y="1368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1631880" y="3763800"/>
            <a:ext cx="2735280" cy="18590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631880" y="5622840"/>
            <a:ext cx="2587680" cy="228600"/>
          </a:xfrm>
          <a:custGeom>
            <a:avLst/>
            <a:gdLst/>
            <a:ahLst/>
            <a:rect l="l" t="t" r="r" b="b"/>
            <a:pathLst>
              <a:path w="1630" h="144">
                <a:moveTo>
                  <a:pt x="0" y="0"/>
                </a:moveTo>
                <a:lnTo>
                  <a:pt x="1630" y="144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805120" y="4761000"/>
            <a:ext cx="730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054240" y="5716440"/>
            <a:ext cx="698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558800" y="556560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4920" y="1144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строение треугольника по двум сторонам и углу между ними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969440" y="2621880"/>
            <a:ext cx="1421280" cy="3084120"/>
            <a:chOff x="4969440" y="2621880"/>
            <a:chExt cx="1421280" cy="3084120"/>
          </a:xfrm>
        </p:grpSpPr>
        <p:sp>
          <p:nvSpPr>
            <p:cNvPr id="977" name=""/>
            <p:cNvSpPr/>
            <p:nvPr/>
          </p:nvSpPr>
          <p:spPr>
            <a:xfrm flipH="1" rot="21521400">
              <a:off x="5003640" y="2636640"/>
              <a:ext cx="1352520" cy="30304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c0099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 rot="21521400">
              <a:off x="5013360" y="5113080"/>
              <a:ext cx="341280" cy="588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4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rot="21521400">
              <a:off x="5024520" y="5465520"/>
              <a:ext cx="129960" cy="2239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rot="21521400">
              <a:off x="5065560" y="2653920"/>
              <a:ext cx="1181160" cy="253224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 rot="15103800">
            <a:off x="5511960" y="4908240"/>
            <a:ext cx="2015640" cy="189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05" y="5672"/>
                </a:moveTo>
                <a:arcTo wR="10800" hR="10800" stAng="-1700995" swAng="3452201"/>
                <a:lnTo>
                  <a:pt x="10800" y="10800"/>
                </a:lnTo>
                <a:close/>
              </a:path>
              <a:path fill="none" w="21600" h="21600">
                <a:moveTo>
                  <a:pt x="20305" y="5672"/>
                </a:moveTo>
                <a:arcTo wR="10800" hR="10800" stAng="-1700995" swAng="3452201"/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39640" y="55166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Угол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99"/>
                </a:solidFill>
                <a:latin typeface="Tahoma"/>
              </a:rPr>
              <a:t>h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560760" y="37638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208320" y="911160"/>
            <a:ext cx="5877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луч </a:t>
            </a:r>
            <a:r>
              <a:rPr b="0" i="1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тложим отрезок АВ, равный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угол, равный данному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тложим отрезок АС, равный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7160" y="59500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939200" y="57816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621648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Треугольник АВС искомый. Обоснуй, используя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признак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27400" y="105264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1280" y="1866960"/>
            <a:ext cx="28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трезки Р</a:t>
            </a:r>
            <a:r>
              <a:rPr b="1" lang="ru-RU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1" lang="ru-RU" sz="20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и Р</a:t>
            </a:r>
            <a:r>
              <a:rPr b="1" lang="ru-RU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ru-RU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88840" y="2489040"/>
            <a:ext cx="2457720" cy="5040"/>
          </a:xfrm>
          <a:custGeom>
            <a:avLst/>
            <a:gdLst/>
            <a:ahLst/>
            <a:rect l="l" t="t" r="r" b="b"/>
            <a:pathLst>
              <a:path w="1548" h="3">
                <a:moveTo>
                  <a:pt x="0" y="0"/>
                </a:moveTo>
                <a:lnTo>
                  <a:pt x="1548" y="3"/>
                </a:lnTo>
              </a:path>
            </a:pathLst>
          </a:custGeom>
          <a:noFill/>
          <a:ln w="12600">
            <a:solidFill>
              <a:srgbClr val="40458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11280" y="3213000"/>
            <a:ext cx="3097080" cy="0"/>
          </a:xfrm>
          <a:prstGeom prst="line">
            <a:avLst/>
          </a:prstGeom>
          <a:ln w="1260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21720" y="234936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37480" y="22766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3120" y="326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488400" y="321300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526240" y="5708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925080" y="578016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893840" y="4604040"/>
            <a:ext cx="2667240" cy="252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85" y="7208"/>
                </a:moveTo>
                <a:arcTo wR="10800" hR="10800" stAng="-1165591" swAng="2946439"/>
                <a:lnTo>
                  <a:pt x="10800" y="10800"/>
                </a:lnTo>
                <a:close/>
              </a:path>
              <a:path fill="none" w="21600" h="21600">
                <a:moveTo>
                  <a:pt x="20985" y="7208"/>
                </a:moveTo>
                <a:arcTo wR="10800" hR="10800" stAng="-1165591" swAng="2946439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rot="18609600">
            <a:off x="2463480" y="2915280"/>
            <a:ext cx="5762520" cy="551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2" y="10020"/>
                </a:moveTo>
                <a:arcTo wR="10800" hR="10800" stAng="-248572" swAng="1993302"/>
                <a:lnTo>
                  <a:pt x="10800" y="10800"/>
                </a:lnTo>
                <a:close/>
              </a:path>
              <a:path fill="none" w="21600" h="21600">
                <a:moveTo>
                  <a:pt x="21572" y="10020"/>
                </a:moveTo>
                <a:arcTo wR="10800" hR="10800" stAng="-248572" swAng="1993302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0" y="3809880"/>
            <a:ext cx="15840" cy="2146320"/>
          </a:xfrm>
          <a:custGeom>
            <a:avLst/>
            <a:gdLst/>
            <a:ahLst/>
            <a:rect l="l" t="t" r="r" b="b"/>
            <a:pathLst>
              <a:path w="10" h="1352">
                <a:moveTo>
                  <a:pt x="10" y="0"/>
                </a:moveTo>
                <a:lnTo>
                  <a:pt x="0" y="1352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1979640" y="2349360"/>
            <a:ext cx="4568760" cy="3672000"/>
            <a:chOff x="1979640" y="2349360"/>
            <a:chExt cx="4568760" cy="3672000"/>
          </a:xfrm>
        </p:grpSpPr>
        <p:sp>
          <p:nvSpPr>
            <p:cNvPr id="1002" name=""/>
            <p:cNvSpPr/>
            <p:nvPr/>
          </p:nvSpPr>
          <p:spPr>
            <a:xfrm>
              <a:off x="2155680" y="2349360"/>
              <a:ext cx="7164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156360" y="5734080"/>
              <a:ext cx="7128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2371680" y="3068640"/>
              <a:ext cx="144000" cy="287280"/>
              <a:chOff x="2371680" y="3068640"/>
              <a:chExt cx="144000" cy="287280"/>
            </a:xfrm>
          </p:grpSpPr>
          <p:sp>
            <p:nvSpPr>
              <p:cNvPr id="1005" name=""/>
              <p:cNvSpPr/>
              <p:nvPr/>
            </p:nvSpPr>
            <p:spPr>
              <a:xfrm>
                <a:off x="2444400" y="3068640"/>
                <a:ext cx="71280" cy="28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371680" y="3068640"/>
                <a:ext cx="71280" cy="28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6340320" y="4573440"/>
              <a:ext cx="208080" cy="303120"/>
              <a:chOff x="6340320" y="4573440"/>
              <a:chExt cx="208080" cy="303120"/>
            </a:xfrm>
          </p:grpSpPr>
          <p:sp>
            <p:nvSpPr>
              <p:cNvPr id="1008" name=""/>
              <p:cNvSpPr/>
              <p:nvPr/>
            </p:nvSpPr>
            <p:spPr>
              <a:xfrm>
                <a:off x="6340320" y="4626000"/>
                <a:ext cx="157680" cy="250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390720" y="4573440"/>
                <a:ext cx="157680" cy="250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979640" y="5346720"/>
              <a:ext cx="131760" cy="314280"/>
            </a:xfrm>
            <a:custGeom>
              <a:avLst/>
              <a:gdLst/>
              <a:ahLst/>
              <a:rect l="l" t="t" r="r" b="b"/>
              <a:pathLst>
                <a:path w="83" h="198">
                  <a:moveTo>
                    <a:pt x="0" y="0"/>
                  </a:moveTo>
                  <a:cubicBezTo>
                    <a:pt x="11" y="15"/>
                    <a:pt x="61" y="55"/>
                    <a:pt x="72" y="88"/>
                  </a:cubicBezTo>
                  <a:cubicBezTo>
                    <a:pt x="83" y="121"/>
                    <a:pt x="67" y="175"/>
                    <a:pt x="66" y="19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68760" y="5445000"/>
              <a:ext cx="132120" cy="314280"/>
            </a:xfrm>
            <a:custGeom>
              <a:avLst/>
              <a:gdLst/>
              <a:ahLst/>
              <a:rect l="l" t="t" r="r" b="b"/>
              <a:pathLst>
                <a:path w="83" h="198">
                  <a:moveTo>
                    <a:pt x="0" y="0"/>
                  </a:moveTo>
                  <a:cubicBezTo>
                    <a:pt x="11" y="15"/>
                    <a:pt x="61" y="55"/>
                    <a:pt x="72" y="88"/>
                  </a:cubicBezTo>
                  <a:cubicBezTo>
                    <a:pt x="83" y="121"/>
                    <a:pt x="67" y="175"/>
                    <a:pt x="66" y="19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7524720" y="5924520"/>
            <a:ext cx="71640" cy="7164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24720" y="3789360"/>
            <a:ext cx="71640" cy="712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rot="503400">
            <a:off x="3769560" y="4372200"/>
            <a:ext cx="2752200" cy="279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15" y="347"/>
                </a:moveTo>
                <a:arcTo wR="10800" hR="10800" stAng="-4526277" swAng="6092152"/>
                <a:lnTo>
                  <a:pt x="10800" y="10800"/>
                </a:lnTo>
                <a:close/>
              </a:path>
              <a:path fill="none" w="21600" h="21600">
                <a:moveTo>
                  <a:pt x="13515" y="347"/>
                </a:moveTo>
                <a:arcTo wR="10800" hR="10800" stAng="-4526277" swAng="6092152"/>
              </a:path>
            </a:pathLst>
          </a:cu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165720" y="4835520"/>
            <a:ext cx="7164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-1252440" y="2964600"/>
            <a:ext cx="5765760" cy="5322600"/>
            <a:chOff x="-1252440" y="2964600"/>
            <a:chExt cx="5765760" cy="5322600"/>
          </a:xfrm>
        </p:grpSpPr>
        <p:grpSp>
          <p:nvGrpSpPr>
            <p:cNvPr id="1017" name=""/>
            <p:cNvGrpSpPr/>
            <p:nvPr/>
          </p:nvGrpSpPr>
          <p:grpSpPr>
            <a:xfrm>
              <a:off x="1643760" y="2964600"/>
              <a:ext cx="2869560" cy="3288960"/>
              <a:chOff x="1643760" y="2964600"/>
              <a:chExt cx="2869560" cy="3288960"/>
            </a:xfrm>
          </p:grpSpPr>
          <p:sp>
            <p:nvSpPr>
              <p:cNvPr id="1018" name=""/>
              <p:cNvSpPr/>
              <p:nvPr/>
            </p:nvSpPr>
            <p:spPr>
              <a:xfrm rot="1935000">
                <a:off x="2500560" y="3078720"/>
                <a:ext cx="1304280" cy="30304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1935000">
                <a:off x="2752920" y="5622120"/>
                <a:ext cx="329040" cy="58896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1935000">
                <a:off x="2845440" y="5997240"/>
                <a:ext cx="12564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21" name=""/>
              <p:cNvGrpSpPr/>
              <p:nvPr/>
            </p:nvGrpSpPr>
            <p:grpSpPr>
              <a:xfrm>
                <a:off x="1643760" y="3032280"/>
                <a:ext cx="2805120" cy="2776680"/>
                <a:chOff x="1643760" y="3032280"/>
                <a:chExt cx="2805120" cy="2776680"/>
              </a:xfrm>
            </p:grpSpPr>
            <p:sp>
              <p:nvSpPr>
                <p:cNvPr id="1022" name=""/>
                <p:cNvSpPr/>
                <p:nvPr/>
              </p:nvSpPr>
              <p:spPr>
                <a:xfrm rot="1935000">
                  <a:off x="2721600" y="3140640"/>
                  <a:ext cx="1139040" cy="25318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3" name=""/>
                <p:cNvGrpSpPr/>
                <p:nvPr/>
              </p:nvGrpSpPr>
              <p:grpSpPr>
                <a:xfrm>
                  <a:off x="1643760" y="3179520"/>
                  <a:ext cx="2070360" cy="2629440"/>
                  <a:chOff x="1643760" y="3179520"/>
                  <a:chExt cx="2070360" cy="262944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 rot="1935000">
                    <a:off x="2383200" y="3055320"/>
                    <a:ext cx="367200" cy="28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 rot="1935000">
                    <a:off x="3195720" y="3282840"/>
                    <a:ext cx="439920" cy="42120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26" name=""/>
            <p:cNvGrpSpPr/>
            <p:nvPr/>
          </p:nvGrpSpPr>
          <p:grpSpPr>
            <a:xfrm>
              <a:off x="-1252440" y="4989960"/>
              <a:ext cx="2835720" cy="3297240"/>
              <a:chOff x="-1252440" y="4989960"/>
              <a:chExt cx="2835720" cy="3297240"/>
            </a:xfrm>
          </p:grpSpPr>
          <p:sp>
            <p:nvSpPr>
              <p:cNvPr id="1027" name=""/>
              <p:cNvSpPr/>
              <p:nvPr/>
            </p:nvSpPr>
            <p:spPr>
              <a:xfrm rot="12676800">
                <a:off x="-560520" y="5138280"/>
                <a:ext cx="1304280" cy="30304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2676800">
                <a:off x="140040" y="5032440"/>
                <a:ext cx="329040" cy="58896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2676800">
                <a:off x="247680" y="5022720"/>
                <a:ext cx="12564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30" name=""/>
              <p:cNvGrpSpPr/>
              <p:nvPr/>
            </p:nvGrpSpPr>
            <p:grpSpPr>
              <a:xfrm>
                <a:off x="-1187280" y="5418360"/>
                <a:ext cx="2770560" cy="2802600"/>
                <a:chOff x="-1187280" y="5418360"/>
                <a:chExt cx="2770560" cy="2802600"/>
              </a:xfrm>
            </p:grpSpPr>
            <p:sp>
              <p:nvSpPr>
                <p:cNvPr id="1031" name=""/>
                <p:cNvSpPr/>
                <p:nvPr/>
              </p:nvSpPr>
              <p:spPr>
                <a:xfrm rot="12676800">
                  <a:off x="-612720" y="5577120"/>
                  <a:ext cx="1139040" cy="25318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2" name=""/>
                <p:cNvGrpSpPr/>
                <p:nvPr/>
              </p:nvGrpSpPr>
              <p:grpSpPr>
                <a:xfrm>
                  <a:off x="-449640" y="5418360"/>
                  <a:ext cx="2032920" cy="2650320"/>
                  <a:chOff x="-449640" y="5418360"/>
                  <a:chExt cx="2032920" cy="265032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 rot="12676800">
                    <a:off x="495360" y="5304600"/>
                    <a:ext cx="367200" cy="28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 rot="12676800">
                    <a:off x="-372240" y="7547760"/>
                    <a:ext cx="4399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35" name=""/>
          <p:cNvGrpSpPr/>
          <p:nvPr/>
        </p:nvGrpSpPr>
        <p:grpSpPr>
          <a:xfrm>
            <a:off x="47520" y="3157560"/>
            <a:ext cx="6206760" cy="5148360"/>
            <a:chOff x="47520" y="3157560"/>
            <a:chExt cx="6206760" cy="5148360"/>
          </a:xfrm>
        </p:grpSpPr>
        <p:grpSp>
          <p:nvGrpSpPr>
            <p:cNvPr id="1036" name=""/>
            <p:cNvGrpSpPr/>
            <p:nvPr/>
          </p:nvGrpSpPr>
          <p:grpSpPr>
            <a:xfrm>
              <a:off x="2801520" y="3157560"/>
              <a:ext cx="3452760" cy="2826000"/>
              <a:chOff x="2801520" y="3157560"/>
              <a:chExt cx="3452760" cy="2826000"/>
            </a:xfrm>
          </p:grpSpPr>
          <p:sp>
            <p:nvSpPr>
              <p:cNvPr id="1037" name=""/>
              <p:cNvSpPr/>
              <p:nvPr/>
            </p:nvSpPr>
            <p:spPr>
              <a:xfrm flipH="1" rot="3529800">
                <a:off x="3846600" y="2989800"/>
                <a:ext cx="1390680" cy="316116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rot="3529800">
                <a:off x="2979360" y="4475520"/>
                <a:ext cx="351360" cy="61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2954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 rot="3529800">
                <a:off x="2886120" y="4671360"/>
                <a:ext cx="134280" cy="23328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 rot="3529800">
                <a:off x="4133160" y="3107160"/>
                <a:ext cx="1214640" cy="264132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1" name=""/>
              <p:cNvGrpSpPr/>
              <p:nvPr/>
            </p:nvGrpSpPr>
            <p:grpSpPr>
              <a:xfrm>
                <a:off x="3023280" y="4078800"/>
                <a:ext cx="2968920" cy="1648440"/>
                <a:chOff x="3023280" y="4078800"/>
                <a:chExt cx="2968920" cy="1648440"/>
              </a:xfrm>
            </p:grpSpPr>
            <p:sp>
              <p:nvSpPr>
                <p:cNvPr id="1042" name=""/>
                <p:cNvSpPr/>
                <p:nvPr/>
              </p:nvSpPr>
              <p:spPr>
                <a:xfrm flipH="1" rot="4189800">
                  <a:off x="4304160" y="3524400"/>
                  <a:ext cx="391320" cy="300240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H="1" rot="4189800">
                  <a:off x="5470560" y="4154760"/>
                  <a:ext cx="469080" cy="43920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4" name=""/>
            <p:cNvGrpSpPr/>
            <p:nvPr/>
          </p:nvGrpSpPr>
          <p:grpSpPr>
            <a:xfrm>
              <a:off x="47520" y="5480640"/>
              <a:ext cx="3423960" cy="2825280"/>
              <a:chOff x="47520" y="5480640"/>
              <a:chExt cx="3423960" cy="2825280"/>
            </a:xfrm>
          </p:grpSpPr>
          <p:sp>
            <p:nvSpPr>
              <p:cNvPr id="1045" name=""/>
              <p:cNvSpPr/>
              <p:nvPr/>
            </p:nvSpPr>
            <p:spPr>
              <a:xfrm flipV="1" rot="3530400">
                <a:off x="1064160" y="5312880"/>
                <a:ext cx="1390680" cy="31604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315000" y="5735160"/>
                <a:ext cx="2968200" cy="1648800"/>
                <a:chOff x="315000" y="5735160"/>
                <a:chExt cx="2968200" cy="1648800"/>
              </a:xfrm>
            </p:grpSpPr>
            <p:sp>
              <p:nvSpPr>
                <p:cNvPr id="1047" name=""/>
                <p:cNvSpPr/>
                <p:nvPr/>
              </p:nvSpPr>
              <p:spPr>
                <a:xfrm flipV="1" rot="4190400">
                  <a:off x="1610640" y="4934880"/>
                  <a:ext cx="391680" cy="300204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V="1" rot="4190400">
                  <a:off x="367200" y="6868080"/>
                  <a:ext cx="469080" cy="4392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49" name=""/>
          <p:cNvSpPr/>
          <p:nvPr/>
        </p:nvSpPr>
        <p:spPr>
          <a:xfrm>
            <a:off x="6496200" y="5821200"/>
            <a:ext cx="7272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-1545480" y="-373680"/>
            <a:ext cx="4865400" cy="5726880"/>
            <a:chOff x="-1545480" y="-373680"/>
            <a:chExt cx="4865400" cy="5726880"/>
          </a:xfrm>
        </p:grpSpPr>
        <p:grpSp>
          <p:nvGrpSpPr>
            <p:cNvPr id="1051" name=""/>
            <p:cNvGrpSpPr/>
            <p:nvPr/>
          </p:nvGrpSpPr>
          <p:grpSpPr>
            <a:xfrm>
              <a:off x="865800" y="-373680"/>
              <a:ext cx="2454120" cy="3011760"/>
              <a:chOff x="865800" y="-373680"/>
              <a:chExt cx="2454120" cy="3011760"/>
            </a:xfrm>
          </p:grpSpPr>
          <p:grpSp>
            <p:nvGrpSpPr>
              <p:cNvPr id="1052" name=""/>
              <p:cNvGrpSpPr/>
              <p:nvPr/>
            </p:nvGrpSpPr>
            <p:grpSpPr>
              <a:xfrm>
                <a:off x="1700280" y="-373680"/>
                <a:ext cx="1619640" cy="3002400"/>
                <a:chOff x="1700280" y="-373680"/>
                <a:chExt cx="1619640" cy="300240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700280" y="-373680"/>
                  <a:ext cx="1612800" cy="3002400"/>
                  <a:chOff x="1700280" y="-373680"/>
                  <a:chExt cx="1612800" cy="300240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 rot="21273600">
                    <a:off x="1834200" y="-316080"/>
                    <a:ext cx="1344600" cy="28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rot="21273600">
                    <a:off x="1916640" y="-300600"/>
                    <a:ext cx="1173960" cy="24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2928960" y="1936800"/>
                  <a:ext cx="390960" cy="590760"/>
                  <a:chOff x="2928960" y="1936800"/>
                  <a:chExt cx="390960" cy="59076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 rot="21273600">
                    <a:off x="2954520" y="1951200"/>
                    <a:ext cx="339120" cy="56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4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rot="21273600">
                    <a:off x="3171600" y="2274840"/>
                    <a:ext cx="129240" cy="21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9" name=""/>
              <p:cNvGrpSpPr/>
              <p:nvPr/>
            </p:nvGrpSpPr>
            <p:grpSpPr>
              <a:xfrm>
                <a:off x="865800" y="40320"/>
                <a:ext cx="1483560" cy="2597760"/>
                <a:chOff x="865800" y="40320"/>
                <a:chExt cx="1483560" cy="2597760"/>
              </a:xfrm>
            </p:grpSpPr>
            <p:sp>
              <p:nvSpPr>
                <p:cNvPr id="1060" name=""/>
                <p:cNvSpPr/>
                <p:nvPr/>
              </p:nvSpPr>
              <p:spPr>
                <a:xfrm rot="1259400">
                  <a:off x="1326600" y="25560"/>
                  <a:ext cx="345240" cy="26380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rot="1259400">
                  <a:off x="1880280" y="101520"/>
                  <a:ext cx="413280" cy="385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2" name=""/>
            <p:cNvGrpSpPr/>
            <p:nvPr/>
          </p:nvGrpSpPr>
          <p:grpSpPr>
            <a:xfrm>
              <a:off x="-1545480" y="2342520"/>
              <a:ext cx="2454840" cy="3010680"/>
              <a:chOff x="-1545480" y="2342520"/>
              <a:chExt cx="2454840" cy="3010680"/>
            </a:xfrm>
          </p:grpSpPr>
          <p:grpSp>
            <p:nvGrpSpPr>
              <p:cNvPr id="1063" name=""/>
              <p:cNvGrpSpPr/>
              <p:nvPr/>
            </p:nvGrpSpPr>
            <p:grpSpPr>
              <a:xfrm>
                <a:off x="-1545480" y="2351520"/>
                <a:ext cx="1619280" cy="3001680"/>
                <a:chOff x="-1545480" y="2351520"/>
                <a:chExt cx="1619280" cy="3001680"/>
              </a:xfrm>
            </p:grpSpPr>
            <p:grpSp>
              <p:nvGrpSpPr>
                <p:cNvPr id="1064" name=""/>
                <p:cNvGrpSpPr/>
                <p:nvPr/>
              </p:nvGrpSpPr>
              <p:grpSpPr>
                <a:xfrm>
                  <a:off x="-1539000" y="2351520"/>
                  <a:ext cx="1612800" cy="3001680"/>
                  <a:chOff x="-1539000" y="2351520"/>
                  <a:chExt cx="1612800" cy="3001680"/>
                </a:xfrm>
              </p:grpSpPr>
              <p:sp>
                <p:nvSpPr>
                  <p:cNvPr id="1065" name=""/>
                  <p:cNvSpPr/>
                  <p:nvPr/>
                </p:nvSpPr>
                <p:spPr>
                  <a:xfrm flipH="1" flipV="1" rot="21273600">
                    <a:off x="-1404720" y="2408760"/>
                    <a:ext cx="1344600" cy="28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H="1" flipV="1" rot="21273600">
                    <a:off x="-1317240" y="2868120"/>
                    <a:ext cx="1173960" cy="241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-1545480" y="2453040"/>
                  <a:ext cx="390600" cy="590040"/>
                  <a:chOff x="-1545480" y="2453040"/>
                  <a:chExt cx="390600" cy="59004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 flipH="1" flipV="1" rot="21273600">
                    <a:off x="-1519920" y="2467440"/>
                    <a:ext cx="33912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flipH="1" flipV="1" rot="21273600">
                    <a:off x="-1526760" y="2491200"/>
                    <a:ext cx="129240" cy="21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0" name=""/>
              <p:cNvGrpSpPr/>
              <p:nvPr/>
            </p:nvGrpSpPr>
            <p:grpSpPr>
              <a:xfrm>
                <a:off x="-575640" y="2342520"/>
                <a:ext cx="1485000" cy="2596680"/>
                <a:chOff x="-575640" y="2342520"/>
                <a:chExt cx="1485000" cy="2596680"/>
              </a:xfrm>
            </p:grpSpPr>
            <p:sp>
              <p:nvSpPr>
                <p:cNvPr id="1071" name=""/>
                <p:cNvSpPr/>
                <p:nvPr/>
              </p:nvSpPr>
              <p:spPr>
                <a:xfrm flipH="1" flipV="1" rot="1259400">
                  <a:off x="102240" y="2316240"/>
                  <a:ext cx="345240" cy="263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flipV="1" rot="1259400">
                  <a:off x="-519840" y="4491720"/>
                  <a:ext cx="413280" cy="3859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73" name=""/>
          <p:cNvGrpSpPr/>
          <p:nvPr/>
        </p:nvGrpSpPr>
        <p:grpSpPr>
          <a:xfrm>
            <a:off x="-2577240" y="355320"/>
            <a:ext cx="6306480" cy="5715360"/>
            <a:chOff x="-2577240" y="355320"/>
            <a:chExt cx="6306480" cy="5715360"/>
          </a:xfrm>
        </p:grpSpPr>
        <p:grpSp>
          <p:nvGrpSpPr>
            <p:cNvPr id="1074" name=""/>
            <p:cNvGrpSpPr/>
            <p:nvPr/>
          </p:nvGrpSpPr>
          <p:grpSpPr>
            <a:xfrm>
              <a:off x="578880" y="355320"/>
              <a:ext cx="3150360" cy="3147120"/>
              <a:chOff x="578880" y="355320"/>
              <a:chExt cx="3150360" cy="3147120"/>
            </a:xfrm>
          </p:grpSpPr>
          <p:grpSp>
            <p:nvGrpSpPr>
              <p:cNvPr id="1075" name=""/>
              <p:cNvGrpSpPr/>
              <p:nvPr/>
            </p:nvGrpSpPr>
            <p:grpSpPr>
              <a:xfrm>
                <a:off x="1698480" y="355320"/>
                <a:ext cx="2030760" cy="3147120"/>
                <a:chOff x="1698480" y="355320"/>
                <a:chExt cx="2030760" cy="3147120"/>
              </a:xfrm>
            </p:grpSpPr>
            <p:grpSp>
              <p:nvGrpSpPr>
                <p:cNvPr id="1076" name=""/>
                <p:cNvGrpSpPr/>
                <p:nvPr/>
              </p:nvGrpSpPr>
              <p:grpSpPr>
                <a:xfrm>
                  <a:off x="1698480" y="355320"/>
                  <a:ext cx="2025720" cy="3147120"/>
                  <a:chOff x="1698480" y="355320"/>
                  <a:chExt cx="2025720" cy="3147120"/>
                </a:xfrm>
              </p:grpSpPr>
              <p:sp>
                <p:nvSpPr>
                  <p:cNvPr id="1077" name=""/>
                  <p:cNvSpPr/>
                  <p:nvPr/>
                </p:nvSpPr>
                <p:spPr>
                  <a:xfrm rot="20830200">
                    <a:off x="2003400" y="476280"/>
                    <a:ext cx="1415520" cy="29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rot="20830200">
                    <a:off x="2062800" y="493920"/>
                    <a:ext cx="1236240" cy="242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3255840" y="2630520"/>
                  <a:ext cx="473400" cy="629640"/>
                  <a:chOff x="3255840" y="2630520"/>
                  <a:chExt cx="473400" cy="62964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 rot="20830200">
                    <a:off x="3313800" y="2662920"/>
                    <a:ext cx="3567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4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 rot="20830200">
                    <a:off x="3559680" y="2971800"/>
                    <a:ext cx="13608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82" name=""/>
              <p:cNvGrpSpPr/>
              <p:nvPr/>
            </p:nvGrpSpPr>
            <p:grpSpPr>
              <a:xfrm>
                <a:off x="578880" y="932400"/>
                <a:ext cx="1863360" cy="2479680"/>
                <a:chOff x="578880" y="932400"/>
                <a:chExt cx="1863360" cy="2479680"/>
              </a:xfrm>
            </p:grpSpPr>
            <p:sp>
              <p:nvSpPr>
                <p:cNvPr id="1083" name=""/>
                <p:cNvSpPr/>
                <p:nvPr/>
              </p:nvSpPr>
              <p:spPr>
                <a:xfrm rot="1800600">
                  <a:off x="1217880" y="845280"/>
                  <a:ext cx="363240" cy="26539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800600">
                  <a:off x="1938960" y="1031400"/>
                  <a:ext cx="435240" cy="38844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5" name=""/>
            <p:cNvGrpSpPr/>
            <p:nvPr/>
          </p:nvGrpSpPr>
          <p:grpSpPr>
            <a:xfrm>
              <a:off x="-2577240" y="2923920"/>
              <a:ext cx="3150000" cy="3146760"/>
              <a:chOff x="-2577240" y="2923920"/>
              <a:chExt cx="3150000" cy="314676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-2577240" y="2923920"/>
                <a:ext cx="2031120" cy="3146760"/>
                <a:chOff x="-2577240" y="2923920"/>
                <a:chExt cx="2031120" cy="3146760"/>
              </a:xfrm>
            </p:grpSpPr>
            <p:grpSp>
              <p:nvGrpSpPr>
                <p:cNvPr id="1087" name=""/>
                <p:cNvGrpSpPr/>
                <p:nvPr/>
              </p:nvGrpSpPr>
              <p:grpSpPr>
                <a:xfrm>
                  <a:off x="-2572200" y="2923920"/>
                  <a:ext cx="2026080" cy="3146760"/>
                  <a:chOff x="-2572200" y="2923920"/>
                  <a:chExt cx="2026080" cy="314676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 flipH="1" flipV="1" rot="20830200">
                    <a:off x="-2266920" y="3044520"/>
                    <a:ext cx="1415880" cy="29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H="1" flipV="1" rot="20830200">
                    <a:off x="-2147040" y="3505320"/>
                    <a:ext cx="1236600" cy="24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0" name=""/>
                <p:cNvGrpSpPr/>
                <p:nvPr/>
              </p:nvGrpSpPr>
              <p:grpSpPr>
                <a:xfrm>
                  <a:off x="-2577240" y="3166200"/>
                  <a:ext cx="473040" cy="629640"/>
                  <a:chOff x="-2577240" y="3166200"/>
                  <a:chExt cx="473040" cy="629640"/>
                </a:xfrm>
              </p:grpSpPr>
              <p:sp>
                <p:nvSpPr>
                  <p:cNvPr id="1091" name=""/>
                  <p:cNvSpPr/>
                  <p:nvPr/>
                </p:nvSpPr>
                <p:spPr>
                  <a:xfrm flipH="1" flipV="1" rot="20830200">
                    <a:off x="-2518920" y="3198240"/>
                    <a:ext cx="356760" cy="56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flipH="1" flipV="1" rot="20830200">
                    <a:off x="-2544840" y="3239640"/>
                    <a:ext cx="13608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3" name=""/>
              <p:cNvGrpSpPr/>
              <p:nvPr/>
            </p:nvGrpSpPr>
            <p:grpSpPr>
              <a:xfrm>
                <a:off x="-1290240" y="3013920"/>
                <a:ext cx="1863000" cy="2480040"/>
                <a:chOff x="-1290240" y="3013920"/>
                <a:chExt cx="1863000" cy="2480040"/>
              </a:xfrm>
            </p:grpSpPr>
            <p:sp>
              <p:nvSpPr>
                <p:cNvPr id="1094" name=""/>
                <p:cNvSpPr/>
                <p:nvPr/>
              </p:nvSpPr>
              <p:spPr>
                <a:xfrm flipH="1" flipV="1" rot="1800600">
                  <a:off x="-429840" y="2926440"/>
                  <a:ext cx="363600" cy="265356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 flipV="1" rot="1800600">
                  <a:off x="-1222200" y="5006160"/>
                  <a:ext cx="435600" cy="3888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0.3592 0.04954 E">
                                      <p:cBhvr>
                                        <p:cTn id="1452" dur="2000" fill="hold"/>
                                        <p:tgtEl>
                                          <p:spTgt spid="9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7.03704E-006 L 0.46476 0.47269 E">
                                      <p:cBhvr>
                                        <p:cTn id="1486" dur="2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">
                                      <p:cBhvr>
                                        <p:cTn id="1488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2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320000">
                                      <p:cBhvr>
                                        <p:cTn id="1494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7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0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1547" dur="2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0.37778 0.02662 E">
                                      <p:cBhvr>
                                        <p:cTn id="1560" dur="2000" fill="hold"/>
                                        <p:tgtEl>
                                          <p:spTgt spid="10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900000">
                                      <p:cBhvr>
                                        <p:cTn id="1562" dur="2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1565" dur="2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1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72222E-006 -4.44444E-006 L 0.36216 0.02107 E">
                                      <p:cBhvr>
                                        <p:cTn id="1586" dur="2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1080000">
                                      <p:cBhvr>
                                        <p:cTn id="1588" dur="2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20000">
                                      <p:cBhvr>
                                        <p:cTn id="1591" dur="2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4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9500"/>
                            </p:stCondLst>
                            <p:childTnLst>
                              <p:par>
                                <p:cTn id="16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2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556E-007 -3.33333E-006 L 0.48837 0.36759 E">
                                      <p:cBhvr>
                                        <p:cTn id="1643" dur="2000" fill="hold"/>
                                        <p:tgtEl>
                                          <p:spTgt spid="10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1200000">
                                      <p:cBhvr>
                                        <p:cTn id="1645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">
                                      <p:cBhvr>
                                        <p:cTn id="1648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1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9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 rot="19407600">
            <a:off x="3742200" y="3456000"/>
            <a:ext cx="4729680" cy="4852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25" y="8377"/>
                </a:moveTo>
                <a:arcTo wR="10800" hR="10800" stAng="-777779" swAng="1739644"/>
                <a:lnTo>
                  <a:pt x="10800" y="10800"/>
                </a:lnTo>
                <a:close/>
              </a:path>
              <a:path fill="none" w="21600" h="21600">
                <a:moveTo>
                  <a:pt x="21325" y="8377"/>
                </a:moveTo>
                <a:arcTo wR="10800" hR="10800" stAng="-777779" swAng="1739644"/>
              </a:path>
            </a:pathLst>
          </a:cu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rot="666000">
            <a:off x="104400" y="4113360"/>
            <a:ext cx="2920680" cy="288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27" y="1405"/>
                </a:moveTo>
                <a:arcTo wR="10800" hR="10800" stAng="-3626735" swAng="4974243"/>
                <a:lnTo>
                  <a:pt x="10800" y="10800"/>
                </a:lnTo>
                <a:close/>
              </a:path>
              <a:path fill="none" w="21600" h="21600">
                <a:moveTo>
                  <a:pt x="16127" y="1405"/>
                </a:moveTo>
                <a:arcTo wR="10800" hR="10800" stAng="-3626735" swAng="4974243"/>
              </a:path>
            </a:pathLst>
          </a:cu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510600" y="58053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601480" y="22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76720" y="2654280"/>
            <a:ext cx="3965760" cy="3295800"/>
          </a:xfrm>
          <a:custGeom>
            <a:avLst/>
            <a:gdLst/>
            <a:ahLst/>
            <a:rect l="l" t="t" r="r" b="b"/>
            <a:pathLst>
              <a:path w="2498" h="2076">
                <a:moveTo>
                  <a:pt x="0" y="1940"/>
                </a:moveTo>
                <a:lnTo>
                  <a:pt x="2498" y="0"/>
                </a:lnTo>
                <a:lnTo>
                  <a:pt x="1542" y="2076"/>
                </a:lnTo>
                <a:lnTo>
                  <a:pt x="0" y="194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67360" y="5727600"/>
            <a:ext cx="3479760" cy="317520"/>
          </a:xfrm>
          <a:custGeom>
            <a:avLst/>
            <a:gdLst/>
            <a:ahLst/>
            <a:rect l="l" t="t" r="r" b="b"/>
            <a:pathLst>
              <a:path w="2192" h="200">
                <a:moveTo>
                  <a:pt x="0" y="0"/>
                </a:moveTo>
                <a:lnTo>
                  <a:pt x="2192" y="200"/>
                </a:lnTo>
              </a:path>
            </a:pathLst>
          </a:custGeom>
          <a:noFill/>
          <a:ln w="28440">
            <a:solidFill>
              <a:srgbClr val="40458c"/>
            </a:solidFill>
            <a:round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092560" y="2629080"/>
            <a:ext cx="3975120" cy="3098520"/>
          </a:xfrm>
          <a:custGeom>
            <a:avLst/>
            <a:gdLst/>
            <a:ahLst/>
            <a:rect l="l" t="t" r="r" b="b"/>
            <a:pathLst>
              <a:path w="2504" h="1952">
                <a:moveTo>
                  <a:pt x="2504" y="0"/>
                </a:moveTo>
                <a:lnTo>
                  <a:pt x="0" y="1952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631880" y="3763800"/>
            <a:ext cx="2735280" cy="18590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631880" y="5622840"/>
            <a:ext cx="2587680" cy="228600"/>
          </a:xfrm>
          <a:custGeom>
            <a:avLst/>
            <a:gdLst/>
            <a:ahLst/>
            <a:rect l="l" t="t" r="r" b="b"/>
            <a:pathLst>
              <a:path w="1630" h="144">
                <a:moveTo>
                  <a:pt x="0" y="0"/>
                </a:moveTo>
                <a:lnTo>
                  <a:pt x="1630" y="144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776680" y="4776840"/>
            <a:ext cx="7272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009960" y="57117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58800" y="556560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4920" y="11448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строение треугольника по стороне и двум прилежащим к ней углам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4969440" y="2621880"/>
            <a:ext cx="1421280" cy="3084120"/>
            <a:chOff x="4969440" y="2621880"/>
            <a:chExt cx="1421280" cy="3084120"/>
          </a:xfrm>
        </p:grpSpPr>
        <p:sp>
          <p:nvSpPr>
            <p:cNvPr id="1110" name=""/>
            <p:cNvSpPr/>
            <p:nvPr/>
          </p:nvSpPr>
          <p:spPr>
            <a:xfrm flipH="1" rot="21521400">
              <a:off x="5003640" y="2636640"/>
              <a:ext cx="1352520" cy="30304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c0099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rot="21521400">
              <a:off x="5013360" y="5113080"/>
              <a:ext cx="341280" cy="588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4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rot="21521400">
              <a:off x="5024520" y="5465520"/>
              <a:ext cx="129960" cy="2239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 rot="21521400">
              <a:off x="5065560" y="2653920"/>
              <a:ext cx="1181160" cy="253224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15103800">
            <a:off x="5475600" y="4902120"/>
            <a:ext cx="2016360" cy="189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521" y="4429"/>
                </a:moveTo>
                <a:arcTo wR="10800" hR="10800" stAng="-2168964" swAng="4448159"/>
                <a:lnTo>
                  <a:pt x="10800" y="10800"/>
                </a:lnTo>
                <a:close/>
              </a:path>
              <a:path fill="none" w="21600" h="21600">
                <a:moveTo>
                  <a:pt x="19521" y="4429"/>
                </a:moveTo>
                <a:arcTo wR="10800" hR="10800" stAng="-2168964" swAng="4448159"/>
              </a:path>
            </a:pathLst>
          </a:cu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341360" y="5805360"/>
            <a:ext cx="1120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Угол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99"/>
                </a:solidFill>
                <a:latin typeface="Tahoma"/>
              </a:rPr>
              <a:t>h</a:t>
            </a:r>
            <a:r>
              <a:rPr b="0" i="1" lang="ru-RU" sz="18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i="1" lang="en-US" sz="1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i="1" lang="ru-RU" sz="18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67240" y="3763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h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184200" y="911160"/>
            <a:ext cx="62780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луч </a:t>
            </a:r>
            <a:r>
              <a:rPr b="0" i="1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тложим отрезок АВ, равный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угол, равный данному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угол, равный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h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517160" y="59500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939200" y="57816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621648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Треугольник АВС искомый. Обоснуй, используя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признак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27400" y="105264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187280" y="1989000"/>
            <a:ext cx="19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трезок Р</a:t>
            </a:r>
            <a:r>
              <a:rPr b="1" lang="ru-RU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88840" y="2489040"/>
            <a:ext cx="2457720" cy="5040"/>
          </a:xfrm>
          <a:custGeom>
            <a:avLst/>
            <a:gdLst/>
            <a:ahLst/>
            <a:rect l="l" t="t" r="r" b="b"/>
            <a:pathLst>
              <a:path w="1548" h="3">
                <a:moveTo>
                  <a:pt x="0" y="0"/>
                </a:moveTo>
                <a:lnTo>
                  <a:pt x="1548" y="3"/>
                </a:lnTo>
              </a:path>
            </a:pathLst>
          </a:custGeom>
          <a:noFill/>
          <a:ln w="12600">
            <a:solidFill>
              <a:srgbClr val="40458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321720" y="234936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37480" y="22766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526240" y="5708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31920" y="5780160"/>
            <a:ext cx="42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k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rot="369600">
            <a:off x="2424600" y="3301560"/>
            <a:ext cx="5110920" cy="494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0" y="7616"/>
                </a:moveTo>
                <a:arcTo wR="10800" hR="10800" stAng="-1028629" swAng="1612616"/>
                <a:lnTo>
                  <a:pt x="10800" y="10800"/>
                </a:lnTo>
                <a:close/>
              </a:path>
              <a:path fill="none" w="21600" h="21600">
                <a:moveTo>
                  <a:pt x="21120" y="7616"/>
                </a:moveTo>
                <a:arcTo wR="10800" hR="10800" stAng="-1028629" swAng="1612616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543800" y="2654280"/>
            <a:ext cx="1523880" cy="3276720"/>
          </a:xfrm>
          <a:custGeom>
            <a:avLst/>
            <a:gdLst/>
            <a:ahLst/>
            <a:rect l="l" t="t" r="r" b="b"/>
            <a:pathLst>
              <a:path w="960" h="2064">
                <a:moveTo>
                  <a:pt x="960" y="0"/>
                </a:moveTo>
                <a:lnTo>
                  <a:pt x="0" y="2064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rot="503400">
            <a:off x="3769560" y="4372200"/>
            <a:ext cx="2752200" cy="279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15" y="347"/>
                </a:moveTo>
                <a:arcTo wR="10800" hR="10800" stAng="-4526277" swAng="6092152"/>
                <a:lnTo>
                  <a:pt x="10800" y="10800"/>
                </a:lnTo>
                <a:close/>
              </a:path>
              <a:path fill="none" w="21600" h="21600">
                <a:moveTo>
                  <a:pt x="13515" y="347"/>
                </a:moveTo>
                <a:arcTo wR="10800" hR="10800" stAng="-4526277" swAng="6092152"/>
              </a:path>
            </a:pathLst>
          </a:cu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168960" y="4835520"/>
            <a:ext cx="71640" cy="7128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-1545480" y="-373680"/>
            <a:ext cx="4865400" cy="5726880"/>
            <a:chOff x="-1545480" y="-373680"/>
            <a:chExt cx="4865400" cy="5726880"/>
          </a:xfrm>
        </p:grpSpPr>
        <p:grpSp>
          <p:nvGrpSpPr>
            <p:cNvPr id="1133" name=""/>
            <p:cNvGrpSpPr/>
            <p:nvPr/>
          </p:nvGrpSpPr>
          <p:grpSpPr>
            <a:xfrm>
              <a:off x="865800" y="-373680"/>
              <a:ext cx="2454120" cy="3011760"/>
              <a:chOff x="865800" y="-373680"/>
              <a:chExt cx="2454120" cy="3011760"/>
            </a:xfrm>
          </p:grpSpPr>
          <p:grpSp>
            <p:nvGrpSpPr>
              <p:cNvPr id="1134" name=""/>
              <p:cNvGrpSpPr/>
              <p:nvPr/>
            </p:nvGrpSpPr>
            <p:grpSpPr>
              <a:xfrm>
                <a:off x="1700280" y="-373680"/>
                <a:ext cx="1619640" cy="3002400"/>
                <a:chOff x="1700280" y="-373680"/>
                <a:chExt cx="1619640" cy="3002400"/>
              </a:xfrm>
            </p:grpSpPr>
            <p:grpSp>
              <p:nvGrpSpPr>
                <p:cNvPr id="1135" name=""/>
                <p:cNvGrpSpPr/>
                <p:nvPr/>
              </p:nvGrpSpPr>
              <p:grpSpPr>
                <a:xfrm>
                  <a:off x="1700280" y="-373680"/>
                  <a:ext cx="1612800" cy="3002400"/>
                  <a:chOff x="1700280" y="-373680"/>
                  <a:chExt cx="1612800" cy="300240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 rot="21273600">
                    <a:off x="1834200" y="-316080"/>
                    <a:ext cx="1344600" cy="28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rot="21273600">
                    <a:off x="1916640" y="-300600"/>
                    <a:ext cx="1173960" cy="24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2928960" y="1936800"/>
                  <a:ext cx="390960" cy="590760"/>
                  <a:chOff x="2928960" y="1936800"/>
                  <a:chExt cx="390960" cy="59076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 rot="21273600">
                    <a:off x="2954520" y="1951200"/>
                    <a:ext cx="339120" cy="56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4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 rot="21273600">
                    <a:off x="3171600" y="2274840"/>
                    <a:ext cx="129240" cy="21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7b918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1" name=""/>
              <p:cNvGrpSpPr/>
              <p:nvPr/>
            </p:nvGrpSpPr>
            <p:grpSpPr>
              <a:xfrm>
                <a:off x="865800" y="40320"/>
                <a:ext cx="1483560" cy="2597760"/>
                <a:chOff x="865800" y="40320"/>
                <a:chExt cx="1483560" cy="2597760"/>
              </a:xfrm>
            </p:grpSpPr>
            <p:sp>
              <p:nvSpPr>
                <p:cNvPr id="1142" name=""/>
                <p:cNvSpPr/>
                <p:nvPr/>
              </p:nvSpPr>
              <p:spPr>
                <a:xfrm rot="1259400">
                  <a:off x="1326600" y="25560"/>
                  <a:ext cx="345240" cy="26380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rot="1259400">
                  <a:off x="1880280" y="101520"/>
                  <a:ext cx="413280" cy="3859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4" name=""/>
            <p:cNvGrpSpPr/>
            <p:nvPr/>
          </p:nvGrpSpPr>
          <p:grpSpPr>
            <a:xfrm>
              <a:off x="-1545480" y="2342520"/>
              <a:ext cx="2454840" cy="3010680"/>
              <a:chOff x="-1545480" y="2342520"/>
              <a:chExt cx="2454840" cy="3010680"/>
            </a:xfrm>
          </p:grpSpPr>
          <p:grpSp>
            <p:nvGrpSpPr>
              <p:cNvPr id="1145" name=""/>
              <p:cNvGrpSpPr/>
              <p:nvPr/>
            </p:nvGrpSpPr>
            <p:grpSpPr>
              <a:xfrm>
                <a:off x="-1545480" y="2351520"/>
                <a:ext cx="1619280" cy="3001680"/>
                <a:chOff x="-1545480" y="2351520"/>
                <a:chExt cx="1619280" cy="3001680"/>
              </a:xfrm>
            </p:grpSpPr>
            <p:grpSp>
              <p:nvGrpSpPr>
                <p:cNvPr id="1146" name=""/>
                <p:cNvGrpSpPr/>
                <p:nvPr/>
              </p:nvGrpSpPr>
              <p:grpSpPr>
                <a:xfrm>
                  <a:off x="-1539000" y="2351520"/>
                  <a:ext cx="1612800" cy="3001680"/>
                  <a:chOff x="-1539000" y="2351520"/>
                  <a:chExt cx="1612800" cy="3001680"/>
                </a:xfrm>
              </p:grpSpPr>
              <p:sp>
                <p:nvSpPr>
                  <p:cNvPr id="1147" name=""/>
                  <p:cNvSpPr/>
                  <p:nvPr/>
                </p:nvSpPr>
                <p:spPr>
                  <a:xfrm flipH="1" flipV="1" rot="21273600">
                    <a:off x="-1404720" y="2408760"/>
                    <a:ext cx="1344600" cy="28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 flipH="1" flipV="1" rot="21273600">
                    <a:off x="-1317240" y="2868120"/>
                    <a:ext cx="1173960" cy="241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9" name=""/>
                <p:cNvGrpSpPr/>
                <p:nvPr/>
              </p:nvGrpSpPr>
              <p:grpSpPr>
                <a:xfrm>
                  <a:off x="-1545480" y="2453040"/>
                  <a:ext cx="390600" cy="590040"/>
                  <a:chOff x="-1545480" y="2453040"/>
                  <a:chExt cx="390600" cy="59004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 flipH="1" flipV="1" rot="21273600">
                    <a:off x="-1519920" y="2467440"/>
                    <a:ext cx="33912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flipH="1" flipV="1" rot="21273600">
                    <a:off x="-1526760" y="2491200"/>
                    <a:ext cx="129240" cy="21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2" name=""/>
              <p:cNvGrpSpPr/>
              <p:nvPr/>
            </p:nvGrpSpPr>
            <p:grpSpPr>
              <a:xfrm>
                <a:off x="-575640" y="2342520"/>
                <a:ext cx="1485000" cy="2596680"/>
                <a:chOff x="-575640" y="2342520"/>
                <a:chExt cx="1485000" cy="2596680"/>
              </a:xfrm>
            </p:grpSpPr>
            <p:sp>
              <p:nvSpPr>
                <p:cNvPr id="1153" name=""/>
                <p:cNvSpPr/>
                <p:nvPr/>
              </p:nvSpPr>
              <p:spPr>
                <a:xfrm flipH="1" flipV="1" rot="1259400">
                  <a:off x="102240" y="2316240"/>
                  <a:ext cx="345240" cy="263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 flipV="1" rot="1259400">
                  <a:off x="-519840" y="4491720"/>
                  <a:ext cx="413280" cy="3859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55" name=""/>
          <p:cNvGrpSpPr/>
          <p:nvPr/>
        </p:nvGrpSpPr>
        <p:grpSpPr>
          <a:xfrm>
            <a:off x="395280" y="2637000"/>
            <a:ext cx="1816200" cy="3168360"/>
            <a:chOff x="395280" y="2637000"/>
            <a:chExt cx="1816200" cy="3168360"/>
          </a:xfrm>
        </p:grpSpPr>
        <p:sp>
          <p:nvSpPr>
            <p:cNvPr id="1156" name=""/>
            <p:cNvSpPr/>
            <p:nvPr/>
          </p:nvSpPr>
          <p:spPr>
            <a:xfrm>
              <a:off x="1476360" y="2637000"/>
              <a:ext cx="735120" cy="14554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95280" y="4076640"/>
              <a:ext cx="1782720" cy="1728720"/>
            </a:xfrm>
            <a:custGeom>
              <a:avLst/>
              <a:gdLst/>
              <a:ahLst/>
              <a:rect l="l" t="t" r="r" b="b"/>
              <a:pathLst>
                <a:path w="941" h="949">
                  <a:moveTo>
                    <a:pt x="941" y="0"/>
                  </a:moveTo>
                  <a:lnTo>
                    <a:pt x="0" y="949"/>
                  </a:lnTo>
                </a:path>
              </a:pathLst>
            </a:cu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 flipH="1" rot="20593200">
            <a:off x="757080" y="2637360"/>
            <a:ext cx="2818440" cy="28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52" y="9"/>
                </a:moveTo>
                <a:arcTo wR="10800" hR="10800" stAng="-5256155" swAng="8200317"/>
                <a:lnTo>
                  <a:pt x="10800" y="10800"/>
                </a:lnTo>
                <a:close/>
              </a:path>
              <a:path fill="none" w="21600" h="21600">
                <a:moveTo>
                  <a:pt x="11252" y="9"/>
                </a:moveTo>
                <a:arcTo wR="10800" hR="10800" stAng="-5256155" swAng="8200317"/>
              </a:path>
            </a:pathLst>
          </a:cu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 rot="20593200">
            <a:off x="6157800" y="4557960"/>
            <a:ext cx="2819520" cy="283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2" y="5568"/>
                </a:moveTo>
                <a:arcTo wR="10800" hR="10800" stAng="-9061479" swAng="8611471"/>
                <a:lnTo>
                  <a:pt x="10800" y="10800"/>
                </a:lnTo>
                <a:close/>
              </a:path>
              <a:path fill="none" w="21600" h="21600">
                <a:moveTo>
                  <a:pt x="1352" y="5568"/>
                </a:moveTo>
                <a:arcTo wR="10800" hR="10800" stAng="-9061479" swAng="8611471"/>
              </a:path>
            </a:pathLst>
          </a:cu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1625760" y="25653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h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477000" y="5516640"/>
            <a:ext cx="42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k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-2315880" y="2758680"/>
            <a:ext cx="6934320" cy="4621680"/>
            <a:chOff x="-2315880" y="2758680"/>
            <a:chExt cx="6934320" cy="4621680"/>
          </a:xfrm>
        </p:grpSpPr>
        <p:grpSp>
          <p:nvGrpSpPr>
            <p:cNvPr id="1163" name=""/>
            <p:cNvGrpSpPr/>
            <p:nvPr/>
          </p:nvGrpSpPr>
          <p:grpSpPr>
            <a:xfrm>
              <a:off x="-2315880" y="5082840"/>
              <a:ext cx="3509280" cy="2297520"/>
              <a:chOff x="-2315880" y="5082840"/>
              <a:chExt cx="3509280" cy="2297520"/>
            </a:xfrm>
          </p:grpSpPr>
          <p:grpSp>
            <p:nvGrpSpPr>
              <p:cNvPr id="1164" name=""/>
              <p:cNvGrpSpPr/>
              <p:nvPr/>
            </p:nvGrpSpPr>
            <p:grpSpPr>
              <a:xfrm>
                <a:off x="-2315880" y="5393520"/>
                <a:ext cx="3327480" cy="1986840"/>
                <a:chOff x="-2315880" y="5393520"/>
                <a:chExt cx="3327480" cy="1986840"/>
              </a:xfrm>
            </p:grpSpPr>
            <p:grpSp>
              <p:nvGrpSpPr>
                <p:cNvPr id="1165" name=""/>
                <p:cNvGrpSpPr/>
                <p:nvPr/>
              </p:nvGrpSpPr>
              <p:grpSpPr>
                <a:xfrm>
                  <a:off x="-2315880" y="5393520"/>
                  <a:ext cx="3327480" cy="1972440"/>
                  <a:chOff x="-2315880" y="5393520"/>
                  <a:chExt cx="3327480" cy="197244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 flipV="1" rot="5892600">
                    <a:off x="-1421640" y="4809240"/>
                    <a:ext cx="1539720" cy="313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V="1" rot="5892600">
                    <a:off x="-1566000" y="5055120"/>
                    <a:ext cx="1344600" cy="262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180720" y="6900840"/>
                  <a:ext cx="658800" cy="479520"/>
                  <a:chOff x="180720" y="6900840"/>
                  <a:chExt cx="658800" cy="479520"/>
                </a:xfrm>
              </p:grpSpPr>
              <p:sp>
                <p:nvSpPr>
                  <p:cNvPr id="1169" name=""/>
                  <p:cNvSpPr/>
                  <p:nvPr/>
                </p:nvSpPr>
                <p:spPr>
                  <a:xfrm flipV="1" rot="5892600">
                    <a:off x="315360" y="6831720"/>
                    <a:ext cx="38880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 flipV="1" rot="5892600">
                    <a:off x="596880" y="7174080"/>
                    <a:ext cx="14832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1" name=""/>
              <p:cNvGrpSpPr/>
              <p:nvPr/>
            </p:nvGrpSpPr>
            <p:grpSpPr>
              <a:xfrm>
                <a:off x="-1872720" y="5082840"/>
                <a:ext cx="3066120" cy="1009440"/>
                <a:chOff x="-1872720" y="5082840"/>
                <a:chExt cx="3066120" cy="1009440"/>
              </a:xfrm>
            </p:grpSpPr>
            <p:sp>
              <p:nvSpPr>
                <p:cNvPr id="1172" name=""/>
                <p:cNvSpPr/>
                <p:nvPr/>
              </p:nvSpPr>
              <p:spPr>
                <a:xfrm flipV="1" rot="5040600">
                  <a:off x="-528840" y="3963240"/>
                  <a:ext cx="433800" cy="29818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V="1" rot="5040600">
                  <a:off x="-1888200" y="5592600"/>
                  <a:ext cx="519480" cy="436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4" name=""/>
            <p:cNvGrpSpPr/>
            <p:nvPr/>
          </p:nvGrpSpPr>
          <p:grpSpPr>
            <a:xfrm>
              <a:off x="1109160" y="2758680"/>
              <a:ext cx="3509280" cy="2297520"/>
              <a:chOff x="1109160" y="2758680"/>
              <a:chExt cx="3509280" cy="2297520"/>
            </a:xfrm>
          </p:grpSpPr>
          <p:grpSp>
            <p:nvGrpSpPr>
              <p:cNvPr id="1175" name=""/>
              <p:cNvGrpSpPr/>
              <p:nvPr/>
            </p:nvGrpSpPr>
            <p:grpSpPr>
              <a:xfrm>
                <a:off x="1290960" y="2758680"/>
                <a:ext cx="3327480" cy="1987200"/>
                <a:chOff x="1290960" y="2758680"/>
                <a:chExt cx="3327480" cy="1987200"/>
              </a:xfrm>
            </p:grpSpPr>
            <p:grpSp>
              <p:nvGrpSpPr>
                <p:cNvPr id="1176" name=""/>
                <p:cNvGrpSpPr/>
                <p:nvPr/>
              </p:nvGrpSpPr>
              <p:grpSpPr>
                <a:xfrm>
                  <a:off x="1290960" y="2773440"/>
                  <a:ext cx="3327480" cy="1972440"/>
                  <a:chOff x="1290960" y="2773440"/>
                  <a:chExt cx="3327480" cy="197244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 flipV="1" rot="16692600">
                    <a:off x="2184480" y="2189160"/>
                    <a:ext cx="1539720" cy="313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 flipV="1" rot="16692600">
                    <a:off x="2523960" y="2460960"/>
                    <a:ext cx="1344600" cy="262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9" name=""/>
                <p:cNvGrpSpPr/>
                <p:nvPr/>
              </p:nvGrpSpPr>
              <p:grpSpPr>
                <a:xfrm>
                  <a:off x="1463040" y="2758680"/>
                  <a:ext cx="658800" cy="479880"/>
                  <a:chOff x="1463040" y="2758680"/>
                  <a:chExt cx="658800" cy="479880"/>
                </a:xfrm>
              </p:grpSpPr>
              <p:sp>
                <p:nvSpPr>
                  <p:cNvPr id="1180" name=""/>
                  <p:cNvSpPr/>
                  <p:nvPr/>
                </p:nvSpPr>
                <p:spPr>
                  <a:xfrm flipV="1" rot="16692600">
                    <a:off x="1598040" y="2697840"/>
                    <a:ext cx="38880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4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flipV="1" rot="16692600">
                    <a:off x="1557000" y="2732400"/>
                    <a:ext cx="14832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000c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2" name=""/>
              <p:cNvGrpSpPr/>
              <p:nvPr/>
            </p:nvGrpSpPr>
            <p:grpSpPr>
              <a:xfrm>
                <a:off x="1109160" y="4046760"/>
                <a:ext cx="3066120" cy="1009440"/>
                <a:chOff x="1109160" y="4046760"/>
                <a:chExt cx="3066120" cy="1009440"/>
              </a:xfrm>
            </p:grpSpPr>
            <p:sp>
              <p:nvSpPr>
                <p:cNvPr id="1183" name=""/>
                <p:cNvSpPr/>
                <p:nvPr/>
              </p:nvSpPr>
              <p:spPr>
                <a:xfrm flipV="1" rot="15840600">
                  <a:off x="2397600" y="3193560"/>
                  <a:ext cx="433800" cy="29818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 rot="15840600">
                  <a:off x="3671280" y="4109760"/>
                  <a:ext cx="519480" cy="4363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5" name=""/>
          <p:cNvGrpSpPr/>
          <p:nvPr/>
        </p:nvGrpSpPr>
        <p:grpSpPr>
          <a:xfrm>
            <a:off x="3930120" y="2243880"/>
            <a:ext cx="4477320" cy="7097040"/>
            <a:chOff x="3930120" y="2243880"/>
            <a:chExt cx="4477320" cy="7097040"/>
          </a:xfrm>
        </p:grpSpPr>
        <p:grpSp>
          <p:nvGrpSpPr>
            <p:cNvPr id="1186" name=""/>
            <p:cNvGrpSpPr/>
            <p:nvPr/>
          </p:nvGrpSpPr>
          <p:grpSpPr>
            <a:xfrm>
              <a:off x="6127920" y="2243880"/>
              <a:ext cx="2279520" cy="3611520"/>
              <a:chOff x="6127920" y="2243880"/>
              <a:chExt cx="2279520" cy="3611520"/>
            </a:xfrm>
          </p:grpSpPr>
          <p:grpSp>
            <p:nvGrpSpPr>
              <p:cNvPr id="1187" name=""/>
              <p:cNvGrpSpPr/>
              <p:nvPr/>
            </p:nvGrpSpPr>
            <p:grpSpPr>
              <a:xfrm>
                <a:off x="6127920" y="2243880"/>
                <a:ext cx="2279520" cy="3393720"/>
                <a:chOff x="6127920" y="2243880"/>
                <a:chExt cx="2279520" cy="3393720"/>
              </a:xfrm>
            </p:grpSpPr>
            <p:grpSp>
              <p:nvGrpSpPr>
                <p:cNvPr id="1188" name=""/>
                <p:cNvGrpSpPr/>
                <p:nvPr/>
              </p:nvGrpSpPr>
              <p:grpSpPr>
                <a:xfrm>
                  <a:off x="6127920" y="2243880"/>
                  <a:ext cx="2266920" cy="3393720"/>
                  <a:chOff x="6127920" y="2243880"/>
                  <a:chExt cx="2266920" cy="3393720"/>
                </a:xfrm>
              </p:grpSpPr>
              <p:sp>
                <p:nvSpPr>
                  <p:cNvPr id="1189" name=""/>
                  <p:cNvSpPr/>
                  <p:nvPr/>
                </p:nvSpPr>
                <p:spPr>
                  <a:xfrm flipH="1" flipV="1" rot="9927600">
                    <a:off x="6492960" y="2386440"/>
                    <a:ext cx="1535400" cy="31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 flipH="1" flipV="1" rot="9927600">
                    <a:off x="6552000" y="2405880"/>
                    <a:ext cx="1341000" cy="25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1" name=""/>
                <p:cNvGrpSpPr/>
                <p:nvPr/>
              </p:nvGrpSpPr>
              <p:grpSpPr>
                <a:xfrm>
                  <a:off x="7873920" y="4659840"/>
                  <a:ext cx="533520" cy="681120"/>
                  <a:chOff x="7873920" y="4659840"/>
                  <a:chExt cx="533520" cy="681120"/>
                </a:xfrm>
              </p:grpSpPr>
              <p:sp>
                <p:nvSpPr>
                  <p:cNvPr id="1192" name=""/>
                  <p:cNvSpPr/>
                  <p:nvPr/>
                </p:nvSpPr>
                <p:spPr>
                  <a:xfrm flipH="1" flipV="1" rot="9927600">
                    <a:off x="7943040" y="4698720"/>
                    <a:ext cx="387360" cy="60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4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flipH="1" flipV="1" rot="9927600">
                    <a:off x="8232840" y="5025600"/>
                    <a:ext cx="147960" cy="22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000c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4" name=""/>
              <p:cNvGrpSpPr/>
              <p:nvPr/>
            </p:nvGrpSpPr>
            <p:grpSpPr>
              <a:xfrm>
                <a:off x="6156720" y="2826360"/>
                <a:ext cx="694080" cy="3029040"/>
                <a:chOff x="6156720" y="2826360"/>
                <a:chExt cx="694080" cy="3029040"/>
              </a:xfrm>
            </p:grpSpPr>
            <p:sp>
              <p:nvSpPr>
                <p:cNvPr id="1195" name=""/>
                <p:cNvSpPr/>
                <p:nvPr/>
              </p:nvSpPr>
              <p:spPr>
                <a:xfrm flipH="1" flipV="1" rot="10779600">
                  <a:off x="6165360" y="2902320"/>
                  <a:ext cx="432720" cy="295164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H="1" flipV="1" rot="10779600">
                  <a:off x="6330600" y="2827440"/>
                  <a:ext cx="518400" cy="43200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7" name=""/>
            <p:cNvGrpSpPr/>
            <p:nvPr/>
          </p:nvGrpSpPr>
          <p:grpSpPr>
            <a:xfrm>
              <a:off x="3930120" y="5754240"/>
              <a:ext cx="2246040" cy="3586680"/>
              <a:chOff x="3930120" y="5754240"/>
              <a:chExt cx="2246040" cy="3586680"/>
            </a:xfrm>
          </p:grpSpPr>
          <p:grpSp>
            <p:nvGrpSpPr>
              <p:cNvPr id="1198" name=""/>
              <p:cNvGrpSpPr/>
              <p:nvPr/>
            </p:nvGrpSpPr>
            <p:grpSpPr>
              <a:xfrm>
                <a:off x="3930120" y="5961960"/>
                <a:ext cx="2223360" cy="3378960"/>
                <a:chOff x="3930120" y="5961960"/>
                <a:chExt cx="2223360" cy="3378960"/>
              </a:xfrm>
            </p:grpSpPr>
            <p:grpSp>
              <p:nvGrpSpPr>
                <p:cNvPr id="1199" name=""/>
                <p:cNvGrpSpPr/>
                <p:nvPr/>
              </p:nvGrpSpPr>
              <p:grpSpPr>
                <a:xfrm>
                  <a:off x="3943080" y="5961960"/>
                  <a:ext cx="2210400" cy="3378960"/>
                  <a:chOff x="3943080" y="5961960"/>
                  <a:chExt cx="2210400" cy="337896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 flipH="1" flipV="1" rot="20801400">
                    <a:off x="4280400" y="6096960"/>
                    <a:ext cx="1535400" cy="310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 flipH="1" flipV="1" rot="20801400">
                    <a:off x="4411440" y="6590160"/>
                    <a:ext cx="1341000" cy="259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3930120" y="6235200"/>
                  <a:ext cx="523800" cy="676800"/>
                  <a:chOff x="3930120" y="6235200"/>
                  <a:chExt cx="523800" cy="67680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 flipH="1" flipV="1" rot="20801400">
                    <a:off x="4001760" y="6271560"/>
                    <a:ext cx="387720" cy="60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H="1" flipV="1" rot="20801400">
                    <a:off x="3953880" y="6314040"/>
                    <a:ext cx="147960" cy="22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5" name=""/>
              <p:cNvGrpSpPr/>
              <p:nvPr/>
            </p:nvGrpSpPr>
            <p:grpSpPr>
              <a:xfrm>
                <a:off x="5437800" y="5754240"/>
                <a:ext cx="738360" cy="3028320"/>
                <a:chOff x="5437800" y="5754240"/>
                <a:chExt cx="738360" cy="3028320"/>
              </a:xfrm>
            </p:grpSpPr>
            <p:sp>
              <p:nvSpPr>
                <p:cNvPr id="1206" name=""/>
                <p:cNvSpPr/>
                <p:nvPr/>
              </p:nvSpPr>
              <p:spPr>
                <a:xfrm flipH="1" flipV="1" rot="52800">
                  <a:off x="5720400" y="5757120"/>
                  <a:ext cx="432720" cy="295164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H="1" flipV="1" rot="52800">
                  <a:off x="5440320" y="8346240"/>
                  <a:ext cx="518040" cy="432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08" name=""/>
          <p:cNvSpPr/>
          <p:nvPr/>
        </p:nvSpPr>
        <p:spPr>
          <a:xfrm flipH="1">
            <a:off x="8101080" y="4653000"/>
            <a:ext cx="71280" cy="71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6124680" y="5784840"/>
            <a:ext cx="71280" cy="71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-1187280" y="2684880"/>
            <a:ext cx="6628680" cy="2732760"/>
            <a:chOff x="-1187280" y="2684880"/>
            <a:chExt cx="6628680" cy="2732760"/>
          </a:xfrm>
        </p:grpSpPr>
        <p:grpSp>
          <p:nvGrpSpPr>
            <p:cNvPr id="1211" name=""/>
            <p:cNvGrpSpPr/>
            <p:nvPr/>
          </p:nvGrpSpPr>
          <p:grpSpPr>
            <a:xfrm>
              <a:off x="-1187280" y="3556440"/>
              <a:ext cx="3374640" cy="1861200"/>
              <a:chOff x="-1187280" y="3556440"/>
              <a:chExt cx="3374640" cy="1861200"/>
            </a:xfrm>
          </p:grpSpPr>
          <p:sp>
            <p:nvSpPr>
              <p:cNvPr id="1212" name=""/>
              <p:cNvSpPr/>
              <p:nvPr/>
            </p:nvSpPr>
            <p:spPr>
              <a:xfrm flipH="1" rot="16801800">
                <a:off x="-234000" y="2972880"/>
                <a:ext cx="1304280" cy="30304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 rot="16801800">
                <a:off x="1391040" y="4909680"/>
                <a:ext cx="329040" cy="58896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 rot="16801800">
                <a:off x="1640520" y="5214960"/>
                <a:ext cx="12564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66c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215" name=""/>
              <p:cNvGrpSpPr/>
              <p:nvPr/>
            </p:nvGrpSpPr>
            <p:grpSpPr>
              <a:xfrm>
                <a:off x="-1159200" y="3556440"/>
                <a:ext cx="3346560" cy="1690200"/>
                <a:chOff x="-1159200" y="3556440"/>
                <a:chExt cx="3346560" cy="1690200"/>
              </a:xfrm>
            </p:grpSpPr>
            <p:sp>
              <p:nvSpPr>
                <p:cNvPr id="1216" name=""/>
                <p:cNvSpPr/>
                <p:nvPr/>
              </p:nvSpPr>
              <p:spPr>
                <a:xfrm flipH="1" rot="16801800">
                  <a:off x="-383040" y="3198960"/>
                  <a:ext cx="1139040" cy="25318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66c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7" name=""/>
                <p:cNvGrpSpPr/>
                <p:nvPr/>
              </p:nvGrpSpPr>
              <p:grpSpPr>
                <a:xfrm>
                  <a:off x="-817920" y="3556440"/>
                  <a:ext cx="3005280" cy="863280"/>
                  <a:chOff x="-817920" y="3556440"/>
                  <a:chExt cx="3005280" cy="863280"/>
                </a:xfrm>
              </p:grpSpPr>
              <p:sp>
                <p:nvSpPr>
                  <p:cNvPr id="1218" name=""/>
                  <p:cNvSpPr/>
                  <p:nvPr/>
                </p:nvSpPr>
                <p:spPr>
                  <a:xfrm flipH="1" rot="16801800">
                    <a:off x="554400" y="2549160"/>
                    <a:ext cx="367200" cy="28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 flipH="1" rot="16801800">
                    <a:off x="-792360" y="3732120"/>
                    <a:ext cx="439920" cy="42120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20" name=""/>
            <p:cNvGrpSpPr/>
            <p:nvPr/>
          </p:nvGrpSpPr>
          <p:grpSpPr>
            <a:xfrm>
              <a:off x="2066760" y="2684880"/>
              <a:ext cx="3374640" cy="1861200"/>
              <a:chOff x="2066760" y="2684880"/>
              <a:chExt cx="3374640" cy="1861200"/>
            </a:xfrm>
          </p:grpSpPr>
          <p:sp>
            <p:nvSpPr>
              <p:cNvPr id="1221" name=""/>
              <p:cNvSpPr/>
              <p:nvPr/>
            </p:nvSpPr>
            <p:spPr>
              <a:xfrm flipV="1" rot="16801800">
                <a:off x="3183120" y="2098440"/>
                <a:ext cx="1304280" cy="30304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 rot="16801800">
                <a:off x="2534400" y="2603160"/>
                <a:ext cx="329040" cy="58896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 rot="16801800">
                <a:off x="2487240" y="2664000"/>
                <a:ext cx="12564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224" name=""/>
              <p:cNvGrpSpPr/>
              <p:nvPr/>
            </p:nvGrpSpPr>
            <p:grpSpPr>
              <a:xfrm>
                <a:off x="2066760" y="2856600"/>
                <a:ext cx="3346560" cy="1689480"/>
                <a:chOff x="2066760" y="2856600"/>
                <a:chExt cx="3346560" cy="1689480"/>
              </a:xfrm>
            </p:grpSpPr>
            <p:sp>
              <p:nvSpPr>
                <p:cNvPr id="1225" name=""/>
                <p:cNvSpPr/>
                <p:nvPr/>
              </p:nvSpPr>
              <p:spPr>
                <a:xfrm flipV="1" rot="16801800">
                  <a:off x="3497760" y="2372040"/>
                  <a:ext cx="1139040" cy="25318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6" name=""/>
                <p:cNvGrpSpPr/>
                <p:nvPr/>
              </p:nvGrpSpPr>
              <p:grpSpPr>
                <a:xfrm>
                  <a:off x="2066760" y="3682800"/>
                  <a:ext cx="3005640" cy="863280"/>
                  <a:chOff x="2066760" y="3682800"/>
                  <a:chExt cx="3005640" cy="863280"/>
                </a:xfrm>
              </p:grpSpPr>
              <p:sp>
                <p:nvSpPr>
                  <p:cNvPr id="1227" name=""/>
                  <p:cNvSpPr/>
                  <p:nvPr/>
                </p:nvSpPr>
                <p:spPr>
                  <a:xfrm flipV="1" rot="16801800">
                    <a:off x="3331800" y="2675520"/>
                    <a:ext cx="367200" cy="28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 flipV="1" rot="16801800">
                    <a:off x="4606560" y="3948840"/>
                    <a:ext cx="439920" cy="421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29" name=""/>
          <p:cNvSpPr/>
          <p:nvPr/>
        </p:nvSpPr>
        <p:spPr>
          <a:xfrm>
            <a:off x="5783760" y="58053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483240" y="5824440"/>
            <a:ext cx="73080" cy="71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502400" y="5902200"/>
            <a:ext cx="73080" cy="730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-124200" y="3409560"/>
            <a:ext cx="6409800" cy="4642200"/>
            <a:chOff x="-124200" y="3409560"/>
            <a:chExt cx="6409800" cy="4642200"/>
          </a:xfrm>
        </p:grpSpPr>
        <p:grpSp>
          <p:nvGrpSpPr>
            <p:cNvPr id="1233" name=""/>
            <p:cNvGrpSpPr/>
            <p:nvPr/>
          </p:nvGrpSpPr>
          <p:grpSpPr>
            <a:xfrm>
              <a:off x="2817000" y="3409560"/>
              <a:ext cx="3468600" cy="2616840"/>
              <a:chOff x="2817000" y="3409560"/>
              <a:chExt cx="3468600" cy="2616840"/>
            </a:xfrm>
          </p:grpSpPr>
          <p:sp>
            <p:nvSpPr>
              <p:cNvPr id="1234" name=""/>
              <p:cNvSpPr/>
              <p:nvPr/>
            </p:nvSpPr>
            <p:spPr>
              <a:xfrm flipH="1" rot="3831600">
                <a:off x="3884040" y="3137400"/>
                <a:ext cx="1363680" cy="316116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 rot="3831600">
                <a:off x="2996280" y="4507560"/>
                <a:ext cx="344520" cy="61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2954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 rot="3831600">
                <a:off x="2900880" y="4686840"/>
                <a:ext cx="131760" cy="23328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H="1" rot="3831600">
                <a:off x="4181400" y="3273480"/>
                <a:ext cx="1190880" cy="264168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238" name=""/>
              <p:cNvGrpSpPr/>
              <p:nvPr/>
            </p:nvGrpSpPr>
            <p:grpSpPr>
              <a:xfrm>
                <a:off x="2982960" y="4341960"/>
                <a:ext cx="3030120" cy="1395720"/>
                <a:chOff x="2982960" y="4341960"/>
                <a:chExt cx="3030120" cy="1395720"/>
              </a:xfrm>
            </p:grpSpPr>
            <p:sp>
              <p:nvSpPr>
                <p:cNvPr id="1239" name=""/>
                <p:cNvSpPr/>
                <p:nvPr/>
              </p:nvSpPr>
              <p:spPr>
                <a:xfrm flipH="1" rot="4491600">
                  <a:off x="4289760" y="3659040"/>
                  <a:ext cx="383760" cy="300204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 rot="4491600">
                  <a:off x="5510880" y="4401360"/>
                  <a:ext cx="459720" cy="43920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1" name=""/>
            <p:cNvGrpSpPr/>
            <p:nvPr/>
          </p:nvGrpSpPr>
          <p:grpSpPr>
            <a:xfrm>
              <a:off x="-124200" y="5435640"/>
              <a:ext cx="3437640" cy="2616120"/>
              <a:chOff x="-124200" y="5435640"/>
              <a:chExt cx="3437640" cy="2616120"/>
            </a:xfrm>
          </p:grpSpPr>
          <p:sp>
            <p:nvSpPr>
              <p:cNvPr id="1242" name=""/>
              <p:cNvSpPr/>
              <p:nvPr/>
            </p:nvSpPr>
            <p:spPr>
              <a:xfrm flipV="1" rot="3832200">
                <a:off x="912600" y="5163120"/>
                <a:ext cx="1363680" cy="31600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243" name=""/>
              <p:cNvGrpSpPr/>
              <p:nvPr/>
            </p:nvGrpSpPr>
            <p:grpSpPr>
              <a:xfrm>
                <a:off x="150840" y="5724000"/>
                <a:ext cx="3030120" cy="1396080"/>
                <a:chOff x="150840" y="5724000"/>
                <a:chExt cx="3030120" cy="1396080"/>
              </a:xfrm>
            </p:grpSpPr>
            <p:sp>
              <p:nvSpPr>
                <p:cNvPr id="1244" name=""/>
                <p:cNvSpPr/>
                <p:nvPr/>
              </p:nvSpPr>
              <p:spPr>
                <a:xfrm flipV="1" rot="4492200">
                  <a:off x="1489680" y="4799520"/>
                  <a:ext cx="384120" cy="300204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V="1" rot="4492200">
                  <a:off x="192960" y="6620760"/>
                  <a:ext cx="460080" cy="439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6" name=""/>
          <p:cNvSpPr/>
          <p:nvPr/>
        </p:nvSpPr>
        <p:spPr>
          <a:xfrm>
            <a:off x="2124000" y="4005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-1252440" y="2964600"/>
            <a:ext cx="5765760" cy="5322600"/>
            <a:chOff x="-1252440" y="2964600"/>
            <a:chExt cx="5765760" cy="5322600"/>
          </a:xfrm>
        </p:grpSpPr>
        <p:grpSp>
          <p:nvGrpSpPr>
            <p:cNvPr id="1248" name=""/>
            <p:cNvGrpSpPr/>
            <p:nvPr/>
          </p:nvGrpSpPr>
          <p:grpSpPr>
            <a:xfrm>
              <a:off x="1643760" y="2964600"/>
              <a:ext cx="2869560" cy="3288960"/>
              <a:chOff x="1643760" y="2964600"/>
              <a:chExt cx="2869560" cy="3288960"/>
            </a:xfrm>
          </p:grpSpPr>
          <p:sp>
            <p:nvSpPr>
              <p:cNvPr id="1249" name=""/>
              <p:cNvSpPr/>
              <p:nvPr/>
            </p:nvSpPr>
            <p:spPr>
              <a:xfrm rot="1935000">
                <a:off x="2500560" y="3078720"/>
                <a:ext cx="1304280" cy="30304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1935000">
                <a:off x="2752920" y="5622120"/>
                <a:ext cx="329040" cy="58896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1935000">
                <a:off x="2845440" y="5997240"/>
                <a:ext cx="12564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252" name=""/>
              <p:cNvGrpSpPr/>
              <p:nvPr/>
            </p:nvGrpSpPr>
            <p:grpSpPr>
              <a:xfrm>
                <a:off x="1643760" y="3032280"/>
                <a:ext cx="2805120" cy="2776680"/>
                <a:chOff x="1643760" y="3032280"/>
                <a:chExt cx="2805120" cy="2776680"/>
              </a:xfrm>
            </p:grpSpPr>
            <p:sp>
              <p:nvSpPr>
                <p:cNvPr id="1253" name=""/>
                <p:cNvSpPr/>
                <p:nvPr/>
              </p:nvSpPr>
              <p:spPr>
                <a:xfrm rot="1935000">
                  <a:off x="2721600" y="3140640"/>
                  <a:ext cx="1139040" cy="25318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4" name=""/>
                <p:cNvGrpSpPr/>
                <p:nvPr/>
              </p:nvGrpSpPr>
              <p:grpSpPr>
                <a:xfrm>
                  <a:off x="1643760" y="3179520"/>
                  <a:ext cx="2070360" cy="2629440"/>
                  <a:chOff x="1643760" y="3179520"/>
                  <a:chExt cx="2070360" cy="2629440"/>
                </a:xfrm>
              </p:grpSpPr>
              <p:sp>
                <p:nvSpPr>
                  <p:cNvPr id="1255" name=""/>
                  <p:cNvSpPr/>
                  <p:nvPr/>
                </p:nvSpPr>
                <p:spPr>
                  <a:xfrm rot="1935000">
                    <a:off x="2383200" y="3055320"/>
                    <a:ext cx="367200" cy="28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 rot="1935000">
                    <a:off x="3195720" y="3282840"/>
                    <a:ext cx="439920" cy="42120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57" name=""/>
            <p:cNvGrpSpPr/>
            <p:nvPr/>
          </p:nvGrpSpPr>
          <p:grpSpPr>
            <a:xfrm>
              <a:off x="-1252440" y="4989960"/>
              <a:ext cx="2835720" cy="3297240"/>
              <a:chOff x="-1252440" y="4989960"/>
              <a:chExt cx="2835720" cy="3297240"/>
            </a:xfrm>
          </p:grpSpPr>
          <p:sp>
            <p:nvSpPr>
              <p:cNvPr id="1258" name=""/>
              <p:cNvSpPr/>
              <p:nvPr/>
            </p:nvSpPr>
            <p:spPr>
              <a:xfrm rot="12676800">
                <a:off x="-560520" y="5138280"/>
                <a:ext cx="1304280" cy="30304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12676800">
                <a:off x="140040" y="5032440"/>
                <a:ext cx="329040" cy="58896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12676800">
                <a:off x="247680" y="5022720"/>
                <a:ext cx="12564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261" name=""/>
              <p:cNvGrpSpPr/>
              <p:nvPr/>
            </p:nvGrpSpPr>
            <p:grpSpPr>
              <a:xfrm>
                <a:off x="-1187280" y="5418360"/>
                <a:ext cx="2770560" cy="2802600"/>
                <a:chOff x="-1187280" y="5418360"/>
                <a:chExt cx="2770560" cy="2802600"/>
              </a:xfrm>
            </p:grpSpPr>
            <p:sp>
              <p:nvSpPr>
                <p:cNvPr id="1262" name=""/>
                <p:cNvSpPr/>
                <p:nvPr/>
              </p:nvSpPr>
              <p:spPr>
                <a:xfrm rot="12676800">
                  <a:off x="-612720" y="5577120"/>
                  <a:ext cx="1139040" cy="25318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3" name=""/>
                <p:cNvGrpSpPr/>
                <p:nvPr/>
              </p:nvGrpSpPr>
              <p:grpSpPr>
                <a:xfrm>
                  <a:off x="-449640" y="5418360"/>
                  <a:ext cx="2032920" cy="2650320"/>
                  <a:chOff x="-449640" y="5418360"/>
                  <a:chExt cx="2032920" cy="2650320"/>
                </a:xfrm>
              </p:grpSpPr>
              <p:sp>
                <p:nvSpPr>
                  <p:cNvPr id="1264" name=""/>
                  <p:cNvSpPr/>
                  <p:nvPr/>
                </p:nvSpPr>
                <p:spPr>
                  <a:xfrm rot="12676800">
                    <a:off x="495360" y="5304600"/>
                    <a:ext cx="367200" cy="28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 rot="12676800">
                    <a:off x="-372240" y="7547760"/>
                    <a:ext cx="4399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0.3592 0.04954 E">
                                      <p:cBhvr>
                                        <p:cTn id="1726" dur="2000" fill="hold"/>
                                        <p:tgtEl>
                                          <p:spTgt spid="1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9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0" dur="50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-2.96296E-006 L 0.45816 0.47315 E">
                                      <p:cBhvr>
                                        <p:cTn id="1760" dur="2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">
                                      <p:cBhvr>
                                        <p:cTn id="1762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320000">
                                      <p:cBhvr>
                                        <p:cTn id="1768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1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500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8640000">
                                      <p:cBhvr>
                                        <p:cTn id="180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2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59809 0.27685 E">
                                      <p:cBhvr>
                                        <p:cTn id="1815" dur="2000" fill="hold"/>
                                        <p:tgtEl>
                                          <p:spTgt spid="1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280000">
                                      <p:cBhvr>
                                        <p:cTn id="181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9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8340000">
                                      <p:cBhvr>
                                        <p:cTn id="18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3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8500"/>
                            </p:stCondLst>
                            <p:childTnLst>
                              <p:par>
                                <p:cTn id="18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6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5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80000">
                                      <p:cBhvr>
                                        <p:cTn id="1859" dur="2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4" dur="500"/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1914" dur="2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7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0.37778 0.02662 E">
                                      <p:cBhvr>
                                        <p:cTn id="1927" dur="2000" fill="hold"/>
                                        <p:tgtEl>
                                          <p:spTgt spid="1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900000">
                                      <p:cBhvr>
                                        <p:cTn id="1929" dur="2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1932" dur="2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5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8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500"/>
                            </p:stCondLst>
                            <p:childTnLst>
                              <p:par>
                                <p:cTn id="1952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33333E-007 1.48148E-006 L 0.37569 0.01967 E">
                                      <p:cBhvr>
                                        <p:cTn id="1953" dur="2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1680000">
                                      <p:cBhvr>
                                        <p:cTn id="1955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120000">
                                      <p:cBhvr>
                                        <p:cTn id="1958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1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1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4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8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2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888840" y="2909880"/>
            <a:ext cx="2457720" cy="4680"/>
          </a:xfrm>
          <a:custGeom>
            <a:avLst/>
            <a:gdLst/>
            <a:ahLst/>
            <a:rect l="l" t="t" r="r" b="b"/>
            <a:pathLst>
              <a:path w="1548" h="3">
                <a:moveTo>
                  <a:pt x="0" y="0"/>
                </a:moveTo>
                <a:lnTo>
                  <a:pt x="1548" y="3"/>
                </a:lnTo>
              </a:path>
            </a:pathLst>
          </a:custGeom>
          <a:noFill/>
          <a:ln w="1908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rot="19984200">
            <a:off x="753840" y="2619000"/>
            <a:ext cx="5905080" cy="57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491" y="6033"/>
                </a:moveTo>
                <a:arcTo wR="10800" hR="10800" stAng="-1571531" swAng="1788326"/>
                <a:lnTo>
                  <a:pt x="10800" y="10800"/>
                </a:lnTo>
                <a:close/>
              </a:path>
              <a:path fill="none" w="21600" h="21600">
                <a:moveTo>
                  <a:pt x="20491" y="6033"/>
                </a:moveTo>
                <a:arcTo wR="10800" hR="10800" stAng="-1571531" swAng="1788326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37480" y="3273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530520" y="3747960"/>
            <a:ext cx="2552760" cy="2094120"/>
          </a:xfrm>
          <a:custGeom>
            <a:avLst/>
            <a:gdLst/>
            <a:ahLst/>
            <a:rect l="l" t="t" r="r" b="b"/>
            <a:pathLst>
              <a:path w="1608" h="1319">
                <a:moveTo>
                  <a:pt x="0" y="1160"/>
                </a:moveTo>
                <a:lnTo>
                  <a:pt x="1608" y="0"/>
                </a:lnTo>
                <a:lnTo>
                  <a:pt x="1536" y="1312"/>
                </a:lnTo>
                <a:lnTo>
                  <a:pt x="1482" y="1319"/>
                </a:lnTo>
                <a:lnTo>
                  <a:pt x="0" y="116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278160" y="714240"/>
            <a:ext cx="5877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луч </a:t>
            </a:r>
            <a:r>
              <a:rPr b="0" i="1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тложим отрезок АВ, равный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дугу с центром в т. А и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радиусом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строим дугу с центром в т.В и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радиусом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932800" y="5832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43680" y="56642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-7920" y="6237360"/>
            <a:ext cx="9158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Треугольник АВС искомый. Обоснуй, используя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признак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1400" y="83664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26760" y="1628640"/>
            <a:ext cx="2534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резки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 Р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11280" y="3633840"/>
            <a:ext cx="3097080" cy="0"/>
          </a:xfrm>
          <a:prstGeom prst="line">
            <a:avLst/>
          </a:prstGeom>
          <a:ln w="1908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21720" y="277020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7480" y="26971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48760" y="4857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488400" y="363384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086240" y="5591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rot="20980800">
            <a:off x="370800" y="2818080"/>
            <a:ext cx="5631840" cy="561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3" y="11178"/>
                </a:moveTo>
                <a:arcTo wR="10800" hR="10800" stAng="120241" swAng="1476699"/>
                <a:lnTo>
                  <a:pt x="10800" y="10800"/>
                </a:lnTo>
                <a:close/>
              </a:path>
              <a:path fill="none" w="21600" h="21600">
                <a:moveTo>
                  <a:pt x="21593" y="11178"/>
                </a:moveTo>
                <a:arcTo wR="10800" hR="10800" stAng="120241" swAng="1476699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543480" y="3735360"/>
            <a:ext cx="2527200" cy="2095560"/>
          </a:xfrm>
          <a:custGeom>
            <a:avLst/>
            <a:gdLst/>
            <a:ahLst/>
            <a:rect l="l" t="t" r="r" b="b"/>
            <a:pathLst>
              <a:path w="1592" h="1320">
                <a:moveTo>
                  <a:pt x="0" y="1176"/>
                </a:moveTo>
                <a:lnTo>
                  <a:pt x="1592" y="0"/>
                </a:lnTo>
                <a:lnTo>
                  <a:pt x="1552" y="1320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95280" y="4786200"/>
            <a:ext cx="2089080" cy="0"/>
          </a:xfrm>
          <a:prstGeom prst="line">
            <a:avLst/>
          </a:prstGeom>
          <a:ln w="1908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77120" y="3417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335680" y="4786200"/>
            <a:ext cx="46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rot="15852600">
            <a:off x="3517920" y="3661560"/>
            <a:ext cx="4632120" cy="477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65" y="8557"/>
                </a:moveTo>
                <a:arcTo wR="10800" hR="10800" stAng="-719095" swAng="2503601"/>
                <a:lnTo>
                  <a:pt x="10800" y="10800"/>
                </a:lnTo>
                <a:close/>
              </a:path>
              <a:path fill="none" w="21600" h="21600">
                <a:moveTo>
                  <a:pt x="21365" y="8557"/>
                </a:moveTo>
                <a:arcTo wR="10800" hR="10800" stAng="-719095" swAng="2503601"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3529080" y="2504160"/>
            <a:ext cx="1421280" cy="3084120"/>
            <a:chOff x="3529080" y="2504160"/>
            <a:chExt cx="1421280" cy="3084120"/>
          </a:xfrm>
        </p:grpSpPr>
        <p:sp>
          <p:nvSpPr>
            <p:cNvPr id="1289" name=""/>
            <p:cNvSpPr/>
            <p:nvPr/>
          </p:nvSpPr>
          <p:spPr>
            <a:xfrm flipH="1" rot="21521400">
              <a:off x="3563280" y="2518920"/>
              <a:ext cx="1352520" cy="30304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21521400">
              <a:off x="3573000" y="4995360"/>
              <a:ext cx="341280" cy="588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4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rot="21521400">
              <a:off x="3584160" y="5347800"/>
              <a:ext cx="129960" cy="2239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 rot="21521400">
              <a:off x="3625200" y="2536200"/>
              <a:ext cx="1181160" cy="253224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0066ff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93" name=""/>
          <p:cNvSpPr/>
          <p:nvPr/>
        </p:nvSpPr>
        <p:spPr>
          <a:xfrm>
            <a:off x="3556080" y="5614920"/>
            <a:ext cx="4100400" cy="376200"/>
          </a:xfrm>
          <a:custGeom>
            <a:avLst/>
            <a:gdLst/>
            <a:ahLst/>
            <a:rect l="l" t="t" r="r" b="b"/>
            <a:pathLst>
              <a:path w="2583" h="237">
                <a:moveTo>
                  <a:pt x="0" y="0"/>
                </a:moveTo>
                <a:lnTo>
                  <a:pt x="2583" y="237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-2551320" y="716760"/>
            <a:ext cx="6253200" cy="6044400"/>
            <a:chOff x="-2551320" y="716760"/>
            <a:chExt cx="6253200" cy="6044400"/>
          </a:xfrm>
        </p:grpSpPr>
        <p:grpSp>
          <p:nvGrpSpPr>
            <p:cNvPr id="1295" name=""/>
            <p:cNvGrpSpPr/>
            <p:nvPr/>
          </p:nvGrpSpPr>
          <p:grpSpPr>
            <a:xfrm>
              <a:off x="595440" y="716760"/>
              <a:ext cx="3106440" cy="3211560"/>
              <a:chOff x="595440" y="716760"/>
              <a:chExt cx="3106440" cy="3211560"/>
            </a:xfrm>
          </p:grpSpPr>
          <p:grpSp>
            <p:nvGrpSpPr>
              <p:cNvPr id="1296" name=""/>
              <p:cNvGrpSpPr/>
              <p:nvPr/>
            </p:nvGrpSpPr>
            <p:grpSpPr>
              <a:xfrm>
                <a:off x="1711800" y="716760"/>
                <a:ext cx="1990080" cy="3211560"/>
                <a:chOff x="1711800" y="716760"/>
                <a:chExt cx="1990080" cy="3211560"/>
              </a:xfrm>
            </p:grpSpPr>
            <p:grpSp>
              <p:nvGrpSpPr>
                <p:cNvPr id="1297" name=""/>
                <p:cNvGrpSpPr/>
                <p:nvPr/>
              </p:nvGrpSpPr>
              <p:grpSpPr>
                <a:xfrm>
                  <a:off x="1711800" y="716760"/>
                  <a:ext cx="1981800" cy="3211560"/>
                  <a:chOff x="1711800" y="716760"/>
                  <a:chExt cx="1981800" cy="321156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 rot="20848200">
                    <a:off x="2019240" y="829440"/>
                    <a:ext cx="1366560" cy="29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rot="20848200">
                    <a:off x="2074680" y="847080"/>
                    <a:ext cx="1193400" cy="249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0000"/>
                      </a:gs>
                      <a:gs pos="100000">
                        <a:srgbClr val="ffffff"/>
                      </a:gs>
                    </a:gsLst>
                    <a:lin ang="8022000"/>
                  </a:gra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0" name=""/>
                <p:cNvGrpSpPr/>
                <p:nvPr/>
              </p:nvGrpSpPr>
              <p:grpSpPr>
                <a:xfrm>
                  <a:off x="3239640" y="3058200"/>
                  <a:ext cx="462240" cy="641520"/>
                  <a:chOff x="3239640" y="3058200"/>
                  <a:chExt cx="462240" cy="64152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 rot="20848200">
                    <a:off x="3298320" y="3088440"/>
                    <a:ext cx="34452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4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 rot="20848200">
                    <a:off x="3536640" y="3407760"/>
                    <a:ext cx="131400" cy="22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03" name=""/>
              <p:cNvGrpSpPr/>
              <p:nvPr/>
            </p:nvGrpSpPr>
            <p:grpSpPr>
              <a:xfrm>
                <a:off x="595440" y="1303560"/>
                <a:ext cx="1894680" cy="2532240"/>
                <a:chOff x="595440" y="1303560"/>
                <a:chExt cx="1894680" cy="2532240"/>
              </a:xfrm>
            </p:grpSpPr>
            <p:sp>
              <p:nvSpPr>
                <p:cNvPr id="1304" name=""/>
                <p:cNvSpPr/>
                <p:nvPr/>
              </p:nvSpPr>
              <p:spPr>
                <a:xfrm rot="1818600">
                  <a:off x="1259640" y="1205280"/>
                  <a:ext cx="350640" cy="27280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rot="1818600">
                  <a:off x="1998000" y="1395000"/>
                  <a:ext cx="420120" cy="39924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6" name=""/>
            <p:cNvGrpSpPr/>
            <p:nvPr/>
          </p:nvGrpSpPr>
          <p:grpSpPr>
            <a:xfrm>
              <a:off x="-2551320" y="3485160"/>
              <a:ext cx="3150000" cy="3276000"/>
              <a:chOff x="-2551320" y="3485160"/>
              <a:chExt cx="3150000" cy="3276000"/>
            </a:xfrm>
          </p:grpSpPr>
          <p:grpSp>
            <p:nvGrpSpPr>
              <p:cNvPr id="1307" name=""/>
              <p:cNvGrpSpPr/>
              <p:nvPr/>
            </p:nvGrpSpPr>
            <p:grpSpPr>
              <a:xfrm>
                <a:off x="-2551320" y="3517920"/>
                <a:ext cx="2245680" cy="3243240"/>
                <a:chOff x="-2551320" y="3517920"/>
                <a:chExt cx="2245680" cy="3243240"/>
              </a:xfrm>
            </p:grpSpPr>
            <p:grpSp>
              <p:nvGrpSpPr>
                <p:cNvPr id="1308" name=""/>
                <p:cNvGrpSpPr/>
                <p:nvPr/>
              </p:nvGrpSpPr>
              <p:grpSpPr>
                <a:xfrm>
                  <a:off x="-2545920" y="3517920"/>
                  <a:ext cx="2240280" cy="3243240"/>
                  <a:chOff x="-2545920" y="3517920"/>
                  <a:chExt cx="2240280" cy="324324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 rot="9744600">
                    <a:off x="-2132280" y="3662280"/>
                    <a:ext cx="1413360" cy="295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rot="9744600">
                    <a:off x="-1992960" y="4127040"/>
                    <a:ext cx="1234440" cy="246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1" name=""/>
                <p:cNvGrpSpPr/>
                <p:nvPr/>
              </p:nvGrpSpPr>
              <p:grpSpPr>
                <a:xfrm>
                  <a:off x="-2551320" y="3845160"/>
                  <a:ext cx="513360" cy="654840"/>
                  <a:chOff x="-2551320" y="3845160"/>
                  <a:chExt cx="513360" cy="654840"/>
                </a:xfrm>
              </p:grpSpPr>
              <p:sp>
                <p:nvSpPr>
                  <p:cNvPr id="1312" name=""/>
                  <p:cNvSpPr/>
                  <p:nvPr/>
                </p:nvSpPr>
                <p:spPr>
                  <a:xfrm rot="9744600">
                    <a:off x="-2472480" y="3885120"/>
                    <a:ext cx="356400" cy="57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rot="9744600">
                    <a:off x="-2509560" y="3938760"/>
                    <a:ext cx="13608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4" name=""/>
              <p:cNvGrpSpPr/>
              <p:nvPr/>
            </p:nvGrpSpPr>
            <p:grpSpPr>
              <a:xfrm>
                <a:off x="-1106280" y="3485160"/>
                <a:ext cx="1704960" cy="2596320"/>
                <a:chOff x="-1106280" y="3485160"/>
                <a:chExt cx="1704960" cy="2596320"/>
              </a:xfrm>
            </p:grpSpPr>
            <p:sp>
              <p:nvSpPr>
                <p:cNvPr id="1315" name=""/>
                <p:cNvSpPr/>
                <p:nvPr/>
              </p:nvSpPr>
              <p:spPr>
                <a:xfrm rot="12315000">
                  <a:off x="-322200" y="3433680"/>
                  <a:ext cx="362880" cy="26992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rot="12315000">
                  <a:off x="-1042560" y="5609880"/>
                  <a:ext cx="434520" cy="3949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17" name=""/>
          <p:cNvGrpSpPr/>
          <p:nvPr/>
        </p:nvGrpSpPr>
        <p:grpSpPr>
          <a:xfrm>
            <a:off x="-1531440" y="-66600"/>
            <a:ext cx="4879080" cy="6096600"/>
            <a:chOff x="-1531440" y="-66600"/>
            <a:chExt cx="4879080" cy="6096600"/>
          </a:xfrm>
        </p:grpSpPr>
        <p:sp>
          <p:nvSpPr>
            <p:cNvPr id="1318" name=""/>
            <p:cNvSpPr/>
            <p:nvPr/>
          </p:nvSpPr>
          <p:spPr>
            <a:xfrm>
              <a:off x="826920" y="2842920"/>
              <a:ext cx="144720" cy="144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889560" y="-66600"/>
              <a:ext cx="2458080" cy="3104640"/>
              <a:chOff x="889560" y="-66600"/>
              <a:chExt cx="2458080" cy="3104640"/>
            </a:xfrm>
          </p:grpSpPr>
          <p:grpSp>
            <p:nvGrpSpPr>
              <p:cNvPr id="1320" name=""/>
              <p:cNvGrpSpPr/>
              <p:nvPr/>
            </p:nvGrpSpPr>
            <p:grpSpPr>
              <a:xfrm>
                <a:off x="1842120" y="-66600"/>
                <a:ext cx="1505520" cy="3043440"/>
                <a:chOff x="1842120" y="-66600"/>
                <a:chExt cx="1505520" cy="3043440"/>
              </a:xfrm>
            </p:grpSpPr>
            <p:grpSp>
              <p:nvGrpSpPr>
                <p:cNvPr id="1321" name=""/>
                <p:cNvGrpSpPr/>
                <p:nvPr/>
              </p:nvGrpSpPr>
              <p:grpSpPr>
                <a:xfrm>
                  <a:off x="1842120" y="-66600"/>
                  <a:ext cx="1497240" cy="3043440"/>
                  <a:chOff x="1842120" y="-66600"/>
                  <a:chExt cx="1497240" cy="304344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 rot="21447600">
                    <a:off x="1907280" y="-37800"/>
                    <a:ext cx="1366200" cy="29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rot="21447600">
                    <a:off x="2002680" y="-21600"/>
                    <a:ext cx="1193400" cy="249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0000"/>
                      </a:gs>
                      <a:gs pos="100000">
                        <a:srgbClr val="ffffff"/>
                      </a:gs>
                    </a:gsLst>
                    <a:lin ang="8022000"/>
                  </a:gra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4" name=""/>
                <p:cNvGrpSpPr/>
                <p:nvPr/>
              </p:nvGrpSpPr>
              <p:grpSpPr>
                <a:xfrm>
                  <a:off x="2977920" y="2330640"/>
                  <a:ext cx="369720" cy="594360"/>
                  <a:chOff x="2977920" y="2330640"/>
                  <a:chExt cx="369720" cy="594360"/>
                </a:xfrm>
              </p:grpSpPr>
              <p:sp>
                <p:nvSpPr>
                  <p:cNvPr id="1325" name=""/>
                  <p:cNvSpPr/>
                  <p:nvPr/>
                </p:nvSpPr>
                <p:spPr>
                  <a:xfrm rot="21447600">
                    <a:off x="2990520" y="2337840"/>
                    <a:ext cx="344520" cy="57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4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 rot="21447600">
                    <a:off x="3202920" y="2678040"/>
                    <a:ext cx="131400" cy="22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27" name=""/>
              <p:cNvGrpSpPr/>
              <p:nvPr/>
            </p:nvGrpSpPr>
            <p:grpSpPr>
              <a:xfrm>
                <a:off x="889560" y="375120"/>
                <a:ext cx="1588680" cy="2662920"/>
                <a:chOff x="889560" y="375120"/>
                <a:chExt cx="1588680" cy="2662920"/>
              </a:xfrm>
            </p:grpSpPr>
            <p:sp>
              <p:nvSpPr>
                <p:cNvPr id="1328" name=""/>
                <p:cNvSpPr/>
                <p:nvPr/>
              </p:nvSpPr>
              <p:spPr>
                <a:xfrm rot="1350000">
                  <a:off x="1398240" y="346680"/>
                  <a:ext cx="351360" cy="272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rot="1350000">
                  <a:off x="1996920" y="440280"/>
                  <a:ext cx="420840" cy="39924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0" name=""/>
            <p:cNvGrpSpPr/>
            <p:nvPr/>
          </p:nvGrpSpPr>
          <p:grpSpPr>
            <a:xfrm>
              <a:off x="-1531440" y="2748960"/>
              <a:ext cx="2447640" cy="3281040"/>
              <a:chOff x="-1531440" y="2748960"/>
              <a:chExt cx="2447640" cy="3281040"/>
            </a:xfrm>
          </p:grpSpPr>
          <p:grpSp>
            <p:nvGrpSpPr>
              <p:cNvPr id="1331" name=""/>
              <p:cNvGrpSpPr/>
              <p:nvPr/>
            </p:nvGrpSpPr>
            <p:grpSpPr>
              <a:xfrm>
                <a:off x="-1531440" y="2882520"/>
                <a:ext cx="1778400" cy="3147480"/>
                <a:chOff x="-1531440" y="2882520"/>
                <a:chExt cx="1778400" cy="3147480"/>
              </a:xfrm>
            </p:grpSpPr>
            <p:grpSp>
              <p:nvGrpSpPr>
                <p:cNvPr id="1332" name=""/>
                <p:cNvGrpSpPr/>
                <p:nvPr/>
              </p:nvGrpSpPr>
              <p:grpSpPr>
                <a:xfrm>
                  <a:off x="-1523520" y="2882520"/>
                  <a:ext cx="1770480" cy="3147480"/>
                  <a:chOff x="-1523520" y="2882520"/>
                  <a:chExt cx="1770480" cy="3147480"/>
                </a:xfrm>
              </p:grpSpPr>
              <p:sp>
                <p:nvSpPr>
                  <p:cNvPr id="1333" name=""/>
                  <p:cNvSpPr/>
                  <p:nvPr/>
                </p:nvSpPr>
                <p:spPr>
                  <a:xfrm rot="10317600">
                    <a:off x="-1321200" y="2963160"/>
                    <a:ext cx="1366200" cy="29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 rot="10317600">
                    <a:off x="-1222200" y="3438000"/>
                    <a:ext cx="1193400" cy="249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5" name=""/>
                <p:cNvGrpSpPr/>
                <p:nvPr/>
              </p:nvGrpSpPr>
              <p:grpSpPr>
                <a:xfrm>
                  <a:off x="-1531440" y="3031920"/>
                  <a:ext cx="422280" cy="622440"/>
                  <a:chOff x="-1531440" y="3031920"/>
                  <a:chExt cx="422280" cy="62244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 rot="10317600">
                    <a:off x="-1492200" y="3052800"/>
                    <a:ext cx="344520" cy="57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rot="10317600">
                    <a:off x="-1506600" y="3083040"/>
                    <a:ext cx="131400" cy="22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38" name=""/>
              <p:cNvGrpSpPr/>
              <p:nvPr/>
            </p:nvGrpSpPr>
            <p:grpSpPr>
              <a:xfrm>
                <a:off x="-438480" y="2748960"/>
                <a:ext cx="1354680" cy="2734200"/>
                <a:chOff x="-438480" y="2748960"/>
                <a:chExt cx="1354680" cy="2734200"/>
              </a:xfrm>
            </p:grpSpPr>
            <p:sp>
              <p:nvSpPr>
                <p:cNvPr id="1339" name=""/>
                <p:cNvSpPr/>
                <p:nvPr/>
              </p:nvSpPr>
              <p:spPr>
                <a:xfrm rot="11820000">
                  <a:off x="173520" y="2740320"/>
                  <a:ext cx="351360" cy="272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rot="11820000">
                  <a:off x="-389160" y="5031000"/>
                  <a:ext cx="420840" cy="39924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1" name=""/>
          <p:cNvGrpSpPr/>
          <p:nvPr/>
        </p:nvGrpSpPr>
        <p:grpSpPr>
          <a:xfrm>
            <a:off x="351000" y="1760760"/>
            <a:ext cx="4235040" cy="6069960"/>
            <a:chOff x="351000" y="1760760"/>
            <a:chExt cx="4235040" cy="6069960"/>
          </a:xfrm>
        </p:grpSpPr>
        <p:grpSp>
          <p:nvGrpSpPr>
            <p:cNvPr id="1342" name=""/>
            <p:cNvGrpSpPr/>
            <p:nvPr/>
          </p:nvGrpSpPr>
          <p:grpSpPr>
            <a:xfrm>
              <a:off x="2446560" y="4685040"/>
              <a:ext cx="2139480" cy="3145680"/>
              <a:chOff x="2446560" y="4685040"/>
              <a:chExt cx="2139480" cy="314568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3155040" y="4765680"/>
                <a:ext cx="1431000" cy="3065040"/>
                <a:chOff x="3155040" y="4765680"/>
                <a:chExt cx="1431000" cy="3065040"/>
              </a:xfrm>
            </p:grpSpPr>
            <p:grpSp>
              <p:nvGrpSpPr>
                <p:cNvPr id="1344" name=""/>
                <p:cNvGrpSpPr/>
                <p:nvPr/>
              </p:nvGrpSpPr>
              <p:grpSpPr>
                <a:xfrm>
                  <a:off x="3155040" y="4765680"/>
                  <a:ext cx="1431000" cy="3065040"/>
                  <a:chOff x="3155040" y="4765680"/>
                  <a:chExt cx="1431000" cy="3065040"/>
                </a:xfrm>
              </p:grpSpPr>
              <p:sp>
                <p:nvSpPr>
                  <p:cNvPr id="1345" name=""/>
                  <p:cNvSpPr/>
                  <p:nvPr/>
                </p:nvSpPr>
                <p:spPr>
                  <a:xfrm flipV="1" rot="21510000">
                    <a:off x="3193920" y="4782600"/>
                    <a:ext cx="1352520" cy="303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V="1" rot="21510000">
                    <a:off x="3304440" y="5263920"/>
                    <a:ext cx="1181160" cy="253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7" name=""/>
                <p:cNvGrpSpPr/>
                <p:nvPr/>
              </p:nvGrpSpPr>
              <p:grpSpPr>
                <a:xfrm>
                  <a:off x="4174200" y="4770720"/>
                  <a:ext cx="356760" cy="597600"/>
                  <a:chOff x="4174200" y="4770720"/>
                  <a:chExt cx="356760" cy="597600"/>
                </a:xfrm>
              </p:grpSpPr>
              <p:sp>
                <p:nvSpPr>
                  <p:cNvPr id="1348" name=""/>
                  <p:cNvSpPr/>
                  <p:nvPr/>
                </p:nvSpPr>
                <p:spPr>
                  <a:xfrm flipV="1" rot="21510000">
                    <a:off x="4181760" y="4775040"/>
                    <a:ext cx="341280" cy="58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 flipV="1" rot="21510000">
                    <a:off x="4397040" y="4778640"/>
                    <a:ext cx="13032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50" name=""/>
              <p:cNvGrpSpPr/>
              <p:nvPr/>
            </p:nvGrpSpPr>
            <p:grpSpPr>
              <a:xfrm>
                <a:off x="2446560" y="4685040"/>
                <a:ext cx="1383840" cy="2900880"/>
                <a:chOff x="2446560" y="4685040"/>
                <a:chExt cx="1383840" cy="2900880"/>
              </a:xfrm>
            </p:grpSpPr>
            <p:sp>
              <p:nvSpPr>
                <p:cNvPr id="1351" name=""/>
                <p:cNvSpPr/>
                <p:nvPr/>
              </p:nvSpPr>
              <p:spPr>
                <a:xfrm flipV="1" rot="20658000">
                  <a:off x="2827800" y="4682520"/>
                  <a:ext cx="380880" cy="287820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V="1" rot="20658000">
                  <a:off x="3325680" y="7110360"/>
                  <a:ext cx="45612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3" name=""/>
            <p:cNvGrpSpPr/>
            <p:nvPr/>
          </p:nvGrpSpPr>
          <p:grpSpPr>
            <a:xfrm>
              <a:off x="351000" y="1760760"/>
              <a:ext cx="2139480" cy="3145680"/>
              <a:chOff x="351000" y="1760760"/>
              <a:chExt cx="2139480" cy="3145680"/>
            </a:xfrm>
          </p:grpSpPr>
          <p:grpSp>
            <p:nvGrpSpPr>
              <p:cNvPr id="1354" name=""/>
              <p:cNvGrpSpPr/>
              <p:nvPr/>
            </p:nvGrpSpPr>
            <p:grpSpPr>
              <a:xfrm>
                <a:off x="351000" y="1760760"/>
                <a:ext cx="1431000" cy="3065040"/>
                <a:chOff x="351000" y="1760760"/>
                <a:chExt cx="1431000" cy="3065040"/>
              </a:xfrm>
            </p:grpSpPr>
            <p:grpSp>
              <p:nvGrpSpPr>
                <p:cNvPr id="1355" name=""/>
                <p:cNvGrpSpPr/>
                <p:nvPr/>
              </p:nvGrpSpPr>
              <p:grpSpPr>
                <a:xfrm>
                  <a:off x="351000" y="1760760"/>
                  <a:ext cx="1431000" cy="3065040"/>
                  <a:chOff x="351000" y="1760760"/>
                  <a:chExt cx="1431000" cy="306504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 flipV="1" rot="10710000">
                    <a:off x="390240" y="1777680"/>
                    <a:ext cx="1352520" cy="303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125">
                        <a:moveTo>
                          <a:pt x="0" y="90"/>
                        </a:moveTo>
                        <a:lnTo>
                          <a:pt x="227" y="0"/>
                        </a:lnTo>
                        <a:lnTo>
                          <a:pt x="1179" y="2540"/>
                        </a:lnTo>
                        <a:lnTo>
                          <a:pt x="1252" y="3125"/>
                        </a:lnTo>
                        <a:lnTo>
                          <a:pt x="952" y="263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flipV="1" rot="10710000">
                    <a:off x="451080" y="1795680"/>
                    <a:ext cx="1181160" cy="253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8" name=""/>
                <p:cNvGrpSpPr/>
                <p:nvPr/>
              </p:nvGrpSpPr>
              <p:grpSpPr>
                <a:xfrm>
                  <a:off x="406080" y="4223160"/>
                  <a:ext cx="356760" cy="597600"/>
                  <a:chOff x="406080" y="4223160"/>
                  <a:chExt cx="356760" cy="59760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 flipV="1" rot="10710000">
                    <a:off x="413640" y="4227120"/>
                    <a:ext cx="341280" cy="58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608">
                        <a:moveTo>
                          <a:pt x="316" y="608"/>
                        </a:moveTo>
                        <a:lnTo>
                          <a:pt x="227" y="0"/>
                        </a:lnTo>
                        <a:lnTo>
                          <a:pt x="0" y="90"/>
                        </a:lnTo>
                        <a:lnTo>
                          <a:pt x="316" y="60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422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flipV="1" rot="10710000">
                    <a:off x="409320" y="4587840"/>
                    <a:ext cx="13032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30">
                        <a:moveTo>
                          <a:pt x="85" y="0"/>
                        </a:moveTo>
                        <a:lnTo>
                          <a:pt x="0" y="25"/>
                        </a:lnTo>
                        <a:lnTo>
                          <a:pt x="121" y="23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0000c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1106640" y="2005560"/>
                <a:ext cx="1383840" cy="2900880"/>
                <a:chOff x="1106640" y="2005560"/>
                <a:chExt cx="1383840" cy="2900880"/>
              </a:xfrm>
            </p:grpSpPr>
            <p:sp>
              <p:nvSpPr>
                <p:cNvPr id="1362" name=""/>
                <p:cNvSpPr/>
                <p:nvPr/>
              </p:nvSpPr>
              <p:spPr>
                <a:xfrm flipV="1" rot="9857400">
                  <a:off x="1728000" y="2029680"/>
                  <a:ext cx="380880" cy="287820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V="1" rot="9857400">
                  <a:off x="1154880" y="2058840"/>
                  <a:ext cx="456120" cy="42120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64" name=""/>
          <p:cNvSpPr/>
          <p:nvPr/>
        </p:nvSpPr>
        <p:spPr>
          <a:xfrm>
            <a:off x="3492360" y="5578560"/>
            <a:ext cx="142920" cy="71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 flipV="1">
            <a:off x="5954040" y="5807160"/>
            <a:ext cx="73080" cy="698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31760" y="115920"/>
            <a:ext cx="74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строение треугольника по трем сторонам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85185E-006 L 0.43003 0.06504 E">
                                      <p:cBhvr>
                                        <p:cTn id="2018" dur="2000" fill="hold"/>
                                        <p:tgtEl>
                                          <p:spTgt spid="1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1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2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5" dur="500"/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500"/>
                            </p:stCondLst>
                            <p:childTnLst>
                              <p:par>
                                <p:cTn id="20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4" nodeType="afterEffect" fill="hold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778E-017 -4.07407E-006 L 0.29132 0.39468 E">
                                      <p:cBhvr>
                                        <p:cTn id="2055" dur="2000" fill="hold"/>
                                        <p:tgtEl>
                                          <p:spTgt spid="1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6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200000">
                                      <p:cBhvr>
                                        <p:cTn id="2057" dur="2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40000">
                                      <p:cBhvr>
                                        <p:cTn id="2060" dur="2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3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3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500"/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500"/>
                            </p:stCondLst>
                            <p:childTnLst>
                              <p:par>
                                <p:cTn id="20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2" dur="2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1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6" nodeType="afterEffect" fill="hold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-7.40741E-007 L 0.32118 0.27384 E">
                                      <p:cBhvr>
                                        <p:cTn id="2107" dur="2000" fill="hold"/>
                                        <p:tgtEl>
                                          <p:spTgt spid="1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900000">
                                      <p:cBhvr>
                                        <p:cTn id="2109" dur="2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980000">
                                      <p:cBhvr>
                                        <p:cTn id="2112" dur="2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5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0" dur="500"/>
                                        <p:tgtEl>
                                          <p:spTgt spid="1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2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500"/>
                                        <p:tgtEl>
                                          <p:spTgt spid="1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6" nodeType="afterEffect" fill="hold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72222E-006 4.44444E-006 L 0.3875 0.14675 E">
                                      <p:cBhvr>
                                        <p:cTn id="2147" dur="2000" fill="hold"/>
                                        <p:tgtEl>
                                          <p:spTgt spid="1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149" dur="2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7500"/>
                            </p:stCondLst>
                            <p:childTnLst>
                              <p:par>
                                <p:cTn id="21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880000">
                                      <p:cBhvr>
                                        <p:cTn id="2152" dur="2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5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3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6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4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0920" y="18900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 геометрии выделяют задачи на построение, которые можно решить только с помощью двух инструментов: циркуля и линейки без масштабных делений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инейка позволяет провести произвольную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ямую, а также построить прямую, проходящую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рез две данные точки; с помощью циркуля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жно провести окружность произвольного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диуса, а также окружность с центром в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ной точке и радиусом, равным данному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резку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053400" y="3253320"/>
            <a:ext cx="3123720" cy="3104280"/>
            <a:chOff x="6053400" y="3253320"/>
            <a:chExt cx="3123720" cy="3104280"/>
          </a:xfrm>
        </p:grpSpPr>
        <p:sp>
          <p:nvSpPr>
            <p:cNvPr id="221" name=""/>
            <p:cNvSpPr/>
            <p:nvPr/>
          </p:nvSpPr>
          <p:spPr>
            <a:xfrm flipH="1" rot="2685000">
              <a:off x="6953760" y="3290040"/>
              <a:ext cx="1352520" cy="30304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rot="2685000">
              <a:off x="6210720" y="5024880"/>
              <a:ext cx="341280" cy="5889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4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rot="2685000">
              <a:off x="6129000" y="5257440"/>
              <a:ext cx="129960" cy="2239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rot="2685000">
              <a:off x="7189920" y="3360960"/>
              <a:ext cx="1181160" cy="253224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33320" y="3250800"/>
            <a:ext cx="3328200" cy="2697840"/>
            <a:chOff x="5233320" y="3250800"/>
            <a:chExt cx="3328200" cy="2697840"/>
          </a:xfrm>
        </p:grpSpPr>
        <p:sp>
          <p:nvSpPr>
            <p:cNvPr id="226" name=""/>
            <p:cNvSpPr/>
            <p:nvPr/>
          </p:nvSpPr>
          <p:spPr>
            <a:xfrm flipH="1" rot="3580800">
              <a:off x="6235560" y="3084480"/>
              <a:ext cx="1352520" cy="30304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rot="3580800">
              <a:off x="5402520" y="4480560"/>
              <a:ext cx="341280" cy="5889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4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rot="3580800">
              <a:off x="5313960" y="4662360"/>
              <a:ext cx="129960" cy="2239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rot="3580800">
              <a:off x="6512760" y="3200040"/>
              <a:ext cx="1181160" cy="253224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468200" y="1850040"/>
            <a:ext cx="1789200" cy="3230640"/>
            <a:chOff x="7468200" y="1850040"/>
            <a:chExt cx="1789200" cy="3230640"/>
          </a:xfrm>
        </p:grpSpPr>
        <p:sp>
          <p:nvSpPr>
            <p:cNvPr id="231" name=""/>
            <p:cNvSpPr/>
            <p:nvPr/>
          </p:nvSpPr>
          <p:spPr>
            <a:xfrm rot="445200">
              <a:off x="7759080" y="1921320"/>
              <a:ext cx="1306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445200">
              <a:off x="8588880" y="4466880"/>
              <a:ext cx="32940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4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445200">
              <a:off x="8762760" y="4831560"/>
              <a:ext cx="126000" cy="2260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7468200" y="1879920"/>
              <a:ext cx="1722240" cy="3195720"/>
              <a:chOff x="7468200" y="1879920"/>
              <a:chExt cx="1722240" cy="3195720"/>
            </a:xfrm>
          </p:grpSpPr>
          <p:sp>
            <p:nvSpPr>
              <p:cNvPr id="235" name=""/>
              <p:cNvSpPr/>
              <p:nvPr/>
            </p:nvSpPr>
            <p:spPr>
              <a:xfrm rot="445200">
                <a:off x="7889040" y="1942560"/>
                <a:ext cx="1140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7468200" y="2092680"/>
                <a:ext cx="967320" cy="2982960"/>
                <a:chOff x="7468200" y="2092680"/>
                <a:chExt cx="967320" cy="2982960"/>
              </a:xfrm>
            </p:grpSpPr>
            <p:sp>
              <p:nvSpPr>
                <p:cNvPr id="237" name=""/>
                <p:cNvSpPr/>
                <p:nvPr/>
              </p:nvSpPr>
              <p:spPr>
                <a:xfrm rot="445200">
                  <a:off x="7653960" y="2156400"/>
                  <a:ext cx="367560" cy="290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445200">
                  <a:off x="7969320" y="2118960"/>
                  <a:ext cx="440280" cy="42552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9" name=""/>
          <p:cNvSpPr/>
          <p:nvPr/>
        </p:nvSpPr>
        <p:spPr>
          <a:xfrm>
            <a:off x="471600" y="6019920"/>
            <a:ext cx="6159240" cy="560160"/>
          </a:xfrm>
          <a:custGeom>
            <a:avLst/>
            <a:gdLst/>
            <a:ahLst/>
            <a:rect l="l" t="t" r="r" b="b"/>
            <a:pathLst>
              <a:path w="3880" h="344">
                <a:moveTo>
                  <a:pt x="0" y="0"/>
                </a:moveTo>
                <a:lnTo>
                  <a:pt x="0" y="344"/>
                </a:lnTo>
                <a:lnTo>
                  <a:pt x="3872" y="344"/>
                </a:lnTo>
                <a:lnTo>
                  <a:pt x="388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7576400">
            <a:off x="753120" y="6230880"/>
            <a:ext cx="149400" cy="141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464760" y="5733720"/>
            <a:ext cx="619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6164280"/>
            <a:ext cx="6195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0 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1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2 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3  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4  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5   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6        7        8     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9       10      11      12       13      14      15      16   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-1116000" y="4005360"/>
            <a:ext cx="2744640" cy="24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38889E-006 -3.7037E-007 L 0.62952 -0.00162 E">
                                      <p:cBhvr>
                                        <p:cTn id="16" dur="5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1692360" y="3573360"/>
            <a:ext cx="6480000" cy="1760760"/>
            <a:chOff x="1692360" y="3573360"/>
            <a:chExt cx="6480000" cy="1760760"/>
          </a:xfrm>
        </p:grpSpPr>
        <p:sp>
          <p:nvSpPr>
            <p:cNvPr id="245" name=""/>
            <p:cNvSpPr/>
            <p:nvPr/>
          </p:nvSpPr>
          <p:spPr>
            <a:xfrm>
              <a:off x="1692360" y="3573360"/>
              <a:ext cx="2977920" cy="1617840"/>
            </a:xfrm>
            <a:custGeom>
              <a:avLst/>
              <a:gdLst/>
              <a:ahLst/>
              <a:rect l="l" t="t" r="r" b="b"/>
              <a:pathLst>
                <a:path w="1876" h="1019">
                  <a:moveTo>
                    <a:pt x="16" y="862"/>
                  </a:moveTo>
                  <a:lnTo>
                    <a:pt x="1286" y="0"/>
                  </a:lnTo>
                  <a:lnTo>
                    <a:pt x="1558" y="91"/>
                  </a:lnTo>
                  <a:lnTo>
                    <a:pt x="1740" y="273"/>
                  </a:lnTo>
                  <a:lnTo>
                    <a:pt x="1876" y="545"/>
                  </a:lnTo>
                  <a:lnTo>
                    <a:pt x="1831" y="726"/>
                  </a:lnTo>
                  <a:lnTo>
                    <a:pt x="1760" y="1019"/>
                  </a:lnTo>
                  <a:lnTo>
                    <a:pt x="24" y="859"/>
                  </a:lnTo>
                  <a:lnTo>
                    <a:pt x="0" y="891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4440" y="3716280"/>
              <a:ext cx="2977920" cy="1617840"/>
            </a:xfrm>
            <a:custGeom>
              <a:avLst/>
              <a:gdLst/>
              <a:ahLst/>
              <a:rect l="l" t="t" r="r" b="b"/>
              <a:pathLst>
                <a:path w="1876" h="1019">
                  <a:moveTo>
                    <a:pt x="16" y="862"/>
                  </a:moveTo>
                  <a:lnTo>
                    <a:pt x="1286" y="0"/>
                  </a:lnTo>
                  <a:lnTo>
                    <a:pt x="1558" y="91"/>
                  </a:lnTo>
                  <a:lnTo>
                    <a:pt x="1740" y="273"/>
                  </a:lnTo>
                  <a:lnTo>
                    <a:pt x="1876" y="545"/>
                  </a:lnTo>
                  <a:lnTo>
                    <a:pt x="1831" y="726"/>
                  </a:lnTo>
                  <a:lnTo>
                    <a:pt x="1760" y="1019"/>
                  </a:lnTo>
                  <a:lnTo>
                    <a:pt x="24" y="859"/>
                  </a:lnTo>
                  <a:lnTo>
                    <a:pt x="0" y="891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267200" y="4797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37400" y="50864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97480" y="3573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232240" y="3213000"/>
            <a:ext cx="2735280" cy="18590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92760" y="3759120"/>
            <a:ext cx="2666520" cy="25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26" y="1089"/>
                </a:moveTo>
                <a:arcTo wR="10800" hR="10800" stAng="-3842919" swAng="5623767"/>
                <a:lnTo>
                  <a:pt x="10800" y="10800"/>
                </a:lnTo>
                <a:close/>
              </a:path>
              <a:path fill="none" w="21600" h="21600">
                <a:moveTo>
                  <a:pt x="15526" y="1089"/>
                </a:moveTo>
                <a:arcTo wR="10800" hR="10800" stAng="-3842919" swAng="5623767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3574800"/>
            <a:ext cx="2844360" cy="275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44" y="438"/>
                </a:moveTo>
                <a:arcTo wR="10800" hR="10800" stAng="-4417741" swAng="6198589"/>
                <a:lnTo>
                  <a:pt x="10800" y="10800"/>
                </a:lnTo>
                <a:close/>
              </a:path>
              <a:path fill="none" w="21600" h="21600">
                <a:moveTo>
                  <a:pt x="13844" y="438"/>
                </a:moveTo>
                <a:arcTo wR="10800" hR="10800" stAng="-4417741" swAng="6198589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704960" y="3068640"/>
            <a:ext cx="2735280" cy="18590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04960" y="4927680"/>
            <a:ext cx="2587680" cy="228600"/>
          </a:xfrm>
          <a:custGeom>
            <a:avLst/>
            <a:gdLst/>
            <a:ahLst/>
            <a:rect l="l" t="t" r="r" b="b"/>
            <a:pathLst>
              <a:path w="1630" h="144">
                <a:moveTo>
                  <a:pt x="0" y="0"/>
                </a:moveTo>
                <a:lnTo>
                  <a:pt x="1630" y="144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41480" y="4076640"/>
            <a:ext cx="7488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8880" y="5013360"/>
            <a:ext cx="9036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8280" y="33336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  <a:ea typeface="Arial"/>
              </a:rPr>
              <a:t>Построение угла, равного данному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70400" y="1973880"/>
            <a:ext cx="1421280" cy="3084120"/>
            <a:chOff x="5270400" y="1973880"/>
            <a:chExt cx="1421280" cy="3084120"/>
          </a:xfrm>
        </p:grpSpPr>
        <p:sp>
          <p:nvSpPr>
            <p:cNvPr id="259" name=""/>
            <p:cNvSpPr/>
            <p:nvPr/>
          </p:nvSpPr>
          <p:spPr>
            <a:xfrm flipH="1" rot="21521400">
              <a:off x="5304600" y="1988640"/>
              <a:ext cx="1352520" cy="30304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21521400">
              <a:off x="5314320" y="4465080"/>
              <a:ext cx="341280" cy="588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4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21521400">
              <a:off x="5325480" y="4817520"/>
              <a:ext cx="129960" cy="2239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rot="21521400">
              <a:off x="5366520" y="2005920"/>
              <a:ext cx="1181160" cy="253224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 rot="15103800">
            <a:off x="5552640" y="4264920"/>
            <a:ext cx="2667240" cy="252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38" y="5733"/>
                </a:moveTo>
                <a:arcTo wR="10800" hR="10800" stAng="-1678666" swAng="3459514"/>
                <a:lnTo>
                  <a:pt x="10800" y="10800"/>
                </a:lnTo>
                <a:close/>
              </a:path>
              <a:path fill="none" w="21600" h="21600">
                <a:moveTo>
                  <a:pt x="20338" y="5733"/>
                </a:moveTo>
                <a:arcTo wR="10800" hR="10800" stAng="-1678666" swAng="3459514"/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72360" y="4240080"/>
            <a:ext cx="712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6160" y="105264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 угол А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7600" y="5086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3520" y="52293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6252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840" y="5818320"/>
            <a:ext cx="86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перь докажем, что построенный угол равен данному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-1174680" y="2283120"/>
            <a:ext cx="5816520" cy="5365440"/>
            <a:chOff x="-1174680" y="2283120"/>
            <a:chExt cx="5816520" cy="5365440"/>
          </a:xfrm>
        </p:grpSpPr>
        <p:grpSp>
          <p:nvGrpSpPr>
            <p:cNvPr id="271" name=""/>
            <p:cNvGrpSpPr/>
            <p:nvPr/>
          </p:nvGrpSpPr>
          <p:grpSpPr>
            <a:xfrm>
              <a:off x="1753560" y="2283120"/>
              <a:ext cx="2888280" cy="3316320"/>
              <a:chOff x="1753560" y="2283120"/>
              <a:chExt cx="2888280" cy="3316320"/>
            </a:xfrm>
          </p:grpSpPr>
          <p:sp>
            <p:nvSpPr>
              <p:cNvPr id="272" name=""/>
              <p:cNvSpPr/>
              <p:nvPr/>
            </p:nvSpPr>
            <p:spPr>
              <a:xfrm rot="1935000">
                <a:off x="2619000" y="2395440"/>
                <a:ext cx="1306440" cy="30610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935000">
                <a:off x="2866320" y="4962240"/>
                <a:ext cx="329760" cy="5947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935000">
                <a:off x="2958120" y="5340600"/>
                <a:ext cx="126000" cy="22608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1753560" y="2350440"/>
                <a:ext cx="2823840" cy="2804760"/>
                <a:chOff x="1753560" y="2350440"/>
                <a:chExt cx="2823840" cy="2804760"/>
              </a:xfrm>
            </p:grpSpPr>
            <p:sp>
              <p:nvSpPr>
                <p:cNvPr id="276" name=""/>
                <p:cNvSpPr/>
                <p:nvPr/>
              </p:nvSpPr>
              <p:spPr>
                <a:xfrm rot="1935000">
                  <a:off x="2841480" y="2457360"/>
                  <a:ext cx="1141200" cy="25574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" name=""/>
                <p:cNvGrpSpPr/>
                <p:nvPr/>
              </p:nvGrpSpPr>
              <p:grpSpPr>
                <a:xfrm>
                  <a:off x="1753560" y="2500560"/>
                  <a:ext cx="2087280" cy="2654640"/>
                  <a:chOff x="1753560" y="2500560"/>
                  <a:chExt cx="2087280" cy="265464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1935000">
                    <a:off x="2500920" y="2374200"/>
                    <a:ext cx="367920" cy="29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1935000">
                    <a:off x="3320640" y="2603520"/>
                    <a:ext cx="440640" cy="42552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0" name=""/>
            <p:cNvGrpSpPr/>
            <p:nvPr/>
          </p:nvGrpSpPr>
          <p:grpSpPr>
            <a:xfrm>
              <a:off x="-1174680" y="4323960"/>
              <a:ext cx="2853720" cy="3324600"/>
              <a:chOff x="-1174680" y="4323960"/>
              <a:chExt cx="2853720" cy="3324600"/>
            </a:xfrm>
          </p:grpSpPr>
          <p:sp>
            <p:nvSpPr>
              <p:cNvPr id="281" name=""/>
              <p:cNvSpPr/>
              <p:nvPr/>
            </p:nvSpPr>
            <p:spPr>
              <a:xfrm rot="12676800">
                <a:off x="-474840" y="4470480"/>
                <a:ext cx="1306440" cy="30610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2676800">
                <a:off x="231840" y="4366080"/>
                <a:ext cx="329760" cy="5947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2676800">
                <a:off x="340560" y="4356000"/>
                <a:ext cx="126000" cy="22608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-1109880" y="4752000"/>
                <a:ext cx="2788920" cy="2830320"/>
                <a:chOff x="-1109880" y="4752000"/>
                <a:chExt cx="2788920" cy="2830320"/>
              </a:xfrm>
            </p:grpSpPr>
            <p:sp>
              <p:nvSpPr>
                <p:cNvPr id="285" name=""/>
                <p:cNvSpPr/>
                <p:nvPr/>
              </p:nvSpPr>
              <p:spPr>
                <a:xfrm rot="12676800">
                  <a:off x="-528840" y="4914360"/>
                  <a:ext cx="1141200" cy="25574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-370080" y="4752000"/>
                  <a:ext cx="2049120" cy="2675520"/>
                  <a:chOff x="-370080" y="4752000"/>
                  <a:chExt cx="2049120" cy="267552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2676800">
                    <a:off x="582840" y="4636080"/>
                    <a:ext cx="367920" cy="29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2676800">
                    <a:off x="-291600" y="6902640"/>
                    <a:ext cx="440640" cy="4255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89" name=""/>
          <p:cNvGrpSpPr/>
          <p:nvPr/>
        </p:nvGrpSpPr>
        <p:grpSpPr>
          <a:xfrm>
            <a:off x="54360" y="2496600"/>
            <a:ext cx="6193080" cy="5081040"/>
            <a:chOff x="54360" y="2496600"/>
            <a:chExt cx="6193080" cy="5081040"/>
          </a:xfrm>
        </p:grpSpPr>
        <p:grpSp>
          <p:nvGrpSpPr>
            <p:cNvPr id="290" name=""/>
            <p:cNvGrpSpPr/>
            <p:nvPr/>
          </p:nvGrpSpPr>
          <p:grpSpPr>
            <a:xfrm>
              <a:off x="2805840" y="2496600"/>
              <a:ext cx="3441600" cy="2802960"/>
              <a:chOff x="2805840" y="2496600"/>
              <a:chExt cx="3441600" cy="2802960"/>
            </a:xfrm>
          </p:grpSpPr>
          <p:sp>
            <p:nvSpPr>
              <p:cNvPr id="291" name=""/>
              <p:cNvSpPr/>
              <p:nvPr/>
            </p:nvSpPr>
            <p:spPr>
              <a:xfrm flipH="1" rot="3529800">
                <a:off x="3859920" y="2317320"/>
                <a:ext cx="1363680" cy="316116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3529800">
                <a:off x="2985480" y="3809880"/>
                <a:ext cx="344520" cy="61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2954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3529800">
                <a:off x="2890440" y="4006800"/>
                <a:ext cx="131760" cy="23328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rot="3529800">
                <a:off x="4144680" y="2435400"/>
                <a:ext cx="1190880" cy="264168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3021840" y="3407040"/>
                <a:ext cx="2967120" cy="1636920"/>
                <a:chOff x="3021840" y="3407040"/>
                <a:chExt cx="2967120" cy="1636920"/>
              </a:xfrm>
            </p:grpSpPr>
            <p:sp>
              <p:nvSpPr>
                <p:cNvPr id="296" name=""/>
                <p:cNvSpPr/>
                <p:nvPr/>
              </p:nvSpPr>
              <p:spPr>
                <a:xfrm flipH="1" rot="4189800">
                  <a:off x="4304880" y="2845080"/>
                  <a:ext cx="383760" cy="300204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rot="4189800">
                  <a:off x="5473440" y="3478680"/>
                  <a:ext cx="459720" cy="43920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54360" y="4775760"/>
              <a:ext cx="3409920" cy="2801880"/>
              <a:chOff x="54360" y="4775760"/>
              <a:chExt cx="3409920" cy="2801880"/>
            </a:xfrm>
          </p:grpSpPr>
          <p:sp>
            <p:nvSpPr>
              <p:cNvPr id="299" name=""/>
              <p:cNvSpPr/>
              <p:nvPr/>
            </p:nvSpPr>
            <p:spPr>
              <a:xfrm flipV="1" rot="3530400">
                <a:off x="1077120" y="4596120"/>
                <a:ext cx="1363680" cy="31600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315720" y="5030280"/>
                <a:ext cx="2967120" cy="1637280"/>
                <a:chOff x="315720" y="5030280"/>
                <a:chExt cx="2967120" cy="1637280"/>
              </a:xfrm>
            </p:grpSpPr>
            <p:sp>
              <p:nvSpPr>
                <p:cNvPr id="301" name=""/>
                <p:cNvSpPr/>
                <p:nvPr/>
              </p:nvSpPr>
              <p:spPr>
                <a:xfrm flipV="1" rot="4190400">
                  <a:off x="1615320" y="4226760"/>
                  <a:ext cx="384120" cy="300204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 rot="4190400">
                  <a:off x="371160" y="6156000"/>
                  <a:ext cx="460080" cy="439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3" name=""/>
          <p:cNvSpPr/>
          <p:nvPr/>
        </p:nvSpPr>
        <p:spPr>
          <a:xfrm>
            <a:off x="1631880" y="48704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07040" y="5084640"/>
            <a:ext cx="3936960" cy="374760"/>
          </a:xfrm>
          <a:custGeom>
            <a:avLst/>
            <a:gdLst/>
            <a:ahLst/>
            <a:rect l="l" t="t" r="r" b="b"/>
            <a:pathLst>
              <a:path w="2480" h="236">
                <a:moveTo>
                  <a:pt x="0" y="0"/>
                </a:moveTo>
                <a:lnTo>
                  <a:pt x="2480" y="236"/>
                </a:lnTo>
              </a:path>
            </a:pathLst>
          </a:custGeom>
          <a:noFill/>
          <a:ln w="28440">
            <a:solidFill>
              <a:srgbClr val="40458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07080" y="517680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0.34583 0.04953 E">
                                      <p:cBhvr>
                                        <p:cTn id="4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7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0.38229 0.02847 E">
                                      <p:cBhvr>
                                        <p:cTn id="79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900000">
                                      <p:cBhvr>
                                        <p:cTn id="8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8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5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0.38351 0.02245 E">
                                      <p:cBhvr>
                                        <p:cTn id="118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60000">
                                      <p:cBhvr>
                                        <p:cTn id="12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20000">
                                      <p:cBhvr>
                                        <p:cTn id="12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427640" y="2781360"/>
            <a:ext cx="1401840" cy="901800"/>
          </a:xfrm>
          <a:custGeom>
            <a:avLst/>
            <a:gdLst/>
            <a:ahLst/>
            <a:rect l="l" t="t" r="r" b="b"/>
            <a:pathLst>
              <a:path w="883" h="568">
                <a:moveTo>
                  <a:pt x="0" y="496"/>
                </a:moveTo>
                <a:lnTo>
                  <a:pt x="883" y="568"/>
                </a:lnTo>
                <a:lnTo>
                  <a:pt x="724" y="0"/>
                </a:lnTo>
                <a:lnTo>
                  <a:pt x="0" y="4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00000" y="2619360"/>
            <a:ext cx="1424160" cy="924120"/>
          </a:xfrm>
          <a:custGeom>
            <a:avLst/>
            <a:gdLst/>
            <a:ahLst/>
            <a:rect l="l" t="t" r="r" b="b"/>
            <a:pathLst>
              <a:path w="897" h="582">
                <a:moveTo>
                  <a:pt x="0" y="510"/>
                </a:moveTo>
                <a:lnTo>
                  <a:pt x="897" y="582"/>
                </a:lnTo>
                <a:lnTo>
                  <a:pt x="741" y="0"/>
                </a:lnTo>
                <a:lnTo>
                  <a:pt x="0" y="51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21439800">
            <a:off x="3178440" y="2276640"/>
            <a:ext cx="2666520" cy="25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94" y="1502"/>
                </a:moveTo>
                <a:arcTo wR="10800" hR="10800" stAng="-3565472" swAng="5346320"/>
                <a:lnTo>
                  <a:pt x="10800" y="10800"/>
                </a:lnTo>
                <a:close/>
              </a:path>
              <a:path fill="none" w="21600" h="21600">
                <a:moveTo>
                  <a:pt x="16294" y="1502"/>
                </a:moveTo>
                <a:arcTo wR="10800" hR="10800" stAng="-3565472" swAng="5346320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-322200" y="2122200"/>
            <a:ext cx="2666520" cy="25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94" y="1502"/>
                </a:moveTo>
                <a:arcTo wR="10800" hR="10800" stAng="-3565472" swAng="5346320"/>
                <a:lnTo>
                  <a:pt x="10800" y="10800"/>
                </a:lnTo>
                <a:close/>
              </a:path>
              <a:path fill="none" w="21600" h="21600">
                <a:moveTo>
                  <a:pt x="16294" y="1502"/>
                </a:moveTo>
                <a:arcTo wR="10800" hR="10800" stAng="-3565472" swAng="5346320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01800" y="1557360"/>
            <a:ext cx="2735280" cy="18590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01800" y="3416400"/>
            <a:ext cx="2587680" cy="228600"/>
          </a:xfrm>
          <a:custGeom>
            <a:avLst/>
            <a:gdLst/>
            <a:ahLst/>
            <a:rect l="l" t="t" r="r" b="b"/>
            <a:pathLst>
              <a:path w="1630" h="144">
                <a:moveTo>
                  <a:pt x="0" y="0"/>
                </a:moveTo>
                <a:lnTo>
                  <a:pt x="1630" y="144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043000" y="25765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98600" y="3514680"/>
            <a:ext cx="698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1840" y="33829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7720" y="404640"/>
            <a:ext cx="58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  <a:ea typeface="Arial"/>
              </a:rPr>
              <a:t>Построение угла, равного данному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  <a:ea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29080" y="3575160"/>
            <a:ext cx="3927600" cy="323640"/>
          </a:xfrm>
          <a:custGeom>
            <a:avLst/>
            <a:gdLst/>
            <a:ahLst/>
            <a:rect l="l" t="t" r="r" b="b"/>
            <a:pathLst>
              <a:path w="2474" h="204">
                <a:moveTo>
                  <a:pt x="0" y="0"/>
                </a:moveTo>
                <a:lnTo>
                  <a:pt x="2474" y="204"/>
                </a:lnTo>
              </a:path>
            </a:pathLst>
          </a:custGeom>
          <a:noFill/>
          <a:ln w="28440">
            <a:solidFill>
              <a:srgbClr val="40458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29080" y="1701720"/>
            <a:ext cx="2735280" cy="18590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11800" y="9810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 угол А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4040" y="32860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60760" y="981000"/>
            <a:ext cx="29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троили угол О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33880" y="35751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6920" y="2062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04080" y="3575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89880" y="3645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38520" y="227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221760" y="4221000"/>
            <a:ext cx="942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казать:   А =   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казательство:  рассмотрим треугольники АВС и 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С=ОЕ, как радиусы одной окружности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В=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как радиусы одной окружности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С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как радиусы одной окружности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ВС=    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  (3 приз.)            А =    О      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908000" y="4221000"/>
                <a:ext cx="443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700360" y="4221000"/>
                <a:ext cx="442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 rot="16200000">
            <a:off x="4406400" y="2854080"/>
            <a:ext cx="2666520" cy="252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38" y="5733"/>
                </a:moveTo>
                <a:arcTo wR="10800" hR="10800" stAng="-1678666" swAng="3090644"/>
                <a:lnTo>
                  <a:pt x="10800" y="10800"/>
                </a:lnTo>
                <a:close/>
              </a:path>
              <a:path fill="none" w="21600" h="21600">
                <a:moveTo>
                  <a:pt x="20338" y="5733"/>
                </a:moveTo>
                <a:arcTo wR="10800" hR="10800" stAng="-1678666" swAng="3090644"/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00680" y="365436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41840" y="2741760"/>
            <a:ext cx="71640" cy="72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403280" y="2852640"/>
            <a:ext cx="3745080" cy="432000"/>
            <a:chOff x="1403280" y="2852640"/>
            <a:chExt cx="3745080" cy="432000"/>
          </a:xfrm>
        </p:grpSpPr>
        <p:sp>
          <p:nvSpPr>
            <p:cNvPr id="334" name=""/>
            <p:cNvSpPr/>
            <p:nvPr/>
          </p:nvSpPr>
          <p:spPr>
            <a:xfrm>
              <a:off x="1403280" y="2852640"/>
              <a:ext cx="216000" cy="2160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32360" y="3068640"/>
              <a:ext cx="216000" cy="2160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547640" y="3357720"/>
            <a:ext cx="3672000" cy="358560"/>
            <a:chOff x="1547640" y="3357720"/>
            <a:chExt cx="3672000" cy="358560"/>
          </a:xfrm>
        </p:grpSpPr>
        <p:grpSp>
          <p:nvGrpSpPr>
            <p:cNvPr id="337" name=""/>
            <p:cNvGrpSpPr/>
            <p:nvPr/>
          </p:nvGrpSpPr>
          <p:grpSpPr>
            <a:xfrm>
              <a:off x="1547640" y="3357720"/>
              <a:ext cx="71640" cy="215640"/>
              <a:chOff x="1547640" y="3357720"/>
              <a:chExt cx="71640" cy="215640"/>
            </a:xfrm>
          </p:grpSpPr>
          <p:sp>
            <p:nvSpPr>
              <p:cNvPr id="338" name=""/>
              <p:cNvSpPr/>
              <p:nvPr/>
            </p:nvSpPr>
            <p:spPr>
              <a:xfrm>
                <a:off x="1547640" y="3357720"/>
                <a:ext cx="0" cy="21564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619280" y="3357720"/>
                <a:ext cx="0" cy="21564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148360" y="3500280"/>
              <a:ext cx="71280" cy="216000"/>
              <a:chOff x="5148360" y="3500280"/>
              <a:chExt cx="71280" cy="216000"/>
            </a:xfrm>
          </p:grpSpPr>
          <p:sp>
            <p:nvSpPr>
              <p:cNvPr id="341" name=""/>
              <p:cNvSpPr/>
              <p:nvPr/>
            </p:nvSpPr>
            <p:spPr>
              <a:xfrm>
                <a:off x="5148360" y="3500280"/>
                <a:ext cx="0" cy="2160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19640" y="3500280"/>
                <a:ext cx="0" cy="2160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2045880" y="2986920"/>
            <a:ext cx="3756960" cy="309600"/>
            <a:chOff x="2045880" y="2986920"/>
            <a:chExt cx="3756960" cy="309600"/>
          </a:xfrm>
        </p:grpSpPr>
        <p:grpSp>
          <p:nvGrpSpPr>
            <p:cNvPr id="344" name=""/>
            <p:cNvGrpSpPr/>
            <p:nvPr/>
          </p:nvGrpSpPr>
          <p:grpSpPr>
            <a:xfrm>
              <a:off x="5574960" y="3131280"/>
              <a:ext cx="227880" cy="165240"/>
              <a:chOff x="5574960" y="3131280"/>
              <a:chExt cx="227880" cy="16524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5574960" y="3131280"/>
                <a:ext cx="214560" cy="216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582160" y="3202200"/>
                <a:ext cx="214560" cy="216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588280" y="3274920"/>
                <a:ext cx="214560" cy="216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2045880" y="2986920"/>
              <a:ext cx="227880" cy="165240"/>
              <a:chOff x="2045880" y="2986920"/>
              <a:chExt cx="227880" cy="16524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2045880" y="2986920"/>
                <a:ext cx="214560" cy="216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2053080" y="3057840"/>
                <a:ext cx="214560" cy="216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2059200" y="3130560"/>
                <a:ext cx="214560" cy="21600"/>
              </a:xfrm>
              <a:prstGeom prst="line">
                <a:avLst/>
              </a:prstGeom>
              <a:ln w="284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11280" y="6093000"/>
            <a:ext cx="1536480" cy="369720"/>
            <a:chOff x="611280" y="6093000"/>
            <a:chExt cx="1536480" cy="369720"/>
          </a:xfrm>
        </p:grpSpPr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611280" y="6093000"/>
                  <a:ext cx="31248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5" name=""/>
                <p:cNvSpPr txBox="1"/>
                <p:nvPr/>
              </p:nvSpPr>
              <p:spPr>
                <a:xfrm>
                  <a:off x="1835280" y="6093000"/>
                  <a:ext cx="31248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211640" y="6093000"/>
                <a:ext cx="576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4859280" y="6093000"/>
            <a:ext cx="1379520" cy="409320"/>
            <a:chOff x="4859280" y="6093000"/>
            <a:chExt cx="1379520" cy="409320"/>
          </a:xfrm>
        </p:grpSpPr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4859280" y="609300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5796000" y="609300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899640" y="3501720"/>
            <a:ext cx="2667240" cy="280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50" y="1201"/>
                </a:moveTo>
                <a:arcTo wR="10800" hR="10800" stAng="-3763286" swAng="5544134"/>
                <a:lnTo>
                  <a:pt x="10800" y="10800"/>
                </a:lnTo>
                <a:close/>
              </a:path>
              <a:path fill="none" w="21600" h="21600">
                <a:moveTo>
                  <a:pt x="15750" y="1201"/>
                </a:moveTo>
                <a:arcTo wR="10800" hR="10800" stAng="-3763286" swAng="5544134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124000" y="2981160"/>
            <a:ext cx="2735280" cy="18734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24000" y="4854600"/>
            <a:ext cx="4824360" cy="4316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3040" y="2840760"/>
            <a:ext cx="2666520" cy="252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0" y="6794"/>
                </a:moveTo>
                <a:arcTo wR="10800" hR="10800" stAng="-1306290" swAng="3187986"/>
                <a:lnTo>
                  <a:pt x="10800" y="10800"/>
                </a:lnTo>
                <a:close/>
              </a:path>
              <a:path fill="none" w="21600" h="21600">
                <a:moveTo>
                  <a:pt x="20830" y="6794"/>
                </a:moveTo>
                <a:arcTo wR="10800" hR="10800" stAng="-1306290" swAng="3187986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01000">
            <a:off x="2142720" y="3586680"/>
            <a:ext cx="2667240" cy="272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08" y="694"/>
                </a:moveTo>
                <a:arcTo wR="10800" hR="10800" stAng="-4161239" swAng="3506288"/>
                <a:lnTo>
                  <a:pt x="10800" y="10800"/>
                </a:lnTo>
                <a:close/>
              </a:path>
              <a:path fill="none" w="21600" h="21600">
                <a:moveTo>
                  <a:pt x="14608" y="694"/>
                </a:moveTo>
                <a:arcTo wR="10800" hR="10800" stAng="-4161239" swAng="3506288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0638800">
            <a:off x="5151600" y="333216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биссектрис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124000" y="3413160"/>
            <a:ext cx="5184720" cy="144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43560" y="413532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54936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строение биссектрисы угла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-730440" y="2224080"/>
            <a:ext cx="5719320" cy="5438520"/>
            <a:chOff x="-730440" y="2224080"/>
            <a:chExt cx="5719320" cy="5438520"/>
          </a:xfrm>
        </p:grpSpPr>
        <p:grpSp>
          <p:nvGrpSpPr>
            <p:cNvPr id="370" name=""/>
            <p:cNvGrpSpPr/>
            <p:nvPr/>
          </p:nvGrpSpPr>
          <p:grpSpPr>
            <a:xfrm>
              <a:off x="2114640" y="2224080"/>
              <a:ext cx="2874240" cy="3322800"/>
              <a:chOff x="2114640" y="2224080"/>
              <a:chExt cx="2874240" cy="3322800"/>
            </a:xfrm>
          </p:grpSpPr>
          <p:sp>
            <p:nvSpPr>
              <p:cNvPr id="371" name=""/>
              <p:cNvSpPr/>
              <p:nvPr/>
            </p:nvSpPr>
            <p:spPr>
              <a:xfrm rot="1866600">
                <a:off x="2950920" y="2355120"/>
                <a:ext cx="1352160" cy="30304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866600">
                <a:off x="3263040" y="4911840"/>
                <a:ext cx="341280" cy="58896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66600">
                <a:off x="3365280" y="5288760"/>
                <a:ext cx="13032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2114640" y="2291760"/>
                <a:ext cx="2808000" cy="2810880"/>
                <a:chOff x="2114640" y="2291760"/>
                <a:chExt cx="2808000" cy="2810880"/>
              </a:xfrm>
            </p:grpSpPr>
            <p:sp>
              <p:nvSpPr>
                <p:cNvPr id="375" name=""/>
                <p:cNvSpPr/>
                <p:nvPr/>
              </p:nvSpPr>
              <p:spPr>
                <a:xfrm rot="1866600">
                  <a:off x="3171960" y="2414520"/>
                  <a:ext cx="1181160" cy="25318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2114640" y="2442240"/>
                  <a:ext cx="2045880" cy="2660400"/>
                  <a:chOff x="2114640" y="2442240"/>
                  <a:chExt cx="2045880" cy="266040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1866600">
                    <a:off x="2831040" y="2333160"/>
                    <a:ext cx="380520" cy="28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1866600">
                    <a:off x="3628080" y="2548080"/>
                    <a:ext cx="456120" cy="42120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79" name=""/>
            <p:cNvGrpSpPr/>
            <p:nvPr/>
          </p:nvGrpSpPr>
          <p:grpSpPr>
            <a:xfrm>
              <a:off x="-730440" y="4333320"/>
              <a:ext cx="2839680" cy="3329280"/>
              <a:chOff x="-730440" y="4333320"/>
              <a:chExt cx="2839680" cy="3329280"/>
            </a:xfrm>
          </p:grpSpPr>
          <p:sp>
            <p:nvSpPr>
              <p:cNvPr id="380" name=""/>
              <p:cNvSpPr/>
              <p:nvPr/>
            </p:nvSpPr>
            <p:spPr>
              <a:xfrm rot="12608400">
                <a:off x="-60840" y="4497480"/>
                <a:ext cx="1352160" cy="30304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2608400">
                <a:off x="614880" y="4379040"/>
                <a:ext cx="341280" cy="58896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2608400">
                <a:off x="720000" y="4367160"/>
                <a:ext cx="13032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-663120" y="4760640"/>
                <a:ext cx="2772360" cy="2835360"/>
                <a:chOff x="-663120" y="4760640"/>
                <a:chExt cx="2772360" cy="2835360"/>
              </a:xfrm>
            </p:grpSpPr>
            <p:sp>
              <p:nvSpPr>
                <p:cNvPr id="384" name=""/>
                <p:cNvSpPr/>
                <p:nvPr/>
              </p:nvSpPr>
              <p:spPr>
                <a:xfrm rot="12608400">
                  <a:off x="-107280" y="4938480"/>
                  <a:ext cx="1181160" cy="25318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5" name=""/>
                <p:cNvGrpSpPr/>
                <p:nvPr/>
              </p:nvGrpSpPr>
              <p:grpSpPr>
                <a:xfrm>
                  <a:off x="101520" y="4760640"/>
                  <a:ext cx="2007720" cy="2679840"/>
                  <a:chOff x="101520" y="4760640"/>
                  <a:chExt cx="2007720" cy="26798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12608400">
                    <a:off x="1031760" y="4661640"/>
                    <a:ext cx="380520" cy="28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2608400">
                    <a:off x="176400" y="691812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88" name=""/>
          <p:cNvGrpSpPr/>
          <p:nvPr/>
        </p:nvGrpSpPr>
        <p:grpSpPr>
          <a:xfrm>
            <a:off x="341640" y="1577160"/>
            <a:ext cx="5809680" cy="4981680"/>
            <a:chOff x="341640" y="1577160"/>
            <a:chExt cx="5809680" cy="4981680"/>
          </a:xfrm>
        </p:grpSpPr>
        <p:grpSp>
          <p:nvGrpSpPr>
            <p:cNvPr id="389" name=""/>
            <p:cNvGrpSpPr/>
            <p:nvPr/>
          </p:nvGrpSpPr>
          <p:grpSpPr>
            <a:xfrm>
              <a:off x="3275280" y="1577160"/>
              <a:ext cx="2876040" cy="3166560"/>
              <a:chOff x="3275280" y="1577160"/>
              <a:chExt cx="2876040" cy="3166560"/>
            </a:xfrm>
          </p:grpSpPr>
          <p:sp>
            <p:nvSpPr>
              <p:cNvPr id="390" name=""/>
              <p:cNvSpPr/>
              <p:nvPr/>
            </p:nvSpPr>
            <p:spPr>
              <a:xfrm rot="2117400">
                <a:off x="4163760" y="1665000"/>
                <a:ext cx="1246680" cy="29606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117400">
                <a:off x="4323960" y="4130280"/>
                <a:ext cx="314640" cy="57528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2117400">
                <a:off x="4400280" y="4494960"/>
                <a:ext cx="120240" cy="2185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3275280" y="1645560"/>
                <a:ext cx="2815200" cy="2648160"/>
                <a:chOff x="3275280" y="1645560"/>
                <a:chExt cx="2815200" cy="2648160"/>
              </a:xfrm>
            </p:grpSpPr>
            <p:sp>
              <p:nvSpPr>
                <p:cNvPr id="394" name=""/>
                <p:cNvSpPr/>
                <p:nvPr/>
              </p:nvSpPr>
              <p:spPr>
                <a:xfrm rot="2117400">
                  <a:off x="4386960" y="1732680"/>
                  <a:ext cx="1089000" cy="24735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3275280" y="1775880"/>
                  <a:ext cx="2122560" cy="2497320"/>
                  <a:chOff x="3275280" y="1775880"/>
                  <a:chExt cx="2122560" cy="249732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2117400">
                    <a:off x="4054680" y="1618920"/>
                    <a:ext cx="351000" cy="28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2117400">
                    <a:off x="4897080" y="1884240"/>
                    <a:ext cx="420480" cy="41148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98" name=""/>
            <p:cNvGrpSpPr/>
            <p:nvPr/>
          </p:nvGrpSpPr>
          <p:grpSpPr>
            <a:xfrm>
              <a:off x="341640" y="3380400"/>
              <a:ext cx="2845080" cy="3178440"/>
              <a:chOff x="341640" y="3380400"/>
              <a:chExt cx="2845080" cy="3178440"/>
            </a:xfrm>
          </p:grpSpPr>
          <p:sp>
            <p:nvSpPr>
              <p:cNvPr id="399" name=""/>
              <p:cNvSpPr/>
              <p:nvPr/>
            </p:nvSpPr>
            <p:spPr>
              <a:xfrm rot="12858600">
                <a:off x="1067400" y="3504240"/>
                <a:ext cx="1246680" cy="29606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2858600">
                <a:off x="1818000" y="3418920"/>
                <a:ext cx="314640" cy="57528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2858600">
                <a:off x="1932480" y="3411000"/>
                <a:ext cx="120240" cy="2185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402120" y="3834360"/>
                <a:ext cx="2784600" cy="2657160"/>
                <a:chOff x="402120" y="3834360"/>
                <a:chExt cx="2784600" cy="2657160"/>
              </a:xfrm>
            </p:grpSpPr>
            <p:sp>
              <p:nvSpPr>
                <p:cNvPr id="403" name=""/>
                <p:cNvSpPr/>
                <p:nvPr/>
              </p:nvSpPr>
              <p:spPr>
                <a:xfrm rot="12858600">
                  <a:off x="1004400" y="3926160"/>
                  <a:ext cx="1089000" cy="24735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" name=""/>
                <p:cNvGrpSpPr/>
                <p:nvPr/>
              </p:nvGrpSpPr>
              <p:grpSpPr>
                <a:xfrm>
                  <a:off x="1098720" y="3836160"/>
                  <a:ext cx="2088000" cy="2520000"/>
                  <a:chOff x="1098720" y="3836160"/>
                  <a:chExt cx="2088000" cy="25200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12858600">
                    <a:off x="2073600" y="3690360"/>
                    <a:ext cx="351000" cy="28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12858600">
                    <a:off x="1177920" y="5839920"/>
                    <a:ext cx="420480" cy="41148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07" name=""/>
          <p:cNvGrpSpPr/>
          <p:nvPr/>
        </p:nvGrpSpPr>
        <p:grpSpPr>
          <a:xfrm>
            <a:off x="1899360" y="2155320"/>
            <a:ext cx="3336120" cy="5751000"/>
            <a:chOff x="1899360" y="2155320"/>
            <a:chExt cx="3336120" cy="5751000"/>
          </a:xfrm>
        </p:grpSpPr>
        <p:grpSp>
          <p:nvGrpSpPr>
            <p:cNvPr id="408" name=""/>
            <p:cNvGrpSpPr/>
            <p:nvPr/>
          </p:nvGrpSpPr>
          <p:grpSpPr>
            <a:xfrm>
              <a:off x="3574440" y="2155320"/>
              <a:ext cx="1661040" cy="2930040"/>
              <a:chOff x="3574440" y="2155320"/>
              <a:chExt cx="1661040" cy="2930040"/>
            </a:xfrm>
          </p:grpSpPr>
          <p:sp>
            <p:nvSpPr>
              <p:cNvPr id="409" name=""/>
              <p:cNvSpPr/>
              <p:nvPr/>
            </p:nvSpPr>
            <p:spPr>
              <a:xfrm rot="496200">
                <a:off x="3858480" y="2225880"/>
                <a:ext cx="1184040" cy="27644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496200">
                <a:off x="4593960" y="4529160"/>
                <a:ext cx="298800" cy="5371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496200">
                <a:off x="4749480" y="4859280"/>
                <a:ext cx="114120" cy="2041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3574440" y="2184120"/>
                <a:ext cx="1599840" cy="2881800"/>
                <a:chOff x="3574440" y="2184120"/>
                <a:chExt cx="1599840" cy="2881800"/>
              </a:xfrm>
            </p:grpSpPr>
            <p:sp>
              <p:nvSpPr>
                <p:cNvPr id="413" name=""/>
                <p:cNvSpPr/>
                <p:nvPr/>
              </p:nvSpPr>
              <p:spPr>
                <a:xfrm rot="496200">
                  <a:off x="3979440" y="2246400"/>
                  <a:ext cx="1033920" cy="2309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3574440" y="2375640"/>
                  <a:ext cx="914400" cy="2690280"/>
                  <a:chOff x="3574440" y="2375640"/>
                  <a:chExt cx="914400" cy="26902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496200">
                    <a:off x="3761280" y="2430360"/>
                    <a:ext cx="333360" cy="262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496200">
                    <a:off x="4064040" y="2402280"/>
                    <a:ext cx="399240" cy="38412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17" name=""/>
            <p:cNvGrpSpPr/>
            <p:nvPr/>
          </p:nvGrpSpPr>
          <p:grpSpPr>
            <a:xfrm>
              <a:off x="1899360" y="4989960"/>
              <a:ext cx="1614240" cy="2916360"/>
              <a:chOff x="1899360" y="4989960"/>
              <a:chExt cx="1614240" cy="2916360"/>
            </a:xfrm>
          </p:grpSpPr>
          <p:sp>
            <p:nvSpPr>
              <p:cNvPr id="418" name=""/>
              <p:cNvSpPr/>
              <p:nvPr/>
            </p:nvSpPr>
            <p:spPr>
              <a:xfrm rot="11237400">
                <a:off x="2069640" y="5077800"/>
                <a:ext cx="1184040" cy="27644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1237400">
                <a:off x="2199960" y="5006520"/>
                <a:ext cx="298800" cy="5371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1237400">
                <a:off x="2226240" y="5010480"/>
                <a:ext cx="114120" cy="2041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1959840" y="4992840"/>
                <a:ext cx="1553760" cy="2886120"/>
                <a:chOff x="1959840" y="4992840"/>
                <a:chExt cx="1553760" cy="2886120"/>
              </a:xfrm>
            </p:grpSpPr>
            <p:sp>
              <p:nvSpPr>
                <p:cNvPr id="422" name=""/>
                <p:cNvSpPr/>
                <p:nvPr/>
              </p:nvSpPr>
              <p:spPr>
                <a:xfrm rot="11237400">
                  <a:off x="2102040" y="5512680"/>
                  <a:ext cx="1033920" cy="2309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43840" y="4992840"/>
                  <a:ext cx="869760" cy="2693520"/>
                  <a:chOff x="2643840" y="4992840"/>
                  <a:chExt cx="869760" cy="26935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rot="11237400">
                    <a:off x="3015000" y="5003280"/>
                    <a:ext cx="333360" cy="262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11237400">
                    <a:off x="2666520" y="7278120"/>
                    <a:ext cx="39924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6" name=""/>
          <p:cNvSpPr/>
          <p:nvPr/>
        </p:nvSpPr>
        <p:spPr>
          <a:xfrm flipV="1">
            <a:off x="3544920" y="494172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260880" y="4006800"/>
            <a:ext cx="7272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50920" y="4797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 flipH="1" rot="20410800">
            <a:off x="1979280" y="3914280"/>
            <a:ext cx="408132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23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26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29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332000" y="4738680"/>
            <a:ext cx="2468520" cy="800280"/>
          </a:xfrm>
          <a:custGeom>
            <a:avLst/>
            <a:gdLst/>
            <a:ahLst/>
            <a:rect l="l" t="t" r="r" b="b"/>
            <a:pathLst>
              <a:path w="1555" h="504">
                <a:moveTo>
                  <a:pt x="0" y="445"/>
                </a:moveTo>
                <a:lnTo>
                  <a:pt x="1555" y="0"/>
                </a:lnTo>
                <a:lnTo>
                  <a:pt x="910" y="504"/>
                </a:lnTo>
                <a:lnTo>
                  <a:pt x="0" y="445"/>
                </a:lnTo>
                <a:close/>
              </a:path>
            </a:pathLst>
          </a:custGeom>
          <a:gradFill rotWithShape="0">
            <a:gsLst>
              <a:gs pos="0">
                <a:srgbClr val="fdaaa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32000" y="4610160"/>
            <a:ext cx="2454120" cy="834840"/>
          </a:xfrm>
          <a:custGeom>
            <a:avLst/>
            <a:gdLst/>
            <a:ahLst/>
            <a:rect l="l" t="t" r="r" b="b"/>
            <a:pathLst>
              <a:path w="1546" h="526">
                <a:moveTo>
                  <a:pt x="0" y="526"/>
                </a:moveTo>
                <a:lnTo>
                  <a:pt x="748" y="0"/>
                </a:lnTo>
                <a:lnTo>
                  <a:pt x="1546" y="72"/>
                </a:lnTo>
                <a:lnTo>
                  <a:pt x="0" y="52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00200" y="4610160"/>
            <a:ext cx="1309680" cy="933480"/>
          </a:xfrm>
          <a:custGeom>
            <a:avLst/>
            <a:gdLst/>
            <a:ahLst/>
            <a:rect l="l" t="t" r="r" b="b"/>
            <a:pathLst>
              <a:path w="825" h="588">
                <a:moveTo>
                  <a:pt x="0" y="0"/>
                </a:moveTo>
                <a:lnTo>
                  <a:pt x="825" y="72"/>
                </a:lnTo>
                <a:lnTo>
                  <a:pt x="171" y="588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8000" y="4133520"/>
            <a:ext cx="2666520" cy="25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94" y="1502"/>
                </a:moveTo>
                <a:arcTo wR="10800" hR="10800" stAng="-3565472" swAng="5346320"/>
                <a:lnTo>
                  <a:pt x="10800" y="10800"/>
                </a:lnTo>
                <a:close/>
              </a:path>
              <a:path fill="none" w="21600" h="21600">
                <a:moveTo>
                  <a:pt x="16294" y="1502"/>
                </a:moveTo>
                <a:arcTo wR="10800" hR="10800" stAng="-3565472" swAng="5346320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332000" y="3554280"/>
            <a:ext cx="2735280" cy="18734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32000" y="5427720"/>
            <a:ext cx="3887640" cy="30636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20320" y="3413880"/>
            <a:ext cx="2667240" cy="252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0" y="6794"/>
                </a:moveTo>
                <a:arcTo wR="10800" hR="10800" stAng="-1306290" swAng="3187986"/>
                <a:lnTo>
                  <a:pt x="10800" y="10800"/>
                </a:lnTo>
                <a:close/>
              </a:path>
              <a:path fill="none" w="21600" h="21600">
                <a:moveTo>
                  <a:pt x="20830" y="6794"/>
                </a:moveTo>
                <a:arcTo wR="10800" hR="10800" stAng="-1306290" swAng="3187986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201000">
            <a:off x="1357200" y="4163400"/>
            <a:ext cx="2666520" cy="2523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865" y="1864"/>
                </a:moveTo>
                <a:arcTo wR="10800" hR="10800" stAng="-3350089" swAng="3428746"/>
                <a:lnTo>
                  <a:pt x="10800" y="10800"/>
                </a:lnTo>
                <a:close/>
              </a:path>
              <a:path fill="none" w="21600" h="21600">
                <a:moveTo>
                  <a:pt x="16865" y="1864"/>
                </a:moveTo>
                <a:arcTo wR="10800" hR="10800" stAng="-3350089" swAng="3428746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463840" y="4583160"/>
            <a:ext cx="730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728800" y="550404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332000" y="4365720"/>
            <a:ext cx="3816360" cy="1062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06440" y="5384880"/>
            <a:ext cx="7308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70280" y="4697280"/>
            <a:ext cx="7164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-78480" y="328680"/>
            <a:ext cx="6728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Докажем, что луч АВ – биссектриса      А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 Л А 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ое построение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кажем равенство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угольников ∆ АСВ и ∆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045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045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045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651640" y="333360"/>
                <a:ext cx="360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685800" y="5226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5800" y="4146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68360" y="3930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01800" y="5586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  <a:ea typeface="Arial"/>
              </a:rPr>
              <a:t>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0200" y="2241720"/>
            <a:ext cx="61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5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АС=А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, как радиусы одной окружности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045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СВ=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DB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, как радиусы одной окружности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045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АВ – общая сторона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56000" y="306864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∆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АСВ = ∆ А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В, по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III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признаку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равенства треугольников                                  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5219640" y="4365720"/>
                <a:ext cx="3637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А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D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5292720" y="544500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Луч АВ – биссектриса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79640" y="4869000"/>
            <a:ext cx="117360" cy="155520"/>
          </a:xfrm>
          <a:custGeom>
            <a:avLst/>
            <a:gdLst/>
            <a:ahLst/>
            <a:rect l="l" t="t" r="r" b="b"/>
            <a:pathLst>
              <a:path w="74" h="98">
                <a:moveTo>
                  <a:pt x="0" y="0"/>
                </a:moveTo>
                <a:lnTo>
                  <a:pt x="74" y="98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59280" y="4508640"/>
            <a:ext cx="52200" cy="231480"/>
          </a:xfrm>
          <a:custGeom>
            <a:avLst/>
            <a:gdLst/>
            <a:ahLst/>
            <a:rect l="l" t="t" r="r" b="b"/>
            <a:pathLst>
              <a:path w="33" h="146">
                <a:moveTo>
                  <a:pt x="33" y="0"/>
                </a:moveTo>
                <a:lnTo>
                  <a:pt x="0" y="146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24000" y="5373720"/>
            <a:ext cx="47880" cy="218880"/>
          </a:xfrm>
          <a:custGeom>
            <a:avLst/>
            <a:gdLst/>
            <a:ahLst/>
            <a:rect l="l" t="t" r="r" b="b"/>
            <a:pathLst>
              <a:path w="30" h="138">
                <a:moveTo>
                  <a:pt x="30" y="0"/>
                </a:moveTo>
                <a:lnTo>
                  <a:pt x="0" y="138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3640" y="5084640"/>
            <a:ext cx="122040" cy="176400"/>
          </a:xfrm>
          <a:custGeom>
            <a:avLst/>
            <a:gdLst/>
            <a:ahLst/>
            <a:rect l="l" t="t" r="r" b="b"/>
            <a:pathLst>
              <a:path w="77" h="111">
                <a:moveTo>
                  <a:pt x="0" y="0"/>
                </a:moveTo>
                <a:lnTo>
                  <a:pt x="77" y="11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06600" y="4959360"/>
            <a:ext cx="336600" cy="254160"/>
          </a:xfrm>
          <a:custGeom>
            <a:avLst/>
            <a:gdLst/>
            <a:ahLst/>
            <a:rect l="l" t="t" r="r" b="b"/>
            <a:pathLst>
              <a:path w="212" h="160">
                <a:moveTo>
                  <a:pt x="0" y="160"/>
                </a:moveTo>
                <a:cubicBezTo>
                  <a:pt x="8" y="143"/>
                  <a:pt x="18" y="65"/>
                  <a:pt x="48" y="56"/>
                </a:cubicBezTo>
                <a:cubicBezTo>
                  <a:pt x="78" y="47"/>
                  <a:pt x="153" y="113"/>
                  <a:pt x="180" y="104"/>
                </a:cubicBezTo>
                <a:cubicBezTo>
                  <a:pt x="207" y="95"/>
                  <a:pt x="205" y="22"/>
                  <a:pt x="212" y="0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724040" y="5157720"/>
            <a:ext cx="183960" cy="314280"/>
            <a:chOff x="1724040" y="5157720"/>
            <a:chExt cx="183960" cy="314280"/>
          </a:xfrm>
        </p:grpSpPr>
        <p:sp>
          <p:nvSpPr>
            <p:cNvPr id="459" name=""/>
            <p:cNvSpPr/>
            <p:nvPr/>
          </p:nvSpPr>
          <p:spPr>
            <a:xfrm>
              <a:off x="1724040" y="515772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0" y="0"/>
                  </a:moveTo>
                  <a:cubicBezTo>
                    <a:pt x="10" y="4"/>
                    <a:pt x="43" y="8"/>
                    <a:pt x="58" y="23"/>
                  </a:cubicBezTo>
                  <a:cubicBezTo>
                    <a:pt x="73" y="38"/>
                    <a:pt x="83" y="76"/>
                    <a:pt x="90" y="9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57240" y="5270400"/>
              <a:ext cx="50760" cy="201600"/>
            </a:xfrm>
            <a:custGeom>
              <a:avLst/>
              <a:gdLst/>
              <a:ahLst/>
              <a:rect l="l" t="t" r="r" b="b"/>
              <a:pathLst>
                <a:path w="32" h="127">
                  <a:moveTo>
                    <a:pt x="0" y="0"/>
                  </a:moveTo>
                  <a:cubicBezTo>
                    <a:pt x="5" y="11"/>
                    <a:pt x="28" y="47"/>
                    <a:pt x="30" y="68"/>
                  </a:cubicBezTo>
                  <a:cubicBezTo>
                    <a:pt x="32" y="89"/>
                    <a:pt x="15" y="115"/>
                    <a:pt x="11" y="1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3087360" y="656640"/>
            <a:ext cx="2851560" cy="3070080"/>
            <a:chOff x="3087360" y="656640"/>
            <a:chExt cx="2851560" cy="3070080"/>
          </a:xfrm>
        </p:grpSpPr>
        <p:sp>
          <p:nvSpPr>
            <p:cNvPr id="462" name=""/>
            <p:cNvSpPr/>
            <p:nvPr/>
          </p:nvSpPr>
          <p:spPr>
            <a:xfrm rot="21001200">
              <a:off x="4389120" y="744480"/>
              <a:ext cx="127008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087360" y="683640"/>
              <a:ext cx="2851560" cy="2999160"/>
              <a:chOff x="3087360" y="683640"/>
              <a:chExt cx="2851560" cy="299916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5533200" y="2985840"/>
                <a:ext cx="405720" cy="544680"/>
                <a:chOff x="5533200" y="2985840"/>
                <a:chExt cx="405720" cy="5446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533200" y="2985840"/>
                  <a:ext cx="405720" cy="53820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751720" y="3282840"/>
                  <a:ext cx="18540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3087360" y="683640"/>
                <a:ext cx="2667960" cy="2999160"/>
                <a:chOff x="3087360" y="683640"/>
                <a:chExt cx="2667960" cy="2999160"/>
              </a:xfrm>
            </p:grpSpPr>
            <p:sp>
              <p:nvSpPr>
                <p:cNvPr id="468" name=""/>
                <p:cNvSpPr/>
                <p:nvPr/>
              </p:nvSpPr>
              <p:spPr>
                <a:xfrm rot="21001200">
                  <a:off x="4443480" y="761400"/>
                  <a:ext cx="111060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3087360" y="1023480"/>
                  <a:ext cx="1699920" cy="2659320"/>
                  <a:chOff x="3087360" y="1023480"/>
                  <a:chExt cx="1699920" cy="265932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453200">
                    <a:off x="3634920" y="982080"/>
                    <a:ext cx="357840" cy="27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453200">
                    <a:off x="4294440" y="1093680"/>
                    <a:ext cx="42912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72" name=""/>
          <p:cNvGrpSpPr/>
          <p:nvPr/>
        </p:nvGrpSpPr>
        <p:grpSpPr>
          <a:xfrm>
            <a:off x="4428720" y="404640"/>
            <a:ext cx="418320" cy="5571360"/>
            <a:chOff x="4428720" y="404640"/>
            <a:chExt cx="418320" cy="5571360"/>
          </a:xfrm>
        </p:grpSpPr>
        <p:sp>
          <p:nvSpPr>
            <p:cNvPr id="473" name=""/>
            <p:cNvSpPr/>
            <p:nvPr/>
          </p:nvSpPr>
          <p:spPr>
            <a:xfrm>
              <a:off x="4428720" y="5516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73720" y="404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 rot="20740200">
            <a:off x="550800" y="620640"/>
            <a:ext cx="5374800" cy="568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61" y="1010"/>
                </a:moveTo>
                <a:arcTo wR="10800" hR="10800" stAng="-3901205" swAng="9375808"/>
                <a:lnTo>
                  <a:pt x="10800" y="10800"/>
                </a:lnTo>
                <a:close/>
              </a:path>
              <a:path fill="none" w="21600" h="21600">
                <a:moveTo>
                  <a:pt x="15361" y="1010"/>
                </a:moveTo>
                <a:arcTo wR="10800" hR="10800" stAng="-3901205" swAng="9375808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rot="859800">
            <a:off x="3145680" y="550440"/>
            <a:ext cx="5616360" cy="582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85" y="1118"/>
                </a:moveTo>
                <a:arcTo wR="10800" hR="10800" stAng="-3821935" swAng="8906219"/>
                <a:lnTo>
                  <a:pt x="10800" y="10800"/>
                </a:lnTo>
                <a:close/>
              </a:path>
              <a:path fill="none" w="21600" h="21600">
                <a:moveTo>
                  <a:pt x="15585" y="1118"/>
                </a:moveTo>
                <a:arcTo wR="10800" hR="10800" stAng="-3821935" swAng="8906219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00720" y="5950080"/>
            <a:ext cx="698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91000" y="96192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3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57440" y="364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33440" y="3517920"/>
            <a:ext cx="6400800" cy="1440"/>
          </a:xfrm>
          <a:custGeom>
            <a:avLst/>
            <a:gdLst/>
            <a:ahLst/>
            <a:rect l="l" t="t" r="r" b="b"/>
            <a:pathLst>
              <a:path w="4032" h="1">
                <a:moveTo>
                  <a:pt x="0" y="0"/>
                </a:moveTo>
                <a:lnTo>
                  <a:pt x="4032" y="0"/>
                </a:lnTo>
              </a:path>
            </a:pathLst>
          </a:custGeom>
          <a:noFill/>
          <a:ln w="381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068720" y="3429000"/>
            <a:ext cx="503280" cy="581400"/>
            <a:chOff x="4068720" y="3429000"/>
            <a:chExt cx="503280" cy="581400"/>
          </a:xfrm>
        </p:grpSpPr>
        <p:sp>
          <p:nvSpPr>
            <p:cNvPr id="483" name=""/>
            <p:cNvSpPr/>
            <p:nvPr/>
          </p:nvSpPr>
          <p:spPr>
            <a:xfrm>
              <a:off x="4068720" y="342900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02160" y="3500280"/>
              <a:ext cx="69840" cy="71640"/>
            </a:xfrm>
            <a:prstGeom prst="ellipse">
              <a:avLst/>
            </a:prstGeom>
            <a:solidFill>
              <a:srgbClr val="0000cc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-129600" y="634680"/>
            <a:ext cx="6492240" cy="5661000"/>
            <a:chOff x="-129600" y="634680"/>
            <a:chExt cx="6492240" cy="5661000"/>
          </a:xfrm>
        </p:grpSpPr>
        <p:sp>
          <p:nvSpPr>
            <p:cNvPr id="486" name=""/>
            <p:cNvSpPr/>
            <p:nvPr/>
          </p:nvSpPr>
          <p:spPr>
            <a:xfrm flipH="1" flipV="1" rot="4206600">
              <a:off x="811800" y="319680"/>
              <a:ext cx="127008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-91440" y="634680"/>
              <a:ext cx="3284280" cy="2806920"/>
              <a:chOff x="-91440" y="634680"/>
              <a:chExt cx="3284280" cy="280692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2072160" y="634680"/>
                <a:ext cx="599760" cy="492120"/>
                <a:chOff x="2072160" y="634680"/>
                <a:chExt cx="599760" cy="492120"/>
              </a:xfrm>
            </p:grpSpPr>
            <p:sp>
              <p:nvSpPr>
                <p:cNvPr id="489" name=""/>
                <p:cNvSpPr/>
                <p:nvPr/>
              </p:nvSpPr>
              <p:spPr>
                <a:xfrm flipH="1" flipV="1" rot="4804800">
                  <a:off x="2169000" y="611280"/>
                  <a:ext cx="405720" cy="53784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 flipV="1" rot="4804800">
                  <a:off x="2409840" y="623880"/>
                  <a:ext cx="18540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-91440" y="894600"/>
                <a:ext cx="3284280" cy="2547000"/>
                <a:chOff x="-91440" y="894600"/>
                <a:chExt cx="3284280" cy="2547000"/>
              </a:xfrm>
            </p:grpSpPr>
            <p:sp>
              <p:nvSpPr>
                <p:cNvPr id="492" name=""/>
                <p:cNvSpPr/>
                <p:nvPr/>
              </p:nvSpPr>
              <p:spPr>
                <a:xfrm flipH="1" flipV="1" rot="4206000">
                  <a:off x="678960" y="618480"/>
                  <a:ext cx="110988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404640" y="2169000"/>
                  <a:ext cx="2788200" cy="1272600"/>
                  <a:chOff x="404640" y="2169000"/>
                  <a:chExt cx="2788200" cy="12726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flipV="1" rot="6258000">
                    <a:off x="1638000" y="1554480"/>
                    <a:ext cx="357840" cy="27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flipV="1" rot="6258000">
                    <a:off x="437760" y="222516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96" name=""/>
            <p:cNvGrpSpPr/>
            <p:nvPr/>
          </p:nvGrpSpPr>
          <p:grpSpPr>
            <a:xfrm>
              <a:off x="3039840" y="3489120"/>
              <a:ext cx="3322800" cy="2806560"/>
              <a:chOff x="3039840" y="3489120"/>
              <a:chExt cx="3322800" cy="2806560"/>
            </a:xfrm>
          </p:grpSpPr>
          <p:sp>
            <p:nvSpPr>
              <p:cNvPr id="497" name=""/>
              <p:cNvSpPr/>
              <p:nvPr/>
            </p:nvSpPr>
            <p:spPr>
              <a:xfrm rot="4206000">
                <a:off x="4151160" y="3718800"/>
                <a:ext cx="1269360" cy="28940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3039840" y="3489120"/>
                <a:ext cx="3284640" cy="2806560"/>
                <a:chOff x="3039840" y="3489120"/>
                <a:chExt cx="3284640" cy="280656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3561120" y="5803560"/>
                  <a:ext cx="599760" cy="492120"/>
                  <a:chOff x="3561120" y="5803560"/>
                  <a:chExt cx="599760" cy="4921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804800">
                    <a:off x="3657960" y="5780520"/>
                    <a:ext cx="405720" cy="53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804800">
                    <a:off x="3637080" y="6058800"/>
                    <a:ext cx="1854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3039840" y="3489120"/>
                  <a:ext cx="3284640" cy="2547000"/>
                  <a:chOff x="3039840" y="3489120"/>
                  <a:chExt cx="3284640" cy="254700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4206000">
                    <a:off x="4444200" y="3893760"/>
                    <a:ext cx="1109520" cy="241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3039840" y="3489120"/>
                    <a:ext cx="2788200" cy="1272600"/>
                    <a:chOff x="3039840" y="3489120"/>
                    <a:chExt cx="2788200" cy="127260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rot="6258000">
                      <a:off x="4236120" y="2628720"/>
                      <a:ext cx="357840" cy="27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rot="6258000">
                      <a:off x="5365800" y="4303080"/>
                      <a:ext cx="428760" cy="40212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507" name=""/>
          <p:cNvGrpSpPr/>
          <p:nvPr/>
        </p:nvGrpSpPr>
        <p:grpSpPr>
          <a:xfrm>
            <a:off x="2673360" y="707760"/>
            <a:ext cx="6492240" cy="5661000"/>
            <a:chOff x="2673360" y="707760"/>
            <a:chExt cx="6492240" cy="5661000"/>
          </a:xfrm>
        </p:grpSpPr>
        <p:sp>
          <p:nvSpPr>
            <p:cNvPr id="508" name=""/>
            <p:cNvSpPr/>
            <p:nvPr/>
          </p:nvSpPr>
          <p:spPr>
            <a:xfrm flipV="1" rot="17393400">
              <a:off x="6953400" y="392760"/>
              <a:ext cx="127008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5843160" y="707760"/>
              <a:ext cx="3284280" cy="2806920"/>
              <a:chOff x="5843160" y="707760"/>
              <a:chExt cx="3284280" cy="280692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6364080" y="707760"/>
                <a:ext cx="599760" cy="492120"/>
                <a:chOff x="6364080" y="707760"/>
                <a:chExt cx="599760" cy="492120"/>
              </a:xfrm>
            </p:grpSpPr>
            <p:sp>
              <p:nvSpPr>
                <p:cNvPr id="511" name=""/>
                <p:cNvSpPr/>
                <p:nvPr/>
              </p:nvSpPr>
              <p:spPr>
                <a:xfrm flipV="1" rot="16795200">
                  <a:off x="6460920" y="684360"/>
                  <a:ext cx="405720" cy="53784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 rot="16795200">
                  <a:off x="6440400" y="696960"/>
                  <a:ext cx="18540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5843160" y="967680"/>
                <a:ext cx="3284280" cy="2547000"/>
                <a:chOff x="5843160" y="967680"/>
                <a:chExt cx="3284280" cy="2547000"/>
              </a:xfrm>
            </p:grpSpPr>
            <p:sp>
              <p:nvSpPr>
                <p:cNvPr id="514" name=""/>
                <p:cNvSpPr/>
                <p:nvPr/>
              </p:nvSpPr>
              <p:spPr>
                <a:xfrm flipV="1" rot="17394000">
                  <a:off x="7246800" y="691560"/>
                  <a:ext cx="110988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5" name=""/>
                <p:cNvGrpSpPr/>
                <p:nvPr/>
              </p:nvGrpSpPr>
              <p:grpSpPr>
                <a:xfrm>
                  <a:off x="5843160" y="2242080"/>
                  <a:ext cx="2788200" cy="1272600"/>
                  <a:chOff x="5843160" y="2242080"/>
                  <a:chExt cx="2788200" cy="127260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flipV="1" rot="15342000">
                    <a:off x="7039440" y="1627560"/>
                    <a:ext cx="357840" cy="27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V="1" rot="15342000">
                    <a:off x="8169120" y="229824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18" name=""/>
            <p:cNvGrpSpPr/>
            <p:nvPr/>
          </p:nvGrpSpPr>
          <p:grpSpPr>
            <a:xfrm>
              <a:off x="2673360" y="3562200"/>
              <a:ext cx="3322800" cy="2806560"/>
              <a:chOff x="2673360" y="3562200"/>
              <a:chExt cx="3322800" cy="2806560"/>
            </a:xfrm>
          </p:grpSpPr>
          <p:sp>
            <p:nvSpPr>
              <p:cNvPr id="519" name=""/>
              <p:cNvSpPr/>
              <p:nvPr/>
            </p:nvSpPr>
            <p:spPr>
              <a:xfrm flipH="1" rot="17394000">
                <a:off x="3614760" y="3791880"/>
                <a:ext cx="1269360" cy="28940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2711520" y="3562200"/>
                <a:ext cx="3284640" cy="2806560"/>
                <a:chOff x="2711520" y="3562200"/>
                <a:chExt cx="3284640" cy="2806560"/>
              </a:xfrm>
            </p:grpSpPr>
            <p:grpSp>
              <p:nvGrpSpPr>
                <p:cNvPr id="521" name=""/>
                <p:cNvGrpSpPr/>
                <p:nvPr/>
              </p:nvGrpSpPr>
              <p:grpSpPr>
                <a:xfrm>
                  <a:off x="4875120" y="5876640"/>
                  <a:ext cx="599760" cy="492120"/>
                  <a:chOff x="4875120" y="5876640"/>
                  <a:chExt cx="599760" cy="49212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flipH="1" rot="16795200">
                    <a:off x="4971960" y="5853600"/>
                    <a:ext cx="405720" cy="53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 rot="16795200">
                    <a:off x="5213160" y="6131880"/>
                    <a:ext cx="1854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2711520" y="3562200"/>
                  <a:ext cx="3284640" cy="2547000"/>
                  <a:chOff x="2711520" y="3562200"/>
                  <a:chExt cx="3284640" cy="25470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H="1" rot="17394000">
                    <a:off x="3482280" y="3966840"/>
                    <a:ext cx="1109520" cy="241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3207960" y="3562200"/>
                    <a:ext cx="2788200" cy="1272600"/>
                    <a:chOff x="3207960" y="3562200"/>
                    <a:chExt cx="2788200" cy="127260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flipH="1" rot="15342000">
                      <a:off x="4441320" y="2701800"/>
                      <a:ext cx="357840" cy="27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H="1" rot="15342000">
                      <a:off x="3241080" y="4376160"/>
                      <a:ext cx="428760" cy="40212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529" name=""/>
          <p:cNvSpPr/>
          <p:nvPr/>
        </p:nvSpPr>
        <p:spPr>
          <a:xfrm>
            <a:off x="4533840" y="660240"/>
            <a:ext cx="12600" cy="5473800"/>
          </a:xfrm>
          <a:custGeom>
            <a:avLst/>
            <a:gdLst/>
            <a:ahLst/>
            <a:rect l="l" t="t" r="r" b="b"/>
            <a:pathLst>
              <a:path w="8" h="3448">
                <a:moveTo>
                  <a:pt x="0" y="0"/>
                </a:moveTo>
                <a:lnTo>
                  <a:pt x="8" y="34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735800">
            <a:off x="3304800" y="2274840"/>
            <a:ext cx="2665080" cy="252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59" y="2990"/>
                </a:moveTo>
                <a:arcTo wR="10800" hR="10800" stAng="-2779008" swAng="2113498"/>
                <a:lnTo>
                  <a:pt x="10800" y="10800"/>
                </a:lnTo>
                <a:close/>
              </a:path>
              <a:path fill="none" w="21600" h="21600">
                <a:moveTo>
                  <a:pt x="18259" y="2990"/>
                </a:moveTo>
                <a:arcTo wR="10800" hR="10800" stAng="-2779008" swAng="2113498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890000" y="601200"/>
            <a:ext cx="5240880" cy="5870880"/>
            <a:chOff x="1890000" y="601200"/>
            <a:chExt cx="5240880" cy="5870880"/>
          </a:xfrm>
        </p:grpSpPr>
        <p:grpSp>
          <p:nvGrpSpPr>
            <p:cNvPr id="532" name=""/>
            <p:cNvGrpSpPr/>
            <p:nvPr/>
          </p:nvGrpSpPr>
          <p:grpSpPr>
            <a:xfrm>
              <a:off x="4537080" y="601200"/>
              <a:ext cx="2593800" cy="3387960"/>
              <a:chOff x="4537080" y="601200"/>
              <a:chExt cx="2593800" cy="3387960"/>
            </a:xfrm>
          </p:grpSpPr>
          <p:sp>
            <p:nvSpPr>
              <p:cNvPr id="533" name=""/>
              <p:cNvSpPr/>
              <p:nvPr/>
            </p:nvSpPr>
            <p:spPr>
              <a:xfrm rot="1447800">
                <a:off x="5248440" y="732960"/>
                <a:ext cx="1306440" cy="30938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447800">
                <a:off x="5681160" y="3346560"/>
                <a:ext cx="329760" cy="6012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447800">
                <a:off x="5799960" y="3727440"/>
                <a:ext cx="126000" cy="22860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4537080" y="657720"/>
                <a:ext cx="2526480" cy="3025800"/>
                <a:chOff x="4537080" y="657720"/>
                <a:chExt cx="2526480" cy="3025800"/>
              </a:xfrm>
            </p:grpSpPr>
            <p:sp>
              <p:nvSpPr>
                <p:cNvPr id="537" name=""/>
                <p:cNvSpPr/>
                <p:nvPr/>
              </p:nvSpPr>
              <p:spPr>
                <a:xfrm rot="1447800">
                  <a:off x="5443560" y="777960"/>
                  <a:ext cx="1141200" cy="25848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4537080" y="846720"/>
                  <a:ext cx="1767960" cy="2836800"/>
                  <a:chOff x="4537080" y="846720"/>
                  <a:chExt cx="1767960" cy="283680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447800">
                    <a:off x="5121360" y="799200"/>
                    <a:ext cx="367920" cy="293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447800">
                    <a:off x="5795640" y="918000"/>
                    <a:ext cx="440640" cy="42984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41" name=""/>
            <p:cNvGrpSpPr/>
            <p:nvPr/>
          </p:nvGrpSpPr>
          <p:grpSpPr>
            <a:xfrm>
              <a:off x="1890000" y="3083760"/>
              <a:ext cx="2552760" cy="3388320"/>
              <a:chOff x="1890000" y="3083760"/>
              <a:chExt cx="2552760" cy="3388320"/>
            </a:xfrm>
          </p:grpSpPr>
          <p:sp>
            <p:nvSpPr>
              <p:cNvPr id="542" name=""/>
              <p:cNvSpPr/>
              <p:nvPr/>
            </p:nvSpPr>
            <p:spPr>
              <a:xfrm rot="12189600">
                <a:off x="2445840" y="3245760"/>
                <a:ext cx="1306440" cy="30938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2189600">
                <a:off x="2967120" y="3124440"/>
                <a:ext cx="329760" cy="6012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2189600">
                <a:off x="3048480" y="3115440"/>
                <a:ext cx="126000" cy="22860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1957680" y="3372120"/>
                <a:ext cx="2485080" cy="3044880"/>
                <a:chOff x="1957680" y="3372120"/>
                <a:chExt cx="2485080" cy="3044880"/>
              </a:xfrm>
            </p:grpSpPr>
            <p:sp>
              <p:nvSpPr>
                <p:cNvPr id="546" name=""/>
                <p:cNvSpPr/>
                <p:nvPr/>
              </p:nvSpPr>
              <p:spPr>
                <a:xfrm rot="12189600">
                  <a:off x="2419920" y="3711600"/>
                  <a:ext cx="1141200" cy="25848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7" name=""/>
                <p:cNvGrpSpPr/>
                <p:nvPr/>
              </p:nvGrpSpPr>
              <p:grpSpPr>
                <a:xfrm>
                  <a:off x="2718000" y="3372120"/>
                  <a:ext cx="1724760" cy="2854080"/>
                  <a:chOff x="2718000" y="3372120"/>
                  <a:chExt cx="1724760" cy="28540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rot="12189600">
                    <a:off x="3511800" y="3325680"/>
                    <a:ext cx="367920" cy="293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2189600">
                    <a:off x="2784600" y="5726880"/>
                    <a:ext cx="440640" cy="4298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50" name=""/>
          <p:cNvSpPr/>
          <p:nvPr/>
        </p:nvSpPr>
        <p:spPr>
          <a:xfrm flipH="1" rot="19864200">
            <a:off x="3106080" y="2245680"/>
            <a:ext cx="2667600" cy="252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02" y="3229"/>
                </a:moveTo>
                <a:arcTo wR="10800" hR="10800" stAng="-2670316" swAng="2185939"/>
                <a:lnTo>
                  <a:pt x="10800" y="10800"/>
                </a:lnTo>
                <a:close/>
              </a:path>
              <a:path fill="none" w="21600" h="21600">
                <a:moveTo>
                  <a:pt x="18502" y="3229"/>
                </a:moveTo>
                <a:arcTo wR="10800" hR="10800" stAng="-2670316" swAng="2185939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59560" y="609840"/>
            <a:ext cx="5017680" cy="5927400"/>
            <a:chOff x="2059560" y="609840"/>
            <a:chExt cx="5017680" cy="5927400"/>
          </a:xfrm>
        </p:grpSpPr>
        <p:grpSp>
          <p:nvGrpSpPr>
            <p:cNvPr id="552" name=""/>
            <p:cNvGrpSpPr/>
            <p:nvPr/>
          </p:nvGrpSpPr>
          <p:grpSpPr>
            <a:xfrm>
              <a:off x="2059560" y="609840"/>
              <a:ext cx="2457720" cy="3366000"/>
              <a:chOff x="2059560" y="609840"/>
              <a:chExt cx="2457720" cy="3366000"/>
            </a:xfrm>
          </p:grpSpPr>
          <p:sp>
            <p:nvSpPr>
              <p:cNvPr id="553" name=""/>
              <p:cNvSpPr/>
              <p:nvPr/>
            </p:nvSpPr>
            <p:spPr>
              <a:xfrm flipH="1" rot="20280000">
                <a:off x="2592000" y="733680"/>
                <a:ext cx="1262160" cy="308736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20280000">
                <a:off x="3082320" y="3337560"/>
                <a:ext cx="318240" cy="6001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134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rot="20280000">
                <a:off x="3159720" y="3716280"/>
                <a:ext cx="121680" cy="22788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2125080" y="661680"/>
                <a:ext cx="2392200" cy="3057480"/>
                <a:chOff x="2125080" y="661680"/>
                <a:chExt cx="2392200" cy="30574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20280000">
                  <a:off x="2568240" y="774000"/>
                  <a:ext cx="1101960" cy="2579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8" name=""/>
                <p:cNvGrpSpPr/>
                <p:nvPr/>
              </p:nvGrpSpPr>
              <p:grpSpPr>
                <a:xfrm>
                  <a:off x="2863440" y="854640"/>
                  <a:ext cx="1653840" cy="2864520"/>
                  <a:chOff x="2863440" y="854640"/>
                  <a:chExt cx="1653840" cy="286452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20280000">
                    <a:off x="3624840" y="827640"/>
                    <a:ext cx="354960" cy="29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20280000">
                    <a:off x="2928240" y="918360"/>
                    <a:ext cx="425160" cy="42912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61" name=""/>
            <p:cNvGrpSpPr/>
            <p:nvPr/>
          </p:nvGrpSpPr>
          <p:grpSpPr>
            <a:xfrm>
              <a:off x="4663440" y="3172320"/>
              <a:ext cx="2413800" cy="3364920"/>
              <a:chOff x="4663440" y="3172320"/>
              <a:chExt cx="2413800" cy="3364920"/>
            </a:xfrm>
          </p:grpSpPr>
          <p:sp>
            <p:nvSpPr>
              <p:cNvPr id="562" name=""/>
              <p:cNvSpPr/>
              <p:nvPr/>
            </p:nvSpPr>
            <p:spPr>
              <a:xfrm flipH="1" rot="9538200">
                <a:off x="5302800" y="3325680"/>
                <a:ext cx="1262160" cy="308772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rot="9538200">
                <a:off x="5778720" y="3209040"/>
                <a:ext cx="318240" cy="59976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rot="9538200">
                <a:off x="5901840" y="3202560"/>
                <a:ext cx="121320" cy="22788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4663440" y="3411720"/>
                <a:ext cx="2347920" cy="3075120"/>
                <a:chOff x="4663440" y="3411720"/>
                <a:chExt cx="2347920" cy="3075120"/>
              </a:xfrm>
            </p:grpSpPr>
            <p:sp>
              <p:nvSpPr>
                <p:cNvPr id="566" name=""/>
                <p:cNvSpPr/>
                <p:nvPr/>
              </p:nvSpPr>
              <p:spPr>
                <a:xfrm flipH="1" rot="9538200">
                  <a:off x="5483160" y="3795120"/>
                  <a:ext cx="1101960" cy="2579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7" name=""/>
                <p:cNvGrpSpPr/>
                <p:nvPr/>
              </p:nvGrpSpPr>
              <p:grpSpPr>
                <a:xfrm>
                  <a:off x="4663440" y="3411720"/>
                  <a:ext cx="1609200" cy="2880000"/>
                  <a:chOff x="4663440" y="3411720"/>
                  <a:chExt cx="1609200" cy="28800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flipH="1" rot="9538200">
                    <a:off x="5177880" y="3377160"/>
                    <a:ext cx="354960" cy="29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rot="9538200">
                    <a:off x="5784480" y="5800680"/>
                    <a:ext cx="425160" cy="42876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70" name=""/>
          <p:cNvSpPr/>
          <p:nvPr/>
        </p:nvSpPr>
        <p:spPr>
          <a:xfrm>
            <a:off x="3059280" y="3429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67280" y="3429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5748120" y="5589720"/>
            <a:ext cx="3243600" cy="459720"/>
            <a:chOff x="5748120" y="5589720"/>
            <a:chExt cx="3243600" cy="459720"/>
          </a:xfrm>
        </p:grpSpPr>
        <p:sp>
          <p:nvSpPr>
            <p:cNvPr id="573" name=""/>
            <p:cNvSpPr/>
            <p:nvPr/>
          </p:nvSpPr>
          <p:spPr>
            <a:xfrm>
              <a:off x="5748120" y="5589720"/>
              <a:ext cx="32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Докажем, что </a:t>
              </a:r>
              <a:r>
                <a:rPr b="0" i="1" lang="ru-RU" sz="2400" spc="-1" strike="noStrike">
                  <a:solidFill>
                    <a:srgbClr val="000066"/>
                  </a:solidFill>
                  <a:latin typeface="Tahoma"/>
                </a:rPr>
                <a:t>а    </a:t>
              </a: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РМ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4" name=""/>
                <p:cNvSpPr txBox="1"/>
                <p:nvPr/>
              </p:nvSpPr>
              <p:spPr>
                <a:xfrm>
                  <a:off x="8099280" y="5662440"/>
                  <a:ext cx="333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75" name=""/>
          <p:cNvGrpSpPr/>
          <p:nvPr/>
        </p:nvGrpSpPr>
        <p:grpSpPr>
          <a:xfrm>
            <a:off x="900360" y="1628640"/>
            <a:ext cx="1075320" cy="581400"/>
            <a:chOff x="900360" y="1628640"/>
            <a:chExt cx="1075320" cy="581400"/>
          </a:xfrm>
        </p:grpSpPr>
        <p:sp>
          <p:nvSpPr>
            <p:cNvPr id="576" name=""/>
            <p:cNvSpPr/>
            <p:nvPr/>
          </p:nvSpPr>
          <p:spPr>
            <a:xfrm>
              <a:off x="900360" y="162864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М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1332000" y="1771560"/>
                  <a:ext cx="35892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8" name=""/>
          <p:cNvSpPr/>
          <p:nvPr/>
        </p:nvSpPr>
        <p:spPr>
          <a:xfrm>
            <a:off x="109440" y="115920"/>
            <a:ext cx="32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строение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ерпендикулярных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ямых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40000">
                                      <p:cBhvr>
                                        <p:cTn id="49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55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0">
                                      <p:cBhvr>
                                        <p:cTn id="608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0">
                                      <p:cBhvr>
                                        <p:cTn id="622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-496440" y="4292640"/>
            <a:ext cx="104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окажем, что </a:t>
            </a:r>
            <a:r>
              <a:rPr b="0" i="1" lang="ru-RU" sz="2400" spc="-1" strike="noStrike">
                <a:solidFill>
                  <a:srgbClr val="000066"/>
                </a:solidFill>
                <a:latin typeface="Tahoma"/>
              </a:rPr>
              <a:t>а   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М=МВ, как радиусы одной окружности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Р=РВ, как радиусы одной окружности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РВ р/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3. РМ медиана в р/б треугольнике  является также ВЫСОТОЙ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Значит, </a:t>
            </a:r>
            <a:r>
              <a:rPr b="0" i="1" lang="ru-RU" sz="2400" spc="-1" strike="noStrike">
                <a:solidFill>
                  <a:srgbClr val="000066"/>
                </a:solidFill>
                <a:latin typeface="Tahoma"/>
              </a:rPr>
              <a:t>а   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М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32000" y="797040"/>
            <a:ext cx="2735280" cy="2520720"/>
          </a:xfrm>
          <a:custGeom>
            <a:avLst/>
            <a:gdLst/>
            <a:ahLst/>
            <a:rect l="l" t="t" r="r" b="b"/>
            <a:pathLst>
              <a:path w="1723" h="1588">
                <a:moveTo>
                  <a:pt x="0" y="1588"/>
                </a:moveTo>
                <a:lnTo>
                  <a:pt x="1723" y="1588"/>
                </a:lnTo>
                <a:lnTo>
                  <a:pt x="862" y="0"/>
                </a:lnTo>
                <a:lnTo>
                  <a:pt x="0" y="158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74840" y="798480"/>
            <a:ext cx="2718000" cy="2489400"/>
          </a:xfrm>
          <a:custGeom>
            <a:avLst/>
            <a:gdLst/>
            <a:ahLst/>
            <a:rect l="l" t="t" r="r" b="b"/>
            <a:pathLst>
              <a:path w="1712" h="1568">
                <a:moveTo>
                  <a:pt x="0" y="1552"/>
                </a:moveTo>
                <a:lnTo>
                  <a:pt x="848" y="0"/>
                </a:lnTo>
                <a:lnTo>
                  <a:pt x="1712" y="1568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735800">
            <a:off x="3243600" y="1974240"/>
            <a:ext cx="2665800" cy="252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59" y="2990"/>
                </a:moveTo>
                <a:arcTo wR="10800" hR="10800" stAng="-2779008" swAng="2113498"/>
                <a:lnTo>
                  <a:pt x="10800" y="10800"/>
                </a:lnTo>
                <a:close/>
              </a:path>
              <a:path fill="none" w="21600" h="21600">
                <a:moveTo>
                  <a:pt x="18259" y="2990"/>
                </a:moveTo>
                <a:arcTo wR="10800" hR="10800" stAng="-2779008" swAng="2113498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33840" y="-27000"/>
            <a:ext cx="1800" cy="6210360"/>
          </a:xfrm>
          <a:custGeom>
            <a:avLst/>
            <a:gdLst/>
            <a:ahLst/>
            <a:rect l="l" t="t" r="r" b="b"/>
            <a:pathLst>
              <a:path w="1" h="3912">
                <a:moveTo>
                  <a:pt x="0" y="0"/>
                </a:moveTo>
                <a:lnTo>
                  <a:pt x="0" y="39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4539600" y="330120"/>
            <a:ext cx="1433520" cy="3045600"/>
            <a:chOff x="4539600" y="330120"/>
            <a:chExt cx="1433520" cy="3045600"/>
          </a:xfrm>
        </p:grpSpPr>
        <p:sp>
          <p:nvSpPr>
            <p:cNvPr id="585" name=""/>
            <p:cNvSpPr/>
            <p:nvPr/>
          </p:nvSpPr>
          <p:spPr>
            <a:xfrm rot="78600">
              <a:off x="4654800" y="344160"/>
              <a:ext cx="1285200" cy="28936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8600">
              <a:off x="5606640" y="2709360"/>
              <a:ext cx="324360" cy="5623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4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8600">
              <a:off x="5796360" y="3045600"/>
              <a:ext cx="123840" cy="2134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539600" y="348480"/>
              <a:ext cx="1368360" cy="3027240"/>
              <a:chOff x="4539600" y="348480"/>
              <a:chExt cx="1368360" cy="3027240"/>
            </a:xfrm>
          </p:grpSpPr>
          <p:sp>
            <p:nvSpPr>
              <p:cNvPr id="589" name=""/>
              <p:cNvSpPr/>
              <p:nvPr/>
            </p:nvSpPr>
            <p:spPr>
              <a:xfrm rot="78600">
                <a:off x="4758120" y="360720"/>
                <a:ext cx="1122120" cy="24177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90" name=""/>
              <p:cNvGrpSpPr/>
              <p:nvPr/>
            </p:nvGrpSpPr>
            <p:grpSpPr>
              <a:xfrm>
                <a:off x="4539600" y="555480"/>
                <a:ext cx="643320" cy="2820240"/>
                <a:chOff x="4539600" y="555480"/>
                <a:chExt cx="643320" cy="2820240"/>
              </a:xfrm>
            </p:grpSpPr>
            <p:sp>
              <p:nvSpPr>
                <p:cNvPr id="591" name=""/>
                <p:cNvSpPr/>
                <p:nvPr/>
              </p:nvSpPr>
              <p:spPr>
                <a:xfrm rot="78600">
                  <a:off x="4570920" y="623880"/>
                  <a:ext cx="361800" cy="27478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78600">
                  <a:off x="4744800" y="560160"/>
                  <a:ext cx="433440" cy="4021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3" name=""/>
          <p:cNvSpPr/>
          <p:nvPr/>
        </p:nvSpPr>
        <p:spPr>
          <a:xfrm>
            <a:off x="2124000" y="3297240"/>
            <a:ext cx="5616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00720" y="327024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rot="19864200">
            <a:off x="3150720" y="1900800"/>
            <a:ext cx="2667240" cy="252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02" y="3229"/>
                </a:moveTo>
                <a:arcTo wR="10800" hR="10800" stAng="-2670316" swAng="2185939"/>
                <a:lnTo>
                  <a:pt x="10800" y="10800"/>
                </a:lnTo>
                <a:close/>
              </a:path>
              <a:path fill="none" w="21600" h="21600">
                <a:moveTo>
                  <a:pt x="18502" y="3229"/>
                </a:moveTo>
                <a:arcTo wR="10800" hR="10800" stAng="-2670316" swAng="2185939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159360" y="408960"/>
            <a:ext cx="2682360" cy="3053880"/>
            <a:chOff x="3159360" y="408960"/>
            <a:chExt cx="2682360" cy="3053880"/>
          </a:xfrm>
        </p:grpSpPr>
        <p:sp>
          <p:nvSpPr>
            <p:cNvPr id="597" name=""/>
            <p:cNvSpPr/>
            <p:nvPr/>
          </p:nvSpPr>
          <p:spPr>
            <a:xfrm rot="21001200">
              <a:off x="4406040" y="488880"/>
              <a:ext cx="117576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3159360" y="435240"/>
              <a:ext cx="2682360" cy="2986560"/>
              <a:chOff x="3159360" y="435240"/>
              <a:chExt cx="2682360" cy="298656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5465520" y="2730240"/>
                <a:ext cx="376200" cy="544680"/>
                <a:chOff x="5465520" y="2730240"/>
                <a:chExt cx="376200" cy="5446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5465520" y="2730240"/>
                  <a:ext cx="376200" cy="53820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667840" y="3027240"/>
                  <a:ext cx="17172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159360" y="435240"/>
                <a:ext cx="2527560" cy="2986560"/>
                <a:chOff x="3159360" y="435240"/>
                <a:chExt cx="2527560" cy="2986560"/>
              </a:xfrm>
            </p:grpSpPr>
            <p:sp>
              <p:nvSpPr>
                <p:cNvPr id="603" name=""/>
                <p:cNvSpPr/>
                <p:nvPr/>
              </p:nvSpPr>
              <p:spPr>
                <a:xfrm rot="21001200">
                  <a:off x="4456800" y="505800"/>
                  <a:ext cx="102816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3159360" y="774360"/>
                  <a:ext cx="1621440" cy="2647440"/>
                  <a:chOff x="3159360" y="774360"/>
                  <a:chExt cx="1621440" cy="264744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1453200">
                    <a:off x="3708000" y="726480"/>
                    <a:ext cx="331200" cy="27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1453200">
                    <a:off x="4318560" y="838080"/>
                    <a:ext cx="39708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07" name=""/>
          <p:cNvSpPr/>
          <p:nvPr/>
        </p:nvSpPr>
        <p:spPr>
          <a:xfrm rot="20740200">
            <a:off x="527760" y="452160"/>
            <a:ext cx="5374080" cy="532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61" y="1010"/>
                </a:moveTo>
                <a:arcTo wR="10800" hR="10800" stAng="-3901205" swAng="9125169"/>
                <a:lnTo>
                  <a:pt x="10800" y="10800"/>
                </a:lnTo>
                <a:close/>
              </a:path>
              <a:path fill="none" w="21600" h="21600">
                <a:moveTo>
                  <a:pt x="15361" y="1010"/>
                </a:moveTo>
                <a:arcTo wR="10800" hR="10800" stAng="-3901205" swAng="9125169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938880" y="198360"/>
            <a:ext cx="3077280" cy="3087000"/>
            <a:chOff x="938880" y="198360"/>
            <a:chExt cx="3077280" cy="3087000"/>
          </a:xfrm>
        </p:grpSpPr>
        <p:sp>
          <p:nvSpPr>
            <p:cNvPr id="609" name=""/>
            <p:cNvSpPr/>
            <p:nvPr/>
          </p:nvSpPr>
          <p:spPr>
            <a:xfrm rot="16681200">
              <a:off x="1825560" y="-417960"/>
              <a:ext cx="126900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968400" y="266400"/>
              <a:ext cx="3047760" cy="3018960"/>
              <a:chOff x="968400" y="266400"/>
              <a:chExt cx="3047760" cy="301896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3373560" y="404640"/>
                <a:ext cx="642600" cy="552240"/>
                <a:chOff x="3373560" y="404640"/>
                <a:chExt cx="642600" cy="552240"/>
              </a:xfrm>
            </p:grpSpPr>
            <p:sp>
              <p:nvSpPr>
                <p:cNvPr id="612" name=""/>
                <p:cNvSpPr/>
                <p:nvPr/>
              </p:nvSpPr>
              <p:spPr>
                <a:xfrm rot="17280000">
                  <a:off x="3489120" y="411480"/>
                  <a:ext cx="405720" cy="53820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rot="17280000">
                  <a:off x="3777120" y="500760"/>
                  <a:ext cx="18540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968400" y="266400"/>
                <a:ext cx="2548800" cy="3018960"/>
                <a:chOff x="968400" y="266400"/>
                <a:chExt cx="2548800" cy="3018960"/>
              </a:xfrm>
            </p:grpSpPr>
            <p:sp>
              <p:nvSpPr>
                <p:cNvPr id="615" name=""/>
                <p:cNvSpPr/>
                <p:nvPr/>
              </p:nvSpPr>
              <p:spPr>
                <a:xfrm rot="16681200">
                  <a:off x="1688040" y="-224280"/>
                  <a:ext cx="110952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6" name=""/>
                <p:cNvGrpSpPr/>
                <p:nvPr/>
              </p:nvGrpSpPr>
              <p:grpSpPr>
                <a:xfrm>
                  <a:off x="1106280" y="947160"/>
                  <a:ext cx="2275560" cy="2338200"/>
                  <a:chOff x="1106280" y="947160"/>
                  <a:chExt cx="2275560" cy="233820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 rot="18733800">
                    <a:off x="2064960" y="855720"/>
                    <a:ext cx="357840" cy="27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8733800">
                    <a:off x="1234080" y="1039680"/>
                    <a:ext cx="42876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19" name=""/>
          <p:cNvSpPr/>
          <p:nvPr/>
        </p:nvSpPr>
        <p:spPr>
          <a:xfrm flipH="1" rot="859800">
            <a:off x="3167640" y="424440"/>
            <a:ext cx="5616360" cy="541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01" y="343"/>
                </a:moveTo>
                <a:arcTo wR="10800" hR="10800" stAng="-4531049" swAng="9527136"/>
                <a:lnTo>
                  <a:pt x="10800" y="10800"/>
                </a:lnTo>
                <a:close/>
              </a:path>
              <a:path fill="none" w="21600" h="21600">
                <a:moveTo>
                  <a:pt x="13501" y="343"/>
                </a:moveTo>
                <a:arcTo wR="10800" hR="10800" stAng="-4531049" swAng="9527136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955040" y="210240"/>
            <a:ext cx="3076560" cy="3088080"/>
            <a:chOff x="4955040" y="210240"/>
            <a:chExt cx="3076560" cy="3088080"/>
          </a:xfrm>
        </p:grpSpPr>
        <p:sp>
          <p:nvSpPr>
            <p:cNvPr id="621" name=""/>
            <p:cNvSpPr/>
            <p:nvPr/>
          </p:nvSpPr>
          <p:spPr>
            <a:xfrm flipH="1" rot="4918800">
              <a:off x="5875560" y="-406080"/>
              <a:ext cx="1269360" cy="2894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4955040" y="278640"/>
              <a:ext cx="3047400" cy="3019680"/>
              <a:chOff x="4955040" y="278640"/>
              <a:chExt cx="3047400" cy="301968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4955040" y="416880"/>
                <a:ext cx="642600" cy="551880"/>
                <a:chOff x="4955040" y="416880"/>
                <a:chExt cx="642600" cy="551880"/>
              </a:xfrm>
            </p:grpSpPr>
            <p:sp>
              <p:nvSpPr>
                <p:cNvPr id="624" name=""/>
                <p:cNvSpPr/>
                <p:nvPr/>
              </p:nvSpPr>
              <p:spPr>
                <a:xfrm flipH="1" rot="4320000">
                  <a:off x="5076000" y="423720"/>
                  <a:ext cx="405720" cy="53820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 rot="4320000">
                  <a:off x="5008320" y="512640"/>
                  <a:ext cx="185400" cy="247680"/>
                </a:xfrm>
                <a:custGeom>
                  <a:avLst/>
                  <a:gdLst/>
                  <a:ahLst/>
                  <a:rect l="l" t="t" r="r" b="b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40458c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453640" y="278640"/>
                <a:ext cx="2548800" cy="3019680"/>
                <a:chOff x="5453640" y="278640"/>
                <a:chExt cx="2548800" cy="3019680"/>
              </a:xfrm>
            </p:grpSpPr>
            <p:sp>
              <p:nvSpPr>
                <p:cNvPr id="627" name=""/>
                <p:cNvSpPr/>
                <p:nvPr/>
              </p:nvSpPr>
              <p:spPr>
                <a:xfrm flipH="1" rot="4918800">
                  <a:off x="6172920" y="-211680"/>
                  <a:ext cx="1109880" cy="241776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8" name=""/>
                <p:cNvGrpSpPr/>
                <p:nvPr/>
              </p:nvGrpSpPr>
              <p:grpSpPr>
                <a:xfrm>
                  <a:off x="5589720" y="959760"/>
                  <a:ext cx="2275200" cy="2338560"/>
                  <a:chOff x="5589720" y="959760"/>
                  <a:chExt cx="2275200" cy="23385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2866200">
                    <a:off x="6548040" y="868320"/>
                    <a:ext cx="357840" cy="27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2866200">
                    <a:off x="7307280" y="1052280"/>
                    <a:ext cx="428760" cy="401760"/>
                  </a:xfrm>
                  <a:prstGeom prst="ellipse">
                    <a:avLst/>
                  </a:prstGeom>
                  <a:solidFill>
                    <a:srgbClr val="b7c1eb"/>
                  </a:solidFill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31" name=""/>
          <p:cNvSpPr/>
          <p:nvPr/>
        </p:nvSpPr>
        <p:spPr>
          <a:xfrm>
            <a:off x="5867280" y="32446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32000" y="324468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00720" y="74772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500720" y="53881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8640" y="3071880"/>
            <a:ext cx="169560" cy="217440"/>
          </a:xfrm>
          <a:custGeom>
            <a:avLst/>
            <a:gdLst/>
            <a:ahLst/>
            <a:rect l="l" t="t" r="r" b="b"/>
            <a:pathLst>
              <a:path w="107" h="137">
                <a:moveTo>
                  <a:pt x="107" y="137"/>
                </a:moveTo>
                <a:lnTo>
                  <a:pt x="104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97440" y="31701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468720" y="333360"/>
            <a:ext cx="1075320" cy="581400"/>
            <a:chOff x="468720" y="333360"/>
            <a:chExt cx="1075320" cy="581400"/>
          </a:xfrm>
        </p:grpSpPr>
        <p:sp>
          <p:nvSpPr>
            <p:cNvPr id="638" name=""/>
            <p:cNvSpPr/>
            <p:nvPr/>
          </p:nvSpPr>
          <p:spPr>
            <a:xfrm>
              <a:off x="468720" y="33336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М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900000" y="476280"/>
                  <a:ext cx="3589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"/>
          <p:cNvSpPr/>
          <p:nvPr/>
        </p:nvSpPr>
        <p:spPr>
          <a:xfrm>
            <a:off x="7309800" y="2813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3099600" y="206280"/>
            <a:ext cx="1433160" cy="3045600"/>
            <a:chOff x="3099600" y="206280"/>
            <a:chExt cx="1433160" cy="3045600"/>
          </a:xfrm>
        </p:grpSpPr>
        <p:sp>
          <p:nvSpPr>
            <p:cNvPr id="642" name=""/>
            <p:cNvSpPr/>
            <p:nvPr/>
          </p:nvSpPr>
          <p:spPr>
            <a:xfrm flipH="1" rot="21521400">
              <a:off x="3132360" y="220680"/>
              <a:ext cx="1285200" cy="28936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rot="21521400">
              <a:off x="3141000" y="2585520"/>
              <a:ext cx="324360" cy="5619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4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21521400">
              <a:off x="3152520" y="2921760"/>
              <a:ext cx="123840" cy="2134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3164400" y="224640"/>
              <a:ext cx="1368360" cy="3027240"/>
              <a:chOff x="3164400" y="224640"/>
              <a:chExt cx="1368360" cy="3027240"/>
            </a:xfrm>
          </p:grpSpPr>
          <p:sp>
            <p:nvSpPr>
              <p:cNvPr id="646" name=""/>
              <p:cNvSpPr/>
              <p:nvPr/>
            </p:nvSpPr>
            <p:spPr>
              <a:xfrm flipH="1" rot="21521400">
                <a:off x="3191760" y="236880"/>
                <a:ext cx="1122480" cy="241812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3889800" y="431640"/>
                <a:ext cx="642960" cy="2820240"/>
                <a:chOff x="3889800" y="431640"/>
                <a:chExt cx="642960" cy="2820240"/>
              </a:xfrm>
            </p:grpSpPr>
            <p:sp>
              <p:nvSpPr>
                <p:cNvPr id="648" name=""/>
                <p:cNvSpPr/>
                <p:nvPr/>
              </p:nvSpPr>
              <p:spPr>
                <a:xfrm flipH="1" rot="21521400">
                  <a:off x="4138920" y="500040"/>
                  <a:ext cx="361800" cy="27478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7c1eb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rot="21521400">
                  <a:off x="3894120" y="436320"/>
                  <a:ext cx="433440" cy="40176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443320" y="4221000"/>
                <a:ext cx="466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651" name=""/>
          <p:cNvGrpSpPr/>
          <p:nvPr/>
        </p:nvGrpSpPr>
        <p:grpSpPr>
          <a:xfrm>
            <a:off x="2845440" y="3244680"/>
            <a:ext cx="3335760" cy="459720"/>
            <a:chOff x="2845440" y="3244680"/>
            <a:chExt cx="3335760" cy="459720"/>
          </a:xfrm>
        </p:grpSpPr>
        <p:sp>
          <p:nvSpPr>
            <p:cNvPr id="652" name=""/>
            <p:cNvSpPr/>
            <p:nvPr/>
          </p:nvSpPr>
          <p:spPr>
            <a:xfrm>
              <a:off x="5797800" y="32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45440" y="324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428720" y="293760"/>
            <a:ext cx="418320" cy="5571360"/>
            <a:chOff x="4428720" y="293760"/>
            <a:chExt cx="418320" cy="5571360"/>
          </a:xfrm>
        </p:grpSpPr>
        <p:sp>
          <p:nvSpPr>
            <p:cNvPr id="655" name=""/>
            <p:cNvSpPr/>
            <p:nvPr/>
          </p:nvSpPr>
          <p:spPr>
            <a:xfrm>
              <a:off x="4428720" y="5405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73720" y="293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780000" y="3173400"/>
            <a:ext cx="1439640" cy="216000"/>
            <a:chOff x="3780000" y="3173400"/>
            <a:chExt cx="1439640" cy="216000"/>
          </a:xfrm>
        </p:grpSpPr>
        <p:sp>
          <p:nvSpPr>
            <p:cNvPr id="658" name=""/>
            <p:cNvSpPr/>
            <p:nvPr/>
          </p:nvSpPr>
          <p:spPr>
            <a:xfrm>
              <a:off x="3780000" y="3173400"/>
              <a:ext cx="0" cy="2160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219640" y="3173400"/>
              <a:ext cx="0" cy="2160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708360" y="1878120"/>
            <a:ext cx="288720" cy="217440"/>
            <a:chOff x="3708360" y="1878120"/>
            <a:chExt cx="288720" cy="217440"/>
          </a:xfrm>
        </p:grpSpPr>
        <p:sp>
          <p:nvSpPr>
            <p:cNvPr id="661" name=""/>
            <p:cNvSpPr/>
            <p:nvPr/>
          </p:nvSpPr>
          <p:spPr>
            <a:xfrm>
              <a:off x="3779640" y="1878120"/>
              <a:ext cx="217440" cy="144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08360" y="1950840"/>
              <a:ext cx="217440" cy="144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03640" y="1805040"/>
            <a:ext cx="288720" cy="217440"/>
            <a:chOff x="5003640" y="1805040"/>
            <a:chExt cx="288720" cy="217440"/>
          </a:xfrm>
        </p:grpSpPr>
        <p:sp>
          <p:nvSpPr>
            <p:cNvPr id="664" name=""/>
            <p:cNvSpPr/>
            <p:nvPr/>
          </p:nvSpPr>
          <p:spPr>
            <a:xfrm flipH="1">
              <a:off x="5003640" y="1805040"/>
              <a:ext cx="217440" cy="1443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074920" y="1877760"/>
              <a:ext cx="217440" cy="144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1943280" y="6019920"/>
                <a:ext cx="468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5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6000"/>
                            </p:stCondLst>
                            <p:childTnLst>
                              <p:par>
                                <p:cTn id="7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8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8500"/>
                            </p:stCondLst>
                            <p:childTnLst>
                              <p:par>
                                <p:cTn id="7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90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4546440" y="851040"/>
            <a:ext cx="12960" cy="5752800"/>
          </a:xfrm>
          <a:custGeom>
            <a:avLst/>
            <a:gdLst/>
            <a:ahLst/>
            <a:rect l="l" t="t" r="r" b="b"/>
            <a:pathLst>
              <a:path w="8" h="3624">
                <a:moveTo>
                  <a:pt x="0" y="0"/>
                </a:moveTo>
                <a:lnTo>
                  <a:pt x="8" y="36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24000" y="3552840"/>
            <a:ext cx="5616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rot="4762200">
            <a:off x="1684800" y="-1287000"/>
            <a:ext cx="5578200" cy="558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754" y="3494"/>
                </a:moveTo>
                <a:arcTo wR="10800" hR="10800" stAng="-2554262" swAng="6460743"/>
                <a:lnTo>
                  <a:pt x="10800" y="10800"/>
                </a:lnTo>
                <a:close/>
              </a:path>
              <a:path fill="none" w="21600" h="21600">
                <a:moveTo>
                  <a:pt x="18754" y="3494"/>
                </a:moveTo>
                <a:arcTo wR="10800" hR="10800" stAng="-2554262" swAng="6460743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rot="859800">
            <a:off x="3519000" y="794880"/>
            <a:ext cx="5805360" cy="57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13" y="2185"/>
                </a:moveTo>
                <a:arcTo wR="10800" hR="10800" stAng="-3174788" swAng="9043140"/>
                <a:lnTo>
                  <a:pt x="10800" y="10800"/>
                </a:lnTo>
                <a:close/>
              </a:path>
              <a:path fill="none" w="21600" h="21600">
                <a:moveTo>
                  <a:pt x="17313" y="2185"/>
                </a:moveTo>
                <a:arcTo wR="10800" hR="10800" stAng="-3174788" swAng="9043140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46440" y="3286080"/>
            <a:ext cx="208080" cy="270000"/>
          </a:xfrm>
          <a:custGeom>
            <a:avLst/>
            <a:gdLst/>
            <a:ahLst/>
            <a:rect l="l" t="t" r="r" b="b"/>
            <a:pathLst>
              <a:path w="131" h="170">
                <a:moveTo>
                  <a:pt x="128" y="170"/>
                </a:moveTo>
                <a:lnTo>
                  <a:pt x="131" y="0"/>
                </a:lnTo>
                <a:lnTo>
                  <a:pt x="0" y="2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30980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4544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20419800">
            <a:off x="-232560" y="804600"/>
            <a:ext cx="5807160" cy="57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20" y="2346"/>
                </a:moveTo>
                <a:arcTo wR="10800" hR="10800" stAng="-3091126" swAng="8423280"/>
                <a:lnTo>
                  <a:pt x="10800" y="10800"/>
                </a:lnTo>
                <a:close/>
              </a:path>
              <a:path fill="none" w="21600" h="21600">
                <a:moveTo>
                  <a:pt x="17520" y="2346"/>
                </a:moveTo>
                <a:arcTo wR="10800" hR="10800" stAng="-3091126" swAng="8423280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25920" y="58024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172600" y="-2144160"/>
            <a:ext cx="4699800" cy="7269120"/>
            <a:chOff x="2172600" y="-2144160"/>
            <a:chExt cx="4699800" cy="7269120"/>
          </a:xfrm>
        </p:grpSpPr>
        <p:grpSp>
          <p:nvGrpSpPr>
            <p:cNvPr id="677" name=""/>
            <p:cNvGrpSpPr/>
            <p:nvPr/>
          </p:nvGrpSpPr>
          <p:grpSpPr>
            <a:xfrm>
              <a:off x="2172600" y="1496160"/>
              <a:ext cx="2872800" cy="3628800"/>
              <a:chOff x="2172600" y="1496160"/>
              <a:chExt cx="2872800" cy="3628800"/>
            </a:xfrm>
          </p:grpSpPr>
          <p:sp>
            <p:nvSpPr>
              <p:cNvPr id="678" name=""/>
              <p:cNvSpPr/>
              <p:nvPr/>
            </p:nvSpPr>
            <p:spPr>
              <a:xfrm rot="8311200">
                <a:off x="3011400" y="2186280"/>
                <a:ext cx="1229760" cy="28940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2172600" y="1496160"/>
                <a:ext cx="2793240" cy="3574440"/>
                <a:chOff x="2172600" y="1496160"/>
                <a:chExt cx="2793240" cy="3574440"/>
              </a:xfrm>
            </p:grpSpPr>
            <p:grpSp>
              <p:nvGrpSpPr>
                <p:cNvPr id="680" name=""/>
                <p:cNvGrpSpPr/>
                <p:nvPr/>
              </p:nvGrpSpPr>
              <p:grpSpPr>
                <a:xfrm>
                  <a:off x="2172600" y="2754720"/>
                  <a:ext cx="618120" cy="664560"/>
                  <a:chOff x="2172600" y="2754720"/>
                  <a:chExt cx="618120" cy="66456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rot="8910000">
                    <a:off x="2285640" y="2817720"/>
                    <a:ext cx="39312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8910000">
                    <a:off x="2224080" y="2888640"/>
                    <a:ext cx="1796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2558880" y="1496160"/>
                  <a:ext cx="2406960" cy="3574440"/>
                  <a:chOff x="2558880" y="1496160"/>
                  <a:chExt cx="2406960" cy="357444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 rot="8311200">
                    <a:off x="3224520" y="2599920"/>
                    <a:ext cx="1075320" cy="241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4192920" y="1496160"/>
                    <a:ext cx="691920" cy="2867400"/>
                    <a:chOff x="4192920" y="1496160"/>
                    <a:chExt cx="691920" cy="286740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10363800">
                      <a:off x="4365360" y="1506600"/>
                      <a:ext cx="346680" cy="27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10363800">
                      <a:off x="4311720" y="3936960"/>
                      <a:ext cx="415440" cy="40176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88" name=""/>
            <p:cNvGrpSpPr/>
            <p:nvPr/>
          </p:nvGrpSpPr>
          <p:grpSpPr>
            <a:xfrm>
              <a:off x="4033440" y="-2144160"/>
              <a:ext cx="2838960" cy="3627360"/>
              <a:chOff x="4033440" y="-2144160"/>
              <a:chExt cx="2838960" cy="3627360"/>
            </a:xfrm>
          </p:grpSpPr>
          <p:sp>
            <p:nvSpPr>
              <p:cNvPr id="689" name=""/>
              <p:cNvSpPr/>
              <p:nvPr/>
            </p:nvSpPr>
            <p:spPr>
              <a:xfrm flipH="1" flipV="1" rot="8311800">
                <a:off x="4837320" y="-2099880"/>
                <a:ext cx="1230840" cy="28940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690" name=""/>
              <p:cNvGrpSpPr/>
              <p:nvPr/>
            </p:nvGrpSpPr>
            <p:grpSpPr>
              <a:xfrm>
                <a:off x="4193280" y="-1384200"/>
                <a:ext cx="691560" cy="2867400"/>
                <a:chOff x="4193280" y="-1384200"/>
                <a:chExt cx="691560" cy="2867400"/>
              </a:xfrm>
            </p:grpSpPr>
            <p:sp>
              <p:nvSpPr>
                <p:cNvPr id="691" name=""/>
                <p:cNvSpPr/>
                <p:nvPr/>
              </p:nvSpPr>
              <p:spPr>
                <a:xfrm flipH="1" flipV="1" rot="10363800">
                  <a:off x="4365360" y="-1275120"/>
                  <a:ext cx="346320" cy="27478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 flipV="1" rot="10363800">
                  <a:off x="4349880" y="-1359720"/>
                  <a:ext cx="415080" cy="40176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93" name=""/>
          <p:cNvSpPr/>
          <p:nvPr/>
        </p:nvSpPr>
        <p:spPr>
          <a:xfrm>
            <a:off x="4513320" y="14256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97440" y="12682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-1207800" y="834480"/>
            <a:ext cx="7626960" cy="5456160"/>
            <a:chOff x="-1207800" y="834480"/>
            <a:chExt cx="7626960" cy="5456160"/>
          </a:xfrm>
        </p:grpSpPr>
        <p:grpSp>
          <p:nvGrpSpPr>
            <p:cNvPr id="696" name=""/>
            <p:cNvGrpSpPr/>
            <p:nvPr/>
          </p:nvGrpSpPr>
          <p:grpSpPr>
            <a:xfrm>
              <a:off x="2607480" y="3414240"/>
              <a:ext cx="3811680" cy="2876400"/>
              <a:chOff x="2607480" y="3414240"/>
              <a:chExt cx="3811680" cy="2876400"/>
            </a:xfrm>
          </p:grpSpPr>
          <p:sp>
            <p:nvSpPr>
              <p:cNvPr id="697" name=""/>
              <p:cNvSpPr/>
              <p:nvPr/>
            </p:nvSpPr>
            <p:spPr>
              <a:xfrm rot="3367200">
                <a:off x="4092120" y="3279600"/>
                <a:ext cx="1332000" cy="310644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698" name=""/>
              <p:cNvGrpSpPr/>
              <p:nvPr/>
            </p:nvGrpSpPr>
            <p:grpSpPr>
              <a:xfrm>
                <a:off x="2607480" y="3506040"/>
                <a:ext cx="3759120" cy="2784600"/>
                <a:chOff x="2607480" y="3506040"/>
                <a:chExt cx="3759120" cy="2784600"/>
              </a:xfrm>
            </p:grpSpPr>
            <p:grpSp>
              <p:nvGrpSpPr>
                <p:cNvPr id="699" name=""/>
                <p:cNvGrpSpPr/>
                <p:nvPr/>
              </p:nvGrpSpPr>
              <p:grpSpPr>
                <a:xfrm>
                  <a:off x="3667680" y="5666400"/>
                  <a:ext cx="700200" cy="624240"/>
                  <a:chOff x="3667680" y="5666400"/>
                  <a:chExt cx="700200" cy="62424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 rot="3966600">
                    <a:off x="3804840" y="5689440"/>
                    <a:ext cx="42588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rot="3966600">
                    <a:off x="3817800" y="6015240"/>
                    <a:ext cx="19476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"/>
                <p:cNvGrpSpPr/>
                <p:nvPr/>
              </p:nvGrpSpPr>
              <p:grpSpPr>
                <a:xfrm>
                  <a:off x="2607480" y="3506040"/>
                  <a:ext cx="3759120" cy="2413440"/>
                  <a:chOff x="2607480" y="3506040"/>
                  <a:chExt cx="3759120" cy="241344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rot="3367200">
                    <a:off x="4382280" y="3415320"/>
                    <a:ext cx="1164960" cy="259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2607480" y="3548160"/>
                    <a:ext cx="3029760" cy="626760"/>
                    <a:chOff x="2607480" y="3548160"/>
                    <a:chExt cx="3029760" cy="62676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 rot="5419200">
                      <a:off x="3895200" y="2269800"/>
                      <a:ext cx="375480" cy="294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 rot="5419200">
                      <a:off x="5195520" y="3733200"/>
                      <a:ext cx="450000" cy="43092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707" name=""/>
            <p:cNvGrpSpPr/>
            <p:nvPr/>
          </p:nvGrpSpPr>
          <p:grpSpPr>
            <a:xfrm>
              <a:off x="-1207800" y="834480"/>
              <a:ext cx="3808080" cy="2837520"/>
              <a:chOff x="-1207800" y="834480"/>
              <a:chExt cx="3808080" cy="2837520"/>
            </a:xfrm>
          </p:grpSpPr>
          <p:sp>
            <p:nvSpPr>
              <p:cNvPr id="708" name=""/>
              <p:cNvSpPr/>
              <p:nvPr/>
            </p:nvSpPr>
            <p:spPr>
              <a:xfrm flipH="1" flipV="1" rot="3367800">
                <a:off x="-213120" y="700200"/>
                <a:ext cx="1332720" cy="310572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709" name=""/>
              <p:cNvGrpSpPr/>
              <p:nvPr/>
            </p:nvGrpSpPr>
            <p:grpSpPr>
              <a:xfrm>
                <a:off x="-429120" y="2910960"/>
                <a:ext cx="3029400" cy="626400"/>
                <a:chOff x="-429120" y="2910960"/>
                <a:chExt cx="3029400" cy="626400"/>
              </a:xfrm>
            </p:grpSpPr>
            <p:sp>
              <p:nvSpPr>
                <p:cNvPr id="710" name=""/>
                <p:cNvSpPr/>
                <p:nvPr/>
              </p:nvSpPr>
              <p:spPr>
                <a:xfrm flipH="1" flipV="1" rot="5419200">
                  <a:off x="936720" y="1866960"/>
                  <a:ext cx="375120" cy="294876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H="1" flipV="1" rot="5419200">
                  <a:off x="-437400" y="2921760"/>
                  <a:ext cx="449640" cy="43056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12" name=""/>
          <p:cNvGrpSpPr/>
          <p:nvPr/>
        </p:nvGrpSpPr>
        <p:grpSpPr>
          <a:xfrm>
            <a:off x="3117240" y="662040"/>
            <a:ext cx="6627960" cy="5778360"/>
            <a:chOff x="3117240" y="662040"/>
            <a:chExt cx="6627960" cy="5778360"/>
          </a:xfrm>
        </p:grpSpPr>
        <p:grpSp>
          <p:nvGrpSpPr>
            <p:cNvPr id="713" name=""/>
            <p:cNvGrpSpPr/>
            <p:nvPr/>
          </p:nvGrpSpPr>
          <p:grpSpPr>
            <a:xfrm>
              <a:off x="3117240" y="3537720"/>
              <a:ext cx="3413880" cy="2902680"/>
              <a:chOff x="3117240" y="3537720"/>
              <a:chExt cx="3413880" cy="2902680"/>
            </a:xfrm>
          </p:grpSpPr>
          <p:sp>
            <p:nvSpPr>
              <p:cNvPr id="714" name=""/>
              <p:cNvSpPr/>
              <p:nvPr/>
            </p:nvSpPr>
            <p:spPr>
              <a:xfrm flipV="1" rot="6568200">
                <a:off x="4085640" y="3790440"/>
                <a:ext cx="1312200" cy="298260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715" name=""/>
              <p:cNvGrpSpPr/>
              <p:nvPr/>
            </p:nvGrpSpPr>
            <p:grpSpPr>
              <a:xfrm>
                <a:off x="3155760" y="3537720"/>
                <a:ext cx="3375360" cy="2902680"/>
                <a:chOff x="3155760" y="3537720"/>
                <a:chExt cx="3375360" cy="2902680"/>
              </a:xfrm>
            </p:grpSpPr>
            <p:grpSp>
              <p:nvGrpSpPr>
                <p:cNvPr id="716" name=""/>
                <p:cNvGrpSpPr/>
                <p:nvPr/>
              </p:nvGrpSpPr>
              <p:grpSpPr>
                <a:xfrm>
                  <a:off x="5392800" y="5935320"/>
                  <a:ext cx="615960" cy="505080"/>
                  <a:chOff x="5392800" y="5935320"/>
                  <a:chExt cx="615960" cy="50508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 flipV="1" rot="5969400">
                    <a:off x="5490720" y="5910120"/>
                    <a:ext cx="419400" cy="55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V="1" rot="5969400">
                    <a:off x="5740560" y="6195960"/>
                    <a:ext cx="19152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40458c"/>
                  </a:solidFill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9" name=""/>
                <p:cNvGrpSpPr/>
                <p:nvPr/>
              </p:nvGrpSpPr>
              <p:grpSpPr>
                <a:xfrm>
                  <a:off x="3155760" y="3537720"/>
                  <a:ext cx="3375360" cy="2636640"/>
                  <a:chOff x="3155760" y="3537720"/>
                  <a:chExt cx="3375360" cy="2636640"/>
                </a:xfrm>
              </p:grpSpPr>
              <p:sp>
                <p:nvSpPr>
                  <p:cNvPr id="720" name=""/>
                  <p:cNvSpPr/>
                  <p:nvPr/>
                </p:nvSpPr>
                <p:spPr>
                  <a:xfrm flipV="1" rot="6568200">
                    <a:off x="3947400" y="3972600"/>
                    <a:ext cx="1147320" cy="249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3660480" y="3537720"/>
                    <a:ext cx="2870640" cy="1334160"/>
                    <a:chOff x="3660480" y="3537720"/>
                    <a:chExt cx="2870640" cy="133416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 flipV="1" rot="4516200">
                      <a:off x="4929840" y="2660400"/>
                      <a:ext cx="369720" cy="283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 flipV="1" rot="4516200">
                      <a:off x="3695040" y="4397760"/>
                      <a:ext cx="443160" cy="413640"/>
                    </a:xfrm>
                    <a:prstGeom prst="ellipse">
                      <a:avLst/>
                    </a:prstGeom>
                    <a:solidFill>
                      <a:srgbClr val="b7c1eb"/>
                    </a:solidFill>
                    <a:ln w="9360">
                      <a:solidFill>
                        <a:srgbClr val="40458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724" name=""/>
            <p:cNvGrpSpPr/>
            <p:nvPr/>
          </p:nvGrpSpPr>
          <p:grpSpPr>
            <a:xfrm>
              <a:off x="6342480" y="662040"/>
              <a:ext cx="3402720" cy="2855520"/>
              <a:chOff x="6342480" y="662040"/>
              <a:chExt cx="3402720" cy="2855520"/>
            </a:xfrm>
          </p:grpSpPr>
          <p:sp>
            <p:nvSpPr>
              <p:cNvPr id="725" name=""/>
              <p:cNvSpPr/>
              <p:nvPr/>
            </p:nvSpPr>
            <p:spPr>
              <a:xfrm flipH="1" rot="6567600">
                <a:off x="7464600" y="286560"/>
                <a:ext cx="1312560" cy="298152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726" name=""/>
              <p:cNvGrpSpPr/>
              <p:nvPr/>
            </p:nvGrpSpPr>
            <p:grpSpPr>
              <a:xfrm>
                <a:off x="6342480" y="2184120"/>
                <a:ext cx="2869920" cy="1333440"/>
                <a:chOff x="6342480" y="2184120"/>
                <a:chExt cx="2869920" cy="1333440"/>
              </a:xfrm>
            </p:grpSpPr>
            <p:sp>
              <p:nvSpPr>
                <p:cNvPr id="727" name=""/>
                <p:cNvSpPr/>
                <p:nvPr/>
              </p:nvSpPr>
              <p:spPr>
                <a:xfrm flipH="1" rot="4516200">
                  <a:off x="7572960" y="1563120"/>
                  <a:ext cx="369360" cy="2830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H="1" rot="4516200">
                  <a:off x="8734680" y="2243880"/>
                  <a:ext cx="442800" cy="41364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29" name=""/>
          <p:cNvGrpSpPr/>
          <p:nvPr/>
        </p:nvGrpSpPr>
        <p:grpSpPr>
          <a:xfrm>
            <a:off x="2556000" y="3500280"/>
            <a:ext cx="3888720" cy="73080"/>
            <a:chOff x="2556000" y="3500280"/>
            <a:chExt cx="3888720" cy="73080"/>
          </a:xfrm>
        </p:grpSpPr>
        <p:sp>
          <p:nvSpPr>
            <p:cNvPr id="730" name=""/>
            <p:cNvSpPr/>
            <p:nvPr/>
          </p:nvSpPr>
          <p:spPr>
            <a:xfrm>
              <a:off x="6370920" y="3500280"/>
              <a:ext cx="738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556000" y="3500280"/>
              <a:ext cx="7272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50560" y="26028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строение перпендикулярных прямых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5734080" y="5084640"/>
            <a:ext cx="3211920" cy="459720"/>
            <a:chOff x="5734080" y="5084640"/>
            <a:chExt cx="3211920" cy="459720"/>
          </a:xfrm>
        </p:grpSpPr>
        <p:sp>
          <p:nvSpPr>
            <p:cNvPr id="734" name=""/>
            <p:cNvSpPr/>
            <p:nvPr/>
          </p:nvSpPr>
          <p:spPr>
            <a:xfrm>
              <a:off x="5734080" y="5084640"/>
              <a:ext cx="321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ahoma"/>
                </a:rPr>
                <a:t>Докажем, что </a:t>
              </a:r>
              <a:r>
                <a:rPr b="0" i="1" lang="ru-RU" sz="2400" spc="-1" strike="noStrike">
                  <a:solidFill>
                    <a:srgbClr val="000066"/>
                  </a:solidFill>
                  <a:latin typeface="Tahoma"/>
                </a:rPr>
                <a:t>а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ahoma"/>
                </a:rPr>
                <a:t>M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5" name=""/>
                <p:cNvSpPr txBox="1"/>
                <p:nvPr/>
              </p:nvSpPr>
              <p:spPr>
                <a:xfrm>
                  <a:off x="8099280" y="5157360"/>
                  <a:ext cx="333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736" name=""/>
          <p:cNvGrpSpPr/>
          <p:nvPr/>
        </p:nvGrpSpPr>
        <p:grpSpPr>
          <a:xfrm>
            <a:off x="1043280" y="1773360"/>
            <a:ext cx="1075320" cy="581400"/>
            <a:chOff x="1043280" y="1773360"/>
            <a:chExt cx="1075320" cy="581400"/>
          </a:xfrm>
        </p:grpSpPr>
        <p:sp>
          <p:nvSpPr>
            <p:cNvPr id="737" name=""/>
            <p:cNvSpPr/>
            <p:nvPr/>
          </p:nvSpPr>
          <p:spPr>
            <a:xfrm>
              <a:off x="1043280" y="177336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М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8" name=""/>
                <p:cNvSpPr txBox="1"/>
                <p:nvPr/>
              </p:nvSpPr>
              <p:spPr>
                <a:xfrm>
                  <a:off x="1474560" y="1844280"/>
                  <a:ext cx="41904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∉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600000">
                                      <p:cBhvr>
                                        <p:cTn id="87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9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0">
                                      <p:cBhvr>
                                        <p:cTn id="903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100000">
                                      <p:cBhvr>
                                        <p:cTn id="917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6000"/>
                            </p:stCondLst>
                            <p:childTnLst>
                              <p:par>
                                <p:cTn id="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8000"/>
                            </p:stCondLst>
                            <p:childTnLst>
                              <p:par>
                                <p:cTn id="9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1-04-11T14:51:18Z</dcterms:modified>
  <cp:revision>127</cp:revision>
  <dc:subject/>
  <dc:title>Презентация PowerPoint</dc:title>
</cp:coreProperties>
</file>