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745-0612-4C9A-A348-7F1AADBC4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a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4*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=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CA5-C4A5-4510-8C0B-1FE7D73E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191-CA68-4443-A25B-C4778246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DFD-98D0-47B7-9FFD-D387DD6C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4A8-D4A2-466B-9E4C-3DDB1FA8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549-AF85-486F-9218-4E05A87F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94B-8157-4370-A641-A0BDCE78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EFA-25A6-412E-B780-118AAA4F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00E-3776-4411-981E-11398B4F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0C7-4473-4CA0-9B2F-B3F31CEB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992-596A-4E55-9AC6-A3A1AD9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D16-A5E2-43AF-BA3C-736CA4C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203-EC08-49D3-998C-117ECC53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E669-98D6-4503-B91F-C7E502A2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49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685800"/>
            <a:ext cx="44956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так представлена теорема Пифагора в учебн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 плюс черте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остроим треугольник до квадрата со стороной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+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ак, как показано на рису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езентации можно сделать чертеж динамическим, т.е. показать последовательные шаги построения, показать динамику дополнительных построений, необходимых для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35560" y="380880"/>
            <a:ext cx="2360160" cy="1632960"/>
            <a:chOff x="5335560" y="380880"/>
            <a:chExt cx="2360160" cy="1632960"/>
          </a:xfrm>
        </p:grpSpPr>
        <p:sp>
          <p:nvSpPr>
            <p:cNvPr id="59" name=""/>
            <p:cNvSpPr/>
            <p:nvPr/>
          </p:nvSpPr>
          <p:spPr>
            <a:xfrm>
              <a:off x="5715000" y="456840"/>
              <a:ext cx="1980720" cy="1067040"/>
            </a:xfrm>
            <a:prstGeom prst="rtTriangl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02240" y="1371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560" y="609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78560" y="3808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75440" y="1233360"/>
              <a:ext cx="77400" cy="290520"/>
            </a:xfrm>
            <a:custGeom>
              <a:avLst/>
              <a:gdLst/>
              <a:ahLst/>
              <a:rect l="l" t="t" r="r" b="b"/>
              <a:pathLst>
                <a:path w="49" h="183">
                  <a:moveTo>
                    <a:pt x="49" y="0"/>
                  </a:moveTo>
                  <a:cubicBezTo>
                    <a:pt x="42" y="14"/>
                    <a:pt x="14" y="57"/>
                    <a:pt x="7" y="87"/>
                  </a:cubicBezTo>
                  <a:cubicBezTo>
                    <a:pt x="0" y="117"/>
                    <a:pt x="3" y="151"/>
                    <a:pt x="7" y="18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710320" y="550440"/>
              <a:ext cx="261360" cy="259200"/>
              <a:chOff x="5710320" y="550440"/>
              <a:chExt cx="261360" cy="259200"/>
            </a:xfrm>
          </p:grpSpPr>
          <p:sp>
            <p:nvSpPr>
              <p:cNvPr id="65" name=""/>
              <p:cNvSpPr/>
              <p:nvPr/>
            </p:nvSpPr>
            <p:spPr>
              <a:xfrm rot="13525800">
                <a:off x="5802120" y="534960"/>
                <a:ext cx="77760" cy="290160"/>
              </a:xfrm>
              <a:custGeom>
                <a:avLst/>
                <a:gdLst/>
                <a:ahLst/>
                <a:rect l="l" t="t" r="r" b="b"/>
                <a:pathLst>
                  <a:path w="49" h="183">
                    <a:moveTo>
                      <a:pt x="49" y="0"/>
                    </a:moveTo>
                    <a:cubicBezTo>
                      <a:pt x="42" y="14"/>
                      <a:pt x="14" y="57"/>
                      <a:pt x="7" y="87"/>
                    </a:cubicBezTo>
                    <a:cubicBezTo>
                      <a:pt x="0" y="117"/>
                      <a:pt x="3" y="151"/>
                      <a:pt x="7" y="18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11400" y="568080"/>
                <a:ext cx="196560" cy="110880"/>
              </a:xfrm>
              <a:custGeom>
                <a:avLst/>
                <a:gdLst/>
                <a:ahLst/>
                <a:rect l="l" t="t" r="r" b="b"/>
                <a:pathLst>
                  <a:path w="124" h="70">
                    <a:moveTo>
                      <a:pt x="0" y="70"/>
                    </a:moveTo>
                    <a:cubicBezTo>
                      <a:pt x="12" y="66"/>
                      <a:pt x="53" y="58"/>
                      <a:pt x="74" y="46"/>
                    </a:cubicBezTo>
                    <a:cubicBezTo>
                      <a:pt x="95" y="34"/>
                      <a:pt x="114" y="10"/>
                      <a:pt x="12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4802400" y="2057400"/>
            <a:ext cx="3838320" cy="4147560"/>
            <a:chOff x="4802400" y="2057400"/>
            <a:chExt cx="3838320" cy="4147560"/>
          </a:xfrm>
        </p:grpSpPr>
        <p:sp>
          <p:nvSpPr>
            <p:cNvPr id="68" name=""/>
            <p:cNvSpPr/>
            <p:nvPr/>
          </p:nvSpPr>
          <p:spPr>
            <a:xfrm>
              <a:off x="5168880" y="4647960"/>
              <a:ext cx="1981440" cy="1067040"/>
            </a:xfrm>
            <a:prstGeom prst="rtTriangl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 rot="5400000">
              <a:off x="6704280" y="4190760"/>
              <a:ext cx="1981440" cy="106668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6247800" y="2666160"/>
              <a:ext cx="1981080" cy="106668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 rot="16200000">
              <a:off x="4711680" y="3122640"/>
              <a:ext cx="1981080" cy="1067040"/>
            </a:xfrm>
            <a:prstGeom prst="rtTriangl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240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64720" y="20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99720" y="4419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9080" y="5524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88200" y="29718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02880" y="27684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3120" y="48765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07800" y="4584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11880" y="20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231400" y="2819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45600" y="5562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240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179800">
              <a:off x="5268600" y="3952440"/>
              <a:ext cx="77760" cy="290520"/>
            </a:xfrm>
            <a:custGeom>
              <a:avLst/>
              <a:gdLst/>
              <a:ahLst/>
              <a:rect l="l" t="t" r="r" b="b"/>
              <a:pathLst>
                <a:path w="49" h="183">
                  <a:moveTo>
                    <a:pt x="49" y="0"/>
                  </a:moveTo>
                  <a:cubicBezTo>
                    <a:pt x="42" y="14"/>
                    <a:pt x="14" y="57"/>
                    <a:pt x="7" y="87"/>
                  </a:cubicBezTo>
                  <a:cubicBezTo>
                    <a:pt x="0" y="117"/>
                    <a:pt x="3" y="151"/>
                    <a:pt x="7" y="18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1094000">
              <a:off x="6754680" y="2652120"/>
              <a:ext cx="77760" cy="290520"/>
            </a:xfrm>
            <a:custGeom>
              <a:avLst/>
              <a:gdLst/>
              <a:ahLst/>
              <a:rect l="l" t="t" r="r" b="b"/>
              <a:pathLst>
                <a:path w="49" h="183">
                  <a:moveTo>
                    <a:pt x="49" y="0"/>
                  </a:moveTo>
                  <a:cubicBezTo>
                    <a:pt x="42" y="14"/>
                    <a:pt x="14" y="57"/>
                    <a:pt x="7" y="87"/>
                  </a:cubicBezTo>
                  <a:cubicBezTo>
                    <a:pt x="0" y="117"/>
                    <a:pt x="3" y="151"/>
                    <a:pt x="7" y="18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5560" y="5410080"/>
              <a:ext cx="77760" cy="290520"/>
            </a:xfrm>
            <a:custGeom>
              <a:avLst/>
              <a:gdLst/>
              <a:ahLst/>
              <a:rect l="l" t="t" r="r" b="b"/>
              <a:pathLst>
                <a:path w="49" h="183">
                  <a:moveTo>
                    <a:pt x="49" y="0"/>
                  </a:moveTo>
                  <a:cubicBezTo>
                    <a:pt x="42" y="14"/>
                    <a:pt x="14" y="57"/>
                    <a:pt x="7" y="87"/>
                  </a:cubicBezTo>
                  <a:cubicBezTo>
                    <a:pt x="0" y="117"/>
                    <a:pt x="3" y="151"/>
                    <a:pt x="7" y="18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8059680" y="4103280"/>
              <a:ext cx="77760" cy="290520"/>
            </a:xfrm>
            <a:custGeom>
              <a:avLst/>
              <a:gdLst/>
              <a:ahLst/>
              <a:rect l="l" t="t" r="r" b="b"/>
              <a:pathLst>
                <a:path w="49" h="183">
                  <a:moveTo>
                    <a:pt x="49" y="0"/>
                  </a:moveTo>
                  <a:cubicBezTo>
                    <a:pt x="42" y="14"/>
                    <a:pt x="14" y="57"/>
                    <a:pt x="7" y="87"/>
                  </a:cubicBezTo>
                  <a:cubicBezTo>
                    <a:pt x="0" y="117"/>
                    <a:pt x="3" y="151"/>
                    <a:pt x="7" y="18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5170680" y="4731120"/>
              <a:ext cx="261360" cy="259200"/>
              <a:chOff x="5170680" y="4731120"/>
              <a:chExt cx="261360" cy="259200"/>
            </a:xfrm>
          </p:grpSpPr>
          <p:sp>
            <p:nvSpPr>
              <p:cNvPr id="89" name=""/>
              <p:cNvSpPr/>
              <p:nvPr/>
            </p:nvSpPr>
            <p:spPr>
              <a:xfrm rot="13525800">
                <a:off x="5262480" y="4715280"/>
                <a:ext cx="77400" cy="290520"/>
              </a:xfrm>
              <a:custGeom>
                <a:avLst/>
                <a:gdLst/>
                <a:ahLst/>
                <a:rect l="l" t="t" r="r" b="b"/>
                <a:pathLst>
                  <a:path w="49" h="183">
                    <a:moveTo>
                      <a:pt x="49" y="0"/>
                    </a:moveTo>
                    <a:cubicBezTo>
                      <a:pt x="42" y="14"/>
                      <a:pt x="14" y="57"/>
                      <a:pt x="7" y="87"/>
                    </a:cubicBezTo>
                    <a:cubicBezTo>
                      <a:pt x="0" y="117"/>
                      <a:pt x="3" y="151"/>
                      <a:pt x="7" y="18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72120" y="4749840"/>
                <a:ext cx="196920" cy="110520"/>
              </a:xfrm>
              <a:custGeom>
                <a:avLst/>
                <a:gdLst/>
                <a:ahLst/>
                <a:rect l="l" t="t" r="r" b="b"/>
                <a:pathLst>
                  <a:path w="124" h="70">
                    <a:moveTo>
                      <a:pt x="0" y="70"/>
                    </a:moveTo>
                    <a:cubicBezTo>
                      <a:pt x="12" y="66"/>
                      <a:pt x="53" y="58"/>
                      <a:pt x="74" y="46"/>
                    </a:cubicBezTo>
                    <a:cubicBezTo>
                      <a:pt x="95" y="34"/>
                      <a:pt x="114" y="10"/>
                      <a:pt x="12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230600" y="5475240"/>
              <a:ext cx="278640" cy="262800"/>
              <a:chOff x="7230600" y="5475240"/>
              <a:chExt cx="278640" cy="262800"/>
            </a:xfrm>
          </p:grpSpPr>
          <p:sp>
            <p:nvSpPr>
              <p:cNvPr id="92" name=""/>
              <p:cNvSpPr/>
              <p:nvPr/>
            </p:nvSpPr>
            <p:spPr>
              <a:xfrm rot="7630200">
                <a:off x="7331040" y="5448240"/>
                <a:ext cx="77760" cy="290520"/>
              </a:xfrm>
              <a:custGeom>
                <a:avLst/>
                <a:gdLst/>
                <a:ahLst/>
                <a:rect l="l" t="t" r="r" b="b"/>
                <a:pathLst>
                  <a:path w="49" h="183">
                    <a:moveTo>
                      <a:pt x="49" y="0"/>
                    </a:moveTo>
                    <a:cubicBezTo>
                      <a:pt x="42" y="14"/>
                      <a:pt x="14" y="57"/>
                      <a:pt x="7" y="87"/>
                    </a:cubicBezTo>
                    <a:cubicBezTo>
                      <a:pt x="0" y="117"/>
                      <a:pt x="3" y="151"/>
                      <a:pt x="7" y="18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5703800">
                <a:off x="7219800" y="5577120"/>
                <a:ext cx="196920" cy="110880"/>
              </a:xfrm>
              <a:custGeom>
                <a:avLst/>
                <a:gdLst/>
                <a:ahLst/>
                <a:rect l="l" t="t" r="r" b="b"/>
                <a:pathLst>
                  <a:path w="124" h="70">
                    <a:moveTo>
                      <a:pt x="0" y="70"/>
                    </a:moveTo>
                    <a:cubicBezTo>
                      <a:pt x="12" y="66"/>
                      <a:pt x="53" y="58"/>
                      <a:pt x="74" y="46"/>
                    </a:cubicBezTo>
                    <a:cubicBezTo>
                      <a:pt x="95" y="34"/>
                      <a:pt x="114" y="10"/>
                      <a:pt x="12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7985880" y="3371760"/>
              <a:ext cx="263160" cy="281160"/>
              <a:chOff x="7985880" y="3371760"/>
              <a:chExt cx="263160" cy="281160"/>
            </a:xfrm>
          </p:grpSpPr>
          <p:sp>
            <p:nvSpPr>
              <p:cNvPr id="95" name=""/>
              <p:cNvSpPr/>
              <p:nvPr/>
            </p:nvSpPr>
            <p:spPr>
              <a:xfrm rot="2133000">
                <a:off x="8062920" y="3367080"/>
                <a:ext cx="77760" cy="290160"/>
              </a:xfrm>
              <a:custGeom>
                <a:avLst/>
                <a:gdLst/>
                <a:ahLst/>
                <a:rect l="l" t="t" r="r" b="b"/>
                <a:pathLst>
                  <a:path w="49" h="183">
                    <a:moveTo>
                      <a:pt x="49" y="0"/>
                    </a:moveTo>
                    <a:cubicBezTo>
                      <a:pt x="42" y="14"/>
                      <a:pt x="14" y="57"/>
                      <a:pt x="7" y="87"/>
                    </a:cubicBezTo>
                    <a:cubicBezTo>
                      <a:pt x="0" y="117"/>
                      <a:pt x="3" y="151"/>
                      <a:pt x="7" y="18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0207200">
                <a:off x="8044200" y="3507120"/>
                <a:ext cx="196560" cy="110880"/>
              </a:xfrm>
              <a:custGeom>
                <a:avLst/>
                <a:gdLst/>
                <a:ahLst/>
                <a:rect l="l" t="t" r="r" b="b"/>
                <a:pathLst>
                  <a:path w="124" h="70">
                    <a:moveTo>
                      <a:pt x="0" y="70"/>
                    </a:moveTo>
                    <a:cubicBezTo>
                      <a:pt x="12" y="66"/>
                      <a:pt x="53" y="58"/>
                      <a:pt x="74" y="46"/>
                    </a:cubicBezTo>
                    <a:cubicBezTo>
                      <a:pt x="95" y="34"/>
                      <a:pt x="114" y="10"/>
                      <a:pt x="12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914440" y="2656440"/>
              <a:ext cx="247320" cy="284760"/>
              <a:chOff x="5914440" y="2656440"/>
              <a:chExt cx="247320" cy="284760"/>
            </a:xfrm>
          </p:grpSpPr>
          <p:sp>
            <p:nvSpPr>
              <p:cNvPr id="98" name=""/>
              <p:cNvSpPr/>
              <p:nvPr/>
            </p:nvSpPr>
            <p:spPr>
              <a:xfrm rot="19577400">
                <a:off x="5988240" y="2653560"/>
                <a:ext cx="77760" cy="290520"/>
              </a:xfrm>
              <a:custGeom>
                <a:avLst/>
                <a:gdLst/>
                <a:ahLst/>
                <a:rect l="l" t="t" r="r" b="b"/>
                <a:pathLst>
                  <a:path w="49" h="183">
                    <a:moveTo>
                      <a:pt x="49" y="0"/>
                    </a:moveTo>
                    <a:cubicBezTo>
                      <a:pt x="42" y="14"/>
                      <a:pt x="14" y="57"/>
                      <a:pt x="7" y="87"/>
                    </a:cubicBezTo>
                    <a:cubicBezTo>
                      <a:pt x="0" y="117"/>
                      <a:pt x="3" y="151"/>
                      <a:pt x="7" y="18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6051600">
                <a:off x="5990040" y="2723400"/>
                <a:ext cx="196920" cy="110880"/>
              </a:xfrm>
              <a:custGeom>
                <a:avLst/>
                <a:gdLst/>
                <a:ahLst/>
                <a:rect l="l" t="t" r="r" b="b"/>
                <a:pathLst>
                  <a:path w="124" h="70">
                    <a:moveTo>
                      <a:pt x="0" y="70"/>
                    </a:moveTo>
                    <a:cubicBezTo>
                      <a:pt x="12" y="66"/>
                      <a:pt x="53" y="58"/>
                      <a:pt x="74" y="46"/>
                    </a:cubicBezTo>
                    <a:cubicBezTo>
                      <a:pt x="95" y="34"/>
                      <a:pt x="114" y="10"/>
                      <a:pt x="12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49160" y="1714680"/>
            <a:ext cx="4470480" cy="4483080"/>
          </a:xfrm>
          <a:custGeom>
            <a:avLst/>
            <a:gdLst/>
            <a:ahLst/>
            <a:rect l="l" t="t" r="r" b="b"/>
            <a:pathLst>
              <a:path w="2816" h="2824">
                <a:moveTo>
                  <a:pt x="1120" y="2824"/>
                </a:moveTo>
                <a:lnTo>
                  <a:pt x="2816" y="1712"/>
                </a:lnTo>
                <a:lnTo>
                  <a:pt x="1696" y="0"/>
                </a:lnTo>
                <a:lnTo>
                  <a:pt x="0" y="1120"/>
                </a:lnTo>
                <a:lnTo>
                  <a:pt x="1120" y="282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505320"/>
            <a:ext cx="1752480" cy="2666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7320" y="6235560"/>
            <a:ext cx="1752840" cy="1800"/>
          </a:xfrm>
          <a:custGeom>
            <a:avLst/>
            <a:gdLst/>
            <a:ahLst/>
            <a:rect l="l" t="t" r="r" b="b"/>
            <a:pathLst>
              <a:path w="1104" h="1">
                <a:moveTo>
                  <a:pt x="0" y="0"/>
                </a:moveTo>
                <a:lnTo>
                  <a:pt x="11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6184800"/>
            <a:ext cx="1752480" cy="1800"/>
          </a:xfrm>
          <a:custGeom>
            <a:avLst/>
            <a:gdLst/>
            <a:ahLst/>
            <a:rect l="l" t="t" r="r" b="b"/>
            <a:pathLst>
              <a:path w="1104" h="1">
                <a:moveTo>
                  <a:pt x="0" y="0"/>
                </a:moveTo>
                <a:lnTo>
                  <a:pt x="11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6172200"/>
            <a:ext cx="1778040" cy="12600"/>
          </a:xfrm>
          <a:custGeom>
            <a:avLst/>
            <a:gdLst/>
            <a:ahLst/>
            <a:rect l="l" t="t" r="r" b="b"/>
            <a:pathLst>
              <a:path w="1120" h="8">
                <a:moveTo>
                  <a:pt x="0" y="0"/>
                </a:moveTo>
                <a:lnTo>
                  <a:pt x="1120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009960" y="3962520"/>
            <a:ext cx="1752480" cy="2666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1219320" y="1272960"/>
            <a:ext cx="1752480" cy="2666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28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0000"/>
                </a:solidFill>
                <a:latin typeface="Arial"/>
              </a:rPr>
              <a:t>В прямоугольном треугольнике квадрат гипотенузы равен сумме квадратов ка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3463920" y="1736280"/>
            <a:ext cx="1752480" cy="266724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492360"/>
            <a:ext cx="1440" cy="2679840"/>
          </a:xfrm>
          <a:custGeom>
            <a:avLst/>
            <a:gdLst/>
            <a:ahLst/>
            <a:rect l="l" t="t" r="r" b="b"/>
            <a:pathLst>
              <a:path w="1" h="1688">
                <a:moveTo>
                  <a:pt x="0" y="0"/>
                </a:moveTo>
                <a:cubicBezTo>
                  <a:pt x="0" y="37"/>
                  <a:pt x="0" y="75"/>
                  <a:pt x="0" y="112"/>
                </a:cubicBezTo>
                <a:lnTo>
                  <a:pt x="0" y="16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0280" y="3489480"/>
            <a:ext cx="12600" cy="2698560"/>
          </a:xfrm>
          <a:custGeom>
            <a:avLst/>
            <a:gdLst/>
            <a:ahLst/>
            <a:rect l="l" t="t" r="r" b="b"/>
            <a:pathLst>
              <a:path w="8" h="1700">
                <a:moveTo>
                  <a:pt x="8" y="0"/>
                </a:moveTo>
                <a:cubicBezTo>
                  <a:pt x="8" y="37"/>
                  <a:pt x="5" y="197"/>
                  <a:pt x="4" y="480"/>
                </a:cubicBezTo>
                <a:lnTo>
                  <a:pt x="0" y="170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5680" y="6019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4495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8320" y="4419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4495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5680" y="6019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727280"/>
            <a:ext cx="4470120" cy="2679480"/>
          </a:xfrm>
          <a:custGeom>
            <a:avLst/>
            <a:gdLst/>
            <a:ahLst/>
            <a:rect l="l" t="t" r="r" b="b"/>
            <a:pathLst>
              <a:path w="2816" h="1688">
                <a:moveTo>
                  <a:pt x="0" y="4"/>
                </a:moveTo>
                <a:lnTo>
                  <a:pt x="2808" y="0"/>
                </a:lnTo>
                <a:lnTo>
                  <a:pt x="2816" y="1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90720" y="4800600"/>
                <a:ext cx="8953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34120" y="1981080"/>
                <a:ext cx="30477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15000" y="1066680"/>
                <a:ext cx="23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90920" y="3166920"/>
                <a:ext cx="520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2680" y="4495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5680" y="6019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9160" y="1727280"/>
            <a:ext cx="4470480" cy="4483080"/>
          </a:xfrm>
          <a:custGeom>
            <a:avLst/>
            <a:gdLst/>
            <a:ahLst/>
            <a:rect l="l" t="t" r="r" b="b"/>
            <a:pathLst>
              <a:path w="2816" h="2824">
                <a:moveTo>
                  <a:pt x="8" y="2800"/>
                </a:moveTo>
                <a:lnTo>
                  <a:pt x="2800" y="2800"/>
                </a:lnTo>
                <a:lnTo>
                  <a:pt x="2816" y="8"/>
                </a:lnTo>
                <a:lnTo>
                  <a:pt x="8" y="0"/>
                </a:lnTo>
                <a:lnTo>
                  <a:pt x="0" y="2824"/>
                </a:lnTo>
              </a:path>
            </a:pathLst>
          </a:custGeom>
          <a:gradFill rotWithShape="0">
            <a:gsLst>
              <a:gs pos="0">
                <a:srgbClr val="ffffff">
                  <a:alpha val="76078"/>
                </a:srgbClr>
              </a:gs>
              <a:gs pos="100000">
                <a:srgbClr val="dfda00">
                  <a:alpha val="7411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57800" y="5562720"/>
            <a:ext cx="67464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8305920" y="914400"/>
            <a:ext cx="674640" cy="1981080"/>
            <a:chOff x="8305920" y="914400"/>
            <a:chExt cx="674640" cy="19810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305920" y="914400"/>
              <a:ext cx="6746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8305920" y="2057400"/>
              <a:ext cx="67464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3429000" y="1650960"/>
            <a:ext cx="1440" cy="15228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0"/>
                </a:moveTo>
                <a:lnTo>
                  <a:pt x="1" y="9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001000" y="1600200"/>
            <a:ext cx="761760" cy="703440"/>
            <a:chOff x="8001000" y="1600200"/>
            <a:chExt cx="761760" cy="703440"/>
          </a:xfrm>
        </p:grpSpPr>
        <p:sp>
          <p:nvSpPr>
            <p:cNvPr id="130" name=""/>
            <p:cNvSpPr/>
            <p:nvPr/>
          </p:nvSpPr>
          <p:spPr>
            <a:xfrm>
              <a:off x="8001000" y="1657080"/>
              <a:ext cx="761760" cy="53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36360" y="16002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01667 L 0.32014 0.16111 L 0.33681 0.19444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81481E-006 L 0.35833 0.24444 E">
                                      <p:cBhvr>
                                        <p:cTn id="1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926 L 0.3375 -0.12407 L 0.39305 -0.13148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18519E-006 L 0.4 -0.15556 E">
                                      <p:cBhvr>
                                        <p:cTn id="2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02152 -0.25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6.2963E-006 L -0.13334 -0.55556 E">
                                      <p:cBhvr>
                                        <p:cTn id="3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185 L -0.08194 -0.46482 L -0.09722 -0.52963 E">
                                      <p:cBhvr>
                                        <p:cTn id="4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2 -0.25 L -0.50348 -0.69444 E">
                                      <p:cBhvr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348 -0.69444 L -0.19514 -0.66111 E">
                                      <p:cBhvr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4.81481E-006 L 0.18333 -0.47778 E">
                                      <p:cBhvr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-0.66111 L -0.25348 -0.26111 E">
                                      <p:cBhvr>
                                        <p:cTn id="10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068480" y="1930320"/>
            <a:ext cx="3630240" cy="3225960"/>
            <a:chOff x="1068480" y="1930320"/>
            <a:chExt cx="3630240" cy="3225960"/>
          </a:xfrm>
        </p:grpSpPr>
        <p:sp>
          <p:nvSpPr>
            <p:cNvPr id="133" name=""/>
            <p:cNvSpPr/>
            <p:nvPr/>
          </p:nvSpPr>
          <p:spPr>
            <a:xfrm>
              <a:off x="1068480" y="32004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73120" y="1930320"/>
              <a:ext cx="3225600" cy="3225960"/>
            </a:xfrm>
            <a:custGeom>
              <a:avLst/>
              <a:gdLst/>
              <a:ahLst/>
              <a:rect l="l" t="t" r="r" b="b"/>
              <a:pathLst>
                <a:path w="2032" h="2032">
                  <a:moveTo>
                    <a:pt x="16" y="2016"/>
                  </a:moveTo>
                  <a:lnTo>
                    <a:pt x="0" y="0"/>
                  </a:lnTo>
                  <a:lnTo>
                    <a:pt x="2032" y="16"/>
                  </a:lnTo>
                  <a:lnTo>
                    <a:pt x="2032" y="2032"/>
                  </a:lnTo>
                  <a:lnTo>
                    <a:pt x="16" y="20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448000" y="2909880"/>
            <a:ext cx="1285920" cy="1276200"/>
          </a:xfrm>
          <a:custGeom>
            <a:avLst/>
            <a:gdLst/>
            <a:ahLst/>
            <a:rect l="l" t="t" r="r" b="b"/>
            <a:pathLst>
              <a:path w="810" h="804">
                <a:moveTo>
                  <a:pt x="810" y="486"/>
                </a:moveTo>
                <a:lnTo>
                  <a:pt x="486" y="0"/>
                </a:lnTo>
                <a:lnTo>
                  <a:pt x="0" y="312"/>
                </a:lnTo>
                <a:lnTo>
                  <a:pt x="318" y="804"/>
                </a:lnTo>
                <a:lnTo>
                  <a:pt x="810" y="4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31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rot="19590600">
            <a:off x="4876200" y="1447920"/>
            <a:ext cx="1752480" cy="2666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19590600">
            <a:off x="4876200" y="1447920"/>
            <a:ext cx="1752480" cy="2666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3418200">
            <a:off x="2214720" y="614520"/>
            <a:ext cx="1752480" cy="2666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82880" y="4038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3418200">
            <a:off x="2219040" y="3809520"/>
            <a:ext cx="1752840" cy="2666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9598400">
            <a:off x="3814560" y="2214720"/>
            <a:ext cx="1752480" cy="26668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2720" y="32767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473120" y="1917720"/>
            <a:ext cx="1498680" cy="2273400"/>
            <a:chOff x="1473120" y="1917720"/>
            <a:chExt cx="1498680" cy="2273400"/>
          </a:xfrm>
        </p:grpSpPr>
        <p:sp>
          <p:nvSpPr>
            <p:cNvPr id="144" name=""/>
            <p:cNvSpPr/>
            <p:nvPr/>
          </p:nvSpPr>
          <p:spPr>
            <a:xfrm>
              <a:off x="1906560" y="30481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73120" y="1917720"/>
              <a:ext cx="1498680" cy="2273400"/>
            </a:xfrm>
            <a:custGeom>
              <a:avLst/>
              <a:gdLst/>
              <a:ahLst/>
              <a:rect l="l" t="t" r="r" b="b"/>
              <a:pathLst>
                <a:path w="944" h="1432">
                  <a:moveTo>
                    <a:pt x="0" y="0"/>
                  </a:moveTo>
                  <a:cubicBezTo>
                    <a:pt x="67" y="139"/>
                    <a:pt x="259" y="593"/>
                    <a:pt x="416" y="832"/>
                  </a:cubicBezTo>
                  <a:cubicBezTo>
                    <a:pt x="573" y="1071"/>
                    <a:pt x="834" y="1307"/>
                    <a:pt x="944" y="1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982880" y="4038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8560" y="3657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48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920" y="2438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22860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один алгебраический спосо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а теор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bc0000"/>
                </a:solidFill>
                <a:latin typeface="Arial"/>
              </a:rPr>
              <a:t>Доказательство Бхаскара (</a:t>
            </a:r>
            <a:r>
              <a:rPr b="1" lang="en-US" sz="2400" spc="-1" strike="noStrike">
                <a:solidFill>
                  <a:srgbClr val="bc0000"/>
                </a:solidFill>
                <a:latin typeface="Arial"/>
              </a:rPr>
              <a:t>XII </a:t>
            </a:r>
            <a:r>
              <a:rPr b="1" lang="ru-RU" sz="2400" spc="-1" strike="noStrike">
                <a:solidFill>
                  <a:srgbClr val="bc00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bc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38889 0.09259 L -0.46511 0.11111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7778 E">
                                      <p:cBhvr>
                                        <p:cTn id="27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641680" y="4229280"/>
            <a:ext cx="1473120" cy="2209680"/>
          </a:xfrm>
          <a:custGeom>
            <a:avLst/>
            <a:gdLst/>
            <a:ahLst/>
            <a:rect l="l" t="t" r="r" b="b"/>
            <a:pathLst>
              <a:path w="928" h="1392">
                <a:moveTo>
                  <a:pt x="928" y="1392"/>
                </a:moveTo>
                <a:lnTo>
                  <a:pt x="0" y="0"/>
                </a:lnTo>
                <a:lnTo>
                  <a:pt x="880" y="0"/>
                </a:lnTo>
                <a:lnTo>
                  <a:pt x="928" y="139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4191120"/>
            <a:ext cx="1397160" cy="2222280"/>
          </a:xfrm>
          <a:custGeom>
            <a:avLst/>
            <a:gdLst/>
            <a:ahLst/>
            <a:rect l="l" t="t" r="r" b="b"/>
            <a:pathLst>
              <a:path w="880" h="1400">
                <a:moveTo>
                  <a:pt x="0" y="8"/>
                </a:moveTo>
                <a:lnTo>
                  <a:pt x="880" y="0"/>
                </a:lnTo>
                <a:lnTo>
                  <a:pt x="48" y="140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7632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рямоугольных треугольников составить равенства, выражающие зависимость между сторонами прямоугольного треугольника, по теореме Пифагора.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2044800"/>
            <a:ext cx="1422360" cy="2158920"/>
          </a:xfrm>
          <a:custGeom>
            <a:avLst/>
            <a:gdLst/>
            <a:ahLst/>
            <a:rect l="l" t="t" r="r" b="b"/>
            <a:pathLst>
              <a:path w="896" h="1360">
                <a:moveTo>
                  <a:pt x="0" y="1352"/>
                </a:moveTo>
                <a:lnTo>
                  <a:pt x="0" y="0"/>
                </a:lnTo>
                <a:lnTo>
                  <a:pt x="896" y="1360"/>
                </a:lnTo>
                <a:lnTo>
                  <a:pt x="0" y="135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1994040"/>
            <a:ext cx="1384560" cy="2235240"/>
          </a:xfrm>
          <a:custGeom>
            <a:avLst/>
            <a:gdLst/>
            <a:ahLst/>
            <a:rect l="l" t="t" r="r" b="b"/>
            <a:pathLst>
              <a:path w="872" h="1408">
                <a:moveTo>
                  <a:pt x="0" y="1408"/>
                </a:moveTo>
                <a:lnTo>
                  <a:pt x="856" y="0"/>
                </a:lnTo>
                <a:lnTo>
                  <a:pt x="872" y="1392"/>
                </a:lnTo>
                <a:lnTo>
                  <a:pt x="0" y="140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89548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АВ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=АО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+ ОВ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563868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C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C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71500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81952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С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= ВО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+ ОС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1320" y="3976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2920" y="1690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224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6784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1547200">
            <a:off x="2646000" y="1995480"/>
            <a:ext cx="2819520" cy="4419720"/>
          </a:xfrm>
          <a:prstGeom prst="diamond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666880" y="1972080"/>
            <a:ext cx="2760480" cy="4437720"/>
            <a:chOff x="2666880" y="1972080"/>
            <a:chExt cx="2760480" cy="4437720"/>
          </a:xfrm>
        </p:grpSpPr>
        <p:grpSp>
          <p:nvGrpSpPr>
            <p:cNvPr id="166" name=""/>
            <p:cNvGrpSpPr/>
            <p:nvPr/>
          </p:nvGrpSpPr>
          <p:grpSpPr>
            <a:xfrm>
              <a:off x="2666880" y="1972080"/>
              <a:ext cx="2760480" cy="4437720"/>
              <a:chOff x="2666880" y="1972080"/>
              <a:chExt cx="2760480" cy="4437720"/>
            </a:xfrm>
          </p:grpSpPr>
          <p:sp>
            <p:nvSpPr>
              <p:cNvPr id="167" name=""/>
              <p:cNvSpPr/>
              <p:nvPr/>
            </p:nvSpPr>
            <p:spPr>
              <a:xfrm flipH="1" flipV="1">
                <a:off x="4012920" y="1972080"/>
                <a:ext cx="85320" cy="443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66880" y="4192560"/>
                <a:ext cx="2760480" cy="39960"/>
              </a:xfrm>
              <a:custGeom>
                <a:avLst/>
                <a:gdLst/>
                <a:ahLst/>
                <a:rect l="l" t="t" r="r" b="b"/>
                <a:pathLst>
                  <a:path w="1739" h="25">
                    <a:moveTo>
                      <a:pt x="0" y="25"/>
                    </a:moveTo>
                    <a:lnTo>
                      <a:pt x="173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635280" y="373392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3841920" y="3962520"/>
            <a:ext cx="196560" cy="237960"/>
          </a:xfrm>
          <a:custGeom>
            <a:avLst/>
            <a:gdLst/>
            <a:ahLst/>
            <a:rect l="l" t="t" r="r" b="b"/>
            <a:pathLst>
              <a:path w="124" h="150">
                <a:moveTo>
                  <a:pt x="0" y="2"/>
                </a:moveTo>
                <a:lnTo>
                  <a:pt x="120" y="0"/>
                </a:lnTo>
                <a:lnTo>
                  <a:pt x="124" y="1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22800" y="152388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ВС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ром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38360" y="4533840"/>
            <a:ext cx="2031840" cy="1015920"/>
          </a:xfrm>
          <a:custGeom>
            <a:avLst/>
            <a:gdLst/>
            <a:ahLst/>
            <a:rect l="l" t="t" r="r" b="b"/>
            <a:pathLst>
              <a:path w="1280" h="640">
                <a:moveTo>
                  <a:pt x="0" y="640"/>
                </a:moveTo>
                <a:lnTo>
                  <a:pt x="432" y="0"/>
                </a:lnTo>
                <a:lnTo>
                  <a:pt x="1280" y="640"/>
                </a:lnTo>
                <a:lnTo>
                  <a:pt x="0" y="64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20960" y="4000680"/>
            <a:ext cx="2997360" cy="1549080"/>
          </a:xfrm>
          <a:custGeom>
            <a:avLst/>
            <a:gdLst/>
            <a:ahLst/>
            <a:rect l="l" t="t" r="r" b="b"/>
            <a:pathLst>
              <a:path w="1888" h="976">
                <a:moveTo>
                  <a:pt x="0" y="976"/>
                </a:moveTo>
                <a:lnTo>
                  <a:pt x="1216" y="0"/>
                </a:lnTo>
                <a:lnTo>
                  <a:pt x="1888" y="976"/>
                </a:lnTo>
                <a:lnTo>
                  <a:pt x="0" y="9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7632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рямоугольных треугольников составить равенства, выражающие зависимость между сторонами прямоугольного треугольника, по теореме Пифагора.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8360" y="1892160"/>
            <a:ext cx="5105520" cy="3657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905120"/>
            <a:ext cx="1917720" cy="3657600"/>
          </a:xfrm>
          <a:custGeom>
            <a:avLst/>
            <a:gdLst/>
            <a:ahLst/>
            <a:rect l="l" t="t" r="r" b="b"/>
            <a:pathLst>
              <a:path w="1208" h="2304">
                <a:moveTo>
                  <a:pt x="0" y="2304"/>
                </a:moveTo>
                <a:lnTo>
                  <a:pt x="288" y="0"/>
                </a:lnTo>
                <a:lnTo>
                  <a:pt x="1208" y="1320"/>
                </a:lnTo>
                <a:lnTo>
                  <a:pt x="0" y="230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24160" y="1905120"/>
            <a:ext cx="1866960" cy="3657600"/>
          </a:xfrm>
          <a:custGeom>
            <a:avLst/>
            <a:gdLst/>
            <a:ahLst/>
            <a:rect l="l" t="t" r="r" b="b"/>
            <a:pathLst>
              <a:path w="1176" h="2304">
                <a:moveTo>
                  <a:pt x="0" y="1656"/>
                </a:moveTo>
                <a:lnTo>
                  <a:pt x="1176" y="0"/>
                </a:lnTo>
                <a:lnTo>
                  <a:pt x="888" y="2304"/>
                </a:lnTo>
                <a:lnTo>
                  <a:pt x="0" y="16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5105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47040" y="1434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21640" y="5397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69320" y="55497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4160" y="4533840"/>
            <a:ext cx="1366920" cy="1008000"/>
          </a:xfrm>
          <a:custGeom>
            <a:avLst/>
            <a:gdLst/>
            <a:ahLst/>
            <a:rect l="l" t="t" r="r" b="b"/>
            <a:pathLst>
              <a:path w="861" h="635">
                <a:moveTo>
                  <a:pt x="861" y="635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76440" y="4356000"/>
            <a:ext cx="228600" cy="338400"/>
          </a:xfrm>
          <a:custGeom>
            <a:avLst/>
            <a:gdLst/>
            <a:ahLst/>
            <a:rect l="l" t="t" r="r" b="b"/>
            <a:pathLst>
              <a:path w="144" h="213">
                <a:moveTo>
                  <a:pt x="49" y="213"/>
                </a:moveTo>
                <a:lnTo>
                  <a:pt x="144" y="10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21040" y="4116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708360" y="3987720"/>
            <a:ext cx="2082960" cy="1573200"/>
            <a:chOff x="3708360" y="3987720"/>
            <a:chExt cx="2082960" cy="1573200"/>
          </a:xfrm>
        </p:grpSpPr>
        <p:sp>
          <p:nvSpPr>
            <p:cNvPr id="187" name=""/>
            <p:cNvSpPr/>
            <p:nvPr/>
          </p:nvSpPr>
          <p:spPr>
            <a:xfrm>
              <a:off x="3708360" y="3987720"/>
              <a:ext cx="1930680" cy="1573200"/>
            </a:xfrm>
            <a:custGeom>
              <a:avLst/>
              <a:gdLst/>
              <a:ahLst/>
              <a:rect l="l" t="t" r="r" b="b"/>
              <a:pathLst>
                <a:path w="1216" h="991">
                  <a:moveTo>
                    <a:pt x="0" y="991"/>
                  </a:moveTo>
                  <a:lnTo>
                    <a:pt x="121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43560" y="4163760"/>
              <a:ext cx="347760" cy="1796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0"/>
                  </a:moveTo>
                  <a:lnTo>
                    <a:pt x="91" y="113"/>
                  </a:lnTo>
                  <a:lnTo>
                    <a:pt x="219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658480" y="364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9440" y="5473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243828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Р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+ РС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= МС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1905120"/>
            <a:ext cx="45720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41972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В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+ КМ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= МВ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586728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Р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РМ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= М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2362320"/>
            <a:ext cx="2743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К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+ МК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= МС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47760" y="4753080"/>
            <a:ext cx="476280" cy="257040"/>
          </a:xfrm>
          <a:custGeom>
            <a:avLst/>
            <a:gdLst/>
            <a:ahLst/>
            <a:rect l="l" t="t" r="r" b="b"/>
            <a:pathLst>
              <a:path w="300" h="162">
                <a:moveTo>
                  <a:pt x="0" y="33"/>
                </a:moveTo>
                <a:lnTo>
                  <a:pt x="186" y="162"/>
                </a:lnTo>
                <a:lnTo>
                  <a:pt x="300" y="0"/>
                </a:lnTo>
                <a:lnTo>
                  <a:pt x="297" y="3"/>
                </a:lnTo>
                <a:lnTo>
                  <a:pt x="29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6262800">
            <a:off x="5071320" y="3766680"/>
            <a:ext cx="476280" cy="257400"/>
          </a:xfrm>
          <a:custGeom>
            <a:avLst/>
            <a:gdLst/>
            <a:ahLst/>
            <a:rect l="l" t="t" r="r" b="b"/>
            <a:pathLst>
              <a:path w="300" h="162">
                <a:moveTo>
                  <a:pt x="0" y="33"/>
                </a:moveTo>
                <a:lnTo>
                  <a:pt x="186" y="162"/>
                </a:lnTo>
                <a:lnTo>
                  <a:pt x="300" y="0"/>
                </a:lnTo>
                <a:lnTo>
                  <a:pt x="297" y="3"/>
                </a:lnTo>
                <a:lnTo>
                  <a:pt x="29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1-04-15T15:01:5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