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gif" ContentType="image/gif"/>
  <Override PartName="/ppt/media/image8.gif" ContentType="image/gif"/>
  <Override PartName="/ppt/media/image7.gif" ContentType="image/gif"/>
  <Override PartName="/ppt/media/image17.jpeg" ContentType="image/jpeg"/>
  <Override PartName="/ppt/media/image16.gif" ContentType="image/gif"/>
  <Override PartName="/ppt/media/image2.png" ContentType="image/png"/>
  <Override PartName="/ppt/media/image5.gif" ContentType="image/gif"/>
  <Override PartName="/ppt/media/image14.jpeg" ContentType="image/jpeg"/>
  <Override PartName="/ppt/media/image15.gif" ContentType="image/gif"/>
  <Override PartName="/ppt/media/image1.png" ContentType="image/png"/>
  <Override PartName="/ppt/media/image12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BF53-5719-4102-A128-C2E3801C38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ное решение на доске учащими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BAE-0D98-42E2-BD50-4D20F1BA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FB5-AF04-449C-AC0A-7B506004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FAC-4688-426D-B24D-9CA0EF73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186-93AB-4BD5-8560-478FC727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833-47CF-44AE-BE4C-24A2C5EB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9A7-9BB0-4CC1-A22A-B4E9E23D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ED4-0404-459D-85EC-A1DC621F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89C-2167-4292-884C-73CE0807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169-6153-4BF4-AC85-13AA59A7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945-0DD4-45EF-8CE0-384C3E2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4FA-8D1E-43FC-B522-8576FF9C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DBE-BB04-4071-A136-837498F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380E-CB10-45D7-8C46-7C5EBEAF6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thgia.ru:8080/or/gia12/Main.html?view=Pos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58920" y="18900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ГИА - 20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184644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Открытый банк з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по математ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350208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а №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5200560"/>
            <a:ext cx="6553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5430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угол (в градусах) опис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утная стрелка за 10 ми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27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924360" y="1916280"/>
            <a:ext cx="4752720" cy="4752360"/>
            <a:chOff x="3924360" y="1916280"/>
            <a:chExt cx="4752720" cy="4752360"/>
          </a:xfrm>
        </p:grpSpPr>
        <p:sp>
          <p:nvSpPr>
            <p:cNvPr id="212" name=""/>
            <p:cNvSpPr/>
            <p:nvPr/>
          </p:nvSpPr>
          <p:spPr>
            <a:xfrm>
              <a:off x="4235040" y="2177280"/>
              <a:ext cx="4208040" cy="420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4360" y="1916280"/>
              <a:ext cx="4752720" cy="4752360"/>
            </a:xfrm>
            <a:prstGeom prst="donut">
              <a:avLst>
                <a:gd name="adj" fmla="val 824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148360" y="256536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941720"/>
            <a:ext cx="431640" cy="411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21300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5589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20000" y="5589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67640" y="486900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96360" y="3141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48360" y="256536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407664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12000" y="400536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3280" y="587700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3280" y="227664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8840" y="2463840"/>
            <a:ext cx="368280" cy="1790640"/>
          </a:xfrm>
          <a:custGeom>
            <a:avLst/>
            <a:gdLst/>
            <a:ahLst/>
            <a:rect l="l" t="t" r="r" b="b"/>
            <a:pathLst>
              <a:path w="232" h="1128">
                <a:moveTo>
                  <a:pt x="128" y="1128"/>
                </a:moveTo>
                <a:lnTo>
                  <a:pt x="0" y="288"/>
                </a:lnTo>
                <a:lnTo>
                  <a:pt x="112" y="0"/>
                </a:lnTo>
                <a:lnTo>
                  <a:pt x="232" y="288"/>
                </a:lnTo>
                <a:lnTo>
                  <a:pt x="128" y="1120"/>
                </a:lnTo>
              </a:path>
            </a:pathLst>
          </a:custGeom>
          <a:gradFill rotWithShape="0">
            <a:gsLst>
              <a:gs pos="0">
                <a:srgbClr val="71b8b8"/>
              </a:gs>
              <a:gs pos="50000">
                <a:srgbClr val="008080">
                  <a:alpha val="99215"/>
                </a:srgbClr>
              </a:gs>
              <a:gs pos="100000">
                <a:srgbClr val="71b8b8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7219200">
            <a:off x="6585840" y="3142440"/>
            <a:ext cx="311040" cy="59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60" y="990"/>
                  <a:pt x="5519" y="5080"/>
                  <a:pt x="5519" y="10800"/>
                </a:cubicBezTo>
                <a:cubicBezTo>
                  <a:pt x="5519" y="16520"/>
                  <a:pt x="13560" y="206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88000" y="270828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3616200">
            <a:off x="6867360" y="2862000"/>
            <a:ext cx="368280" cy="1790640"/>
          </a:xfrm>
          <a:custGeom>
            <a:avLst/>
            <a:gdLst/>
            <a:ahLst/>
            <a:rect l="l" t="t" r="r" b="b"/>
            <a:pathLst>
              <a:path w="232" h="1128">
                <a:moveTo>
                  <a:pt x="128" y="1128"/>
                </a:moveTo>
                <a:lnTo>
                  <a:pt x="0" y="288"/>
                </a:lnTo>
                <a:lnTo>
                  <a:pt x="112" y="0"/>
                </a:lnTo>
                <a:lnTo>
                  <a:pt x="232" y="288"/>
                </a:lnTo>
                <a:lnTo>
                  <a:pt x="128" y="1120"/>
                </a:lnTo>
              </a:path>
            </a:pathLst>
          </a:custGeom>
          <a:gradFill rotWithShape="0">
            <a:gsLst>
              <a:gs pos="0">
                <a:srgbClr val="71b8b8"/>
              </a:gs>
              <a:gs pos="50000">
                <a:srgbClr val="008080">
                  <a:alpha val="99215"/>
                </a:srgbClr>
              </a:gs>
              <a:gs pos="100000">
                <a:srgbClr val="71b8b8"/>
              </a:gs>
            </a:gsLst>
            <a:lin ang="718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076640"/>
            <a:ext cx="287280" cy="289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4720" y="44370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угол (в градусах) опис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овая стрелка за 20 ми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27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924360" y="1916280"/>
            <a:ext cx="4752720" cy="4752360"/>
            <a:chOff x="3924360" y="1916280"/>
            <a:chExt cx="4752720" cy="4752360"/>
          </a:xfrm>
        </p:grpSpPr>
        <p:sp>
          <p:nvSpPr>
            <p:cNvPr id="236" name=""/>
            <p:cNvSpPr/>
            <p:nvPr/>
          </p:nvSpPr>
          <p:spPr>
            <a:xfrm>
              <a:off x="4235040" y="2177280"/>
              <a:ext cx="4208040" cy="420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24360" y="1916280"/>
              <a:ext cx="4752720" cy="4752360"/>
            </a:xfrm>
            <a:prstGeom prst="donut">
              <a:avLst>
                <a:gd name="adj" fmla="val 824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148360" y="256536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4941720"/>
            <a:ext cx="431640" cy="411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21300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8360" y="5589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20000" y="5589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67640" y="486900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96360" y="3141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256536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6000" y="407664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400536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83280" y="587700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3280" y="227664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34040" y="2806560"/>
            <a:ext cx="292320" cy="1460520"/>
          </a:xfrm>
          <a:custGeom>
            <a:avLst/>
            <a:gdLst/>
            <a:ahLst/>
            <a:rect l="l" t="t" r="r" b="b"/>
            <a:pathLst>
              <a:path w="184" h="920">
                <a:moveTo>
                  <a:pt x="104" y="920"/>
                </a:moveTo>
                <a:lnTo>
                  <a:pt x="184" y="240"/>
                </a:lnTo>
                <a:lnTo>
                  <a:pt x="96" y="0"/>
                </a:lnTo>
                <a:lnTo>
                  <a:pt x="0" y="240"/>
                </a:lnTo>
                <a:lnTo>
                  <a:pt x="104" y="912"/>
                </a:lnTo>
              </a:path>
            </a:pathLst>
          </a:custGeom>
          <a:gradFill rotWithShape="0">
            <a:gsLst>
              <a:gs pos="0">
                <a:srgbClr val="375f87"/>
              </a:gs>
              <a:gs pos="50000">
                <a:srgbClr val="003366"/>
              </a:gs>
              <a:gs pos="100000">
                <a:srgbClr val="375f87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4292640"/>
            <a:ext cx="280836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20720" y="44370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1916280"/>
            <a:ext cx="2808000" cy="433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55640" y="2708280"/>
                <a:ext cx="2139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ми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6286680" y="2298600"/>
            <a:ext cx="1440" cy="533520"/>
          </a:xfrm>
          <a:custGeom>
            <a:avLst/>
            <a:gdLst/>
            <a:ahLst/>
            <a:rect l="l" t="t" r="r" b="b"/>
            <a:pathLst>
              <a:path w="1" h="336">
                <a:moveTo>
                  <a:pt x="0" y="3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97680" y="2603520"/>
            <a:ext cx="266760" cy="45720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0" y="288"/>
                </a:moveTo>
                <a:lnTo>
                  <a:pt x="168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80160" y="2349360"/>
            <a:ext cx="25560" cy="139680"/>
          </a:xfrm>
          <a:custGeom>
            <a:avLst/>
            <a:gdLst/>
            <a:ahLst/>
            <a:rect l="l" t="t" r="r" b="b"/>
            <a:pathLst>
              <a:path w="16" h="88">
                <a:moveTo>
                  <a:pt x="0" y="88"/>
                </a:moveTo>
                <a:lnTo>
                  <a:pt x="16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21360" y="2413080"/>
            <a:ext cx="63720" cy="139680"/>
          </a:xfrm>
          <a:custGeom>
            <a:avLst/>
            <a:gdLst/>
            <a:ahLst/>
            <a:rect l="l" t="t" r="r" b="b"/>
            <a:pathLst>
              <a:path w="40" h="88">
                <a:moveTo>
                  <a:pt x="0" y="88"/>
                </a:moveTo>
                <a:lnTo>
                  <a:pt x="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00720" y="2349360"/>
            <a:ext cx="406440" cy="1930680"/>
          </a:xfrm>
          <a:custGeom>
            <a:avLst/>
            <a:gdLst/>
            <a:ahLst/>
            <a:rect l="l" t="t" r="r" b="b"/>
            <a:pathLst>
              <a:path w="256" h="1216">
                <a:moveTo>
                  <a:pt x="0" y="1216"/>
                </a:moveTo>
                <a:lnTo>
                  <a:pt x="256" y="0"/>
                </a:lnTo>
              </a:path>
            </a:pathLst>
          </a:custGeom>
          <a:noFill/>
          <a:ln w="507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709200">
            <a:off x="6300360" y="2852640"/>
            <a:ext cx="292320" cy="1460520"/>
          </a:xfrm>
          <a:custGeom>
            <a:avLst/>
            <a:gdLst/>
            <a:ahLst/>
            <a:rect l="l" t="t" r="r" b="b"/>
            <a:pathLst>
              <a:path w="184" h="920">
                <a:moveTo>
                  <a:pt x="104" y="920"/>
                </a:moveTo>
                <a:lnTo>
                  <a:pt x="184" y="240"/>
                </a:lnTo>
                <a:lnTo>
                  <a:pt x="96" y="0"/>
                </a:lnTo>
                <a:lnTo>
                  <a:pt x="0" y="240"/>
                </a:lnTo>
                <a:lnTo>
                  <a:pt x="104" y="912"/>
                </a:lnTo>
              </a:path>
            </a:pathLst>
          </a:custGeom>
          <a:gradFill rotWithShape="0">
            <a:gsLst>
              <a:gs pos="0">
                <a:srgbClr val="375f87"/>
              </a:gs>
              <a:gs pos="50000">
                <a:srgbClr val="003366"/>
              </a:gs>
              <a:gs pos="100000">
                <a:srgbClr val="375f87"/>
              </a:gs>
            </a:gsLst>
            <a:lin ang="1009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56360" y="4149720"/>
            <a:ext cx="287280" cy="289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868600">
            <a:off x="6297480" y="2927160"/>
            <a:ext cx="21564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211" y="1583"/>
                  <a:pt x="8822" y="5080"/>
                  <a:pt x="8822" y="10800"/>
                </a:cubicBezTo>
                <a:cubicBezTo>
                  <a:pt x="8822" y="16520"/>
                  <a:pt x="15211" y="2001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6360" y="314172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195640" y="260280"/>
            <a:ext cx="694836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ростом 1,7 м стоит на рас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шагов от столба, на котором висит фона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нь человека равна четырем шагам. На ка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те (в метрах) расположен фонар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27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32720" y="1989000"/>
            <a:ext cx="73080" cy="446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10360" y="1989000"/>
            <a:ext cx="597240" cy="284400"/>
          </a:xfrm>
          <a:custGeom>
            <a:avLst/>
            <a:gdLst/>
            <a:ahLst/>
            <a:rect l="l" t="t" r="r" b="b"/>
            <a:pathLst>
              <a:path w="376" h="179">
                <a:moveTo>
                  <a:pt x="376" y="0"/>
                </a:moveTo>
                <a:lnTo>
                  <a:pt x="0" y="11"/>
                </a:lnTo>
                <a:lnTo>
                  <a:pt x="0" y="179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9480" y="2260440"/>
            <a:ext cx="60948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36" y="184"/>
                </a:moveTo>
                <a:lnTo>
                  <a:pt x="0" y="120"/>
                </a:lnTo>
                <a:lnTo>
                  <a:pt x="88" y="40"/>
                </a:lnTo>
                <a:lnTo>
                  <a:pt x="200" y="0"/>
                </a:lnTo>
                <a:lnTo>
                  <a:pt x="280" y="16"/>
                </a:lnTo>
                <a:lnTo>
                  <a:pt x="376" y="96"/>
                </a:lnTo>
                <a:lnTo>
                  <a:pt x="384" y="192"/>
                </a:lnTo>
                <a:lnTo>
                  <a:pt x="208" y="160"/>
                </a:lnTo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769160" y="2463840"/>
            <a:ext cx="393840" cy="257040"/>
          </a:xfrm>
          <a:custGeom>
            <a:avLst/>
            <a:gdLst/>
            <a:ahLst/>
            <a:rect l="l" t="t" r="r" b="b"/>
            <a:pathLst>
              <a:path w="248" h="162">
                <a:moveTo>
                  <a:pt x="0" y="0"/>
                </a:moveTo>
                <a:lnTo>
                  <a:pt x="14" y="114"/>
                </a:lnTo>
                <a:lnTo>
                  <a:pt x="62" y="162"/>
                </a:lnTo>
                <a:lnTo>
                  <a:pt x="150" y="154"/>
                </a:lnTo>
                <a:lnTo>
                  <a:pt x="248" y="40"/>
                </a:lnTo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44720" y="6093000"/>
            <a:ext cx="2592360" cy="4316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 flipH="1">
            <a:off x="4932360" y="4221000"/>
            <a:ext cx="1200240" cy="2276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790720" y="2060640"/>
            <a:ext cx="5672160" cy="4327560"/>
          </a:xfrm>
          <a:custGeom>
            <a:avLst/>
            <a:gdLst/>
            <a:ahLst/>
            <a:rect l="l" t="t" r="r" b="b"/>
            <a:pathLst>
              <a:path w="3573" h="2726">
                <a:moveTo>
                  <a:pt x="3573" y="0"/>
                </a:moveTo>
                <a:lnTo>
                  <a:pt x="0" y="272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8120" y="6413400"/>
            <a:ext cx="5791320" cy="63720"/>
          </a:xfrm>
          <a:custGeom>
            <a:avLst/>
            <a:gdLst/>
            <a:ahLst/>
            <a:rect l="l" t="t" r="r" b="b"/>
            <a:pathLst>
              <a:path w="3648" h="40">
                <a:moveTo>
                  <a:pt x="0" y="0"/>
                </a:moveTo>
                <a:lnTo>
                  <a:pt x="3648" y="4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16720" y="6353280"/>
            <a:ext cx="10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 ша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81440" y="6353280"/>
            <a:ext cx="10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 ш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532720" y="407664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5084640"/>
            <a:ext cx="100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,7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1916280"/>
            <a:ext cx="2808000" cy="433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сказк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08720" y="4292640"/>
            <a:ext cx="6120" cy="2098800"/>
          </a:xfrm>
          <a:custGeom>
            <a:avLst/>
            <a:gdLst/>
            <a:ahLst/>
            <a:rect l="l" t="t" r="r" b="b"/>
            <a:pathLst>
              <a:path w="4" h="1322">
                <a:moveTo>
                  <a:pt x="0" y="0"/>
                </a:moveTo>
                <a:lnTo>
                  <a:pt x="4" y="1322"/>
                </a:lnTo>
              </a:path>
            </a:pathLst>
          </a:custGeom>
          <a:noFill/>
          <a:ln w="442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344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9800" y="378936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080" y="6338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3452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53488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2421000"/>
            <a:ext cx="59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смотреть подобные тре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5640" y="272880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27082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9800" y="27082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14400" y="3068640"/>
                <a:ext cx="1913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1405080" y="44370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,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5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8500"/>
                            </p:stCondLst>
                            <p:childTnLst>
                              <p:par>
                                <p:cTn id="6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№ 1327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532720" y="1989000"/>
            <a:ext cx="73080" cy="446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10360" y="1989000"/>
            <a:ext cx="597240" cy="284400"/>
          </a:xfrm>
          <a:custGeom>
            <a:avLst/>
            <a:gdLst/>
            <a:ahLst/>
            <a:rect l="l" t="t" r="r" b="b"/>
            <a:pathLst>
              <a:path w="376" h="179">
                <a:moveTo>
                  <a:pt x="376" y="0"/>
                </a:moveTo>
                <a:lnTo>
                  <a:pt x="0" y="11"/>
                </a:lnTo>
                <a:lnTo>
                  <a:pt x="0" y="179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29480" y="2260440"/>
            <a:ext cx="60948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36" y="184"/>
                </a:moveTo>
                <a:lnTo>
                  <a:pt x="0" y="120"/>
                </a:lnTo>
                <a:lnTo>
                  <a:pt x="88" y="40"/>
                </a:lnTo>
                <a:lnTo>
                  <a:pt x="200" y="0"/>
                </a:lnTo>
                <a:lnTo>
                  <a:pt x="280" y="16"/>
                </a:lnTo>
                <a:lnTo>
                  <a:pt x="376" y="96"/>
                </a:lnTo>
                <a:lnTo>
                  <a:pt x="384" y="192"/>
                </a:lnTo>
                <a:lnTo>
                  <a:pt x="208" y="160"/>
                </a:lnTo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769160" y="2463840"/>
            <a:ext cx="393840" cy="257040"/>
          </a:xfrm>
          <a:custGeom>
            <a:avLst/>
            <a:gdLst/>
            <a:ahLst/>
            <a:rect l="l" t="t" r="r" b="b"/>
            <a:pathLst>
              <a:path w="248" h="162">
                <a:moveTo>
                  <a:pt x="0" y="0"/>
                </a:moveTo>
                <a:lnTo>
                  <a:pt x="14" y="114"/>
                </a:lnTo>
                <a:lnTo>
                  <a:pt x="62" y="162"/>
                </a:lnTo>
                <a:lnTo>
                  <a:pt x="150" y="154"/>
                </a:lnTo>
                <a:lnTo>
                  <a:pt x="248" y="40"/>
                </a:lnTo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44720" y="6093000"/>
            <a:ext cx="2592360" cy="4316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90720" y="2060640"/>
            <a:ext cx="5672160" cy="4327560"/>
          </a:xfrm>
          <a:custGeom>
            <a:avLst/>
            <a:gdLst/>
            <a:ahLst/>
            <a:rect l="l" t="t" r="r" b="b"/>
            <a:pathLst>
              <a:path w="3573" h="2726">
                <a:moveTo>
                  <a:pt x="3573" y="0"/>
                </a:moveTo>
                <a:lnTo>
                  <a:pt x="0" y="272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78120" y="6413400"/>
            <a:ext cx="5791320" cy="63720"/>
          </a:xfrm>
          <a:custGeom>
            <a:avLst/>
            <a:gdLst/>
            <a:ahLst/>
            <a:rect l="l" t="t" r="r" b="b"/>
            <a:pathLst>
              <a:path w="3648" h="40">
                <a:moveTo>
                  <a:pt x="0" y="0"/>
                </a:moveTo>
                <a:lnTo>
                  <a:pt x="3648" y="4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16720" y="6353280"/>
            <a:ext cx="10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67640" y="4149720"/>
            <a:ext cx="10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,4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24360" y="587700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96000" y="5084640"/>
            <a:ext cx="100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,8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1916280"/>
            <a:ext cx="2808000" cy="433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сказк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1344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9800" y="378936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21080" y="6338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3452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3488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2421000"/>
            <a:ext cx="59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смотреть подобные тре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5640" y="272880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03280" y="27082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9800" y="27082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914400" y="3068640"/>
                <a:ext cx="1913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1549440" y="4437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ростом 1,8 м сто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асстоянии 12 м от столб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тором висит фонарь на высоте 5,4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длину тени человека в мет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1085760" cy="2016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435640" y="4365720"/>
            <a:ext cx="6480" cy="2098440"/>
          </a:xfrm>
          <a:custGeom>
            <a:avLst/>
            <a:gdLst/>
            <a:ahLst/>
            <a:rect l="l" t="t" r="r" b="b"/>
            <a:pathLst>
              <a:path w="4" h="1322">
                <a:moveTo>
                  <a:pt x="0" y="0"/>
                </a:moveTo>
                <a:lnTo>
                  <a:pt x="4" y="1322"/>
                </a:lnTo>
              </a:path>
            </a:pathLst>
          </a:custGeom>
          <a:noFill/>
          <a:ln w="442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500"/>
                            </p:stCondLst>
                            <p:childTnLst>
                              <p:par>
                                <p:cTn id="7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8500"/>
                            </p:stCondLst>
                            <p:childTnLst>
                              <p:par>
                                <p:cTn id="7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8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050920" y="260280"/>
            <a:ext cx="7093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щадь прямоугольного земе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ка равна 9 га, ширина участка равна 150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длину этого участка в метра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27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08720" y="1916280"/>
            <a:ext cx="3095640" cy="43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686200" y="5604840"/>
            <a:ext cx="633240" cy="412200"/>
            <a:chOff x="5686200" y="5604840"/>
            <a:chExt cx="633240" cy="412200"/>
          </a:xfrm>
        </p:grpSpPr>
        <p:sp>
          <p:nvSpPr>
            <p:cNvPr id="324" name=""/>
            <p:cNvSpPr/>
            <p:nvPr/>
          </p:nvSpPr>
          <p:spPr>
            <a:xfrm rot="3252600">
              <a:off x="6047280" y="5682600"/>
              <a:ext cx="172080" cy="33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 rot="17460000">
              <a:off x="5766120" y="5618880"/>
              <a:ext cx="281160" cy="3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829120" y="2868120"/>
            <a:ext cx="632880" cy="412200"/>
            <a:chOff x="5829120" y="2868120"/>
            <a:chExt cx="632880" cy="412200"/>
          </a:xfrm>
        </p:grpSpPr>
        <p:sp>
          <p:nvSpPr>
            <p:cNvPr id="327" name=""/>
            <p:cNvSpPr/>
            <p:nvPr/>
          </p:nvSpPr>
          <p:spPr>
            <a:xfrm rot="3252600">
              <a:off x="6190200" y="2945520"/>
              <a:ext cx="171720" cy="33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 rot="17460000">
              <a:off x="5908680" y="2881800"/>
              <a:ext cx="28080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581240" y="4372200"/>
            <a:ext cx="699480" cy="433440"/>
            <a:chOff x="7581240" y="4372200"/>
            <a:chExt cx="699480" cy="433440"/>
          </a:xfrm>
        </p:grpSpPr>
        <p:sp>
          <p:nvSpPr>
            <p:cNvPr id="330" name=""/>
            <p:cNvSpPr/>
            <p:nvPr/>
          </p:nvSpPr>
          <p:spPr>
            <a:xfrm flipH="1" rot="18347400">
              <a:off x="7697520" y="4437720"/>
              <a:ext cx="172080" cy="375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 rot="4140000">
              <a:off x="7898400" y="4371480"/>
              <a:ext cx="281160" cy="41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494040" y="4533480"/>
            <a:ext cx="565560" cy="391680"/>
            <a:chOff x="6494040" y="4533480"/>
            <a:chExt cx="565560" cy="391680"/>
          </a:xfrm>
        </p:grpSpPr>
        <p:sp>
          <p:nvSpPr>
            <p:cNvPr id="333" name=""/>
            <p:cNvSpPr/>
            <p:nvPr/>
          </p:nvSpPr>
          <p:spPr>
            <a:xfrm flipH="1" rot="18347400">
              <a:off x="6576120" y="4623840"/>
              <a:ext cx="172080" cy="29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 rot="4140000">
              <a:off x="6719760" y="4562280"/>
              <a:ext cx="281160" cy="31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357680" y="5613120"/>
            <a:ext cx="565560" cy="391680"/>
            <a:chOff x="7357680" y="5613120"/>
            <a:chExt cx="565560" cy="391680"/>
          </a:xfrm>
        </p:grpSpPr>
        <p:sp>
          <p:nvSpPr>
            <p:cNvPr id="336" name=""/>
            <p:cNvSpPr/>
            <p:nvPr/>
          </p:nvSpPr>
          <p:spPr>
            <a:xfrm flipH="1" rot="18347400">
              <a:off x="7439760" y="5703480"/>
              <a:ext cx="172080" cy="29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 rot="4140000">
              <a:off x="7583400" y="5641920"/>
              <a:ext cx="281160" cy="31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556760" y="2589120"/>
            <a:ext cx="566640" cy="391680"/>
            <a:chOff x="7556760" y="2589120"/>
            <a:chExt cx="566640" cy="391680"/>
          </a:xfrm>
        </p:grpSpPr>
        <p:sp>
          <p:nvSpPr>
            <p:cNvPr id="339" name=""/>
            <p:cNvSpPr/>
            <p:nvPr/>
          </p:nvSpPr>
          <p:spPr>
            <a:xfrm rot="3252600">
              <a:off x="7868520" y="2679120"/>
              <a:ext cx="171720" cy="29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 rot="17460000">
              <a:off x="7615440" y="2617560"/>
              <a:ext cx="280800" cy="31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565320" y="2804760"/>
            <a:ext cx="565560" cy="391680"/>
            <a:chOff x="6565320" y="2804760"/>
            <a:chExt cx="565560" cy="391680"/>
          </a:xfrm>
        </p:grpSpPr>
        <p:sp>
          <p:nvSpPr>
            <p:cNvPr id="342" name=""/>
            <p:cNvSpPr/>
            <p:nvPr/>
          </p:nvSpPr>
          <p:spPr>
            <a:xfrm flipH="1" rot="18347400">
              <a:off x="6647400" y="2895120"/>
              <a:ext cx="172080" cy="29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 rot="4140000">
              <a:off x="6791040" y="2833560"/>
              <a:ext cx="281160" cy="31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093080" y="5157720"/>
            <a:ext cx="504000" cy="866520"/>
            <a:chOff x="7093080" y="5157720"/>
            <a:chExt cx="504000" cy="866520"/>
          </a:xfrm>
        </p:grpSpPr>
        <p:sp>
          <p:nvSpPr>
            <p:cNvPr id="345" name=""/>
            <p:cNvSpPr/>
            <p:nvPr/>
          </p:nvSpPr>
          <p:spPr>
            <a:xfrm>
              <a:off x="7139160" y="5410080"/>
              <a:ext cx="457920" cy="61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93080" y="5157720"/>
              <a:ext cx="459000" cy="48924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885440" y="3933720"/>
            <a:ext cx="504360" cy="866160"/>
            <a:chOff x="7885440" y="3933720"/>
            <a:chExt cx="504360" cy="866160"/>
          </a:xfrm>
        </p:grpSpPr>
        <p:sp>
          <p:nvSpPr>
            <p:cNvPr id="348" name=""/>
            <p:cNvSpPr/>
            <p:nvPr/>
          </p:nvSpPr>
          <p:spPr>
            <a:xfrm flipH="1">
              <a:off x="7885440" y="4186080"/>
              <a:ext cx="458640" cy="61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7930440" y="3933720"/>
              <a:ext cx="459360" cy="48924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084720" y="5229360"/>
            <a:ext cx="576000" cy="865800"/>
            <a:chOff x="6084720" y="5229360"/>
            <a:chExt cx="576000" cy="865800"/>
          </a:xfrm>
        </p:grpSpPr>
        <p:sp>
          <p:nvSpPr>
            <p:cNvPr id="351" name=""/>
            <p:cNvSpPr/>
            <p:nvPr/>
          </p:nvSpPr>
          <p:spPr>
            <a:xfrm flipH="1">
              <a:off x="6084720" y="5481360"/>
              <a:ext cx="523440" cy="61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6136560" y="5229360"/>
              <a:ext cx="524160" cy="48888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156360" y="4149720"/>
            <a:ext cx="575640" cy="958320"/>
            <a:chOff x="6156360" y="4149720"/>
            <a:chExt cx="575640" cy="958320"/>
          </a:xfrm>
        </p:grpSpPr>
        <p:sp>
          <p:nvSpPr>
            <p:cNvPr id="354" name=""/>
            <p:cNvSpPr/>
            <p:nvPr/>
          </p:nvSpPr>
          <p:spPr>
            <a:xfrm>
              <a:off x="6208560" y="4428720"/>
              <a:ext cx="523440" cy="67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56360" y="4149720"/>
              <a:ext cx="524520" cy="54108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885080" y="2276640"/>
            <a:ext cx="576000" cy="865800"/>
            <a:chOff x="7885080" y="2276640"/>
            <a:chExt cx="576000" cy="865800"/>
          </a:xfrm>
        </p:grpSpPr>
        <p:sp>
          <p:nvSpPr>
            <p:cNvPr id="357" name=""/>
            <p:cNvSpPr/>
            <p:nvPr/>
          </p:nvSpPr>
          <p:spPr>
            <a:xfrm flipH="1">
              <a:off x="7885080" y="2528640"/>
              <a:ext cx="523440" cy="61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936920" y="2276640"/>
              <a:ext cx="524160" cy="48888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804000" y="2349360"/>
            <a:ext cx="576000" cy="866520"/>
            <a:chOff x="6804000" y="2349360"/>
            <a:chExt cx="576000" cy="866520"/>
          </a:xfrm>
        </p:grpSpPr>
        <p:sp>
          <p:nvSpPr>
            <p:cNvPr id="360" name=""/>
            <p:cNvSpPr/>
            <p:nvPr/>
          </p:nvSpPr>
          <p:spPr>
            <a:xfrm flipH="1">
              <a:off x="6804000" y="2601720"/>
              <a:ext cx="523440" cy="61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855840" y="2349360"/>
              <a:ext cx="524160" cy="48924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651640" y="2421000"/>
            <a:ext cx="575640" cy="958320"/>
            <a:chOff x="5651640" y="2421000"/>
            <a:chExt cx="575640" cy="958320"/>
          </a:xfrm>
        </p:grpSpPr>
        <p:sp>
          <p:nvSpPr>
            <p:cNvPr id="363" name=""/>
            <p:cNvSpPr/>
            <p:nvPr/>
          </p:nvSpPr>
          <p:spPr>
            <a:xfrm>
              <a:off x="5703840" y="2700000"/>
              <a:ext cx="523440" cy="67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51640" y="2421000"/>
              <a:ext cx="524160" cy="54108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6660000" y="3500280"/>
            <a:ext cx="8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516720" y="6353280"/>
            <a:ext cx="10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5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1916280"/>
            <a:ext cx="2808000" cy="433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2565360"/>
            <a:ext cx="2233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 га = 10000 м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03640" y="3860640"/>
            <a:ext cx="4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44360" y="314172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60360" y="44370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5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6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периметр прямоугольного учас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, площадь которого равна 80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дна сторона в 2 раза больше друг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дайте в мет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327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1916280"/>
            <a:ext cx="3095640" cy="43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686200" y="5604840"/>
            <a:ext cx="633240" cy="412200"/>
            <a:chOff x="5686200" y="5604840"/>
            <a:chExt cx="633240" cy="412200"/>
          </a:xfrm>
        </p:grpSpPr>
        <p:sp>
          <p:nvSpPr>
            <p:cNvPr id="377" name=""/>
            <p:cNvSpPr/>
            <p:nvPr/>
          </p:nvSpPr>
          <p:spPr>
            <a:xfrm rot="3252600">
              <a:off x="6047280" y="5682600"/>
              <a:ext cx="172080" cy="33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 rot="17460000">
              <a:off x="5766120" y="5618880"/>
              <a:ext cx="281160" cy="3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829120" y="2868120"/>
            <a:ext cx="632880" cy="412200"/>
            <a:chOff x="5829120" y="2868120"/>
            <a:chExt cx="632880" cy="412200"/>
          </a:xfrm>
        </p:grpSpPr>
        <p:sp>
          <p:nvSpPr>
            <p:cNvPr id="380" name=""/>
            <p:cNvSpPr/>
            <p:nvPr/>
          </p:nvSpPr>
          <p:spPr>
            <a:xfrm rot="3252600">
              <a:off x="6190200" y="2945520"/>
              <a:ext cx="171720" cy="33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 rot="17460000">
              <a:off x="5908680" y="2881800"/>
              <a:ext cx="280800" cy="36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581240" y="4372200"/>
            <a:ext cx="699480" cy="433440"/>
            <a:chOff x="7581240" y="4372200"/>
            <a:chExt cx="699480" cy="433440"/>
          </a:xfrm>
        </p:grpSpPr>
        <p:sp>
          <p:nvSpPr>
            <p:cNvPr id="383" name=""/>
            <p:cNvSpPr/>
            <p:nvPr/>
          </p:nvSpPr>
          <p:spPr>
            <a:xfrm flipH="1" rot="18347400">
              <a:off x="7697520" y="4437720"/>
              <a:ext cx="172080" cy="375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4140000">
              <a:off x="7898400" y="4371480"/>
              <a:ext cx="281160" cy="41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94040" y="4533480"/>
            <a:ext cx="565560" cy="391680"/>
            <a:chOff x="6494040" y="4533480"/>
            <a:chExt cx="565560" cy="391680"/>
          </a:xfrm>
        </p:grpSpPr>
        <p:sp>
          <p:nvSpPr>
            <p:cNvPr id="386" name=""/>
            <p:cNvSpPr/>
            <p:nvPr/>
          </p:nvSpPr>
          <p:spPr>
            <a:xfrm flipH="1" rot="18347400">
              <a:off x="6576120" y="4623840"/>
              <a:ext cx="172080" cy="29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 rot="4140000">
              <a:off x="6719760" y="4562280"/>
              <a:ext cx="281160" cy="31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7357680" y="5613120"/>
            <a:ext cx="565560" cy="391680"/>
            <a:chOff x="7357680" y="5613120"/>
            <a:chExt cx="565560" cy="391680"/>
          </a:xfrm>
        </p:grpSpPr>
        <p:sp>
          <p:nvSpPr>
            <p:cNvPr id="389" name=""/>
            <p:cNvSpPr/>
            <p:nvPr/>
          </p:nvSpPr>
          <p:spPr>
            <a:xfrm flipH="1" rot="18347400">
              <a:off x="7439760" y="5703480"/>
              <a:ext cx="172080" cy="29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 rot="4140000">
              <a:off x="7583400" y="5641920"/>
              <a:ext cx="281160" cy="31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7556760" y="2589120"/>
            <a:ext cx="566640" cy="391680"/>
            <a:chOff x="7556760" y="2589120"/>
            <a:chExt cx="566640" cy="391680"/>
          </a:xfrm>
        </p:grpSpPr>
        <p:sp>
          <p:nvSpPr>
            <p:cNvPr id="392" name=""/>
            <p:cNvSpPr/>
            <p:nvPr/>
          </p:nvSpPr>
          <p:spPr>
            <a:xfrm rot="3252600">
              <a:off x="7868520" y="2679120"/>
              <a:ext cx="171720" cy="29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 rot="17460000">
              <a:off x="7615440" y="2617560"/>
              <a:ext cx="280800" cy="31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565320" y="2804760"/>
            <a:ext cx="565560" cy="391680"/>
            <a:chOff x="6565320" y="2804760"/>
            <a:chExt cx="565560" cy="391680"/>
          </a:xfrm>
        </p:grpSpPr>
        <p:sp>
          <p:nvSpPr>
            <p:cNvPr id="395" name=""/>
            <p:cNvSpPr/>
            <p:nvPr/>
          </p:nvSpPr>
          <p:spPr>
            <a:xfrm flipH="1" rot="18347400">
              <a:off x="6647400" y="2895120"/>
              <a:ext cx="172080" cy="29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 rot="4140000">
              <a:off x="6791040" y="2833560"/>
              <a:ext cx="281160" cy="31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7093080" y="5157720"/>
            <a:ext cx="504000" cy="866520"/>
            <a:chOff x="7093080" y="5157720"/>
            <a:chExt cx="504000" cy="866520"/>
          </a:xfrm>
        </p:grpSpPr>
        <p:sp>
          <p:nvSpPr>
            <p:cNvPr id="398" name=""/>
            <p:cNvSpPr/>
            <p:nvPr/>
          </p:nvSpPr>
          <p:spPr>
            <a:xfrm>
              <a:off x="7139160" y="5410080"/>
              <a:ext cx="457920" cy="61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93080" y="5157720"/>
              <a:ext cx="459000" cy="489240"/>
            </a:xfrm>
            <a:prstGeom prst="su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885440" y="3933720"/>
            <a:ext cx="504360" cy="866160"/>
            <a:chOff x="7885440" y="3933720"/>
            <a:chExt cx="504360" cy="866160"/>
          </a:xfrm>
        </p:grpSpPr>
        <p:sp>
          <p:nvSpPr>
            <p:cNvPr id="401" name=""/>
            <p:cNvSpPr/>
            <p:nvPr/>
          </p:nvSpPr>
          <p:spPr>
            <a:xfrm flipH="1">
              <a:off x="7885440" y="4186080"/>
              <a:ext cx="458640" cy="61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930440" y="3933720"/>
              <a:ext cx="459360" cy="4892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084720" y="5229360"/>
            <a:ext cx="576000" cy="865800"/>
            <a:chOff x="6084720" y="5229360"/>
            <a:chExt cx="576000" cy="865800"/>
          </a:xfrm>
        </p:grpSpPr>
        <p:sp>
          <p:nvSpPr>
            <p:cNvPr id="404" name=""/>
            <p:cNvSpPr/>
            <p:nvPr/>
          </p:nvSpPr>
          <p:spPr>
            <a:xfrm flipH="1">
              <a:off x="6084720" y="5481360"/>
              <a:ext cx="523440" cy="61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136560" y="5229360"/>
              <a:ext cx="524160" cy="48888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156360" y="4149720"/>
            <a:ext cx="575640" cy="958320"/>
            <a:chOff x="6156360" y="4149720"/>
            <a:chExt cx="575640" cy="958320"/>
          </a:xfrm>
        </p:grpSpPr>
        <p:sp>
          <p:nvSpPr>
            <p:cNvPr id="407" name=""/>
            <p:cNvSpPr/>
            <p:nvPr/>
          </p:nvSpPr>
          <p:spPr>
            <a:xfrm>
              <a:off x="6208560" y="4428720"/>
              <a:ext cx="523440" cy="67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56360" y="4149720"/>
              <a:ext cx="524520" cy="54108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885080" y="2276640"/>
            <a:ext cx="576000" cy="865800"/>
            <a:chOff x="7885080" y="2276640"/>
            <a:chExt cx="576000" cy="865800"/>
          </a:xfrm>
        </p:grpSpPr>
        <p:sp>
          <p:nvSpPr>
            <p:cNvPr id="410" name=""/>
            <p:cNvSpPr/>
            <p:nvPr/>
          </p:nvSpPr>
          <p:spPr>
            <a:xfrm flipH="1">
              <a:off x="7885080" y="2528640"/>
              <a:ext cx="523440" cy="61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936920" y="2276640"/>
              <a:ext cx="524160" cy="48888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804000" y="2349360"/>
            <a:ext cx="576000" cy="866520"/>
            <a:chOff x="6804000" y="2349360"/>
            <a:chExt cx="576000" cy="866520"/>
          </a:xfrm>
        </p:grpSpPr>
        <p:sp>
          <p:nvSpPr>
            <p:cNvPr id="413" name=""/>
            <p:cNvSpPr/>
            <p:nvPr/>
          </p:nvSpPr>
          <p:spPr>
            <a:xfrm flipH="1">
              <a:off x="6804000" y="2601720"/>
              <a:ext cx="523440" cy="61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6855840" y="2349360"/>
              <a:ext cx="524160" cy="489240"/>
            </a:xfrm>
            <a:prstGeom prst="su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651640" y="2421000"/>
            <a:ext cx="575640" cy="958320"/>
            <a:chOff x="5651640" y="2421000"/>
            <a:chExt cx="575640" cy="958320"/>
          </a:xfrm>
        </p:grpSpPr>
        <p:sp>
          <p:nvSpPr>
            <p:cNvPr id="416" name=""/>
            <p:cNvSpPr/>
            <p:nvPr/>
          </p:nvSpPr>
          <p:spPr>
            <a:xfrm>
              <a:off x="5703840" y="2700000"/>
              <a:ext cx="523440" cy="67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82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82237"/>
                </a:path>
              </a:pathLst>
            </a:cu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51640" y="2421000"/>
              <a:ext cx="524160" cy="541080"/>
            </a:xfrm>
            <a:prstGeom prst="sun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666840" y="35002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3960000" y="378864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 2 раза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08720" y="1916280"/>
            <a:ext cx="3095640" cy="4392360"/>
          </a:xfrm>
          <a:prstGeom prst="rect">
            <a:avLst/>
          </a:prstGeom>
          <a:noFill/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4000" y="1916280"/>
            <a:ext cx="2808000" cy="433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2637000"/>
            <a:ext cx="2233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 = 2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+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33440" y="43657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16320" y="234936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gia.ru:8080/or/gia12/Main.html?view=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692280"/>
            <a:ext cx="77752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оздании презентации были использ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с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Открытый банк заданий по математ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А –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4360" y="3573360"/>
            <a:ext cx="60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mayli.ru/smile/detia-311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4360" y="2852640"/>
            <a:ext cx="7775280" cy="576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имированные карти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6520" y="393372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mayli.ru/smile/detia-318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6000" y="616572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mages.yandex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600" y="429264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mayli.ru/smile/ludia-918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960" y="4653000"/>
            <a:ext cx="57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mayli.ru/smile/ludia-916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5440" y="4941720"/>
            <a:ext cx="65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mayli.ru/smile/transporta-692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5516640"/>
            <a:ext cx="7775280" cy="576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ти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86880" y="616572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о запрос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95640" y="260280"/>
            <a:ext cx="662436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ьчик прошел от дома по направл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запад 800 м. Затем повернул на сев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рошел 600 м. На каком расстоя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 метрах) от дома оказался мальчик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27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740720" y="4797360"/>
            <a:ext cx="95256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H="1">
            <a:off x="3924360" y="6165720"/>
            <a:ext cx="3960720" cy="0"/>
          </a:xfrm>
          <a:prstGeom prst="line">
            <a:avLst/>
          </a:prstGeom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46309" b="4566"/>
          <a:stretch/>
        </p:blipFill>
        <p:spPr>
          <a:xfrm>
            <a:off x="7353360" y="4365720"/>
            <a:ext cx="1790640" cy="216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49560" y="2997360"/>
            <a:ext cx="1800" cy="3149280"/>
          </a:xfrm>
          <a:custGeom>
            <a:avLst/>
            <a:gdLst/>
            <a:ahLst/>
            <a:rect l="l" t="t" r="r" b="b"/>
            <a:pathLst>
              <a:path w="1" h="1984">
                <a:moveTo>
                  <a:pt x="0" y="0"/>
                </a:moveTo>
                <a:lnTo>
                  <a:pt x="0" y="1984"/>
                </a:lnTo>
              </a:path>
            </a:pathLst>
          </a:custGeom>
          <a:noFill/>
          <a:ln w="316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492360" y="4724280"/>
            <a:ext cx="952560" cy="1447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24360" y="2997360"/>
            <a:ext cx="4032360" cy="309564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6165720"/>
            <a:ext cx="100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4581360"/>
            <a:ext cx="100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400536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6880" y="198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8520" y="633888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2496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8160" y="34290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7440" y="44370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-0.46163 -0.00047 E">
                                      <p:cBhvr>
                                        <p:cTn id="1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7 L 8.33333E-007 -0.38866 E">
                                      <p:cBhvr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50920" y="0"/>
            <a:ext cx="7093080" cy="1773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вочка прошла от дома по направл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запад 500 м. Затем повернула на сев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рошла 300 м. После этого она прош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восток еще 100 м. На каком расстоя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 метрах) от дома оказалась девочк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27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885080" y="5084640"/>
            <a:ext cx="871560" cy="1005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3924360" y="6165720"/>
            <a:ext cx="3960720" cy="0"/>
          </a:xfrm>
          <a:prstGeom prst="line">
            <a:avLst/>
          </a:prstGeom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rcRect l="0" t="0" r="46309" b="4566"/>
          <a:stretch/>
        </p:blipFill>
        <p:spPr>
          <a:xfrm>
            <a:off x="7353360" y="4221000"/>
            <a:ext cx="1790640" cy="2160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36960" y="3695760"/>
            <a:ext cx="12600" cy="2450880"/>
          </a:xfrm>
          <a:custGeom>
            <a:avLst/>
            <a:gdLst/>
            <a:ahLst/>
            <a:rect l="l" t="t" r="r" b="b"/>
            <a:pathLst>
              <a:path w="8" h="1544">
                <a:moveTo>
                  <a:pt x="0" y="0"/>
                </a:moveTo>
                <a:lnTo>
                  <a:pt x="8" y="1544"/>
                </a:lnTo>
              </a:path>
            </a:pathLst>
          </a:custGeom>
          <a:noFill/>
          <a:ln w="316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05440" y="3720960"/>
            <a:ext cx="1994040" cy="2438640"/>
          </a:xfrm>
          <a:custGeom>
            <a:avLst/>
            <a:gdLst/>
            <a:ahLst/>
            <a:rect l="l" t="t" r="r" b="b"/>
            <a:pathLst>
              <a:path w="1256" h="1536">
                <a:moveTo>
                  <a:pt x="0" y="0"/>
                </a:moveTo>
                <a:lnTo>
                  <a:pt x="1256" y="153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6165720"/>
            <a:ext cx="100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4581360"/>
            <a:ext cx="100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4221000"/>
            <a:ext cx="4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6880" y="198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8520" y="633888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72496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8160" y="34290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564000" y="5157720"/>
            <a:ext cx="809640" cy="933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 flipH="1">
            <a:off x="3564000" y="2781360"/>
            <a:ext cx="792000" cy="933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24360" y="3716280"/>
            <a:ext cx="1979640" cy="6480"/>
          </a:xfrm>
          <a:custGeom>
            <a:avLst/>
            <a:gdLst/>
            <a:ahLst/>
            <a:rect l="l" t="t" r="r" b="b"/>
            <a:pathLst>
              <a:path w="1247" h="4">
                <a:moveTo>
                  <a:pt x="1247" y="0"/>
                </a:moveTo>
                <a:lnTo>
                  <a:pt x="0" y="4"/>
                </a:lnTo>
              </a:path>
            </a:pathLst>
          </a:custGeom>
          <a:noFill/>
          <a:ln w="316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3645000"/>
            <a:ext cx="10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60360" y="44370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916280"/>
            <a:ext cx="2808000" cy="433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3716280"/>
            <a:ext cx="0" cy="2449440"/>
          </a:xfrm>
          <a:prstGeom prst="line">
            <a:avLst/>
          </a:prstGeom>
          <a:ln w="414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92840" y="3759120"/>
            <a:ext cx="1955880" cy="2387520"/>
          </a:xfrm>
          <a:custGeom>
            <a:avLst/>
            <a:gdLst/>
            <a:ahLst/>
            <a:rect l="l" t="t" r="r" b="b"/>
            <a:pathLst>
              <a:path w="1232" h="1504">
                <a:moveTo>
                  <a:pt x="0" y="1480"/>
                </a:moveTo>
                <a:lnTo>
                  <a:pt x="0" y="0"/>
                </a:lnTo>
                <a:lnTo>
                  <a:pt x="1232" y="1496"/>
                </a:lnTo>
                <a:lnTo>
                  <a:pt x="8" y="1504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-0.48073 0.00047 E">
                                      <p:cBhvr>
                                        <p:cTn id="73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4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0.21562 0.00277 E">
                                      <p:cBhvr>
                                        <p:cTn id="115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50920" y="0"/>
            <a:ext cx="7093080" cy="1773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ьчик и девочка, расставшись на перекрест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шли по взаимно перпендикулярным дорог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ьчик со скоростью 4 км/ч, девочка – 3 км/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расстояние (в км) будет между н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ез 30 минут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27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96000" y="2349360"/>
            <a:ext cx="744480" cy="1282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857160" cy="99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81560" y="3594240"/>
            <a:ext cx="4546440" cy="2501640"/>
          </a:xfrm>
          <a:custGeom>
            <a:avLst/>
            <a:gdLst/>
            <a:ahLst/>
            <a:rect l="l" t="t" r="r" b="b"/>
            <a:pathLst>
              <a:path w="2864" h="1576">
                <a:moveTo>
                  <a:pt x="0" y="1200"/>
                </a:moveTo>
                <a:lnTo>
                  <a:pt x="920" y="0"/>
                </a:lnTo>
                <a:lnTo>
                  <a:pt x="2864" y="157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5524560"/>
            <a:ext cx="4608720" cy="568440"/>
          </a:xfrm>
          <a:custGeom>
            <a:avLst/>
            <a:gdLst/>
            <a:ahLst/>
            <a:rect l="l" t="t" r="r" b="b"/>
            <a:pathLst>
              <a:path w="2903" h="358">
                <a:moveTo>
                  <a:pt x="0" y="0"/>
                </a:moveTo>
                <a:lnTo>
                  <a:pt x="2903" y="358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4720" y="587700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268000">
            <a:off x="5716080" y="3666600"/>
            <a:ext cx="28764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2924280"/>
            <a:ext cx="10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2924280"/>
            <a:ext cx="10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5157720"/>
            <a:ext cx="10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3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916280"/>
            <a:ext cx="2808000" cy="433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7800" y="234936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0 мин = 0,5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000" y="26370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= 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840" y="2997360"/>
            <a:ext cx="223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5 = 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080" y="3357720"/>
            <a:ext cx="203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5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3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,2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360" y="37893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√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,25 + 4 = 2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1680" y="3843360"/>
            <a:ext cx="1139760" cy="4680"/>
          </a:xfrm>
          <a:custGeom>
            <a:avLst/>
            <a:gdLst/>
            <a:ahLst/>
            <a:rect l="l" t="t" r="r" b="b"/>
            <a:pathLst>
              <a:path w="718" h="3">
                <a:moveTo>
                  <a:pt x="0" y="3"/>
                </a:moveTo>
                <a:lnTo>
                  <a:pt x="71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-0.16493 0.28472 E">
                                      <p:cBhvr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29931 0.32547 E">
                                      <p:cBhvr>
                                        <p:cTn id="180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5640" y="0"/>
            <a:ext cx="6948360" cy="1773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а парохода вышли из порта, следуя од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евер, другой на запад. Скорости их рав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ответственно 15 км/ч и 20 км/ч. Ка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тояние (в километра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ет между ними через 2 час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27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343640" y="5661000"/>
            <a:ext cx="1800360" cy="60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86880" y="198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2496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8160" y="34290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8520" y="633888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2924280"/>
            <a:ext cx="1440" cy="3149640"/>
          </a:xfrm>
          <a:custGeom>
            <a:avLst/>
            <a:gdLst/>
            <a:ahLst/>
            <a:rect l="l" t="t" r="r" b="b"/>
            <a:pathLst>
              <a:path w="1" h="1984">
                <a:moveTo>
                  <a:pt x="0" y="0"/>
                </a:moveTo>
                <a:lnTo>
                  <a:pt x="0" y="1984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40360" y="6021360"/>
            <a:ext cx="396072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 rot="2712000">
            <a:off x="7693920" y="5852160"/>
            <a:ext cx="1876320" cy="63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rcRect l="9511" t="19782" r="9171" b="23047"/>
          <a:stretch/>
        </p:blipFill>
        <p:spPr>
          <a:xfrm>
            <a:off x="6985080" y="5373720"/>
            <a:ext cx="2158920" cy="113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2933640"/>
            <a:ext cx="3962160" cy="3073320"/>
          </a:xfrm>
          <a:custGeom>
            <a:avLst/>
            <a:gdLst/>
            <a:ahLst/>
            <a:rect l="l" t="t" r="r" b="b"/>
            <a:pathLst>
              <a:path w="2496" h="1936">
                <a:moveTo>
                  <a:pt x="2496" y="0"/>
                </a:moveTo>
                <a:lnTo>
                  <a:pt x="0" y="193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400536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3933720"/>
            <a:ext cx="10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5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4797360"/>
            <a:ext cx="10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3500280"/>
            <a:ext cx="10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4720" y="44370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-0.47239 -0.00185 E">
                                      <p:cBhvr>
                                        <p:cTn id="249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023 L -0.00278 -0.46227 E">
                                      <p:cBhvr>
                                        <p:cTn id="254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400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24 м одна от другой растут две со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та одной 30 м, а другой — 12 м. Най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тояние (в метрах) между их верхуш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43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1846" t="24809" r="0" b="0"/>
          <a:stretch/>
        </p:blipFill>
        <p:spPr>
          <a:xfrm>
            <a:off x="3203640" y="5373720"/>
            <a:ext cx="720720" cy="981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26126" r="13579" b="0"/>
          <a:stretch/>
        </p:blipFill>
        <p:spPr>
          <a:xfrm>
            <a:off x="6300720" y="1844640"/>
            <a:ext cx="2843280" cy="4535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43480" y="6388200"/>
            <a:ext cx="4444920" cy="1440"/>
          </a:xfrm>
          <a:custGeom>
            <a:avLst/>
            <a:gdLst/>
            <a:ahLst/>
            <a:rect l="l" t="t" r="r" b="b"/>
            <a:pathLst>
              <a:path w="2800" h="1">
                <a:moveTo>
                  <a:pt x="2800" y="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2060640"/>
            <a:ext cx="4173480" cy="3336840"/>
          </a:xfrm>
          <a:custGeom>
            <a:avLst/>
            <a:gdLst/>
            <a:ahLst/>
            <a:rect l="l" t="t" r="r" b="b"/>
            <a:pathLst>
              <a:path w="2629" h="2102">
                <a:moveTo>
                  <a:pt x="2629" y="0"/>
                </a:moveTo>
                <a:lnTo>
                  <a:pt x="0" y="210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6353280"/>
            <a:ext cx="10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4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36000" y="4005360"/>
            <a:ext cx="100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5661000"/>
            <a:ext cx="10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342900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24160" y="1981080"/>
            <a:ext cx="5562720" cy="4419720"/>
          </a:xfrm>
          <a:custGeom>
            <a:avLst/>
            <a:gdLst/>
            <a:ahLst/>
            <a:rect l="l" t="t" r="r" b="b"/>
            <a:pathLst>
              <a:path w="3504" h="2784">
                <a:moveTo>
                  <a:pt x="3464" y="0"/>
                </a:moveTo>
                <a:lnTo>
                  <a:pt x="0" y="2784"/>
                </a:lnTo>
                <a:lnTo>
                  <a:pt x="3504" y="2768"/>
                </a:lnTo>
                <a:lnTo>
                  <a:pt x="3464" y="24"/>
                </a:lnTo>
              </a:path>
            </a:pathLst>
          </a:custGeom>
          <a:noFill/>
          <a:ln w="442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916280"/>
            <a:ext cx="2808000" cy="433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08080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сказк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5397480"/>
            <a:ext cx="9360" cy="984240"/>
          </a:xfrm>
          <a:custGeom>
            <a:avLst/>
            <a:gdLst/>
            <a:ahLst/>
            <a:rect l="l" t="t" r="r" b="b"/>
            <a:pathLst>
              <a:path w="6" h="620">
                <a:moveTo>
                  <a:pt x="0" y="0"/>
                </a:moveTo>
                <a:lnTo>
                  <a:pt x="6" y="620"/>
                </a:lnTo>
              </a:path>
            </a:pathLst>
          </a:custGeom>
          <a:noFill/>
          <a:ln w="442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2421000"/>
            <a:ext cx="59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смотреть подобные тре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052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016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1416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9440" y="6338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9440" y="486900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272880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27082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9800" y="27082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3068640"/>
                <a:ext cx="2952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404720" y="44370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2400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есо имеет 10 спи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величину угла (в градусах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орый образуют две соседние спиц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48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2205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89520" y="2629080"/>
            <a:ext cx="2425680" cy="3288960"/>
          </a:xfrm>
          <a:custGeom>
            <a:avLst/>
            <a:gdLst/>
            <a:ahLst/>
            <a:rect l="l" t="t" r="r" b="b"/>
            <a:pathLst>
              <a:path w="1528" h="2072">
                <a:moveTo>
                  <a:pt x="0" y="0"/>
                </a:moveTo>
                <a:lnTo>
                  <a:pt x="1528" y="20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1360" y="2603520"/>
            <a:ext cx="2374920" cy="3454560"/>
          </a:xfrm>
          <a:custGeom>
            <a:avLst/>
            <a:gdLst/>
            <a:ahLst/>
            <a:rect l="l" t="t" r="r" b="b"/>
            <a:pathLst>
              <a:path w="1496" h="2176">
                <a:moveTo>
                  <a:pt x="1496" y="0"/>
                </a:moveTo>
                <a:lnTo>
                  <a:pt x="0" y="21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27400" y="3720960"/>
            <a:ext cx="3873600" cy="1054080"/>
          </a:xfrm>
          <a:custGeom>
            <a:avLst/>
            <a:gdLst/>
            <a:ahLst/>
            <a:rect l="l" t="t" r="r" b="b"/>
            <a:pathLst>
              <a:path w="2440" h="664">
                <a:moveTo>
                  <a:pt x="0" y="0"/>
                </a:moveTo>
                <a:lnTo>
                  <a:pt x="2440" y="6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5560" y="3467160"/>
            <a:ext cx="3848040" cy="1587600"/>
          </a:xfrm>
          <a:custGeom>
            <a:avLst/>
            <a:gdLst/>
            <a:ahLst/>
            <a:rect l="l" t="t" r="r" b="b"/>
            <a:pathLst>
              <a:path w="2424" h="1000">
                <a:moveTo>
                  <a:pt x="0" y="1000"/>
                </a:moveTo>
                <a:lnTo>
                  <a:pt x="242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0000" y="1989000"/>
            <a:ext cx="4608360" cy="4608720"/>
          </a:xfrm>
          <a:prstGeom prst="donut">
            <a:avLst>
              <a:gd name="adj" fmla="val 7097"/>
            </a:avLst>
          </a:prstGeom>
          <a:blipFill rotWithShape="0">
            <a:blip r:embed="rId2">
              <a:alphaModFix amt="9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3894000">
            <a:off x="5577840" y="2926440"/>
            <a:ext cx="311040" cy="59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60" y="990"/>
                  <a:pt x="5519" y="5080"/>
                  <a:pt x="5519" y="10800"/>
                </a:cubicBezTo>
                <a:cubicBezTo>
                  <a:pt x="5519" y="16520"/>
                  <a:pt x="13560" y="206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5640" y="249228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4720" y="44370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спиц в колесе, если у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соседними спицами равен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27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2205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89520" y="2629080"/>
            <a:ext cx="2425680" cy="3288960"/>
          </a:xfrm>
          <a:custGeom>
            <a:avLst/>
            <a:gdLst/>
            <a:ahLst/>
            <a:rect l="l" t="t" r="r" b="b"/>
            <a:pathLst>
              <a:path w="1528" h="2072">
                <a:moveTo>
                  <a:pt x="0" y="0"/>
                </a:moveTo>
                <a:lnTo>
                  <a:pt x="1528" y="20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1360" y="2603520"/>
            <a:ext cx="2374920" cy="3454560"/>
          </a:xfrm>
          <a:custGeom>
            <a:avLst/>
            <a:gdLst/>
            <a:ahLst/>
            <a:rect l="l" t="t" r="r" b="b"/>
            <a:pathLst>
              <a:path w="1496" h="2176">
                <a:moveTo>
                  <a:pt x="1496" y="0"/>
                </a:moveTo>
                <a:lnTo>
                  <a:pt x="0" y="21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27400" y="3720960"/>
            <a:ext cx="3873600" cy="1054080"/>
          </a:xfrm>
          <a:custGeom>
            <a:avLst/>
            <a:gdLst/>
            <a:ahLst/>
            <a:rect l="l" t="t" r="r" b="b"/>
            <a:pathLst>
              <a:path w="2440" h="664">
                <a:moveTo>
                  <a:pt x="0" y="0"/>
                </a:moveTo>
                <a:lnTo>
                  <a:pt x="2440" y="6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65560" y="3467160"/>
            <a:ext cx="3848040" cy="1587600"/>
          </a:xfrm>
          <a:custGeom>
            <a:avLst/>
            <a:gdLst/>
            <a:ahLst/>
            <a:rect l="l" t="t" r="r" b="b"/>
            <a:pathLst>
              <a:path w="2424" h="1000">
                <a:moveTo>
                  <a:pt x="0" y="1000"/>
                </a:moveTo>
                <a:lnTo>
                  <a:pt x="242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894000">
            <a:off x="5316480" y="2755800"/>
            <a:ext cx="23832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111" y="1547"/>
                  <a:pt x="8622" y="5080"/>
                  <a:pt x="8622" y="10800"/>
                </a:cubicBezTo>
                <a:cubicBezTo>
                  <a:pt x="8622" y="16520"/>
                  <a:pt x="15111" y="200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44920" y="3086280"/>
            <a:ext cx="3301920" cy="2336760"/>
          </a:xfrm>
          <a:custGeom>
            <a:avLst/>
            <a:gdLst/>
            <a:ahLst/>
            <a:rect l="l" t="t" r="r" b="b"/>
            <a:pathLst>
              <a:path w="2080" h="1472">
                <a:moveTo>
                  <a:pt x="2080" y="1472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25880" y="4114800"/>
            <a:ext cx="4064040" cy="279360"/>
          </a:xfrm>
          <a:custGeom>
            <a:avLst/>
            <a:gdLst/>
            <a:ahLst/>
            <a:rect l="l" t="t" r="r" b="b"/>
            <a:pathLst>
              <a:path w="2560" h="176">
                <a:moveTo>
                  <a:pt x="2560" y="0"/>
                </a:moveTo>
                <a:lnTo>
                  <a:pt x="0" y="17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57880" y="3009960"/>
            <a:ext cx="3174840" cy="2590920"/>
          </a:xfrm>
          <a:custGeom>
            <a:avLst/>
            <a:gdLst/>
            <a:ahLst/>
            <a:rect l="l" t="t" r="r" b="b"/>
            <a:pathLst>
              <a:path w="2000" h="1632">
                <a:moveTo>
                  <a:pt x="2000" y="0"/>
                </a:moveTo>
                <a:lnTo>
                  <a:pt x="0" y="163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73800" y="2374920"/>
            <a:ext cx="1244520" cy="3860640"/>
          </a:xfrm>
          <a:custGeom>
            <a:avLst/>
            <a:gdLst/>
            <a:ahLst/>
            <a:rect l="l" t="t" r="r" b="b"/>
            <a:pathLst>
              <a:path w="784" h="2432">
                <a:moveTo>
                  <a:pt x="0" y="0"/>
                </a:moveTo>
                <a:lnTo>
                  <a:pt x="784" y="243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99000" y="2324160"/>
            <a:ext cx="1168560" cy="3936960"/>
          </a:xfrm>
          <a:custGeom>
            <a:avLst/>
            <a:gdLst/>
            <a:ahLst/>
            <a:rect l="l" t="t" r="r" b="b"/>
            <a:pathLst>
              <a:path w="736" h="2480">
                <a:moveTo>
                  <a:pt x="736" y="0"/>
                </a:moveTo>
                <a:lnTo>
                  <a:pt x="0" y="248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1989000"/>
            <a:ext cx="4608360" cy="4608720"/>
          </a:xfrm>
          <a:prstGeom prst="donut">
            <a:avLst>
              <a:gd name="adj" fmla="val 7097"/>
            </a:avLst>
          </a:prstGeom>
          <a:blipFill rotWithShape="0">
            <a:blip r:embed="rId2">
              <a:alphaModFix amt="9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2276640"/>
            <a:ext cx="863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4720" y="44370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угол (в градусах) образ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утная и часовая стрелки часов в 5 ч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327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708360" y="1916280"/>
            <a:ext cx="4752720" cy="4752360"/>
            <a:chOff x="3708360" y="1916280"/>
            <a:chExt cx="4752720" cy="4752360"/>
          </a:xfrm>
        </p:grpSpPr>
        <p:sp>
          <p:nvSpPr>
            <p:cNvPr id="188" name=""/>
            <p:cNvSpPr/>
            <p:nvPr/>
          </p:nvSpPr>
          <p:spPr>
            <a:xfrm>
              <a:off x="4019040" y="2177280"/>
              <a:ext cx="4208040" cy="420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8360" y="1916280"/>
              <a:ext cx="4752720" cy="4752360"/>
            </a:xfrm>
            <a:prstGeom prst="donut">
              <a:avLst>
                <a:gd name="adj" fmla="val 824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932360" y="256536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4941720"/>
            <a:ext cx="431640" cy="411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6000" y="321300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32360" y="5589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558972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51640" y="486900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80360" y="3141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256536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407664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96360" y="400536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587700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2276640"/>
            <a:ext cx="43200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4254480"/>
            <a:ext cx="723960" cy="1168560"/>
          </a:xfrm>
          <a:custGeom>
            <a:avLst/>
            <a:gdLst/>
            <a:ahLst/>
            <a:rect l="l" t="t" r="r" b="b"/>
            <a:pathLst>
              <a:path w="456" h="736">
                <a:moveTo>
                  <a:pt x="0" y="0"/>
                </a:moveTo>
                <a:lnTo>
                  <a:pt x="216" y="568"/>
                </a:lnTo>
                <a:lnTo>
                  <a:pt x="456" y="736"/>
                </a:lnTo>
                <a:lnTo>
                  <a:pt x="384" y="46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375f87"/>
              </a:gs>
              <a:gs pos="50000">
                <a:srgbClr val="003366"/>
              </a:gs>
              <a:gs pos="100000">
                <a:srgbClr val="375f87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92840" y="2463840"/>
            <a:ext cx="368280" cy="1790640"/>
          </a:xfrm>
          <a:custGeom>
            <a:avLst/>
            <a:gdLst/>
            <a:ahLst/>
            <a:rect l="l" t="t" r="r" b="b"/>
            <a:pathLst>
              <a:path w="232" h="1128">
                <a:moveTo>
                  <a:pt x="128" y="1128"/>
                </a:moveTo>
                <a:lnTo>
                  <a:pt x="0" y="288"/>
                </a:lnTo>
                <a:lnTo>
                  <a:pt x="112" y="0"/>
                </a:lnTo>
                <a:lnTo>
                  <a:pt x="232" y="288"/>
                </a:lnTo>
                <a:lnTo>
                  <a:pt x="128" y="1120"/>
                </a:lnTo>
              </a:path>
            </a:pathLst>
          </a:custGeom>
          <a:gradFill rotWithShape="0">
            <a:gsLst>
              <a:gs pos="0">
                <a:srgbClr val="71b8b8"/>
              </a:gs>
              <a:gs pos="50000">
                <a:srgbClr val="008080">
                  <a:alpha val="99215"/>
                </a:srgbClr>
              </a:gs>
              <a:gs pos="100000">
                <a:srgbClr val="71b8b8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9534000">
            <a:off x="6156360" y="3860280"/>
            <a:ext cx="311040" cy="59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60" y="990"/>
                  <a:pt x="5519" y="5080"/>
                  <a:pt x="5519" y="10800"/>
                </a:cubicBezTo>
                <a:cubicBezTo>
                  <a:pt x="5519" y="16520"/>
                  <a:pt x="13560" y="206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72360" y="357336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3440" y="44370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5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4149720"/>
            <a:ext cx="287280" cy="289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0:13:57Z</dcterms:created>
  <dc:creator>КарМаН</dc:creator>
  <dc:description/>
  <dc:language>en-US</dc:language>
  <cp:lastModifiedBy>Марина</cp:lastModifiedBy>
  <dcterms:modified xsi:type="dcterms:W3CDTF">2011-10-07T15:57:44Z</dcterms:modified>
  <cp:revision>15</cp:revision>
  <dc:subject/>
  <dc:title>Слайд 1</dc:title>
</cp:coreProperties>
</file>