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D7C-B3BC-4E9C-AEFF-0706E61F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FA4-BAAE-4DC6-B4CF-6642389E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B3F-791F-4477-916B-C7631675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DD3-F3F1-4FCD-9DCE-4565ED8D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7A4-45C2-4B54-BAEC-00769AFA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5D8-FCE5-438E-B077-73D8CDB6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AF8-0FC7-4EB4-84B3-652C9FE9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0CA-D1CD-4B16-AF1F-95D64FD5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E94-07D0-45B1-9A1B-C1E1BE0C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EFE-F89B-42EE-9A87-34A5DE2A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1EA-B4EE-4924-95AE-E603623F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BD7-0799-43C2-B32D-C455D22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03D3-F41E-45C1-B68E-6258462E7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42" name="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685800" y="1905120"/>
            <a:ext cx="8153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калярное произведение 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векторов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548640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"Геометрия 7-9"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257800" y="304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аленький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2112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9800" y="4740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3805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3505320"/>
            <a:ext cx="1944720" cy="720720"/>
          </a:xfrm>
          <a:prstGeom prst="wedgeEllipseCallout">
            <a:avLst>
              <a:gd name="adj1" fmla="val -66328"/>
              <a:gd name="adj2" fmla="val 5330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3013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668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4681440"/>
            <a:ext cx="2160720" cy="576360"/>
          </a:xfrm>
          <a:prstGeom prst="wedgeEllipseCallout">
            <a:avLst>
              <a:gd name="adj1" fmla="val -69546"/>
              <a:gd name="adj2" fmla="val 6184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548080"/>
            <a:ext cx="2160720" cy="576000"/>
          </a:xfrm>
          <a:prstGeom prst="wedgeEllipseCallout">
            <a:avLst>
              <a:gd name="adj1" fmla="val -42652"/>
              <a:gd name="adj2" fmla="val 76171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028000" y="5948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867280"/>
            <a:ext cx="1871640" cy="503280"/>
          </a:xfrm>
          <a:custGeom>
            <a:avLst/>
            <a:gdLst>
              <a:gd name="textAreaLeft" fmla="*/ 32400 w 1871640"/>
              <a:gd name="textAreaRight" fmla="*/ 1839240 w 1871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0286" h="21600">
                <a:moveTo>
                  <a:pt x="0" y="0"/>
                </a:moveTo>
                <a:lnTo>
                  <a:pt x="80286" y="0"/>
                </a:lnTo>
                <a:lnTo>
                  <a:pt x="80286" y="21600"/>
                </a:lnTo>
                <a:lnTo>
                  <a:pt x="0" y="21600"/>
                </a:lnTo>
                <a:close/>
              </a:path>
              <a:path fill="lightenLess" w="80286" h="21600">
                <a:moveTo>
                  <a:pt x="0" y="0"/>
                </a:moveTo>
                <a:lnTo>
                  <a:pt x="80286" y="0"/>
                </a:lnTo>
                <a:lnTo>
                  <a:pt x="78886" y="1400"/>
                </a:lnTo>
                <a:lnTo>
                  <a:pt x="1400" y="1400"/>
                </a:lnTo>
                <a:close/>
              </a:path>
              <a:path fill="darken" w="80286" h="21600">
                <a:moveTo>
                  <a:pt x="80286" y="0"/>
                </a:moveTo>
                <a:lnTo>
                  <a:pt x="80286" y="21600"/>
                </a:lnTo>
                <a:lnTo>
                  <a:pt x="78886" y="20200"/>
                </a:lnTo>
                <a:lnTo>
                  <a:pt x="78886" y="1400"/>
                </a:lnTo>
                <a:close/>
              </a:path>
              <a:path fill="darkenLess" w="80286" h="21600">
                <a:moveTo>
                  <a:pt x="80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86" y="20200"/>
                </a:lnTo>
                <a:close/>
              </a:path>
              <a:path fill="lighten" w="80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21120" y="2971800"/>
            <a:ext cx="738000" cy="535680"/>
            <a:chOff x="1221120" y="2971800"/>
            <a:chExt cx="738000" cy="535680"/>
          </a:xfrm>
        </p:grpSpPr>
        <p:sp>
          <p:nvSpPr>
            <p:cNvPr id="64" name=""/>
            <p:cNvSpPr/>
            <p:nvPr/>
          </p:nvSpPr>
          <p:spPr>
            <a:xfrm>
              <a:off x="1221120" y="304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1447920" y="2971800"/>
                  <a:ext cx="51120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7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802040" y="2984400"/>
            <a:ext cx="2743200" cy="1676160"/>
            <a:chOff x="4802040" y="2984400"/>
            <a:chExt cx="2743200" cy="1676160"/>
          </a:xfrm>
        </p:grpSpPr>
        <p:sp>
          <p:nvSpPr>
            <p:cNvPr id="76" name=""/>
            <p:cNvSpPr/>
            <p:nvPr/>
          </p:nvSpPr>
          <p:spPr>
            <a:xfrm>
              <a:off x="4802040" y="2984400"/>
              <a:ext cx="2743200" cy="16761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02040" y="4508280"/>
              <a:ext cx="14076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4160" y="464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4596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5048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11840" y="43275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9080" y="3289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1371600"/>
            <a:ext cx="1752840" cy="459720"/>
            <a:chOff x="380880" y="1371600"/>
            <a:chExt cx="1752840" cy="459720"/>
          </a:xfrm>
        </p:grpSpPr>
        <p:sp>
          <p:nvSpPr>
            <p:cNvPr id="84" name=""/>
            <p:cNvSpPr/>
            <p:nvPr/>
          </p:nvSpPr>
          <p:spPr>
            <a:xfrm>
              <a:off x="542880" y="1414800"/>
              <a:ext cx="328680" cy="4680"/>
            </a:xfrm>
            <a:custGeom>
              <a:avLst/>
              <a:gdLst/>
              <a:ahLst/>
              <a:rect l="l" t="t" r="r" b="b"/>
              <a:pathLst>
                <a:path w="207" h="3">
                  <a:moveTo>
                    <a:pt x="0" y="0"/>
                  </a:moveTo>
                  <a:lnTo>
                    <a:pt x="207" y="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81240" y="1409760"/>
              <a:ext cx="318960" cy="5040"/>
            </a:xfrm>
            <a:custGeom>
              <a:avLst/>
              <a:gdLst/>
              <a:ahLst/>
              <a:rect l="l" t="t" r="r" b="b"/>
              <a:pathLst>
                <a:path w="201" h="3">
                  <a:moveTo>
                    <a:pt x="0" y="3"/>
                  </a:moveTo>
                  <a:lnTo>
                    <a:pt x="201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80880" y="1371600"/>
              <a:ext cx="1752840" cy="459720"/>
              <a:chOff x="380880" y="1371600"/>
              <a:chExt cx="1752840" cy="459720"/>
            </a:xfrm>
          </p:grpSpPr>
          <p:sp>
            <p:nvSpPr>
              <p:cNvPr id="87" name=""/>
              <p:cNvSpPr/>
              <p:nvPr/>
            </p:nvSpPr>
            <p:spPr>
              <a:xfrm>
                <a:off x="380880" y="1371600"/>
                <a:ext cx="17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</a:rPr>
                  <a:t>ВС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  </a:t>
                </a:r>
                <a:r>
                  <a:rPr b="1" lang="ru-RU" sz="1400" spc="-1" strike="noStrike">
                    <a:solidFill>
                      <a:srgbClr val="3333ff"/>
                    </a:solidFill>
                    <a:latin typeface="Arial"/>
                  </a:rPr>
                  <a:t> </a:t>
                </a: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</a:rPr>
                  <a:t>ВА 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8" name=""/>
                  <p:cNvSpPr txBox="1"/>
                  <p:nvPr/>
                </p:nvSpPr>
                <p:spPr>
                  <a:xfrm>
                    <a:off x="914400" y="1473480"/>
                    <a:ext cx="26676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89" name=""/>
          <p:cNvGrpSpPr/>
          <p:nvPr/>
        </p:nvGrpSpPr>
        <p:grpSpPr>
          <a:xfrm>
            <a:off x="2057400" y="1371600"/>
            <a:ext cx="1600200" cy="459720"/>
            <a:chOff x="2057400" y="1371600"/>
            <a:chExt cx="1600200" cy="459720"/>
          </a:xfrm>
        </p:grpSpPr>
        <p:sp>
          <p:nvSpPr>
            <p:cNvPr id="90" name=""/>
            <p:cNvSpPr/>
            <p:nvPr/>
          </p:nvSpPr>
          <p:spPr>
            <a:xfrm>
              <a:off x="2219400" y="1414440"/>
              <a:ext cx="328680" cy="4680"/>
            </a:xfrm>
            <a:custGeom>
              <a:avLst/>
              <a:gdLst/>
              <a:ahLst/>
              <a:rect l="l" t="t" r="r" b="b"/>
              <a:pathLst>
                <a:path w="207" h="3">
                  <a:moveTo>
                    <a:pt x="0" y="0"/>
                  </a:moveTo>
                  <a:lnTo>
                    <a:pt x="207" y="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0040" y="1409760"/>
              <a:ext cx="318960" cy="4680"/>
            </a:xfrm>
            <a:custGeom>
              <a:avLst/>
              <a:gdLst/>
              <a:ahLst/>
              <a:rect l="l" t="t" r="r" b="b"/>
              <a:pathLst>
                <a:path w="201" h="3">
                  <a:moveTo>
                    <a:pt x="0" y="3"/>
                  </a:moveTo>
                  <a:lnTo>
                    <a:pt x="201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400" y="1371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2705040" y="147312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2108160" y="1422360"/>
              <a:ext cx="1800" cy="330120"/>
            </a:xfrm>
            <a:custGeom>
              <a:avLst/>
              <a:gdLst/>
              <a:ahLst/>
              <a:rect l="l" t="t" r="r" b="b"/>
              <a:pathLst>
                <a:path w="1" h="208">
                  <a:moveTo>
                    <a:pt x="0" y="0"/>
                  </a:moveTo>
                  <a:lnTo>
                    <a:pt x="0" y="208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1447920"/>
              <a:ext cx="1800" cy="330120"/>
            </a:xfrm>
            <a:custGeom>
              <a:avLst/>
              <a:gdLst/>
              <a:ahLst/>
              <a:rect l="l" t="t" r="r" b="b"/>
              <a:pathLst>
                <a:path w="1" h="208">
                  <a:moveTo>
                    <a:pt x="0" y="0"/>
                  </a:moveTo>
                  <a:lnTo>
                    <a:pt x="0" y="208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71800" y="1447920"/>
              <a:ext cx="1440" cy="330120"/>
            </a:xfrm>
            <a:custGeom>
              <a:avLst/>
              <a:gdLst/>
              <a:ahLst/>
              <a:rect l="l" t="t" r="r" b="b"/>
              <a:pathLst>
                <a:path w="1" h="208">
                  <a:moveTo>
                    <a:pt x="0" y="0"/>
                  </a:moveTo>
                  <a:lnTo>
                    <a:pt x="0" y="208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59320" y="1450800"/>
              <a:ext cx="1440" cy="330480"/>
            </a:xfrm>
            <a:custGeom>
              <a:avLst/>
              <a:gdLst/>
              <a:ahLst/>
              <a:rect l="l" t="t" r="r" b="b"/>
              <a:pathLst>
                <a:path w="1" h="208">
                  <a:moveTo>
                    <a:pt x="0" y="0"/>
                  </a:moveTo>
                  <a:lnTo>
                    <a:pt x="0" y="208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657600" y="1143000"/>
            <a:ext cx="2438280" cy="1059120"/>
            <a:chOff x="3657600" y="1143000"/>
            <a:chExt cx="2438280" cy="1059120"/>
          </a:xfrm>
        </p:grpSpPr>
        <p:grpSp>
          <p:nvGrpSpPr>
            <p:cNvPr id="99" name=""/>
            <p:cNvGrpSpPr/>
            <p:nvPr/>
          </p:nvGrpSpPr>
          <p:grpSpPr>
            <a:xfrm>
              <a:off x="4343400" y="1143000"/>
              <a:ext cx="1752480" cy="662760"/>
              <a:chOff x="4343400" y="1143000"/>
              <a:chExt cx="1752480" cy="662760"/>
            </a:xfrm>
          </p:grpSpPr>
          <p:sp>
            <p:nvSpPr>
              <p:cNvPr id="100" name=""/>
              <p:cNvSpPr/>
              <p:nvPr/>
            </p:nvSpPr>
            <p:spPr>
              <a:xfrm>
                <a:off x="4343400" y="134604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ВС,</a:t>
                </a:r>
                <a:r>
                  <a:rPr b="1" lang="en-US" sz="800" spc="-1" strike="noStrike">
                    <a:solidFill>
                      <a:srgbClr val="3333ff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ВА 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05040" y="1388880"/>
                <a:ext cx="328680" cy="5040"/>
              </a:xfrm>
              <a:custGeom>
                <a:avLst/>
                <a:gdLst/>
                <a:ahLst/>
                <a:rect l="l" t="t" r="r" b="b"/>
                <a:pathLst>
                  <a:path w="207" h="3">
                    <a:moveTo>
                      <a:pt x="0" y="0"/>
                    </a:moveTo>
                    <a:lnTo>
                      <a:pt x="207" y="3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91120" y="1384200"/>
                <a:ext cx="318960" cy="4680"/>
              </a:xfrm>
              <a:custGeom>
                <a:avLst/>
                <a:gdLst/>
                <a:ahLst/>
                <a:rect l="l" t="t" r="r" b="b"/>
                <a:pathLst>
                  <a:path w="201" h="3">
                    <a:moveTo>
                      <a:pt x="0" y="3"/>
                    </a:moveTo>
                    <a:lnTo>
                      <a:pt x="201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67040" y="1143000"/>
                <a:ext cx="555840" cy="181080"/>
              </a:xfrm>
              <a:custGeom>
                <a:avLst/>
                <a:gdLst/>
                <a:ahLst/>
                <a:rect l="l" t="t" r="r" b="b"/>
                <a:pathLst>
                  <a:path w="350" h="114">
                    <a:moveTo>
                      <a:pt x="0" y="110"/>
                    </a:moveTo>
                    <a:lnTo>
                      <a:pt x="184" y="0"/>
                    </a:lnTo>
                    <a:lnTo>
                      <a:pt x="350" y="114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3657600" y="119376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cos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848720" y="1182600"/>
            <a:ext cx="990000" cy="978120"/>
            <a:chOff x="7848720" y="1182600"/>
            <a:chExt cx="990000" cy="978120"/>
          </a:xfrm>
        </p:grpSpPr>
        <p:grpSp>
          <p:nvGrpSpPr>
            <p:cNvPr id="106" name=""/>
            <p:cNvGrpSpPr/>
            <p:nvPr/>
          </p:nvGrpSpPr>
          <p:grpSpPr>
            <a:xfrm>
              <a:off x="8460000" y="1182600"/>
              <a:ext cx="378720" cy="801000"/>
              <a:chOff x="8460000" y="1182600"/>
              <a:chExt cx="378720" cy="801000"/>
            </a:xfrm>
          </p:grpSpPr>
          <p:sp>
            <p:nvSpPr>
              <p:cNvPr id="107" name=""/>
              <p:cNvSpPr/>
              <p:nvPr/>
            </p:nvSpPr>
            <p:spPr>
              <a:xfrm>
                <a:off x="8460000" y="152388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lang="ru-RU" sz="2400" spc="-1" strike="noStrike">
                    <a:solidFill>
                      <a:srgbClr val="0033cc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467920" y="11826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516880" y="1576440"/>
                <a:ext cx="266760" cy="1440"/>
              </a:xfrm>
              <a:custGeom>
                <a:avLst/>
                <a:gdLst/>
                <a:ahLst/>
                <a:rect l="l" t="t" r="r" b="b"/>
                <a:pathLst>
                  <a:path w="168" h="1">
                    <a:moveTo>
                      <a:pt x="0" y="0"/>
                    </a:moveTo>
                    <a:lnTo>
                      <a:pt x="168" y="0"/>
                    </a:lnTo>
                  </a:path>
                </a:pathLst>
              </a:custGeom>
              <a:noFill/>
              <a:ln w="19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7848720" y="1335240"/>
              <a:ext cx="68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18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8305920" y="141120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12" name=""/>
          <p:cNvGrpSpPr/>
          <p:nvPr/>
        </p:nvGrpSpPr>
        <p:grpSpPr>
          <a:xfrm>
            <a:off x="5791320" y="1187280"/>
            <a:ext cx="2209680" cy="642600"/>
            <a:chOff x="5791320" y="1187280"/>
            <a:chExt cx="2209680" cy="642600"/>
          </a:xfrm>
        </p:grpSpPr>
        <p:sp>
          <p:nvSpPr>
            <p:cNvPr id="113" name=""/>
            <p:cNvSpPr/>
            <p:nvPr/>
          </p:nvSpPr>
          <p:spPr>
            <a:xfrm>
              <a:off x="5791320" y="118728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3 </a:t>
              </a:r>
              <a:r>
                <a:rPr b="1" i="1" lang="en-US" sz="3600" spc="-1" strike="noStrike">
                  <a:solidFill>
                    <a:srgbClr val="3333ff"/>
                  </a:solidFill>
                  <a:latin typeface="Times New Roman"/>
                </a:rPr>
                <a:t>cos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60</a:t>
              </a:r>
              <a:r>
                <a:rPr b="1" lang="en-US" sz="2400" spc="-1" strike="noStrike" baseline="30000">
                  <a:solidFill>
                    <a:srgbClr val="3333ff"/>
                  </a:solidFill>
                  <a:latin typeface="Arial"/>
                </a:rPr>
                <a:t>0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6057720" y="1454040"/>
                  <a:ext cx="2664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15" name=""/>
          <p:cNvGrpSpPr/>
          <p:nvPr/>
        </p:nvGrpSpPr>
        <p:grpSpPr>
          <a:xfrm>
            <a:off x="4788000" y="2971800"/>
            <a:ext cx="2743200" cy="1701720"/>
            <a:chOff x="4788000" y="2971800"/>
            <a:chExt cx="2743200" cy="1701720"/>
          </a:xfrm>
        </p:grpSpPr>
        <p:sp>
          <p:nvSpPr>
            <p:cNvPr id="116" name=""/>
            <p:cNvSpPr/>
            <p:nvPr/>
          </p:nvSpPr>
          <p:spPr>
            <a:xfrm>
              <a:off x="4788000" y="2997000"/>
              <a:ext cx="25200" cy="1676520"/>
            </a:xfrm>
            <a:custGeom>
              <a:avLst/>
              <a:gdLst/>
              <a:ahLst/>
              <a:rect l="l" t="t" r="r" b="b"/>
              <a:pathLst>
                <a:path w="16" h="1056">
                  <a:moveTo>
                    <a:pt x="16" y="0"/>
                  </a:moveTo>
                  <a:lnTo>
                    <a:pt x="0" y="1056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  <a:headEnd len="sm" type="oval" w="sm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26160" y="2971800"/>
              <a:ext cx="2705040" cy="1689120"/>
            </a:xfrm>
            <a:custGeom>
              <a:avLst/>
              <a:gdLst/>
              <a:ahLst/>
              <a:rect l="l" t="t" r="r" b="b"/>
              <a:pathLst>
                <a:path w="1704" h="1064">
                  <a:moveTo>
                    <a:pt x="0" y="0"/>
                  </a:moveTo>
                  <a:lnTo>
                    <a:pt x="1704" y="1064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  <a:headEnd len="sm" type="oval" w="sm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781160" y="31845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60</a:t>
            </a:r>
            <a:r>
              <a:rPr b="1" lang="en-US" sz="2000" spc="-1" strike="noStrike" baseline="30000">
                <a:solidFill>
                  <a:srgbClr val="6600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04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21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17400" y="228600"/>
            <a:ext cx="72313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лярное произведение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762120"/>
            <a:ext cx="1752480" cy="459720"/>
            <a:chOff x="838080" y="762120"/>
            <a:chExt cx="1752480" cy="459720"/>
          </a:xfrm>
        </p:grpSpPr>
        <p:sp>
          <p:nvSpPr>
            <p:cNvPr id="131" name=""/>
            <p:cNvSpPr/>
            <p:nvPr/>
          </p:nvSpPr>
          <p:spPr>
            <a:xfrm>
              <a:off x="1000080" y="804960"/>
              <a:ext cx="328680" cy="4680"/>
            </a:xfrm>
            <a:custGeom>
              <a:avLst/>
              <a:gdLst/>
              <a:ahLst/>
              <a:rect l="l" t="t" r="r" b="b"/>
              <a:pathLst>
                <a:path w="207" h="3">
                  <a:moveTo>
                    <a:pt x="0" y="0"/>
                  </a:moveTo>
                  <a:lnTo>
                    <a:pt x="207" y="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14400" y="800280"/>
              <a:ext cx="318960" cy="4680"/>
            </a:xfrm>
            <a:custGeom>
              <a:avLst/>
              <a:gdLst/>
              <a:ahLst/>
              <a:rect l="l" t="t" r="r" b="b"/>
              <a:pathLst>
                <a:path w="201" h="3">
                  <a:moveTo>
                    <a:pt x="0" y="3"/>
                  </a:moveTo>
                  <a:lnTo>
                    <a:pt x="201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7621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А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9072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рицатель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740120"/>
            <a:ext cx="29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и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743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981080"/>
            <a:ext cx="1944720" cy="720720"/>
          </a:xfrm>
          <a:prstGeom prst="wedgeEllipseCallout">
            <a:avLst>
              <a:gd name="adj1" fmla="val 59060"/>
              <a:gd name="adj2" fmla="val 85023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687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8640" y="4668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495680"/>
            <a:ext cx="2160720" cy="576360"/>
          </a:xfrm>
          <a:prstGeom prst="wedgeEllipseCallout">
            <a:avLst>
              <a:gd name="adj1" fmla="val -58962"/>
              <a:gd name="adj2" fmla="val 9931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200400"/>
            <a:ext cx="2160360" cy="576360"/>
          </a:xfrm>
          <a:prstGeom prst="wedgeEllipseCallout">
            <a:avLst>
              <a:gd name="adj1" fmla="val 45518"/>
              <a:gd name="adj2" fmla="val 11583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028000" y="5948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5867280"/>
            <a:ext cx="2362320" cy="503280"/>
          </a:xfrm>
          <a:custGeom>
            <a:avLst/>
            <a:gdLst>
              <a:gd name="textAreaLeft" fmla="*/ 32400 w 2362320"/>
              <a:gd name="textAreaRight" fmla="*/ 2329920 w 23623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01330" h="21600">
                <a:moveTo>
                  <a:pt x="0" y="0"/>
                </a:moveTo>
                <a:lnTo>
                  <a:pt x="101330" y="0"/>
                </a:lnTo>
                <a:lnTo>
                  <a:pt x="101330" y="21600"/>
                </a:lnTo>
                <a:lnTo>
                  <a:pt x="0" y="21600"/>
                </a:lnTo>
                <a:close/>
              </a:path>
              <a:path fill="lightenLess" w="101330" h="21600">
                <a:moveTo>
                  <a:pt x="0" y="0"/>
                </a:moveTo>
                <a:lnTo>
                  <a:pt x="101330" y="0"/>
                </a:lnTo>
                <a:lnTo>
                  <a:pt x="99930" y="1400"/>
                </a:lnTo>
                <a:lnTo>
                  <a:pt x="1400" y="1400"/>
                </a:lnTo>
                <a:close/>
              </a:path>
              <a:path fill="darken" w="101330" h="21600">
                <a:moveTo>
                  <a:pt x="101330" y="0"/>
                </a:moveTo>
                <a:lnTo>
                  <a:pt x="101330" y="21600"/>
                </a:lnTo>
                <a:lnTo>
                  <a:pt x="99930" y="20200"/>
                </a:lnTo>
                <a:lnTo>
                  <a:pt x="99930" y="1400"/>
                </a:lnTo>
                <a:close/>
              </a:path>
              <a:path fill="darkenLess" w="101330" h="21600">
                <a:moveTo>
                  <a:pt x="101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930" y="20200"/>
                </a:lnTo>
                <a:close/>
              </a:path>
              <a:path fill="lighten" w="101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900600" y="1854360"/>
            <a:ext cx="2743200" cy="1676160"/>
            <a:chOff x="3900600" y="1854360"/>
            <a:chExt cx="2743200" cy="1676160"/>
          </a:xfrm>
        </p:grpSpPr>
        <p:sp>
          <p:nvSpPr>
            <p:cNvPr id="145" name=""/>
            <p:cNvSpPr/>
            <p:nvPr/>
          </p:nvSpPr>
          <p:spPr>
            <a:xfrm>
              <a:off x="3900600" y="1854360"/>
              <a:ext cx="2743200" cy="16761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00600" y="3378240"/>
              <a:ext cx="14076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672360" y="351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788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48680" y="1460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10040" y="31971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67280" y="2158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3505320"/>
            <a:ext cx="2717640" cy="38160"/>
          </a:xfrm>
          <a:custGeom>
            <a:avLst/>
            <a:gdLst/>
            <a:ahLst/>
            <a:rect l="l" t="t" r="r" b="b"/>
            <a:pathLst>
              <a:path w="1712" h="24">
                <a:moveTo>
                  <a:pt x="1712" y="0"/>
                </a:moveTo>
                <a:lnTo>
                  <a:pt x="0" y="24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1841400"/>
            <a:ext cx="2705040" cy="1689120"/>
          </a:xfrm>
          <a:custGeom>
            <a:avLst/>
            <a:gdLst/>
            <a:ahLst/>
            <a:rect l="l" t="t" r="r" b="b"/>
            <a:pathLst>
              <a:path w="1704" h="1064">
                <a:moveTo>
                  <a:pt x="0" y="0"/>
                </a:moveTo>
                <a:lnTo>
                  <a:pt x="1704" y="10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 нул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7621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отрицательно, т.к. угол между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екторами туп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5625 0.21574 L 0.29653 0.24537 E">
                                      <p:cBhvr>
                                        <p:cTn id="100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58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17400" y="228600"/>
            <a:ext cx="7993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лярное произведение координатных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724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4537080"/>
            <a:ext cx="1944720" cy="720720"/>
          </a:xfrm>
          <a:prstGeom prst="wedgeEllipseCallout">
            <a:avLst>
              <a:gd name="adj1" fmla="val -61754"/>
              <a:gd name="adj2" fmla="val 58592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687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7720" y="26668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2438280"/>
            <a:ext cx="2160360" cy="576360"/>
          </a:xfrm>
          <a:prstGeom prst="wedgeEllipseCallout">
            <a:avLst>
              <a:gd name="adj1" fmla="val -64842"/>
              <a:gd name="adj2" fmla="val 49171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3657600"/>
            <a:ext cx="2160720" cy="576360"/>
          </a:xfrm>
          <a:prstGeom prst="wedgeEllipseCallout">
            <a:avLst>
              <a:gd name="adj1" fmla="val -68513"/>
              <a:gd name="adj2" fmla="val 4751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028000" y="5948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5867280"/>
            <a:ext cx="1905120" cy="503280"/>
          </a:xfrm>
          <a:custGeom>
            <a:avLst/>
            <a:gdLst>
              <a:gd name="textAreaLeft" fmla="*/ 32400 w 1905120"/>
              <a:gd name="textAreaRight" fmla="*/ 1872720 w 19051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1722" h="21600">
                <a:moveTo>
                  <a:pt x="0" y="0"/>
                </a:moveTo>
                <a:lnTo>
                  <a:pt x="81722" y="0"/>
                </a:lnTo>
                <a:lnTo>
                  <a:pt x="81722" y="21600"/>
                </a:lnTo>
                <a:lnTo>
                  <a:pt x="0" y="21600"/>
                </a:lnTo>
                <a:close/>
              </a:path>
              <a:path fill="lightenLess" w="81722" h="21600">
                <a:moveTo>
                  <a:pt x="0" y="0"/>
                </a:moveTo>
                <a:lnTo>
                  <a:pt x="81722" y="0"/>
                </a:lnTo>
                <a:lnTo>
                  <a:pt x="80322" y="1400"/>
                </a:lnTo>
                <a:lnTo>
                  <a:pt x="1400" y="1400"/>
                </a:lnTo>
                <a:close/>
              </a:path>
              <a:path fill="darken" w="81722" h="21600">
                <a:moveTo>
                  <a:pt x="81722" y="0"/>
                </a:moveTo>
                <a:lnTo>
                  <a:pt x="81722" y="21600"/>
                </a:lnTo>
                <a:lnTo>
                  <a:pt x="80322" y="20200"/>
                </a:lnTo>
                <a:lnTo>
                  <a:pt x="80322" y="1400"/>
                </a:lnTo>
                <a:close/>
              </a:path>
              <a:path fill="darkenLess" w="81722" h="21600">
                <a:moveTo>
                  <a:pt x="81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322" y="20200"/>
                </a:lnTo>
                <a:close/>
              </a:path>
              <a:path fill="lighten" w="81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7621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равно нулю, т.к. угол между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екторами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38080" y="609480"/>
            <a:ext cx="1523880" cy="642600"/>
            <a:chOff x="838080" y="609480"/>
            <a:chExt cx="1523880" cy="642600"/>
          </a:xfrm>
        </p:grpSpPr>
        <p:grpSp>
          <p:nvGrpSpPr>
            <p:cNvPr id="177" name=""/>
            <p:cNvGrpSpPr/>
            <p:nvPr/>
          </p:nvGrpSpPr>
          <p:grpSpPr>
            <a:xfrm>
              <a:off x="838080" y="609480"/>
              <a:ext cx="609840" cy="642600"/>
              <a:chOff x="838080" y="609480"/>
              <a:chExt cx="609840" cy="642600"/>
            </a:xfrm>
          </p:grpSpPr>
          <p:sp>
            <p:nvSpPr>
              <p:cNvPr id="178" name=""/>
              <p:cNvSpPr/>
              <p:nvPr/>
            </p:nvSpPr>
            <p:spPr>
              <a:xfrm>
                <a:off x="838080" y="60948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66680" y="755280"/>
                <a:ext cx="225720" cy="6120"/>
              </a:xfrm>
              <a:custGeom>
                <a:avLst/>
                <a:gdLst/>
                <a:ahLst/>
                <a:rect l="l" t="t" r="r" b="b"/>
                <a:pathLst>
                  <a:path w="142" h="4">
                    <a:moveTo>
                      <a:pt x="0" y="0"/>
                    </a:moveTo>
                    <a:lnTo>
                      <a:pt x="142" y="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752480" y="609480"/>
              <a:ext cx="609480" cy="642600"/>
              <a:chOff x="1752480" y="609480"/>
              <a:chExt cx="609480" cy="642600"/>
            </a:xfrm>
          </p:grpSpPr>
          <p:sp>
            <p:nvSpPr>
              <p:cNvPr id="181" name=""/>
              <p:cNvSpPr/>
              <p:nvPr/>
            </p:nvSpPr>
            <p:spPr>
              <a:xfrm>
                <a:off x="1752480" y="60948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j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93680" y="748800"/>
                <a:ext cx="225360" cy="6120"/>
              </a:xfrm>
              <a:custGeom>
                <a:avLst/>
                <a:gdLst/>
                <a:ahLst/>
                <a:rect l="l" t="t" r="r" b="b"/>
                <a:pathLst>
                  <a:path w="142" h="4">
                    <a:moveTo>
                      <a:pt x="0" y="0"/>
                    </a:moveTo>
                    <a:lnTo>
                      <a:pt x="142" y="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4952880" y="1676520"/>
            <a:ext cx="3281760" cy="3657240"/>
            <a:chOff x="4952880" y="1676520"/>
            <a:chExt cx="3281760" cy="3657240"/>
          </a:xfrm>
        </p:grpSpPr>
        <p:grpSp>
          <p:nvGrpSpPr>
            <p:cNvPr id="184" name=""/>
            <p:cNvGrpSpPr/>
            <p:nvPr/>
          </p:nvGrpSpPr>
          <p:grpSpPr>
            <a:xfrm>
              <a:off x="4952880" y="2156040"/>
              <a:ext cx="2971800" cy="2955240"/>
              <a:chOff x="4952880" y="2156040"/>
              <a:chExt cx="2971800" cy="2955240"/>
            </a:xfrm>
          </p:grpSpPr>
          <p:sp>
            <p:nvSpPr>
              <p:cNvPr id="185" name=""/>
              <p:cNvSpPr/>
              <p:nvPr/>
            </p:nvSpPr>
            <p:spPr>
              <a:xfrm>
                <a:off x="4973040" y="2156040"/>
                <a:ext cx="2927520" cy="3240"/>
              </a:xfrm>
              <a:custGeom>
                <a:avLst/>
                <a:gdLst/>
                <a:ahLst/>
                <a:rect l="l" t="t" r="r" b="b"/>
                <a:pathLst>
                  <a:path w="1436" h="1">
                    <a:moveTo>
                      <a:pt x="0" y="0"/>
                    </a:moveTo>
                    <a:lnTo>
                      <a:pt x="1436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52880" y="2552760"/>
                <a:ext cx="2958480" cy="12600"/>
              </a:xfrm>
              <a:custGeom>
                <a:avLst/>
                <a:gdLst/>
                <a:ahLst/>
                <a:rect l="l" t="t" r="r" b="b"/>
                <a:pathLst>
                  <a:path w="3344" h="8">
                    <a:moveTo>
                      <a:pt x="0" y="0"/>
                    </a:moveTo>
                    <a:lnTo>
                      <a:pt x="3344" y="8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4973040" y="2979720"/>
                <a:ext cx="2927160" cy="424800"/>
                <a:chOff x="4973040" y="2979720"/>
                <a:chExt cx="2927160" cy="424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973040" y="2979720"/>
                  <a:ext cx="2927160" cy="2520"/>
                </a:xfrm>
                <a:custGeom>
                  <a:avLst/>
                  <a:gdLst/>
                  <a:ahLst/>
                  <a:rect l="l" t="t" r="r" b="b"/>
                  <a:pathLst>
                    <a:path w="1436" h="1">
                      <a:moveTo>
                        <a:pt x="0" y="0"/>
                      </a:moveTo>
                      <a:lnTo>
                        <a:pt x="1436" y="0"/>
                      </a:lnTo>
                    </a:path>
                  </a:pathLst>
                </a:custGeom>
                <a:noFill/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988880" y="3401640"/>
                  <a:ext cx="2910960" cy="2880"/>
                </a:xfrm>
                <a:custGeom>
                  <a:avLst/>
                  <a:gdLst/>
                  <a:ahLst/>
                  <a:rect l="l" t="t" r="r" b="b"/>
                  <a:pathLst>
                    <a:path w="1428" h="1">
                      <a:moveTo>
                        <a:pt x="0" y="0"/>
                      </a:moveTo>
                      <a:lnTo>
                        <a:pt x="1428" y="0"/>
                      </a:lnTo>
                    </a:path>
                  </a:pathLst>
                </a:custGeom>
                <a:noFill/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965840" y="3834000"/>
                <a:ext cx="2951280" cy="443880"/>
                <a:chOff x="4965840" y="3834000"/>
                <a:chExt cx="2951280" cy="4438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4965840" y="3834000"/>
                  <a:ext cx="2951280" cy="11160"/>
                </a:xfrm>
                <a:custGeom>
                  <a:avLst/>
                  <a:gdLst/>
                  <a:ahLst/>
                  <a:rect l="l" t="t" r="r" b="b"/>
                  <a:pathLst>
                    <a:path w="1448" h="4">
                      <a:moveTo>
                        <a:pt x="0" y="0"/>
                      </a:moveTo>
                      <a:lnTo>
                        <a:pt x="1448" y="4"/>
                      </a:lnTo>
                    </a:path>
                  </a:pathLst>
                </a:custGeom>
                <a:noFill/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98600" y="4267440"/>
                  <a:ext cx="2918520" cy="10440"/>
                </a:xfrm>
                <a:custGeom>
                  <a:avLst/>
                  <a:gdLst/>
                  <a:ahLst/>
                  <a:rect l="l" t="t" r="r" b="b"/>
                  <a:pathLst>
                    <a:path w="1432" h="4">
                      <a:moveTo>
                        <a:pt x="0" y="0"/>
                      </a:moveTo>
                      <a:lnTo>
                        <a:pt x="1432" y="4"/>
                      </a:lnTo>
                    </a:path>
                  </a:pathLst>
                </a:custGeom>
                <a:noFill/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4973040" y="4667400"/>
                <a:ext cx="2951280" cy="443880"/>
                <a:chOff x="4973040" y="4667400"/>
                <a:chExt cx="2951280" cy="4438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973040" y="4667400"/>
                  <a:ext cx="2951280" cy="11160"/>
                </a:xfrm>
                <a:custGeom>
                  <a:avLst/>
                  <a:gdLst/>
                  <a:ahLst/>
                  <a:rect l="l" t="t" r="r" b="b"/>
                  <a:pathLst>
                    <a:path w="1448" h="4">
                      <a:moveTo>
                        <a:pt x="0" y="0"/>
                      </a:moveTo>
                      <a:lnTo>
                        <a:pt x="1448" y="4"/>
                      </a:lnTo>
                    </a:path>
                  </a:pathLst>
                </a:custGeom>
                <a:noFill/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005800" y="5100840"/>
                  <a:ext cx="2918520" cy="10440"/>
                </a:xfrm>
                <a:custGeom>
                  <a:avLst/>
                  <a:gdLst/>
                  <a:ahLst/>
                  <a:rect l="l" t="t" r="r" b="b"/>
                  <a:pathLst>
                    <a:path w="1432" h="4">
                      <a:moveTo>
                        <a:pt x="0" y="0"/>
                      </a:moveTo>
                      <a:lnTo>
                        <a:pt x="1432" y="4"/>
                      </a:lnTo>
                    </a:path>
                  </a:pathLst>
                </a:custGeom>
                <a:noFill/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4952880" y="3838680"/>
                <a:ext cx="2971800" cy="17640"/>
              </a:xfrm>
              <a:custGeom>
                <a:avLst/>
                <a:gdLst/>
                <a:ahLst/>
                <a:rect l="l" t="t" r="r" b="b"/>
                <a:pathLst>
                  <a:path w="2656" h="8">
                    <a:moveTo>
                      <a:pt x="0" y="0"/>
                    </a:moveTo>
                    <a:lnTo>
                      <a:pt x="2656" y="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5886360" y="3805200"/>
              <a:ext cx="5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076720" y="2057400"/>
              <a:ext cx="2641680" cy="3276360"/>
              <a:chOff x="5076720" y="2057400"/>
              <a:chExt cx="2641680" cy="3276360"/>
            </a:xfrm>
          </p:grpSpPr>
          <p:sp>
            <p:nvSpPr>
              <p:cNvPr id="199" name=""/>
              <p:cNvSpPr/>
              <p:nvPr/>
            </p:nvSpPr>
            <p:spPr>
              <a:xfrm>
                <a:off x="7716960" y="2061360"/>
                <a:ext cx="1440" cy="3259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259760" y="2063160"/>
                <a:ext cx="9360" cy="3259440"/>
              </a:xfrm>
              <a:custGeom>
                <a:avLst/>
                <a:gdLst/>
                <a:ahLst/>
                <a:rect l="l" t="t" r="r" b="b"/>
                <a:pathLst>
                  <a:path w="4" h="2160">
                    <a:moveTo>
                      <a:pt x="4" y="0"/>
                    </a:moveTo>
                    <a:lnTo>
                      <a:pt x="0" y="216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811920" y="2057400"/>
                <a:ext cx="11160" cy="3270600"/>
              </a:xfrm>
              <a:custGeom>
                <a:avLst/>
                <a:gdLst/>
                <a:ahLst/>
                <a:rect l="l" t="t" r="r" b="b"/>
                <a:pathLst>
                  <a:path w="4" h="2168">
                    <a:moveTo>
                      <a:pt x="0" y="0"/>
                    </a:moveTo>
                    <a:lnTo>
                      <a:pt x="4" y="2168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940360" y="2057400"/>
                <a:ext cx="9720" cy="3258360"/>
              </a:xfrm>
              <a:custGeom>
                <a:avLst/>
                <a:gdLst/>
                <a:ahLst/>
                <a:rect l="l" t="t" r="r" b="b"/>
                <a:pathLst>
                  <a:path w="4" h="2160">
                    <a:moveTo>
                      <a:pt x="0" y="0"/>
                    </a:moveTo>
                    <a:lnTo>
                      <a:pt x="4" y="216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02240" y="2063160"/>
                <a:ext cx="22320" cy="3240360"/>
              </a:xfrm>
              <a:custGeom>
                <a:avLst/>
                <a:gdLst/>
                <a:ahLst/>
                <a:rect l="l" t="t" r="r" b="b"/>
                <a:pathLst>
                  <a:path w="8" h="2148">
                    <a:moveTo>
                      <a:pt x="0" y="0"/>
                    </a:moveTo>
                    <a:lnTo>
                      <a:pt x="8" y="2148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076720" y="2063160"/>
                <a:ext cx="22320" cy="3240360"/>
              </a:xfrm>
              <a:custGeom>
                <a:avLst/>
                <a:gdLst/>
                <a:ahLst/>
                <a:rect l="l" t="t" r="r" b="b"/>
                <a:pathLst>
                  <a:path w="8" h="2148">
                    <a:moveTo>
                      <a:pt x="0" y="0"/>
                    </a:moveTo>
                    <a:lnTo>
                      <a:pt x="8" y="2148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67320" y="2080440"/>
                <a:ext cx="32040" cy="3253320"/>
              </a:xfrm>
              <a:custGeom>
                <a:avLst/>
                <a:gdLst/>
                <a:ahLst/>
                <a:rect l="l" t="t" r="r" b="b"/>
                <a:pathLst>
                  <a:path w="16" h="2816">
                    <a:moveTo>
                      <a:pt x="16" y="2816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630480" y="3810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3480" y="32004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93920" y="1676520"/>
              <a:ext cx="42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248520" y="3848040"/>
            <a:ext cx="609480" cy="648720"/>
            <a:chOff x="6248520" y="3848040"/>
            <a:chExt cx="609480" cy="648720"/>
          </a:xfrm>
        </p:grpSpPr>
        <p:sp>
          <p:nvSpPr>
            <p:cNvPr id="210" name=""/>
            <p:cNvSpPr/>
            <p:nvPr/>
          </p:nvSpPr>
          <p:spPr>
            <a:xfrm>
              <a:off x="6375240" y="3848040"/>
              <a:ext cx="471600" cy="1440"/>
            </a:xfrm>
            <a:custGeom>
              <a:avLst/>
              <a:gdLst/>
              <a:ahLst/>
              <a:rect l="l" t="t" r="r" b="b"/>
              <a:pathLst>
                <a:path w="297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6248520" y="3854160"/>
              <a:ext cx="609480" cy="642600"/>
              <a:chOff x="6248520" y="3854160"/>
              <a:chExt cx="609480" cy="642600"/>
            </a:xfrm>
          </p:grpSpPr>
          <p:sp>
            <p:nvSpPr>
              <p:cNvPr id="212" name=""/>
              <p:cNvSpPr/>
              <p:nvPr/>
            </p:nvSpPr>
            <p:spPr>
              <a:xfrm>
                <a:off x="6248520" y="385416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476760" y="4000320"/>
                <a:ext cx="225360" cy="6480"/>
              </a:xfrm>
              <a:custGeom>
                <a:avLst/>
                <a:gdLst/>
                <a:ahLst/>
                <a:rect l="l" t="t" r="r" b="b"/>
                <a:pathLst>
                  <a:path w="142" h="4">
                    <a:moveTo>
                      <a:pt x="0" y="0"/>
                    </a:moveTo>
                    <a:lnTo>
                      <a:pt x="142" y="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5867280" y="3200400"/>
            <a:ext cx="609480" cy="647280"/>
            <a:chOff x="5867280" y="3200400"/>
            <a:chExt cx="609480" cy="647280"/>
          </a:xfrm>
        </p:grpSpPr>
        <p:sp>
          <p:nvSpPr>
            <p:cNvPr id="215" name=""/>
            <p:cNvSpPr/>
            <p:nvPr/>
          </p:nvSpPr>
          <p:spPr>
            <a:xfrm>
              <a:off x="6380280" y="3379680"/>
              <a:ext cx="1440" cy="468000"/>
            </a:xfrm>
            <a:custGeom>
              <a:avLst/>
              <a:gdLst/>
              <a:ahLst/>
              <a:rect l="l" t="t" r="r" b="b"/>
              <a:pathLst>
                <a:path w="1" h="295">
                  <a:moveTo>
                    <a:pt x="0" y="295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5867280" y="3200400"/>
              <a:ext cx="609480" cy="642600"/>
              <a:chOff x="5867280" y="3200400"/>
              <a:chExt cx="609480" cy="642600"/>
            </a:xfrm>
          </p:grpSpPr>
          <p:sp>
            <p:nvSpPr>
              <p:cNvPr id="217" name=""/>
              <p:cNvSpPr/>
              <p:nvPr/>
            </p:nvSpPr>
            <p:spPr>
              <a:xfrm>
                <a:off x="5867280" y="320040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j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08480" y="3339720"/>
                <a:ext cx="225360" cy="6120"/>
              </a:xfrm>
              <a:custGeom>
                <a:avLst/>
                <a:gdLst/>
                <a:ahLst/>
                <a:rect l="l" t="t" r="r" b="b"/>
                <a:pathLst>
                  <a:path w="142" h="4">
                    <a:moveTo>
                      <a:pt x="0" y="0"/>
                    </a:moveTo>
                    <a:lnTo>
                      <a:pt x="142" y="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1221120" y="274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8480" y="3733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2112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24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77720" y="26668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2057400"/>
            <a:ext cx="1944720" cy="720720"/>
          </a:xfrm>
          <a:prstGeom prst="wedgeEllipseCallout">
            <a:avLst>
              <a:gd name="adj1" fmla="val -57837"/>
              <a:gd name="adj2" fmla="val 116740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3687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4724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4648320"/>
            <a:ext cx="2160720" cy="576000"/>
          </a:xfrm>
          <a:prstGeom prst="wedgeEllipseCallout">
            <a:avLst>
              <a:gd name="adj1" fmla="val -64842"/>
              <a:gd name="adj2" fmla="val 49171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3657600"/>
            <a:ext cx="2160720" cy="576360"/>
          </a:xfrm>
          <a:prstGeom prst="wedgeEllipseCallout">
            <a:avLst>
              <a:gd name="adj1" fmla="val -68513"/>
              <a:gd name="adj2" fmla="val 4751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028000" y="5948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5867280"/>
            <a:ext cx="1905120" cy="503280"/>
          </a:xfrm>
          <a:custGeom>
            <a:avLst/>
            <a:gdLst>
              <a:gd name="textAreaLeft" fmla="*/ 32400 w 1905120"/>
              <a:gd name="textAreaRight" fmla="*/ 1872720 w 19051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1722" h="21600">
                <a:moveTo>
                  <a:pt x="0" y="0"/>
                </a:moveTo>
                <a:lnTo>
                  <a:pt x="81722" y="0"/>
                </a:lnTo>
                <a:lnTo>
                  <a:pt x="81722" y="21600"/>
                </a:lnTo>
                <a:lnTo>
                  <a:pt x="0" y="21600"/>
                </a:lnTo>
                <a:close/>
              </a:path>
              <a:path fill="lightenLess" w="81722" h="21600">
                <a:moveTo>
                  <a:pt x="0" y="0"/>
                </a:moveTo>
                <a:lnTo>
                  <a:pt x="81722" y="0"/>
                </a:lnTo>
                <a:lnTo>
                  <a:pt x="80322" y="1400"/>
                </a:lnTo>
                <a:lnTo>
                  <a:pt x="1400" y="1400"/>
                </a:lnTo>
                <a:close/>
              </a:path>
              <a:path fill="darken" w="81722" h="21600">
                <a:moveTo>
                  <a:pt x="81722" y="0"/>
                </a:moveTo>
                <a:lnTo>
                  <a:pt x="81722" y="21600"/>
                </a:lnTo>
                <a:lnTo>
                  <a:pt x="80322" y="20200"/>
                </a:lnTo>
                <a:lnTo>
                  <a:pt x="80322" y="1400"/>
                </a:lnTo>
                <a:close/>
              </a:path>
              <a:path fill="darkenLess" w="81722" h="21600">
                <a:moveTo>
                  <a:pt x="81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322" y="20200"/>
                </a:lnTo>
                <a:close/>
              </a:path>
              <a:path fill="lighten" w="81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46000" y="425520"/>
            <a:ext cx="7002720" cy="642600"/>
            <a:chOff x="846000" y="425520"/>
            <a:chExt cx="7002720" cy="642600"/>
          </a:xfrm>
        </p:grpSpPr>
        <p:sp>
          <p:nvSpPr>
            <p:cNvPr id="241" name=""/>
            <p:cNvSpPr/>
            <p:nvPr/>
          </p:nvSpPr>
          <p:spPr>
            <a:xfrm>
              <a:off x="846000" y="577800"/>
              <a:ext cx="70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калярный квадрат вектора       равен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876920" y="425520"/>
              <a:ext cx="609480" cy="642600"/>
              <a:chOff x="4876920" y="425520"/>
              <a:chExt cx="609480" cy="642600"/>
            </a:xfrm>
          </p:grpSpPr>
          <p:sp>
            <p:nvSpPr>
              <p:cNvPr id="243" name=""/>
              <p:cNvSpPr/>
              <p:nvPr/>
            </p:nvSpPr>
            <p:spPr>
              <a:xfrm>
                <a:off x="4876920" y="42552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05160" y="571320"/>
                <a:ext cx="225360" cy="6120"/>
              </a:xfrm>
              <a:custGeom>
                <a:avLst/>
                <a:gdLst/>
                <a:ahLst/>
                <a:rect l="l" t="t" r="r" b="b"/>
                <a:pathLst>
                  <a:path w="142" h="4">
                    <a:moveTo>
                      <a:pt x="0" y="0"/>
                    </a:moveTo>
                    <a:lnTo>
                      <a:pt x="142" y="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>
            <a:off x="1221120" y="274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68480" y="3733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2112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025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алярный квадрат вект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вен квадрату его длины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952880" y="3321000"/>
            <a:ext cx="3886200" cy="642600"/>
            <a:chOff x="4952880" y="3321000"/>
            <a:chExt cx="3886200" cy="642600"/>
          </a:xfrm>
        </p:grpSpPr>
        <p:sp>
          <p:nvSpPr>
            <p:cNvPr id="250" name=""/>
            <p:cNvSpPr/>
            <p:nvPr/>
          </p:nvSpPr>
          <p:spPr>
            <a:xfrm>
              <a:off x="4952880" y="3321000"/>
              <a:ext cx="38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ru-RU" sz="3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3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= 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i  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= 1</a:t>
              </a:r>
              <a:r>
                <a:rPr b="1" lang="en-US" sz="3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= 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2440" y="3396960"/>
              <a:ext cx="22536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19920" y="3396960"/>
              <a:ext cx="22536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0"/>
                  </a:moveTo>
                  <a:lnTo>
                    <a:pt x="142" y="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42160" y="3549600"/>
              <a:ext cx="144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24480" y="3549600"/>
              <a:ext cx="180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609480" y="22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57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57200" y="30020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2057400"/>
            <a:ext cx="1944720" cy="720720"/>
          </a:xfrm>
          <a:prstGeom prst="wedgeEllipseCallout">
            <a:avLst>
              <a:gd name="adj1" fmla="val -16041"/>
              <a:gd name="adj2" fmla="val 107930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402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50594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3962520"/>
            <a:ext cx="2160720" cy="576000"/>
          </a:xfrm>
          <a:prstGeom prst="wedgeEllipseCallout">
            <a:avLst>
              <a:gd name="adj1" fmla="val -69101"/>
              <a:gd name="adj2" fmla="val 7754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028000" y="5948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943600"/>
            <a:ext cx="2286000" cy="503280"/>
          </a:xfrm>
          <a:custGeom>
            <a:avLst/>
            <a:gdLst>
              <a:gd name="textAreaLeft" fmla="*/ 32400 w 2286000"/>
              <a:gd name="textAreaRight" fmla="*/ 2253600 w 228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98057" h="21600">
                <a:moveTo>
                  <a:pt x="0" y="0"/>
                </a:moveTo>
                <a:lnTo>
                  <a:pt x="98057" y="0"/>
                </a:lnTo>
                <a:lnTo>
                  <a:pt x="98057" y="21600"/>
                </a:lnTo>
                <a:lnTo>
                  <a:pt x="0" y="21600"/>
                </a:lnTo>
                <a:close/>
              </a:path>
              <a:path fill="lightenLess" w="98057" h="21600">
                <a:moveTo>
                  <a:pt x="0" y="0"/>
                </a:moveTo>
                <a:lnTo>
                  <a:pt x="98057" y="0"/>
                </a:lnTo>
                <a:lnTo>
                  <a:pt x="96657" y="1400"/>
                </a:lnTo>
                <a:lnTo>
                  <a:pt x="1400" y="1400"/>
                </a:lnTo>
                <a:close/>
              </a:path>
              <a:path fill="darken" w="98057" h="21600">
                <a:moveTo>
                  <a:pt x="98057" y="0"/>
                </a:moveTo>
                <a:lnTo>
                  <a:pt x="98057" y="21600"/>
                </a:lnTo>
                <a:lnTo>
                  <a:pt x="96657" y="20200"/>
                </a:lnTo>
                <a:lnTo>
                  <a:pt x="96657" y="1400"/>
                </a:lnTo>
                <a:close/>
              </a:path>
              <a:path fill="darkenLess" w="98057" h="21600">
                <a:moveTo>
                  <a:pt x="98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657" y="20200"/>
                </a:lnTo>
                <a:close/>
              </a:path>
              <a:path fill="lighten" w="98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715000" y="4635360"/>
            <a:ext cx="2133720" cy="838440"/>
            <a:chOff x="5715000" y="4635360"/>
            <a:chExt cx="2133720" cy="838440"/>
          </a:xfrm>
        </p:grpSpPr>
        <p:grpSp>
          <p:nvGrpSpPr>
            <p:cNvPr id="273" name=""/>
            <p:cNvGrpSpPr/>
            <p:nvPr/>
          </p:nvGrpSpPr>
          <p:grpSpPr>
            <a:xfrm>
              <a:off x="5715000" y="4635360"/>
              <a:ext cx="1066680" cy="827280"/>
              <a:chOff x="5715000" y="4635360"/>
              <a:chExt cx="1066680" cy="827280"/>
            </a:xfrm>
          </p:grpSpPr>
          <p:sp>
            <p:nvSpPr>
              <p:cNvPr id="274" name=""/>
              <p:cNvSpPr/>
              <p:nvPr/>
            </p:nvSpPr>
            <p:spPr>
              <a:xfrm>
                <a:off x="5715000" y="4759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99320" y="4908600"/>
                <a:ext cx="30780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72200" y="4759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2640" y="489276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019920" y="4635360"/>
                <a:ext cx="457200" cy="200160"/>
              </a:xfrm>
              <a:custGeom>
                <a:avLst/>
                <a:gdLst/>
                <a:ahLst/>
                <a:rect l="l" t="t" r="r" b="b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6782040" y="4788000"/>
              <a:ext cx="106668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486400" y="5702400"/>
            <a:ext cx="2286000" cy="747720"/>
            <a:chOff x="5486400" y="5702400"/>
            <a:chExt cx="2286000" cy="747720"/>
          </a:xfrm>
        </p:grpSpPr>
        <p:sp>
          <p:nvSpPr>
            <p:cNvPr id="281" name=""/>
            <p:cNvSpPr/>
            <p:nvPr/>
          </p:nvSpPr>
          <p:spPr>
            <a:xfrm>
              <a:off x="5486400" y="59310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6324480" y="5702400"/>
              <a:ext cx="1447920" cy="747720"/>
              <a:chOff x="6324480" y="5702400"/>
              <a:chExt cx="1447920" cy="747720"/>
            </a:xfrm>
          </p:grpSpPr>
          <p:sp>
            <p:nvSpPr>
              <p:cNvPr id="283" name=""/>
              <p:cNvSpPr/>
              <p:nvPr/>
            </p:nvSpPr>
            <p:spPr>
              <a:xfrm>
                <a:off x="6324480" y="57024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77120" y="59148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7008840" y="5914800"/>
                <a:ext cx="144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7160760" y="5914800"/>
                <a:ext cx="180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62920" y="57466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315200" y="58230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609480" y="152280"/>
            <a:ext cx="8077320" cy="703440"/>
            <a:chOff x="609480" y="152280"/>
            <a:chExt cx="8077320" cy="703440"/>
          </a:xfrm>
        </p:grpSpPr>
        <p:sp>
          <p:nvSpPr>
            <p:cNvPr id="290" name=""/>
            <p:cNvSpPr/>
            <p:nvPr/>
          </p:nvSpPr>
          <p:spPr>
            <a:xfrm>
              <a:off x="609480" y="304920"/>
              <a:ext cx="79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с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447920" y="152280"/>
              <a:ext cx="609480" cy="703440"/>
              <a:chOff x="1447920" y="152280"/>
              <a:chExt cx="609480" cy="703440"/>
            </a:xfrm>
          </p:grpSpPr>
          <p:sp>
            <p:nvSpPr>
              <p:cNvPr id="292" name=""/>
              <p:cNvSpPr/>
              <p:nvPr/>
            </p:nvSpPr>
            <p:spPr>
              <a:xfrm>
                <a:off x="1447920" y="152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631880" y="301320"/>
                <a:ext cx="30744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81080" y="152280"/>
              <a:ext cx="609480" cy="703440"/>
              <a:chOff x="1981080" y="152280"/>
              <a:chExt cx="609480" cy="703440"/>
            </a:xfrm>
          </p:grpSpPr>
          <p:sp>
            <p:nvSpPr>
              <p:cNvPr id="295" name=""/>
              <p:cNvSpPr/>
              <p:nvPr/>
            </p:nvSpPr>
            <p:spPr>
              <a:xfrm>
                <a:off x="1981080" y="152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71520" y="28548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457360" y="152280"/>
              <a:ext cx="1352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r>
                <a:rPr b="1" lang="ru-RU" sz="4000" spc="-1" strike="noStrike">
                  <a:solidFill>
                    <a:srgbClr val="0000ff"/>
                  </a:solidFill>
                  <a:latin typeface="Times New Roman"/>
                </a:rPr>
                <a:t> 12,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1905120" y="447840"/>
                  <a:ext cx="266760" cy="26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99" name=""/>
            <p:cNvSpPr/>
            <p:nvPr/>
          </p:nvSpPr>
          <p:spPr>
            <a:xfrm>
              <a:off x="4343400" y="15228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=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,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51400" y="301680"/>
              <a:ext cx="307800" cy="324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00800" y="1522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4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15280" y="285840"/>
              <a:ext cx="307800" cy="144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86240" y="366840"/>
              <a:ext cx="4680" cy="404640"/>
            </a:xfrm>
            <a:custGeom>
              <a:avLst/>
              <a:gdLst/>
              <a:ahLst/>
              <a:rect l="l" t="t" r="r" b="b"/>
              <a:pathLst>
                <a:path w="3" h="255">
                  <a:moveTo>
                    <a:pt x="3" y="0"/>
                  </a:moveTo>
                  <a:lnTo>
                    <a:pt x="0" y="255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38680" y="371520"/>
              <a:ext cx="4680" cy="395280"/>
            </a:xfrm>
            <a:custGeom>
              <a:avLst/>
              <a:gdLst/>
              <a:ahLst/>
              <a:rect l="l" t="t" r="r" b="b"/>
              <a:pathLst>
                <a:path w="3" h="249">
                  <a:moveTo>
                    <a:pt x="3" y="0"/>
                  </a:moveTo>
                  <a:lnTo>
                    <a:pt x="0" y="249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38960" y="385920"/>
              <a:ext cx="4680" cy="371160"/>
            </a:xfrm>
            <a:custGeom>
              <a:avLst/>
              <a:gdLst/>
              <a:ahLst/>
              <a:rect l="l" t="t" r="r" b="b"/>
              <a:pathLst>
                <a:path w="3" h="234">
                  <a:moveTo>
                    <a:pt x="0" y="0"/>
                  </a:moveTo>
                  <a:lnTo>
                    <a:pt x="3" y="23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15160" y="361800"/>
              <a:ext cx="4680" cy="385920"/>
            </a:xfrm>
            <a:custGeom>
              <a:avLst/>
              <a:gdLst/>
              <a:ahLst/>
              <a:rect l="l" t="t" r="r" b="b"/>
              <a:pathLst>
                <a:path w="3" h="243">
                  <a:moveTo>
                    <a:pt x="0" y="0"/>
                  </a:moveTo>
                  <a:lnTo>
                    <a:pt x="3" y="243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17680" y="990720"/>
            <a:ext cx="56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векторы         и        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09680" y="762120"/>
            <a:ext cx="1676160" cy="719280"/>
            <a:chOff x="2209680" y="762120"/>
            <a:chExt cx="1676160" cy="719280"/>
          </a:xfrm>
        </p:grpSpPr>
        <p:grpSp>
          <p:nvGrpSpPr>
            <p:cNvPr id="309" name=""/>
            <p:cNvGrpSpPr/>
            <p:nvPr/>
          </p:nvGrpSpPr>
          <p:grpSpPr>
            <a:xfrm>
              <a:off x="2209680" y="762120"/>
              <a:ext cx="609480" cy="703440"/>
              <a:chOff x="2209680" y="762120"/>
              <a:chExt cx="609480" cy="703440"/>
            </a:xfrm>
          </p:grpSpPr>
          <p:sp>
            <p:nvSpPr>
              <p:cNvPr id="310" name=""/>
              <p:cNvSpPr/>
              <p:nvPr/>
            </p:nvSpPr>
            <p:spPr>
              <a:xfrm>
                <a:off x="2209680" y="762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393640" y="911160"/>
                <a:ext cx="30744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276360" y="777960"/>
              <a:ext cx="609480" cy="703440"/>
              <a:chOff x="3276360" y="777960"/>
              <a:chExt cx="609480" cy="703440"/>
            </a:xfrm>
          </p:grpSpPr>
          <p:sp>
            <p:nvSpPr>
              <p:cNvPr id="313" name=""/>
              <p:cNvSpPr/>
              <p:nvPr/>
            </p:nvSpPr>
            <p:spPr>
              <a:xfrm>
                <a:off x="3276360" y="7779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66800" y="91116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990720" y="3154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направле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5105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ивоположно направл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4145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пендикуляр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26040" y="152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259400" y="152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5105520"/>
            <a:ext cx="2160720" cy="576000"/>
          </a:xfrm>
          <a:prstGeom prst="wedgeEllipseCallout">
            <a:avLst>
              <a:gd name="adj1" fmla="val -75421"/>
              <a:gd name="adj2" fmla="val 6818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96560" y="152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267080" y="1600200"/>
            <a:ext cx="4419360" cy="839880"/>
            <a:chOff x="4267080" y="1600200"/>
            <a:chExt cx="4419360" cy="839880"/>
          </a:xfrm>
        </p:grpSpPr>
        <p:grpSp>
          <p:nvGrpSpPr>
            <p:cNvPr id="323" name=""/>
            <p:cNvGrpSpPr/>
            <p:nvPr/>
          </p:nvGrpSpPr>
          <p:grpSpPr>
            <a:xfrm>
              <a:off x="4267080" y="1724040"/>
              <a:ext cx="1370160" cy="703440"/>
              <a:chOff x="4267080" y="1724040"/>
              <a:chExt cx="1370160" cy="703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4267080" y="1724040"/>
                <a:ext cx="609840" cy="703440"/>
                <a:chOff x="4267080" y="1724040"/>
                <a:chExt cx="609840" cy="7034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267080" y="1724040"/>
                  <a:ext cx="609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451400" y="1873080"/>
                  <a:ext cx="307800" cy="324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800600" y="1724040"/>
                <a:ext cx="609480" cy="703440"/>
                <a:chOff x="4800600" y="1724040"/>
                <a:chExt cx="609480" cy="7034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800600" y="1724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91040" y="1857240"/>
                  <a:ext cx="308160" cy="144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5278320" y="19047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1" name=""/>
                  <p:cNvSpPr txBox="1"/>
                  <p:nvPr/>
                </p:nvSpPr>
                <p:spPr>
                  <a:xfrm>
                    <a:off x="4724280" y="2019240"/>
                    <a:ext cx="26676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332" name=""/>
            <p:cNvGrpSpPr/>
            <p:nvPr/>
          </p:nvGrpSpPr>
          <p:grpSpPr>
            <a:xfrm>
              <a:off x="5638680" y="1676160"/>
              <a:ext cx="609480" cy="703440"/>
              <a:chOff x="5638680" y="1676160"/>
              <a:chExt cx="609480" cy="70344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5638680" y="1676160"/>
                <a:ext cx="609480" cy="703440"/>
                <a:chOff x="5638680" y="1676160"/>
                <a:chExt cx="609480" cy="7034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638680" y="167616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822640" y="1825200"/>
                  <a:ext cx="307440" cy="324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5714640" y="190476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71840" y="190476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400800" y="1736640"/>
              <a:ext cx="609480" cy="703440"/>
              <a:chOff x="6400800" y="1736640"/>
              <a:chExt cx="609480" cy="7034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6400800" y="1736640"/>
                <a:ext cx="609480" cy="703440"/>
                <a:chOff x="6400800" y="1736640"/>
                <a:chExt cx="609480" cy="703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400800" y="17366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1240" y="1869840"/>
                  <a:ext cx="308160" cy="144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6476760" y="190476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933960" y="190476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210360" y="1981080"/>
                  <a:ext cx="2664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345" name=""/>
            <p:cNvGrpSpPr/>
            <p:nvPr/>
          </p:nvGrpSpPr>
          <p:grpSpPr>
            <a:xfrm>
              <a:off x="6940440" y="1600200"/>
              <a:ext cx="1746000" cy="839880"/>
              <a:chOff x="6940440" y="1600200"/>
              <a:chExt cx="1746000" cy="839880"/>
            </a:xfrm>
          </p:grpSpPr>
          <p:sp>
            <p:nvSpPr>
              <p:cNvPr id="346" name=""/>
              <p:cNvSpPr/>
              <p:nvPr/>
            </p:nvSpPr>
            <p:spPr>
              <a:xfrm>
                <a:off x="6940440" y="1736640"/>
                <a:ext cx="1441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os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619760" y="1600200"/>
                <a:ext cx="1066680" cy="827280"/>
                <a:chOff x="7619760" y="1600200"/>
                <a:chExt cx="1066680" cy="8272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619760" y="1724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804080" y="1873440"/>
                  <a:ext cx="307800" cy="324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076960" y="1724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67400" y="1857600"/>
                  <a:ext cx="308160" cy="144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924680" y="1600200"/>
                  <a:ext cx="457200" cy="200160"/>
                </a:xfrm>
                <a:custGeom>
                  <a:avLst/>
                  <a:gdLst/>
                  <a:ahLst/>
                  <a:rect l="l" t="t" r="r" b="b"/>
                  <a:pathLst>
                    <a:path w="288" h="126">
                      <a:moveTo>
                        <a:pt x="0" y="126"/>
                      </a:moveTo>
                      <a:lnTo>
                        <a:pt x="152" y="0"/>
                      </a:lnTo>
                      <a:lnTo>
                        <a:pt x="288" y="12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3" name=""/>
          <p:cNvGrpSpPr/>
          <p:nvPr/>
        </p:nvGrpSpPr>
        <p:grpSpPr>
          <a:xfrm>
            <a:off x="5638680" y="3657600"/>
            <a:ext cx="2514600" cy="843120"/>
            <a:chOff x="5638680" y="3657600"/>
            <a:chExt cx="2514600" cy="843120"/>
          </a:xfrm>
        </p:grpSpPr>
        <p:sp>
          <p:nvSpPr>
            <p:cNvPr id="354" name=""/>
            <p:cNvSpPr/>
            <p:nvPr/>
          </p:nvSpPr>
          <p:spPr>
            <a:xfrm>
              <a:off x="5638680" y="379728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os       =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1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324480" y="3657600"/>
              <a:ext cx="1066680" cy="827280"/>
              <a:chOff x="6324480" y="3657600"/>
              <a:chExt cx="1066680" cy="827280"/>
            </a:xfrm>
          </p:grpSpPr>
          <p:sp>
            <p:nvSpPr>
              <p:cNvPr id="356" name=""/>
              <p:cNvSpPr/>
              <p:nvPr/>
            </p:nvSpPr>
            <p:spPr>
              <a:xfrm>
                <a:off x="6324480" y="37814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508800" y="3930840"/>
                <a:ext cx="30780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781680" y="37814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72120" y="391500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29400" y="3657600"/>
                <a:ext cx="457200" cy="200160"/>
              </a:xfrm>
              <a:custGeom>
                <a:avLst/>
                <a:gdLst/>
                <a:ahLst/>
                <a:rect l="l" t="t" r="r" b="b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5029200" y="2590920"/>
            <a:ext cx="3657600" cy="839880"/>
            <a:chOff x="5029200" y="2590920"/>
            <a:chExt cx="3657600" cy="839880"/>
          </a:xfrm>
        </p:grpSpPr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6438960" y="2971800"/>
                  <a:ext cx="2664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363" name=""/>
            <p:cNvSpPr/>
            <p:nvPr/>
          </p:nvSpPr>
          <p:spPr>
            <a:xfrm>
              <a:off x="5029200" y="2727360"/>
              <a:ext cx="365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1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3  4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cos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619760" y="2590920"/>
              <a:ext cx="1066680" cy="827280"/>
              <a:chOff x="7619760" y="2590920"/>
              <a:chExt cx="1066680" cy="827280"/>
            </a:xfrm>
          </p:grpSpPr>
          <p:sp>
            <p:nvSpPr>
              <p:cNvPr id="365" name=""/>
              <p:cNvSpPr/>
              <p:nvPr/>
            </p:nvSpPr>
            <p:spPr>
              <a:xfrm>
                <a:off x="7619760" y="27147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804080" y="2864160"/>
                <a:ext cx="30780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76960" y="27147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67400" y="284832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924680" y="2590920"/>
                <a:ext cx="457200" cy="200160"/>
              </a:xfrm>
              <a:custGeom>
                <a:avLst/>
                <a:gdLst/>
                <a:ahLst/>
                <a:rect l="l" t="t" r="r" b="b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380880" y="304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15521 0.11921 L 0.18021 0.15625 E">
                                      <p:cBhvr>
                                        <p:cTn id="255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L 0.0573 0.13218 L 0.06424 0.1581 E">
                                      <p:cBhvr>
                                        <p:cTn id="257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-0.05938 0.10625 L -0.08021 0.15625 E">
                                      <p:cBhvr>
                                        <p:cTn id="259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676520" y="2438280"/>
            <a:ext cx="2160360" cy="576360"/>
          </a:xfrm>
          <a:prstGeom prst="wedgeEllipseCallout">
            <a:avLst>
              <a:gd name="adj1" fmla="val 40962"/>
              <a:gd name="adj2" fmla="val 1188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73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457200" y="5029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402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29718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3505320"/>
            <a:ext cx="2160360" cy="576000"/>
          </a:xfrm>
          <a:prstGeom prst="wedgeEllipseCallout">
            <a:avLst>
              <a:gd name="adj1" fmla="val 22004"/>
              <a:gd name="adj2" fmla="val 101791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028000" y="5948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95280" y="5943600"/>
            <a:ext cx="2286000" cy="503280"/>
          </a:xfrm>
          <a:custGeom>
            <a:avLst/>
            <a:gdLst>
              <a:gd name="textAreaLeft" fmla="*/ 32400 w 2286000"/>
              <a:gd name="textAreaRight" fmla="*/ 2253600 w 228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98057" h="21600">
                <a:moveTo>
                  <a:pt x="0" y="0"/>
                </a:moveTo>
                <a:lnTo>
                  <a:pt x="98057" y="0"/>
                </a:lnTo>
                <a:lnTo>
                  <a:pt x="98057" y="21600"/>
                </a:lnTo>
                <a:lnTo>
                  <a:pt x="0" y="21600"/>
                </a:lnTo>
                <a:close/>
              </a:path>
              <a:path fill="lightenLess" w="98057" h="21600">
                <a:moveTo>
                  <a:pt x="0" y="0"/>
                </a:moveTo>
                <a:lnTo>
                  <a:pt x="98057" y="0"/>
                </a:lnTo>
                <a:lnTo>
                  <a:pt x="96657" y="1400"/>
                </a:lnTo>
                <a:lnTo>
                  <a:pt x="1400" y="1400"/>
                </a:lnTo>
                <a:close/>
              </a:path>
              <a:path fill="darken" w="98057" h="21600">
                <a:moveTo>
                  <a:pt x="98057" y="0"/>
                </a:moveTo>
                <a:lnTo>
                  <a:pt x="98057" y="21600"/>
                </a:lnTo>
                <a:lnTo>
                  <a:pt x="96657" y="20200"/>
                </a:lnTo>
                <a:lnTo>
                  <a:pt x="96657" y="1400"/>
                </a:lnTo>
                <a:close/>
              </a:path>
              <a:path fill="darkenLess" w="98057" h="21600">
                <a:moveTo>
                  <a:pt x="98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657" y="20200"/>
                </a:lnTo>
                <a:close/>
              </a:path>
              <a:path fill="lighten" w="98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715000" y="4635360"/>
            <a:ext cx="2133720" cy="838440"/>
            <a:chOff x="5715000" y="4635360"/>
            <a:chExt cx="2133720" cy="838440"/>
          </a:xfrm>
        </p:grpSpPr>
        <p:grpSp>
          <p:nvGrpSpPr>
            <p:cNvPr id="388" name=""/>
            <p:cNvGrpSpPr/>
            <p:nvPr/>
          </p:nvGrpSpPr>
          <p:grpSpPr>
            <a:xfrm>
              <a:off x="5715000" y="4635360"/>
              <a:ext cx="1066680" cy="827280"/>
              <a:chOff x="5715000" y="4635360"/>
              <a:chExt cx="1066680" cy="827280"/>
            </a:xfrm>
          </p:grpSpPr>
          <p:sp>
            <p:nvSpPr>
              <p:cNvPr id="389" name=""/>
              <p:cNvSpPr/>
              <p:nvPr/>
            </p:nvSpPr>
            <p:spPr>
              <a:xfrm>
                <a:off x="5715000" y="4759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99320" y="4908600"/>
                <a:ext cx="30780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72200" y="4759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62640" y="489276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19920" y="4635360"/>
                <a:ext cx="457200" cy="200160"/>
              </a:xfrm>
              <a:custGeom>
                <a:avLst/>
                <a:gdLst/>
                <a:ahLst/>
                <a:rect l="l" t="t" r="r" b="b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782040" y="4788000"/>
              <a:ext cx="106668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8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486400" y="5715000"/>
            <a:ext cx="2286000" cy="747720"/>
            <a:chOff x="5486400" y="5715000"/>
            <a:chExt cx="2286000" cy="747720"/>
          </a:xfrm>
        </p:grpSpPr>
        <p:sp>
          <p:nvSpPr>
            <p:cNvPr id="396" name=""/>
            <p:cNvSpPr/>
            <p:nvPr/>
          </p:nvSpPr>
          <p:spPr>
            <a:xfrm>
              <a:off x="5486400" y="59436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324480" y="5715000"/>
              <a:ext cx="1447920" cy="747720"/>
              <a:chOff x="6324480" y="5715000"/>
              <a:chExt cx="1447920" cy="747720"/>
            </a:xfrm>
          </p:grpSpPr>
          <p:sp>
            <p:nvSpPr>
              <p:cNvPr id="398" name=""/>
              <p:cNvSpPr/>
              <p:nvPr/>
            </p:nvSpPr>
            <p:spPr>
              <a:xfrm>
                <a:off x="6324480" y="57150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77120" y="59274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7008840" y="5927400"/>
                <a:ext cx="144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160400" y="5927400"/>
                <a:ext cx="180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162920" y="5759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15200" y="58356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"/>
          <p:cNvSpPr/>
          <p:nvPr/>
        </p:nvSpPr>
        <p:spPr>
          <a:xfrm>
            <a:off x="609480" y="3049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447920" y="152280"/>
            <a:ext cx="609480" cy="703440"/>
            <a:chOff x="1447920" y="152280"/>
            <a:chExt cx="609480" cy="703440"/>
          </a:xfrm>
        </p:grpSpPr>
        <p:sp>
          <p:nvSpPr>
            <p:cNvPr id="406" name=""/>
            <p:cNvSpPr/>
            <p:nvPr/>
          </p:nvSpPr>
          <p:spPr>
            <a:xfrm>
              <a:off x="1447920" y="152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31880" y="301320"/>
              <a:ext cx="307440" cy="324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981080" y="152280"/>
            <a:ext cx="609480" cy="703440"/>
            <a:chOff x="1981080" y="152280"/>
            <a:chExt cx="609480" cy="703440"/>
          </a:xfrm>
        </p:grpSpPr>
        <p:sp>
          <p:nvSpPr>
            <p:cNvPr id="409" name=""/>
            <p:cNvSpPr/>
            <p:nvPr/>
          </p:nvSpPr>
          <p:spPr>
            <a:xfrm>
              <a:off x="1981080" y="152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y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71520" y="285480"/>
              <a:ext cx="308160" cy="144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457360" y="1522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–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1905120" y="44784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4343400" y="152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 =</a:t>
            </a: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451400" y="301680"/>
            <a:ext cx="307800" cy="3240"/>
          </a:xfrm>
          <a:custGeom>
            <a:avLst/>
            <a:gdLst/>
            <a:ahLst/>
            <a:rect l="l" t="t" r="r" b="b"/>
            <a:pathLst>
              <a:path w="194" h="2">
                <a:moveTo>
                  <a:pt x="0" y="0"/>
                </a:moveTo>
                <a:lnTo>
                  <a:pt x="194" y="2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00800" y="152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y</a:t>
            </a: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15280" y="285840"/>
            <a:ext cx="307800" cy="1440"/>
          </a:xfrm>
          <a:custGeom>
            <a:avLst/>
            <a:gdLst/>
            <a:ahLst/>
            <a:rect l="l" t="t" r="r" b="b"/>
            <a:pathLst>
              <a:path w="194" h="1">
                <a:moveTo>
                  <a:pt x="0" y="0"/>
                </a:moveTo>
                <a:lnTo>
                  <a:pt x="19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86240" y="366840"/>
            <a:ext cx="4680" cy="404640"/>
          </a:xfrm>
          <a:custGeom>
            <a:avLst/>
            <a:gdLst/>
            <a:ahLst/>
            <a:rect l="l" t="t" r="r" b="b"/>
            <a:pathLst>
              <a:path w="3" h="255">
                <a:moveTo>
                  <a:pt x="3" y="0"/>
                </a:moveTo>
                <a:lnTo>
                  <a:pt x="0" y="255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38680" y="371520"/>
            <a:ext cx="4680" cy="395280"/>
          </a:xfrm>
          <a:custGeom>
            <a:avLst/>
            <a:gdLst/>
            <a:ahLst/>
            <a:rect l="l" t="t" r="r" b="b"/>
            <a:pathLst>
              <a:path w="3" h="249">
                <a:moveTo>
                  <a:pt x="3" y="0"/>
                </a:moveTo>
                <a:lnTo>
                  <a:pt x="0" y="249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38960" y="385920"/>
            <a:ext cx="4680" cy="371160"/>
          </a:xfrm>
          <a:custGeom>
            <a:avLst/>
            <a:gdLst/>
            <a:ahLst/>
            <a:rect l="l" t="t" r="r" b="b"/>
            <a:pathLst>
              <a:path w="3" h="234">
                <a:moveTo>
                  <a:pt x="0" y="0"/>
                </a:moveTo>
                <a:lnTo>
                  <a:pt x="3" y="234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15160" y="361800"/>
            <a:ext cx="4680" cy="385920"/>
          </a:xfrm>
          <a:custGeom>
            <a:avLst/>
            <a:gdLst/>
            <a:ahLst/>
            <a:rect l="l" t="t" r="r" b="b"/>
            <a:pathLst>
              <a:path w="3" h="243">
                <a:moveTo>
                  <a:pt x="0" y="0"/>
                </a:moveTo>
                <a:lnTo>
                  <a:pt x="3" y="243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7680" y="990720"/>
            <a:ext cx="56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векторы         и        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209680" y="762120"/>
            <a:ext cx="1676160" cy="719280"/>
            <a:chOff x="2209680" y="762120"/>
            <a:chExt cx="1676160" cy="719280"/>
          </a:xfrm>
        </p:grpSpPr>
        <p:grpSp>
          <p:nvGrpSpPr>
            <p:cNvPr id="423" name=""/>
            <p:cNvGrpSpPr/>
            <p:nvPr/>
          </p:nvGrpSpPr>
          <p:grpSpPr>
            <a:xfrm>
              <a:off x="2209680" y="762120"/>
              <a:ext cx="609480" cy="703440"/>
              <a:chOff x="2209680" y="762120"/>
              <a:chExt cx="609480" cy="703440"/>
            </a:xfrm>
          </p:grpSpPr>
          <p:sp>
            <p:nvSpPr>
              <p:cNvPr id="424" name=""/>
              <p:cNvSpPr/>
              <p:nvPr/>
            </p:nvSpPr>
            <p:spPr>
              <a:xfrm>
                <a:off x="2209680" y="762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393640" y="911160"/>
                <a:ext cx="30744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3276360" y="777960"/>
              <a:ext cx="609480" cy="703440"/>
              <a:chOff x="3276360" y="777960"/>
              <a:chExt cx="609480" cy="703440"/>
            </a:xfrm>
          </p:grpSpPr>
          <p:sp>
            <p:nvSpPr>
              <p:cNvPr id="427" name=""/>
              <p:cNvSpPr/>
              <p:nvPr/>
            </p:nvSpPr>
            <p:spPr>
              <a:xfrm>
                <a:off x="3276360" y="7779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66800" y="91116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99072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направле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5105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ивоположно направл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4114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пендикуляр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126040" y="152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59400" y="152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96560" y="152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–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267080" y="1600200"/>
            <a:ext cx="4419360" cy="839880"/>
            <a:chOff x="4267080" y="1600200"/>
            <a:chExt cx="4419360" cy="839880"/>
          </a:xfrm>
        </p:grpSpPr>
        <p:grpSp>
          <p:nvGrpSpPr>
            <p:cNvPr id="436" name=""/>
            <p:cNvGrpSpPr/>
            <p:nvPr/>
          </p:nvGrpSpPr>
          <p:grpSpPr>
            <a:xfrm>
              <a:off x="4267080" y="1724040"/>
              <a:ext cx="1370160" cy="703440"/>
              <a:chOff x="4267080" y="1724040"/>
              <a:chExt cx="1370160" cy="70344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4267080" y="1724040"/>
                <a:ext cx="609840" cy="703440"/>
                <a:chOff x="4267080" y="1724040"/>
                <a:chExt cx="609840" cy="7034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267080" y="1724040"/>
                  <a:ext cx="609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x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451400" y="1873080"/>
                  <a:ext cx="307800" cy="324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4800600" y="1724040"/>
                <a:ext cx="609480" cy="703440"/>
                <a:chOff x="4800600" y="1724040"/>
                <a:chExt cx="609480" cy="7034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4800600" y="1724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y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991040" y="1857240"/>
                  <a:ext cx="308160" cy="144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5278320" y="19047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4" name=""/>
                  <p:cNvSpPr txBox="1"/>
                  <p:nvPr/>
                </p:nvSpPr>
                <p:spPr>
                  <a:xfrm>
                    <a:off x="4724280" y="2019240"/>
                    <a:ext cx="26676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445" name=""/>
            <p:cNvGrpSpPr/>
            <p:nvPr/>
          </p:nvGrpSpPr>
          <p:grpSpPr>
            <a:xfrm>
              <a:off x="5638680" y="1676160"/>
              <a:ext cx="609480" cy="703440"/>
              <a:chOff x="5638680" y="1676160"/>
              <a:chExt cx="609480" cy="70344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5638680" y="1676160"/>
                <a:ext cx="609480" cy="703440"/>
                <a:chOff x="5638680" y="1676160"/>
                <a:chExt cx="609480" cy="7034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638680" y="167616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x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822640" y="1825200"/>
                  <a:ext cx="307440" cy="324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5714640" y="190476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71840" y="190476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400800" y="1736640"/>
              <a:ext cx="609480" cy="703440"/>
              <a:chOff x="6400800" y="1736640"/>
              <a:chExt cx="609480" cy="7034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6400800" y="1736640"/>
                <a:ext cx="609480" cy="703440"/>
                <a:chOff x="6400800" y="1736640"/>
                <a:chExt cx="609480" cy="7034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400800" y="17366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y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591240" y="1869840"/>
                  <a:ext cx="308160" cy="144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6476760" y="190476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3960" y="190476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6210360" y="1981080"/>
                  <a:ext cx="2664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458" name=""/>
            <p:cNvGrpSpPr/>
            <p:nvPr/>
          </p:nvGrpSpPr>
          <p:grpSpPr>
            <a:xfrm>
              <a:off x="6940440" y="1600200"/>
              <a:ext cx="1746000" cy="839880"/>
              <a:chOff x="6940440" y="1600200"/>
              <a:chExt cx="1746000" cy="839880"/>
            </a:xfrm>
          </p:grpSpPr>
          <p:sp>
            <p:nvSpPr>
              <p:cNvPr id="459" name=""/>
              <p:cNvSpPr/>
              <p:nvPr/>
            </p:nvSpPr>
            <p:spPr>
              <a:xfrm>
                <a:off x="6940440" y="1736640"/>
                <a:ext cx="1441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os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619760" y="1600200"/>
                <a:ext cx="1066680" cy="827280"/>
                <a:chOff x="7619760" y="1600200"/>
                <a:chExt cx="1066680" cy="8272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7619760" y="1724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x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804080" y="1873440"/>
                  <a:ext cx="307800" cy="324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076960" y="1724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y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267400" y="1857600"/>
                  <a:ext cx="308160" cy="144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924680" y="1600200"/>
                  <a:ext cx="457200" cy="200160"/>
                </a:xfrm>
                <a:custGeom>
                  <a:avLst/>
                  <a:gdLst/>
                  <a:ahLst/>
                  <a:rect l="l" t="t" r="r" b="b"/>
                  <a:pathLst>
                    <a:path w="288" h="126">
                      <a:moveTo>
                        <a:pt x="0" y="126"/>
                      </a:moveTo>
                      <a:lnTo>
                        <a:pt x="152" y="0"/>
                      </a:lnTo>
                      <a:lnTo>
                        <a:pt x="288" y="12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6" name=""/>
          <p:cNvGrpSpPr/>
          <p:nvPr/>
        </p:nvGrpSpPr>
        <p:grpSpPr>
          <a:xfrm>
            <a:off x="5638680" y="3657600"/>
            <a:ext cx="2819520" cy="843120"/>
            <a:chOff x="5638680" y="3657600"/>
            <a:chExt cx="2819520" cy="843120"/>
          </a:xfrm>
        </p:grpSpPr>
        <p:sp>
          <p:nvSpPr>
            <p:cNvPr id="467" name=""/>
            <p:cNvSpPr/>
            <p:nvPr/>
          </p:nvSpPr>
          <p:spPr>
            <a:xfrm>
              <a:off x="5638680" y="3797280"/>
              <a:ext cx="281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os      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6324480" y="3657600"/>
              <a:ext cx="1066680" cy="827280"/>
              <a:chOff x="6324480" y="3657600"/>
              <a:chExt cx="1066680" cy="827280"/>
            </a:xfrm>
          </p:grpSpPr>
          <p:sp>
            <p:nvSpPr>
              <p:cNvPr id="469" name=""/>
              <p:cNvSpPr/>
              <p:nvPr/>
            </p:nvSpPr>
            <p:spPr>
              <a:xfrm>
                <a:off x="6324480" y="37814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508800" y="3930840"/>
                <a:ext cx="30780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81680" y="37814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972120" y="391500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629400" y="3657600"/>
                <a:ext cx="457200" cy="200160"/>
              </a:xfrm>
              <a:custGeom>
                <a:avLst/>
                <a:gdLst/>
                <a:ahLst/>
                <a:rect l="l" t="t" r="r" b="b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4724280" y="2590920"/>
            <a:ext cx="3962520" cy="839880"/>
            <a:chOff x="4724280" y="2590920"/>
            <a:chExt cx="3962520" cy="839880"/>
          </a:xfrm>
        </p:grpSpPr>
        <mc:AlternateContent>
          <mc:Choice xmlns:a14="http://schemas.microsoft.com/office/drawing/2010/main" Requires="a14">
            <p:sp>
              <p:nvSpPr>
                <p:cNvPr id="475" name=""/>
                <p:cNvSpPr txBox="1"/>
                <p:nvPr/>
              </p:nvSpPr>
              <p:spPr>
                <a:xfrm>
                  <a:off x="6400800" y="297180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76" name=""/>
            <p:cNvSpPr/>
            <p:nvPr/>
          </p:nvSpPr>
          <p:spPr>
            <a:xfrm>
              <a:off x="4724280" y="2727360"/>
              <a:ext cx="365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–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20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4  5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cos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7620120" y="2590920"/>
              <a:ext cx="1066680" cy="827280"/>
              <a:chOff x="7620120" y="2590920"/>
              <a:chExt cx="1066680" cy="827280"/>
            </a:xfrm>
          </p:grpSpPr>
          <p:sp>
            <p:nvSpPr>
              <p:cNvPr id="478" name=""/>
              <p:cNvSpPr/>
              <p:nvPr/>
            </p:nvSpPr>
            <p:spPr>
              <a:xfrm>
                <a:off x="7620120" y="27147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x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804440" y="2864160"/>
                <a:ext cx="30780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077320" y="27147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y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67760" y="284832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5040" y="2590920"/>
                <a:ext cx="457200" cy="200160"/>
              </a:xfrm>
              <a:custGeom>
                <a:avLst/>
                <a:gdLst/>
                <a:ahLst/>
                <a:rect l="l" t="t" r="r" b="b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>
            <a:off x="3505320" y="4191120"/>
            <a:ext cx="1944720" cy="720720"/>
          </a:xfrm>
          <a:prstGeom prst="wedgeEllipseCallout">
            <a:avLst>
              <a:gd name="adj1" fmla="val 38162"/>
              <a:gd name="adj2" fmla="val 90310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6960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–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" y="533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15521 0.11921 L 0.18021 0.15625 E">
                                      <p:cBhvr>
                                        <p:cTn id="317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L 0.0573 0.13218 L 0.06424 0.1581 E">
                                      <p:cBhvr>
                                        <p:cTn id="319" dur="1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-0.05938 0.10625 L -0.08021 0.15625 E">
                                      <p:cBhvr>
                                        <p:cTn id="321" dur="1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87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57200" y="41911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09680" y="3429000"/>
            <a:ext cx="1944720" cy="720720"/>
          </a:xfrm>
          <a:prstGeom prst="wedgeEllipseCallout">
            <a:avLst>
              <a:gd name="adj1" fmla="val -78083"/>
              <a:gd name="adj2" fmla="val 100879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" y="31543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7720" y="21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52480" y="1676520"/>
            <a:ext cx="2160720" cy="576000"/>
          </a:xfrm>
          <a:prstGeom prst="wedgeEllipseCallout">
            <a:avLst>
              <a:gd name="adj1" fmla="val -60138"/>
              <a:gd name="adj2" fmla="val 11528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133720" y="2666880"/>
            <a:ext cx="2160360" cy="576360"/>
          </a:xfrm>
          <a:prstGeom prst="wedgeEllipseCallout">
            <a:avLst>
              <a:gd name="adj1" fmla="val -73805"/>
              <a:gd name="adj2" fmla="val 107023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8028000" y="5948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5867280"/>
            <a:ext cx="1905120" cy="503280"/>
          </a:xfrm>
          <a:custGeom>
            <a:avLst/>
            <a:gdLst>
              <a:gd name="textAreaLeft" fmla="*/ 32400 w 1905120"/>
              <a:gd name="textAreaRight" fmla="*/ 1872720 w 19051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1722" h="21600">
                <a:moveTo>
                  <a:pt x="0" y="0"/>
                </a:moveTo>
                <a:lnTo>
                  <a:pt x="81722" y="0"/>
                </a:lnTo>
                <a:lnTo>
                  <a:pt x="81722" y="21600"/>
                </a:lnTo>
                <a:lnTo>
                  <a:pt x="0" y="21600"/>
                </a:lnTo>
                <a:close/>
              </a:path>
              <a:path fill="lightenLess" w="81722" h="21600">
                <a:moveTo>
                  <a:pt x="0" y="0"/>
                </a:moveTo>
                <a:lnTo>
                  <a:pt x="81722" y="0"/>
                </a:lnTo>
                <a:lnTo>
                  <a:pt x="80322" y="1400"/>
                </a:lnTo>
                <a:lnTo>
                  <a:pt x="1400" y="1400"/>
                </a:lnTo>
                <a:close/>
              </a:path>
              <a:path fill="darken" w="81722" h="21600">
                <a:moveTo>
                  <a:pt x="81722" y="0"/>
                </a:moveTo>
                <a:lnTo>
                  <a:pt x="81722" y="21600"/>
                </a:lnTo>
                <a:lnTo>
                  <a:pt x="80322" y="20200"/>
                </a:lnTo>
                <a:lnTo>
                  <a:pt x="80322" y="1400"/>
                </a:lnTo>
                <a:close/>
              </a:path>
              <a:path fill="darkenLess" w="81722" h="21600">
                <a:moveTo>
                  <a:pt x="81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322" y="20200"/>
                </a:lnTo>
                <a:close/>
              </a:path>
              <a:path fill="lighten" w="81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99720" y="22096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99720" y="32767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000080" y="434340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295280" y="914400"/>
            <a:ext cx="7238880" cy="703440"/>
            <a:chOff x="1295280" y="914400"/>
            <a:chExt cx="7238880" cy="703440"/>
          </a:xfrm>
        </p:grpSpPr>
        <p:grpSp>
          <p:nvGrpSpPr>
            <p:cNvPr id="507" name=""/>
            <p:cNvGrpSpPr/>
            <p:nvPr/>
          </p:nvGrpSpPr>
          <p:grpSpPr>
            <a:xfrm>
              <a:off x="1295280" y="914400"/>
              <a:ext cx="609480" cy="703440"/>
              <a:chOff x="1295280" y="914400"/>
              <a:chExt cx="609480" cy="703440"/>
            </a:xfrm>
          </p:grpSpPr>
          <p:sp>
            <p:nvSpPr>
              <p:cNvPr id="508" name=""/>
              <p:cNvSpPr/>
              <p:nvPr/>
            </p:nvSpPr>
            <p:spPr>
              <a:xfrm>
                <a:off x="1295280" y="9144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m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479240" y="1063440"/>
                <a:ext cx="30744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1828800" y="914400"/>
              <a:ext cx="609480" cy="703440"/>
              <a:chOff x="1828800" y="914400"/>
              <a:chExt cx="609480" cy="703440"/>
            </a:xfrm>
          </p:grpSpPr>
          <p:sp>
            <p:nvSpPr>
              <p:cNvPr id="511" name=""/>
              <p:cNvSpPr/>
              <p:nvPr/>
            </p:nvSpPr>
            <p:spPr>
              <a:xfrm>
                <a:off x="1828800" y="9144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n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019240" y="104760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2305080" y="914400"/>
              <a:ext cx="165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r>
                <a:rPr b="1" lang="ru-RU" sz="4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–15</a:t>
              </a:r>
              <a:r>
                <a:rPr b="1" lang="ru-RU" sz="4000" spc="-1" strike="noStrike">
                  <a:solidFill>
                    <a:srgbClr val="0000ff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1752480" y="120960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4190760" y="91440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m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=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5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,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40160" y="1063440"/>
              <a:ext cx="307800" cy="324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48160" y="91440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n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6</a:t>
              </a:r>
              <a:r>
                <a:rPr b="1" lang="ru-RU" sz="40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62640" y="1047600"/>
              <a:ext cx="307800" cy="144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33600" y="1128600"/>
              <a:ext cx="5040" cy="404640"/>
            </a:xfrm>
            <a:custGeom>
              <a:avLst/>
              <a:gdLst/>
              <a:ahLst/>
              <a:rect l="l" t="t" r="r" b="b"/>
              <a:pathLst>
                <a:path w="3" h="255">
                  <a:moveTo>
                    <a:pt x="3" y="0"/>
                  </a:moveTo>
                  <a:lnTo>
                    <a:pt x="0" y="255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19600" y="1133280"/>
              <a:ext cx="4680" cy="395280"/>
            </a:xfrm>
            <a:custGeom>
              <a:avLst/>
              <a:gdLst/>
              <a:ahLst/>
              <a:rect l="l" t="t" r="r" b="b"/>
              <a:pathLst>
                <a:path w="3" h="249">
                  <a:moveTo>
                    <a:pt x="3" y="0"/>
                  </a:moveTo>
                  <a:lnTo>
                    <a:pt x="0" y="249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86320" y="1147680"/>
              <a:ext cx="4680" cy="371520"/>
            </a:xfrm>
            <a:custGeom>
              <a:avLst/>
              <a:gdLst/>
              <a:ahLst/>
              <a:rect l="l" t="t" r="r" b="b"/>
              <a:pathLst>
                <a:path w="3" h="234">
                  <a:moveTo>
                    <a:pt x="0" y="0"/>
                  </a:moveTo>
                  <a:lnTo>
                    <a:pt x="3" y="23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62520" y="1123920"/>
              <a:ext cx="5040" cy="385560"/>
            </a:xfrm>
            <a:custGeom>
              <a:avLst/>
              <a:gdLst/>
              <a:ahLst/>
              <a:rect l="l" t="t" r="r" b="b"/>
              <a:pathLst>
                <a:path w="3" h="243">
                  <a:moveTo>
                    <a:pt x="0" y="0"/>
                  </a:moveTo>
                  <a:lnTo>
                    <a:pt x="3" y="243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6858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угол между векторами           и       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410080" y="228600"/>
            <a:ext cx="1676160" cy="719280"/>
            <a:chOff x="5410080" y="228600"/>
            <a:chExt cx="1676160" cy="719280"/>
          </a:xfrm>
        </p:grpSpPr>
        <p:grpSp>
          <p:nvGrpSpPr>
            <p:cNvPr id="525" name=""/>
            <p:cNvGrpSpPr/>
            <p:nvPr/>
          </p:nvGrpSpPr>
          <p:grpSpPr>
            <a:xfrm>
              <a:off x="5410080" y="228600"/>
              <a:ext cx="609480" cy="703440"/>
              <a:chOff x="5410080" y="228600"/>
              <a:chExt cx="609480" cy="703440"/>
            </a:xfrm>
          </p:grpSpPr>
          <p:sp>
            <p:nvSpPr>
              <p:cNvPr id="526" name=""/>
              <p:cNvSpPr/>
              <p:nvPr/>
            </p:nvSpPr>
            <p:spPr>
              <a:xfrm>
                <a:off x="5410080" y="228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m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94040" y="377640"/>
                <a:ext cx="30744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476760" y="244440"/>
              <a:ext cx="609480" cy="703440"/>
              <a:chOff x="6476760" y="244440"/>
              <a:chExt cx="609480" cy="703440"/>
            </a:xfrm>
          </p:grpSpPr>
          <p:sp>
            <p:nvSpPr>
              <p:cNvPr id="529" name=""/>
              <p:cNvSpPr/>
              <p:nvPr/>
            </p:nvSpPr>
            <p:spPr>
              <a:xfrm>
                <a:off x="6476760" y="2444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n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667200" y="37764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2057400" y="42670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Скалярное произведение ненулевых векторов отрицательно тогда и только тогда , когда угол между векторам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уп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4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447920" y="2590920"/>
            <a:ext cx="2160360" cy="576000"/>
          </a:xfrm>
          <a:prstGeom prst="wedgeEllipseCallout">
            <a:avLst>
              <a:gd name="adj1" fmla="val -48972"/>
              <a:gd name="adj2" fmla="val 10564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35" name="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57200" y="39625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7720" y="5029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29718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81080" y="4952880"/>
            <a:ext cx="2160720" cy="576360"/>
          </a:xfrm>
          <a:prstGeom prst="wedgeEllipseCallout">
            <a:avLst>
              <a:gd name="adj1" fmla="val -71453"/>
              <a:gd name="adj2" fmla="val 68731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endshow"/>
          </p:cNvPr>
          <p:cNvSpPr/>
          <p:nvPr/>
        </p:nvSpPr>
        <p:spPr>
          <a:xfrm>
            <a:off x="8028000" y="5948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95280" y="5943600"/>
            <a:ext cx="2286000" cy="503280"/>
          </a:xfrm>
          <a:custGeom>
            <a:avLst/>
            <a:gdLst>
              <a:gd name="textAreaLeft" fmla="*/ 32400 w 2286000"/>
              <a:gd name="textAreaRight" fmla="*/ 2253600 w 228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98057" h="21600">
                <a:moveTo>
                  <a:pt x="0" y="0"/>
                </a:moveTo>
                <a:lnTo>
                  <a:pt x="98057" y="0"/>
                </a:lnTo>
                <a:lnTo>
                  <a:pt x="98057" y="21600"/>
                </a:lnTo>
                <a:lnTo>
                  <a:pt x="0" y="21600"/>
                </a:lnTo>
                <a:close/>
              </a:path>
              <a:path fill="lightenLess" w="98057" h="21600">
                <a:moveTo>
                  <a:pt x="0" y="0"/>
                </a:moveTo>
                <a:lnTo>
                  <a:pt x="98057" y="0"/>
                </a:lnTo>
                <a:lnTo>
                  <a:pt x="96657" y="1400"/>
                </a:lnTo>
                <a:lnTo>
                  <a:pt x="1400" y="1400"/>
                </a:lnTo>
                <a:close/>
              </a:path>
              <a:path fill="darken" w="98057" h="21600">
                <a:moveTo>
                  <a:pt x="98057" y="0"/>
                </a:moveTo>
                <a:lnTo>
                  <a:pt x="98057" y="21600"/>
                </a:lnTo>
                <a:lnTo>
                  <a:pt x="96657" y="20200"/>
                </a:lnTo>
                <a:lnTo>
                  <a:pt x="96657" y="1400"/>
                </a:lnTo>
                <a:close/>
              </a:path>
              <a:path fill="darkenLess" w="98057" h="21600">
                <a:moveTo>
                  <a:pt x="98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657" y="20200"/>
                </a:lnTo>
                <a:close/>
              </a:path>
              <a:path fill="lighten" w="98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5715000" y="5257800"/>
            <a:ext cx="2133720" cy="837720"/>
            <a:chOff x="5715000" y="5257800"/>
            <a:chExt cx="2133720" cy="837720"/>
          </a:xfrm>
        </p:grpSpPr>
        <p:grpSp>
          <p:nvGrpSpPr>
            <p:cNvPr id="550" name=""/>
            <p:cNvGrpSpPr/>
            <p:nvPr/>
          </p:nvGrpSpPr>
          <p:grpSpPr>
            <a:xfrm>
              <a:off x="5715000" y="5257800"/>
              <a:ext cx="1066680" cy="826920"/>
              <a:chOff x="5715000" y="5257800"/>
              <a:chExt cx="1066680" cy="826920"/>
            </a:xfrm>
          </p:grpSpPr>
          <p:sp>
            <p:nvSpPr>
              <p:cNvPr id="551" name=""/>
              <p:cNvSpPr/>
              <p:nvPr/>
            </p:nvSpPr>
            <p:spPr>
              <a:xfrm>
                <a:off x="5715000" y="5381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899320" y="5530680"/>
                <a:ext cx="307800" cy="288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72200" y="5381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362640" y="5514840"/>
                <a:ext cx="308160" cy="108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19920" y="5257800"/>
                <a:ext cx="457200" cy="199800"/>
              </a:xfrm>
              <a:custGeom>
                <a:avLst/>
                <a:gdLst/>
                <a:ahLst/>
                <a:rect l="l" t="t" r="r" b="b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6782040" y="5410080"/>
              <a:ext cx="1066680" cy="68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609480" y="3049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447920" y="152280"/>
            <a:ext cx="609480" cy="703440"/>
            <a:chOff x="1447920" y="152280"/>
            <a:chExt cx="609480" cy="703440"/>
          </a:xfrm>
        </p:grpSpPr>
        <p:sp>
          <p:nvSpPr>
            <p:cNvPr id="559" name=""/>
            <p:cNvSpPr/>
            <p:nvPr/>
          </p:nvSpPr>
          <p:spPr>
            <a:xfrm>
              <a:off x="1447920" y="152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31880" y="301320"/>
              <a:ext cx="307440" cy="3240"/>
            </a:xfrm>
            <a:custGeom>
              <a:avLst/>
              <a:gdLst/>
              <a:ahLst/>
              <a:rect l="l" t="t" r="r" b="b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1981080" y="152280"/>
            <a:ext cx="609480" cy="703440"/>
            <a:chOff x="1981080" y="152280"/>
            <a:chExt cx="609480" cy="703440"/>
          </a:xfrm>
        </p:grpSpPr>
        <p:sp>
          <p:nvSpPr>
            <p:cNvPr id="562" name=""/>
            <p:cNvSpPr/>
            <p:nvPr/>
          </p:nvSpPr>
          <p:spPr>
            <a:xfrm>
              <a:off x="1981080" y="152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71520" y="285480"/>
              <a:ext cx="308160" cy="1440"/>
            </a:xfrm>
            <a:custGeom>
              <a:avLst/>
              <a:gdLst/>
              <a:ahLst/>
              <a:rect l="l" t="t" r="r" b="b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457360" y="1522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12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1905120" y="44784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4343400" y="152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 =</a:t>
            </a: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3,</a:t>
            </a: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451400" y="301680"/>
            <a:ext cx="307800" cy="3240"/>
          </a:xfrm>
          <a:custGeom>
            <a:avLst/>
            <a:gdLst/>
            <a:ahLst/>
            <a:rect l="l" t="t" r="r" b="b"/>
            <a:pathLst>
              <a:path w="194" h="2">
                <a:moveTo>
                  <a:pt x="0" y="0"/>
                </a:moveTo>
                <a:lnTo>
                  <a:pt x="194" y="2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400800" y="152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=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8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515280" y="285840"/>
            <a:ext cx="307800" cy="1440"/>
          </a:xfrm>
          <a:custGeom>
            <a:avLst/>
            <a:gdLst/>
            <a:ahLst/>
            <a:rect l="l" t="t" r="r" b="b"/>
            <a:pathLst>
              <a:path w="194" h="1">
                <a:moveTo>
                  <a:pt x="0" y="0"/>
                </a:moveTo>
                <a:lnTo>
                  <a:pt x="19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386240" y="366840"/>
            <a:ext cx="4680" cy="404640"/>
          </a:xfrm>
          <a:custGeom>
            <a:avLst/>
            <a:gdLst/>
            <a:ahLst/>
            <a:rect l="l" t="t" r="r" b="b"/>
            <a:pathLst>
              <a:path w="3" h="255">
                <a:moveTo>
                  <a:pt x="3" y="0"/>
                </a:moveTo>
                <a:lnTo>
                  <a:pt x="0" y="255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738680" y="371520"/>
            <a:ext cx="4680" cy="395280"/>
          </a:xfrm>
          <a:custGeom>
            <a:avLst/>
            <a:gdLst/>
            <a:ahLst/>
            <a:rect l="l" t="t" r="r" b="b"/>
            <a:pathLst>
              <a:path w="3" h="249">
                <a:moveTo>
                  <a:pt x="3" y="0"/>
                </a:moveTo>
                <a:lnTo>
                  <a:pt x="0" y="249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438960" y="385920"/>
            <a:ext cx="4680" cy="371160"/>
          </a:xfrm>
          <a:custGeom>
            <a:avLst/>
            <a:gdLst/>
            <a:ahLst/>
            <a:rect l="l" t="t" r="r" b="b"/>
            <a:pathLst>
              <a:path w="3" h="234">
                <a:moveTo>
                  <a:pt x="0" y="0"/>
                </a:moveTo>
                <a:lnTo>
                  <a:pt x="3" y="234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15160" y="361800"/>
            <a:ext cx="4680" cy="385920"/>
          </a:xfrm>
          <a:custGeom>
            <a:avLst/>
            <a:gdLst/>
            <a:ahLst/>
            <a:rect l="l" t="t" r="r" b="b"/>
            <a:pathLst>
              <a:path w="3" h="243">
                <a:moveTo>
                  <a:pt x="0" y="0"/>
                </a:moveTo>
                <a:lnTo>
                  <a:pt x="3" y="243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0880" y="9907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угол между вект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          равен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80880" y="1523880"/>
            <a:ext cx="1676160" cy="719280"/>
            <a:chOff x="380880" y="1523880"/>
            <a:chExt cx="1676160" cy="719280"/>
          </a:xfrm>
        </p:grpSpPr>
        <p:grpSp>
          <p:nvGrpSpPr>
            <p:cNvPr id="576" name=""/>
            <p:cNvGrpSpPr/>
            <p:nvPr/>
          </p:nvGrpSpPr>
          <p:grpSpPr>
            <a:xfrm>
              <a:off x="380880" y="1523880"/>
              <a:ext cx="609480" cy="703440"/>
              <a:chOff x="380880" y="1523880"/>
              <a:chExt cx="609480" cy="703440"/>
            </a:xfrm>
          </p:grpSpPr>
          <p:sp>
            <p:nvSpPr>
              <p:cNvPr id="577" name=""/>
              <p:cNvSpPr/>
              <p:nvPr/>
            </p:nvSpPr>
            <p:spPr>
              <a:xfrm>
                <a:off x="380880" y="15238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64840" y="1672920"/>
                <a:ext cx="30744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1447560" y="1539720"/>
              <a:ext cx="609480" cy="703440"/>
              <a:chOff x="1447560" y="1539720"/>
              <a:chExt cx="609480" cy="703440"/>
            </a:xfrm>
          </p:grpSpPr>
          <p:sp>
            <p:nvSpPr>
              <p:cNvPr id="580" name=""/>
              <p:cNvSpPr/>
              <p:nvPr/>
            </p:nvSpPr>
            <p:spPr>
              <a:xfrm>
                <a:off x="1447560" y="1539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638000" y="167292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26040" y="152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259400" y="152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96560" y="152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267080" y="1600200"/>
            <a:ext cx="4419360" cy="839880"/>
            <a:chOff x="4267080" y="1600200"/>
            <a:chExt cx="4419360" cy="839880"/>
          </a:xfrm>
        </p:grpSpPr>
        <p:grpSp>
          <p:nvGrpSpPr>
            <p:cNvPr id="586" name=""/>
            <p:cNvGrpSpPr/>
            <p:nvPr/>
          </p:nvGrpSpPr>
          <p:grpSpPr>
            <a:xfrm>
              <a:off x="4267080" y="1724040"/>
              <a:ext cx="1370160" cy="703440"/>
              <a:chOff x="4267080" y="1724040"/>
              <a:chExt cx="1370160" cy="70344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4267080" y="1724040"/>
                <a:ext cx="609840" cy="703440"/>
                <a:chOff x="4267080" y="1724040"/>
                <a:chExt cx="609840" cy="7034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4267080" y="1724040"/>
                  <a:ext cx="609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451400" y="1873080"/>
                  <a:ext cx="307800" cy="324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4800600" y="1724040"/>
                <a:ext cx="609480" cy="703440"/>
                <a:chOff x="4800600" y="1724040"/>
                <a:chExt cx="609480" cy="7034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4800600" y="1724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991040" y="1857240"/>
                  <a:ext cx="308160" cy="144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"/>
              <p:cNvSpPr/>
              <p:nvPr/>
            </p:nvSpPr>
            <p:spPr>
              <a:xfrm>
                <a:off x="5278320" y="19047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4" name=""/>
                  <p:cNvSpPr txBox="1"/>
                  <p:nvPr/>
                </p:nvSpPr>
                <p:spPr>
                  <a:xfrm>
                    <a:off x="4724280" y="2019240"/>
                    <a:ext cx="26676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595" name=""/>
            <p:cNvGrpSpPr/>
            <p:nvPr/>
          </p:nvGrpSpPr>
          <p:grpSpPr>
            <a:xfrm>
              <a:off x="5638680" y="1676160"/>
              <a:ext cx="609480" cy="703440"/>
              <a:chOff x="5638680" y="1676160"/>
              <a:chExt cx="609480" cy="70344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5638680" y="1676160"/>
                <a:ext cx="609480" cy="703440"/>
                <a:chOff x="5638680" y="1676160"/>
                <a:chExt cx="609480" cy="70344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5638680" y="167616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822640" y="1825200"/>
                  <a:ext cx="307440" cy="324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5714640" y="190476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71840" y="190476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6400800" y="1736640"/>
              <a:ext cx="609480" cy="703440"/>
              <a:chOff x="6400800" y="1736640"/>
              <a:chExt cx="609480" cy="703440"/>
            </a:xfrm>
          </p:grpSpPr>
          <p:grpSp>
            <p:nvGrpSpPr>
              <p:cNvPr id="602" name=""/>
              <p:cNvGrpSpPr/>
              <p:nvPr/>
            </p:nvGrpSpPr>
            <p:grpSpPr>
              <a:xfrm>
                <a:off x="6400800" y="1736640"/>
                <a:ext cx="609480" cy="703440"/>
                <a:chOff x="6400800" y="1736640"/>
                <a:chExt cx="609480" cy="70344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6400800" y="17366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591240" y="1869840"/>
                  <a:ext cx="308160" cy="144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6476760" y="190476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933960" y="190476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6210360" y="1981080"/>
                  <a:ext cx="2664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608" name=""/>
            <p:cNvGrpSpPr/>
            <p:nvPr/>
          </p:nvGrpSpPr>
          <p:grpSpPr>
            <a:xfrm>
              <a:off x="6940440" y="1600200"/>
              <a:ext cx="1746000" cy="839880"/>
              <a:chOff x="6940440" y="1600200"/>
              <a:chExt cx="1746000" cy="839880"/>
            </a:xfrm>
          </p:grpSpPr>
          <p:sp>
            <p:nvSpPr>
              <p:cNvPr id="609" name=""/>
              <p:cNvSpPr/>
              <p:nvPr/>
            </p:nvSpPr>
            <p:spPr>
              <a:xfrm>
                <a:off x="6940440" y="1736640"/>
                <a:ext cx="1441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cos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7619760" y="1600200"/>
                <a:ext cx="1066680" cy="827280"/>
                <a:chOff x="7619760" y="1600200"/>
                <a:chExt cx="1066680" cy="82728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7619760" y="1724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804080" y="1873440"/>
                  <a:ext cx="307800" cy="3240"/>
                </a:xfrm>
                <a:custGeom>
                  <a:avLst/>
                  <a:gdLst/>
                  <a:ahLst/>
                  <a:rect l="l" t="t" r="r" b="b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076960" y="1724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267400" y="1857600"/>
                  <a:ext cx="308160" cy="1440"/>
                </a:xfrm>
                <a:custGeom>
                  <a:avLst/>
                  <a:gdLst/>
                  <a:ahLst/>
                  <a:rect l="l" t="t" r="r" b="b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924680" y="1600200"/>
                  <a:ext cx="457200" cy="200160"/>
                </a:xfrm>
                <a:custGeom>
                  <a:avLst/>
                  <a:gdLst/>
                  <a:ahLst/>
                  <a:rect l="l" t="t" r="r" b="b"/>
                  <a:pathLst>
                    <a:path w="288" h="126">
                      <a:moveTo>
                        <a:pt x="0" y="126"/>
                      </a:moveTo>
                      <a:lnTo>
                        <a:pt x="152" y="0"/>
                      </a:lnTo>
                      <a:lnTo>
                        <a:pt x="288" y="12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6" name=""/>
          <p:cNvGrpSpPr/>
          <p:nvPr/>
        </p:nvGrpSpPr>
        <p:grpSpPr>
          <a:xfrm>
            <a:off x="5638680" y="3886200"/>
            <a:ext cx="2819520" cy="843120"/>
            <a:chOff x="5638680" y="3886200"/>
            <a:chExt cx="2819520" cy="843120"/>
          </a:xfrm>
        </p:grpSpPr>
        <p:sp>
          <p:nvSpPr>
            <p:cNvPr id="617" name=""/>
            <p:cNvSpPr/>
            <p:nvPr/>
          </p:nvSpPr>
          <p:spPr>
            <a:xfrm>
              <a:off x="5638680" y="4025880"/>
              <a:ext cx="281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os      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6324480" y="3886200"/>
              <a:ext cx="1066680" cy="827280"/>
              <a:chOff x="6324480" y="3886200"/>
              <a:chExt cx="1066680" cy="827280"/>
            </a:xfrm>
          </p:grpSpPr>
          <p:sp>
            <p:nvSpPr>
              <p:cNvPr id="619" name=""/>
              <p:cNvSpPr/>
              <p:nvPr/>
            </p:nvSpPr>
            <p:spPr>
              <a:xfrm>
                <a:off x="6324480" y="40100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508800" y="4159440"/>
                <a:ext cx="30780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781680" y="40100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972120" y="414360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629400" y="3886200"/>
                <a:ext cx="457200" cy="200160"/>
              </a:xfrm>
              <a:custGeom>
                <a:avLst/>
                <a:gdLst/>
                <a:ahLst/>
                <a:rect l="l" t="t" r="r" b="b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4" name=""/>
          <p:cNvGrpSpPr/>
          <p:nvPr/>
        </p:nvGrpSpPr>
        <p:grpSpPr>
          <a:xfrm>
            <a:off x="4724280" y="2666880"/>
            <a:ext cx="3962520" cy="839880"/>
            <a:chOff x="4724280" y="2666880"/>
            <a:chExt cx="3962520" cy="839880"/>
          </a:xfrm>
        </p:grpSpPr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6400800" y="304776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26" name=""/>
            <p:cNvSpPr/>
            <p:nvPr/>
          </p:nvSpPr>
          <p:spPr>
            <a:xfrm>
              <a:off x="4724280" y="2803320"/>
              <a:ext cx="365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9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12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</a:rPr>
                <a:t>= 3  8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 cos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7620120" y="2666880"/>
              <a:ext cx="1066680" cy="827280"/>
              <a:chOff x="7620120" y="2666880"/>
              <a:chExt cx="1066680" cy="827280"/>
            </a:xfrm>
          </p:grpSpPr>
          <p:sp>
            <p:nvSpPr>
              <p:cNvPr id="628" name=""/>
              <p:cNvSpPr/>
              <p:nvPr/>
            </p:nvSpPr>
            <p:spPr>
              <a:xfrm>
                <a:off x="7620120" y="2790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804440" y="2940120"/>
                <a:ext cx="307800" cy="324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077320" y="2790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267760" y="2924280"/>
                <a:ext cx="308160" cy="1440"/>
              </a:xfrm>
              <a:custGeom>
                <a:avLst/>
                <a:gdLst/>
                <a:ahLst/>
                <a:rect l="l" t="t" r="r" b="b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925040" y="2666880"/>
                <a:ext cx="457200" cy="200160"/>
              </a:xfrm>
              <a:custGeom>
                <a:avLst/>
                <a:gdLst/>
                <a:ahLst/>
                <a:rect l="l" t="t" r="r" b="b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"/>
          <p:cNvSpPr/>
          <p:nvPr/>
        </p:nvSpPr>
        <p:spPr>
          <a:xfrm>
            <a:off x="1828800" y="3657600"/>
            <a:ext cx="1944720" cy="720720"/>
          </a:xfrm>
          <a:prstGeom prst="wedgeEllipseCallout">
            <a:avLst>
              <a:gd name="adj1" fmla="val -66981"/>
              <a:gd name="adj2" fmla="val 7973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031400" y="297180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031400" y="40384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031760" y="510552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7621560" y="3987720"/>
            <a:ext cx="477720" cy="890640"/>
            <a:chOff x="7621560" y="3987720"/>
            <a:chExt cx="477720" cy="890640"/>
          </a:xfrm>
        </p:grpSpPr>
        <p:sp>
          <p:nvSpPr>
            <p:cNvPr id="638" name=""/>
            <p:cNvSpPr/>
            <p:nvPr/>
          </p:nvSpPr>
          <p:spPr>
            <a:xfrm>
              <a:off x="7621560" y="435780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05800" y="3987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54760" y="4432320"/>
              <a:ext cx="26676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6008000">
            <a:off x="7924320" y="4723920"/>
            <a:ext cx="1371600" cy="457200"/>
          </a:xfrm>
          <a:custGeom>
            <a:avLst/>
            <a:gdLst>
              <a:gd name="textAreaLeft" fmla="*/ 211680 w 1371600"/>
              <a:gd name="textAreaRight" fmla="*/ 1022760 w 1371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68308"/>
                <a:lnTo>
                  <a:pt x="21218" y="7200"/>
                </a:lnTo>
                <a:lnTo>
                  <a:pt x="16391" y="0"/>
                </a:lnTo>
                <a:lnTo>
                  <a:pt x="10800" y="7200"/>
                </a:lnTo>
                <a:lnTo>
                  <a:pt x="12960" y="7200"/>
                </a:lnTo>
                <a:arcTo wR="6671" hR="21600" stAng="2931692" swAng="1927237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13692000"/>
          </a:gradFill>
          <a:ln w="9360">
            <a:solidFill>
              <a:srgbClr val="000000"/>
            </a:solidFill>
            <a:miter/>
          </a:ln>
          <a:effectLst>
            <a:outerShdw dist="73964" dir="19736436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0880" y="304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15521 0.11921 L 0.18021 0.15625 E">
                                      <p:cBhvr>
                                        <p:cTn id="432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L 0.0573 0.13218 L 0.06424 0.1581 E">
                                      <p:cBhvr>
                                        <p:cTn id="434" dur="1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-0.05938 0.10625 L -0.08021 0.15625 E">
                                      <p:cBhvr>
                                        <p:cTn id="436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1-04-17T11:19:04Z</dcterms:modified>
  <cp:revision>4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