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37A4-E1EA-4FB1-A084-01D03E2C3A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.С. Атанасян.   Геометрия 10-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149A-B359-404D-B09B-BE6EEBC0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BA46-69D9-4429-B964-1EF1CA78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7FDA-EEE0-49FF-8FA5-5F67671E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3C75-4F1B-4C43-AF6F-2EC49C29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C3B0-8FFD-4672-BB83-6863C147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C76F-9C64-4962-A80C-FD6E3E4B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5711-6E82-41D2-BE17-4AE95024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B822-5E1A-4F81-9D5D-D51DF4C5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F35B-BFF3-4191-8A34-90692326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5F4C-525D-4BD6-8170-E1145558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14BB-34E2-4822-B4E0-18485F75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4B40-DC53-423F-9796-F6896D63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ffff"/>
            </a:gs>
            <a:gs pos="50000">
              <a:srgbClr val="ffffff"/>
            </a:gs>
            <a:gs pos="100000">
              <a:srgbClr val="b9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965A-E680-406C-BF2E-726AD395D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ffff"/>
            </a:gs>
            <a:gs pos="50000">
              <a:srgbClr val="ffffff"/>
            </a:gs>
            <a:gs pos="100000">
              <a:srgbClr val="b9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07640" y="115920"/>
            <a:ext cx="8877240" cy="6578280"/>
            <a:chOff x="107640" y="115920"/>
            <a:chExt cx="8877240" cy="6578280"/>
          </a:xfrm>
        </p:grpSpPr>
        <p:sp>
          <p:nvSpPr>
            <p:cNvPr id="49" name=""/>
            <p:cNvSpPr/>
            <p:nvPr/>
          </p:nvSpPr>
          <p:spPr>
            <a:xfrm>
              <a:off x="567360" y="142560"/>
              <a:ext cx="79837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6600" y="6680520"/>
              <a:ext cx="79581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945640" y="571320"/>
              <a:ext cx="1440" cy="565380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200" y="571320"/>
              <a:ext cx="26280" cy="565380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0200" y="6212160"/>
              <a:ext cx="446040" cy="4820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8538480" y="6198480"/>
              <a:ext cx="446400" cy="4820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rot="16200000">
              <a:off x="8519760" y="107280"/>
              <a:ext cx="455400" cy="4726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5400000">
              <a:off x="116280" y="106920"/>
              <a:ext cx="455400" cy="4726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 txBox="1"/>
          <p:nvPr/>
        </p:nvSpPr>
        <p:spPr>
          <a:xfrm>
            <a:off x="1835280" y="4869000"/>
            <a:ext cx="5400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50000">
                      <a:srgbClr val="0000ff"/>
                    </a:gs>
                    <a:gs pos="100000">
                      <a:srgbClr val="00ff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Теоретический тест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50000">
                    <a:srgbClr val="0000ff"/>
                  </a:gs>
                  <a:gs pos="100000">
                    <a:srgbClr val="00ffff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920" y="1916280"/>
            <a:ext cx="7543800" cy="26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оотношения между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торонами и углами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треугольника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ffff"/>
            </a:gs>
            <a:gs pos="50000">
              <a:srgbClr val="ffffff"/>
            </a:gs>
            <a:gs pos="100000">
              <a:srgbClr val="b9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468360" y="11444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8360" y="23144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35211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443640" y="333360"/>
            <a:ext cx="1944720" cy="720720"/>
          </a:xfrm>
          <a:prstGeom prst="wedgeEllipseCallout">
            <a:avLst>
              <a:gd name="adj1" fmla="val -99634"/>
              <a:gd name="adj2" fmla="val 137226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7812000" y="5877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07640" y="115920"/>
            <a:ext cx="8877240" cy="6578280"/>
            <a:chOff x="107640" y="115920"/>
            <a:chExt cx="8877240" cy="6578280"/>
          </a:xfrm>
        </p:grpSpPr>
        <p:sp>
          <p:nvSpPr>
            <p:cNvPr id="365" name=""/>
            <p:cNvSpPr/>
            <p:nvPr/>
          </p:nvSpPr>
          <p:spPr>
            <a:xfrm>
              <a:off x="567360" y="142560"/>
              <a:ext cx="79837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6600" y="6680520"/>
              <a:ext cx="79581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945640" y="571320"/>
              <a:ext cx="1440" cy="565380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0200" y="571320"/>
              <a:ext cx="26280" cy="565380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0200" y="6212160"/>
              <a:ext cx="446040" cy="4820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8538480" y="6198480"/>
              <a:ext cx="446400" cy="4820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rot="16200000">
              <a:off x="8519760" y="107280"/>
              <a:ext cx="455400" cy="4726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5400000">
              <a:off x="116280" y="106920"/>
              <a:ext cx="455400" cy="4726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971640" y="260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реугольнике 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971640" y="1000080"/>
            <a:ext cx="4895640" cy="703440"/>
            <a:chOff x="971640" y="1000080"/>
            <a:chExt cx="4895640" cy="703440"/>
          </a:xfrm>
        </p:grpSpPr>
        <p:sp>
          <p:nvSpPr>
            <p:cNvPr id="375" name=""/>
            <p:cNvSpPr/>
            <p:nvPr/>
          </p:nvSpPr>
          <p:spPr>
            <a:xfrm>
              <a:off x="971640" y="1000080"/>
              <a:ext cx="489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CD  </a:t>
              </a:r>
              <a:r>
                <a:rPr b="1" i="1" lang="en-US" sz="14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 </a:t>
              </a:r>
              <a:r>
                <a:rPr b="1" i="1" lang="en-US" sz="4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sinC = DE  sin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06560" y="1360440"/>
              <a:ext cx="75600" cy="7632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56000" y="1360440"/>
              <a:ext cx="75600" cy="7632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971640" y="2243160"/>
            <a:ext cx="4895640" cy="703440"/>
            <a:chOff x="971640" y="2243160"/>
            <a:chExt cx="4895640" cy="703440"/>
          </a:xfrm>
        </p:grpSpPr>
        <p:sp>
          <p:nvSpPr>
            <p:cNvPr id="379" name=""/>
            <p:cNvSpPr/>
            <p:nvPr/>
          </p:nvSpPr>
          <p:spPr>
            <a:xfrm>
              <a:off x="971640" y="2243160"/>
              <a:ext cx="489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CD  </a:t>
              </a:r>
              <a:r>
                <a:rPr b="1" i="1" lang="en-US" sz="14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 </a:t>
              </a:r>
              <a:r>
                <a:rPr b="1" i="1" lang="en-US" sz="4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sinE = DE  sin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06560" y="2603520"/>
              <a:ext cx="75600" cy="7632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56000" y="2603520"/>
              <a:ext cx="75600" cy="7632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971640" y="3448080"/>
            <a:ext cx="4895640" cy="703440"/>
            <a:chOff x="971640" y="3448080"/>
            <a:chExt cx="4895640" cy="703440"/>
          </a:xfrm>
        </p:grpSpPr>
        <p:sp>
          <p:nvSpPr>
            <p:cNvPr id="383" name=""/>
            <p:cNvSpPr/>
            <p:nvPr/>
          </p:nvSpPr>
          <p:spPr>
            <a:xfrm>
              <a:off x="971640" y="3448080"/>
              <a:ext cx="489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CD  </a:t>
              </a:r>
              <a:r>
                <a:rPr b="1" i="1" lang="en-US" sz="14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 </a:t>
              </a:r>
              <a:r>
                <a:rPr b="1" i="1" lang="en-US" sz="4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sinD = DE  sin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06560" y="3808440"/>
              <a:ext cx="75600" cy="7632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56000" y="3808440"/>
              <a:ext cx="75600" cy="7632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651640" y="5877000"/>
            <a:ext cx="2160360" cy="576360"/>
          </a:xfrm>
          <a:custGeom>
            <a:avLst/>
            <a:gdLst>
              <a:gd name="textAreaLeft" fmla="*/ 37080 w 2160360"/>
              <a:gd name="textAreaRight" fmla="*/ 2123280 w 2160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0926" h="21600">
                <a:moveTo>
                  <a:pt x="0" y="0"/>
                </a:moveTo>
                <a:lnTo>
                  <a:pt x="80926" y="0"/>
                </a:lnTo>
                <a:lnTo>
                  <a:pt x="80926" y="21600"/>
                </a:lnTo>
                <a:lnTo>
                  <a:pt x="0" y="21600"/>
                </a:lnTo>
                <a:close/>
              </a:path>
              <a:path fill="lightenLess" w="80926" h="21600">
                <a:moveTo>
                  <a:pt x="0" y="0"/>
                </a:moveTo>
                <a:lnTo>
                  <a:pt x="80926" y="0"/>
                </a:lnTo>
                <a:lnTo>
                  <a:pt x="79526" y="1400"/>
                </a:lnTo>
                <a:lnTo>
                  <a:pt x="1400" y="1400"/>
                </a:lnTo>
                <a:close/>
              </a:path>
              <a:path fill="darken" w="80926" h="21600">
                <a:moveTo>
                  <a:pt x="80926" y="0"/>
                </a:moveTo>
                <a:lnTo>
                  <a:pt x="80926" y="21600"/>
                </a:lnTo>
                <a:lnTo>
                  <a:pt x="79526" y="20200"/>
                </a:lnTo>
                <a:lnTo>
                  <a:pt x="79526" y="1400"/>
                </a:lnTo>
                <a:close/>
              </a:path>
              <a:path fill="darkenLess" w="80926" h="21600">
                <a:moveTo>
                  <a:pt x="8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26" y="20200"/>
                </a:lnTo>
                <a:close/>
              </a:path>
              <a:path fill="lighten" w="8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834240" y="1844640"/>
            <a:ext cx="1193760" cy="1522440"/>
          </a:xfrm>
          <a:custGeom>
            <a:avLst/>
            <a:gdLst/>
            <a:ahLst/>
            <a:rect l="l" t="t" r="r" b="b"/>
            <a:pathLst>
              <a:path w="752" h="959">
                <a:moveTo>
                  <a:pt x="550" y="0"/>
                </a:moveTo>
                <a:lnTo>
                  <a:pt x="8" y="814"/>
                </a:lnTo>
                <a:lnTo>
                  <a:pt x="0" y="806"/>
                </a:lnTo>
                <a:lnTo>
                  <a:pt x="124" y="793"/>
                </a:lnTo>
                <a:lnTo>
                  <a:pt x="287" y="905"/>
                </a:lnTo>
                <a:lnTo>
                  <a:pt x="420" y="959"/>
                </a:lnTo>
                <a:lnTo>
                  <a:pt x="630" y="936"/>
                </a:lnTo>
                <a:lnTo>
                  <a:pt x="744" y="910"/>
                </a:lnTo>
                <a:lnTo>
                  <a:pt x="720" y="910"/>
                </a:lnTo>
                <a:lnTo>
                  <a:pt x="744" y="918"/>
                </a:lnTo>
                <a:lnTo>
                  <a:pt x="752" y="910"/>
                </a:lnTo>
                <a:lnTo>
                  <a:pt x="55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012080" y="3581280"/>
            <a:ext cx="1320840" cy="1549440"/>
          </a:xfrm>
          <a:custGeom>
            <a:avLst/>
            <a:gdLst/>
            <a:ahLst/>
            <a:rect l="l" t="t" r="r" b="b"/>
            <a:pathLst>
              <a:path w="832" h="976">
                <a:moveTo>
                  <a:pt x="832" y="976"/>
                </a:moveTo>
                <a:lnTo>
                  <a:pt x="92" y="955"/>
                </a:lnTo>
                <a:lnTo>
                  <a:pt x="57" y="811"/>
                </a:lnTo>
                <a:lnTo>
                  <a:pt x="0" y="664"/>
                </a:lnTo>
                <a:lnTo>
                  <a:pt x="16" y="472"/>
                </a:lnTo>
                <a:lnTo>
                  <a:pt x="200" y="288"/>
                </a:lnTo>
                <a:lnTo>
                  <a:pt x="268" y="267"/>
                </a:lnTo>
                <a:lnTo>
                  <a:pt x="656" y="0"/>
                </a:lnTo>
                <a:lnTo>
                  <a:pt x="832" y="97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446800" y="4076640"/>
            <a:ext cx="1511280" cy="1058760"/>
          </a:xfrm>
          <a:custGeom>
            <a:avLst/>
            <a:gdLst/>
            <a:ahLst/>
            <a:rect l="l" t="t" r="r" b="b"/>
            <a:pathLst>
              <a:path w="1264" h="875">
                <a:moveTo>
                  <a:pt x="0" y="867"/>
                </a:moveTo>
                <a:lnTo>
                  <a:pt x="1264" y="875"/>
                </a:lnTo>
                <a:lnTo>
                  <a:pt x="1094" y="827"/>
                </a:lnTo>
                <a:lnTo>
                  <a:pt x="1158" y="691"/>
                </a:lnTo>
                <a:lnTo>
                  <a:pt x="1062" y="491"/>
                </a:lnTo>
                <a:lnTo>
                  <a:pt x="894" y="299"/>
                </a:lnTo>
                <a:lnTo>
                  <a:pt x="602" y="0"/>
                </a:lnTo>
                <a:lnTo>
                  <a:pt x="0" y="867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446800" y="1844640"/>
            <a:ext cx="2890800" cy="3286080"/>
          </a:xfrm>
          <a:prstGeom prst="triangle">
            <a:avLst>
              <a:gd name="adj" fmla="val 7882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159880" y="51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536600" y="141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25696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4"/>
          <a:stretch/>
        </p:blipFill>
        <p:spPr>
          <a:xfrm rot="8547000">
            <a:off x="7318080" y="3067920"/>
            <a:ext cx="1135080" cy="7142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5"/>
          <a:stretch/>
        </p:blipFill>
        <p:spPr>
          <a:xfrm rot="17329200">
            <a:off x="6531840" y="4430880"/>
            <a:ext cx="1135080" cy="7142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6"/>
          <a:stretch/>
        </p:blipFill>
        <p:spPr>
          <a:xfrm rot="2914800">
            <a:off x="6023520" y="3212280"/>
            <a:ext cx="1135080" cy="71424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541440" y="4767120"/>
            <a:ext cx="1140840" cy="1327320"/>
            <a:chOff x="541440" y="4767120"/>
            <a:chExt cx="1140840" cy="1327320"/>
          </a:xfrm>
        </p:grpSpPr>
        <p:sp>
          <p:nvSpPr>
            <p:cNvPr id="398" name=""/>
            <p:cNvSpPr/>
            <p:nvPr/>
          </p:nvSpPr>
          <p:spPr>
            <a:xfrm>
              <a:off x="659160" y="4767120"/>
              <a:ext cx="884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C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5960" y="5430600"/>
              <a:ext cx="1054080" cy="1440"/>
            </a:xfrm>
            <a:custGeom>
              <a:avLst/>
              <a:gdLst/>
              <a:ahLst/>
              <a:rect l="l" t="t" r="r" b="b"/>
              <a:pathLst>
                <a:path w="664" h="1">
                  <a:moveTo>
                    <a:pt x="0" y="0"/>
                  </a:moveTo>
                  <a:lnTo>
                    <a:pt x="66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41440" y="5391000"/>
              <a:ext cx="1140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in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073960" y="4767120"/>
            <a:ext cx="1168200" cy="1327320"/>
            <a:chOff x="2073960" y="4767120"/>
            <a:chExt cx="1168200" cy="1327320"/>
          </a:xfrm>
        </p:grpSpPr>
        <p:sp>
          <p:nvSpPr>
            <p:cNvPr id="402" name=""/>
            <p:cNvSpPr/>
            <p:nvPr/>
          </p:nvSpPr>
          <p:spPr>
            <a:xfrm>
              <a:off x="2189880" y="4767120"/>
              <a:ext cx="857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E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47760" y="5430600"/>
              <a:ext cx="1053720" cy="1440"/>
            </a:xfrm>
            <a:custGeom>
              <a:avLst/>
              <a:gdLst/>
              <a:ahLst/>
              <a:rect l="l" t="t" r="r" b="b"/>
              <a:pathLst>
                <a:path w="664" h="1">
                  <a:moveTo>
                    <a:pt x="0" y="0"/>
                  </a:moveTo>
                  <a:lnTo>
                    <a:pt x="66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73960" y="5391000"/>
              <a:ext cx="1168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in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640880" y="5072040"/>
            <a:ext cx="2005200" cy="703440"/>
            <a:chOff x="1640880" y="5072040"/>
            <a:chExt cx="2005200" cy="703440"/>
          </a:xfrm>
        </p:grpSpPr>
        <p:sp>
          <p:nvSpPr>
            <p:cNvPr id="406" name=""/>
            <p:cNvSpPr/>
            <p:nvPr/>
          </p:nvSpPr>
          <p:spPr>
            <a:xfrm>
              <a:off x="1640880" y="50720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4720" y="5072040"/>
              <a:ext cx="441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3657960" y="4767120"/>
            <a:ext cx="1140840" cy="1327320"/>
            <a:chOff x="3657960" y="4767120"/>
            <a:chExt cx="1140840" cy="1327320"/>
          </a:xfrm>
        </p:grpSpPr>
        <p:sp>
          <p:nvSpPr>
            <p:cNvPr id="409" name=""/>
            <p:cNvSpPr/>
            <p:nvPr/>
          </p:nvSpPr>
          <p:spPr>
            <a:xfrm>
              <a:off x="3805560" y="4767120"/>
              <a:ext cx="884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D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732120" y="5430600"/>
              <a:ext cx="1054080" cy="1440"/>
            </a:xfrm>
            <a:custGeom>
              <a:avLst/>
              <a:gdLst/>
              <a:ahLst/>
              <a:rect l="l" t="t" r="r" b="b"/>
              <a:pathLst>
                <a:path w="664" h="1">
                  <a:moveTo>
                    <a:pt x="0" y="0"/>
                  </a:moveTo>
                  <a:lnTo>
                    <a:pt x="66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57960" y="5391000"/>
              <a:ext cx="1140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in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1704960" y="5241960"/>
            <a:ext cx="469800" cy="507960"/>
          </a:xfrm>
          <a:custGeom>
            <a:avLst/>
            <a:gdLst/>
            <a:ahLst/>
            <a:rect l="l" t="t" r="r" b="b"/>
            <a:pathLst>
              <a:path w="296" h="320">
                <a:moveTo>
                  <a:pt x="0" y="320"/>
                </a:moveTo>
                <a:lnTo>
                  <a:pt x="296" y="0"/>
                </a:lnTo>
              </a:path>
            </a:pathLst>
          </a:custGeom>
          <a:noFill/>
          <a:ln w="28440">
            <a:solidFill>
              <a:srgbClr val="80008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711440" y="5220720"/>
            <a:ext cx="469800" cy="507960"/>
          </a:xfrm>
          <a:custGeom>
            <a:avLst/>
            <a:gdLst/>
            <a:ahLst/>
            <a:rect l="l" t="t" r="r" b="b"/>
            <a:pathLst>
              <a:path w="296" h="320">
                <a:moveTo>
                  <a:pt x="0" y="320"/>
                </a:moveTo>
                <a:lnTo>
                  <a:pt x="29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971640" y="98100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CD 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sin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059280" y="981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= DE  s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012000" y="2205000"/>
            <a:ext cx="2160360" cy="576360"/>
          </a:xfrm>
          <a:prstGeom prst="wedgeEllipseCallout">
            <a:avLst>
              <a:gd name="adj1" fmla="val -95259"/>
              <a:gd name="adj2" fmla="val 88842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012000" y="3284640"/>
            <a:ext cx="2160360" cy="576000"/>
          </a:xfrm>
          <a:prstGeom prst="wedgeEllipseCallout">
            <a:avLst>
              <a:gd name="adj1" fmla="val -94893"/>
              <a:gd name="adj2" fmla="val 122175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01480" y="26028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468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691 0.16852 L -5.55556E-007 -4.81481E-006 E">
                                      <p:cBhvr>
                                        <p:cTn id="494" dur="1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500"/>
                            </p:stCondLst>
                            <p:childTnLst>
                              <p:par>
                                <p:cTn id="5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11111E-006 L 0.04757 -0.28217 E">
                                      <p:cBhvr>
                                        <p:cTn id="513" dur="1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500"/>
                            </p:stCondLst>
                            <p:childTnLst>
                              <p:par>
                                <p:cTn id="5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4000"/>
                            </p:stCondLst>
                            <p:childTnLst>
                              <p:par>
                                <p:cTn id="5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0"/>
                            </p:stCondLst>
                            <p:childTnLst>
                              <p:par>
                                <p:cTn id="5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 L -0.19584 0.17894 E">
                                      <p:cBhvr>
                                        <p:cTn id="532" dur="1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60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6500"/>
                            </p:stCondLst>
                            <p:childTnLst>
                              <p:par>
                                <p:cTn id="5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8500"/>
                            </p:stCondLst>
                            <p:childTnLst>
                              <p:par>
                                <p:cTn id="5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259E-006 C -0.01319 0.05764 -0.02621 0.11551 -0.05503 0.11551 C -0.08385 0.11551 -0.12847 0.05764 -0.17309 2.59259E-006 E">
                                      <p:cBhvr>
                                        <p:cTn id="566" dur="1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9259E-006 C 0.04844 -0.05255 0.09705 -0.10486 0.12587 -0.10486 C 0.15469 -0.10486 0.16389 -0.05255 0.17309 2.59259E-006 E">
                                      <p:cBhvr>
                                        <p:cTn id="568" dur="1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ffff"/>
            </a:gs>
            <a:gs pos="50000">
              <a:srgbClr val="ffffff"/>
            </a:gs>
            <a:gs pos="100000">
              <a:srgbClr val="b9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468360" y="1628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68360" y="27464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68360" y="3789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68360" y="1341360"/>
            <a:ext cx="1944720" cy="720720"/>
          </a:xfrm>
          <a:prstGeom prst="wedgeEllipseCallout">
            <a:avLst>
              <a:gd name="adj1" fmla="val -90490"/>
              <a:gd name="adj2" fmla="val 39208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619280" y="3500280"/>
            <a:ext cx="2160720" cy="576360"/>
          </a:xfrm>
          <a:prstGeom prst="wedgeEllipseCallout">
            <a:avLst>
              <a:gd name="adj1" fmla="val -77037"/>
              <a:gd name="adj2" fmla="val 108402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6360" y="2492280"/>
            <a:ext cx="2160720" cy="576360"/>
          </a:xfrm>
          <a:prstGeom prst="wedgeEllipseCallout">
            <a:avLst>
              <a:gd name="adj1" fmla="val -68662"/>
              <a:gd name="adj2" fmla="val 88842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>
            <a:hlinkClick r:id="" action="ppaction://hlinkshowjump?jump=endshow"/>
          </p:cNvPr>
          <p:cNvSpPr/>
          <p:nvPr/>
        </p:nvSpPr>
        <p:spPr>
          <a:xfrm>
            <a:off x="7812000" y="5877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07640" y="115920"/>
            <a:ext cx="8877240" cy="6578280"/>
            <a:chOff x="107640" y="115920"/>
            <a:chExt cx="8877240" cy="6578280"/>
          </a:xfrm>
        </p:grpSpPr>
        <p:sp>
          <p:nvSpPr>
            <p:cNvPr id="427" name=""/>
            <p:cNvSpPr/>
            <p:nvPr/>
          </p:nvSpPr>
          <p:spPr>
            <a:xfrm>
              <a:off x="567360" y="142560"/>
              <a:ext cx="79837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6600" y="6680520"/>
              <a:ext cx="79581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945640" y="571320"/>
              <a:ext cx="1440" cy="565380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60200" y="571320"/>
              <a:ext cx="26280" cy="565380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60200" y="6212160"/>
              <a:ext cx="446040" cy="4820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8538480" y="6198480"/>
              <a:ext cx="446400" cy="4820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rot="16200000">
              <a:off x="8519760" y="107280"/>
              <a:ext cx="455400" cy="4726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5400000">
              <a:off x="116280" y="106920"/>
              <a:ext cx="455400" cy="4726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973080" y="260280"/>
            <a:ext cx="7920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треугольнике АВС    АВ = 10 см,   ВС = 5 с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йти отношение синуса угла А к синусу угла 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651640" y="5877000"/>
            <a:ext cx="2160360" cy="576360"/>
          </a:xfrm>
          <a:custGeom>
            <a:avLst/>
            <a:gdLst>
              <a:gd name="textAreaLeft" fmla="*/ 37080 w 2160360"/>
              <a:gd name="textAreaRight" fmla="*/ 2123280 w 2160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0926" h="21600">
                <a:moveTo>
                  <a:pt x="0" y="0"/>
                </a:moveTo>
                <a:lnTo>
                  <a:pt x="80926" y="0"/>
                </a:lnTo>
                <a:lnTo>
                  <a:pt x="80926" y="21600"/>
                </a:lnTo>
                <a:lnTo>
                  <a:pt x="0" y="21600"/>
                </a:lnTo>
                <a:close/>
              </a:path>
              <a:path fill="lightenLess" w="80926" h="21600">
                <a:moveTo>
                  <a:pt x="0" y="0"/>
                </a:moveTo>
                <a:lnTo>
                  <a:pt x="80926" y="0"/>
                </a:lnTo>
                <a:lnTo>
                  <a:pt x="79526" y="1400"/>
                </a:lnTo>
                <a:lnTo>
                  <a:pt x="1400" y="1400"/>
                </a:lnTo>
                <a:close/>
              </a:path>
              <a:path fill="darken" w="80926" h="21600">
                <a:moveTo>
                  <a:pt x="80926" y="0"/>
                </a:moveTo>
                <a:lnTo>
                  <a:pt x="80926" y="21600"/>
                </a:lnTo>
                <a:lnTo>
                  <a:pt x="79526" y="20200"/>
                </a:lnTo>
                <a:lnTo>
                  <a:pt x="79526" y="1400"/>
                </a:lnTo>
                <a:close/>
              </a:path>
              <a:path fill="darkenLess" w="80926" h="21600">
                <a:moveTo>
                  <a:pt x="8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26" y="20200"/>
                </a:lnTo>
                <a:close/>
              </a:path>
              <a:path fill="lighten" w="8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242720" y="4767120"/>
            <a:ext cx="85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1125720" y="5391000"/>
            <a:ext cx="1140840" cy="703440"/>
            <a:chOff x="1125720" y="5391000"/>
            <a:chExt cx="1140840" cy="703440"/>
          </a:xfrm>
        </p:grpSpPr>
        <p:sp>
          <p:nvSpPr>
            <p:cNvPr id="439" name=""/>
            <p:cNvSpPr/>
            <p:nvPr/>
          </p:nvSpPr>
          <p:spPr>
            <a:xfrm>
              <a:off x="1199880" y="5430960"/>
              <a:ext cx="1053720" cy="1440"/>
            </a:xfrm>
            <a:custGeom>
              <a:avLst/>
              <a:gdLst/>
              <a:ahLst/>
              <a:rect l="l" t="t" r="r" b="b"/>
              <a:pathLst>
                <a:path w="664" h="1">
                  <a:moveTo>
                    <a:pt x="0" y="0"/>
                  </a:moveTo>
                  <a:lnTo>
                    <a:pt x="66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25720" y="5391000"/>
              <a:ext cx="1140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in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2225520" y="50720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2711520" y="4767120"/>
            <a:ext cx="1054080" cy="703440"/>
            <a:chOff x="2711520" y="4767120"/>
            <a:chExt cx="1054080" cy="703440"/>
          </a:xfrm>
        </p:grpSpPr>
        <p:sp>
          <p:nvSpPr>
            <p:cNvPr id="443" name=""/>
            <p:cNvSpPr/>
            <p:nvPr/>
          </p:nvSpPr>
          <p:spPr>
            <a:xfrm>
              <a:off x="2784240" y="4767120"/>
              <a:ext cx="857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B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711520" y="5430960"/>
              <a:ext cx="1054080" cy="1440"/>
            </a:xfrm>
            <a:custGeom>
              <a:avLst/>
              <a:gdLst/>
              <a:ahLst/>
              <a:rect l="l" t="t" r="r" b="b"/>
              <a:pathLst>
                <a:path w="664" h="1">
                  <a:moveTo>
                    <a:pt x="0" y="0"/>
                  </a:moveTo>
                  <a:lnTo>
                    <a:pt x="66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2637000" y="5391000"/>
            <a:ext cx="114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s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971640" y="1413000"/>
            <a:ext cx="380880" cy="956880"/>
            <a:chOff x="971640" y="1413000"/>
            <a:chExt cx="380880" cy="956880"/>
          </a:xfrm>
        </p:grpSpPr>
        <p:sp>
          <p:nvSpPr>
            <p:cNvPr id="447" name=""/>
            <p:cNvSpPr/>
            <p:nvPr/>
          </p:nvSpPr>
          <p:spPr>
            <a:xfrm>
              <a:off x="971640" y="14130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971640" y="18493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97200" y="1917720"/>
              <a:ext cx="355320" cy="108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973440" y="3789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973440" y="2708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5159880" y="1413000"/>
            <a:ext cx="3522960" cy="4265280"/>
            <a:chOff x="5159880" y="1413000"/>
            <a:chExt cx="3522960" cy="4265280"/>
          </a:xfrm>
        </p:grpSpPr>
        <p:sp>
          <p:nvSpPr>
            <p:cNvPr id="453" name=""/>
            <p:cNvSpPr/>
            <p:nvPr/>
          </p:nvSpPr>
          <p:spPr>
            <a:xfrm>
              <a:off x="5446800" y="1844640"/>
              <a:ext cx="2890800" cy="3286080"/>
            </a:xfrm>
            <a:prstGeom prst="triangle">
              <a:avLst>
                <a:gd name="adj" fmla="val 7882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159880" y="51577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36600" y="1413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246160" y="50846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013800" y="31417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28000" y="3141720"/>
              <a:ext cx="38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6013800" y="31417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029800" y="3141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06520" y="23328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612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0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621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0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631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0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641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7037E-006 L 0.10226 0.04189 L 0.16302 0.08518 E">
                                      <p:cBhvr>
                                        <p:cTn id="665" dur="1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48148E-006 L -0.14167 -0.06296 L -0.1632 -0.08542 E">
                                      <p:cBhvr>
                                        <p:cTn id="667" dur="1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33333E-006 L -0.24896 0.32454 L -0.30712 0.39885 E">
                                      <p:cBhvr>
                                        <p:cTn id="671" dur="1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33333E-006 L -0.41545 0.14491 L -0.496 0.19954 E">
                                      <p:cBhvr>
                                        <p:cTn id="674" dur="1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ffff"/>
            </a:gs>
            <a:gs pos="50000">
              <a:srgbClr val="ffffff"/>
            </a:gs>
            <a:gs pos="100000">
              <a:srgbClr val="b9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900000" y="3363840"/>
            <a:ext cx="8064720" cy="642600"/>
            <a:chOff x="900000" y="3363840"/>
            <a:chExt cx="8064720" cy="642600"/>
          </a:xfrm>
        </p:grpSpPr>
        <p:sp>
          <p:nvSpPr>
            <p:cNvPr id="60" name=""/>
            <p:cNvSpPr/>
            <p:nvPr/>
          </p:nvSpPr>
          <p:spPr>
            <a:xfrm>
              <a:off x="900000" y="3363840"/>
              <a:ext cx="806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AC</a:t>
              </a:r>
              <a:r>
                <a:rPr b="1" i="1" lang="ru-RU" sz="3600" spc="-1" strike="noStrike" baseline="30000">
                  <a:solidFill>
                    <a:srgbClr val="0033cc"/>
                  </a:solidFill>
                  <a:latin typeface="Times New Roman"/>
                  <a:ea typeface="Arial"/>
                </a:rPr>
                <a:t>2</a:t>
              </a:r>
              <a:r>
                <a:rPr b="1" i="1" lang="ru-RU" sz="36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 = </a:t>
              </a:r>
              <a:r>
                <a:rPr b="1" i="1" lang="en-US" sz="36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AB</a:t>
              </a:r>
              <a:r>
                <a:rPr b="1" i="1" lang="en-US" sz="3600" spc="-1" strike="noStrike" baseline="30000">
                  <a:solidFill>
                    <a:srgbClr val="0033cc"/>
                  </a:solidFill>
                  <a:latin typeface="Times New Roman"/>
                  <a:ea typeface="Arial"/>
                </a:rPr>
                <a:t>2</a:t>
              </a:r>
              <a:r>
                <a:rPr b="1" i="1" lang="en-US" sz="36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 + BC</a:t>
              </a:r>
              <a:r>
                <a:rPr b="1" i="1" lang="en-US" sz="3600" spc="-1" strike="noStrike" baseline="30000">
                  <a:solidFill>
                    <a:srgbClr val="0033cc"/>
                  </a:solidFill>
                  <a:latin typeface="Times New Roman"/>
                  <a:ea typeface="Arial"/>
                </a:rPr>
                <a:t>2</a:t>
              </a:r>
              <a:r>
                <a:rPr b="1" i="1" lang="en-US" sz="36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 – </a:t>
              </a: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2  A</a:t>
              </a:r>
              <a:r>
                <a:rPr b="1" i="1" lang="en-US" sz="36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B  BC  cos   AC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867280" y="3724200"/>
              <a:ext cx="77760" cy="7596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78520" y="3724200"/>
              <a:ext cx="77760" cy="7596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51640" y="3452760"/>
              <a:ext cx="313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32720" y="3724200"/>
              <a:ext cx="77760" cy="7596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7740720" y="594828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1984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260280"/>
            <a:ext cx="763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треугольника АВ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раведливо равенство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07640" y="115920"/>
            <a:ext cx="8877240" cy="6578280"/>
            <a:chOff x="107640" y="115920"/>
            <a:chExt cx="8877240" cy="6578280"/>
          </a:xfrm>
        </p:grpSpPr>
        <p:sp>
          <p:nvSpPr>
            <p:cNvPr id="69" name=""/>
            <p:cNvSpPr/>
            <p:nvPr/>
          </p:nvSpPr>
          <p:spPr>
            <a:xfrm>
              <a:off x="567360" y="142560"/>
              <a:ext cx="79837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6600" y="6680520"/>
              <a:ext cx="79581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945640" y="571320"/>
              <a:ext cx="1440" cy="565380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0200" y="571320"/>
              <a:ext cx="26280" cy="565380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0200" y="6212160"/>
              <a:ext cx="446040" cy="4820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8538480" y="6198480"/>
              <a:ext cx="446400" cy="4820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16200000">
              <a:off x="8519760" y="107280"/>
              <a:ext cx="455400" cy="4726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5400000">
              <a:off x="116280" y="106920"/>
              <a:ext cx="455400" cy="4726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716360" y="620640"/>
            <a:ext cx="2160720" cy="576360"/>
          </a:xfrm>
          <a:prstGeom prst="wedgeEllipseCallout">
            <a:avLst>
              <a:gd name="adj1" fmla="val -116199"/>
              <a:gd name="adj2" fmla="val 7644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00000" y="1125360"/>
            <a:ext cx="7920000" cy="642600"/>
            <a:chOff x="900000" y="1125360"/>
            <a:chExt cx="7920000" cy="642600"/>
          </a:xfrm>
        </p:grpSpPr>
        <p:sp>
          <p:nvSpPr>
            <p:cNvPr id="79" name=""/>
            <p:cNvSpPr/>
            <p:nvPr/>
          </p:nvSpPr>
          <p:spPr>
            <a:xfrm>
              <a:off x="900000" y="1125360"/>
              <a:ext cx="792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BC</a:t>
              </a:r>
              <a:r>
                <a:rPr b="1" i="1" lang="ru-RU" sz="3600" spc="-1" strike="noStrike" baseline="30000">
                  <a:solidFill>
                    <a:srgbClr val="0033cc"/>
                  </a:solidFill>
                  <a:latin typeface="Times New Roman"/>
                  <a:ea typeface="Arial"/>
                </a:rPr>
                <a:t>2</a:t>
              </a:r>
              <a:r>
                <a:rPr b="1" i="1" lang="ru-RU" sz="36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 = </a:t>
              </a:r>
              <a:r>
                <a:rPr b="1" i="1" lang="en-US" sz="36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AB</a:t>
              </a:r>
              <a:r>
                <a:rPr b="1" i="1" lang="en-US" sz="3600" spc="-1" strike="noStrike" baseline="30000">
                  <a:solidFill>
                    <a:srgbClr val="0033cc"/>
                  </a:solidFill>
                  <a:latin typeface="Times New Roman"/>
                  <a:ea typeface="Arial"/>
                </a:rPr>
                <a:t>2</a:t>
              </a:r>
              <a:r>
                <a:rPr b="1" i="1" lang="en-US" sz="36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 + AC</a:t>
              </a:r>
              <a:r>
                <a:rPr b="1" i="1" lang="en-US" sz="3600" spc="-1" strike="noStrike" baseline="30000">
                  <a:solidFill>
                    <a:srgbClr val="0033cc"/>
                  </a:solidFill>
                  <a:latin typeface="Times New Roman"/>
                  <a:ea typeface="Arial"/>
                </a:rPr>
                <a:t>2</a:t>
              </a:r>
              <a:r>
                <a:rPr b="1" i="1" lang="en-US" sz="36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 – </a:t>
              </a: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2  </a:t>
              </a:r>
              <a:r>
                <a:rPr b="1" i="1" lang="en-US" sz="36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AB  AC  cos   AB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867280" y="1485720"/>
              <a:ext cx="76320" cy="7596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03640" y="1485720"/>
              <a:ext cx="76320" cy="7596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51640" y="1214280"/>
              <a:ext cx="313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32720" y="1485720"/>
              <a:ext cx="75960" cy="7596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68360" y="22780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3429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08720" y="1413000"/>
            <a:ext cx="1944720" cy="720720"/>
          </a:xfrm>
          <a:prstGeom prst="wedgeEllipseCallout">
            <a:avLst>
              <a:gd name="adj1" fmla="val -130328"/>
              <a:gd name="adj2" fmla="val 70263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00000" y="2206800"/>
            <a:ext cx="7920000" cy="642600"/>
            <a:chOff x="900000" y="2206800"/>
            <a:chExt cx="7920000" cy="642600"/>
          </a:xfrm>
        </p:grpSpPr>
        <p:sp>
          <p:nvSpPr>
            <p:cNvPr id="88" name=""/>
            <p:cNvSpPr/>
            <p:nvPr/>
          </p:nvSpPr>
          <p:spPr>
            <a:xfrm>
              <a:off x="900000" y="2206800"/>
              <a:ext cx="792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AB</a:t>
              </a:r>
              <a:r>
                <a:rPr b="1" i="1" lang="ru-RU" sz="3600" spc="-1" strike="noStrike" baseline="30000">
                  <a:solidFill>
                    <a:srgbClr val="0033cc"/>
                  </a:solidFill>
                  <a:latin typeface="Times New Roman"/>
                  <a:ea typeface="Arial"/>
                </a:rPr>
                <a:t>2</a:t>
              </a:r>
              <a:r>
                <a:rPr b="1" i="1" lang="ru-RU" sz="36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 = </a:t>
              </a:r>
              <a:r>
                <a:rPr b="1" i="1" lang="en-US" sz="36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BC</a:t>
              </a:r>
              <a:r>
                <a:rPr b="1" i="1" lang="en-US" sz="3600" spc="-1" strike="noStrike" baseline="30000">
                  <a:solidFill>
                    <a:srgbClr val="0033cc"/>
                  </a:solidFill>
                  <a:latin typeface="Times New Roman"/>
                  <a:ea typeface="Arial"/>
                </a:rPr>
                <a:t>2</a:t>
              </a:r>
              <a:r>
                <a:rPr b="1" i="1" lang="en-US" sz="36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 + AC</a:t>
              </a:r>
              <a:r>
                <a:rPr b="1" i="1" lang="en-US" sz="3600" spc="-1" strike="noStrike" baseline="30000">
                  <a:solidFill>
                    <a:srgbClr val="0033cc"/>
                  </a:solidFill>
                  <a:latin typeface="Times New Roman"/>
                  <a:ea typeface="Arial"/>
                </a:rPr>
                <a:t>2</a:t>
              </a:r>
              <a:r>
                <a:rPr b="1" i="1" lang="en-US" sz="36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 – </a:t>
              </a: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2  </a:t>
              </a:r>
              <a:r>
                <a:rPr b="1" i="1" lang="en-US" sz="36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BC  AC  cos   BC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67280" y="2567160"/>
              <a:ext cx="76320" cy="7596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03640" y="2567160"/>
              <a:ext cx="76320" cy="7596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51640" y="2295720"/>
              <a:ext cx="313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32720" y="2567160"/>
              <a:ext cx="75960" cy="7596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508720" y="5950080"/>
            <a:ext cx="2232000" cy="576000"/>
          </a:xfrm>
          <a:custGeom>
            <a:avLst/>
            <a:gdLst>
              <a:gd name="textAreaLeft" fmla="*/ 37080 w 2232000"/>
              <a:gd name="textAreaRight" fmla="*/ 2194920 w 223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83661" h="21600">
                <a:moveTo>
                  <a:pt x="0" y="0"/>
                </a:moveTo>
                <a:lnTo>
                  <a:pt x="83661" y="0"/>
                </a:lnTo>
                <a:lnTo>
                  <a:pt x="83661" y="21600"/>
                </a:lnTo>
                <a:lnTo>
                  <a:pt x="0" y="21600"/>
                </a:lnTo>
                <a:close/>
              </a:path>
              <a:path fill="lightenLess" w="83661" h="21600">
                <a:moveTo>
                  <a:pt x="0" y="0"/>
                </a:moveTo>
                <a:lnTo>
                  <a:pt x="83661" y="0"/>
                </a:lnTo>
                <a:lnTo>
                  <a:pt x="82261" y="1400"/>
                </a:lnTo>
                <a:lnTo>
                  <a:pt x="1400" y="1400"/>
                </a:lnTo>
                <a:close/>
              </a:path>
              <a:path fill="darken" w="83661" h="21600">
                <a:moveTo>
                  <a:pt x="83661" y="0"/>
                </a:moveTo>
                <a:lnTo>
                  <a:pt x="83661" y="21600"/>
                </a:lnTo>
                <a:lnTo>
                  <a:pt x="82261" y="20200"/>
                </a:lnTo>
                <a:lnTo>
                  <a:pt x="82261" y="1400"/>
                </a:lnTo>
                <a:close/>
              </a:path>
              <a:path fill="darkenLess" w="83661" h="21600">
                <a:moveTo>
                  <a:pt x="83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1" y="20200"/>
                </a:lnTo>
                <a:close/>
              </a:path>
              <a:path fill="lighten" w="83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ка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9560" y="420516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Квадрат стороны треугольника рав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8320" y="45864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сумме квадратов двух других стор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2360" y="53481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на косинус угла между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41400" y="4967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минус удвоенное произведение этих стор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220500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AB</a:t>
            </a:r>
            <a:r>
              <a:rPr b="1" i="1" lang="ru-RU" sz="36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2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2205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BC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2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 + AC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2205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–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2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BC  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732720" y="2205000"/>
            <a:ext cx="2232000" cy="642600"/>
            <a:chOff x="6732720" y="2205000"/>
            <a:chExt cx="2232000" cy="642600"/>
          </a:xfrm>
        </p:grpSpPr>
        <p:sp>
          <p:nvSpPr>
            <p:cNvPr id="102" name=""/>
            <p:cNvSpPr/>
            <p:nvPr/>
          </p:nvSpPr>
          <p:spPr>
            <a:xfrm>
              <a:off x="6732720" y="220500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cos   BC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51640" y="2277720"/>
              <a:ext cx="313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5724360" y="2997360"/>
            <a:ext cx="2160720" cy="576000"/>
          </a:xfrm>
          <a:prstGeom prst="wedgeEllipseCallout">
            <a:avLst>
              <a:gd name="adj1" fmla="val -128763"/>
              <a:gd name="adj2" fmla="val 103717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1480" y="24768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87280" y="5373720"/>
            <a:ext cx="1297080" cy="1079640"/>
          </a:xfrm>
          <a:custGeom>
            <a:avLst/>
            <a:gdLst/>
            <a:ahLst/>
            <a:rect l="l" t="t" r="r" b="b"/>
            <a:pathLst>
              <a:path w="817" h="680">
                <a:moveTo>
                  <a:pt x="0" y="635"/>
                </a:moveTo>
                <a:lnTo>
                  <a:pt x="817" y="680"/>
                </a:lnTo>
                <a:lnTo>
                  <a:pt x="771" y="499"/>
                </a:lnTo>
                <a:lnTo>
                  <a:pt x="544" y="227"/>
                </a:lnTo>
                <a:lnTo>
                  <a:pt x="408" y="45"/>
                </a:lnTo>
                <a:lnTo>
                  <a:pt x="318" y="0"/>
                </a:lnTo>
                <a:lnTo>
                  <a:pt x="0" y="635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6360" y="14130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12700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24732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3789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7740720" y="594828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07640" y="115920"/>
            <a:ext cx="8877240" cy="6578280"/>
            <a:chOff x="107640" y="115920"/>
            <a:chExt cx="8877240" cy="6578280"/>
          </a:xfrm>
        </p:grpSpPr>
        <p:sp>
          <p:nvSpPr>
            <p:cNvPr id="113" name=""/>
            <p:cNvSpPr/>
            <p:nvPr/>
          </p:nvSpPr>
          <p:spPr>
            <a:xfrm>
              <a:off x="567360" y="142560"/>
              <a:ext cx="79837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6600" y="6680520"/>
              <a:ext cx="79581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945640" y="571320"/>
              <a:ext cx="1440" cy="565380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0200" y="571320"/>
              <a:ext cx="26280" cy="565380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0200" y="6212160"/>
              <a:ext cx="446040" cy="4820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538480" y="6198480"/>
              <a:ext cx="446400" cy="4820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rot="16200000">
              <a:off x="8519760" y="107280"/>
              <a:ext cx="455400" cy="4726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116280" y="106920"/>
              <a:ext cx="455400" cy="4726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008000" y="260280"/>
            <a:ext cx="630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лощадь треугольник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NK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вна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187280" y="981000"/>
            <a:ext cx="6264000" cy="957240"/>
            <a:chOff x="1187280" y="981000"/>
            <a:chExt cx="6264000" cy="957240"/>
          </a:xfrm>
        </p:grpSpPr>
        <p:sp>
          <p:nvSpPr>
            <p:cNvPr id="123" name=""/>
            <p:cNvSpPr/>
            <p:nvPr/>
          </p:nvSpPr>
          <p:spPr>
            <a:xfrm>
              <a:off x="1618920" y="1123920"/>
              <a:ext cx="583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MN  NK  sin  </a:t>
              </a:r>
              <a:r>
                <a:rPr b="1" i="1" lang="en-US" sz="14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 </a:t>
              </a:r>
              <a:r>
                <a:rPr b="1" i="1" lang="en-US" sz="4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 MN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187280" y="981000"/>
              <a:ext cx="2523600" cy="957240"/>
              <a:chOff x="1187280" y="981000"/>
              <a:chExt cx="2523600" cy="95724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1187280" y="981000"/>
                <a:ext cx="380880" cy="957240"/>
                <a:chOff x="1187280" y="981000"/>
                <a:chExt cx="380880" cy="9572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187280" y="98100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187280" y="1417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12840" y="1486080"/>
                  <a:ext cx="355320" cy="1440"/>
                </a:xfrm>
                <a:custGeom>
                  <a:avLst/>
                  <a:gdLst/>
                  <a:ahLst/>
                  <a:rect l="l" t="t" r="r" b="b"/>
                  <a:pathLst>
                    <a:path w="224" h="1">
                      <a:moveTo>
                        <a:pt x="0" y="0"/>
                      </a:moveTo>
                      <a:lnTo>
                        <a:pt x="224" y="0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"/>
              <p:cNvSpPr/>
              <p:nvPr/>
            </p:nvSpPr>
            <p:spPr>
              <a:xfrm>
                <a:off x="2626920" y="1484280"/>
                <a:ext cx="75960" cy="7596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34920" y="1484280"/>
                <a:ext cx="75960" cy="7596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4500000" y="1270080"/>
              <a:ext cx="313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187280" y="2257560"/>
            <a:ext cx="6264000" cy="956880"/>
            <a:chOff x="1187280" y="2257560"/>
            <a:chExt cx="6264000" cy="956880"/>
          </a:xfrm>
        </p:grpSpPr>
        <p:sp>
          <p:nvSpPr>
            <p:cNvPr id="133" name=""/>
            <p:cNvSpPr/>
            <p:nvPr/>
          </p:nvSpPr>
          <p:spPr>
            <a:xfrm>
              <a:off x="1618920" y="2400120"/>
              <a:ext cx="583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MN  MK  sin   MN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1187280" y="2257560"/>
              <a:ext cx="2523600" cy="956880"/>
              <a:chOff x="1187280" y="2257560"/>
              <a:chExt cx="2523600" cy="95688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1187280" y="2257560"/>
                <a:ext cx="380880" cy="956880"/>
                <a:chOff x="1187280" y="2257560"/>
                <a:chExt cx="380880" cy="956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187280" y="22575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187280" y="2693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212840" y="2762280"/>
                  <a:ext cx="355320" cy="1080"/>
                </a:xfrm>
                <a:custGeom>
                  <a:avLst/>
                  <a:gdLst/>
                  <a:ahLst/>
                  <a:rect l="l" t="t" r="r" b="b"/>
                  <a:pathLst>
                    <a:path w="224" h="1">
                      <a:moveTo>
                        <a:pt x="0" y="0"/>
                      </a:moveTo>
                      <a:lnTo>
                        <a:pt x="224" y="0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>
                <a:off x="2626920" y="2760480"/>
                <a:ext cx="75960" cy="7560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634920" y="2760480"/>
                <a:ext cx="75960" cy="7560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4500000" y="2546280"/>
              <a:ext cx="313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187280" y="3500280"/>
            <a:ext cx="6264000" cy="957240"/>
            <a:chOff x="1187280" y="3500280"/>
            <a:chExt cx="6264000" cy="957240"/>
          </a:xfrm>
        </p:grpSpPr>
        <p:sp>
          <p:nvSpPr>
            <p:cNvPr id="143" name=""/>
            <p:cNvSpPr/>
            <p:nvPr/>
          </p:nvSpPr>
          <p:spPr>
            <a:xfrm>
              <a:off x="1618920" y="3643200"/>
              <a:ext cx="583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MK  </a:t>
              </a:r>
              <a:r>
                <a:rPr b="1" i="1" lang="en-US" sz="14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 </a:t>
              </a:r>
              <a:r>
                <a:rPr b="1" i="1" lang="en-US" sz="4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NK  sin  </a:t>
              </a:r>
              <a:r>
                <a:rPr b="1" i="1" lang="en-US" sz="14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 </a:t>
              </a:r>
              <a:r>
                <a:rPr b="1" i="1" lang="en-US" sz="4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 MN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187280" y="3500280"/>
              <a:ext cx="2523600" cy="957240"/>
              <a:chOff x="1187280" y="3500280"/>
              <a:chExt cx="2523600" cy="95724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1187280" y="3500280"/>
                <a:ext cx="380880" cy="957240"/>
                <a:chOff x="1187280" y="3500280"/>
                <a:chExt cx="380880" cy="9572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187280" y="3500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187280" y="3936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212840" y="4005360"/>
                  <a:ext cx="355320" cy="1440"/>
                </a:xfrm>
                <a:custGeom>
                  <a:avLst/>
                  <a:gdLst/>
                  <a:ahLst/>
                  <a:rect l="l" t="t" r="r" b="b"/>
                  <a:pathLst>
                    <a:path w="224" h="1">
                      <a:moveTo>
                        <a:pt x="0" y="0"/>
                      </a:moveTo>
                      <a:lnTo>
                        <a:pt x="224" y="0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2626920" y="4003560"/>
                <a:ext cx="75960" cy="7596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634920" y="4003560"/>
                <a:ext cx="75960" cy="7596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4500000" y="3789360"/>
              <a:ext cx="313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948360" y="692280"/>
            <a:ext cx="1944720" cy="720720"/>
          </a:xfrm>
          <a:prstGeom prst="wedgeEllipseCallout">
            <a:avLst>
              <a:gd name="adj1" fmla="val -103143"/>
              <a:gd name="adj2" fmla="val 7907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24360" y="2852640"/>
            <a:ext cx="2160720" cy="576360"/>
          </a:xfrm>
          <a:prstGeom prst="wedgeEllipseCallout">
            <a:avLst>
              <a:gd name="adj1" fmla="val -122740"/>
              <a:gd name="adj2" fmla="val 113361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40360" y="1682640"/>
            <a:ext cx="2160720" cy="576360"/>
          </a:xfrm>
          <a:prstGeom prst="wedgeEllipseCallout">
            <a:avLst>
              <a:gd name="adj1" fmla="val -136041"/>
              <a:gd name="adj2" fmla="val 9104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84360" y="4292640"/>
            <a:ext cx="3743280" cy="2642400"/>
            <a:chOff x="684360" y="4292640"/>
            <a:chExt cx="3743280" cy="2642400"/>
          </a:xfrm>
        </p:grpSpPr>
        <p:sp>
          <p:nvSpPr>
            <p:cNvPr id="156" name=""/>
            <p:cNvSpPr/>
            <p:nvPr/>
          </p:nvSpPr>
          <p:spPr>
            <a:xfrm>
              <a:off x="684360" y="595008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19280" y="429264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51280" y="595008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1048600">
              <a:off x="1104480" y="4646160"/>
              <a:ext cx="2665440" cy="2089080"/>
            </a:xfrm>
            <a:custGeom>
              <a:avLst/>
              <a:gdLst/>
              <a:ahLst/>
              <a:rect l="l" t="t" r="r" b="b"/>
              <a:pathLst>
                <a:path w="1679" h="1815">
                  <a:moveTo>
                    <a:pt x="0" y="1316"/>
                  </a:moveTo>
                  <a:lnTo>
                    <a:pt x="726" y="0"/>
                  </a:lnTo>
                  <a:lnTo>
                    <a:pt x="1679" y="1815"/>
                  </a:lnTo>
                  <a:lnTo>
                    <a:pt x="0" y="131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196640" y="6366240"/>
            <a:ext cx="2723040" cy="142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81160" y="4711680"/>
            <a:ext cx="888840" cy="1650960"/>
          </a:xfrm>
          <a:custGeom>
            <a:avLst/>
            <a:gdLst/>
            <a:ahLst/>
            <a:rect l="l" t="t" r="r" b="b"/>
            <a:pathLst>
              <a:path w="560" h="1040">
                <a:moveTo>
                  <a:pt x="0" y="1040"/>
                </a:moveTo>
                <a:lnTo>
                  <a:pt x="56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32000" y="6021360"/>
            <a:ext cx="287280" cy="360360"/>
          </a:xfrm>
          <a:custGeom>
            <a:avLst/>
            <a:gdLst/>
            <a:ahLst/>
            <a:rect l="l" t="t" r="r" b="b"/>
            <a:pathLst>
              <a:path w="181" h="227">
                <a:moveTo>
                  <a:pt x="0" y="0"/>
                </a:moveTo>
                <a:cubicBezTo>
                  <a:pt x="20" y="13"/>
                  <a:pt x="91" y="41"/>
                  <a:pt x="121" y="79"/>
                </a:cubicBezTo>
                <a:cubicBezTo>
                  <a:pt x="151" y="117"/>
                  <a:pt x="169" y="196"/>
                  <a:pt x="181" y="227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59280" y="4581360"/>
            <a:ext cx="380880" cy="957240"/>
            <a:chOff x="4859280" y="4581360"/>
            <a:chExt cx="380880" cy="957240"/>
          </a:xfrm>
        </p:grpSpPr>
        <p:sp>
          <p:nvSpPr>
            <p:cNvPr id="164" name=""/>
            <p:cNvSpPr/>
            <p:nvPr/>
          </p:nvSpPr>
          <p:spPr>
            <a:xfrm>
              <a:off x="4859280" y="458136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59280" y="5018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84840" y="5086440"/>
              <a:ext cx="355320" cy="144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164360" y="4743360"/>
            <a:ext cx="1943280" cy="703440"/>
            <a:chOff x="7164360" y="4743360"/>
            <a:chExt cx="1943280" cy="703440"/>
          </a:xfrm>
        </p:grpSpPr>
        <p:sp>
          <p:nvSpPr>
            <p:cNvPr id="168" name=""/>
            <p:cNvSpPr/>
            <p:nvPr/>
          </p:nvSpPr>
          <p:spPr>
            <a:xfrm>
              <a:off x="7164360" y="5084640"/>
              <a:ext cx="76320" cy="7632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7236000" y="4743360"/>
              <a:ext cx="1871640" cy="703440"/>
              <a:chOff x="7236000" y="4743360"/>
              <a:chExt cx="1871640" cy="703440"/>
            </a:xfrm>
          </p:grpSpPr>
          <p:sp>
            <p:nvSpPr>
              <p:cNvPr id="170" name=""/>
              <p:cNvSpPr/>
              <p:nvPr/>
            </p:nvSpPr>
            <p:spPr>
              <a:xfrm>
                <a:off x="7236000" y="4743360"/>
                <a:ext cx="1871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0033cc"/>
                    </a:solidFill>
                    <a:latin typeface="Times New Roman"/>
                    <a:ea typeface="Arial"/>
                  </a:rPr>
                  <a:t>sin   </a:t>
                </a:r>
                <a:r>
                  <a:rPr b="1" i="1" lang="en-US" sz="1400" spc="-1" strike="noStrike">
                    <a:solidFill>
                      <a:srgbClr val="0033cc"/>
                    </a:solidFill>
                    <a:latin typeface="Times New Roman"/>
                    <a:ea typeface="Arial"/>
                  </a:rPr>
                  <a:t> </a:t>
                </a:r>
                <a:r>
                  <a:rPr b="1" i="1" lang="en-US" sz="4000" spc="-1" strike="noStrike">
                    <a:solidFill>
                      <a:srgbClr val="0033cc"/>
                    </a:solidFill>
                    <a:latin typeface="Times New Roman"/>
                    <a:ea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956360" y="4813200"/>
                <a:ext cx="39096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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3203640" y="4724280"/>
            <a:ext cx="1800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Times New Roman"/>
                <a:ea typeface="Arial"/>
              </a:rPr>
              <a:t>S</a:t>
            </a:r>
            <a:r>
              <a:rPr b="1" i="1" lang="en-US" sz="4000" spc="-1" strike="noStrike" baseline="-25000">
                <a:solidFill>
                  <a:srgbClr val="0033cc"/>
                </a:solidFill>
                <a:latin typeface="Times New Roman"/>
                <a:ea typeface="Arial"/>
              </a:rPr>
              <a:t>MNK </a:t>
            </a:r>
            <a:r>
              <a:rPr b="1" i="1" lang="en-US" sz="4000" spc="-1" strike="noStrike">
                <a:solidFill>
                  <a:srgbClr val="0033cc"/>
                </a:solidFill>
                <a:latin typeface="Times New Roman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19640" y="47242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Times New Roman"/>
                <a:ea typeface="Arial"/>
              </a:rPr>
              <a:t>M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227640" y="4724280"/>
            <a:ext cx="1008360" cy="703440"/>
            <a:chOff x="6227640" y="4724280"/>
            <a:chExt cx="1008360" cy="703440"/>
          </a:xfrm>
        </p:grpSpPr>
        <p:sp>
          <p:nvSpPr>
            <p:cNvPr id="175" name=""/>
            <p:cNvSpPr/>
            <p:nvPr/>
          </p:nvSpPr>
          <p:spPr>
            <a:xfrm>
              <a:off x="6227640" y="5081760"/>
              <a:ext cx="76320" cy="7596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00720" y="4724280"/>
              <a:ext cx="93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N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508720" y="5950080"/>
            <a:ext cx="2232000" cy="576000"/>
          </a:xfrm>
          <a:custGeom>
            <a:avLst/>
            <a:gdLst>
              <a:gd name="textAreaLeft" fmla="*/ 37080 w 2232000"/>
              <a:gd name="textAreaRight" fmla="*/ 2194920 w 223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83661" h="21600">
                <a:moveTo>
                  <a:pt x="0" y="0"/>
                </a:moveTo>
                <a:lnTo>
                  <a:pt x="83661" y="0"/>
                </a:lnTo>
                <a:lnTo>
                  <a:pt x="83661" y="21600"/>
                </a:lnTo>
                <a:lnTo>
                  <a:pt x="0" y="21600"/>
                </a:lnTo>
                <a:close/>
              </a:path>
              <a:path fill="lightenLess" w="83661" h="21600">
                <a:moveTo>
                  <a:pt x="0" y="0"/>
                </a:moveTo>
                <a:lnTo>
                  <a:pt x="83661" y="0"/>
                </a:lnTo>
                <a:lnTo>
                  <a:pt x="82261" y="1400"/>
                </a:lnTo>
                <a:lnTo>
                  <a:pt x="1400" y="1400"/>
                </a:lnTo>
                <a:close/>
              </a:path>
              <a:path fill="darken" w="83661" h="21600">
                <a:moveTo>
                  <a:pt x="83661" y="0"/>
                </a:moveTo>
                <a:lnTo>
                  <a:pt x="83661" y="21600"/>
                </a:lnTo>
                <a:lnTo>
                  <a:pt x="82261" y="20200"/>
                </a:lnTo>
                <a:lnTo>
                  <a:pt x="82261" y="1400"/>
                </a:lnTo>
                <a:close/>
              </a:path>
              <a:path fill="darkenLess" w="83661" h="21600">
                <a:moveTo>
                  <a:pt x="83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1" y="20200"/>
                </a:lnTo>
                <a:close/>
              </a:path>
              <a:path fill="lighten" w="83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ка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1480" y="24768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04840" y="5041800"/>
            <a:ext cx="1306440" cy="1131840"/>
          </a:xfrm>
          <a:custGeom>
            <a:avLst/>
            <a:gdLst/>
            <a:ahLst/>
            <a:rect l="l" t="t" r="r" b="b"/>
            <a:pathLst>
              <a:path w="823" h="713">
                <a:moveTo>
                  <a:pt x="7" y="713"/>
                </a:moveTo>
                <a:lnTo>
                  <a:pt x="823" y="713"/>
                </a:lnTo>
                <a:lnTo>
                  <a:pt x="712" y="504"/>
                </a:lnTo>
                <a:lnTo>
                  <a:pt x="696" y="384"/>
                </a:lnTo>
                <a:lnTo>
                  <a:pt x="552" y="256"/>
                </a:lnTo>
                <a:lnTo>
                  <a:pt x="256" y="16"/>
                </a:lnTo>
                <a:lnTo>
                  <a:pt x="0" y="0"/>
                </a:lnTo>
                <a:lnTo>
                  <a:pt x="7" y="71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 rot="9174600">
            <a:off x="2050560" y="4508640"/>
            <a:ext cx="1135080" cy="7138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900000" y="25495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1701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3427560"/>
            <a:ext cx="360360" cy="502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2920"/>
              <a:gd name="textAreaBottom" fmla="*/ 479880 h 50292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7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7"/>
                </a:lnTo>
                <a:lnTo>
                  <a:pt x="20200" y="28737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3284640"/>
            <a:ext cx="2160720" cy="576000"/>
          </a:xfrm>
          <a:prstGeom prst="wedgeEllipseCallout">
            <a:avLst>
              <a:gd name="adj1" fmla="val -105472"/>
              <a:gd name="adj2" fmla="val 49449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65800" y="2260440"/>
            <a:ext cx="1944720" cy="720720"/>
          </a:xfrm>
          <a:prstGeom prst="wedgeEllipseCallout">
            <a:avLst>
              <a:gd name="adj1" fmla="val -106814"/>
              <a:gd name="adj2" fmla="val 36342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05440" y="1197000"/>
            <a:ext cx="2160360" cy="576360"/>
          </a:xfrm>
          <a:prstGeom prst="wedgeEllipseCallout">
            <a:avLst>
              <a:gd name="adj1" fmla="val -95259"/>
              <a:gd name="adj2" fmla="val 7341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7812000" y="5877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07640" y="115920"/>
            <a:ext cx="8877240" cy="6578280"/>
            <a:chOff x="107640" y="115920"/>
            <a:chExt cx="8877240" cy="6578280"/>
          </a:xfrm>
        </p:grpSpPr>
        <p:sp>
          <p:nvSpPr>
            <p:cNvPr id="189" name=""/>
            <p:cNvSpPr/>
            <p:nvPr/>
          </p:nvSpPr>
          <p:spPr>
            <a:xfrm>
              <a:off x="567360" y="142560"/>
              <a:ext cx="79837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6600" y="6680520"/>
              <a:ext cx="79581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945640" y="571320"/>
              <a:ext cx="1440" cy="565380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0200" y="571320"/>
              <a:ext cx="26280" cy="565380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0200" y="6212160"/>
              <a:ext cx="446040" cy="4820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538480" y="6198480"/>
              <a:ext cx="446400" cy="4820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rot="16200000">
              <a:off x="8519760" y="107280"/>
              <a:ext cx="455400" cy="4726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5400000">
              <a:off x="116280" y="106920"/>
              <a:ext cx="455400" cy="4726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971640" y="274680"/>
            <a:ext cx="770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сли квадрат стороны треугольника равен сумме квадратов двух других сторон, то эта сторона лежит проти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20720" y="16304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упого уг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20720" y="25495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ямого уг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20720" y="35002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рого уг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84720" y="587700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16000" y="5877000"/>
            <a:ext cx="287280" cy="288720"/>
          </a:xfrm>
          <a:custGeom>
            <a:avLst/>
            <a:gdLst/>
            <a:ahLst/>
            <a:rect l="l" t="t" r="r" b="b"/>
            <a:pathLst>
              <a:path w="181" h="182">
                <a:moveTo>
                  <a:pt x="0" y="0"/>
                </a:moveTo>
                <a:lnTo>
                  <a:pt x="181" y="0"/>
                </a:lnTo>
                <a:lnTo>
                  <a:pt x="181" y="18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11640" y="450864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85800" y="4005360"/>
            <a:ext cx="3454560" cy="2648160"/>
            <a:chOff x="685800" y="4005360"/>
            <a:chExt cx="3454560" cy="2648160"/>
          </a:xfrm>
        </p:grpSpPr>
        <p:sp>
          <p:nvSpPr>
            <p:cNvPr id="205" name=""/>
            <p:cNvSpPr/>
            <p:nvPr/>
          </p:nvSpPr>
          <p:spPr>
            <a:xfrm>
              <a:off x="1116000" y="4005360"/>
              <a:ext cx="3024360" cy="21589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97080" y="5950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" y="49417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485800" y="4437000"/>
              <a:ext cx="40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01480" y="24768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7.40741E-007 L -0.10121 0.11597 E">
                                      <p:cBhvr>
                                        <p:cTn id="206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500"/>
                            </p:stCondLst>
                            <p:childTnLst>
                              <p:par>
                                <p:cTn id="2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ffff"/>
            </a:gs>
            <a:gs pos="50000">
              <a:srgbClr val="ffffff"/>
            </a:gs>
            <a:gs pos="100000">
              <a:srgbClr val="b9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041800" y="3629160"/>
            <a:ext cx="1332000" cy="1079280"/>
          </a:xfrm>
          <a:custGeom>
            <a:avLst/>
            <a:gdLst/>
            <a:ahLst/>
            <a:rect l="l" t="t" r="r" b="b"/>
            <a:pathLst>
              <a:path w="839" h="680">
                <a:moveTo>
                  <a:pt x="0" y="624"/>
                </a:moveTo>
                <a:lnTo>
                  <a:pt x="839" y="680"/>
                </a:lnTo>
                <a:lnTo>
                  <a:pt x="793" y="499"/>
                </a:lnTo>
                <a:lnTo>
                  <a:pt x="566" y="227"/>
                </a:lnTo>
                <a:lnTo>
                  <a:pt x="430" y="45"/>
                </a:lnTo>
                <a:lnTo>
                  <a:pt x="340" y="0"/>
                </a:lnTo>
                <a:lnTo>
                  <a:pt x="0" y="62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21440" y="4276800"/>
            <a:ext cx="287280" cy="360360"/>
          </a:xfrm>
          <a:custGeom>
            <a:avLst/>
            <a:gdLst/>
            <a:ahLst/>
            <a:rect l="l" t="t" r="r" b="b"/>
            <a:pathLst>
              <a:path w="181" h="227">
                <a:moveTo>
                  <a:pt x="0" y="0"/>
                </a:moveTo>
                <a:cubicBezTo>
                  <a:pt x="20" y="13"/>
                  <a:pt x="91" y="41"/>
                  <a:pt x="121" y="79"/>
                </a:cubicBezTo>
                <a:cubicBezTo>
                  <a:pt x="151" y="117"/>
                  <a:pt x="169" y="196"/>
                  <a:pt x="181" y="227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00000" y="1989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00000" y="29242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3933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19640" y="3573360"/>
            <a:ext cx="2160360" cy="576360"/>
          </a:xfrm>
          <a:prstGeom prst="wedgeEllipseCallout">
            <a:avLst>
              <a:gd name="adj1" fmla="val -92467"/>
              <a:gd name="adj2" fmla="val 13319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35280" y="2637000"/>
            <a:ext cx="2160720" cy="576000"/>
          </a:xfrm>
          <a:prstGeom prst="wedgeEllipseCallout">
            <a:avLst>
              <a:gd name="adj1" fmla="val -105254"/>
              <a:gd name="adj2" fmla="val 10206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7812000" y="5877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07640" y="115920"/>
            <a:ext cx="8877240" cy="6578280"/>
            <a:chOff x="107640" y="115920"/>
            <a:chExt cx="8877240" cy="6578280"/>
          </a:xfrm>
        </p:grpSpPr>
        <p:sp>
          <p:nvSpPr>
            <p:cNvPr id="219" name=""/>
            <p:cNvSpPr/>
            <p:nvPr/>
          </p:nvSpPr>
          <p:spPr>
            <a:xfrm>
              <a:off x="567360" y="142560"/>
              <a:ext cx="79837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6600" y="6680520"/>
              <a:ext cx="79581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945640" y="571320"/>
              <a:ext cx="1440" cy="565380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0200" y="571320"/>
              <a:ext cx="26280" cy="565380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0200" y="6212160"/>
              <a:ext cx="446040" cy="4820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8538480" y="6198480"/>
              <a:ext cx="446400" cy="4820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rot="16200000">
              <a:off x="8519760" y="107280"/>
              <a:ext cx="455400" cy="4726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5400000">
              <a:off x="116280" y="106920"/>
              <a:ext cx="455400" cy="4726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900000" y="260280"/>
            <a:ext cx="7704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треугольнике АВС известны длины сторон АВ и ВС. Чтобы найти сторону АС, необходимо знать величину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19280" y="1989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гла 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19280" y="2924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гла 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19280" y="393372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гла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0" y="2405160"/>
            <a:ext cx="3529080" cy="2896920"/>
            <a:chOff x="4572000" y="2405160"/>
            <a:chExt cx="3529080" cy="2896920"/>
          </a:xfrm>
        </p:grpSpPr>
        <p:sp>
          <p:nvSpPr>
            <p:cNvPr id="232" name=""/>
            <p:cNvSpPr/>
            <p:nvPr/>
          </p:nvSpPr>
          <p:spPr>
            <a:xfrm>
              <a:off x="4572000" y="456588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24720" y="240516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524720" y="478152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29200" y="2955960"/>
              <a:ext cx="2706840" cy="1809720"/>
            </a:xfrm>
            <a:custGeom>
              <a:avLst/>
              <a:gdLst/>
              <a:ahLst/>
              <a:rect l="l" t="t" r="r" b="b"/>
              <a:pathLst>
                <a:path w="1705" h="1140">
                  <a:moveTo>
                    <a:pt x="0" y="1056"/>
                  </a:moveTo>
                  <a:lnTo>
                    <a:pt x="560" y="0"/>
                  </a:lnTo>
                  <a:lnTo>
                    <a:pt x="1705" y="1140"/>
                  </a:lnTo>
                  <a:lnTo>
                    <a:pt x="0" y="105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276720" y="1773360"/>
            <a:ext cx="1944720" cy="720720"/>
          </a:xfrm>
          <a:prstGeom prst="wedgeEllipseCallout">
            <a:avLst>
              <a:gd name="adj1" fmla="val -92856"/>
              <a:gd name="adj2" fmla="val 62555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334152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84720" y="456552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47920" y="4637520"/>
            <a:ext cx="2723040" cy="141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32440" y="2982960"/>
            <a:ext cx="888840" cy="1650960"/>
          </a:xfrm>
          <a:custGeom>
            <a:avLst/>
            <a:gdLst/>
            <a:ahLst/>
            <a:rect l="l" t="t" r="r" b="b"/>
            <a:pathLst>
              <a:path w="560" h="1040">
                <a:moveTo>
                  <a:pt x="0" y="1040"/>
                </a:moveTo>
                <a:lnTo>
                  <a:pt x="56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84720" y="587700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631200" y="33577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1480" y="20952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ffff"/>
            </a:gs>
            <a:gs pos="50000">
              <a:srgbClr val="ffffff"/>
            </a:gs>
            <a:gs pos="100000">
              <a:srgbClr val="b9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547640" y="11970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58920" y="4076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58920" y="2925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58920" y="1917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40360" y="3789360"/>
            <a:ext cx="1944720" cy="720720"/>
          </a:xfrm>
          <a:prstGeom prst="wedgeEllipseCallout">
            <a:avLst>
              <a:gd name="adj1" fmla="val -120532"/>
              <a:gd name="adj2" fmla="val 114319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80000" y="1341360"/>
            <a:ext cx="2160720" cy="576360"/>
          </a:xfrm>
          <a:prstGeom prst="wedgeEllipseCallout">
            <a:avLst>
              <a:gd name="adj1" fmla="val -97023"/>
              <a:gd name="adj2" fmla="val 13319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84720" y="2421000"/>
            <a:ext cx="2160720" cy="576360"/>
          </a:xfrm>
          <a:prstGeom prst="wedgeEllipseCallout">
            <a:avLst>
              <a:gd name="adj1" fmla="val -117597"/>
              <a:gd name="adj2" fmla="val 14173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7812000" y="5877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07640" y="115920"/>
            <a:ext cx="8877240" cy="6578280"/>
            <a:chOff x="107640" y="115920"/>
            <a:chExt cx="8877240" cy="6578280"/>
          </a:xfrm>
        </p:grpSpPr>
        <p:sp>
          <p:nvSpPr>
            <p:cNvPr id="253" name=""/>
            <p:cNvSpPr/>
            <p:nvPr/>
          </p:nvSpPr>
          <p:spPr>
            <a:xfrm>
              <a:off x="567360" y="142560"/>
              <a:ext cx="79837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6600" y="6680520"/>
              <a:ext cx="79581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945640" y="571320"/>
              <a:ext cx="1440" cy="565380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0200" y="571320"/>
              <a:ext cx="26280" cy="565380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0200" y="6212160"/>
              <a:ext cx="446040" cy="4820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8538480" y="6198480"/>
              <a:ext cx="446400" cy="4820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rot="16200000">
              <a:off x="8519760" y="107280"/>
              <a:ext cx="455400" cy="4726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116280" y="106920"/>
              <a:ext cx="455400" cy="4726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900000" y="62064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угольник со сторонами 5, 6 и 7 с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79640" y="1844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ямоугольны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04920" y="4976640"/>
                <a:ext cx="24606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1671120" y="49417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2743200" y="5160960"/>
                <a:ext cx="61088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треугольник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строугольный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1979640" y="29257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упоугольны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050920" y="4076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роуголь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84720" y="587700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2360" y="61920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ffff"/>
            </a:gs>
            <a:gs pos="50000">
              <a:srgbClr val="ffffff"/>
            </a:gs>
            <a:gs pos="100000">
              <a:srgbClr val="b9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258920" y="5013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58920" y="37162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58920" y="2421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32000" y="4724280"/>
            <a:ext cx="2160720" cy="720720"/>
          </a:xfrm>
          <a:prstGeom prst="wedgeEllipseCallout">
            <a:avLst>
              <a:gd name="adj1" fmla="val -81740"/>
              <a:gd name="adj2" fmla="val 8259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03640" y="2060640"/>
            <a:ext cx="2160360" cy="576360"/>
          </a:xfrm>
          <a:prstGeom prst="wedgeEllipseCallout">
            <a:avLst>
              <a:gd name="adj1" fmla="val -72925"/>
              <a:gd name="adj2" fmla="val 111157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32000" y="3500280"/>
            <a:ext cx="2160720" cy="576360"/>
          </a:xfrm>
          <a:prstGeom prst="wedgeEllipseCallout">
            <a:avLst>
              <a:gd name="adj1" fmla="val -75277"/>
              <a:gd name="adj2" fmla="val 97657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7885080" y="595008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07640" y="115920"/>
            <a:ext cx="8877240" cy="6578280"/>
            <a:chOff x="107640" y="115920"/>
            <a:chExt cx="8877240" cy="6578280"/>
          </a:xfrm>
        </p:grpSpPr>
        <p:sp>
          <p:nvSpPr>
            <p:cNvPr id="278" name=""/>
            <p:cNvSpPr/>
            <p:nvPr/>
          </p:nvSpPr>
          <p:spPr>
            <a:xfrm>
              <a:off x="567360" y="142560"/>
              <a:ext cx="79837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6600" y="6680520"/>
              <a:ext cx="79581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945640" y="571320"/>
              <a:ext cx="1440" cy="565380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200" y="571320"/>
              <a:ext cx="26280" cy="565380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0200" y="6212160"/>
              <a:ext cx="446040" cy="4820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8538480" y="6198480"/>
              <a:ext cx="446400" cy="4820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rot="16200000">
              <a:off x="8519760" y="107280"/>
              <a:ext cx="455400" cy="4726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5400000">
              <a:off x="116280" y="106920"/>
              <a:ext cx="455400" cy="4726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55640" y="404640"/>
            <a:ext cx="7704000" cy="1373760"/>
            <a:chOff x="755640" y="404640"/>
            <a:chExt cx="7704000" cy="1373760"/>
          </a:xfrm>
        </p:grpSpPr>
        <p:sp>
          <p:nvSpPr>
            <p:cNvPr id="287" name=""/>
            <p:cNvSpPr/>
            <p:nvPr/>
          </p:nvSpPr>
          <p:spPr>
            <a:xfrm>
              <a:off x="755640" y="404640"/>
              <a:ext cx="7704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В треугольнике АВС         А = 3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   ВС = 3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Радиус описанной около      АВС окружности равен: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4716360" y="471600"/>
                  <a:ext cx="432000" cy="3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5280120" y="907920"/>
                  <a:ext cx="31428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0" name=""/>
          <p:cNvSpPr/>
          <p:nvPr/>
        </p:nvSpPr>
        <p:spPr>
          <a:xfrm>
            <a:off x="1908000" y="242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,5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835280" y="5013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909440" y="3716280"/>
            <a:ext cx="824040" cy="520560"/>
            <a:chOff x="1909440" y="3716280"/>
            <a:chExt cx="824040" cy="520560"/>
          </a:xfrm>
        </p:grpSpPr>
        <p:sp>
          <p:nvSpPr>
            <p:cNvPr id="293" name=""/>
            <p:cNvSpPr/>
            <p:nvPr/>
          </p:nvSpPr>
          <p:spPr>
            <a:xfrm>
              <a:off x="1909440" y="3716280"/>
              <a:ext cx="82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2</a:t>
              </a:r>
              <a:r>
                <a:rPr b="1" lang="en-US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    </a:t>
              </a:r>
              <a:r>
                <a:rPr b="1" lang="ru-RU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3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70080" y="3757320"/>
              <a:ext cx="355680" cy="363600"/>
            </a:xfrm>
            <a:custGeom>
              <a:avLst/>
              <a:gdLst/>
              <a:ahLst/>
              <a:rect l="l" t="t" r="r" b="b"/>
              <a:pathLst>
                <a:path w="224" h="229">
                  <a:moveTo>
                    <a:pt x="0" y="52"/>
                  </a:moveTo>
                  <a:lnTo>
                    <a:pt x="27" y="22"/>
                  </a:lnTo>
                  <a:lnTo>
                    <a:pt x="60" y="229"/>
                  </a:lnTo>
                  <a:lnTo>
                    <a:pt x="77" y="0"/>
                  </a:lnTo>
                  <a:lnTo>
                    <a:pt x="224" y="1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724360" y="1557360"/>
                <a:ext cx="27068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∠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796000" y="3068640"/>
                <a:ext cx="267156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5940360" y="4724280"/>
                <a:ext cx="15541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6012000" y="5734080"/>
                <a:ext cx="1277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2843280" y="5950080"/>
            <a:ext cx="1727280" cy="57600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64746" h="21600">
                <a:moveTo>
                  <a:pt x="0" y="0"/>
                </a:moveTo>
                <a:lnTo>
                  <a:pt x="64746" y="0"/>
                </a:lnTo>
                <a:lnTo>
                  <a:pt x="64746" y="21600"/>
                </a:lnTo>
                <a:lnTo>
                  <a:pt x="0" y="21600"/>
                </a:lnTo>
                <a:close/>
              </a:path>
              <a:path fill="lightenLess" w="64746" h="21600">
                <a:moveTo>
                  <a:pt x="0" y="0"/>
                </a:moveTo>
                <a:lnTo>
                  <a:pt x="64746" y="0"/>
                </a:lnTo>
                <a:lnTo>
                  <a:pt x="63346" y="1400"/>
                </a:lnTo>
                <a:lnTo>
                  <a:pt x="1400" y="1400"/>
                </a:lnTo>
                <a:close/>
              </a:path>
              <a:path fill="darken" w="64746" h="21600">
                <a:moveTo>
                  <a:pt x="64746" y="0"/>
                </a:moveTo>
                <a:lnTo>
                  <a:pt x="64746" y="21600"/>
                </a:lnTo>
                <a:lnTo>
                  <a:pt x="63346" y="20200"/>
                </a:lnTo>
                <a:lnTo>
                  <a:pt x="63346" y="1400"/>
                </a:lnTo>
                <a:close/>
              </a:path>
              <a:path fill="darkenLess" w="64746" h="21600">
                <a:moveTo>
                  <a:pt x="64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6" y="20200"/>
                </a:lnTo>
                <a:close/>
              </a:path>
              <a:path fill="lighten" w="64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4000" y="38880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ffff"/>
            </a:gs>
            <a:gs pos="50000">
              <a:srgbClr val="ffffff"/>
            </a:gs>
            <a:gs pos="100000">
              <a:srgbClr val="b9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258920" y="3573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58920" y="2276640"/>
            <a:ext cx="360360" cy="502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2920"/>
              <a:gd name="textAreaBottom" fmla="*/ 479880 h 50292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7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7"/>
                </a:lnTo>
                <a:lnTo>
                  <a:pt x="20200" y="28737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58920" y="4797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16360" y="4869000"/>
            <a:ext cx="2160360" cy="576000"/>
          </a:xfrm>
          <a:prstGeom prst="wedgeEllipseCallout">
            <a:avLst>
              <a:gd name="adj1" fmla="val -105472"/>
              <a:gd name="adj2" fmla="val 49449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59280" y="3213000"/>
            <a:ext cx="1944360" cy="720720"/>
          </a:xfrm>
          <a:prstGeom prst="wedgeEllipseCallout">
            <a:avLst>
              <a:gd name="adj1" fmla="val -89592"/>
              <a:gd name="adj2" fmla="val 88768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2205000"/>
            <a:ext cx="2160360" cy="576360"/>
          </a:xfrm>
          <a:prstGeom prst="wedgeEllipseCallout">
            <a:avLst>
              <a:gd name="adj1" fmla="val -95259"/>
              <a:gd name="adj2" fmla="val 7341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7812000" y="5877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07640" y="115920"/>
            <a:ext cx="8877240" cy="6578280"/>
            <a:chOff x="107640" y="115920"/>
            <a:chExt cx="8877240" cy="6578280"/>
          </a:xfrm>
        </p:grpSpPr>
        <p:sp>
          <p:nvSpPr>
            <p:cNvPr id="309" name=""/>
            <p:cNvSpPr/>
            <p:nvPr/>
          </p:nvSpPr>
          <p:spPr>
            <a:xfrm>
              <a:off x="567360" y="142560"/>
              <a:ext cx="79837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6600" y="6680520"/>
              <a:ext cx="79581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945640" y="571320"/>
              <a:ext cx="1440" cy="565380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0200" y="571320"/>
              <a:ext cx="26280" cy="565380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60200" y="6212160"/>
              <a:ext cx="446040" cy="4820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538480" y="6198480"/>
              <a:ext cx="446400" cy="4820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rot="16200000">
              <a:off x="8519760" y="107280"/>
              <a:ext cx="455400" cy="4726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5400000">
              <a:off x="116280" y="106920"/>
              <a:ext cx="455400" cy="4726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863640" y="404640"/>
            <a:ext cx="8388360" cy="1281960"/>
            <a:chOff x="863640" y="404640"/>
            <a:chExt cx="8388360" cy="1281960"/>
          </a:xfrm>
        </p:grpSpPr>
        <p:sp>
          <p:nvSpPr>
            <p:cNvPr id="318" name=""/>
            <p:cNvSpPr/>
            <p:nvPr/>
          </p:nvSpPr>
          <p:spPr>
            <a:xfrm>
              <a:off x="863640" y="404640"/>
              <a:ext cx="838836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Если в треугольнике АВС        А = 48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,      В = 7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то наибольшей стороной треугольника является сторона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9" name=""/>
                <p:cNvSpPr txBox="1"/>
                <p:nvPr/>
              </p:nvSpPr>
              <p:spPr>
                <a:xfrm>
                  <a:off x="5265720" y="450720"/>
                  <a:ext cx="432000" cy="3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6994440" y="450720"/>
                  <a:ext cx="432000" cy="3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1" name=""/>
          <p:cNvSpPr/>
          <p:nvPr/>
        </p:nvSpPr>
        <p:spPr>
          <a:xfrm>
            <a:off x="1763640" y="22766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ВС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763640" y="3645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А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763640" y="479736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А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003640" y="1341360"/>
            <a:ext cx="3673800" cy="3689280"/>
            <a:chOff x="5003640" y="1341360"/>
            <a:chExt cx="3673800" cy="3689280"/>
          </a:xfrm>
        </p:grpSpPr>
        <p:sp>
          <p:nvSpPr>
            <p:cNvPr id="325" name=""/>
            <p:cNvSpPr/>
            <p:nvPr/>
          </p:nvSpPr>
          <p:spPr>
            <a:xfrm>
              <a:off x="5435640" y="1773360"/>
              <a:ext cx="2665440" cy="2881080"/>
            </a:xfrm>
            <a:custGeom>
              <a:avLst/>
              <a:gdLst/>
              <a:ahLst/>
              <a:rect l="l" t="t" r="r" b="b"/>
              <a:pathLst>
                <a:path w="1679" h="1815">
                  <a:moveTo>
                    <a:pt x="0" y="1316"/>
                  </a:moveTo>
                  <a:lnTo>
                    <a:pt x="726" y="0"/>
                  </a:lnTo>
                  <a:lnTo>
                    <a:pt x="1679" y="1815"/>
                  </a:lnTo>
                  <a:lnTo>
                    <a:pt x="0" y="131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003640" y="364644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516720" y="134136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101080" y="451008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08720" y="35481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00720" y="210816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076720" y="5013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(4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7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16720" y="47260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524720" y="50608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6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08720" y="40784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578640" y="1778040"/>
            <a:ext cx="1522440" cy="2876400"/>
          </a:xfrm>
          <a:custGeom>
            <a:avLst/>
            <a:gdLst/>
            <a:ahLst/>
            <a:rect l="l" t="t" r="r" b="b"/>
            <a:pathLst>
              <a:path w="959" h="1812">
                <a:moveTo>
                  <a:pt x="0" y="0"/>
                </a:moveTo>
                <a:lnTo>
                  <a:pt x="959" y="18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84720" y="587700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42800" y="37620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0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ffff"/>
            </a:gs>
            <a:gs pos="50000">
              <a:srgbClr val="ffffff"/>
            </a:gs>
            <a:gs pos="100000">
              <a:srgbClr val="b9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79280" y="5075280"/>
            <a:ext cx="892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ороны треугольника пропорциональ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нусам прилежащих уг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79280" y="3121200"/>
            <a:ext cx="892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ороны треугольника пропорциональ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иволежащим угл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9280" y="1403280"/>
            <a:ext cx="892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ороны треугольника пропорциональ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нусам противолежащих уг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27640" y="692280"/>
            <a:ext cx="1944720" cy="720720"/>
          </a:xfrm>
          <a:prstGeom prst="wedgeEllipseCallout">
            <a:avLst>
              <a:gd name="adj1" fmla="val -127060"/>
              <a:gd name="adj2" fmla="val 67180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916360" y="4570560"/>
            <a:ext cx="2160360" cy="576000"/>
          </a:xfrm>
          <a:prstGeom prst="wedgeEllipseCallout">
            <a:avLst>
              <a:gd name="adj1" fmla="val -114217"/>
              <a:gd name="adj2" fmla="val 47245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700360" y="2554200"/>
            <a:ext cx="2160720" cy="576360"/>
          </a:xfrm>
          <a:prstGeom prst="wedgeEllipseCallout">
            <a:avLst>
              <a:gd name="adj1" fmla="val -103050"/>
              <a:gd name="adj2" fmla="val 5799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" action="ppaction://hlinkshowjump?jump=nextslide"/>
          </p:cNvPr>
          <p:cNvSpPr/>
          <p:nvPr/>
        </p:nvSpPr>
        <p:spPr>
          <a:xfrm>
            <a:off x="7812000" y="5877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07640" y="115920"/>
            <a:ext cx="8877240" cy="6578280"/>
            <a:chOff x="107640" y="115920"/>
            <a:chExt cx="8877240" cy="6578280"/>
          </a:xfrm>
        </p:grpSpPr>
        <p:sp>
          <p:nvSpPr>
            <p:cNvPr id="346" name=""/>
            <p:cNvSpPr/>
            <p:nvPr/>
          </p:nvSpPr>
          <p:spPr>
            <a:xfrm>
              <a:off x="567360" y="142560"/>
              <a:ext cx="79837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6600" y="6680520"/>
              <a:ext cx="79581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945640" y="571320"/>
              <a:ext cx="1440" cy="565380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60200" y="571320"/>
              <a:ext cx="26280" cy="565380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60200" y="6212160"/>
              <a:ext cx="446040" cy="4820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8538480" y="6198480"/>
              <a:ext cx="446400" cy="4820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rot="16200000">
              <a:off x="8519760" y="107280"/>
              <a:ext cx="455400" cy="4726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5400000">
              <a:off x="116280" y="106920"/>
              <a:ext cx="455400" cy="4726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1908000" y="333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теореме синус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042920" y="14032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042920" y="30574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42920" y="50022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84360" y="33336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432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448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13:06:22Z</dcterms:created>
  <dc:creator>ADMINISTRATION</dc:creator>
  <dc:description/>
  <dc:language>en-US</dc:language>
  <cp:lastModifiedBy>Марина</cp:lastModifiedBy>
  <dcterms:modified xsi:type="dcterms:W3CDTF">2011-04-11T14:48:25Z</dcterms:modified>
  <cp:revision>137</cp:revision>
  <dc:subject/>
  <dc:title>Слайд 1</dc:title>
</cp:coreProperties>
</file>