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083-877C-48E2-82BD-11512D07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1F3-EC8B-49FB-963E-EDAA9BA2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57C-C3E3-4DF0-8F4B-D98ED7A1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9D6-0797-40A6-B44C-9EC009B3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76E-76AD-41D4-A469-A49D2367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444B-BA61-4E09-A0AF-9C0E636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87A6-04A8-451D-B7D6-B7D1B0E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97EA-7BDF-416B-8724-3DB073B7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1AD-89E5-495B-81D1-7E043B7F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6EF-529E-4D1C-AFF4-596CF13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38F-45C7-4C1A-A77F-2CA60F6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1A5-5118-4EB6-A08B-C8B9DCC3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C7A-278B-455C-86C4-A3B08F7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9619-DB39-4C05-8CF9-BCAFA72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8D4D-DEE5-4090-B106-672B936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8E16-C11D-429B-A063-D67A698D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FDCD-0078-4134-ADBC-AC064ADA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D66-070E-42D3-91DC-C4D93E1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460-4F93-4C4B-8357-A856B65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E26-E763-4A10-8BDC-F074555C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52A-7B7D-4D29-B3A8-F08AFA0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A1B-0192-4DF3-B23A-2B992BB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D1E-D9F1-483E-87C9-09596A9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C2C-19E8-46BA-9866-A8301480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CE1-D2B6-4017-8AFC-17C1840355A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7D9-A1B4-4B08-915F-939832495D1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19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23.xml"/><Relationship Id="rId6" Type="http://schemas.openxmlformats.org/officeDocument/2006/relationships/slide" Target="slide26.xm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1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71640" y="1125360"/>
            <a:ext cx="74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Задачи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на  готовых  чертежах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5157720"/>
            <a:ext cx="50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690560" y="549360"/>
            <a:ext cx="5734080" cy="4108680"/>
            <a:chOff x="1690560" y="549360"/>
            <a:chExt cx="5734080" cy="4108680"/>
          </a:xfrm>
        </p:grpSpPr>
        <p:sp>
          <p:nvSpPr>
            <p:cNvPr id="329" name=""/>
            <p:cNvSpPr/>
            <p:nvPr/>
          </p:nvSpPr>
          <p:spPr>
            <a:xfrm rot="5400000">
              <a:off x="3383280" y="8640"/>
              <a:ext cx="1440000" cy="3816360"/>
            </a:xfrm>
            <a:custGeom>
              <a:avLst/>
              <a:gdLst/>
              <a:ahLst/>
              <a:rect l="l" t="t" r="r" b="b"/>
              <a:pathLst>
                <a:path w="907" h="2404">
                  <a:moveTo>
                    <a:pt x="907" y="2404"/>
                  </a:moveTo>
                  <a:lnTo>
                    <a:pt x="0" y="907"/>
                  </a:lnTo>
                  <a:lnTo>
                    <a:pt x="907" y="0"/>
                  </a:lnTo>
                  <a:lnTo>
                    <a:pt x="907" y="24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40096">
                    <a:alpha val="79215"/>
                  </a:srgbClr>
                </a:gs>
              </a:gsLst>
              <a:lin ang="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6200000">
              <a:off x="3383640" y="1447920"/>
              <a:ext cx="1439640" cy="3816360"/>
            </a:xfrm>
            <a:custGeom>
              <a:avLst/>
              <a:gdLst/>
              <a:ahLst/>
              <a:rect l="l" t="t" r="r" b="b"/>
              <a:pathLst>
                <a:path w="907" h="2404">
                  <a:moveTo>
                    <a:pt x="907" y="2404"/>
                  </a:moveTo>
                  <a:lnTo>
                    <a:pt x="0" y="907"/>
                  </a:lnTo>
                  <a:lnTo>
                    <a:pt x="907" y="0"/>
                  </a:lnTo>
                  <a:lnTo>
                    <a:pt x="907" y="24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5640" y="2637000"/>
              <a:ext cx="48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1840" y="2133720"/>
              <a:ext cx="173016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641840" y="2133360"/>
              <a:ext cx="173016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54280" y="177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54280" y="2925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90560" y="220500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82920" y="549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82920" y="407664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46920" y="198900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Д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59280" y="3500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003280" y="1700280"/>
              <a:ext cx="360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788000" y="4869000"/>
            <a:ext cx="4211640" cy="736200"/>
            <a:chOff x="4788000" y="4869000"/>
            <a:chExt cx="4211640" cy="736200"/>
          </a:xfrm>
        </p:grpSpPr>
        <p:sp>
          <p:nvSpPr>
            <p:cNvPr id="343" name=""/>
            <p:cNvSpPr/>
            <p:nvPr/>
          </p:nvSpPr>
          <p:spPr>
            <a:xfrm>
              <a:off x="4788000" y="5084640"/>
              <a:ext cx="42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В=ВС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88000" y="4869000"/>
              <a:ext cx="331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1948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403280" y="476280"/>
            <a:ext cx="5725800" cy="4037400"/>
            <a:chOff x="1403280" y="476280"/>
            <a:chExt cx="5725800" cy="4037400"/>
          </a:xfrm>
        </p:grpSpPr>
        <p:grpSp>
          <p:nvGrpSpPr>
            <p:cNvPr id="349" name=""/>
            <p:cNvGrpSpPr/>
            <p:nvPr/>
          </p:nvGrpSpPr>
          <p:grpSpPr>
            <a:xfrm>
              <a:off x="1977840" y="836640"/>
              <a:ext cx="4680360" cy="3240000"/>
              <a:chOff x="1977840" y="836640"/>
              <a:chExt cx="4680360" cy="3240000"/>
            </a:xfrm>
          </p:grpSpPr>
          <p:sp>
            <p:nvSpPr>
              <p:cNvPr id="350" name=""/>
              <p:cNvSpPr/>
              <p:nvPr/>
            </p:nvSpPr>
            <p:spPr>
              <a:xfrm rot="10800000">
                <a:off x="1977840" y="909360"/>
                <a:ext cx="3887640" cy="3167280"/>
              </a:xfrm>
              <a:custGeom>
                <a:avLst/>
                <a:gdLst/>
                <a:ahLst/>
                <a:rect l="l" t="t" r="r" b="b"/>
                <a:pathLst>
                  <a:path w="2178" h="1678">
                    <a:moveTo>
                      <a:pt x="0" y="0"/>
                    </a:moveTo>
                    <a:lnTo>
                      <a:pt x="1769" y="0"/>
                    </a:lnTo>
                    <a:lnTo>
                      <a:pt x="2178" y="167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fefefe"/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10800000">
                <a:off x="2696760" y="836640"/>
                <a:ext cx="3961080" cy="3240000"/>
              </a:xfrm>
              <a:custGeom>
                <a:avLst/>
                <a:gdLst/>
                <a:ahLst/>
                <a:rect l="l" t="t" r="r" b="b"/>
                <a:pathLst>
                  <a:path w="2178" h="1678">
                    <a:moveTo>
                      <a:pt x="0" y="0"/>
                    </a:moveTo>
                    <a:lnTo>
                      <a:pt x="1769" y="0"/>
                    </a:lnTo>
                    <a:lnTo>
                      <a:pt x="2178" y="167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99">
                      <a:alpha val="60392"/>
                    </a:srgbClr>
                  </a:gs>
                  <a:gs pos="100000">
                    <a:srgbClr val="ffffff">
                      <a:alpha val="41176"/>
                    </a:srgbClr>
                  </a:gs>
                </a:gsLst>
                <a:lin ang="108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41560" y="3932280"/>
              <a:ext cx="4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Д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7920" y="476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03280" y="47628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30720" y="39322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0920" y="249228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38920" y="2492280"/>
              <a:ext cx="57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76360" y="3357000"/>
            <a:ext cx="2015640" cy="14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92" y="11"/>
                </a:moveTo>
                <a:arcTo wR="10800" hR="10800" stAng="-5243183" swAng="5243183"/>
                <a:lnTo>
                  <a:pt x="10800" y="10800"/>
                </a:lnTo>
                <a:close/>
              </a:path>
              <a:path fill="none" w="21600" h="21600">
                <a:moveTo>
                  <a:pt x="11292" y="11"/>
                </a:moveTo>
                <a:arcTo wR="10800" hR="10800" stAng="-5243183" swAng="524318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076000" y="3357000"/>
            <a:ext cx="2015640" cy="14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92" y="11"/>
                </a:moveTo>
                <a:arcTo wR="10800" hR="10800" stAng="-5243183" swAng="5243183"/>
                <a:lnTo>
                  <a:pt x="10800" y="10800"/>
                </a:lnTo>
                <a:close/>
              </a:path>
              <a:path fill="none" w="21600" h="21600">
                <a:moveTo>
                  <a:pt x="11292" y="11"/>
                </a:moveTo>
                <a:arcTo wR="10800" hR="10800" stAng="-5243183" swAng="524318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670560" y="5303880"/>
            <a:ext cx="44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ДВС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ДА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50133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2916360" y="1268280"/>
            <a:ext cx="3310920" cy="3240000"/>
            <a:chOff x="2916360" y="1268280"/>
            <a:chExt cx="3310920" cy="3240000"/>
          </a:xfrm>
        </p:grpSpPr>
        <p:sp>
          <p:nvSpPr>
            <p:cNvPr id="365" name=""/>
            <p:cNvSpPr/>
            <p:nvPr/>
          </p:nvSpPr>
          <p:spPr>
            <a:xfrm>
              <a:off x="2916360" y="1268280"/>
              <a:ext cx="3310920" cy="32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55d3">
                    <a:alpha val="4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16360" y="2888280"/>
              <a:ext cx="3310920" cy="14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6360" y="1350360"/>
              <a:ext cx="3310920" cy="3077280"/>
            </a:xfrm>
            <a:custGeom>
              <a:avLst/>
              <a:gdLst/>
              <a:ahLst/>
              <a:rect l="l" t="t" r="r" b="b"/>
              <a:pathLst>
                <a:path w="1814" h="1722">
                  <a:moveTo>
                    <a:pt x="0" y="861"/>
                  </a:moveTo>
                  <a:lnTo>
                    <a:pt x="1814" y="861"/>
                  </a:lnTo>
                  <a:lnTo>
                    <a:pt x="589" y="0"/>
                  </a:lnTo>
                  <a:lnTo>
                    <a:pt x="1171" y="1722"/>
                  </a:lnTo>
                  <a:lnTo>
                    <a:pt x="0" y="861"/>
                  </a:lnTo>
                  <a:close/>
                </a:path>
              </a:pathLst>
            </a:custGeom>
            <a:solidFill>
              <a:srgbClr val="ffff66">
                <a:alpha val="17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195640" y="2421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6922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27640" y="2492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48360" y="4292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2205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924360" y="5373720"/>
            <a:ext cx="4537080" cy="797040"/>
            <a:chOff x="3924360" y="5373720"/>
            <a:chExt cx="4537080" cy="797040"/>
          </a:xfrm>
        </p:grpSpPr>
        <p:sp>
          <p:nvSpPr>
            <p:cNvPr id="374" name=""/>
            <p:cNvSpPr/>
            <p:nvPr/>
          </p:nvSpPr>
          <p:spPr>
            <a:xfrm>
              <a:off x="3924360" y="5373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029120" y="5518080"/>
              <a:ext cx="4428360" cy="652680"/>
              <a:chOff x="4029120" y="5518080"/>
              <a:chExt cx="4428360" cy="652680"/>
            </a:xfrm>
          </p:grpSpPr>
          <p:sp>
            <p:nvSpPr>
              <p:cNvPr id="376" name=""/>
              <p:cNvSpPr/>
              <p:nvPr/>
            </p:nvSpPr>
            <p:spPr>
              <a:xfrm>
                <a:off x="4029120" y="560052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6253200" y="551808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8" name=""/>
              <p:cNvSpPr/>
              <p:nvPr/>
            </p:nvSpPr>
            <p:spPr>
              <a:xfrm>
                <a:off x="6756480" y="5589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А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7477200" y="5518080"/>
                <a:ext cx="980280" cy="652680"/>
                <a:chOff x="7477200" y="551808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80" name=""/>
                    <p:cNvSpPr txBox="1"/>
                    <p:nvPr/>
                  </p:nvSpPr>
                  <p:spPr>
                    <a:xfrm>
                      <a:off x="7477200" y="551808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1" name=""/>
                <p:cNvSpPr/>
                <p:nvPr/>
              </p:nvSpPr>
              <p:spPr>
                <a:xfrm>
                  <a:off x="7980120" y="558936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dd5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200840" y="3284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5720" y="620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30360" y="1413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00240" y="3573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3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584600">
            <a:off x="1785600" y="1886040"/>
            <a:ext cx="4686120" cy="2122560"/>
          </a:xfrm>
          <a:custGeom>
            <a:avLst/>
            <a:gdLst/>
            <a:ahLst/>
            <a:rect l="l" t="t" r="r" b="b"/>
            <a:pathLst>
              <a:path w="2952" h="1337">
                <a:moveTo>
                  <a:pt x="0" y="0"/>
                </a:moveTo>
                <a:lnTo>
                  <a:pt x="1133" y="1337"/>
                </a:lnTo>
                <a:lnTo>
                  <a:pt x="2952" y="90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584600">
            <a:off x="1743840" y="1410840"/>
            <a:ext cx="4824360" cy="2017800"/>
          </a:xfrm>
          <a:custGeom>
            <a:avLst/>
            <a:gdLst/>
            <a:ahLst/>
            <a:rect l="l" t="t" r="r" b="b"/>
            <a:pathLst>
              <a:path w="3039" h="1271">
                <a:moveTo>
                  <a:pt x="0" y="1271"/>
                </a:moveTo>
                <a:lnTo>
                  <a:pt x="1229" y="0"/>
                </a:lnTo>
                <a:lnTo>
                  <a:pt x="3039" y="545"/>
                </a:lnTo>
                <a:lnTo>
                  <a:pt x="0" y="1271"/>
                </a:lnTo>
                <a:close/>
              </a:path>
            </a:pathLst>
          </a:custGeom>
          <a:blipFill rotWithShape="0">
            <a:blip r:embed="rId2">
              <a:alphaModFix amt="76000"/>
            </a:blip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 rot="10585200">
            <a:off x="1748520" y="1261080"/>
            <a:ext cx="9648000" cy="23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0584600">
            <a:off x="1756080" y="1123200"/>
            <a:ext cx="9359280" cy="273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417840" y="1527840"/>
            <a:ext cx="238320" cy="34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343320" y="3603600"/>
            <a:ext cx="345960" cy="239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588200" y="1815480"/>
            <a:ext cx="1932120" cy="204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81240" y="2859840"/>
            <a:ext cx="387000" cy="417240"/>
            <a:chOff x="3081240" y="2859840"/>
            <a:chExt cx="387000" cy="417240"/>
          </a:xfrm>
        </p:grpSpPr>
        <p:sp>
          <p:nvSpPr>
            <p:cNvPr id="397" name=""/>
            <p:cNvSpPr/>
            <p:nvPr/>
          </p:nvSpPr>
          <p:spPr>
            <a:xfrm flipH="1">
              <a:off x="3081240" y="2859840"/>
              <a:ext cx="24876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219480" y="2896560"/>
              <a:ext cx="24876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096000" y="2037600"/>
            <a:ext cx="358200" cy="477360"/>
            <a:chOff x="3096000" y="2037600"/>
            <a:chExt cx="358200" cy="477360"/>
          </a:xfrm>
        </p:grpSpPr>
        <p:sp>
          <p:nvSpPr>
            <p:cNvPr id="400" name=""/>
            <p:cNvSpPr/>
            <p:nvPr/>
          </p:nvSpPr>
          <p:spPr>
            <a:xfrm>
              <a:off x="3096000" y="2156040"/>
              <a:ext cx="27864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75560" y="2037600"/>
              <a:ext cx="278640" cy="35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832120" y="508464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Найт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4869000"/>
            <a:ext cx="57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6484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3635280" y="3933720"/>
            <a:ext cx="647640" cy="647640"/>
            <a:chOff x="3635280" y="3933720"/>
            <a:chExt cx="647640" cy="647640"/>
          </a:xfrm>
        </p:grpSpPr>
        <p:sp>
          <p:nvSpPr>
            <p:cNvPr id="407" name=""/>
            <p:cNvSpPr/>
            <p:nvPr/>
          </p:nvSpPr>
          <p:spPr>
            <a:xfrm>
              <a:off x="363528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">
              <a:hlinkClick r:id="rId1" action="ppaction://hlinksldjump"/>
            </p:cNvPr>
            <p:cNvSpPr/>
            <p:nvPr/>
          </p:nvSpPr>
          <p:spPr>
            <a:xfrm>
              <a:off x="377820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500720" y="3933720"/>
            <a:ext cx="647640" cy="647640"/>
            <a:chOff x="4500720" y="3933720"/>
            <a:chExt cx="647640" cy="647640"/>
          </a:xfrm>
        </p:grpSpPr>
        <p:sp>
          <p:nvSpPr>
            <p:cNvPr id="410" name=""/>
            <p:cNvSpPr/>
            <p:nvPr/>
          </p:nvSpPr>
          <p:spPr>
            <a:xfrm>
              <a:off x="45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1" name="">
              <a:hlinkClick r:id="rId2" action="ppaction://hlinksldjump"/>
            </p:cNvPr>
            <p:cNvSpPr/>
            <p:nvPr/>
          </p:nvSpPr>
          <p:spPr>
            <a:xfrm>
              <a:off x="46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435640" y="3933720"/>
            <a:ext cx="647640" cy="647640"/>
            <a:chOff x="5435640" y="3933720"/>
            <a:chExt cx="647640" cy="647640"/>
          </a:xfrm>
        </p:grpSpPr>
        <p:sp>
          <p:nvSpPr>
            <p:cNvPr id="413" name=""/>
            <p:cNvSpPr/>
            <p:nvPr/>
          </p:nvSpPr>
          <p:spPr>
            <a:xfrm>
              <a:off x="543564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4" name="">
              <a:hlinkClick r:id="rId3" action="ppaction://hlinksldjump"/>
            </p:cNvPr>
            <p:cNvSpPr/>
            <p:nvPr/>
          </p:nvSpPr>
          <p:spPr>
            <a:xfrm>
              <a:off x="557856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300720" y="3933720"/>
            <a:ext cx="647640" cy="647640"/>
            <a:chOff x="6300720" y="3933720"/>
            <a:chExt cx="647640" cy="647640"/>
          </a:xfrm>
        </p:grpSpPr>
        <p:sp>
          <p:nvSpPr>
            <p:cNvPr id="416" name=""/>
            <p:cNvSpPr/>
            <p:nvPr/>
          </p:nvSpPr>
          <p:spPr>
            <a:xfrm>
              <a:off x="63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7" name="">
              <a:hlinkClick r:id="rId4" action="ppaction://hlinksldjump"/>
            </p:cNvPr>
            <p:cNvSpPr/>
            <p:nvPr/>
          </p:nvSpPr>
          <p:spPr>
            <a:xfrm>
              <a:off x="64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635280" y="4941720"/>
            <a:ext cx="647640" cy="647640"/>
            <a:chOff x="3635280" y="4941720"/>
            <a:chExt cx="647640" cy="647640"/>
          </a:xfrm>
        </p:grpSpPr>
        <p:sp>
          <p:nvSpPr>
            <p:cNvPr id="419" name=""/>
            <p:cNvSpPr/>
            <p:nvPr/>
          </p:nvSpPr>
          <p:spPr>
            <a:xfrm>
              <a:off x="363528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0" name="">
              <a:hlinkClick r:id="rId5" action="ppaction://hlinksldjump"/>
            </p:cNvPr>
            <p:cNvSpPr/>
            <p:nvPr/>
          </p:nvSpPr>
          <p:spPr>
            <a:xfrm>
              <a:off x="377820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500720" y="4941720"/>
            <a:ext cx="647640" cy="647640"/>
            <a:chOff x="4500720" y="4941720"/>
            <a:chExt cx="647640" cy="647640"/>
          </a:xfrm>
        </p:grpSpPr>
        <p:sp>
          <p:nvSpPr>
            <p:cNvPr id="422" name=""/>
            <p:cNvSpPr/>
            <p:nvPr/>
          </p:nvSpPr>
          <p:spPr>
            <a:xfrm>
              <a:off x="45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3" name="">
              <a:hlinkClick r:id="rId6" action="ppaction://hlinksldjump"/>
            </p:cNvPr>
            <p:cNvSpPr/>
            <p:nvPr/>
          </p:nvSpPr>
          <p:spPr>
            <a:xfrm>
              <a:off x="46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164360" y="3933720"/>
            <a:ext cx="647640" cy="647640"/>
            <a:chOff x="7164360" y="3933720"/>
            <a:chExt cx="647640" cy="647640"/>
          </a:xfrm>
        </p:grpSpPr>
        <p:sp>
          <p:nvSpPr>
            <p:cNvPr id="425" name=""/>
            <p:cNvSpPr/>
            <p:nvPr/>
          </p:nvSpPr>
          <p:spPr>
            <a:xfrm>
              <a:off x="716436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6" name="">
              <a:hlinkClick r:id="rId7" action="ppaction://hlinksldjump"/>
            </p:cNvPr>
            <p:cNvSpPr/>
            <p:nvPr/>
          </p:nvSpPr>
          <p:spPr>
            <a:xfrm>
              <a:off x="730728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435640" y="4941720"/>
            <a:ext cx="647640" cy="647640"/>
            <a:chOff x="5435640" y="4941720"/>
            <a:chExt cx="647640" cy="647640"/>
          </a:xfrm>
        </p:grpSpPr>
        <p:sp>
          <p:nvSpPr>
            <p:cNvPr id="428" name=""/>
            <p:cNvSpPr/>
            <p:nvPr/>
          </p:nvSpPr>
          <p:spPr>
            <a:xfrm>
              <a:off x="543564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9" name="">
              <a:hlinkClick r:id="rId8" action="ppaction://hlinksldjump"/>
            </p:cNvPr>
            <p:cNvSpPr/>
            <p:nvPr/>
          </p:nvSpPr>
          <p:spPr>
            <a:xfrm>
              <a:off x="557856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300720" y="4941720"/>
            <a:ext cx="647640" cy="647640"/>
            <a:chOff x="6300720" y="4941720"/>
            <a:chExt cx="647640" cy="647640"/>
          </a:xfrm>
        </p:grpSpPr>
        <p:sp>
          <p:nvSpPr>
            <p:cNvPr id="431" name=""/>
            <p:cNvSpPr/>
            <p:nvPr/>
          </p:nvSpPr>
          <p:spPr>
            <a:xfrm>
              <a:off x="63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2" name="">
              <a:hlinkClick r:id="rId9" action="ppaction://hlinksldjump"/>
            </p:cNvPr>
            <p:cNvSpPr/>
            <p:nvPr/>
          </p:nvSpPr>
          <p:spPr>
            <a:xfrm>
              <a:off x="64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164360" y="4941720"/>
            <a:ext cx="647640" cy="647640"/>
            <a:chOff x="7164360" y="4941720"/>
            <a:chExt cx="647640" cy="647640"/>
          </a:xfrm>
        </p:grpSpPr>
        <p:sp>
          <p:nvSpPr>
            <p:cNvPr id="434" name=""/>
            <p:cNvSpPr/>
            <p:nvPr/>
          </p:nvSpPr>
          <p:spPr>
            <a:xfrm>
              <a:off x="716436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5" name="">
              <a:hlinkClick r:id="rId10" action="ppaction://hlinksldjump"/>
            </p:cNvPr>
            <p:cNvSpPr/>
            <p:nvPr/>
          </p:nvSpPr>
          <p:spPr>
            <a:xfrm>
              <a:off x="7235640" y="50846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6" name=""/>
          <p:cNvSpPr txBox="1"/>
          <p:nvPr/>
        </p:nvSpPr>
        <p:spPr>
          <a:xfrm>
            <a:off x="900000" y="836640"/>
            <a:ext cx="6913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торо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ризнак  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635280" y="5734080"/>
            <a:ext cx="647640" cy="647640"/>
            <a:chOff x="3635280" y="5734080"/>
            <a:chExt cx="647640" cy="647640"/>
          </a:xfrm>
        </p:grpSpPr>
        <p:sp>
          <p:nvSpPr>
            <p:cNvPr id="439" name=""/>
            <p:cNvSpPr/>
            <p:nvPr/>
          </p:nvSpPr>
          <p:spPr>
            <a:xfrm>
              <a:off x="3635280" y="57340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0" name="">
              <a:hlinkClick r:id="rId11" action="ppaction://hlinksldjump"/>
            </p:cNvPr>
            <p:cNvSpPr/>
            <p:nvPr/>
          </p:nvSpPr>
          <p:spPr>
            <a:xfrm>
              <a:off x="3706560" y="58770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442" name=""/>
            <p:cNvSpPr/>
            <p:nvPr/>
          </p:nvSpPr>
          <p:spPr>
            <a:xfrm>
              <a:off x="2268360" y="2925360"/>
              <a:ext cx="3743280" cy="1295640"/>
            </a:xfrm>
            <a:custGeom>
              <a:avLst/>
              <a:gdLst/>
              <a:ahLst/>
              <a:rect l="l" t="t" r="r" b="b"/>
              <a:pathLst>
                <a:path w="2358" h="816">
                  <a:moveTo>
                    <a:pt x="0" y="816"/>
                  </a:moveTo>
                  <a:lnTo>
                    <a:pt x="1315" y="0"/>
                  </a:lnTo>
                  <a:lnTo>
                    <a:pt x="2358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2700000" y="1628640"/>
              <a:ext cx="3743280" cy="1295280"/>
            </a:xfrm>
            <a:custGeom>
              <a:avLst/>
              <a:gdLst/>
              <a:ahLst/>
              <a:rect l="l" t="t" r="r" b="b"/>
              <a:pathLst>
                <a:path w="2358" h="816">
                  <a:moveTo>
                    <a:pt x="0" y="816"/>
                  </a:moveTo>
                  <a:lnTo>
                    <a:pt x="1315" y="0"/>
                  </a:lnTo>
                  <a:lnTo>
                    <a:pt x="2358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348000" y="3357720"/>
            <a:ext cx="28728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92360" y="321300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03640" y="234936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2205000"/>
            <a:ext cx="287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87920" y="3932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1880" y="1268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35440" y="1268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91360" y="4005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6760" y="28526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2273600">
            <a:off x="5513040" y="1275120"/>
            <a:ext cx="57204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8" y="75"/>
                </a:moveTo>
                <a:arcTo wR="10800" hR="10800" stAng="-5805938" swAng="5519356"/>
                <a:lnTo>
                  <a:pt x="10800" y="10800"/>
                </a:lnTo>
                <a:close/>
              </a:path>
              <a:path fill="none" w="21600" h="21600">
                <a:moveTo>
                  <a:pt x="9528" y="75"/>
                </a:moveTo>
                <a:arcTo wR="10800" hR="10800" stAng="-5805938" swAng="551935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064400">
            <a:off x="2569680" y="3733560"/>
            <a:ext cx="57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82" y="11"/>
                </a:moveTo>
                <a:arcTo wR="10800" hR="10800" stAng="-5246521" swAng="4837487"/>
                <a:lnTo>
                  <a:pt x="10800" y="10800"/>
                </a:lnTo>
                <a:close/>
              </a:path>
              <a:path fill="none" w="21600" h="21600">
                <a:moveTo>
                  <a:pt x="11282" y="11"/>
                </a:moveTo>
                <a:arcTo wR="10800" hR="10800" stAng="-5246521" swAng="4837487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924360" y="4941720"/>
            <a:ext cx="4537080" cy="797040"/>
            <a:chOff x="3924360" y="4941720"/>
            <a:chExt cx="4537080" cy="797040"/>
          </a:xfrm>
        </p:grpSpPr>
        <p:sp>
          <p:nvSpPr>
            <p:cNvPr id="456" name=""/>
            <p:cNvSpPr/>
            <p:nvPr/>
          </p:nvSpPr>
          <p:spPr>
            <a:xfrm>
              <a:off x="3924360" y="4941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4029120" y="5086080"/>
              <a:ext cx="4428360" cy="652680"/>
              <a:chOff x="4029120" y="5086080"/>
              <a:chExt cx="4428360" cy="652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029120" y="516852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9" name=""/>
                  <p:cNvSpPr txBox="1"/>
                  <p:nvPr/>
                </p:nvSpPr>
                <p:spPr>
                  <a:xfrm>
                    <a:off x="6253200" y="508608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60" name=""/>
              <p:cNvSpPr/>
              <p:nvPr/>
            </p:nvSpPr>
            <p:spPr>
              <a:xfrm>
                <a:off x="6756480" y="5157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Д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7477200" y="5086080"/>
                <a:ext cx="980280" cy="652680"/>
                <a:chOff x="7477200" y="508608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62" name=""/>
                    <p:cNvSpPr txBox="1"/>
                    <p:nvPr/>
                  </p:nvSpPr>
                  <p:spPr>
                    <a:xfrm>
                      <a:off x="7477200" y="508608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63" name=""/>
                <p:cNvSpPr/>
                <p:nvPr/>
              </p:nvSpPr>
              <p:spPr>
                <a:xfrm>
                  <a:off x="7980120" y="515736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4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771920" y="260280"/>
            <a:ext cx="5778360" cy="4613760"/>
            <a:chOff x="1771920" y="260280"/>
            <a:chExt cx="5778360" cy="4613760"/>
          </a:xfrm>
        </p:grpSpPr>
        <p:sp>
          <p:nvSpPr>
            <p:cNvPr id="467" name=""/>
            <p:cNvSpPr/>
            <p:nvPr/>
          </p:nvSpPr>
          <p:spPr>
            <a:xfrm flipH="1">
              <a:off x="4714200" y="835200"/>
              <a:ext cx="2376360" cy="3673440"/>
            </a:xfrm>
            <a:custGeom>
              <a:avLst/>
              <a:gdLst/>
              <a:ahLst/>
              <a:rect l="l" t="t" r="r" b="b"/>
              <a:pathLst>
                <a:path w="1497" h="2314">
                  <a:moveTo>
                    <a:pt x="0" y="2314"/>
                  </a:moveTo>
                  <a:lnTo>
                    <a:pt x="1497" y="0"/>
                  </a:lnTo>
                  <a:lnTo>
                    <a:pt x="1497" y="1679"/>
                  </a:lnTo>
                  <a:lnTo>
                    <a:pt x="0" y="2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ff"/>
                </a:gs>
              </a:gsLst>
              <a:lin ang="81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40000" y="835200"/>
              <a:ext cx="2376360" cy="3673440"/>
            </a:xfrm>
            <a:custGeom>
              <a:avLst/>
              <a:gdLst/>
              <a:ahLst/>
              <a:rect l="l" t="t" r="r" b="b"/>
              <a:pathLst>
                <a:path w="1497" h="2314">
                  <a:moveTo>
                    <a:pt x="0" y="2314"/>
                  </a:moveTo>
                  <a:lnTo>
                    <a:pt x="1497" y="0"/>
                  </a:lnTo>
                  <a:lnTo>
                    <a:pt x="1497" y="1679"/>
                  </a:lnTo>
                  <a:lnTo>
                    <a:pt x="0" y="2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ff"/>
                </a:gs>
              </a:gsLst>
              <a:lin ang="81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0880" y="2852640"/>
              <a:ext cx="1828080" cy="182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22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22841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780000" y="2851200"/>
              <a:ext cx="182808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219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21967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66200" y="3068640"/>
              <a:ext cx="129744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994920" y="3068640"/>
              <a:ext cx="129852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0" y="16"/>
                  </a:moveTo>
                  <a:arcTo wR="10800" hR="10800" stAng="-5584761" swAng="5584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0" y="16"/>
                  </a:moveTo>
                  <a:arcTo wR="10800" hR="10800" stAng="-5584761" swAng="5584761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4284720" y="1126800"/>
              <a:ext cx="115200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97" y="205"/>
                  </a:moveTo>
                  <a:arcTo wR="10800" hR="10800" stAng="-4728319" swAng="51487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97" y="205"/>
                  </a:moveTo>
                  <a:arcTo wR="10800" hR="10800" stAng="-4728319" swAng="5148784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996000" y="1127520"/>
              <a:ext cx="1152000" cy="86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97" y="205"/>
                  </a:moveTo>
                  <a:arcTo wR="10800" hR="10800" stAng="-4728319" swAng="51476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97" y="205"/>
                  </a:moveTo>
                  <a:arcTo wR="10800" hR="10800" stAng="-4728319" swAng="5147669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71920" y="4292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10800" y="2602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10360" y="40766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96400" y="364320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О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788000" y="5157720"/>
            <a:ext cx="3887640" cy="811080"/>
            <a:chOff x="4788000" y="5157720"/>
            <a:chExt cx="3887640" cy="811080"/>
          </a:xfrm>
        </p:grpSpPr>
        <p:sp>
          <p:nvSpPr>
            <p:cNvPr id="480" name=""/>
            <p:cNvSpPr/>
            <p:nvPr/>
          </p:nvSpPr>
          <p:spPr>
            <a:xfrm>
              <a:off x="5005800" y="5448240"/>
              <a:ext cx="33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О=СО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8800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82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195640" y="1773360"/>
            <a:ext cx="4824360" cy="2232000"/>
          </a:xfrm>
          <a:prstGeom prst="parallelogram">
            <a:avLst>
              <a:gd name="adj" fmla="val 54036"/>
            </a:avLst>
          </a:prstGeom>
          <a:gradFill rotWithShape="0">
            <a:gsLst>
              <a:gs pos="0">
                <a:srgbClr val="ffffff"/>
              </a:gs>
              <a:gs pos="50000">
                <a:srgbClr val="ffff66">
                  <a:alpha val="62352"/>
                </a:srgbClr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195640" y="1773360"/>
            <a:ext cx="482436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72000" y="3575160"/>
            <a:ext cx="721800" cy="7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23" y="54"/>
                </a:moveTo>
                <a:arcTo wR="10800" hR="10800" stAng="-5743255" swAng="6717694"/>
                <a:lnTo>
                  <a:pt x="10800" y="10800"/>
                </a:lnTo>
                <a:close/>
              </a:path>
              <a:path fill="none" w="21600" h="21600">
                <a:moveTo>
                  <a:pt x="9723" y="54"/>
                </a:moveTo>
                <a:arcTo wR="10800" hR="10800" stAng="-5743255" swAng="671769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1642400">
            <a:off x="5763960" y="1456560"/>
            <a:ext cx="720360" cy="79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85" y="0"/>
                </a:moveTo>
                <a:arcTo wR="10800" hR="10800" stAng="-5372985" swAng="5377793"/>
                <a:lnTo>
                  <a:pt x="10800" y="10800"/>
                </a:lnTo>
                <a:close/>
              </a:path>
              <a:path fill="none" w="21600" h="21600">
                <a:moveTo>
                  <a:pt x="10885" y="0"/>
                </a:moveTo>
                <a:arcTo wR="10800" hR="10800" stAng="-5372985" swAng="537779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22920" y="3213000"/>
            <a:ext cx="100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1407200">
            <a:off x="6038280" y="1966320"/>
            <a:ext cx="1010520" cy="7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92" y="47"/>
                </a:moveTo>
                <a:arcTo wR="10800" hR="10800" stAng="-5721185" swAng="6024225"/>
                <a:lnTo>
                  <a:pt x="10800" y="10800"/>
                </a:lnTo>
                <a:close/>
              </a:path>
              <a:path fill="none" w="21600" h="21600">
                <a:moveTo>
                  <a:pt x="9792" y="47"/>
                </a:moveTo>
                <a:arcTo wR="10800" hR="10800" stAng="-5721185" swAng="602422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 rot="5400000">
            <a:off x="5941080" y="1775880"/>
            <a:ext cx="1009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6" y="66"/>
                </a:moveTo>
                <a:arcTo wR="10800" hR="10800" stAng="-5780830" swAng="5780830"/>
                <a:lnTo>
                  <a:pt x="10800" y="10800"/>
                </a:lnTo>
                <a:close/>
              </a:path>
              <a:path fill="none" w="21600" h="21600">
                <a:moveTo>
                  <a:pt x="9606" y="66"/>
                </a:moveTo>
                <a:arcTo wR="10800" hR="10800" stAng="-5780830" swAng="578083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24360" y="3068640"/>
            <a:ext cx="1152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55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75720" y="3645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95800" y="1125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99520" y="1125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497" name=""/>
            <p:cNvSpPr/>
            <p:nvPr/>
          </p:nvSpPr>
          <p:spPr>
            <a:xfrm>
              <a:off x="5178240" y="5519880"/>
              <a:ext cx="33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В=СД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99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237000" y="40784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1198440"/>
            <a:ext cx="4946760" cy="1440000"/>
          </a:xfrm>
          <a:custGeom>
            <a:avLst/>
            <a:gdLst/>
            <a:ahLst/>
            <a:rect l="l" t="t" r="r" b="b"/>
            <a:pathLst>
              <a:path w="3116" h="907">
                <a:moveTo>
                  <a:pt x="0" y="907"/>
                </a:moveTo>
                <a:lnTo>
                  <a:pt x="1103" y="0"/>
                </a:lnTo>
                <a:lnTo>
                  <a:pt x="3116" y="904"/>
                </a:lnTo>
                <a:lnTo>
                  <a:pt x="29" y="904"/>
                </a:lnTo>
                <a:lnTo>
                  <a:pt x="14" y="90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3202920" y="2638440"/>
            <a:ext cx="4946760" cy="1440000"/>
          </a:xfrm>
          <a:custGeom>
            <a:avLst/>
            <a:gdLst/>
            <a:ahLst/>
            <a:rect l="l" t="t" r="r" b="b"/>
            <a:pathLst>
              <a:path w="3116" h="907">
                <a:moveTo>
                  <a:pt x="0" y="907"/>
                </a:moveTo>
                <a:lnTo>
                  <a:pt x="1103" y="0"/>
                </a:lnTo>
                <a:lnTo>
                  <a:pt x="3116" y="904"/>
                </a:lnTo>
                <a:lnTo>
                  <a:pt x="29" y="904"/>
                </a:lnTo>
                <a:lnTo>
                  <a:pt x="14" y="90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19280" y="2133360"/>
            <a:ext cx="720360" cy="71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31" y="18"/>
                </a:moveTo>
                <a:arcTo wR="10800" hR="10800" stAng="-5199164" swAng="6504642"/>
                <a:lnTo>
                  <a:pt x="10800" y="10800"/>
                </a:lnTo>
                <a:close/>
              </a:path>
              <a:path fill="none" w="21600" h="21600">
                <a:moveTo>
                  <a:pt x="11431" y="18"/>
                </a:moveTo>
                <a:arcTo wR="10800" hR="10800" stAng="-5199164" swAng="6504642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2535800">
            <a:off x="7275240" y="2554920"/>
            <a:ext cx="720360" cy="7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31" y="18"/>
                </a:moveTo>
                <a:arcTo wR="10800" hR="10800" stAng="-5199164" swAng="6533355"/>
                <a:lnTo>
                  <a:pt x="10800" y="10800"/>
                </a:lnTo>
                <a:close/>
              </a:path>
              <a:path fill="none" w="21600" h="21600">
                <a:moveTo>
                  <a:pt x="11431" y="18"/>
                </a:moveTo>
                <a:arcTo wR="10800" hR="10800" stAng="-5199164" swAng="653335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290560" y="2205000"/>
            <a:ext cx="43092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94" y="515"/>
                </a:moveTo>
                <a:arcTo wR="10800" hR="10800" stAng="-4334542" swAng="4334542"/>
                <a:lnTo>
                  <a:pt x="10800" y="10800"/>
                </a:lnTo>
                <a:close/>
              </a:path>
              <a:path fill="none" w="21600" h="21600">
                <a:moveTo>
                  <a:pt x="14094" y="515"/>
                </a:moveTo>
                <a:arcTo wR="10800" hR="10800" stAng="-4334542" swAng="4334542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34920" y="2277720"/>
            <a:ext cx="288360" cy="7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27" y="108"/>
                </a:moveTo>
                <a:arcTo wR="10800" hR="10800" stAng="-4912306" swAng="4912306"/>
                <a:lnTo>
                  <a:pt x="10800" y="10800"/>
                </a:lnTo>
                <a:close/>
              </a:path>
              <a:path fill="none" w="21600" h="21600">
                <a:moveTo>
                  <a:pt x="12327" y="108"/>
                </a:moveTo>
                <a:arcTo wR="10800" hR="10800" stAng="-4912306" swAng="491230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35200" y="22068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55160" y="549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318000" y="1990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63000" y="20620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32480" y="27097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482920" y="2422080"/>
            <a:ext cx="287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948360" y="2422080"/>
            <a:ext cx="28764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924360" y="5013360"/>
            <a:ext cx="4537080" cy="797040"/>
            <a:chOff x="3924360" y="5013360"/>
            <a:chExt cx="4537080" cy="797040"/>
          </a:xfrm>
        </p:grpSpPr>
        <p:sp>
          <p:nvSpPr>
            <p:cNvPr id="516" name=""/>
            <p:cNvSpPr/>
            <p:nvPr/>
          </p:nvSpPr>
          <p:spPr>
            <a:xfrm>
              <a:off x="3924360" y="501336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4029120" y="5157720"/>
              <a:ext cx="4429080" cy="652680"/>
              <a:chOff x="4029120" y="5157720"/>
              <a:chExt cx="4429080" cy="652680"/>
            </a:xfrm>
          </p:grpSpPr>
          <p:sp>
            <p:nvSpPr>
              <p:cNvPr id="518" name=""/>
              <p:cNvSpPr/>
              <p:nvPr/>
            </p:nvSpPr>
            <p:spPr>
              <a:xfrm>
                <a:off x="4029120" y="526104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9" name=""/>
                  <p:cNvSpPr txBox="1"/>
                  <p:nvPr/>
                </p:nvSpPr>
                <p:spPr>
                  <a:xfrm>
                    <a:off x="6253200" y="5157720"/>
                    <a:ext cx="64764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0" name=""/>
              <p:cNvSpPr/>
              <p:nvPr/>
            </p:nvSpPr>
            <p:spPr>
              <a:xfrm>
                <a:off x="6756480" y="52290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Р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7477200" y="5157720"/>
                <a:ext cx="981000" cy="652680"/>
                <a:chOff x="7477200" y="5157720"/>
                <a:chExt cx="98100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22" name=""/>
                    <p:cNvSpPr txBox="1"/>
                    <p:nvPr/>
                  </p:nvSpPr>
                  <p:spPr>
                    <a:xfrm>
                      <a:off x="7477200" y="5157720"/>
                      <a:ext cx="64764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23" name=""/>
                <p:cNvSpPr/>
                <p:nvPr/>
              </p:nvSpPr>
              <p:spPr>
                <a:xfrm>
                  <a:off x="7980480" y="5229000"/>
                  <a:ext cx="477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707280" y="2349000"/>
            <a:ext cx="288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51280" y="227592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-2411280" y="836640"/>
            <a:ext cx="10113840" cy="3532320"/>
            <a:chOff x="-2411280" y="836640"/>
            <a:chExt cx="10113840" cy="3532320"/>
          </a:xfrm>
        </p:grpSpPr>
        <p:grpSp>
          <p:nvGrpSpPr>
            <p:cNvPr id="529" name=""/>
            <p:cNvGrpSpPr/>
            <p:nvPr/>
          </p:nvGrpSpPr>
          <p:grpSpPr>
            <a:xfrm>
              <a:off x="2412720" y="1411200"/>
              <a:ext cx="4824360" cy="2580480"/>
              <a:chOff x="2412720" y="1411200"/>
              <a:chExt cx="4824360" cy="2580480"/>
            </a:xfrm>
          </p:grpSpPr>
          <p:sp>
            <p:nvSpPr>
              <p:cNvPr id="530" name=""/>
              <p:cNvSpPr/>
              <p:nvPr/>
            </p:nvSpPr>
            <p:spPr>
              <a:xfrm>
                <a:off x="2544480" y="1411200"/>
                <a:ext cx="4686480" cy="2122200"/>
              </a:xfrm>
              <a:custGeom>
                <a:avLst/>
                <a:gdLst/>
                <a:ahLst/>
                <a:rect l="l" t="t" r="r" b="b"/>
                <a:pathLst>
                  <a:path w="2952" h="1337">
                    <a:moveTo>
                      <a:pt x="0" y="0"/>
                    </a:moveTo>
                    <a:lnTo>
                      <a:pt x="1133" y="1337"/>
                    </a:lnTo>
                    <a:lnTo>
                      <a:pt x="2952" y="90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12720" y="1974600"/>
                <a:ext cx="4824360" cy="2017080"/>
              </a:xfrm>
              <a:custGeom>
                <a:avLst/>
                <a:gdLst/>
                <a:ahLst/>
                <a:rect l="l" t="t" r="r" b="b"/>
                <a:pathLst>
                  <a:path w="3039" h="1271">
                    <a:moveTo>
                      <a:pt x="0" y="1271"/>
                    </a:moveTo>
                    <a:lnTo>
                      <a:pt x="1229" y="0"/>
                    </a:lnTo>
                    <a:lnTo>
                      <a:pt x="3039" y="545"/>
                    </a:lnTo>
                    <a:lnTo>
                      <a:pt x="0" y="1271"/>
                    </a:lnTo>
                    <a:close/>
                  </a:path>
                </a:pathLst>
              </a:custGeom>
              <a:blipFill rotWithShape="0">
                <a:blip r:embed="rId2">
                  <a:alphaModFix amt="76000"/>
                </a:blip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4202280" y="35002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К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75000" y="1339560"/>
              <a:ext cx="4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Д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26720" y="378756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48960" y="24192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52360" y="83664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771640" y="1341000"/>
              <a:ext cx="57744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02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0210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18761400">
              <a:off x="2604240" y="3205800"/>
              <a:ext cx="5767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02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0210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-2411280" y="1701000"/>
              <a:ext cx="9648000" cy="230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-2122920" y="1410120"/>
              <a:ext cx="9359640" cy="273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70" y="10"/>
                  </a:moveTo>
                  <a:arcTo wR="10800" hR="10800" stAng="-5250407" swAng="52504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70" y="10"/>
                  </a:moveTo>
                  <a:arcTo wR="10800" hR="10800" stAng="-5250407" swAng="525040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92360" y="3571560"/>
              <a:ext cx="216000" cy="36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365080" y="1627200"/>
              <a:ext cx="360360" cy="21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57080" y="1411200"/>
              <a:ext cx="1800360" cy="216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83000" y="54054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Найт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16360" y="5157720"/>
            <a:ext cx="539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6" name="">
            <a:hlinkClick r:id="rId3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971640" y="2133720"/>
            <a:ext cx="1042920" cy="1042920"/>
            <a:chOff x="971640" y="2133720"/>
            <a:chExt cx="1042920" cy="1042920"/>
          </a:xfrm>
        </p:grpSpPr>
        <p:sp>
          <p:nvSpPr>
            <p:cNvPr id="169" name="">
              <a:hlinkClick r:id="rId1" action="ppaction://hlinksldjump"/>
            </p:cNvPr>
            <p:cNvSpPr/>
            <p:nvPr/>
          </p:nvSpPr>
          <p:spPr>
            <a:xfrm>
              <a:off x="971640" y="2133720"/>
              <a:ext cx="1042920" cy="1042920"/>
            </a:xfrm>
            <a:custGeom>
              <a:avLst/>
              <a:gdLst>
                <a:gd name="textAreaLeft" fmla="*/ 67320 w 1042920"/>
                <a:gd name="textAreaRight" fmla="*/ 975600 w 1042920"/>
                <a:gd name="textAreaTop" fmla="*/ 67320 h 1042920"/>
                <a:gd name="textAreaBottom" fmla="*/ 975600 h 10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54007e">
                    <a:alpha val="67058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54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0" name="">
              <a:hlinkClick r:id="rId2" action="ppaction://hlinksldjump"/>
            </p:cNvPr>
            <p:cNvSpPr/>
            <p:nvPr/>
          </p:nvSpPr>
          <p:spPr>
            <a:xfrm>
              <a:off x="1230840" y="2206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007e"/>
                  </a:solidFill>
                  <a:latin typeface="Verdana"/>
                </a:rPr>
                <a:t>1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71640" y="3429000"/>
            <a:ext cx="1042920" cy="1042920"/>
            <a:chOff x="971640" y="3429000"/>
            <a:chExt cx="1042920" cy="1042920"/>
          </a:xfrm>
        </p:grpSpPr>
        <p:sp>
          <p:nvSpPr>
            <p:cNvPr id="172" name="">
              <a:hlinkClick r:id="rId3" action="ppaction://hlinksldjump"/>
            </p:cNvPr>
            <p:cNvSpPr/>
            <p:nvPr/>
          </p:nvSpPr>
          <p:spPr>
            <a:xfrm>
              <a:off x="971640" y="3429000"/>
              <a:ext cx="1042920" cy="1042920"/>
            </a:xfrm>
            <a:custGeom>
              <a:avLst/>
              <a:gdLst>
                <a:gd name="textAreaLeft" fmla="*/ 67320 w 1042920"/>
                <a:gd name="textAreaRight" fmla="*/ 975600 w 1042920"/>
                <a:gd name="textAreaTop" fmla="*/ 67320 h 1042920"/>
                <a:gd name="textAreaBottom" fmla="*/ 975600 h 10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54007e">
                    <a:alpha val="67058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54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3" name="">
              <a:hlinkClick r:id="rId4" action="ppaction://hlinksldjump"/>
            </p:cNvPr>
            <p:cNvSpPr/>
            <p:nvPr/>
          </p:nvSpPr>
          <p:spPr>
            <a:xfrm>
              <a:off x="1230840" y="3502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007e"/>
                  </a:solidFill>
                  <a:latin typeface="Verdana"/>
                </a:rPr>
                <a:t>2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71640" y="4797360"/>
            <a:ext cx="1042920" cy="1042920"/>
            <a:chOff x="971640" y="4797360"/>
            <a:chExt cx="1042920" cy="1042920"/>
          </a:xfrm>
        </p:grpSpPr>
        <p:sp>
          <p:nvSpPr>
            <p:cNvPr id="175" name="">
              <a:hlinkClick r:id="rId5" action="ppaction://hlinksldjump"/>
            </p:cNvPr>
            <p:cNvSpPr/>
            <p:nvPr/>
          </p:nvSpPr>
          <p:spPr>
            <a:xfrm>
              <a:off x="971640" y="4797360"/>
              <a:ext cx="1042920" cy="1042920"/>
            </a:xfrm>
            <a:custGeom>
              <a:avLst/>
              <a:gdLst>
                <a:gd name="textAreaLeft" fmla="*/ 67320 w 1042920"/>
                <a:gd name="textAreaRight" fmla="*/ 975600 w 1042920"/>
                <a:gd name="textAreaTop" fmla="*/ 67320 h 1042920"/>
                <a:gd name="textAreaBottom" fmla="*/ 975600 h 10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54007e">
                    <a:alpha val="67058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5400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>
              <a:hlinkClick r:id="rId6" action="ppaction://hlinksldjump"/>
            </p:cNvPr>
            <p:cNvSpPr/>
            <p:nvPr/>
          </p:nvSpPr>
          <p:spPr>
            <a:xfrm>
              <a:off x="1230840" y="48704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007e"/>
                  </a:solidFill>
                  <a:latin typeface="Verdana"/>
                </a:rPr>
                <a:t>3</a:t>
              </a:r>
              <a:endParaRPr b="0" lang="en-US" sz="4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4356000" y="1989000"/>
            <a:ext cx="3168720" cy="2814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755640" y="333360"/>
            <a:ext cx="691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ризнаки  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5157720"/>
            <a:ext cx="2879640" cy="576360"/>
          </a:xfrm>
          <a:custGeom>
            <a:avLst/>
            <a:gdLst>
              <a:gd name="textAreaLeft" fmla="*/ 37080 w 2879640"/>
              <a:gd name="textAreaRight" fmla="*/ 2842560 w 28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07865" h="21600">
                <a:moveTo>
                  <a:pt x="0" y="0"/>
                </a:moveTo>
                <a:lnTo>
                  <a:pt x="107865" y="0"/>
                </a:lnTo>
                <a:lnTo>
                  <a:pt x="107865" y="21600"/>
                </a:lnTo>
                <a:lnTo>
                  <a:pt x="0" y="21600"/>
                </a:lnTo>
                <a:close/>
              </a:path>
              <a:path fill="lightenLess" w="107865" h="21600">
                <a:moveTo>
                  <a:pt x="0" y="0"/>
                </a:moveTo>
                <a:lnTo>
                  <a:pt x="107865" y="0"/>
                </a:lnTo>
                <a:lnTo>
                  <a:pt x="106465" y="1400"/>
                </a:lnTo>
                <a:lnTo>
                  <a:pt x="1400" y="1400"/>
                </a:lnTo>
                <a:close/>
              </a:path>
              <a:path fill="darken" w="107865" h="21600">
                <a:moveTo>
                  <a:pt x="107865" y="0"/>
                </a:moveTo>
                <a:lnTo>
                  <a:pt x="107865" y="21600"/>
                </a:lnTo>
                <a:lnTo>
                  <a:pt x="106465" y="20200"/>
                </a:lnTo>
                <a:lnTo>
                  <a:pt x="106465" y="1400"/>
                </a:lnTo>
                <a:close/>
              </a:path>
              <a:path fill="darkenLess" w="107865" h="21600">
                <a:moveTo>
                  <a:pt x="107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5" y="20200"/>
                </a:lnTo>
                <a:close/>
              </a:path>
              <a:path fill="lighten" w="107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000a2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a2"/>
                </a:solidFill>
                <a:latin typeface="Verdana"/>
              </a:rPr>
              <a:t>Литератур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042920" y="11970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643280" y="5084640"/>
            <a:ext cx="3744720" cy="665280"/>
            <a:chOff x="4643280" y="5084640"/>
            <a:chExt cx="3744720" cy="665280"/>
          </a:xfrm>
        </p:grpSpPr>
        <p:sp>
          <p:nvSpPr>
            <p:cNvPr id="550" name=""/>
            <p:cNvSpPr/>
            <p:nvPr/>
          </p:nvSpPr>
          <p:spPr>
            <a:xfrm>
              <a:off x="4643280" y="5229360"/>
              <a:ext cx="37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В=СД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14560" y="5084640"/>
              <a:ext cx="31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52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402560" y="1773360"/>
            <a:ext cx="4753080" cy="2305080"/>
          </a:xfrm>
          <a:custGeom>
            <a:avLst/>
            <a:gdLst/>
            <a:ahLst/>
            <a:rect l="l" t="t" r="r" b="b"/>
            <a:pathLst>
              <a:path w="3629" h="1996">
                <a:moveTo>
                  <a:pt x="0" y="1996"/>
                </a:moveTo>
                <a:lnTo>
                  <a:pt x="2631" y="1996"/>
                </a:lnTo>
                <a:lnTo>
                  <a:pt x="3629" y="0"/>
                </a:lnTo>
                <a:lnTo>
                  <a:pt x="0" y="19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0099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00360" y="1844640"/>
            <a:ext cx="4751280" cy="2232000"/>
          </a:xfrm>
          <a:custGeom>
            <a:avLst/>
            <a:gdLst/>
            <a:ahLst/>
            <a:rect l="l" t="t" r="r" b="b"/>
            <a:pathLst>
              <a:path w="3629" h="1996">
                <a:moveTo>
                  <a:pt x="0" y="1996"/>
                </a:moveTo>
                <a:lnTo>
                  <a:pt x="2631" y="1996"/>
                </a:lnTo>
                <a:lnTo>
                  <a:pt x="3629" y="0"/>
                </a:lnTo>
                <a:lnTo>
                  <a:pt x="0" y="199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5280" y="3357720"/>
            <a:ext cx="302580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8" y="1"/>
                </a:moveTo>
                <a:arcTo wR="10800" hR="10800" stAng="-5349552" swAng="5349552"/>
                <a:lnTo>
                  <a:pt x="10800" y="10800"/>
                </a:lnTo>
                <a:close/>
              </a:path>
              <a:path fill="none" w="21600" h="21600">
                <a:moveTo>
                  <a:pt x="10958" y="1"/>
                </a:moveTo>
                <a:arcTo wR="10800" hR="10800" stAng="-5349552" swAng="534955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930200" y="3357720"/>
            <a:ext cx="302724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92" y="30"/>
                </a:moveTo>
                <a:arcTo wR="10800" hR="10800" stAng="-5657508" swAng="5657508"/>
                <a:lnTo>
                  <a:pt x="10800" y="10800"/>
                </a:lnTo>
                <a:close/>
              </a:path>
              <a:path fill="none" w="21600" h="21600">
                <a:moveTo>
                  <a:pt x="9992" y="30"/>
                </a:moveTo>
                <a:arcTo wR="10800" hR="10800" stAng="-5657508" swAng="565750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506920" y="386064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79640" y="37180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72360" y="37180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80360" y="1197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59640" y="386064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99564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100400" y="5373720"/>
            <a:ext cx="4428360" cy="652680"/>
            <a:chOff x="4100400" y="5373720"/>
            <a:chExt cx="4428360" cy="652680"/>
          </a:xfrm>
        </p:grpSpPr>
        <p:sp>
          <p:nvSpPr>
            <p:cNvPr id="565" name=""/>
            <p:cNvSpPr/>
            <p:nvPr/>
          </p:nvSpPr>
          <p:spPr>
            <a:xfrm>
              <a:off x="4100400" y="545616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6324480" y="5373720"/>
                  <a:ext cx="6472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6827760" y="544500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=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548480" y="5373720"/>
              <a:ext cx="980280" cy="652680"/>
              <a:chOff x="7548480" y="5373720"/>
              <a:chExt cx="980280" cy="652680"/>
            </a:xfrm>
          </p:grpSpPr>
          <mc:AlternateContent>
            <mc:Choice xmlns:a14="http://schemas.microsoft.com/office/drawing/2010/main" Requires="a14">
              <p:sp>
                <p:nvSpPr>
                  <p:cNvPr id="569" name=""/>
                  <p:cNvSpPr txBox="1"/>
                  <p:nvPr/>
                </p:nvSpPr>
                <p:spPr>
                  <a:xfrm>
                    <a:off x="7548480" y="537372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0" name=""/>
              <p:cNvSpPr/>
              <p:nvPr/>
            </p:nvSpPr>
            <p:spPr>
              <a:xfrm>
                <a:off x="8051400" y="5445000"/>
                <a:ext cx="47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1403280" y="404640"/>
            <a:ext cx="5518080" cy="4332240"/>
            <a:chOff x="1403280" y="404640"/>
            <a:chExt cx="5518080" cy="4332240"/>
          </a:xfrm>
        </p:grpSpPr>
        <p:grpSp>
          <p:nvGrpSpPr>
            <p:cNvPr id="572" name=""/>
            <p:cNvGrpSpPr/>
            <p:nvPr/>
          </p:nvGrpSpPr>
          <p:grpSpPr>
            <a:xfrm>
              <a:off x="1403280" y="404640"/>
              <a:ext cx="5518080" cy="4332240"/>
              <a:chOff x="1403280" y="404640"/>
              <a:chExt cx="5518080" cy="4332240"/>
            </a:xfrm>
          </p:grpSpPr>
          <p:sp>
            <p:nvSpPr>
              <p:cNvPr id="573" name=""/>
              <p:cNvSpPr/>
              <p:nvPr/>
            </p:nvSpPr>
            <p:spPr>
              <a:xfrm>
                <a:off x="5722920" y="191736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834200" y="980640"/>
                <a:ext cx="2305080" cy="2881440"/>
              </a:xfrm>
              <a:custGeom>
                <a:avLst/>
                <a:gdLst/>
                <a:ahLst/>
                <a:rect l="l" t="t" r="r" b="b"/>
                <a:pathLst>
                  <a:path w="1815" h="2087">
                    <a:moveTo>
                      <a:pt x="0" y="1406"/>
                    </a:moveTo>
                    <a:lnTo>
                      <a:pt x="1815" y="0"/>
                    </a:lnTo>
                    <a:lnTo>
                      <a:pt x="953" y="2087"/>
                    </a:lnTo>
                    <a:lnTo>
                      <a:pt x="0" y="14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38560" y="980640"/>
                <a:ext cx="2305080" cy="2881440"/>
              </a:xfrm>
              <a:custGeom>
                <a:avLst/>
                <a:gdLst/>
                <a:ahLst/>
                <a:rect l="l" t="t" r="r" b="b"/>
                <a:pathLst>
                  <a:path w="1815" h="2087">
                    <a:moveTo>
                      <a:pt x="0" y="1406"/>
                    </a:moveTo>
                    <a:lnTo>
                      <a:pt x="1815" y="0"/>
                    </a:lnTo>
                    <a:lnTo>
                      <a:pt x="953" y="2087"/>
                    </a:lnTo>
                    <a:lnTo>
                      <a:pt x="0" y="14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5003640" y="980640"/>
                <a:ext cx="1440000" cy="374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62560" y="3860640"/>
                <a:ext cx="57600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266560" y="2925360"/>
                <a:ext cx="187164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834920" y="342864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cubicBezTo>
                      <a:pt x="3" y="7"/>
                      <a:pt x="8" y="22"/>
                      <a:pt x="8" y="22"/>
                    </a:cubicBezTo>
                    <a:cubicBezTo>
                      <a:pt x="8" y="22"/>
                      <a:pt x="3" y="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42920" y="3644640"/>
                <a:ext cx="432000" cy="1092240"/>
              </a:xfrm>
              <a:custGeom>
                <a:avLst/>
                <a:gdLst/>
                <a:ahLst/>
                <a:rect l="l" t="t" r="r" b="b"/>
                <a:pathLst>
                  <a:path w="272" h="688">
                    <a:moveTo>
                      <a:pt x="0" y="0"/>
                    </a:moveTo>
                    <a:lnTo>
                      <a:pt x="272" y="681"/>
                    </a:lnTo>
                    <a:lnTo>
                      <a:pt x="260" y="68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155200">
                <a:off x="2541240" y="3227760"/>
                <a:ext cx="863280" cy="71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rot="16444800">
                <a:off x="4872240" y="3227760"/>
                <a:ext cx="863280" cy="71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33820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А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0328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С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4364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0692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Д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22560" y="206028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О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2992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2520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3562200" y="3141720"/>
              <a:ext cx="1425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4498560" y="3213000"/>
              <a:ext cx="2901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1548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2268360" y="115920"/>
            <a:ext cx="5014800" cy="4974120"/>
            <a:chOff x="2268360" y="115920"/>
            <a:chExt cx="5014800" cy="4974120"/>
          </a:xfrm>
        </p:grpSpPr>
        <p:sp>
          <p:nvSpPr>
            <p:cNvPr id="595" name=""/>
            <p:cNvSpPr/>
            <p:nvPr/>
          </p:nvSpPr>
          <p:spPr>
            <a:xfrm>
              <a:off x="2773080" y="1989000"/>
              <a:ext cx="4032360" cy="2448000"/>
            </a:xfrm>
            <a:prstGeom prst="rtTriangl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5e4675">
                    <a:alpha val="45098"/>
                  </a:srgbClr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5400000">
              <a:off x="1908360" y="1267920"/>
              <a:ext cx="4032360" cy="2305080"/>
            </a:xfrm>
            <a:prstGeom prst="rtTriangle">
              <a:avLst/>
            </a:prstGeom>
            <a:blipFill rotWithShape="0">
              <a:blip r:embed="rId1">
                <a:alphaModFix amt="95000"/>
              </a:blip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2772720" y="1989000"/>
              <a:ext cx="4032360" cy="24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068360" y="4292640"/>
              <a:ext cx="3603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925440" y="4292640"/>
              <a:ext cx="3603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652720" y="4292640"/>
              <a:ext cx="3603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557080" y="119664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2701440" y="2924280"/>
              <a:ext cx="3603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701440" y="2781360"/>
              <a:ext cx="3603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12720" y="443700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05440" y="450864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K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68360" y="11592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68360" y="184464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7800" y="443700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H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557440" y="712080"/>
              <a:ext cx="431280" cy="14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048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0484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373440" y="4221000"/>
              <a:ext cx="288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843280" y="5445000"/>
            <a:ext cx="5761080" cy="768240"/>
            <a:chOff x="2843280" y="5445000"/>
            <a:chExt cx="5761080" cy="768240"/>
          </a:xfrm>
        </p:grpSpPr>
        <p:sp>
          <p:nvSpPr>
            <p:cNvPr id="612" name=""/>
            <p:cNvSpPr/>
            <p:nvPr/>
          </p:nvSpPr>
          <p:spPr>
            <a:xfrm>
              <a:off x="2921400" y="5692680"/>
              <a:ext cx="560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Найти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43280" y="544500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2058480" y="260280"/>
            <a:ext cx="5097960" cy="7416720"/>
            <a:chOff x="2058480" y="260280"/>
            <a:chExt cx="5097960" cy="7416720"/>
          </a:xfrm>
        </p:grpSpPr>
        <p:sp>
          <p:nvSpPr>
            <p:cNvPr id="618" name=""/>
            <p:cNvSpPr/>
            <p:nvPr/>
          </p:nvSpPr>
          <p:spPr>
            <a:xfrm>
              <a:off x="2340000" y="907920"/>
              <a:ext cx="4319640" cy="3382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500720" y="2636640"/>
              <a:ext cx="107928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3419640" y="2636640"/>
              <a:ext cx="107928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340000" y="907920"/>
              <a:ext cx="4320720" cy="67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42160" y="907920"/>
              <a:ext cx="4317120" cy="67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00360" y="1916280"/>
              <a:ext cx="28728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940360" y="1989000"/>
              <a:ext cx="287280" cy="28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059280" y="4149720"/>
              <a:ext cx="28728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5580000" y="4149720"/>
              <a:ext cx="28728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435640" y="4149720"/>
              <a:ext cx="28728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203640" y="4149720"/>
              <a:ext cx="28728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 rot="10287600">
              <a:off x="3669120" y="3675960"/>
              <a:ext cx="10058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67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6758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7236200">
              <a:off x="4223160" y="3633120"/>
              <a:ext cx="100548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25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2505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58480" y="43657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95160" y="26028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50000" y="42210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73920" y="43657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О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7720" y="213372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К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53640" y="206064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Р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37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639" name=""/>
            <p:cNvSpPr/>
            <p:nvPr/>
          </p:nvSpPr>
          <p:spPr>
            <a:xfrm>
              <a:off x="5202720" y="551988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К=СР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195280" y="765000"/>
            <a:ext cx="4103640" cy="3888720"/>
            <a:chOff x="2195280" y="765000"/>
            <a:chExt cx="4103640" cy="3888720"/>
          </a:xfrm>
        </p:grpSpPr>
        <p:sp>
          <p:nvSpPr>
            <p:cNvPr id="643" name=""/>
            <p:cNvSpPr/>
            <p:nvPr/>
          </p:nvSpPr>
          <p:spPr>
            <a:xfrm rot="5400000">
              <a:off x="3274560" y="-314280"/>
              <a:ext cx="1944720" cy="4103640"/>
            </a:xfrm>
            <a:custGeom>
              <a:avLst/>
              <a:gdLst/>
              <a:ahLst/>
              <a:rect l="l" t="t" r="r" b="b"/>
              <a:pathLst>
                <a:path w="1225" h="2585">
                  <a:moveTo>
                    <a:pt x="0" y="1905"/>
                  </a:moveTo>
                  <a:lnTo>
                    <a:pt x="1225" y="0"/>
                  </a:lnTo>
                  <a:lnTo>
                    <a:pt x="1225" y="2585"/>
                  </a:lnTo>
                  <a:lnTo>
                    <a:pt x="0" y="1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cc99ff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400000">
              <a:off x="3274560" y="1629720"/>
              <a:ext cx="1944360" cy="4103640"/>
            </a:xfrm>
            <a:custGeom>
              <a:avLst/>
              <a:gdLst/>
              <a:ahLst/>
              <a:rect l="l" t="t" r="r" b="b"/>
              <a:pathLst>
                <a:path w="1225" h="2585">
                  <a:moveTo>
                    <a:pt x="0" y="1905"/>
                  </a:moveTo>
                  <a:lnTo>
                    <a:pt x="1225" y="0"/>
                  </a:lnTo>
                  <a:lnTo>
                    <a:pt x="1225" y="2585"/>
                  </a:lnTo>
                  <a:lnTo>
                    <a:pt x="0" y="1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73120" y="765000"/>
              <a:ext cx="144144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3024720" y="2951640"/>
              <a:ext cx="1931760" cy="1447560"/>
            </a:xfrm>
            <a:custGeom>
              <a:avLst/>
              <a:gdLst/>
              <a:ahLst/>
              <a:rect l="l" t="t" r="r" b="b"/>
              <a:pathLst>
                <a:path w="1262" h="957">
                  <a:moveTo>
                    <a:pt x="1262" y="957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1">
                <a:alphaModFix amt="60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 rot="5400000">
              <a:off x="5505480" y="2351880"/>
              <a:ext cx="5774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0" y="206"/>
                  </a:moveTo>
                  <a:arcTo wR="10800" hR="10800" stAng="-6072716" swAng="5654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0" y="206"/>
                  </a:moveTo>
                  <a:arcTo wR="10800" hR="10800" stAng="-6072716" swAng="565453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 rot="1731600">
              <a:off x="5499720" y="2500920"/>
              <a:ext cx="5774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38" y="473"/>
                  </a:moveTo>
                  <a:arcTo wR="10800" hR="10800" stAng="-6421592" swAng="6003410"/>
                  <a:lnTo>
                    <a:pt x="10800" y="10800"/>
                  </a:lnTo>
                  <a:close/>
                </a:path>
                <a:path fill="none" w="21600" h="21600">
                  <a:moveTo>
                    <a:pt x="7638" y="473"/>
                  </a:moveTo>
                  <a:arcTo wR="10800" hR="10800" stAng="-6421592" swAng="600341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 rot="5400000">
              <a:off x="5578920" y="2494080"/>
              <a:ext cx="5738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 rot="5400000">
              <a:off x="5578200" y="2493720"/>
              <a:ext cx="5745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3849840" y="1990440"/>
              <a:ext cx="100872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rot="5400000">
              <a:off x="3849840" y="1991520"/>
              <a:ext cx="1008720" cy="143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518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5185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379920" y="2421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30080" y="333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94000" y="4581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843280" y="5445000"/>
            <a:ext cx="5761080" cy="768240"/>
            <a:chOff x="2843280" y="5445000"/>
            <a:chExt cx="5761080" cy="768240"/>
          </a:xfrm>
        </p:grpSpPr>
        <p:sp>
          <p:nvSpPr>
            <p:cNvPr id="658" name=""/>
            <p:cNvSpPr/>
            <p:nvPr/>
          </p:nvSpPr>
          <p:spPr>
            <a:xfrm>
              <a:off x="287208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43280" y="544500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60" name="">
            <a:hlinkClick r:id="rId2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6728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152120" y="1890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 rot="16200000">
            <a:off x="3275280" y="1626840"/>
            <a:ext cx="1944360" cy="4103640"/>
          </a:xfrm>
          <a:custGeom>
            <a:avLst/>
            <a:gdLst/>
            <a:ahLst/>
            <a:rect l="l" t="t" r="r" b="b"/>
            <a:pathLst>
              <a:path w="1225" h="2585">
                <a:moveTo>
                  <a:pt x="0" y="1905"/>
                </a:moveTo>
                <a:lnTo>
                  <a:pt x="1225" y="0"/>
                </a:lnTo>
                <a:lnTo>
                  <a:pt x="1225" y="2585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ffff66">
                  <a:alpha val="60392"/>
                </a:srgbClr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 rot="16200000">
            <a:off x="3273840" y="-317160"/>
            <a:ext cx="1944720" cy="4103640"/>
          </a:xfrm>
          <a:custGeom>
            <a:avLst/>
            <a:gdLst/>
            <a:ahLst/>
            <a:rect l="l" t="t" r="r" b="b"/>
            <a:pathLst>
              <a:path w="1225" h="2585">
                <a:moveTo>
                  <a:pt x="0" y="1905"/>
                </a:moveTo>
                <a:lnTo>
                  <a:pt x="1225" y="0"/>
                </a:lnTo>
                <a:lnTo>
                  <a:pt x="1225" y="2585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8f00d6">
                  <a:alpha val="15294"/>
                </a:srgbClr>
              </a:gs>
              <a:gs pos="100000">
                <a:srgbClr val="410062">
                  <a:alpha val="8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3780000" y="2706480"/>
            <a:ext cx="144144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3537720" y="1016640"/>
            <a:ext cx="1932120" cy="1447560"/>
          </a:xfrm>
          <a:custGeom>
            <a:avLst/>
            <a:gdLst/>
            <a:ahLst/>
            <a:rect l="l" t="t" r="r" b="b"/>
            <a:pathLst>
              <a:path w="1262" h="957">
                <a:moveTo>
                  <a:pt x="1262" y="957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0099">
                  <a:alpha val="60392"/>
                </a:srgbClr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flipV="1" rot="16200000">
            <a:off x="2410920" y="2491560"/>
            <a:ext cx="576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00" y="206"/>
                </a:moveTo>
                <a:arcTo wR="10800" hR="10800" stAng="-6072716" swAng="5654534"/>
                <a:lnTo>
                  <a:pt x="10800" y="10800"/>
                </a:lnTo>
                <a:close/>
              </a:path>
              <a:path fill="none" w="21600" h="21600">
                <a:moveTo>
                  <a:pt x="8700" y="206"/>
                </a:moveTo>
                <a:arcTo wR="10800" hR="10800" stAng="-6072716" swAng="565453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flipV="1" rot="12532200">
            <a:off x="2416320" y="2339640"/>
            <a:ext cx="57744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38" y="473"/>
                </a:moveTo>
                <a:arcTo wR="10800" hR="10800" stAng="-6421592" swAng="6003410"/>
                <a:lnTo>
                  <a:pt x="10800" y="10800"/>
                </a:lnTo>
                <a:close/>
              </a:path>
              <a:path fill="none" w="21600" h="21600">
                <a:moveTo>
                  <a:pt x="7638" y="473"/>
                </a:moveTo>
                <a:arcTo wR="10800" hR="10800" stAng="-6421592" swAng="600341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 rot="16200000">
            <a:off x="2341080" y="2490840"/>
            <a:ext cx="57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flipV="1" rot="16200000">
            <a:off x="2341080" y="2491560"/>
            <a:ext cx="5738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5507280" y="1990440"/>
            <a:ext cx="100872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rot="16200000">
            <a:off x="5507280" y="1989720"/>
            <a:ext cx="1008720" cy="14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51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5185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4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41964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2720" y="26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30072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07672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72080" y="569268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Найт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5445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15212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>
            <a:hlinkClick r:id="rId1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ebf7ff"/>
          </a:soli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900000" y="836640"/>
            <a:ext cx="6913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Трети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ризнак  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635280" y="3933720"/>
            <a:ext cx="647640" cy="647640"/>
            <a:chOff x="3635280" y="3933720"/>
            <a:chExt cx="647640" cy="647640"/>
          </a:xfrm>
        </p:grpSpPr>
        <p:sp>
          <p:nvSpPr>
            <p:cNvPr id="685" name=""/>
            <p:cNvSpPr/>
            <p:nvPr/>
          </p:nvSpPr>
          <p:spPr>
            <a:xfrm>
              <a:off x="363528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6" name="">
              <a:hlinkClick r:id="rId2" action="ppaction://hlinksldjump"/>
            </p:cNvPr>
            <p:cNvSpPr/>
            <p:nvPr/>
          </p:nvSpPr>
          <p:spPr>
            <a:xfrm>
              <a:off x="377820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500720" y="3933720"/>
            <a:ext cx="647640" cy="647640"/>
            <a:chOff x="4500720" y="3933720"/>
            <a:chExt cx="647640" cy="647640"/>
          </a:xfrm>
        </p:grpSpPr>
        <p:sp>
          <p:nvSpPr>
            <p:cNvPr id="688" name=""/>
            <p:cNvSpPr/>
            <p:nvPr/>
          </p:nvSpPr>
          <p:spPr>
            <a:xfrm>
              <a:off x="45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9" name="">
              <a:hlinkClick r:id="rId3" action="ppaction://hlinksldjump"/>
            </p:cNvPr>
            <p:cNvSpPr/>
            <p:nvPr/>
          </p:nvSpPr>
          <p:spPr>
            <a:xfrm>
              <a:off x="46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435640" y="3933720"/>
            <a:ext cx="647640" cy="647640"/>
            <a:chOff x="5435640" y="3933720"/>
            <a:chExt cx="647640" cy="647640"/>
          </a:xfrm>
        </p:grpSpPr>
        <p:sp>
          <p:nvSpPr>
            <p:cNvPr id="691" name=""/>
            <p:cNvSpPr/>
            <p:nvPr/>
          </p:nvSpPr>
          <p:spPr>
            <a:xfrm>
              <a:off x="543564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2" name="">
              <a:hlinkClick r:id="rId4" action="ppaction://hlinksldjump"/>
            </p:cNvPr>
            <p:cNvSpPr/>
            <p:nvPr/>
          </p:nvSpPr>
          <p:spPr>
            <a:xfrm>
              <a:off x="557856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300720" y="3933720"/>
            <a:ext cx="647640" cy="647640"/>
            <a:chOff x="6300720" y="3933720"/>
            <a:chExt cx="647640" cy="647640"/>
          </a:xfrm>
        </p:grpSpPr>
        <p:sp>
          <p:nvSpPr>
            <p:cNvPr id="694" name=""/>
            <p:cNvSpPr/>
            <p:nvPr/>
          </p:nvSpPr>
          <p:spPr>
            <a:xfrm>
              <a:off x="63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5" name="">
              <a:hlinkClick r:id="rId5" action="ppaction://hlinksldjump"/>
            </p:cNvPr>
            <p:cNvSpPr/>
            <p:nvPr/>
          </p:nvSpPr>
          <p:spPr>
            <a:xfrm>
              <a:off x="64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635280" y="4941720"/>
            <a:ext cx="647640" cy="647640"/>
            <a:chOff x="3635280" y="4941720"/>
            <a:chExt cx="647640" cy="647640"/>
          </a:xfrm>
        </p:grpSpPr>
        <p:sp>
          <p:nvSpPr>
            <p:cNvPr id="697" name=""/>
            <p:cNvSpPr/>
            <p:nvPr/>
          </p:nvSpPr>
          <p:spPr>
            <a:xfrm>
              <a:off x="363528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8" name="">
              <a:hlinkClick r:id="rId6" action="ppaction://hlinksldjump"/>
            </p:cNvPr>
            <p:cNvSpPr/>
            <p:nvPr/>
          </p:nvSpPr>
          <p:spPr>
            <a:xfrm>
              <a:off x="377820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500720" y="4941720"/>
            <a:ext cx="647640" cy="647640"/>
            <a:chOff x="4500720" y="4941720"/>
            <a:chExt cx="647640" cy="647640"/>
          </a:xfrm>
        </p:grpSpPr>
        <p:sp>
          <p:nvSpPr>
            <p:cNvPr id="700" name=""/>
            <p:cNvSpPr/>
            <p:nvPr/>
          </p:nvSpPr>
          <p:spPr>
            <a:xfrm>
              <a:off x="45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1" name="">
              <a:hlinkClick r:id="rId7" action="ppaction://hlinksldjump"/>
            </p:cNvPr>
            <p:cNvSpPr/>
            <p:nvPr/>
          </p:nvSpPr>
          <p:spPr>
            <a:xfrm>
              <a:off x="46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164360" y="3933720"/>
            <a:ext cx="647640" cy="647640"/>
            <a:chOff x="7164360" y="3933720"/>
            <a:chExt cx="647640" cy="647640"/>
          </a:xfrm>
        </p:grpSpPr>
        <p:sp>
          <p:nvSpPr>
            <p:cNvPr id="703" name=""/>
            <p:cNvSpPr/>
            <p:nvPr/>
          </p:nvSpPr>
          <p:spPr>
            <a:xfrm>
              <a:off x="716436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4" name="">
              <a:hlinkClick r:id="rId8" action="ppaction://hlinksldjump"/>
            </p:cNvPr>
            <p:cNvSpPr/>
            <p:nvPr/>
          </p:nvSpPr>
          <p:spPr>
            <a:xfrm>
              <a:off x="730728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5435640" y="4941720"/>
            <a:ext cx="647640" cy="647640"/>
            <a:chOff x="5435640" y="4941720"/>
            <a:chExt cx="647640" cy="647640"/>
          </a:xfrm>
        </p:grpSpPr>
        <p:sp>
          <p:nvSpPr>
            <p:cNvPr id="706" name=""/>
            <p:cNvSpPr/>
            <p:nvPr/>
          </p:nvSpPr>
          <p:spPr>
            <a:xfrm>
              <a:off x="543564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7" name="">
              <a:hlinkClick r:id="rId9" action="ppaction://hlinksldjump"/>
            </p:cNvPr>
            <p:cNvSpPr/>
            <p:nvPr/>
          </p:nvSpPr>
          <p:spPr>
            <a:xfrm>
              <a:off x="557856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300720" y="4941720"/>
            <a:ext cx="647640" cy="647640"/>
            <a:chOff x="6300720" y="4941720"/>
            <a:chExt cx="647640" cy="647640"/>
          </a:xfrm>
        </p:grpSpPr>
        <p:sp>
          <p:nvSpPr>
            <p:cNvPr id="709" name=""/>
            <p:cNvSpPr/>
            <p:nvPr/>
          </p:nvSpPr>
          <p:spPr>
            <a:xfrm>
              <a:off x="63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0" name="">
              <a:hlinkClick r:id="rId10" action="ppaction://hlinksldjump"/>
            </p:cNvPr>
            <p:cNvSpPr/>
            <p:nvPr/>
          </p:nvSpPr>
          <p:spPr>
            <a:xfrm>
              <a:off x="64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164360" y="4941720"/>
            <a:ext cx="647640" cy="647640"/>
            <a:chOff x="7164360" y="4941720"/>
            <a:chExt cx="647640" cy="647640"/>
          </a:xfrm>
        </p:grpSpPr>
        <p:sp>
          <p:nvSpPr>
            <p:cNvPr id="712" name=""/>
            <p:cNvSpPr/>
            <p:nvPr/>
          </p:nvSpPr>
          <p:spPr>
            <a:xfrm>
              <a:off x="716436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3" name="">
              <a:hlinkClick r:id="rId11" action="ppaction://hlinksldjump"/>
            </p:cNvPr>
            <p:cNvSpPr/>
            <p:nvPr/>
          </p:nvSpPr>
          <p:spPr>
            <a:xfrm>
              <a:off x="7235640" y="50846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979640" y="1628640"/>
            <a:ext cx="4284720" cy="2376720"/>
          </a:xfrm>
          <a:prstGeom prst="parallelogram">
            <a:avLst>
              <a:gd name="adj" fmla="val 4507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059280" y="1628640"/>
            <a:ext cx="2160360" cy="23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5580000" y="2492280"/>
            <a:ext cx="358920" cy="433440"/>
            <a:chOff x="5580000" y="2492280"/>
            <a:chExt cx="358920" cy="433440"/>
          </a:xfrm>
        </p:grpSpPr>
        <p:sp>
          <p:nvSpPr>
            <p:cNvPr id="717" name=""/>
            <p:cNvSpPr/>
            <p:nvPr/>
          </p:nvSpPr>
          <p:spPr>
            <a:xfrm>
              <a:off x="5580000" y="2637000"/>
              <a:ext cx="28728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51640" y="2492280"/>
              <a:ext cx="28728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411280" y="2492280"/>
            <a:ext cx="358920" cy="433440"/>
            <a:chOff x="2411280" y="2492280"/>
            <a:chExt cx="358920" cy="433440"/>
          </a:xfrm>
        </p:grpSpPr>
        <p:sp>
          <p:nvSpPr>
            <p:cNvPr id="720" name=""/>
            <p:cNvSpPr/>
            <p:nvPr/>
          </p:nvSpPr>
          <p:spPr>
            <a:xfrm>
              <a:off x="2411280" y="2637000"/>
              <a:ext cx="28728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82920" y="2492280"/>
              <a:ext cx="28728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 flipV="1">
            <a:off x="3635280" y="3789000"/>
            <a:ext cx="21600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572000" y="1412640"/>
            <a:ext cx="21600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84640" y="36450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67880" y="1125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10380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55000" y="35002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067280" y="5373720"/>
            <a:ext cx="4537080" cy="797040"/>
            <a:chOff x="4067280" y="5373720"/>
            <a:chExt cx="4537080" cy="797040"/>
          </a:xfrm>
        </p:grpSpPr>
        <p:sp>
          <p:nvSpPr>
            <p:cNvPr id="730" name=""/>
            <p:cNvSpPr/>
            <p:nvPr/>
          </p:nvSpPr>
          <p:spPr>
            <a:xfrm>
              <a:off x="4067280" y="5373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4172040" y="5518080"/>
              <a:ext cx="4429080" cy="652680"/>
              <a:chOff x="4172040" y="5518080"/>
              <a:chExt cx="4429080" cy="652680"/>
            </a:xfrm>
          </p:grpSpPr>
          <p:sp>
            <p:nvSpPr>
              <p:cNvPr id="732" name=""/>
              <p:cNvSpPr/>
              <p:nvPr/>
            </p:nvSpPr>
            <p:spPr>
              <a:xfrm>
                <a:off x="4172040" y="562140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3" name=""/>
                  <p:cNvSpPr txBox="1"/>
                  <p:nvPr/>
                </p:nvSpPr>
                <p:spPr>
                  <a:xfrm>
                    <a:off x="6396120" y="5518080"/>
                    <a:ext cx="64764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4" name=""/>
              <p:cNvSpPr/>
              <p:nvPr/>
            </p:nvSpPr>
            <p:spPr>
              <a:xfrm>
                <a:off x="6899400" y="558936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Д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7620120" y="5518080"/>
                <a:ext cx="981000" cy="652680"/>
                <a:chOff x="7620120" y="5518080"/>
                <a:chExt cx="98100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36" name=""/>
                    <p:cNvSpPr txBox="1"/>
                    <p:nvPr/>
                  </p:nvSpPr>
                  <p:spPr>
                    <a:xfrm>
                      <a:off x="7620120" y="5518080"/>
                      <a:ext cx="64764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37" name=""/>
                <p:cNvSpPr/>
                <p:nvPr/>
              </p:nvSpPr>
              <p:spPr>
                <a:xfrm>
                  <a:off x="8123400" y="5589360"/>
                  <a:ext cx="477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8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411280" y="836640"/>
            <a:ext cx="3889440" cy="367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356000" y="836640"/>
            <a:ext cx="0" cy="36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59200" y="4581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131000" y="4581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152240" y="26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19800" y="4437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92360" y="4292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64000" y="4292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148360" y="4292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219640" y="4292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059280" y="2852640"/>
            <a:ext cx="28872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292720" y="278136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663720" y="5765760"/>
            <a:ext cx="44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Д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ВС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08360" y="5589720"/>
            <a:ext cx="504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 rot="20209200">
            <a:off x="2520720" y="691920"/>
            <a:ext cx="4321080" cy="1800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14892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9450000">
            <a:off x="2195640" y="2707560"/>
            <a:ext cx="4465440" cy="18003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025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373640" y="138600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575080" y="3186000"/>
            <a:ext cx="1425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46720" y="138600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62360" y="347508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34000" y="347508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18360" y="1674720"/>
            <a:ext cx="14292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84640" y="3573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21920" y="350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010640" y="1052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592240" y="1557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89000" y="1052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08160" y="2565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51280" y="5013360"/>
            <a:ext cx="4537080" cy="797040"/>
            <a:chOff x="3851280" y="5013360"/>
            <a:chExt cx="4537080" cy="797040"/>
          </a:xfrm>
        </p:grpSpPr>
        <p:sp>
          <p:nvSpPr>
            <p:cNvPr id="770" name=""/>
            <p:cNvSpPr/>
            <p:nvPr/>
          </p:nvSpPr>
          <p:spPr>
            <a:xfrm>
              <a:off x="3851280" y="501336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956040" y="5157720"/>
              <a:ext cx="4428360" cy="652680"/>
              <a:chOff x="3956040" y="5157720"/>
              <a:chExt cx="4428360" cy="65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3956040" y="524016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"/>
                  <p:cNvSpPr txBox="1"/>
                  <p:nvPr/>
                </p:nvSpPr>
                <p:spPr>
                  <a:xfrm>
                    <a:off x="6180120" y="515772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74" name=""/>
              <p:cNvSpPr/>
              <p:nvPr/>
            </p:nvSpPr>
            <p:spPr>
              <a:xfrm>
                <a:off x="6683400" y="522900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Р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7404120" y="5157720"/>
                <a:ext cx="980280" cy="652680"/>
                <a:chOff x="7404120" y="515772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76" name=""/>
                    <p:cNvSpPr txBox="1"/>
                    <p:nvPr/>
                  </p:nvSpPr>
                  <p:spPr>
                    <a:xfrm>
                      <a:off x="7404120" y="515772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77" name=""/>
                <p:cNvSpPr/>
                <p:nvPr/>
              </p:nvSpPr>
              <p:spPr>
                <a:xfrm>
                  <a:off x="7907040" y="522900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К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8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84720" y="242100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195640" y="1989000"/>
                <a:ext cx="79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635280" y="3933720"/>
            <a:ext cx="647640" cy="647640"/>
            <a:chOff x="3635280" y="3933720"/>
            <a:chExt cx="647640" cy="647640"/>
          </a:xfrm>
        </p:grpSpPr>
        <p:sp>
          <p:nvSpPr>
            <p:cNvPr id="181" name=""/>
            <p:cNvSpPr/>
            <p:nvPr/>
          </p:nvSpPr>
          <p:spPr>
            <a:xfrm>
              <a:off x="363528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>
              <a:hlinkClick r:id="rId1" action="ppaction://hlinksldjump"/>
            </p:cNvPr>
            <p:cNvSpPr/>
            <p:nvPr/>
          </p:nvSpPr>
          <p:spPr>
            <a:xfrm>
              <a:off x="377820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00720" y="3933720"/>
            <a:ext cx="647640" cy="647640"/>
            <a:chOff x="4500720" y="3933720"/>
            <a:chExt cx="647640" cy="647640"/>
          </a:xfrm>
        </p:grpSpPr>
        <p:sp>
          <p:nvSpPr>
            <p:cNvPr id="184" name=""/>
            <p:cNvSpPr/>
            <p:nvPr/>
          </p:nvSpPr>
          <p:spPr>
            <a:xfrm>
              <a:off x="45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>
              <a:hlinkClick r:id="rId2" action="ppaction://hlinksldjump"/>
            </p:cNvPr>
            <p:cNvSpPr/>
            <p:nvPr/>
          </p:nvSpPr>
          <p:spPr>
            <a:xfrm>
              <a:off x="46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435640" y="3933720"/>
            <a:ext cx="647640" cy="647640"/>
            <a:chOff x="5435640" y="3933720"/>
            <a:chExt cx="647640" cy="647640"/>
          </a:xfrm>
        </p:grpSpPr>
        <p:sp>
          <p:nvSpPr>
            <p:cNvPr id="187" name=""/>
            <p:cNvSpPr/>
            <p:nvPr/>
          </p:nvSpPr>
          <p:spPr>
            <a:xfrm>
              <a:off x="543564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>
              <a:hlinkClick r:id="rId3" action="ppaction://hlinksldjump"/>
            </p:cNvPr>
            <p:cNvSpPr/>
            <p:nvPr/>
          </p:nvSpPr>
          <p:spPr>
            <a:xfrm>
              <a:off x="557856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300720" y="3933720"/>
            <a:ext cx="647640" cy="647640"/>
            <a:chOff x="6300720" y="3933720"/>
            <a:chExt cx="647640" cy="647640"/>
          </a:xfrm>
        </p:grpSpPr>
        <p:sp>
          <p:nvSpPr>
            <p:cNvPr id="190" name=""/>
            <p:cNvSpPr/>
            <p:nvPr/>
          </p:nvSpPr>
          <p:spPr>
            <a:xfrm>
              <a:off x="630072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>
              <a:hlinkClick r:id="rId4" action="ppaction://hlinksldjump"/>
            </p:cNvPr>
            <p:cNvSpPr/>
            <p:nvPr/>
          </p:nvSpPr>
          <p:spPr>
            <a:xfrm>
              <a:off x="644364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635280" y="4941720"/>
            <a:ext cx="647640" cy="647640"/>
            <a:chOff x="3635280" y="4941720"/>
            <a:chExt cx="647640" cy="647640"/>
          </a:xfrm>
        </p:grpSpPr>
        <p:sp>
          <p:nvSpPr>
            <p:cNvPr id="193" name=""/>
            <p:cNvSpPr/>
            <p:nvPr/>
          </p:nvSpPr>
          <p:spPr>
            <a:xfrm>
              <a:off x="363528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">
              <a:hlinkClick r:id="rId5" action="ppaction://hlinksldjump"/>
            </p:cNvPr>
            <p:cNvSpPr/>
            <p:nvPr/>
          </p:nvSpPr>
          <p:spPr>
            <a:xfrm>
              <a:off x="377820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00720" y="4941720"/>
            <a:ext cx="647640" cy="647640"/>
            <a:chOff x="4500720" y="4941720"/>
            <a:chExt cx="647640" cy="647640"/>
          </a:xfrm>
        </p:grpSpPr>
        <p:sp>
          <p:nvSpPr>
            <p:cNvPr id="196" name=""/>
            <p:cNvSpPr/>
            <p:nvPr/>
          </p:nvSpPr>
          <p:spPr>
            <a:xfrm>
              <a:off x="45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>
              <a:hlinkClick r:id="rId6" action="ppaction://hlinksldjump"/>
            </p:cNvPr>
            <p:cNvSpPr/>
            <p:nvPr/>
          </p:nvSpPr>
          <p:spPr>
            <a:xfrm>
              <a:off x="46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8" name="">
            <a:hlinkClick r:id="rId7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ebf7ff"/>
          </a:solidFill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00000" y="836640"/>
            <a:ext cx="69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ервый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ризнак  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64360" y="3933720"/>
            <a:ext cx="647640" cy="647640"/>
            <a:chOff x="7164360" y="3933720"/>
            <a:chExt cx="647640" cy="647640"/>
          </a:xfrm>
        </p:grpSpPr>
        <p:sp>
          <p:nvSpPr>
            <p:cNvPr id="201" name=""/>
            <p:cNvSpPr/>
            <p:nvPr/>
          </p:nvSpPr>
          <p:spPr>
            <a:xfrm>
              <a:off x="7164360" y="3933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>
              <a:hlinkClick r:id="rId8" action="ppaction://hlinksldjump"/>
            </p:cNvPr>
            <p:cNvSpPr/>
            <p:nvPr/>
          </p:nvSpPr>
          <p:spPr>
            <a:xfrm>
              <a:off x="7307280" y="4005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35640" y="4941720"/>
            <a:ext cx="647640" cy="647640"/>
            <a:chOff x="5435640" y="4941720"/>
            <a:chExt cx="647640" cy="647640"/>
          </a:xfrm>
        </p:grpSpPr>
        <p:sp>
          <p:nvSpPr>
            <p:cNvPr id="204" name=""/>
            <p:cNvSpPr/>
            <p:nvPr/>
          </p:nvSpPr>
          <p:spPr>
            <a:xfrm>
              <a:off x="543564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>
              <a:hlinkClick r:id="rId9" action="ppaction://hlinksldjump"/>
            </p:cNvPr>
            <p:cNvSpPr/>
            <p:nvPr/>
          </p:nvSpPr>
          <p:spPr>
            <a:xfrm>
              <a:off x="557856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300720" y="4941720"/>
            <a:ext cx="647640" cy="647640"/>
            <a:chOff x="6300720" y="4941720"/>
            <a:chExt cx="647640" cy="647640"/>
          </a:xfrm>
        </p:grpSpPr>
        <p:sp>
          <p:nvSpPr>
            <p:cNvPr id="207" name=""/>
            <p:cNvSpPr/>
            <p:nvPr/>
          </p:nvSpPr>
          <p:spPr>
            <a:xfrm>
              <a:off x="630072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>
              <a:hlinkClick r:id="rId10" action="ppaction://hlinksldjump"/>
            </p:cNvPr>
            <p:cNvSpPr/>
            <p:nvPr/>
          </p:nvSpPr>
          <p:spPr>
            <a:xfrm>
              <a:off x="6443640" y="5013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bf7ff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164360" y="4941720"/>
            <a:ext cx="647640" cy="647640"/>
            <a:chOff x="7164360" y="4941720"/>
            <a:chExt cx="647640" cy="647640"/>
          </a:xfrm>
        </p:grpSpPr>
        <p:sp>
          <p:nvSpPr>
            <p:cNvPr id="210" name=""/>
            <p:cNvSpPr/>
            <p:nvPr/>
          </p:nvSpPr>
          <p:spPr>
            <a:xfrm>
              <a:off x="7164360" y="494172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54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>
              <a:hlinkClick r:id="rId11" action="ppaction://hlinksldjump"/>
            </p:cNvPr>
            <p:cNvSpPr/>
            <p:nvPr/>
          </p:nvSpPr>
          <p:spPr>
            <a:xfrm>
              <a:off x="7235640" y="50846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f7ff"/>
                  </a:solidFill>
                  <a:latin typeface="Verdana"/>
                </a:rPr>
                <a:t>10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1843560" y="333360"/>
            <a:ext cx="5346360" cy="4756320"/>
            <a:chOff x="1843560" y="333360"/>
            <a:chExt cx="5346360" cy="4756320"/>
          </a:xfrm>
        </p:grpSpPr>
        <p:sp>
          <p:nvSpPr>
            <p:cNvPr id="783" name=""/>
            <p:cNvSpPr/>
            <p:nvPr/>
          </p:nvSpPr>
          <p:spPr>
            <a:xfrm>
              <a:off x="4499280" y="981000"/>
              <a:ext cx="2232000" cy="345600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267280" y="981000"/>
              <a:ext cx="2232000" cy="3456000"/>
            </a:xfrm>
            <a:prstGeom prst="rtTriangl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67280" y="3068640"/>
              <a:ext cx="4464000" cy="1368360"/>
            </a:xfrm>
            <a:custGeom>
              <a:avLst/>
              <a:gdLst/>
              <a:ahLst/>
              <a:rect l="l" t="t" r="r" b="b"/>
              <a:pathLst>
                <a:path w="2812" h="862">
                  <a:moveTo>
                    <a:pt x="0" y="862"/>
                  </a:moveTo>
                  <a:lnTo>
                    <a:pt x="1406" y="0"/>
                  </a:lnTo>
                  <a:lnTo>
                    <a:pt x="2812" y="86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03640" y="2636640"/>
              <a:ext cx="28908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5506920" y="2708280"/>
              <a:ext cx="3603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48360" y="3500280"/>
              <a:ext cx="28872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03640" y="3573360"/>
              <a:ext cx="28908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290920" y="3500280"/>
              <a:ext cx="3603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35280" y="3573360"/>
              <a:ext cx="3603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43560" y="4508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95160" y="33336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88480" y="24922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К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76440" y="4508280"/>
              <a:ext cx="4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Н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50000" y="436536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859280" y="5516640"/>
            <a:ext cx="3744720" cy="664920"/>
            <a:chOff x="4859280" y="5516640"/>
            <a:chExt cx="3744720" cy="664920"/>
          </a:xfrm>
        </p:grpSpPr>
        <p:sp>
          <p:nvSpPr>
            <p:cNvPr id="798" name=""/>
            <p:cNvSpPr/>
            <p:nvPr/>
          </p:nvSpPr>
          <p:spPr>
            <a:xfrm>
              <a:off x="4859280" y="5661000"/>
              <a:ext cx="37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Н=НС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30560" y="5516640"/>
              <a:ext cx="31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2123640" y="1125000"/>
            <a:ext cx="4248360" cy="3096000"/>
            <a:chOff x="2123640" y="1125000"/>
            <a:chExt cx="4248360" cy="3096000"/>
          </a:xfrm>
        </p:grpSpPr>
        <p:sp>
          <p:nvSpPr>
            <p:cNvPr id="803" name=""/>
            <p:cNvSpPr/>
            <p:nvPr/>
          </p:nvSpPr>
          <p:spPr>
            <a:xfrm rot="5400000">
              <a:off x="3312000" y="1160640"/>
              <a:ext cx="3095640" cy="3024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99">
                    <a:alpha val="77254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1187640" y="2060640"/>
              <a:ext cx="3095640" cy="1224000"/>
            </a:xfrm>
            <a:prstGeom prst="triangle">
              <a:avLst>
                <a:gd name="adj" fmla="val 5036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123640" y="2636640"/>
              <a:ext cx="42483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71640" y="3357360"/>
              <a:ext cx="21600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1640" y="1628280"/>
              <a:ext cx="21600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4427640" y="1557360"/>
              <a:ext cx="215640" cy="358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00000" y="3283920"/>
              <a:ext cx="21600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27640" y="3429000"/>
              <a:ext cx="215640" cy="358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626920" y="1700280"/>
              <a:ext cx="216000" cy="358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555920" y="234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144240" y="476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458400" y="227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22640" y="4292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341160" y="213372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Н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643280" y="4869000"/>
            <a:ext cx="4176360" cy="664920"/>
            <a:chOff x="4643280" y="4869000"/>
            <a:chExt cx="4176360" cy="664920"/>
          </a:xfrm>
        </p:grpSpPr>
        <p:sp>
          <p:nvSpPr>
            <p:cNvPr id="818" name=""/>
            <p:cNvSpPr/>
            <p:nvPr/>
          </p:nvSpPr>
          <p:spPr>
            <a:xfrm>
              <a:off x="4643280" y="5013360"/>
              <a:ext cx="41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ВН=НД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22480" y="4869000"/>
              <a:ext cx="353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31948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403280" y="476280"/>
            <a:ext cx="5725800" cy="4037400"/>
            <a:chOff x="1403280" y="476280"/>
            <a:chExt cx="5725800" cy="4037400"/>
          </a:xfrm>
        </p:grpSpPr>
        <p:grpSp>
          <p:nvGrpSpPr>
            <p:cNvPr id="824" name=""/>
            <p:cNvGrpSpPr/>
            <p:nvPr/>
          </p:nvGrpSpPr>
          <p:grpSpPr>
            <a:xfrm>
              <a:off x="1977840" y="836640"/>
              <a:ext cx="4680360" cy="3240000"/>
              <a:chOff x="1977840" y="836640"/>
              <a:chExt cx="4680360" cy="3240000"/>
            </a:xfrm>
          </p:grpSpPr>
          <p:sp>
            <p:nvSpPr>
              <p:cNvPr id="825" name=""/>
              <p:cNvSpPr/>
              <p:nvPr/>
            </p:nvSpPr>
            <p:spPr>
              <a:xfrm rot="10800000">
                <a:off x="1977840" y="909360"/>
                <a:ext cx="3887640" cy="3167280"/>
              </a:xfrm>
              <a:custGeom>
                <a:avLst/>
                <a:gdLst/>
                <a:ahLst/>
                <a:rect l="l" t="t" r="r" b="b"/>
                <a:pathLst>
                  <a:path w="2178" h="1678">
                    <a:moveTo>
                      <a:pt x="0" y="0"/>
                    </a:moveTo>
                    <a:lnTo>
                      <a:pt x="1769" y="0"/>
                    </a:lnTo>
                    <a:lnTo>
                      <a:pt x="2178" y="167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fefefe"/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0800000">
                <a:off x="2696760" y="836640"/>
                <a:ext cx="3961080" cy="3240000"/>
              </a:xfrm>
              <a:custGeom>
                <a:avLst/>
                <a:gdLst/>
                <a:ahLst/>
                <a:rect l="l" t="t" r="r" b="b"/>
                <a:pathLst>
                  <a:path w="2178" h="1678">
                    <a:moveTo>
                      <a:pt x="0" y="0"/>
                    </a:moveTo>
                    <a:lnTo>
                      <a:pt x="1769" y="0"/>
                    </a:lnTo>
                    <a:lnTo>
                      <a:pt x="2178" y="167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99">
                      <a:alpha val="60392"/>
                    </a:srgbClr>
                  </a:gs>
                  <a:gs pos="100000">
                    <a:srgbClr val="ffffff">
                      <a:alpha val="41176"/>
                    </a:srgbClr>
                  </a:gs>
                </a:gsLst>
                <a:lin ang="108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2041560" y="3932280"/>
              <a:ext cx="4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Д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67920" y="476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03280" y="47628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30720" y="39322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50920" y="249228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38920" y="2492280"/>
              <a:ext cx="57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5403600" y="44370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Д=С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924360" y="5013360"/>
            <a:ext cx="4537080" cy="797040"/>
            <a:chOff x="3924360" y="5013360"/>
            <a:chExt cx="4537080" cy="797040"/>
          </a:xfrm>
        </p:grpSpPr>
        <p:sp>
          <p:nvSpPr>
            <p:cNvPr id="835" name=""/>
            <p:cNvSpPr/>
            <p:nvPr/>
          </p:nvSpPr>
          <p:spPr>
            <a:xfrm>
              <a:off x="3924360" y="501336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4029120" y="5157720"/>
              <a:ext cx="4428360" cy="652680"/>
              <a:chOff x="4029120" y="5157720"/>
              <a:chExt cx="4428360" cy="652680"/>
            </a:xfrm>
          </p:grpSpPr>
          <p:sp>
            <p:nvSpPr>
              <p:cNvPr id="837" name=""/>
              <p:cNvSpPr/>
              <p:nvPr/>
            </p:nvSpPr>
            <p:spPr>
              <a:xfrm>
                <a:off x="4029120" y="524016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8" name=""/>
                  <p:cNvSpPr txBox="1"/>
                  <p:nvPr/>
                </p:nvSpPr>
                <p:spPr>
                  <a:xfrm>
                    <a:off x="6253200" y="515772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39" name=""/>
              <p:cNvSpPr/>
              <p:nvPr/>
            </p:nvSpPr>
            <p:spPr>
              <a:xfrm>
                <a:off x="6756480" y="522900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А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7477200" y="5157720"/>
                <a:ext cx="980280" cy="652680"/>
                <a:chOff x="7477200" y="515772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41" name=""/>
                    <p:cNvSpPr txBox="1"/>
                    <p:nvPr/>
                  </p:nvSpPr>
                  <p:spPr>
                    <a:xfrm>
                      <a:off x="7477200" y="515772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2" name=""/>
                <p:cNvSpPr/>
                <p:nvPr/>
              </p:nvSpPr>
              <p:spPr>
                <a:xfrm>
                  <a:off x="7980120" y="522900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43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763640" y="1628640"/>
            <a:ext cx="4969080" cy="2449800"/>
          </a:xfrm>
          <a:prstGeom prst="parallelogram">
            <a:avLst>
              <a:gd name="adj" fmla="val 50709"/>
            </a:avLst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63137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763640" y="1628640"/>
            <a:ext cx="496908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2340000" y="3499920"/>
            <a:ext cx="28728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1628640"/>
            <a:ext cx="7164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 flipV="1">
            <a:off x="5435280" y="2276640"/>
            <a:ext cx="730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5796000" y="1844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442764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457200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 flipV="1">
            <a:off x="3851280" y="386028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3708000" y="3860280"/>
            <a:ext cx="7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27280" y="21337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5076720" y="256536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7" name=""/>
          <p:cNvSpPr/>
          <p:nvPr/>
        </p:nvSpPr>
        <p:spPr>
          <a:xfrm>
            <a:off x="126720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6788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75144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786640" y="37162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37560" y="170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068640" y="26370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771640" y="5445000"/>
            <a:ext cx="5832360" cy="768240"/>
            <a:chOff x="2771640" y="5445000"/>
            <a:chExt cx="5832360" cy="768240"/>
          </a:xfrm>
        </p:grpSpPr>
        <p:sp>
          <p:nvSpPr>
            <p:cNvPr id="865" name=""/>
            <p:cNvSpPr/>
            <p:nvPr/>
          </p:nvSpPr>
          <p:spPr>
            <a:xfrm>
              <a:off x="283500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71640" y="544500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2411280" y="692280"/>
            <a:ext cx="4078440" cy="3528720"/>
            <a:chOff x="2411280" y="692280"/>
            <a:chExt cx="4078440" cy="3528720"/>
          </a:xfrm>
        </p:grpSpPr>
        <p:sp>
          <p:nvSpPr>
            <p:cNvPr id="869" name=""/>
            <p:cNvSpPr/>
            <p:nvPr/>
          </p:nvSpPr>
          <p:spPr>
            <a:xfrm>
              <a:off x="3058920" y="1341360"/>
              <a:ext cx="288000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58920" y="1341360"/>
              <a:ext cx="2881440" cy="1440000"/>
            </a:xfrm>
            <a:custGeom>
              <a:avLst/>
              <a:gdLst/>
              <a:ahLst/>
              <a:rect l="l" t="t" r="r" b="b"/>
              <a:pathLst>
                <a:path w="1815" h="907">
                  <a:moveTo>
                    <a:pt x="0" y="907"/>
                  </a:moveTo>
                  <a:lnTo>
                    <a:pt x="1815" y="907"/>
                  </a:lnTo>
                  <a:lnTo>
                    <a:pt x="907" y="0"/>
                  </a:lnTo>
                  <a:lnTo>
                    <a:pt x="0" y="907"/>
                  </a:lnTo>
                  <a:close/>
                </a:path>
              </a:pathLst>
            </a:custGeom>
            <a:gradFill rotWithShape="0">
              <a:gsLst>
                <a:gs pos="0">
                  <a:srgbClr val="72009a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98920" y="1341360"/>
              <a:ext cx="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98920" y="1341360"/>
              <a:ext cx="1440" cy="14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64000" y="1989000"/>
              <a:ext cx="28728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075280" y="1916280"/>
              <a:ext cx="28872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11280" y="242100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11640" y="278136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О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82920" y="6922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11640" y="242100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3419640" y="501336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443040" y="518940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Найти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388120" y="5086440"/>
                <a:ext cx="647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"/>
          <p:cNvSpPr/>
          <p:nvPr/>
        </p:nvSpPr>
        <p:spPr>
          <a:xfrm>
            <a:off x="5891040" y="5157720"/>
            <a:ext cx="17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О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720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-1544760" y="1125360"/>
            <a:ext cx="11514600" cy="5974920"/>
            <a:chOff x="-1544760" y="1125360"/>
            <a:chExt cx="11514600" cy="5974920"/>
          </a:xfrm>
        </p:grpSpPr>
        <p:sp>
          <p:nvSpPr>
            <p:cNvPr id="886" name=""/>
            <p:cNvSpPr/>
            <p:nvPr/>
          </p:nvSpPr>
          <p:spPr>
            <a:xfrm>
              <a:off x="1695240" y="1137960"/>
              <a:ext cx="3452760" cy="3009960"/>
            </a:xfrm>
            <a:custGeom>
              <a:avLst/>
              <a:gdLst/>
              <a:ahLst/>
              <a:rect l="l" t="t" r="r" b="b"/>
              <a:pathLst>
                <a:path w="2175" h="1896">
                  <a:moveTo>
                    <a:pt x="224" y="1896"/>
                  </a:moveTo>
                  <a:lnTo>
                    <a:pt x="2175" y="1896"/>
                  </a:lnTo>
                  <a:lnTo>
                    <a:pt x="1643" y="1444"/>
                  </a:lnTo>
                  <a:lnTo>
                    <a:pt x="0" y="0"/>
                  </a:lnTo>
                  <a:lnTo>
                    <a:pt x="224" y="18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3137"/>
                  </a:srgbClr>
                </a:gs>
                <a:gs pos="100000">
                  <a:srgbClr val="009999">
                    <a:alpha val="62352"/>
                  </a:srgbClr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55920" y="1195200"/>
              <a:ext cx="3325680" cy="2957400"/>
            </a:xfrm>
            <a:custGeom>
              <a:avLst/>
              <a:gdLst/>
              <a:ahLst/>
              <a:rect l="l" t="t" r="r" b="b"/>
              <a:pathLst>
                <a:path w="2095" h="1863">
                  <a:moveTo>
                    <a:pt x="1989" y="1860"/>
                  </a:moveTo>
                  <a:lnTo>
                    <a:pt x="0" y="1863"/>
                  </a:lnTo>
                  <a:lnTo>
                    <a:pt x="2095" y="0"/>
                  </a:lnTo>
                  <a:lnTo>
                    <a:pt x="1989" y="1860"/>
                  </a:lnTo>
                  <a:close/>
                </a:path>
              </a:pathLst>
            </a:custGeom>
            <a:gradFill rotWithShape="0">
              <a:gsLst>
                <a:gs pos="0">
                  <a:srgbClr val="dd55d3">
                    <a:alpha val="53333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08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635280" y="1626840"/>
              <a:ext cx="28728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6156000" y="2419200"/>
                  <a:ext cx="7923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1547640" y="2563560"/>
                  <a:ext cx="7920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 flipH="1">
              <a:off x="3348000" y="1195200"/>
              <a:ext cx="6621840" cy="590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-1544760" y="1125360"/>
              <a:ext cx="6622560" cy="590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814" swAng="55213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814" swAng="552135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4572000" y="1555560"/>
              <a:ext cx="28728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51280" y="1842840"/>
              <a:ext cx="28728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2771640" y="4003560"/>
              <a:ext cx="73080" cy="287280"/>
              <a:chOff x="2771640" y="4003560"/>
              <a:chExt cx="73080" cy="287280"/>
            </a:xfrm>
          </p:grpSpPr>
          <p:sp>
            <p:nvSpPr>
              <p:cNvPr id="896" name=""/>
              <p:cNvSpPr/>
              <p:nvPr/>
            </p:nvSpPr>
            <p:spPr>
              <a:xfrm>
                <a:off x="2771640" y="400356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844720" y="400356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4066920" y="4003560"/>
              <a:ext cx="73080" cy="287280"/>
              <a:chOff x="4066920" y="4003560"/>
              <a:chExt cx="73080" cy="287280"/>
            </a:xfrm>
          </p:grpSpPr>
          <p:sp>
            <p:nvSpPr>
              <p:cNvPr id="899" name=""/>
              <p:cNvSpPr/>
              <p:nvPr/>
            </p:nvSpPr>
            <p:spPr>
              <a:xfrm>
                <a:off x="4066920" y="400356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40000" y="400356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5651280" y="4003560"/>
              <a:ext cx="73080" cy="287280"/>
              <a:chOff x="5651280" y="4003560"/>
              <a:chExt cx="73080" cy="287280"/>
            </a:xfrm>
          </p:grpSpPr>
          <p:sp>
            <p:nvSpPr>
              <p:cNvPr id="902" name=""/>
              <p:cNvSpPr/>
              <p:nvPr/>
            </p:nvSpPr>
            <p:spPr>
              <a:xfrm>
                <a:off x="5651280" y="400356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724360" y="400356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904" name=""/>
          <p:cNvSpPr/>
          <p:nvPr/>
        </p:nvSpPr>
        <p:spPr>
          <a:xfrm>
            <a:off x="1547640" y="42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1456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0400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790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03640" y="4222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59280" y="41511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53000" y="569268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Найд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627280" y="544500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2050920" y="1773000"/>
            <a:ext cx="4464000" cy="1944720"/>
            <a:chOff x="2050920" y="1773000"/>
            <a:chExt cx="4464000" cy="1944720"/>
          </a:xfrm>
        </p:grpSpPr>
        <p:sp>
          <p:nvSpPr>
            <p:cNvPr id="915" name=""/>
            <p:cNvSpPr/>
            <p:nvPr/>
          </p:nvSpPr>
          <p:spPr>
            <a:xfrm>
              <a:off x="2050920" y="1773360"/>
              <a:ext cx="4464000" cy="1944360"/>
            </a:xfrm>
            <a:prstGeom prst="parallelogram">
              <a:avLst>
                <a:gd name="adj" fmla="val 5739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050920" y="1773000"/>
              <a:ext cx="4464000" cy="19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66560" y="1773360"/>
              <a:ext cx="2232360" cy="1944360"/>
            </a:xfrm>
            <a:custGeom>
              <a:avLst/>
              <a:gdLst/>
              <a:ahLst/>
              <a:rect l="l" t="t" r="r" b="b"/>
              <a:pathLst>
                <a:path w="1270" h="1134">
                  <a:moveTo>
                    <a:pt x="0" y="0"/>
                  </a:moveTo>
                  <a:lnTo>
                    <a:pt x="1270" y="1134"/>
                  </a:lnTo>
                  <a:lnTo>
                    <a:pt x="1270" y="108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3492360" y="198900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4427640" y="2852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0" name=""/>
          <p:cNvSpPr/>
          <p:nvPr/>
        </p:nvSpPr>
        <p:spPr>
          <a:xfrm>
            <a:off x="3203640" y="299736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276720" y="292428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59280" y="227808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932360" y="220500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476360" y="3429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627280" y="1197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516720" y="1125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580000" y="3357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14036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059280" y="5013360"/>
            <a:ext cx="5760720" cy="1194840"/>
            <a:chOff x="3059280" y="5013360"/>
            <a:chExt cx="5760720" cy="1194840"/>
          </a:xfrm>
        </p:grpSpPr>
        <p:sp>
          <p:nvSpPr>
            <p:cNvPr id="930" name=""/>
            <p:cNvSpPr/>
            <p:nvPr/>
          </p:nvSpPr>
          <p:spPr>
            <a:xfrm>
              <a:off x="3089880" y="5261040"/>
              <a:ext cx="459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Найти: все  пары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равных  треугольников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59280" y="5013360"/>
              <a:ext cx="57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32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720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720480" y="21744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147636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писок литератур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116676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75440" y="1268280"/>
            <a:ext cx="692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1.Ершова А.П., Голобородько В.В, Ершова А.С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Самостоятельные и контрольные работы по алгебр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и геометриидля 7 класса.-М:Илекса, 2004.-176с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006560" y="2205000"/>
            <a:ext cx="65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2.Саврасова С.М.,Ястребинецкий Г.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Упражнения по планиметрии на готовых чертежах.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М.: просвещение, 1987.-112 с.: ил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33840" y="3141720"/>
            <a:ext cx="80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3. Зив Б.Г. и др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Задачи по геометрии: Пособие для учащихся 7-11 кл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общеобразоват.учреждений.-М.:Просвещение, 2000.-271 с.: ил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909000" y="422100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9a"/>
                </a:solidFill>
                <a:latin typeface="Verdana"/>
              </a:rPr>
              <a:t>4. Рабинович Е.М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9a"/>
                </a:solidFill>
                <a:latin typeface="Verdana"/>
              </a:rPr>
              <a:t>Сборник задач на готовых чертежах.-К.:1996.-56с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95672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noFill/>
          <a:ln w="38160">
            <a:solidFill>
              <a:srgbClr val="7200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84520" y="4941720"/>
            <a:ext cx="70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9a"/>
                </a:solidFill>
                <a:latin typeface="Verdana"/>
              </a:rPr>
              <a:t>5. Гаврилова Н.Ф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оурочные разработки по геометрии: 7 класс.-2-е изд.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9a"/>
                </a:solidFill>
                <a:latin typeface="Verdana"/>
              </a:rPr>
              <a:t>перераб. и доп.-М.: ВАКО,2009.-304 с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213" name=""/>
            <p:cNvSpPr/>
            <p:nvPr/>
          </p:nvSpPr>
          <p:spPr>
            <a:xfrm>
              <a:off x="2268360" y="2925360"/>
              <a:ext cx="3743280" cy="1295640"/>
            </a:xfrm>
            <a:custGeom>
              <a:avLst/>
              <a:gdLst/>
              <a:ahLst/>
              <a:rect l="l" t="t" r="r" b="b"/>
              <a:pathLst>
                <a:path w="2358" h="816">
                  <a:moveTo>
                    <a:pt x="0" y="816"/>
                  </a:moveTo>
                  <a:lnTo>
                    <a:pt x="1315" y="0"/>
                  </a:lnTo>
                  <a:lnTo>
                    <a:pt x="2358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2700000" y="1628640"/>
              <a:ext cx="3743280" cy="1295280"/>
            </a:xfrm>
            <a:custGeom>
              <a:avLst/>
              <a:gdLst/>
              <a:ahLst/>
              <a:rect l="l" t="t" r="r" b="b"/>
              <a:pathLst>
                <a:path w="2358" h="816">
                  <a:moveTo>
                    <a:pt x="0" y="816"/>
                  </a:moveTo>
                  <a:lnTo>
                    <a:pt x="1315" y="0"/>
                  </a:lnTo>
                  <a:lnTo>
                    <a:pt x="2358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276720" y="335772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328464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2205000"/>
            <a:ext cx="287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6560" y="213192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492360" y="220500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859280" y="335772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71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6240" y="1052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1980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75720" y="3789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0760" y="26370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728880" y="4941720"/>
            <a:ext cx="5019840" cy="811080"/>
            <a:chOff x="3728880" y="4941720"/>
            <a:chExt cx="5019840" cy="811080"/>
          </a:xfrm>
        </p:grpSpPr>
        <p:sp>
          <p:nvSpPr>
            <p:cNvPr id="227" name=""/>
            <p:cNvSpPr/>
            <p:nvPr/>
          </p:nvSpPr>
          <p:spPr>
            <a:xfrm>
              <a:off x="3728880" y="5232240"/>
              <a:ext cx="452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ВО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ОД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78200" y="4941720"/>
              <a:ext cx="497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54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940040" y="-159480"/>
            <a:ext cx="5551560" cy="5735160"/>
            <a:chOff x="1940040" y="-159480"/>
            <a:chExt cx="5551560" cy="5735160"/>
          </a:xfrm>
        </p:grpSpPr>
        <p:sp>
          <p:nvSpPr>
            <p:cNvPr id="232" name=""/>
            <p:cNvSpPr/>
            <p:nvPr/>
          </p:nvSpPr>
          <p:spPr>
            <a:xfrm rot="1343400">
              <a:off x="2484360" y="971640"/>
              <a:ext cx="4463640" cy="3470040"/>
            </a:xfrm>
            <a:custGeom>
              <a:avLst/>
              <a:gdLst/>
              <a:ahLst/>
              <a:rect l="l" t="t" r="r" b="b"/>
              <a:pathLst>
                <a:path w="2359" h="1723">
                  <a:moveTo>
                    <a:pt x="0" y="1723"/>
                  </a:moveTo>
                  <a:lnTo>
                    <a:pt x="363" y="589"/>
                  </a:lnTo>
                  <a:lnTo>
                    <a:pt x="2359" y="0"/>
                  </a:lnTo>
                  <a:lnTo>
                    <a:pt x="0" y="1723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 rot="18600000">
              <a:off x="2340000" y="1077480"/>
              <a:ext cx="4750920" cy="3260520"/>
            </a:xfrm>
            <a:custGeom>
              <a:avLst/>
              <a:gdLst/>
              <a:ahLst/>
              <a:rect l="l" t="t" r="r" b="b"/>
              <a:pathLst>
                <a:path w="2359" h="1723">
                  <a:moveTo>
                    <a:pt x="0" y="1723"/>
                  </a:moveTo>
                  <a:lnTo>
                    <a:pt x="363" y="589"/>
                  </a:lnTo>
                  <a:lnTo>
                    <a:pt x="2359" y="0"/>
                  </a:lnTo>
                  <a:lnTo>
                    <a:pt x="0" y="172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484640" y="2852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4424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54720" y="1341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15000" y="4221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8720" y="2565720"/>
            <a:ext cx="8629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32" y="32"/>
                </a:moveTo>
                <a:arcTo wR="10800" hR="10800" stAng="-5135056" swAng="5135056"/>
                <a:lnTo>
                  <a:pt x="10800" y="10800"/>
                </a:lnTo>
                <a:close/>
              </a:path>
              <a:path fill="none" w="21600" h="21600">
                <a:moveTo>
                  <a:pt x="11632" y="32"/>
                </a:moveTo>
                <a:arcTo wR="10800" hR="10800" stAng="-5135056" swAng="513505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3262800">
            <a:off x="2150640" y="2877480"/>
            <a:ext cx="95220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367" swAng="5106564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367" swAng="510656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1989000"/>
            <a:ext cx="5050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987640" y="386064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829320" y="5157720"/>
            <a:ext cx="4433040" cy="811080"/>
            <a:chOff x="3829320" y="5157720"/>
            <a:chExt cx="4433040" cy="811080"/>
          </a:xfrm>
        </p:grpSpPr>
        <p:sp>
          <p:nvSpPr>
            <p:cNvPr id="243" name=""/>
            <p:cNvSpPr/>
            <p:nvPr/>
          </p:nvSpPr>
          <p:spPr>
            <a:xfrm>
              <a:off x="3829320" y="5448240"/>
              <a:ext cx="44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В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ДС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835280" y="1484280"/>
            <a:ext cx="4967280" cy="2232000"/>
          </a:xfrm>
          <a:prstGeom prst="parallelogram">
            <a:avLst>
              <a:gd name="adj" fmla="val 55637"/>
            </a:avLst>
          </a:prstGeom>
          <a:gradFill rotWithShape="0">
            <a:gsLst>
              <a:gs pos="0">
                <a:srgbClr val="ffffff"/>
              </a:gs>
              <a:gs pos="50000">
                <a:srgbClr val="dd55d3">
                  <a:alpha val="82352"/>
                </a:srgbClr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619280" y="1484280"/>
            <a:ext cx="5689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3716280"/>
            <a:ext cx="63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549360"/>
            <a:ext cx="4465800" cy="40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148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2920" y="1268280"/>
            <a:ext cx="287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80000" y="3500280"/>
            <a:ext cx="28728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 rot="4035000">
            <a:off x="2121120" y="714240"/>
            <a:ext cx="862920" cy="11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68" y="35"/>
                </a:moveTo>
                <a:arcTo wR="10800" hR="10800" stAng="-5123491" swAng="5392616"/>
                <a:lnTo>
                  <a:pt x="10800" y="10800"/>
                </a:lnTo>
                <a:close/>
              </a:path>
              <a:path fill="none" w="21600" h="21600">
                <a:moveTo>
                  <a:pt x="11668" y="35"/>
                </a:moveTo>
                <a:arcTo wR="10800" hR="10800" stAng="-5123491" swAng="539261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97440" y="3141360"/>
            <a:ext cx="8632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71" y="32"/>
                </a:moveTo>
                <a:arcTo wR="10800" hR="10800" stAng="-5664214" swAng="5664214"/>
                <a:lnTo>
                  <a:pt x="10800" y="10800"/>
                </a:lnTo>
                <a:close/>
              </a:path>
              <a:path fill="none" w="21600" h="21600">
                <a:moveTo>
                  <a:pt x="9971" y="32"/>
                </a:moveTo>
                <a:arcTo wR="10800" hR="10800" stAng="-5664214" swAng="566421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981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38280" y="36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4028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44240" y="765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51440" y="83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10280" y="3860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08080" y="5157720"/>
            <a:ext cx="4472640" cy="811080"/>
            <a:chOff x="3808080" y="5157720"/>
            <a:chExt cx="4472640" cy="811080"/>
          </a:xfrm>
        </p:grpSpPr>
        <p:sp>
          <p:nvSpPr>
            <p:cNvPr id="263" name=""/>
            <p:cNvSpPr/>
            <p:nvPr/>
          </p:nvSpPr>
          <p:spPr>
            <a:xfrm>
              <a:off x="3808080" y="5448240"/>
              <a:ext cx="44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ВД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ВСД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25092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3843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30"/>
                </a:lnTo>
                <a:lnTo>
                  <a:pt x="17763" y="10806"/>
                </a:lnTo>
                <a:lnTo>
                  <a:pt x="16109" y="10806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6"/>
                </a:lnTo>
                <a:lnTo>
                  <a:pt x="3837" y="10806"/>
                </a:lnTo>
                <a:close/>
              </a:path>
              <a:path fill="darkenLess" w="21600" h="21612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30"/>
                </a:lnTo>
                <a:close/>
              </a:path>
              <a:path fill="darkenLess" w="21600" h="21612">
                <a:moveTo>
                  <a:pt x="9877" y="14305"/>
                </a:moveTo>
                <a:lnTo>
                  <a:pt x="11723" y="14305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6"/>
                </a:lnTo>
                <a:lnTo>
                  <a:pt x="5491" y="10806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noFill/>
          <a:ln w="38160">
            <a:solidFill>
              <a:srgbClr val="dd55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68360" y="1844640"/>
            <a:ext cx="4392720" cy="1943280"/>
          </a:xfrm>
          <a:prstGeom prst="parallelogram">
            <a:avLst>
              <a:gd name="adj" fmla="val 56512"/>
            </a:avLst>
          </a:prstGeom>
          <a:gradFill rotWithShape="0">
            <a:gsLst>
              <a:gs pos="0">
                <a:srgbClr val="ffffff"/>
              </a:gs>
              <a:gs pos="50000">
                <a:srgbClr val="009999">
                  <a:alpha val="63137"/>
                </a:srgbClr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268360" y="1844640"/>
            <a:ext cx="43912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66560" y="2997360"/>
            <a:ext cx="8906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1" y="4"/>
                </a:moveTo>
                <a:arcTo wR="10800" hR="10800" stAng="-5488734" swAng="4323256"/>
                <a:lnTo>
                  <a:pt x="10800" y="10800"/>
                </a:lnTo>
                <a:close/>
              </a:path>
              <a:path fill="none" w="21600" h="21600">
                <a:moveTo>
                  <a:pt x="10521" y="4"/>
                </a:moveTo>
                <a:arcTo wR="10800" hR="10800" stAng="-5488734" swAng="432325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3280" y="242100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0989600">
            <a:off x="5787360" y="1496160"/>
            <a:ext cx="8643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1" y="4"/>
                </a:moveTo>
                <a:arcTo wR="10800" hR="10800" stAng="-5488734" swAng="4323256"/>
                <a:lnTo>
                  <a:pt x="10800" y="10800"/>
                </a:lnTo>
                <a:close/>
              </a:path>
              <a:path fill="none" w="21600" h="21600">
                <a:moveTo>
                  <a:pt x="10521" y="4"/>
                </a:moveTo>
                <a:arcTo wR="10800" hR="10800" stAng="-5488734" swAng="432325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2276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96000" y="3068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292428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1628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44240" y="119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51440" y="1197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378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51280" y="4869000"/>
            <a:ext cx="4537080" cy="797040"/>
            <a:chOff x="3851280" y="4869000"/>
            <a:chExt cx="4537080" cy="797040"/>
          </a:xfrm>
        </p:grpSpPr>
        <p:sp>
          <p:nvSpPr>
            <p:cNvPr id="280" name=""/>
            <p:cNvSpPr/>
            <p:nvPr/>
          </p:nvSpPr>
          <p:spPr>
            <a:xfrm>
              <a:off x="3851280" y="486900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956040" y="5013360"/>
              <a:ext cx="4428360" cy="652680"/>
              <a:chOff x="3956040" y="5013360"/>
              <a:chExt cx="4428360" cy="652680"/>
            </a:xfrm>
          </p:grpSpPr>
          <p:sp>
            <p:nvSpPr>
              <p:cNvPr id="282" name=""/>
              <p:cNvSpPr/>
              <p:nvPr/>
            </p:nvSpPr>
            <p:spPr>
              <a:xfrm>
                <a:off x="3956040" y="509580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3" name=""/>
                  <p:cNvSpPr txBox="1"/>
                  <p:nvPr/>
                </p:nvSpPr>
                <p:spPr>
                  <a:xfrm>
                    <a:off x="6180120" y="501336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4" name=""/>
              <p:cNvSpPr/>
              <p:nvPr/>
            </p:nvSpPr>
            <p:spPr>
              <a:xfrm>
                <a:off x="6683400" y="508464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Univers"/>
                  </a:rPr>
                  <a:t>Д=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7404120" y="5013360"/>
                <a:ext cx="980280" cy="652680"/>
                <a:chOff x="7404120" y="501336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86" name=""/>
                    <p:cNvSpPr txBox="1"/>
                    <p:nvPr/>
                  </p:nvSpPr>
                  <p:spPr>
                    <a:xfrm>
                      <a:off x="7404120" y="501336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87" name=""/>
                <p:cNvSpPr/>
                <p:nvPr/>
              </p:nvSpPr>
              <p:spPr>
                <a:xfrm>
                  <a:off x="7907040" y="508464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050920" y="4005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023640" y="295200"/>
            <a:ext cx="3456000" cy="4392360"/>
          </a:xfrm>
          <a:prstGeom prst="triangle">
            <a:avLst>
              <a:gd name="adj" fmla="val 47403"/>
            </a:avLst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cc0099">
                  <a:alpha val="6235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555640" y="2421000"/>
            <a:ext cx="439236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 rot="3641400">
            <a:off x="5105520" y="2517840"/>
            <a:ext cx="10076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7" y="4"/>
                </a:moveTo>
                <a:arcTo wR="10800" hR="10800" stAng="-5489969" swAng="5489969"/>
                <a:lnTo>
                  <a:pt x="10800" y="10800"/>
                </a:lnTo>
                <a:close/>
              </a:path>
              <a:path fill="none" w="21600" h="21600">
                <a:moveTo>
                  <a:pt x="10517" y="4"/>
                </a:moveTo>
                <a:arcTo wR="10800" hR="10800" stAng="-5489969" swAng="548996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 rot="3641400">
            <a:off x="5105160" y="1870920"/>
            <a:ext cx="10090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0" y="90"/>
                </a:moveTo>
                <a:arcTo wR="10800" hR="10800" stAng="-5843711" swAng="5843711"/>
                <a:lnTo>
                  <a:pt x="10800" y="10800"/>
                </a:lnTo>
                <a:close/>
              </a:path>
              <a:path fill="none" w="21600" h="21600">
                <a:moveTo>
                  <a:pt x="9410" y="90"/>
                </a:moveTo>
                <a:arcTo wR="10800" hR="10800" stAng="-5843711" swAng="58437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141440" y="1268280"/>
            <a:ext cx="28908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3080" y="3355920"/>
            <a:ext cx="287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21319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260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80000" y="5229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"/>
              </a:rPr>
              <a:t>Доказать: АВ=В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51280" y="50133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>
            <a:off x="4427640" y="981000"/>
            <a:ext cx="2952720" cy="3311640"/>
          </a:xfrm>
          <a:custGeom>
            <a:avLst/>
            <a:gdLst/>
            <a:ahLst/>
            <a:rect l="l" t="t" r="r" b="b"/>
            <a:pathLst>
              <a:path w="1860" h="2087">
                <a:moveTo>
                  <a:pt x="409" y="2087"/>
                </a:moveTo>
                <a:lnTo>
                  <a:pt x="1860" y="2087"/>
                </a:lnTo>
                <a:lnTo>
                  <a:pt x="0" y="0"/>
                </a:lnTo>
                <a:lnTo>
                  <a:pt x="409" y="208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356000" y="4292640"/>
            <a:ext cx="324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76360" y="981000"/>
            <a:ext cx="2952720" cy="3311640"/>
          </a:xfrm>
          <a:custGeom>
            <a:avLst/>
            <a:gdLst/>
            <a:ahLst/>
            <a:rect l="l" t="t" r="r" b="b"/>
            <a:pathLst>
              <a:path w="1860" h="2087">
                <a:moveTo>
                  <a:pt x="409" y="2087"/>
                </a:moveTo>
                <a:lnTo>
                  <a:pt x="1860" y="2087"/>
                </a:lnTo>
                <a:lnTo>
                  <a:pt x="0" y="0"/>
                </a:lnTo>
                <a:lnTo>
                  <a:pt x="409" y="208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186920" y="4292640"/>
            <a:ext cx="32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403280" y="3573360"/>
            <a:ext cx="115200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02880" y="3500280"/>
            <a:ext cx="114840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74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3064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42920" y="476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0" y="429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51640" y="5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11640" y="43657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8000" y="4365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78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00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2852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29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51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324" name=""/>
            <p:cNvSpPr/>
            <p:nvPr/>
          </p:nvSpPr>
          <p:spPr>
            <a:xfrm>
              <a:off x="5150160" y="5519880"/>
              <a:ext cx="33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Univers"/>
                </a:rPr>
                <a:t>Доказать: АО=СО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2509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51:42Z</dcterms:created>
  <dc:creator>Наталия Обухова</dc:creator>
  <dc:description/>
  <dc:language>en-US</dc:language>
  <cp:lastModifiedBy>Марина</cp:lastModifiedBy>
  <dcterms:modified xsi:type="dcterms:W3CDTF">2011-04-11T14:53:55Z</dcterms:modified>
  <cp:revision>20</cp:revision>
  <dc:subject/>
  <dc:title>Слайд 1</dc:title>
</cp:coreProperties>
</file>