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3475-952C-43C9-9690-68EC7249FA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.С. Атанасян.   Геометрия 10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 7-9,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144-47DB-4264-86E0-B48A7F8D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A32-9905-4854-9D16-417D5A78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6B37-724E-4FFD-942C-F911B2EE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D16-0437-4025-B5EC-A479C92D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34B-EAE6-4D72-ACB5-E848787D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C76B-0D13-465D-B2AA-DE4B26C0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31F-DADB-4FBA-AE3D-EF333907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E44-898E-4A39-BD64-B31E4430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AEC-BD28-4559-BE9C-F6A031FB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A131-7DDA-42C5-B307-0F9FF7A6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727-82C1-4939-86B6-04403503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BCCE-4C9B-4A9D-B5FD-F8957381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4EA6-0F72-4D2F-98D5-FC669D3926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49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 txBox="1"/>
          <p:nvPr/>
        </p:nvSpPr>
        <p:spPr>
          <a:xfrm>
            <a:off x="457200" y="1523880"/>
            <a:ext cx="83818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есты открытого типа</a:t>
            </a:r>
            <a:endParaRPr b="1" lang="en-US" sz="6600" spc="1" strike="noStrike">
              <a:ln w="648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в    PowerPoint</a:t>
            </a:r>
            <a:endParaRPr b="1" lang="en-US" sz="6600" spc="1" strike="noStrike">
              <a:ln w="648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5520" y="502920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еометрия 9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486400" y="53341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33526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23623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13716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4572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7924680" y="61261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67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562720" y="228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2860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водите ответы в текстовые поля, не делая пробелов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67480" y="228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д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200" y="533520"/>
            <a:ext cx="43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6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06960" y="5335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577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1520" y="1523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2514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91520" y="3505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91520" y="4419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91520" y="5334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14479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51240" y="2438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3280" y="3429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83280" y="45403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3280" y="54100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160" y="1447920"/>
            <a:ext cx="47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,16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5520" y="2438280"/>
            <a:ext cx="34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5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5520" y="3473280"/>
            <a:ext cx="37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44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640" y="4572000"/>
            <a:ext cx="29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,25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5160" y="5486400"/>
            <a:ext cx="47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,09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77600" y="6323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1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95680" y="5335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00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09480" y="1522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ти координаты векторов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8840" y="20304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водите ответы в текстовые поля, не делая пробелов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28120" y="685800"/>
            <a:ext cx="4187520" cy="581400"/>
            <a:chOff x="528120" y="685800"/>
            <a:chExt cx="4187520" cy="581400"/>
          </a:xfrm>
        </p:grpSpPr>
        <p:sp>
          <p:nvSpPr>
            <p:cNvPr id="111" name=""/>
            <p:cNvSpPr/>
            <p:nvPr/>
          </p:nvSpPr>
          <p:spPr>
            <a:xfrm>
              <a:off x="528120" y="685800"/>
              <a:ext cx="41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(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;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M(-2;7);    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840" y="761760"/>
              <a:ext cx="48240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03000" y="1554120"/>
            <a:ext cx="4051800" cy="581400"/>
            <a:chOff x="603000" y="1554120"/>
            <a:chExt cx="4051800" cy="581400"/>
          </a:xfrm>
        </p:grpSpPr>
        <p:sp>
          <p:nvSpPr>
            <p:cNvPr id="114" name=""/>
            <p:cNvSpPr/>
            <p:nvPr/>
          </p:nvSpPr>
          <p:spPr>
            <a:xfrm>
              <a:off x="603000" y="1554120"/>
              <a:ext cx="405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r>
                <a:rPr b="1" lang="ru-RU" sz="3200" spc="-1" strike="noStrike">
                  <a:solidFill>
                    <a:srgbClr val="660066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-5;1)</a:t>
              </a:r>
              <a:r>
                <a:rPr b="1" lang="ru-RU" sz="3200" spc="-1" strike="noStrike">
                  <a:solidFill>
                    <a:srgbClr val="660066"/>
                  </a:solidFill>
                  <a:latin typeface="Times New Roman"/>
                </a:rPr>
                <a:t>;  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D(-5;7);    P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14800" y="1630080"/>
              <a:ext cx="48240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660066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21000" y="2514600"/>
            <a:ext cx="4109760" cy="581400"/>
            <a:chOff x="621000" y="2514600"/>
            <a:chExt cx="4109760" cy="581400"/>
          </a:xfrm>
        </p:grpSpPr>
        <p:sp>
          <p:nvSpPr>
            <p:cNvPr id="117" name=""/>
            <p:cNvSpPr/>
            <p:nvPr/>
          </p:nvSpPr>
          <p:spPr>
            <a:xfrm>
              <a:off x="621000" y="2514600"/>
              <a:ext cx="410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R</a:t>
              </a:r>
              <a:r>
                <a:rPr b="1" lang="ru-RU" sz="3200" spc="-1" strike="noStrike">
                  <a:solidFill>
                    <a:srgbClr val="0066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-3;0)</a:t>
              </a:r>
              <a:r>
                <a:rPr b="1" lang="ru-RU" sz="3200" spc="-1" strike="noStrike">
                  <a:solidFill>
                    <a:srgbClr val="006600"/>
                  </a:solidFill>
                  <a:latin typeface="Times New Roman"/>
                </a:rPr>
                <a:t>;  </a:t>
              </a: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N(0;5);     R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32440" y="2590560"/>
              <a:ext cx="48240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64120" y="3535200"/>
            <a:ext cx="4166280" cy="581400"/>
            <a:chOff x="564120" y="3535200"/>
            <a:chExt cx="4166280" cy="581400"/>
          </a:xfrm>
        </p:grpSpPr>
        <p:sp>
          <p:nvSpPr>
            <p:cNvPr id="120" name=""/>
            <p:cNvSpPr/>
            <p:nvPr/>
          </p:nvSpPr>
          <p:spPr>
            <a:xfrm>
              <a:off x="564120" y="3535200"/>
              <a:ext cx="416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A</a:t>
              </a:r>
              <a:r>
                <a:rPr b="1" lang="ru-RU" sz="3200" spc="-1" strike="noStrike">
                  <a:solidFill>
                    <a:srgbClr val="8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0;3)</a:t>
              </a:r>
              <a:r>
                <a:rPr b="1" lang="ru-RU" sz="3200" spc="-1" strike="noStrike">
                  <a:solidFill>
                    <a:srgbClr val="800000"/>
                  </a:solidFill>
                  <a:latin typeface="Times New Roman"/>
                </a:rPr>
                <a:t>; </a:t>
              </a: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B(-4;0);     B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5200" y="3611160"/>
              <a:ext cx="48240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99040" y="5486400"/>
            <a:ext cx="4131000" cy="581400"/>
            <a:chOff x="599040" y="5486400"/>
            <a:chExt cx="4131000" cy="581400"/>
          </a:xfrm>
        </p:grpSpPr>
        <p:sp>
          <p:nvSpPr>
            <p:cNvPr id="123" name=""/>
            <p:cNvSpPr/>
            <p:nvPr/>
          </p:nvSpPr>
          <p:spPr>
            <a:xfrm>
              <a:off x="599040" y="5486400"/>
              <a:ext cx="413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7;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;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(-2;-7);   R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10120" y="5562360"/>
              <a:ext cx="48240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32520" y="4525920"/>
            <a:ext cx="4097520" cy="581400"/>
            <a:chOff x="632520" y="4525920"/>
            <a:chExt cx="4097520" cy="581400"/>
          </a:xfrm>
        </p:grpSpPr>
        <p:sp>
          <p:nvSpPr>
            <p:cNvPr id="126" name=""/>
            <p:cNvSpPr/>
            <p:nvPr/>
          </p:nvSpPr>
          <p:spPr>
            <a:xfrm>
              <a:off x="632520" y="4525920"/>
              <a:ext cx="409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r>
                <a:rPr b="1" lang="ru-RU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ru-RU" sz="32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;</a:t>
              </a:r>
              <a:r>
                <a:rPr b="1" lang="ru-RU" sz="32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r>
                <a:rPr b="1" lang="ru-RU" sz="3200" spc="-1" strike="noStrike">
                  <a:solidFill>
                    <a:srgbClr val="0000ff"/>
                  </a:solidFill>
                  <a:latin typeface="Times New Roman"/>
                </a:rPr>
                <a:t>; 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B(-2;0);    A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43240" y="4601880"/>
              <a:ext cx="482040" cy="180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495680" y="14479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3623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41316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53341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4197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2880" y="62474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495680" y="144792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3623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41316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4197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539424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51768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42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5228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ти координаты середин отрезков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639720"/>
            <a:ext cx="40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;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(-2;7);    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5560" y="1600200"/>
            <a:ext cx="422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P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-5;1)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;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D(-5;7);      C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4880" y="249876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-3;0)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; 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N(0;5);     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348948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0;-6)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;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B(-4;2);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544032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7;4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(-2;-7);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572000"/>
            <a:ext cx="409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7;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(-2;0);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2880" y="62474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08840" y="20304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водите ответы в текстовые поля, не делая пробелов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4724280" y="4937040"/>
            <a:ext cx="4038840" cy="703440"/>
            <a:chOff x="4724280" y="4937040"/>
            <a:chExt cx="4038840" cy="703440"/>
          </a:xfrm>
        </p:grpSpPr>
        <p:sp>
          <p:nvSpPr>
            <p:cNvPr id="160" name=""/>
            <p:cNvSpPr/>
            <p:nvPr/>
          </p:nvSpPr>
          <p:spPr>
            <a:xfrm>
              <a:off x="6553080" y="4937040"/>
              <a:ext cx="221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99200" y="502920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24280" y="498168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f(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0; 5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4146480"/>
            <a:ext cx="2743200" cy="703440"/>
            <a:chOff x="6324480" y="4146480"/>
            <a:chExt cx="2743200" cy="703440"/>
          </a:xfrm>
        </p:grpSpPr>
        <p:sp>
          <p:nvSpPr>
            <p:cNvPr id="164" name=""/>
            <p:cNvSpPr/>
            <p:nvPr/>
          </p:nvSpPr>
          <p:spPr>
            <a:xfrm>
              <a:off x="6324480" y="4146480"/>
              <a:ext cx="274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0,5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e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99200" y="4375080"/>
              <a:ext cx="29232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781680" y="3276720"/>
            <a:ext cx="2057400" cy="703440"/>
            <a:chOff x="6781680" y="3276720"/>
            <a:chExt cx="2057400" cy="703440"/>
          </a:xfrm>
        </p:grpSpPr>
        <p:sp>
          <p:nvSpPr>
            <p:cNvPr id="167" name=""/>
            <p:cNvSpPr/>
            <p:nvPr/>
          </p:nvSpPr>
          <p:spPr>
            <a:xfrm>
              <a:off x="6781680" y="327672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23240" y="35053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477120" y="2346480"/>
            <a:ext cx="2209680" cy="703440"/>
            <a:chOff x="6477120" y="2346480"/>
            <a:chExt cx="2209680" cy="703440"/>
          </a:xfrm>
        </p:grpSpPr>
        <p:sp>
          <p:nvSpPr>
            <p:cNvPr id="170" name=""/>
            <p:cNvSpPr/>
            <p:nvPr/>
          </p:nvSpPr>
          <p:spPr>
            <a:xfrm>
              <a:off x="6477120" y="2346480"/>
              <a:ext cx="220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d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23240" y="249876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477120" y="1447920"/>
            <a:ext cx="2438280" cy="703440"/>
            <a:chOff x="6477120" y="1447920"/>
            <a:chExt cx="2438280" cy="703440"/>
          </a:xfrm>
        </p:grpSpPr>
        <p:sp>
          <p:nvSpPr>
            <p:cNvPr id="173" name=""/>
            <p:cNvSpPr/>
            <p:nvPr/>
          </p:nvSpPr>
          <p:spPr>
            <a:xfrm>
              <a:off x="6477120" y="144792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   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46920" y="158436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629400" y="533520"/>
            <a:ext cx="2209680" cy="703440"/>
            <a:chOff x="6629400" y="533520"/>
            <a:chExt cx="2209680" cy="703440"/>
          </a:xfrm>
        </p:grpSpPr>
        <p:sp>
          <p:nvSpPr>
            <p:cNvPr id="176" name=""/>
            <p:cNvSpPr/>
            <p:nvPr/>
          </p:nvSpPr>
          <p:spPr>
            <a:xfrm>
              <a:off x="6629400" y="533520"/>
              <a:ext cx="220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46920" y="7621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724280" y="2390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{</a:t>
            </a:r>
            <a:r>
              <a:rPr b="1" lang="ru-RU" sz="3600" spc="-1" strike="noStrike">
                <a:solidFill>
                  <a:srgbClr val="3333ff"/>
                </a:solidFill>
                <a:latin typeface="Times New Roman"/>
              </a:rPr>
              <a:t>-2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;-3}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2498760"/>
            <a:ext cx="291960" cy="1440"/>
          </a:xfrm>
          <a:custGeom>
            <a:avLst/>
            <a:gdLst/>
            <a:ahLst/>
            <a:rect l="l" t="t" r="r" b="b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14763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{</a:t>
            </a:r>
            <a:r>
              <a:rPr b="1" lang="ru-RU" sz="3600" spc="-1" strike="noStrike">
                <a:solidFill>
                  <a:srgbClr val="3333ff"/>
                </a:solidFill>
                <a:latin typeface="Times New Roman"/>
              </a:rPr>
              <a:t>-2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; </a:t>
            </a:r>
            <a:r>
              <a:rPr b="1" lang="ru-RU" sz="3600" spc="-1" strike="noStrike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}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1584360"/>
            <a:ext cx="291960" cy="1440"/>
          </a:xfrm>
          <a:custGeom>
            <a:avLst/>
            <a:gdLst/>
            <a:ahLst/>
            <a:rect l="l" t="t" r="r" b="b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84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724280" y="577800"/>
            <a:ext cx="2286000" cy="642600"/>
            <a:chOff x="4724280" y="577800"/>
            <a:chExt cx="2286000" cy="642600"/>
          </a:xfrm>
        </p:grpSpPr>
        <p:sp>
          <p:nvSpPr>
            <p:cNvPr id="193" name=""/>
            <p:cNvSpPr/>
            <p:nvPr/>
          </p:nvSpPr>
          <p:spPr>
            <a:xfrm>
              <a:off x="4724280" y="5778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a 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36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; 4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00600" y="8064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28600" y="6858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ти координаты векторов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800600" y="3321000"/>
            <a:ext cx="2286000" cy="642600"/>
            <a:chOff x="4800600" y="3321000"/>
            <a:chExt cx="2286000" cy="642600"/>
          </a:xfrm>
        </p:grpSpPr>
        <p:sp>
          <p:nvSpPr>
            <p:cNvPr id="197" name=""/>
            <p:cNvSpPr/>
            <p:nvPr/>
          </p:nvSpPr>
          <p:spPr>
            <a:xfrm>
              <a:off x="4800600" y="33210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c 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3600" spc="-1" strike="noStrike">
                  <a:solidFill>
                    <a:srgbClr val="3333ff"/>
                  </a:solidFill>
                  <a:latin typeface="Times New Roman"/>
                </a:rPr>
                <a:t>2;-5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6920" y="35496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572000" y="4191120"/>
            <a:ext cx="2286000" cy="642600"/>
            <a:chOff x="4572000" y="4191120"/>
            <a:chExt cx="2286000" cy="642600"/>
          </a:xfrm>
        </p:grpSpPr>
        <p:sp>
          <p:nvSpPr>
            <p:cNvPr id="200" name=""/>
            <p:cNvSpPr/>
            <p:nvPr/>
          </p:nvSpPr>
          <p:spPr>
            <a:xfrm>
              <a:off x="4572000" y="41911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e 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{2;-3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48320" y="4419360"/>
              <a:ext cx="291960" cy="108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876920" y="5089680"/>
            <a:ext cx="291960" cy="1440"/>
          </a:xfrm>
          <a:custGeom>
            <a:avLst/>
            <a:gdLst/>
            <a:ahLst/>
            <a:rect l="l" t="t" r="r" b="b"/>
            <a:pathLst>
              <a:path w="184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21932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водите ответы в текстовые поля, не делая пробелов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72880" y="62474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6781680" y="4146480"/>
            <a:ext cx="1904760" cy="703440"/>
            <a:chOff x="6781680" y="4146480"/>
            <a:chExt cx="1904760" cy="703440"/>
          </a:xfrm>
        </p:grpSpPr>
        <p:sp>
          <p:nvSpPr>
            <p:cNvPr id="206" name=""/>
            <p:cNvSpPr/>
            <p:nvPr/>
          </p:nvSpPr>
          <p:spPr>
            <a:xfrm>
              <a:off x="6781680" y="4146480"/>
              <a:ext cx="190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e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 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22880" y="43750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800600" y="2346480"/>
            <a:ext cx="3886200" cy="703440"/>
            <a:chOff x="4800600" y="2346480"/>
            <a:chExt cx="3886200" cy="703440"/>
          </a:xfrm>
        </p:grpSpPr>
        <p:sp>
          <p:nvSpPr>
            <p:cNvPr id="209" name=""/>
            <p:cNvSpPr/>
            <p:nvPr/>
          </p:nvSpPr>
          <p:spPr>
            <a:xfrm>
              <a:off x="6781680" y="2346480"/>
              <a:ext cx="190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d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 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23240" y="24991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00600" y="23911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d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3600" spc="-1" strike="noStrike">
                  <a:solidFill>
                    <a:srgbClr val="3333ff"/>
                  </a:solidFill>
                  <a:latin typeface="Times New Roman"/>
                </a:rPr>
                <a:t>-2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;-3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76920" y="24991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781680" y="3276720"/>
            <a:ext cx="1904760" cy="703440"/>
            <a:chOff x="6781680" y="3276720"/>
            <a:chExt cx="1904760" cy="703440"/>
          </a:xfrm>
        </p:grpSpPr>
        <p:sp>
          <p:nvSpPr>
            <p:cNvPr id="214" name=""/>
            <p:cNvSpPr/>
            <p:nvPr/>
          </p:nvSpPr>
          <p:spPr>
            <a:xfrm>
              <a:off x="6781680" y="3276720"/>
              <a:ext cx="190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 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22880" y="35053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724280" y="1432080"/>
            <a:ext cx="3886200" cy="703440"/>
            <a:chOff x="4724280" y="1432080"/>
            <a:chExt cx="3886200" cy="703440"/>
          </a:xfrm>
        </p:grpSpPr>
        <p:sp>
          <p:nvSpPr>
            <p:cNvPr id="217" name=""/>
            <p:cNvSpPr/>
            <p:nvPr/>
          </p:nvSpPr>
          <p:spPr>
            <a:xfrm>
              <a:off x="6705360" y="1432080"/>
              <a:ext cx="190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 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46920" y="15847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24280" y="14767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3600" spc="-1" strike="noStrike">
                  <a:solidFill>
                    <a:srgbClr val="3333ff"/>
                  </a:solidFill>
                  <a:latin typeface="Times New Roman"/>
                </a:rPr>
                <a:t>-2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; </a:t>
              </a:r>
              <a:r>
                <a:rPr b="1" lang="ru-RU" sz="3600" spc="-1" strike="noStrike">
                  <a:solidFill>
                    <a:srgbClr val="3333ff"/>
                  </a:solidFill>
                  <a:latin typeface="Times New Roman"/>
                </a:rPr>
                <a:t>0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00600" y="15847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705720" y="533520"/>
            <a:ext cx="1904760" cy="703440"/>
            <a:chOff x="6705720" y="533520"/>
            <a:chExt cx="1904760" cy="703440"/>
          </a:xfrm>
        </p:grpSpPr>
        <p:sp>
          <p:nvSpPr>
            <p:cNvPr id="222" name=""/>
            <p:cNvSpPr/>
            <p:nvPr/>
          </p:nvSpPr>
          <p:spPr>
            <a:xfrm>
              <a:off x="6705720" y="533520"/>
              <a:ext cx="190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 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46920" y="7621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26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724280" y="577800"/>
            <a:ext cx="2286000" cy="642600"/>
            <a:chOff x="4724280" y="577800"/>
            <a:chExt cx="2286000" cy="642600"/>
          </a:xfrm>
        </p:grpSpPr>
        <p:sp>
          <p:nvSpPr>
            <p:cNvPr id="235" name=""/>
            <p:cNvSpPr/>
            <p:nvPr/>
          </p:nvSpPr>
          <p:spPr>
            <a:xfrm>
              <a:off x="4724280" y="5778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a 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36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; 4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0600" y="8064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28600" y="6858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ти координаты вектор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тивоположных данным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800600" y="3321000"/>
            <a:ext cx="2286000" cy="642600"/>
            <a:chOff x="4800600" y="3321000"/>
            <a:chExt cx="2286000" cy="642600"/>
          </a:xfrm>
        </p:grpSpPr>
        <p:sp>
          <p:nvSpPr>
            <p:cNvPr id="239" name=""/>
            <p:cNvSpPr/>
            <p:nvPr/>
          </p:nvSpPr>
          <p:spPr>
            <a:xfrm>
              <a:off x="4800600" y="33210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c 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{0; 0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76920" y="35496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800600" y="4191120"/>
            <a:ext cx="2286000" cy="642600"/>
            <a:chOff x="4800600" y="4191120"/>
            <a:chExt cx="2286000" cy="642600"/>
          </a:xfrm>
        </p:grpSpPr>
        <p:sp>
          <p:nvSpPr>
            <p:cNvPr id="242" name=""/>
            <p:cNvSpPr/>
            <p:nvPr/>
          </p:nvSpPr>
          <p:spPr>
            <a:xfrm>
              <a:off x="4800600" y="41911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e 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{2;-3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76920" y="4419360"/>
              <a:ext cx="291960" cy="108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800600" y="4937040"/>
            <a:ext cx="3886200" cy="703440"/>
            <a:chOff x="4800600" y="4937040"/>
            <a:chExt cx="3886200" cy="703440"/>
          </a:xfrm>
        </p:grpSpPr>
        <p:sp>
          <p:nvSpPr>
            <p:cNvPr id="245" name=""/>
            <p:cNvSpPr/>
            <p:nvPr/>
          </p:nvSpPr>
          <p:spPr>
            <a:xfrm>
              <a:off x="6781680" y="4937040"/>
              <a:ext cx="190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-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 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23240" y="50896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00600" y="498168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f(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0; 5}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76920" y="50896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12000" y="15228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9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160020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водите ответы в текстовые поля, не делая пробелов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72880" y="62474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6095880" y="533520"/>
            <a:ext cx="2514600" cy="703440"/>
            <a:chOff x="6095880" y="533520"/>
            <a:chExt cx="2514600" cy="703440"/>
          </a:xfrm>
        </p:grpSpPr>
        <p:sp>
          <p:nvSpPr>
            <p:cNvPr id="253" name=""/>
            <p:cNvSpPr/>
            <p:nvPr/>
          </p:nvSpPr>
          <p:spPr>
            <a:xfrm>
              <a:off x="6095880" y="53352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+c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4320" y="7621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72200" y="7621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248520" y="5013360"/>
            <a:ext cx="2514600" cy="703440"/>
            <a:chOff x="6248520" y="5013360"/>
            <a:chExt cx="2514600" cy="703440"/>
          </a:xfrm>
        </p:grpSpPr>
        <p:sp>
          <p:nvSpPr>
            <p:cNvPr id="257" name=""/>
            <p:cNvSpPr/>
            <p:nvPr/>
          </p:nvSpPr>
          <p:spPr>
            <a:xfrm>
              <a:off x="6248520" y="501336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 - c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 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10280" y="524196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24480" y="524196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324480" y="1447920"/>
            <a:ext cx="2438640" cy="703440"/>
            <a:chOff x="6324480" y="1447920"/>
            <a:chExt cx="2438640" cy="703440"/>
          </a:xfrm>
        </p:grpSpPr>
        <p:sp>
          <p:nvSpPr>
            <p:cNvPr id="261" name=""/>
            <p:cNvSpPr/>
            <p:nvPr/>
          </p:nvSpPr>
          <p:spPr>
            <a:xfrm>
              <a:off x="6324480" y="1447920"/>
              <a:ext cx="2438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+d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   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77120" y="16002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10280" y="160020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248520" y="2362320"/>
            <a:ext cx="2438280" cy="703440"/>
            <a:chOff x="6248520" y="2362320"/>
            <a:chExt cx="2438280" cy="703440"/>
          </a:xfrm>
        </p:grpSpPr>
        <p:sp>
          <p:nvSpPr>
            <p:cNvPr id="265" name=""/>
            <p:cNvSpPr/>
            <p:nvPr/>
          </p:nvSpPr>
          <p:spPr>
            <a:xfrm>
              <a:off x="6248520" y="236232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 +e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10280" y="259092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00800" y="25909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324480" y="3276720"/>
            <a:ext cx="2362320" cy="703440"/>
            <a:chOff x="6324480" y="3276720"/>
            <a:chExt cx="2362320" cy="703440"/>
          </a:xfrm>
        </p:grpSpPr>
        <p:sp>
          <p:nvSpPr>
            <p:cNvPr id="269" name=""/>
            <p:cNvSpPr/>
            <p:nvPr/>
          </p:nvSpPr>
          <p:spPr>
            <a:xfrm>
              <a:off x="6324480" y="3276720"/>
              <a:ext cx="2362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 - d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23240" y="335268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77120" y="335268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248520" y="4175280"/>
            <a:ext cx="2438280" cy="703440"/>
            <a:chOff x="6248520" y="4175280"/>
            <a:chExt cx="2438280" cy="703440"/>
          </a:xfrm>
        </p:grpSpPr>
        <p:sp>
          <p:nvSpPr>
            <p:cNvPr id="273" name=""/>
            <p:cNvSpPr/>
            <p:nvPr/>
          </p:nvSpPr>
          <p:spPr>
            <a:xfrm>
              <a:off x="6248520" y="417528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 - d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{     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24480" y="432792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99200" y="4327920"/>
              <a:ext cx="29232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>
            <a:hlinkClick r:id="" action="ppaction://hlinkshowjump?jump=endshow"/>
          </p:cNvPr>
          <p:cNvSpPr/>
          <p:nvPr/>
        </p:nvSpPr>
        <p:spPr>
          <a:xfrm>
            <a:off x="8153280" y="60199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78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85800" y="2286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ти координаты  векторов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647712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водите ответы в текстовые поля, не делая пробелов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286000" y="609480"/>
            <a:ext cx="4114800" cy="5062320"/>
            <a:chOff x="2286000" y="609480"/>
            <a:chExt cx="4114800" cy="5062320"/>
          </a:xfrm>
        </p:grpSpPr>
        <p:grpSp>
          <p:nvGrpSpPr>
            <p:cNvPr id="289" name=""/>
            <p:cNvGrpSpPr/>
            <p:nvPr/>
          </p:nvGrpSpPr>
          <p:grpSpPr>
            <a:xfrm>
              <a:off x="2362320" y="1447920"/>
              <a:ext cx="3962160" cy="642600"/>
              <a:chOff x="2362320" y="1447920"/>
              <a:chExt cx="3962160" cy="642600"/>
            </a:xfrm>
          </p:grpSpPr>
          <p:sp>
            <p:nvSpPr>
              <p:cNvPr id="290" name=""/>
              <p:cNvSpPr/>
              <p:nvPr/>
            </p:nvSpPr>
            <p:spPr>
              <a:xfrm>
                <a:off x="4038480" y="144792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d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</a:rPr>
                  <a:t>-2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;-3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191120" y="1523880"/>
                <a:ext cx="291960" cy="180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362320" y="144792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</a:rPr>
                  <a:t>-2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; </a:t>
                </a: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</a:rPr>
                  <a:t>0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38280" y="1523880"/>
                <a:ext cx="292320" cy="180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2362320" y="609480"/>
              <a:ext cx="2286000" cy="642600"/>
              <a:chOff x="2362320" y="609480"/>
              <a:chExt cx="2286000" cy="642600"/>
            </a:xfrm>
          </p:grpSpPr>
          <p:sp>
            <p:nvSpPr>
              <p:cNvPr id="295" name=""/>
              <p:cNvSpPr/>
              <p:nvPr/>
            </p:nvSpPr>
            <p:spPr>
              <a:xfrm>
                <a:off x="2362320" y="60948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a 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; 4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438640" y="83808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362320" y="2362320"/>
              <a:ext cx="2286000" cy="642600"/>
              <a:chOff x="2362320" y="2362320"/>
              <a:chExt cx="2286000" cy="642600"/>
            </a:xfrm>
          </p:grpSpPr>
          <p:sp>
            <p:nvSpPr>
              <p:cNvPr id="298" name=""/>
              <p:cNvSpPr/>
              <p:nvPr/>
            </p:nvSpPr>
            <p:spPr>
              <a:xfrm>
                <a:off x="2362320" y="236232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c 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</a:rPr>
                  <a:t>2;-5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438640" y="2590560"/>
                <a:ext cx="291960" cy="108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4114800" y="2362320"/>
              <a:ext cx="2286000" cy="642600"/>
              <a:chOff x="4114800" y="2362320"/>
              <a:chExt cx="2286000" cy="642600"/>
            </a:xfrm>
          </p:grpSpPr>
          <p:sp>
            <p:nvSpPr>
              <p:cNvPr id="301" name=""/>
              <p:cNvSpPr/>
              <p:nvPr/>
            </p:nvSpPr>
            <p:spPr>
              <a:xfrm>
                <a:off x="4114800" y="236232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e 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{2;-3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91120" y="2590560"/>
                <a:ext cx="291960" cy="108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2362320" y="3276720"/>
              <a:ext cx="2286000" cy="642600"/>
              <a:chOff x="2362320" y="3276720"/>
              <a:chExt cx="2286000" cy="642600"/>
            </a:xfrm>
          </p:grpSpPr>
          <p:sp>
            <p:nvSpPr>
              <p:cNvPr id="304" name=""/>
              <p:cNvSpPr/>
              <p:nvPr/>
            </p:nvSpPr>
            <p:spPr>
              <a:xfrm>
                <a:off x="2362320" y="327672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f(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0; 5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514600" y="3352680"/>
                <a:ext cx="291960" cy="108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114800" y="609480"/>
              <a:ext cx="2286000" cy="642600"/>
              <a:chOff x="4114800" y="609480"/>
              <a:chExt cx="2286000" cy="642600"/>
            </a:xfrm>
          </p:grpSpPr>
          <p:sp>
            <p:nvSpPr>
              <p:cNvPr id="307" name=""/>
              <p:cNvSpPr/>
              <p:nvPr/>
            </p:nvSpPr>
            <p:spPr>
              <a:xfrm>
                <a:off x="4114800" y="60948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c 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{3; 2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91120" y="83808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3962520" y="3276720"/>
              <a:ext cx="2286000" cy="642600"/>
              <a:chOff x="3962520" y="3276720"/>
              <a:chExt cx="2286000" cy="642600"/>
            </a:xfrm>
          </p:grpSpPr>
          <p:sp>
            <p:nvSpPr>
              <p:cNvPr id="310" name=""/>
              <p:cNvSpPr/>
              <p:nvPr/>
            </p:nvSpPr>
            <p:spPr>
              <a:xfrm>
                <a:off x="3962520" y="327672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d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</a:rPr>
                  <a:t>-2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;-3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114800" y="3352680"/>
                <a:ext cx="291960" cy="108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286000" y="4191120"/>
              <a:ext cx="3962160" cy="642600"/>
              <a:chOff x="2286000" y="4191120"/>
              <a:chExt cx="3962160" cy="642600"/>
            </a:xfrm>
          </p:grpSpPr>
          <p:sp>
            <p:nvSpPr>
              <p:cNvPr id="313" name=""/>
              <p:cNvSpPr/>
              <p:nvPr/>
            </p:nvSpPr>
            <p:spPr>
              <a:xfrm>
                <a:off x="3962160" y="419112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d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</a:rPr>
                  <a:t>-2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;-3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114800" y="4267080"/>
                <a:ext cx="291960" cy="180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286000" y="419112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</a:rPr>
                  <a:t>-2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; </a:t>
                </a: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</a:rPr>
                  <a:t>0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361960" y="4267080"/>
                <a:ext cx="292320" cy="180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4038480" y="5029200"/>
              <a:ext cx="2286000" cy="642600"/>
              <a:chOff x="4038480" y="5029200"/>
              <a:chExt cx="2286000" cy="642600"/>
            </a:xfrm>
          </p:grpSpPr>
          <p:sp>
            <p:nvSpPr>
              <p:cNvPr id="318" name=""/>
              <p:cNvSpPr/>
              <p:nvPr/>
            </p:nvSpPr>
            <p:spPr>
              <a:xfrm>
                <a:off x="4038480" y="502920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c 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{3; 2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14800" y="525780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2286000" y="4997520"/>
              <a:ext cx="2286000" cy="642600"/>
              <a:chOff x="2286000" y="4997520"/>
              <a:chExt cx="2286000" cy="642600"/>
            </a:xfrm>
          </p:grpSpPr>
          <p:sp>
            <p:nvSpPr>
              <p:cNvPr id="321" name=""/>
              <p:cNvSpPr/>
              <p:nvPr/>
            </p:nvSpPr>
            <p:spPr>
              <a:xfrm>
                <a:off x="2286000" y="499752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a 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{</a:t>
                </a: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1" lang="en-US" sz="3600" spc="-1" strike="noStrike">
                    <a:solidFill>
                      <a:srgbClr val="3333ff"/>
                    </a:solidFill>
                    <a:latin typeface="Times New Roman"/>
                  </a:rPr>
                  <a:t>; 4};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362320" y="5225760"/>
                <a:ext cx="291960" cy="108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"/>
          <p:cNvSpPr/>
          <p:nvPr/>
        </p:nvSpPr>
        <p:spPr>
          <a:xfrm>
            <a:off x="2972880" y="6094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1-10-16T14:21:4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