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F0A-0001-43F7-ACD1-6622064D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864-FDA5-4AAA-A787-F511318E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A074-4675-4F23-9ACB-6D6B4B44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FA6B-28BC-414A-A25C-E674E162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90D9-BB9F-4D1C-B6F4-B5ABF9C5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8F7-4604-490B-83B9-909C73B04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89F7-3630-44A9-9F16-CDD6DA6D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CCCA-4415-4ED7-9E8F-6DEC36BE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0E1A-4054-4C79-933A-F543F307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4319-664D-4E0F-83A6-F149D9849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DD0C-0036-4CCA-8699-DF2A2F93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ABED-3304-4095-A00B-88D37EB5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7FBD-7F75-4033-80BA-2DCD92B4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580E-5976-46C4-8E91-C35FA23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19B-0057-401B-85C7-D9C688F4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8D5A-06A7-402C-BD06-6FC8A9FF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0EE-F6FB-4BE1-8FC8-6B335654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009-832F-4511-8229-CFD4B23A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4A8-7A4F-4864-8C5C-07C97CFD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33BC-D364-4A9E-B3A0-2E484106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7229-8B52-4BFB-AA58-AEAC6EAC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CBBE-5D2D-4515-84B2-92B3DB1D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2E3D-B1A1-49C4-B768-50C95C60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E6E0-A130-449D-89B9-71961718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462B-29FE-40CB-8860-7685511F9C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4D0D-67CF-4B03-A796-B830647A6C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&#1050;&#1074;&#1072;&#1076;&#1088;&#1072;&#1090;&#1080;&#1095;&#1085;&#1072;&#1103;%20&#1092;&#1091;&#1085;&#1082;&#1094;&#1080;&#1103;.ppt" TargetMode="External"/><Relationship Id="rId2" Type="http://schemas.openxmlformats.org/officeDocument/2006/relationships/hyperlink" Target="file:///&#1055;&#1086;&#1076;&#1075;&#1086;&#1090;&#1086;&#1074;&#1082;&#1072;%20&#1091;&#1095;&#1072;&#1097;&#1080;&#1093;&#1089;&#1103;%20&#1086;&#1089;&#1085;&#1086;&#1074;&#1085;&#1086;&#1081;%20&#1096;&#1082;&#1086;&#1083;&#1099;%20&#1082;%20&#1043;&#1048;&#1040;%20&#1087;&#1086;%20&#1084;&#1072;&#1090;&#1077;&#1084;&#1072;&#1090;&#1080;&#1082;&#1077;.ppt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692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Обобщающие уроки с применением компьютерных технологий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2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роки, составленные с помощью программы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, зрелищны и эффективны в работе над информацией, особенно, если это уроки повторения и обобщения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зентация обладает наглядностью и выразительностью и способствует лучшему запоминанию матери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 помощью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презентации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можно повысить объём повторяемого материала и выполняемой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2"/>
          </p:cNvPr>
          <p:cNvSpPr/>
          <p:nvPr/>
        </p:nvSpPr>
        <p:spPr>
          <a:xfrm>
            <a:off x="8244000" y="5877000"/>
            <a:ext cx="539640" cy="504720"/>
          </a:xfrm>
          <a:custGeom>
            <a:avLst/>
            <a:gdLst>
              <a:gd name="textAreaLeft" fmla="*/ 32400 w 539640"/>
              <a:gd name="textAreaRight" fmla="*/ 507240 w 539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3093" h="21600">
                <a:moveTo>
                  <a:pt x="0" y="0"/>
                </a:moveTo>
                <a:lnTo>
                  <a:pt x="23093" y="0"/>
                </a:lnTo>
                <a:lnTo>
                  <a:pt x="23093" y="21600"/>
                </a:lnTo>
                <a:lnTo>
                  <a:pt x="0" y="21600"/>
                </a:lnTo>
                <a:close/>
              </a:path>
              <a:path fill="lightenLess" w="23093" h="21600">
                <a:moveTo>
                  <a:pt x="0" y="0"/>
                </a:moveTo>
                <a:lnTo>
                  <a:pt x="23093" y="0"/>
                </a:lnTo>
                <a:lnTo>
                  <a:pt x="21693" y="1400"/>
                </a:lnTo>
                <a:lnTo>
                  <a:pt x="1400" y="1400"/>
                </a:lnTo>
                <a:close/>
              </a:path>
              <a:path fill="darken" w="23093" h="21600">
                <a:moveTo>
                  <a:pt x="23093" y="0"/>
                </a:moveTo>
                <a:lnTo>
                  <a:pt x="23093" y="21600"/>
                </a:lnTo>
                <a:lnTo>
                  <a:pt x="21693" y="20200"/>
                </a:lnTo>
                <a:lnTo>
                  <a:pt x="21693" y="1400"/>
                </a:lnTo>
                <a:close/>
              </a:path>
              <a:path fill="darkenLess" w="23093" h="21600">
                <a:moveTo>
                  <a:pt x="230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3" y="20200"/>
                </a:lnTo>
                <a:close/>
              </a:path>
              <a:path fill="lighten" w="230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3" h="21600">
                <a:moveTo>
                  <a:pt x="4540" y="7493"/>
                </a:moveTo>
                <a:lnTo>
                  <a:pt x="8048" y="7493"/>
                </a:lnTo>
                <a:lnTo>
                  <a:pt x="8048" y="12828"/>
                </a:lnTo>
                <a:cubicBezTo>
                  <a:pt x="8048" y="13751"/>
                  <a:pt x="8849" y="14482"/>
                  <a:pt x="9884" y="14482"/>
                </a:cubicBezTo>
                <a:lnTo>
                  <a:pt x="11547" y="14482"/>
                </a:lnTo>
                <a:cubicBezTo>
                  <a:pt x="12582" y="14482"/>
                  <a:pt x="13383" y="13751"/>
                  <a:pt x="13383" y="12828"/>
                </a:cubicBezTo>
                <a:lnTo>
                  <a:pt x="13383" y="7493"/>
                </a:lnTo>
                <a:lnTo>
                  <a:pt x="11547" y="7493"/>
                </a:lnTo>
                <a:lnTo>
                  <a:pt x="15054" y="3985"/>
                </a:lnTo>
                <a:lnTo>
                  <a:pt x="18727" y="7493"/>
                </a:lnTo>
                <a:lnTo>
                  <a:pt x="16891" y="7493"/>
                </a:lnTo>
                <a:lnTo>
                  <a:pt x="16891" y="12828"/>
                </a:lnTo>
                <a:cubicBezTo>
                  <a:pt x="16891" y="15596"/>
                  <a:pt x="14314" y="18155"/>
                  <a:pt x="11547" y="18155"/>
                </a:cubicBezTo>
                <a:lnTo>
                  <a:pt x="9884" y="18155"/>
                </a:lnTo>
                <a:cubicBezTo>
                  <a:pt x="7117" y="18155"/>
                  <a:pt x="4540" y="15596"/>
                  <a:pt x="4540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8:48:27Z</dcterms:created>
  <dc:creator>Марина</dc:creator>
  <dc:description/>
  <dc:language>en-US</dc:language>
  <cp:lastModifiedBy>Марина</cp:lastModifiedBy>
  <dcterms:modified xsi:type="dcterms:W3CDTF">2011-10-06T16:40:58Z</dcterms:modified>
  <cp:revision>6</cp:revision>
  <dc:subject/>
  <dc:title>Слайд 1</dc:title>
</cp:coreProperties>
</file>