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DF4D-56C5-4CC0-8AD8-8C803EC7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C37-66FE-4628-ADCA-406D4FEB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36F6-95E0-4905-BB07-A125EE8A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3674-923A-4118-8F00-BA69CD74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1FB-E008-4EB5-92AE-82DCF26F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D764-3FCC-4977-8955-66475DD3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BAAD-BC33-4FC5-A62C-E65A320C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635-17A4-4D4B-95EA-2A8E3E03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634-8FE1-4B94-82AA-68E173CA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0581-4705-484E-93E7-ABD5C2B9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316-6719-4B2F-AD72-AFF803BF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7AB-C230-4856-84A0-706D5977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EDF1-1CEA-4D18-A574-4A46AAEFD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57320" y="400356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 2х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4003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3211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4867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11592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болу, построенную в координатной плоскости, соотнесите с ее уравнением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57320" y="3211560"/>
            <a:ext cx="14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 –х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57680" y="4867200"/>
            <a:ext cx="117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62360" y="5730840"/>
            <a:ext cx="18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 х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28960" y="993600"/>
            <a:ext cx="4992840" cy="5169600"/>
            <a:chOff x="3828960" y="993600"/>
            <a:chExt cx="4992840" cy="5169600"/>
          </a:xfrm>
        </p:grpSpPr>
        <p:sp>
          <p:nvSpPr>
            <p:cNvPr id="53" name=""/>
            <p:cNvSpPr/>
            <p:nvPr/>
          </p:nvSpPr>
          <p:spPr>
            <a:xfrm>
              <a:off x="3848040" y="99360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924360" y="295272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67120" y="574992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851280" y="547056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851280" y="518652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54520" y="491184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33640" y="4619520"/>
              <a:ext cx="4938840" cy="1800"/>
            </a:xfrm>
            <a:custGeom>
              <a:avLst/>
              <a:gdLst/>
              <a:ahLst/>
              <a:rect l="l" t="t" r="r" b="b"/>
              <a:pathLst>
                <a:path w="3111" h="1">
                  <a:moveTo>
                    <a:pt x="0" y="0"/>
                  </a:moveTo>
                  <a:lnTo>
                    <a:pt x="3111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843360" y="4324320"/>
              <a:ext cx="4929120" cy="9720"/>
            </a:xfrm>
            <a:custGeom>
              <a:avLst/>
              <a:gdLst/>
              <a:ahLst/>
              <a:rect l="l" t="t" r="r" b="b"/>
              <a:pathLst>
                <a:path w="3105" h="6">
                  <a:moveTo>
                    <a:pt x="0" y="6"/>
                  </a:moveTo>
                  <a:lnTo>
                    <a:pt x="3105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41920" y="406728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828960" y="378792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24360" y="323532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854520" y="267660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35440" y="239724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41920" y="2117880"/>
              <a:ext cx="4933800" cy="612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35440" y="184464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48040" y="156528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860640" y="128592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873600" y="99360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835440" y="6029280"/>
              <a:ext cx="4946760" cy="180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75720" y="101916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64680" y="100656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53280" y="100656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848720" y="100656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537320" y="100008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213680" y="99360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05520" y="1000080"/>
              <a:ext cx="15840" cy="5035680"/>
            </a:xfrm>
            <a:custGeom>
              <a:avLst/>
              <a:gdLst/>
              <a:ahLst/>
              <a:rect l="l" t="t" r="r" b="b"/>
              <a:pathLst>
                <a:path w="10" h="3172">
                  <a:moveTo>
                    <a:pt x="0" y="0"/>
                  </a:moveTo>
                  <a:lnTo>
                    <a:pt x="1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616800" y="101916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010200" y="1000080"/>
              <a:ext cx="1800" cy="5059440"/>
            </a:xfrm>
            <a:custGeom>
              <a:avLst/>
              <a:gdLst/>
              <a:ahLst/>
              <a:rect l="l" t="t" r="r" b="b"/>
              <a:pathLst>
                <a:path w="1" h="3187">
                  <a:moveTo>
                    <a:pt x="0" y="0"/>
                  </a:moveTo>
                  <a:lnTo>
                    <a:pt x="1" y="3187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689440" y="1006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84880" y="101268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067360" y="100656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68920" y="10065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64000" y="100656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52960" y="100656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24360" y="489888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324480" y="1000080"/>
              <a:ext cx="1800" cy="5048280"/>
            </a:xfrm>
            <a:custGeom>
              <a:avLst/>
              <a:gdLst/>
              <a:ahLst/>
              <a:rect l="l" t="t" r="r" b="b"/>
              <a:pathLst>
                <a:path w="1" h="3180">
                  <a:moveTo>
                    <a:pt x="0" y="31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42920" y="4898880"/>
              <a:ext cx="21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2   3  4   5   6 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996720" y="482760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 -6 -5 -4  -3  -2  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013800" y="2736720"/>
              <a:ext cx="307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9440" y="4971960"/>
              <a:ext cx="383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51280" y="352908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30680" y="1000080"/>
              <a:ext cx="1536840" cy="3905280"/>
            </a:xfrm>
            <a:custGeom>
              <a:avLst/>
              <a:gdLst/>
              <a:ahLst/>
              <a:rect l="l" t="t" r="r" b="b"/>
              <a:pathLst>
                <a:path w="968" h="2460">
                  <a:moveTo>
                    <a:pt x="0" y="8"/>
                  </a:moveTo>
                  <a:cubicBezTo>
                    <a:pt x="17" y="182"/>
                    <a:pt x="50" y="702"/>
                    <a:pt x="100" y="1052"/>
                  </a:cubicBezTo>
                  <a:cubicBezTo>
                    <a:pt x="150" y="1402"/>
                    <a:pt x="232" y="1873"/>
                    <a:pt x="300" y="2108"/>
                  </a:cubicBezTo>
                  <a:cubicBezTo>
                    <a:pt x="368" y="2343"/>
                    <a:pt x="443" y="2460"/>
                    <a:pt x="506" y="2460"/>
                  </a:cubicBezTo>
                  <a:cubicBezTo>
                    <a:pt x="569" y="2460"/>
                    <a:pt x="619" y="2340"/>
                    <a:pt x="680" y="2106"/>
                  </a:cubicBezTo>
                  <a:cubicBezTo>
                    <a:pt x="741" y="1872"/>
                    <a:pt x="824" y="1407"/>
                    <a:pt x="872" y="1056"/>
                  </a:cubicBezTo>
                  <a:cubicBezTo>
                    <a:pt x="920" y="705"/>
                    <a:pt x="948" y="220"/>
                    <a:pt x="968" y="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6300720" y="2637000"/>
            <a:ext cx="647640" cy="2304720"/>
            <a:chOff x="6300720" y="2637000"/>
            <a:chExt cx="647640" cy="2304720"/>
          </a:xfrm>
        </p:grpSpPr>
        <p:sp>
          <p:nvSpPr>
            <p:cNvPr id="96" name=""/>
            <p:cNvSpPr/>
            <p:nvPr/>
          </p:nvSpPr>
          <p:spPr>
            <a:xfrm>
              <a:off x="6588000" y="4292640"/>
              <a:ext cx="716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77080" y="263700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00720" y="4869000"/>
              <a:ext cx="7164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3203640" y="4508640"/>
            <a:ext cx="216036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3573360"/>
            <a:ext cx="1944720" cy="720720"/>
          </a:xfrm>
          <a:prstGeom prst="wedgeEllipseCallout">
            <a:avLst>
              <a:gd name="adj1" fmla="val -106814"/>
              <a:gd name="adj2" fmla="val 3634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249228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5661000"/>
            <a:ext cx="2232000" cy="64944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700360" y="1557360"/>
            <a:ext cx="1944720" cy="720720"/>
          </a:xfrm>
          <a:prstGeom prst="wedgeEllipseCallout">
            <a:avLst>
              <a:gd name="adj1" fmla="val -90490"/>
              <a:gd name="adj2" fmla="val 6453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4000" y="23479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24000" y="5084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24000" y="4149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189000"/>
            <a:ext cx="8642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Вершиной параболы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 = (х – 3)</a:t>
            </a:r>
            <a:r>
              <a:rPr b="1" lang="en-US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+ 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является точ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901800" y="227664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3;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5229360"/>
            <a:ext cx="2160360" cy="576000"/>
          </a:xfrm>
          <a:prstGeom prst="wedgeEllipseCallout">
            <a:avLst>
              <a:gd name="adj1" fmla="val -105472"/>
              <a:gd name="adj2" fmla="val 3705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3203640" y="2709720"/>
            <a:ext cx="2160360" cy="576360"/>
          </a:xfrm>
          <a:prstGeom prst="wedgeEllipseCallout">
            <a:avLst>
              <a:gd name="adj1" fmla="val -95259"/>
              <a:gd name="adj2" fmla="val 6101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419640" y="3933720"/>
            <a:ext cx="2232000" cy="649440"/>
          </a:xfrm>
          <a:prstGeom prst="wedgeEllipseCallout">
            <a:avLst>
              <a:gd name="adj1" fmla="val -103199"/>
              <a:gd name="adj2" fmla="val 3484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901440" y="321300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–3; 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901080" y="4076640"/>
            <a:ext cx="137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3;–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01080" y="501336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–3;–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24360" y="189000"/>
            <a:ext cx="43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932360" y="189000"/>
            <a:ext cx="43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219640" y="1197000"/>
            <a:ext cx="15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(    ;   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519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500"/>
                            </p:stCondLst>
                            <p:childTnLst>
                              <p:par>
                                <p:cTn id="5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3500"/>
                            </p:stCondLst>
                            <p:childTnLst>
                              <p:par>
                                <p:cTn id="53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04 0.147 E">
                                      <p:cBhvr>
                                        <p:cTn id="538" dur="2000" fill="hold"/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5500"/>
                            </p:stCondLst>
                            <p:childTnLst>
                              <p:par>
                                <p:cTn id="5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667 0.14815 E">
                                      <p:cBhvr>
                                        <p:cTn id="541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2" restart="whenNotActive" nodeType="interactiveSeq" fill="hold">
                <p:stCondLst>
                  <p:cond evt="onClick">
                    <p:tgtEl>
                      <p:spTgt spid="548"/>
                    </p:tgtEl>
                  </p:cond>
                </p:stCondLst>
                <p:childTnLst>
                  <p:par>
                    <p:cTn id="543" fill="hold">
                      <p:stCondLst>
                        <p:cond evt="onClick">
                          <p:tgtEl>
                            <p:spTgt spid="548"/>
                          </p:tgtEl>
                        </p:cond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547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547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500"/>
                            </p:stCondLst>
                            <p:childTnLst>
                              <p:par>
                                <p:cTn id="55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2" restart="whenNotActive" nodeType="interactiveSeq" fill="hold">
                <p:stCondLst>
                  <p:cond evt="onClick">
                    <p:tgtEl>
                      <p:spTgt spid="549"/>
                    </p:tgtEl>
                  </p:cond>
                </p:stCondLst>
                <p:childTnLst>
                  <p:par>
                    <p:cTn id="563" fill="hold">
                      <p:stCondLst>
                        <p:cond evt="onClick">
                          <p:tgtEl>
                            <p:spTgt spid="549"/>
                          </p:tgtEl>
                        </p:cond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24360" y="206064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х  +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052280" y="394020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0; 1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50920" y="33336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ите координаты точки пересечения графика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= 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7х + 12      с осью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643280" y="2060640"/>
            <a:ext cx="36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68360" y="4003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68360" y="3068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68360" y="4867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17800" y="29973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4;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44720" y="479736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4; 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044360" y="5661000"/>
            <a:ext cx="175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,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564000" y="4724280"/>
            <a:ext cx="2160360" cy="57636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564000" y="3573360"/>
            <a:ext cx="1944720" cy="720720"/>
          </a:xfrm>
          <a:prstGeom prst="wedgeEllipseCallout">
            <a:avLst>
              <a:gd name="adj1" fmla="val -110736"/>
              <a:gd name="adj2" fmla="val 5749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59280" y="2276640"/>
            <a:ext cx="2160360" cy="57600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708360" y="5734080"/>
            <a:ext cx="2232000" cy="64908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078520" y="981000"/>
            <a:ext cx="86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х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5724360" y="2057400"/>
            <a:ext cx="432000" cy="581400"/>
            <a:chOff x="5724360" y="2057400"/>
            <a:chExt cx="432000" cy="581400"/>
          </a:xfrm>
        </p:grpSpPr>
        <p:sp>
          <p:nvSpPr>
            <p:cNvPr id="580" name=""/>
            <p:cNvSpPr/>
            <p:nvPr/>
          </p:nvSpPr>
          <p:spPr>
            <a:xfrm>
              <a:off x="5796000" y="2057400"/>
              <a:ext cx="360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5724360" y="2273040"/>
                  <a:ext cx="260280" cy="358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iming>
    <p:tnLst>
      <p:par>
        <p:cTn id="572" dur="indefinite" restart="never" nodeType="tmRoot">
          <p:childTnLst>
            <p:seq>
              <p:cTn id="573" restart="whenNotActive" nodeType="interactiveSeq" fill="hold">
                <p:stCondLst>
                  <p:cond evt="onClick">
                    <p:tgtEl>
                      <p:spTgt spid="567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567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4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500"/>
                            </p:stCondLst>
                            <p:childTnLst>
                              <p:par>
                                <p:cTn id="5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0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568"/>
                    </p:tgtEl>
                  </p:cond>
                </p:stCondLst>
                <p:childTnLst>
                  <p:par>
                    <p:cTn id="635" fill="hold">
                      <p:stCondLst>
                        <p:cond evt="onClick">
                          <p:tgtEl>
                            <p:spTgt spid="568"/>
                          </p:tgtEl>
                        </p:cond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"/>
                            </p:stCondLst>
                            <p:childTnLst>
                              <p:par>
                                <p:cTn id="64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4" restart="whenNotActive" nodeType="interactiveSeq" fill="hold">
                <p:stCondLst>
                  <p:cond evt="onClick">
                    <p:tgtEl>
                      <p:spTgt spid="570"/>
                    </p:tgtEl>
                  </p:cond>
                </p:stCondLst>
                <p:childTnLst>
                  <p:par>
                    <p:cTn id="645" fill="hold">
                      <p:stCondLst>
                        <p:cond evt="onClick">
                          <p:tgtEl>
                            <p:spTgt spid="570"/>
                          </p:tgtEl>
                        </p:cond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68360" y="3211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8360" y="4867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6836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50920" y="11592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 графику функции найдите промежутки ее возрастания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48040" y="993600"/>
            <a:ext cx="3240" cy="503568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24360" y="2952720"/>
            <a:ext cx="4857840" cy="324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867120" y="5749920"/>
            <a:ext cx="4902120" cy="1440"/>
          </a:xfrm>
          <a:custGeom>
            <a:avLst/>
            <a:gdLst/>
            <a:ahLst/>
            <a:rect l="l" t="t" r="r" b="b"/>
            <a:pathLst>
              <a:path w="3088" h="1">
                <a:moveTo>
                  <a:pt x="0" y="0"/>
                </a:moveTo>
                <a:lnTo>
                  <a:pt x="308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851280" y="5470560"/>
            <a:ext cx="4911840" cy="3240"/>
          </a:xfrm>
          <a:custGeom>
            <a:avLst/>
            <a:gdLst/>
            <a:ahLst/>
            <a:rect l="l" t="t" r="r" b="b"/>
            <a:pathLst>
              <a:path w="3094" h="2">
                <a:moveTo>
                  <a:pt x="0" y="2"/>
                </a:moveTo>
                <a:lnTo>
                  <a:pt x="309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851280" y="5186520"/>
            <a:ext cx="4968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854520" y="491184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833640" y="4619520"/>
            <a:ext cx="4938840" cy="1800"/>
          </a:xfrm>
          <a:custGeom>
            <a:avLst/>
            <a:gdLst/>
            <a:ahLst/>
            <a:rect l="l" t="t" r="r" b="b"/>
            <a:pathLst>
              <a:path w="3111" h="1">
                <a:moveTo>
                  <a:pt x="0" y="0"/>
                </a:moveTo>
                <a:lnTo>
                  <a:pt x="3111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43360" y="4324320"/>
            <a:ext cx="4929120" cy="9720"/>
          </a:xfrm>
          <a:custGeom>
            <a:avLst/>
            <a:gdLst/>
            <a:ahLst/>
            <a:rect l="l" t="t" r="r" b="b"/>
            <a:pathLst>
              <a:path w="3105" h="6">
                <a:moveTo>
                  <a:pt x="0" y="6"/>
                </a:moveTo>
                <a:lnTo>
                  <a:pt x="3105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841920" y="4067280"/>
            <a:ext cx="4933800" cy="12600"/>
          </a:xfrm>
          <a:custGeom>
            <a:avLst/>
            <a:gdLst/>
            <a:ahLst/>
            <a:rect l="l" t="t" r="r" b="b"/>
            <a:pathLst>
              <a:path w="3108" h="8">
                <a:moveTo>
                  <a:pt x="0" y="8"/>
                </a:moveTo>
                <a:lnTo>
                  <a:pt x="310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828960" y="3787920"/>
            <a:ext cx="4946760" cy="612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24360" y="3235320"/>
            <a:ext cx="484488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2676600"/>
            <a:ext cx="4921200" cy="144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835440" y="239724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841920" y="2117880"/>
            <a:ext cx="4933800" cy="6120"/>
          </a:xfrm>
          <a:custGeom>
            <a:avLst/>
            <a:gdLst/>
            <a:ahLst/>
            <a:rect l="l" t="t" r="r" b="b"/>
            <a:pathLst>
              <a:path w="3108" h="4">
                <a:moveTo>
                  <a:pt x="0" y="0"/>
                </a:moveTo>
                <a:lnTo>
                  <a:pt x="3108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35440" y="184464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848040" y="1565280"/>
            <a:ext cx="4927680" cy="1440"/>
          </a:xfrm>
          <a:custGeom>
            <a:avLst/>
            <a:gdLst/>
            <a:ahLst/>
            <a:rect l="l" t="t" r="r" b="b"/>
            <a:pathLst>
              <a:path w="3104" h="1">
                <a:moveTo>
                  <a:pt x="0" y="0"/>
                </a:moveTo>
                <a:lnTo>
                  <a:pt x="310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0640" y="1285920"/>
            <a:ext cx="4908600" cy="12600"/>
          </a:xfrm>
          <a:custGeom>
            <a:avLst/>
            <a:gdLst/>
            <a:ahLst/>
            <a:rect l="l" t="t" r="r" b="b"/>
            <a:pathLst>
              <a:path w="3092" h="8">
                <a:moveTo>
                  <a:pt x="0" y="8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73600" y="993600"/>
            <a:ext cx="4902120" cy="19080"/>
          </a:xfrm>
          <a:custGeom>
            <a:avLst/>
            <a:gdLst/>
            <a:ahLst/>
            <a:rect l="l" t="t" r="r" b="b"/>
            <a:pathLst>
              <a:path w="3088" h="12">
                <a:moveTo>
                  <a:pt x="0" y="0"/>
                </a:moveTo>
                <a:lnTo>
                  <a:pt x="3088" y="1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835440" y="6029280"/>
            <a:ext cx="4946760" cy="1800"/>
          </a:xfrm>
          <a:custGeom>
            <a:avLst/>
            <a:gdLst/>
            <a:ahLst/>
            <a:rect l="l" t="t" r="r" b="b"/>
            <a:pathLst>
              <a:path w="3116" h="1">
                <a:moveTo>
                  <a:pt x="0" y="0"/>
                </a:moveTo>
                <a:lnTo>
                  <a:pt x="311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8775720" y="1019160"/>
            <a:ext cx="1440" cy="4978440"/>
          </a:xfrm>
          <a:custGeom>
            <a:avLst/>
            <a:gdLst/>
            <a:ahLst/>
            <a:rect l="l" t="t" r="r" b="b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8464680" y="1006560"/>
            <a:ext cx="6120" cy="503532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153280" y="1006560"/>
            <a:ext cx="6480" cy="5029200"/>
          </a:xfrm>
          <a:custGeom>
            <a:avLst/>
            <a:gdLst/>
            <a:ahLst/>
            <a:rect l="l" t="t" r="r" b="b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848720" y="1006560"/>
            <a:ext cx="1440" cy="5016240"/>
          </a:xfrm>
          <a:custGeom>
            <a:avLst/>
            <a:gdLst/>
            <a:ahLst/>
            <a:rect l="l" t="t" r="r" b="b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537320" y="1000080"/>
            <a:ext cx="6480" cy="503568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213680" y="993600"/>
            <a:ext cx="22320" cy="5065920"/>
          </a:xfrm>
          <a:custGeom>
            <a:avLst/>
            <a:gdLst/>
            <a:ahLst/>
            <a:rect l="l" t="t" r="r" b="b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905520" y="1000080"/>
            <a:ext cx="15840" cy="5035680"/>
          </a:xfrm>
          <a:custGeom>
            <a:avLst/>
            <a:gdLst/>
            <a:ahLst/>
            <a:rect l="l" t="t" r="r" b="b"/>
            <a:pathLst>
              <a:path w="10" h="3172">
                <a:moveTo>
                  <a:pt x="0" y="0"/>
                </a:moveTo>
                <a:lnTo>
                  <a:pt x="1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616800" y="1019160"/>
            <a:ext cx="1440" cy="5003640"/>
          </a:xfrm>
          <a:custGeom>
            <a:avLst/>
            <a:gdLst/>
            <a:ahLst/>
            <a:rect l="l" t="t" r="r" b="b"/>
            <a:pathLst>
              <a:path w="1" h="3152">
                <a:moveTo>
                  <a:pt x="0" y="0"/>
                </a:moveTo>
                <a:lnTo>
                  <a:pt x="0" y="315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10200" y="1000080"/>
            <a:ext cx="1800" cy="5059440"/>
          </a:xfrm>
          <a:custGeom>
            <a:avLst/>
            <a:gdLst/>
            <a:ahLst/>
            <a:rect l="l" t="t" r="r" b="b"/>
            <a:pathLst>
              <a:path w="1" h="3187">
                <a:moveTo>
                  <a:pt x="0" y="0"/>
                </a:moveTo>
                <a:lnTo>
                  <a:pt x="1" y="3187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89440" y="1006560"/>
            <a:ext cx="1800" cy="503532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84880" y="1012680"/>
            <a:ext cx="6120" cy="502308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067360" y="1006560"/>
            <a:ext cx="12600" cy="5022720"/>
          </a:xfrm>
          <a:custGeom>
            <a:avLst/>
            <a:gdLst/>
            <a:ahLst/>
            <a:rect l="l" t="t" r="r" b="b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768920" y="1006560"/>
            <a:ext cx="6120" cy="502272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464000" y="1006560"/>
            <a:ext cx="1800" cy="503532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152960" y="1006560"/>
            <a:ext cx="1440" cy="5022720"/>
          </a:xfrm>
          <a:custGeom>
            <a:avLst/>
            <a:gdLst/>
            <a:ahLst/>
            <a:rect l="l" t="t" r="r" b="b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24360" y="353052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324480" y="1000080"/>
            <a:ext cx="1800" cy="5048280"/>
          </a:xfrm>
          <a:custGeom>
            <a:avLst/>
            <a:gdLst/>
            <a:ahLst/>
            <a:rect l="l" t="t" r="r" b="b"/>
            <a:pathLst>
              <a:path w="1" h="3180">
                <a:moveTo>
                  <a:pt x="0" y="318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442920" y="353052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996720" y="345924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13800" y="136836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229440" y="3603600"/>
            <a:ext cx="38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3851280" y="3529080"/>
            <a:ext cx="4946760" cy="6120"/>
          </a:xfrm>
          <a:custGeom>
            <a:avLst/>
            <a:gdLst/>
            <a:ahLst/>
            <a:rect l="l" t="t" r="r" b="b"/>
            <a:pathLst>
              <a:path w="3116" h="4">
                <a:moveTo>
                  <a:pt x="0" y="0"/>
                </a:moveTo>
                <a:lnTo>
                  <a:pt x="3116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4857840" y="692280"/>
            <a:ext cx="2306520" cy="3917880"/>
          </a:xfrm>
          <a:custGeom>
            <a:avLst/>
            <a:gdLst/>
            <a:ahLst/>
            <a:rect l="l" t="t" r="r" b="b"/>
            <a:pathLst>
              <a:path w="1453" h="2468">
                <a:moveTo>
                  <a:pt x="0" y="8"/>
                </a:moveTo>
                <a:cubicBezTo>
                  <a:pt x="26" y="182"/>
                  <a:pt x="75" y="702"/>
                  <a:pt x="151" y="1052"/>
                </a:cubicBezTo>
                <a:cubicBezTo>
                  <a:pt x="225" y="1402"/>
                  <a:pt x="353" y="1872"/>
                  <a:pt x="451" y="2108"/>
                </a:cubicBezTo>
                <a:cubicBezTo>
                  <a:pt x="549" y="2344"/>
                  <a:pt x="645" y="2468"/>
                  <a:pt x="740" y="2468"/>
                </a:cubicBezTo>
                <a:cubicBezTo>
                  <a:pt x="835" y="2468"/>
                  <a:pt x="926" y="2341"/>
                  <a:pt x="1021" y="2106"/>
                </a:cubicBezTo>
                <a:cubicBezTo>
                  <a:pt x="1116" y="1871"/>
                  <a:pt x="1237" y="1407"/>
                  <a:pt x="1309" y="1056"/>
                </a:cubicBezTo>
                <a:cubicBezTo>
                  <a:pt x="1381" y="705"/>
                  <a:pt x="1423" y="220"/>
                  <a:pt x="1453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03640" y="4508640"/>
            <a:ext cx="216036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87640" y="3573360"/>
            <a:ext cx="1944720" cy="720720"/>
          </a:xfrm>
          <a:prstGeom prst="wedgeEllipseCallout">
            <a:avLst>
              <a:gd name="adj1" fmla="val -106814"/>
              <a:gd name="adj2" fmla="val 3634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059280" y="249228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348000" y="5661000"/>
            <a:ext cx="2232000" cy="64944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68360" y="4003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047240" y="4003560"/>
            <a:ext cx="1868040" cy="642600"/>
            <a:chOff x="1047240" y="4003560"/>
            <a:chExt cx="1868040" cy="642600"/>
          </a:xfrm>
        </p:grpSpPr>
        <p:sp>
          <p:nvSpPr>
            <p:cNvPr id="636" name=""/>
            <p:cNvSpPr/>
            <p:nvPr/>
          </p:nvSpPr>
          <p:spPr>
            <a:xfrm>
              <a:off x="1047240" y="4003560"/>
              <a:ext cx="186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[–1;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+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2226600" y="404748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1045440" y="3213000"/>
            <a:ext cx="1868040" cy="642600"/>
            <a:chOff x="1045440" y="3213000"/>
            <a:chExt cx="1868040" cy="642600"/>
          </a:xfrm>
        </p:grpSpPr>
        <p:sp>
          <p:nvSpPr>
            <p:cNvPr id="639" name=""/>
            <p:cNvSpPr/>
            <p:nvPr/>
          </p:nvSpPr>
          <p:spPr>
            <a:xfrm>
              <a:off x="1045440" y="3213000"/>
              <a:ext cx="186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[–4;</a:t>
              </a:r>
              <a:r>
                <a:rPr b="0" lang="ru-RU" sz="3600" spc="-1" strike="noStrike">
                  <a:solidFill>
                    <a:srgbClr val="000000"/>
                  </a:solidFill>
                  <a:latin typeface="Arial"/>
                </a:rPr>
                <a:t>+    )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2224800" y="325692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1" name=""/>
          <p:cNvSpPr/>
          <p:nvPr/>
        </p:nvSpPr>
        <p:spPr>
          <a:xfrm>
            <a:off x="1045440" y="486900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;–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1584720" y="4912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044720" y="5734080"/>
            <a:ext cx="14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–3;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5940360" y="3500280"/>
            <a:ext cx="2746440" cy="144720"/>
            <a:chOff x="5940360" y="3500280"/>
            <a:chExt cx="2746440" cy="144720"/>
          </a:xfrm>
        </p:grpSpPr>
        <p:sp>
          <p:nvSpPr>
            <p:cNvPr id="645" name=""/>
            <p:cNvSpPr/>
            <p:nvPr/>
          </p:nvSpPr>
          <p:spPr>
            <a:xfrm>
              <a:off x="6070680" y="3530520"/>
              <a:ext cx="2616120" cy="25560"/>
            </a:xfrm>
            <a:custGeom>
              <a:avLst/>
              <a:gdLst/>
              <a:ahLst/>
              <a:rect l="l" t="t" r="r" b="b"/>
              <a:pathLst>
                <a:path w="1648" h="16">
                  <a:moveTo>
                    <a:pt x="0" y="16"/>
                  </a:moveTo>
                  <a:lnTo>
                    <a:pt x="1648" y="0"/>
                  </a:ln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940360" y="3500280"/>
              <a:ext cx="14436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288320" y="3372480"/>
            <a:ext cx="1941480" cy="1277640"/>
            <a:chOff x="4288320" y="3372480"/>
            <a:chExt cx="1941480" cy="1277640"/>
          </a:xfrm>
        </p:grpSpPr>
        <p:sp>
          <p:nvSpPr>
            <p:cNvPr id="648" name=""/>
            <p:cNvSpPr/>
            <p:nvPr/>
          </p:nvSpPr>
          <p:spPr>
            <a:xfrm flipH="1" rot="17317800">
              <a:off x="4896720" y="3101040"/>
              <a:ext cx="723960" cy="180468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17317800">
              <a:off x="5779800" y="4332240"/>
              <a:ext cx="182520" cy="35064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134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17317800">
              <a:off x="5914080" y="4523400"/>
              <a:ext cx="69480" cy="13320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 rot="17317800">
              <a:off x="4808160" y="3213720"/>
              <a:ext cx="632160" cy="1508040"/>
            </a:xfrm>
            <a:custGeom>
              <a:avLst/>
              <a:gdLst/>
              <a:ahLst/>
              <a:rect l="l" t="t" r="r" b="b"/>
              <a:pathLst>
                <a:path w="1094" h="2612">
                  <a:moveTo>
                    <a:pt x="867" y="2612"/>
                  </a:moveTo>
                  <a:lnTo>
                    <a:pt x="1094" y="2522"/>
                  </a:lnTo>
                  <a:lnTo>
                    <a:pt x="1016" y="2554"/>
                  </a:lnTo>
                  <a:lnTo>
                    <a:pt x="84" y="0"/>
                  </a:lnTo>
                  <a:lnTo>
                    <a:pt x="0" y="30"/>
                  </a:lnTo>
                  <a:lnTo>
                    <a:pt x="940" y="2584"/>
                  </a:lnTo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4" dur="indefinite" restart="never" nodeType="tmRoot">
          <p:childTnLst>
            <p:seq>
              <p:cTn id="655" restart="whenNotActive" nodeType="interactiveSeq" fill="hold">
                <p:stCondLst>
                  <p:cond evt="onClick">
                    <p:tgtEl>
                      <p:spTgt spid="585"/>
                    </p:tgtEl>
                  </p:cond>
                </p:stCondLst>
                <p:childTnLst>
                  <p:par>
                    <p:cTn id="656" fill="hold">
                      <p:stCondLst>
                        <p:cond evt="onClick">
                          <p:tgtEl>
                            <p:spTgt spid="585"/>
                          </p:tgtEl>
                        </p:cond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500"/>
                            </p:stCondLst>
                            <p:childTnLst>
                              <p:par>
                                <p:cTn id="66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5" restart="whenNotActive" nodeType="interactiveSeq" fill="hold">
                <p:stCondLst>
                  <p:cond evt="onClick">
                    <p:tgtEl>
                      <p:spTgt spid="584"/>
                    </p:tgtEl>
                  </p:cond>
                </p:stCondLst>
                <p:childTnLst>
                  <p:par>
                    <p:cTn id="666" fill="hold">
                      <p:stCondLst>
                        <p:cond evt="onClick">
                          <p:tgtEl>
                            <p:spTgt spid="584"/>
                          </p:tgtEl>
                        </p:cond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"/>
                            </p:stCondLst>
                            <p:childTnLst>
                              <p:par>
                                <p:cTn id="67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5" restart="whenNotActive" nodeType="interactiveSeq" fill="hold">
                <p:stCondLst>
                  <p:cond evt="onClick">
                    <p:tgtEl>
                      <p:spTgt spid="586"/>
                    </p:tgtEl>
                  </p:cond>
                </p:stCondLst>
                <p:childTnLst>
                  <p:par>
                    <p:cTn id="676" fill="hold">
                      <p:stCondLst>
                        <p:cond evt="onClick">
                          <p:tgtEl>
                            <p:spTgt spid="586"/>
                          </p:tgtEl>
                        </p:cond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5" restart="whenNotActive" nodeType="interactiveSeq" fill="hold">
                <p:stCondLst>
                  <p:cond evt="onClick">
                    <p:tgtEl>
                      <p:spTgt spid="634"/>
                    </p:tgtEl>
                  </p:cond>
                </p:stCondLst>
                <p:childTnLst>
                  <p:par>
                    <p:cTn id="686" fill="hold">
                      <p:stCondLst>
                        <p:cond evt="onClick">
                          <p:tgtEl>
                            <p:spTgt spid="634"/>
                          </p:tgtEl>
                        </p:cond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11111E-006 C 0.01146 -0.00741 0.02309 -0.01482 0.03334 -0.03333 C 0.04358 -0.05185 0.05191 -0.07778 0.06111 -0.11111 C 0.07031 -0.14445 0.08108 -0.19445 0.08889 -0.23333 C 0.0967 -0.27222 0.10278 -0.30301 0.10834 -0.34445 C 0.11389 -0.38588 0.11858 -0.44074 0.12222 -0.48148 C 0.12587 -0.52222 0.12813 -0.55556 0.13056 -0.58889 E">
                                      <p:cBhvr>
                                        <p:cTn id="701" dur="5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6500"/>
                            </p:stCondLst>
                            <p:childTnLst>
                              <p:par>
                                <p:cTn id="7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"/>
          <p:cNvGrpSpPr/>
          <p:nvPr/>
        </p:nvGrpSpPr>
        <p:grpSpPr>
          <a:xfrm>
            <a:off x="3851280" y="1052640"/>
            <a:ext cx="4991040" cy="5078160"/>
            <a:chOff x="3851280" y="1052640"/>
            <a:chExt cx="4991040" cy="5078160"/>
          </a:xfrm>
        </p:grpSpPr>
        <p:grpSp>
          <p:nvGrpSpPr>
            <p:cNvPr id="653" name=""/>
            <p:cNvGrpSpPr/>
            <p:nvPr/>
          </p:nvGrpSpPr>
          <p:grpSpPr>
            <a:xfrm>
              <a:off x="3851280" y="1052640"/>
              <a:ext cx="4991040" cy="5078160"/>
              <a:chOff x="3851280" y="1052640"/>
              <a:chExt cx="4991040" cy="5078160"/>
            </a:xfrm>
          </p:grpSpPr>
          <p:sp>
            <p:nvSpPr>
              <p:cNvPr id="654" name=""/>
              <p:cNvSpPr/>
              <p:nvPr/>
            </p:nvSpPr>
            <p:spPr>
              <a:xfrm>
                <a:off x="3870360" y="1064880"/>
                <a:ext cx="3240" cy="5035320"/>
              </a:xfrm>
              <a:custGeom>
                <a:avLst/>
                <a:gdLst/>
                <a:ahLst/>
                <a:rect l="l" t="t" r="r" b="b"/>
                <a:pathLst>
                  <a:path w="2" h="3172">
                    <a:moveTo>
                      <a:pt x="0" y="0"/>
                    </a:moveTo>
                    <a:lnTo>
                      <a:pt x="2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946680" y="3024000"/>
                <a:ext cx="4857840" cy="2880"/>
              </a:xfrm>
              <a:custGeom>
                <a:avLst/>
                <a:gdLst/>
                <a:ahLst/>
                <a:rect l="l" t="t" r="r" b="b"/>
                <a:pathLst>
                  <a:path w="3060" h="2">
                    <a:moveTo>
                      <a:pt x="0" y="0"/>
                    </a:moveTo>
                    <a:lnTo>
                      <a:pt x="3060" y="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9440" y="5821200"/>
                <a:ext cx="4902120" cy="1080"/>
              </a:xfrm>
              <a:custGeom>
                <a:avLst/>
                <a:gdLst/>
                <a:ahLst/>
                <a:rect l="l" t="t" r="r" b="b"/>
                <a:pathLst>
                  <a:path w="3088" h="1">
                    <a:moveTo>
                      <a:pt x="0" y="0"/>
                    </a:moveTo>
                    <a:lnTo>
                      <a:pt x="308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873600" y="5541840"/>
                <a:ext cx="4911840" cy="2880"/>
              </a:xfrm>
              <a:custGeom>
                <a:avLst/>
                <a:gdLst/>
                <a:ahLst/>
                <a:rect l="l" t="t" r="r" b="b"/>
                <a:pathLst>
                  <a:path w="3094" h="2">
                    <a:moveTo>
                      <a:pt x="0" y="2"/>
                    </a:moveTo>
                    <a:lnTo>
                      <a:pt x="309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73600" y="5257440"/>
                <a:ext cx="496872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876840" y="4983120"/>
                <a:ext cx="4914720" cy="1080"/>
              </a:xfrm>
              <a:custGeom>
                <a:avLst/>
                <a:gdLst/>
                <a:ahLst/>
                <a:rect l="l" t="t" r="r" b="b"/>
                <a:pathLst>
                  <a:path w="3096" h="1">
                    <a:moveTo>
                      <a:pt x="0" y="0"/>
                    </a:moveTo>
                    <a:lnTo>
                      <a:pt x="309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70360" y="4703400"/>
                <a:ext cx="4908600" cy="1440"/>
              </a:xfrm>
              <a:custGeom>
                <a:avLst/>
                <a:gdLst/>
                <a:ahLst/>
                <a:rect l="l" t="t" r="r" b="b"/>
                <a:pathLst>
                  <a:path w="3092" h="1">
                    <a:moveTo>
                      <a:pt x="0" y="0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64240" y="4417920"/>
                <a:ext cx="4921200" cy="5760"/>
              </a:xfrm>
              <a:custGeom>
                <a:avLst/>
                <a:gdLst/>
                <a:ahLst/>
                <a:rect l="l" t="t" r="r" b="b"/>
                <a:pathLst>
                  <a:path w="3100" h="4">
                    <a:moveTo>
                      <a:pt x="0" y="4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64240" y="4138560"/>
                <a:ext cx="4933800" cy="12240"/>
              </a:xfrm>
              <a:custGeom>
                <a:avLst/>
                <a:gdLst/>
                <a:ahLst/>
                <a:rect l="l" t="t" r="r" b="b"/>
                <a:pathLst>
                  <a:path w="3108" h="8">
                    <a:moveTo>
                      <a:pt x="0" y="8"/>
                    </a:moveTo>
                    <a:lnTo>
                      <a:pt x="310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51280" y="3859200"/>
                <a:ext cx="4946760" cy="5760"/>
              </a:xfrm>
              <a:custGeom>
                <a:avLst/>
                <a:gdLst/>
                <a:ahLst/>
                <a:rect l="l" t="t" r="r" b="b"/>
                <a:pathLst>
                  <a:path w="3116" h="4">
                    <a:moveTo>
                      <a:pt x="0" y="0"/>
                    </a:moveTo>
                    <a:lnTo>
                      <a:pt x="3116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946680" y="3306600"/>
                <a:ext cx="4844880" cy="6120"/>
              </a:xfrm>
              <a:custGeom>
                <a:avLst/>
                <a:gdLst/>
                <a:ahLst/>
                <a:rect l="l" t="t" r="r" b="b"/>
                <a:pathLst>
                  <a:path w="3052" h="4">
                    <a:moveTo>
                      <a:pt x="0" y="4"/>
                    </a:moveTo>
                    <a:lnTo>
                      <a:pt x="305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76840" y="2747880"/>
                <a:ext cx="4921200" cy="1080"/>
              </a:xfrm>
              <a:custGeom>
                <a:avLst/>
                <a:gdLst/>
                <a:ahLst/>
                <a:rect l="l" t="t" r="r" b="b"/>
                <a:pathLst>
                  <a:path w="3100" h="1">
                    <a:moveTo>
                      <a:pt x="0" y="0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57760" y="2468520"/>
                <a:ext cx="4940280" cy="576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864240" y="2188800"/>
                <a:ext cx="4933800" cy="6120"/>
              </a:xfrm>
              <a:custGeom>
                <a:avLst/>
                <a:gdLst/>
                <a:ahLst/>
                <a:rect l="l" t="t" r="r" b="b"/>
                <a:pathLst>
                  <a:path w="3108" h="4">
                    <a:moveTo>
                      <a:pt x="0" y="0"/>
                    </a:moveTo>
                    <a:lnTo>
                      <a:pt x="3108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857760" y="1915920"/>
                <a:ext cx="4940280" cy="612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870360" y="1636560"/>
                <a:ext cx="4927680" cy="1080"/>
              </a:xfrm>
              <a:custGeom>
                <a:avLst/>
                <a:gdLst/>
                <a:ahLst/>
                <a:rect l="l" t="t" r="r" b="b"/>
                <a:pathLst>
                  <a:path w="3104" h="1">
                    <a:moveTo>
                      <a:pt x="0" y="0"/>
                    </a:moveTo>
                    <a:lnTo>
                      <a:pt x="310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82960" y="1357200"/>
                <a:ext cx="4908600" cy="12240"/>
              </a:xfrm>
              <a:custGeom>
                <a:avLst/>
                <a:gdLst/>
                <a:ahLst/>
                <a:rect l="l" t="t" r="r" b="b"/>
                <a:pathLst>
                  <a:path w="3092" h="8">
                    <a:moveTo>
                      <a:pt x="0" y="8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895920" y="1064880"/>
                <a:ext cx="4902120" cy="18720"/>
              </a:xfrm>
              <a:custGeom>
                <a:avLst/>
                <a:gdLst/>
                <a:ahLst/>
                <a:rect l="l" t="t" r="r" b="b"/>
                <a:pathLst>
                  <a:path w="3088" h="12">
                    <a:moveTo>
                      <a:pt x="0" y="0"/>
                    </a:moveTo>
                    <a:lnTo>
                      <a:pt x="3088" y="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857760" y="6100560"/>
                <a:ext cx="4946760" cy="1080"/>
              </a:xfrm>
              <a:custGeom>
                <a:avLst/>
                <a:gdLst/>
                <a:ahLst/>
                <a:rect l="l" t="t" r="r" b="b"/>
                <a:pathLst>
                  <a:path w="3116" h="1">
                    <a:moveTo>
                      <a:pt x="0" y="0"/>
                    </a:moveTo>
                    <a:lnTo>
                      <a:pt x="311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798040" y="1090440"/>
                <a:ext cx="1440" cy="4978080"/>
              </a:xfrm>
              <a:custGeom>
                <a:avLst/>
                <a:gdLst/>
                <a:ahLst/>
                <a:rect l="l" t="t" r="r" b="b"/>
                <a:pathLst>
                  <a:path w="1" h="3136">
                    <a:moveTo>
                      <a:pt x="0" y="0"/>
                    </a:moveTo>
                    <a:lnTo>
                      <a:pt x="0" y="3136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487000" y="1077840"/>
                <a:ext cx="6120" cy="503496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175600" y="1077840"/>
                <a:ext cx="6480" cy="5028840"/>
              </a:xfrm>
              <a:custGeom>
                <a:avLst/>
                <a:gdLst/>
                <a:ahLst/>
                <a:rect l="l" t="t" r="r" b="b"/>
                <a:pathLst>
                  <a:path w="4" h="3168">
                    <a:moveTo>
                      <a:pt x="4" y="0"/>
                    </a:moveTo>
                    <a:lnTo>
                      <a:pt x="0" y="3168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871040" y="1077840"/>
                <a:ext cx="1440" cy="5015880"/>
              </a:xfrm>
              <a:custGeom>
                <a:avLst/>
                <a:gdLst/>
                <a:ahLst/>
                <a:rect l="l" t="t" r="r" b="b"/>
                <a:pathLst>
                  <a:path w="1" h="3160">
                    <a:moveTo>
                      <a:pt x="0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59640" y="1071360"/>
                <a:ext cx="6480" cy="503532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236000" y="1064880"/>
                <a:ext cx="22320" cy="5065560"/>
              </a:xfrm>
              <a:custGeom>
                <a:avLst/>
                <a:gdLst/>
                <a:ahLst/>
                <a:rect l="l" t="t" r="r" b="b"/>
                <a:pathLst>
                  <a:path w="14" h="3191">
                    <a:moveTo>
                      <a:pt x="0" y="0"/>
                    </a:moveTo>
                    <a:lnTo>
                      <a:pt x="14" y="3191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43680" y="1090440"/>
                <a:ext cx="6480" cy="5016240"/>
              </a:xfrm>
              <a:custGeom>
                <a:avLst/>
                <a:gdLst/>
                <a:ahLst/>
                <a:rect l="l" t="t" r="r" b="b"/>
                <a:pathLst>
                  <a:path w="4" h="3160">
                    <a:moveTo>
                      <a:pt x="4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639120" y="1090440"/>
                <a:ext cx="1440" cy="5003280"/>
              </a:xfrm>
              <a:custGeom>
                <a:avLst/>
                <a:gdLst/>
                <a:ahLst/>
                <a:rect l="l" t="t" r="r" b="b"/>
                <a:pathLst>
                  <a:path w="1" h="3152">
                    <a:moveTo>
                      <a:pt x="0" y="0"/>
                    </a:moveTo>
                    <a:lnTo>
                      <a:pt x="0" y="315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6016680" y="1052640"/>
                <a:ext cx="17640" cy="5078160"/>
              </a:xfrm>
              <a:custGeom>
                <a:avLst/>
                <a:gdLst/>
                <a:ahLst/>
                <a:rect l="l" t="t" r="r" b="b"/>
                <a:pathLst>
                  <a:path w="11" h="3199">
                    <a:moveTo>
                      <a:pt x="0" y="0"/>
                    </a:moveTo>
                    <a:lnTo>
                      <a:pt x="11" y="3199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711760" y="1077840"/>
                <a:ext cx="1800" cy="5034960"/>
              </a:xfrm>
              <a:custGeom>
                <a:avLst/>
                <a:gdLst/>
                <a:ahLst/>
                <a:rect l="l" t="t" r="r" b="b"/>
                <a:pathLst>
                  <a:path w="1" h="3172">
                    <a:moveTo>
                      <a:pt x="0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07200" y="1083960"/>
                <a:ext cx="6120" cy="5022720"/>
              </a:xfrm>
              <a:custGeom>
                <a:avLst/>
                <a:gdLst/>
                <a:ahLst/>
                <a:rect l="l" t="t" r="r" b="b"/>
                <a:pathLst>
                  <a:path w="4" h="3164">
                    <a:moveTo>
                      <a:pt x="4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89680" y="1077840"/>
                <a:ext cx="12600" cy="5022360"/>
              </a:xfrm>
              <a:custGeom>
                <a:avLst/>
                <a:gdLst/>
                <a:ahLst/>
                <a:rect l="l" t="t" r="r" b="b"/>
                <a:pathLst>
                  <a:path w="8" h="3164">
                    <a:moveTo>
                      <a:pt x="0" y="0"/>
                    </a:moveTo>
                    <a:lnTo>
                      <a:pt x="8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91240" y="1077840"/>
                <a:ext cx="6120" cy="5022360"/>
              </a:xfrm>
              <a:custGeom>
                <a:avLst/>
                <a:gdLst/>
                <a:ahLst/>
                <a:rect l="l" t="t" r="r" b="b"/>
                <a:pathLst>
                  <a:path w="4" h="3164">
                    <a:moveTo>
                      <a:pt x="4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86320" y="1077840"/>
                <a:ext cx="1800" cy="5034960"/>
              </a:xfrm>
              <a:custGeom>
                <a:avLst/>
                <a:gdLst/>
                <a:ahLst/>
                <a:rect l="l" t="t" r="r" b="b"/>
                <a:pathLst>
                  <a:path w="1" h="3172">
                    <a:moveTo>
                      <a:pt x="0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175280" y="1077840"/>
                <a:ext cx="1440" cy="5022360"/>
              </a:xfrm>
              <a:custGeom>
                <a:avLst/>
                <a:gdLst/>
                <a:ahLst/>
                <a:rect l="l" t="t" r="r" b="b"/>
                <a:pathLst>
                  <a:path w="1" h="3164">
                    <a:moveTo>
                      <a:pt x="0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>
              <a:off x="3924360" y="357192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11880" y="1079640"/>
              <a:ext cx="25560" cy="5003640"/>
            </a:xfrm>
            <a:custGeom>
              <a:avLst/>
              <a:gdLst/>
              <a:ahLst/>
              <a:rect l="l" t="t" r="r" b="b"/>
              <a:pathLst>
                <a:path w="16" h="3152">
                  <a:moveTo>
                    <a:pt x="16" y="315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16720" y="3571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42920" y="3571920"/>
              <a:ext cx="21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2   3  4   5   6 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96720" y="35002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 -6 -5 -4  -3  -2  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13800" y="1413000"/>
              <a:ext cx="307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29440" y="3645000"/>
              <a:ext cx="383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867280" y="3573360"/>
            <a:ext cx="936720" cy="2952720"/>
          </a:xfrm>
          <a:custGeom>
            <a:avLst/>
            <a:gdLst/>
            <a:ahLst/>
            <a:rect l="l" t="t" r="r" b="b"/>
            <a:pathLst>
              <a:path w="1200" h="1875">
                <a:moveTo>
                  <a:pt x="0" y="1875"/>
                </a:moveTo>
                <a:cubicBezTo>
                  <a:pt x="37" y="1683"/>
                  <a:pt x="152" y="992"/>
                  <a:pt x="224" y="707"/>
                </a:cubicBezTo>
                <a:cubicBezTo>
                  <a:pt x="296" y="422"/>
                  <a:pt x="368" y="280"/>
                  <a:pt x="432" y="163"/>
                </a:cubicBezTo>
                <a:cubicBezTo>
                  <a:pt x="496" y="46"/>
                  <a:pt x="547" y="0"/>
                  <a:pt x="608" y="3"/>
                </a:cubicBezTo>
                <a:cubicBezTo>
                  <a:pt x="669" y="6"/>
                  <a:pt x="736" y="65"/>
                  <a:pt x="800" y="179"/>
                </a:cubicBezTo>
                <a:cubicBezTo>
                  <a:pt x="864" y="293"/>
                  <a:pt x="925" y="416"/>
                  <a:pt x="992" y="691"/>
                </a:cubicBezTo>
                <a:cubicBezTo>
                  <a:pt x="1059" y="966"/>
                  <a:pt x="1157" y="1590"/>
                  <a:pt x="1200" y="1827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700360" y="5877000"/>
            <a:ext cx="1944720" cy="720720"/>
          </a:xfrm>
          <a:prstGeom prst="wedgeEllipseCallout">
            <a:avLst>
              <a:gd name="adj1" fmla="val -108777"/>
              <a:gd name="adj2" fmla="val -6784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24000" y="4869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24000" y="2349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24000" y="1270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24000" y="3500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50920" y="18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 расположены в системе координат по отношению друг к другу графики функций       у = 100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и      у = – 100х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58160" y="1268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пад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348000" y="836640"/>
            <a:ext cx="2160720" cy="576360"/>
          </a:xfrm>
          <a:prstGeom prst="wedgeEllipseCallout">
            <a:avLst>
              <a:gd name="adj1" fmla="val -106648"/>
              <a:gd name="adj2" fmla="val 11556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492360" y="2060640"/>
            <a:ext cx="216072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492360" y="4221000"/>
            <a:ext cx="2232000" cy="64944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867280" y="620280"/>
            <a:ext cx="936720" cy="2952720"/>
          </a:xfrm>
          <a:custGeom>
            <a:avLst/>
            <a:gdLst/>
            <a:ahLst/>
            <a:rect l="l" t="t" r="r" b="b"/>
            <a:pathLst>
              <a:path w="1200" h="1875">
                <a:moveTo>
                  <a:pt x="0" y="1875"/>
                </a:moveTo>
                <a:cubicBezTo>
                  <a:pt x="37" y="1683"/>
                  <a:pt x="152" y="992"/>
                  <a:pt x="224" y="707"/>
                </a:cubicBezTo>
                <a:cubicBezTo>
                  <a:pt x="296" y="422"/>
                  <a:pt x="368" y="280"/>
                  <a:pt x="432" y="163"/>
                </a:cubicBezTo>
                <a:cubicBezTo>
                  <a:pt x="496" y="46"/>
                  <a:pt x="547" y="0"/>
                  <a:pt x="608" y="3"/>
                </a:cubicBezTo>
                <a:cubicBezTo>
                  <a:pt x="669" y="6"/>
                  <a:pt x="736" y="65"/>
                  <a:pt x="800" y="179"/>
                </a:cubicBezTo>
                <a:cubicBezTo>
                  <a:pt x="864" y="293"/>
                  <a:pt x="925" y="416"/>
                  <a:pt x="992" y="691"/>
                </a:cubicBezTo>
                <a:cubicBezTo>
                  <a:pt x="1059" y="966"/>
                  <a:pt x="1157" y="1590"/>
                  <a:pt x="1200" y="182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56360" y="4765680"/>
            <a:ext cx="31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метрич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носительн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27640" y="2276640"/>
            <a:ext cx="31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мметрич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носительно ос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58160" y="3429000"/>
            <a:ext cx="33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мметрич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носительно нач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5941800" y="907920"/>
            <a:ext cx="3022920" cy="2754360"/>
            <a:chOff x="5941800" y="907920"/>
            <a:chExt cx="3022920" cy="2754360"/>
          </a:xfrm>
        </p:grpSpPr>
        <p:sp>
          <p:nvSpPr>
            <p:cNvPr id="713" name=""/>
            <p:cNvSpPr/>
            <p:nvPr/>
          </p:nvSpPr>
          <p:spPr>
            <a:xfrm>
              <a:off x="8605800" y="31417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941800" y="907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06" dur="indefinite" restart="never" nodeType="tmRoot">
          <p:childTnLst>
            <p:seq>
              <p:cTn id="707" restart="whenNotActive" nodeType="interactiveSeq" fill="hold">
                <p:stCondLst>
                  <p:cond evt="onClick">
                    <p:tgtEl>
                      <p:spTgt spid="699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699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01"/>
                    </p:tgtEl>
                  </p:cond>
                </p:stCondLst>
                <p:childTnLst>
                  <p:par>
                    <p:cTn id="741" fill="hold">
                      <p:stCondLst>
                        <p:cond evt="onClick">
                          <p:tgtEl>
                            <p:spTgt spid="701"/>
                          </p:tgtEl>
                        </p:cond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8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500"/>
                            </p:stCondLst>
                            <p:childTnLst>
                              <p:par>
                                <p:cTn id="75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0" restart="whenNotActive" nodeType="interactiveSeq" fill="hold">
                <p:stCondLst>
                  <p:cond evt="onClick">
                    <p:tgtEl>
                      <p:spTgt spid="702"/>
                    </p:tgtEl>
                  </p:cond>
                </p:stCondLst>
                <p:childTnLst>
                  <p:par>
                    <p:cTn id="761" fill="hold">
                      <p:stCondLst>
                        <p:cond evt="onClick">
                          <p:tgtEl>
                            <p:spTgt spid="702"/>
                          </p:tgtEl>
                        </p:cond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8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"/>
          <p:cNvGrpSpPr/>
          <p:nvPr/>
        </p:nvGrpSpPr>
        <p:grpSpPr>
          <a:xfrm>
            <a:off x="3851280" y="1052640"/>
            <a:ext cx="4991040" cy="5078160"/>
            <a:chOff x="3851280" y="1052640"/>
            <a:chExt cx="4991040" cy="5078160"/>
          </a:xfrm>
        </p:grpSpPr>
        <p:sp>
          <p:nvSpPr>
            <p:cNvPr id="716" name=""/>
            <p:cNvSpPr/>
            <p:nvPr/>
          </p:nvSpPr>
          <p:spPr>
            <a:xfrm>
              <a:off x="3870360" y="1064880"/>
              <a:ext cx="3240" cy="503532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946680" y="3024000"/>
              <a:ext cx="4857840" cy="288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89440" y="5821200"/>
              <a:ext cx="4902120" cy="108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873600" y="5541840"/>
              <a:ext cx="4911840" cy="288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873600" y="525744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876840" y="4983120"/>
              <a:ext cx="4914720" cy="108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70360" y="4703400"/>
              <a:ext cx="4908600" cy="144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64240" y="4417920"/>
              <a:ext cx="4921200" cy="576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64240" y="4138560"/>
              <a:ext cx="4933800" cy="1224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851280" y="3859200"/>
              <a:ext cx="4946760" cy="576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46680" y="3306600"/>
              <a:ext cx="4844880" cy="612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876840" y="2747880"/>
              <a:ext cx="4921200" cy="108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57760" y="2468520"/>
              <a:ext cx="4940280" cy="576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864240" y="2188800"/>
              <a:ext cx="4933800" cy="612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57760" y="191592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70360" y="1636560"/>
              <a:ext cx="4927680" cy="108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82960" y="1357200"/>
              <a:ext cx="4908600" cy="1224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895920" y="1064880"/>
              <a:ext cx="4902120" cy="1872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857760" y="6100560"/>
              <a:ext cx="4946760" cy="108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798040" y="1090440"/>
              <a:ext cx="1440" cy="497808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487000" y="1077840"/>
              <a:ext cx="6120" cy="50349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175600" y="1077840"/>
              <a:ext cx="6480" cy="5028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871040" y="1077840"/>
              <a:ext cx="1440" cy="50158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559640" y="1071360"/>
              <a:ext cx="648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36000" y="1064880"/>
              <a:ext cx="22320" cy="506556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43680" y="1090440"/>
              <a:ext cx="6480" cy="501624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639120" y="1090440"/>
              <a:ext cx="1440" cy="50032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16680" y="1052640"/>
              <a:ext cx="17640" cy="50781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1176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407200" y="10839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089680" y="1077840"/>
              <a:ext cx="12600" cy="502236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791240" y="1077840"/>
              <a:ext cx="6120" cy="502236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8632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75280" y="1077840"/>
              <a:ext cx="1440" cy="502236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0" name=""/>
          <p:cNvSpPr/>
          <p:nvPr/>
        </p:nvSpPr>
        <p:spPr>
          <a:xfrm>
            <a:off x="3924360" y="357192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11880" y="1079640"/>
            <a:ext cx="25560" cy="5003640"/>
          </a:xfrm>
          <a:custGeom>
            <a:avLst/>
            <a:gdLst/>
            <a:ahLst/>
            <a:rect l="l" t="t" r="r" b="b"/>
            <a:pathLst>
              <a:path w="16" h="3152">
                <a:moveTo>
                  <a:pt x="16" y="315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516720" y="3571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442920" y="357192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996720" y="3500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013800" y="1413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229440" y="36450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5702400" y="317520"/>
            <a:ext cx="1854000" cy="3002040"/>
          </a:xfrm>
          <a:custGeom>
            <a:avLst/>
            <a:gdLst/>
            <a:ahLst/>
            <a:rect l="l" t="t" r="r" b="b"/>
            <a:pathLst>
              <a:path w="1168" h="1891">
                <a:moveTo>
                  <a:pt x="0" y="0"/>
                </a:moveTo>
                <a:cubicBezTo>
                  <a:pt x="37" y="193"/>
                  <a:pt x="125" y="883"/>
                  <a:pt x="192" y="1168"/>
                </a:cubicBezTo>
                <a:cubicBezTo>
                  <a:pt x="259" y="1453"/>
                  <a:pt x="336" y="1592"/>
                  <a:pt x="400" y="1712"/>
                </a:cubicBezTo>
                <a:cubicBezTo>
                  <a:pt x="464" y="1832"/>
                  <a:pt x="512" y="1891"/>
                  <a:pt x="576" y="1888"/>
                </a:cubicBezTo>
                <a:cubicBezTo>
                  <a:pt x="640" y="1885"/>
                  <a:pt x="720" y="1810"/>
                  <a:pt x="784" y="1696"/>
                </a:cubicBezTo>
                <a:cubicBezTo>
                  <a:pt x="848" y="1582"/>
                  <a:pt x="896" y="1467"/>
                  <a:pt x="960" y="1200"/>
                </a:cubicBezTo>
                <a:cubicBezTo>
                  <a:pt x="1024" y="933"/>
                  <a:pt x="1125" y="326"/>
                  <a:pt x="1168" y="9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203640" y="4363920"/>
            <a:ext cx="1944720" cy="720720"/>
          </a:xfrm>
          <a:prstGeom prst="wedgeEllipseCallout">
            <a:avLst>
              <a:gd name="adj1" fmla="val -90490"/>
              <a:gd name="adj2" fmla="val 6035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912240" y="2421000"/>
            <a:ext cx="252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=(х+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95280" y="5157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24000" y="2494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24000" y="1270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324000" y="3789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50920" y="18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рисунке показано графическое решение уравнения. Определите как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911880" y="1268280"/>
            <a:ext cx="25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=(х–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03600" y="3645000"/>
            <a:ext cx="23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=       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983880" y="5010120"/>
            <a:ext cx="264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х = (х–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492360" y="765000"/>
            <a:ext cx="2160720" cy="57636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203640" y="184464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635280" y="3284640"/>
            <a:ext cx="2232000" cy="64908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 flipV="1">
            <a:off x="5364000" y="596520"/>
            <a:ext cx="1872000" cy="2976480"/>
          </a:xfrm>
          <a:custGeom>
            <a:avLst/>
            <a:gdLst/>
            <a:ahLst/>
            <a:rect l="l" t="t" r="r" b="b"/>
            <a:pathLst>
              <a:path w="1200" h="1875">
                <a:moveTo>
                  <a:pt x="0" y="1875"/>
                </a:moveTo>
                <a:cubicBezTo>
                  <a:pt x="37" y="1683"/>
                  <a:pt x="152" y="992"/>
                  <a:pt x="224" y="707"/>
                </a:cubicBezTo>
                <a:cubicBezTo>
                  <a:pt x="296" y="422"/>
                  <a:pt x="368" y="280"/>
                  <a:pt x="432" y="163"/>
                </a:cubicBezTo>
                <a:cubicBezTo>
                  <a:pt x="496" y="46"/>
                  <a:pt x="547" y="0"/>
                  <a:pt x="608" y="3"/>
                </a:cubicBezTo>
                <a:cubicBezTo>
                  <a:pt x="669" y="6"/>
                  <a:pt x="736" y="65"/>
                  <a:pt x="800" y="179"/>
                </a:cubicBezTo>
                <a:cubicBezTo>
                  <a:pt x="864" y="293"/>
                  <a:pt x="925" y="416"/>
                  <a:pt x="992" y="691"/>
                </a:cubicBezTo>
                <a:cubicBezTo>
                  <a:pt x="1059" y="966"/>
                  <a:pt x="1157" y="1590"/>
                  <a:pt x="1200" y="1827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654200" y="3435480"/>
            <a:ext cx="1044720" cy="1147320"/>
            <a:chOff x="1654200" y="3435480"/>
            <a:chExt cx="1044720" cy="1147320"/>
          </a:xfrm>
        </p:grpSpPr>
        <p:sp>
          <p:nvSpPr>
            <p:cNvPr id="775" name=""/>
            <p:cNvSpPr/>
            <p:nvPr/>
          </p:nvSpPr>
          <p:spPr>
            <a:xfrm>
              <a:off x="1692360" y="4005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654200" y="3940200"/>
              <a:ext cx="10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х–1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847880" y="3435480"/>
              <a:ext cx="56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900000" y="3789360"/>
            <a:ext cx="373320" cy="495000"/>
            <a:chOff x="900000" y="3789360"/>
            <a:chExt cx="373320" cy="495000"/>
          </a:xfrm>
        </p:grpSpPr>
        <p:sp>
          <p:nvSpPr>
            <p:cNvPr id="779" name=""/>
            <p:cNvSpPr/>
            <p:nvPr/>
          </p:nvSpPr>
          <p:spPr>
            <a:xfrm>
              <a:off x="900000" y="3789360"/>
              <a:ext cx="14400" cy="495000"/>
            </a:xfrm>
            <a:custGeom>
              <a:avLst/>
              <a:gdLst/>
              <a:ahLst/>
              <a:rect l="l" t="t" r="r" b="b"/>
              <a:pathLst>
                <a:path w="9" h="267">
                  <a:moveTo>
                    <a:pt x="0" y="0"/>
                  </a:moveTo>
                  <a:lnTo>
                    <a:pt x="9" y="26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258920" y="3789360"/>
              <a:ext cx="14400" cy="495000"/>
            </a:xfrm>
            <a:custGeom>
              <a:avLst/>
              <a:gdLst/>
              <a:ahLst/>
              <a:rect l="l" t="t" r="r" b="b"/>
              <a:pathLst>
                <a:path w="9" h="267">
                  <a:moveTo>
                    <a:pt x="0" y="0"/>
                  </a:moveTo>
                  <a:lnTo>
                    <a:pt x="9" y="26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971640" y="5094360"/>
            <a:ext cx="372600" cy="495000"/>
            <a:chOff x="971640" y="5094360"/>
            <a:chExt cx="372600" cy="495000"/>
          </a:xfrm>
        </p:grpSpPr>
        <p:sp>
          <p:nvSpPr>
            <p:cNvPr id="782" name=""/>
            <p:cNvSpPr/>
            <p:nvPr/>
          </p:nvSpPr>
          <p:spPr>
            <a:xfrm>
              <a:off x="971640" y="5094360"/>
              <a:ext cx="14040" cy="495000"/>
            </a:xfrm>
            <a:custGeom>
              <a:avLst/>
              <a:gdLst/>
              <a:ahLst/>
              <a:rect l="l" t="t" r="r" b="b"/>
              <a:pathLst>
                <a:path w="9" h="267">
                  <a:moveTo>
                    <a:pt x="0" y="0"/>
                  </a:moveTo>
                  <a:lnTo>
                    <a:pt x="9" y="26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330200" y="5094360"/>
              <a:ext cx="14040" cy="495000"/>
            </a:xfrm>
            <a:custGeom>
              <a:avLst/>
              <a:gdLst/>
              <a:ahLst/>
              <a:rect l="l" t="t" r="r" b="b"/>
              <a:pathLst>
                <a:path w="9" h="267">
                  <a:moveTo>
                    <a:pt x="0" y="0"/>
                  </a:moveTo>
                  <a:lnTo>
                    <a:pt x="9" y="26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900000" y="2565360"/>
            <a:ext cx="373320" cy="495000"/>
            <a:chOff x="900000" y="2565360"/>
            <a:chExt cx="373320" cy="495000"/>
          </a:xfrm>
        </p:grpSpPr>
        <p:sp>
          <p:nvSpPr>
            <p:cNvPr id="785" name=""/>
            <p:cNvSpPr/>
            <p:nvPr/>
          </p:nvSpPr>
          <p:spPr>
            <a:xfrm>
              <a:off x="900000" y="2565360"/>
              <a:ext cx="14400" cy="495000"/>
            </a:xfrm>
            <a:custGeom>
              <a:avLst/>
              <a:gdLst/>
              <a:ahLst/>
              <a:rect l="l" t="t" r="r" b="b"/>
              <a:pathLst>
                <a:path w="9" h="267">
                  <a:moveTo>
                    <a:pt x="0" y="0"/>
                  </a:moveTo>
                  <a:lnTo>
                    <a:pt x="9" y="26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258920" y="2565360"/>
              <a:ext cx="14400" cy="495000"/>
            </a:xfrm>
            <a:custGeom>
              <a:avLst/>
              <a:gdLst/>
              <a:ahLst/>
              <a:rect l="l" t="t" r="r" b="b"/>
              <a:pathLst>
                <a:path w="9" h="267">
                  <a:moveTo>
                    <a:pt x="0" y="0"/>
                  </a:moveTo>
                  <a:lnTo>
                    <a:pt x="9" y="267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4356000" y="1628640"/>
            <a:ext cx="4103640" cy="1940040"/>
          </a:xfrm>
          <a:custGeom>
            <a:avLst/>
            <a:gdLst/>
            <a:ahLst/>
            <a:rect l="l" t="t" r="r" b="b"/>
            <a:pathLst>
              <a:path w="2585" h="1222">
                <a:moveTo>
                  <a:pt x="2585" y="0"/>
                </a:moveTo>
                <a:lnTo>
                  <a:pt x="1248" y="1222"/>
                </a:lnTo>
                <a:lnTo>
                  <a:pt x="0" y="136"/>
                </a:lnTo>
              </a:path>
            </a:pathLst>
          </a:custGeom>
          <a:noFill/>
          <a:ln w="28440">
            <a:solidFill>
              <a:srgbClr val="cc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restart="whenNotActive" nodeType="interactiveSeq" fill="hold">
                <p:stCondLst>
                  <p:cond evt="onClick">
                    <p:tgtEl>
                      <p:spTgt spid="762"/>
                    </p:tgtEl>
                  </p:cond>
                </p:stCondLst>
                <p:childTnLst>
                  <p:par>
                    <p:cTn id="772" fill="hold">
                      <p:stCondLst>
                        <p:cond evt="onClick">
                          <p:tgtEl>
                            <p:spTgt spid="762"/>
                          </p:tgtEl>
                        </p:cond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4.81481E-006 L 0.03611 4.81481E-006 L 0.03472 -0.03542 E">
                                      <p:cBhvr>
                                        <p:cTn id="782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764"/>
                    </p:tgtEl>
                  </p:cond>
                </p:stCondLst>
                <p:childTnLst>
                  <p:par>
                    <p:cTn id="784" fill="hold">
                      <p:stCondLst>
                        <p:cond evt="onClick">
                          <p:tgtEl>
                            <p:spTgt spid="764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794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500"/>
                            </p:stCondLst>
                            <p:childTnLst>
                              <p:par>
                                <p:cTn id="80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1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765"/>
                    </p:tgtEl>
                  </p:cond>
                </p:stCondLst>
                <p:childTnLst>
                  <p:par>
                    <p:cTn id="804" fill="hold">
                      <p:stCondLst>
                        <p:cond evt="onClick">
                          <p:tgtEl>
                            <p:spTgt spid="765"/>
                          </p:tgtEl>
                        </p:cond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500"/>
                            </p:stCondLst>
                            <p:childTnLst>
                              <p:par>
                                <p:cTn id="81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>
            <a:off x="108000" y="12952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берите график, соответствующий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= (х – 1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156360" y="465120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7381800" y="357192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316240" y="3933720"/>
            <a:ext cx="2663640" cy="2519280"/>
            <a:chOff x="2316240" y="3933720"/>
            <a:chExt cx="2663640" cy="2519280"/>
          </a:xfrm>
        </p:grpSpPr>
        <p:sp>
          <p:nvSpPr>
            <p:cNvPr id="792" name=""/>
            <p:cNvSpPr/>
            <p:nvPr/>
          </p:nvSpPr>
          <p:spPr>
            <a:xfrm>
              <a:off x="2316240" y="537516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3613320" y="39337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6012000" y="62244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6084720" y="3716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036960" y="364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72960" y="6021360"/>
            <a:ext cx="2340000" cy="503280"/>
          </a:xfrm>
          <a:prstGeom prst="wedgeEllipseCallout">
            <a:avLst>
              <a:gd name="adj1" fmla="val 50814"/>
              <a:gd name="adj2" fmla="val -40993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643280" y="5443560"/>
            <a:ext cx="2160720" cy="576360"/>
          </a:xfrm>
          <a:prstGeom prst="wedgeEllipseCallout">
            <a:avLst>
              <a:gd name="adj1" fmla="val 41254"/>
              <a:gd name="adj2" fmla="val -2990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09488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5643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752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924720" y="112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094880" y="61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8534880" y="2203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583840" y="429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491040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589200" y="38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356600" y="34275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627280" y="1125360"/>
            <a:ext cx="2663640" cy="2519280"/>
            <a:chOff x="2627280" y="1125360"/>
            <a:chExt cx="2663640" cy="2519280"/>
          </a:xfrm>
        </p:grpSpPr>
        <p:sp>
          <p:nvSpPr>
            <p:cNvPr id="811" name=""/>
            <p:cNvSpPr/>
            <p:nvPr/>
          </p:nvSpPr>
          <p:spPr>
            <a:xfrm>
              <a:off x="2627280" y="256680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924360" y="112536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"/>
          <p:cNvGrpSpPr/>
          <p:nvPr/>
        </p:nvGrpSpPr>
        <p:grpSpPr>
          <a:xfrm>
            <a:off x="6156360" y="763560"/>
            <a:ext cx="2663640" cy="2519280"/>
            <a:chOff x="6156360" y="763560"/>
            <a:chExt cx="2663640" cy="2519280"/>
          </a:xfrm>
        </p:grpSpPr>
        <p:sp>
          <p:nvSpPr>
            <p:cNvPr id="814" name=""/>
            <p:cNvSpPr/>
            <p:nvPr/>
          </p:nvSpPr>
          <p:spPr>
            <a:xfrm>
              <a:off x="6156360" y="220500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53440" y="76356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3615120" y="507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6934320" y="442800"/>
            <a:ext cx="1600200" cy="2087640"/>
          </a:xfrm>
          <a:custGeom>
            <a:avLst/>
            <a:gdLst/>
            <a:ahLst/>
            <a:rect l="l" t="t" r="r" b="b"/>
            <a:pathLst>
              <a:path w="1008" h="1315">
                <a:moveTo>
                  <a:pt x="0" y="0"/>
                </a:moveTo>
                <a:cubicBezTo>
                  <a:pt x="27" y="99"/>
                  <a:pt x="104" y="408"/>
                  <a:pt x="160" y="592"/>
                </a:cubicBezTo>
                <a:cubicBezTo>
                  <a:pt x="216" y="776"/>
                  <a:pt x="275" y="984"/>
                  <a:pt x="336" y="1104"/>
                </a:cubicBezTo>
                <a:cubicBezTo>
                  <a:pt x="397" y="1224"/>
                  <a:pt x="464" y="1315"/>
                  <a:pt x="528" y="1312"/>
                </a:cubicBezTo>
                <a:cubicBezTo>
                  <a:pt x="592" y="1309"/>
                  <a:pt x="661" y="1205"/>
                  <a:pt x="720" y="1088"/>
                </a:cubicBezTo>
                <a:cubicBezTo>
                  <a:pt x="779" y="971"/>
                  <a:pt x="832" y="789"/>
                  <a:pt x="880" y="608"/>
                </a:cubicBezTo>
                <a:cubicBezTo>
                  <a:pt x="928" y="427"/>
                  <a:pt x="981" y="126"/>
                  <a:pt x="100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142400" y="436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7454880" y="2195640"/>
            <a:ext cx="317520" cy="342720"/>
          </a:xfrm>
          <a:custGeom>
            <a:avLst/>
            <a:gdLst/>
            <a:ahLst/>
            <a:rect l="l" t="t" r="r" b="b"/>
            <a:pathLst>
              <a:path w="200" h="216">
                <a:moveTo>
                  <a:pt x="200" y="0"/>
                </a:moveTo>
                <a:lnTo>
                  <a:pt x="200" y="216"/>
                </a:lnTo>
                <a:lnTo>
                  <a:pt x="0" y="21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669440" y="18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139160" y="2347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88000" y="115920"/>
            <a:ext cx="1600200" cy="2087640"/>
          </a:xfrm>
          <a:custGeom>
            <a:avLst/>
            <a:gdLst/>
            <a:ahLst/>
            <a:rect l="l" t="t" r="r" b="b"/>
            <a:pathLst>
              <a:path w="1008" h="1315">
                <a:moveTo>
                  <a:pt x="0" y="0"/>
                </a:moveTo>
                <a:cubicBezTo>
                  <a:pt x="27" y="99"/>
                  <a:pt x="104" y="408"/>
                  <a:pt x="160" y="592"/>
                </a:cubicBezTo>
                <a:cubicBezTo>
                  <a:pt x="216" y="776"/>
                  <a:pt x="275" y="984"/>
                  <a:pt x="336" y="1104"/>
                </a:cubicBezTo>
                <a:cubicBezTo>
                  <a:pt x="397" y="1224"/>
                  <a:pt x="464" y="1315"/>
                  <a:pt x="528" y="1312"/>
                </a:cubicBezTo>
                <a:cubicBezTo>
                  <a:pt x="592" y="1309"/>
                  <a:pt x="661" y="1205"/>
                  <a:pt x="720" y="1088"/>
                </a:cubicBezTo>
                <a:cubicBezTo>
                  <a:pt x="779" y="971"/>
                  <a:pt x="832" y="789"/>
                  <a:pt x="880" y="608"/>
                </a:cubicBezTo>
                <a:cubicBezTo>
                  <a:pt x="928" y="427"/>
                  <a:pt x="981" y="126"/>
                  <a:pt x="1008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417840" y="115920"/>
            <a:ext cx="1600200" cy="2101680"/>
          </a:xfrm>
          <a:custGeom>
            <a:avLst/>
            <a:gdLst/>
            <a:ahLst/>
            <a:rect l="l" t="t" r="r" b="b"/>
            <a:pathLst>
              <a:path w="1008" h="1324">
                <a:moveTo>
                  <a:pt x="0" y="0"/>
                </a:moveTo>
                <a:cubicBezTo>
                  <a:pt x="27" y="99"/>
                  <a:pt x="104" y="408"/>
                  <a:pt x="160" y="592"/>
                </a:cubicBezTo>
                <a:cubicBezTo>
                  <a:pt x="216" y="776"/>
                  <a:pt x="274" y="983"/>
                  <a:pt x="336" y="1104"/>
                </a:cubicBezTo>
                <a:cubicBezTo>
                  <a:pt x="398" y="1225"/>
                  <a:pt x="468" y="1324"/>
                  <a:pt x="532" y="1321"/>
                </a:cubicBezTo>
                <a:cubicBezTo>
                  <a:pt x="596" y="1318"/>
                  <a:pt x="662" y="1207"/>
                  <a:pt x="720" y="1088"/>
                </a:cubicBezTo>
                <a:cubicBezTo>
                  <a:pt x="778" y="969"/>
                  <a:pt x="832" y="789"/>
                  <a:pt x="880" y="608"/>
                </a:cubicBezTo>
                <a:cubicBezTo>
                  <a:pt x="928" y="427"/>
                  <a:pt x="981" y="126"/>
                  <a:pt x="100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924360" y="2227320"/>
            <a:ext cx="338040" cy="328680"/>
          </a:xfrm>
          <a:custGeom>
            <a:avLst/>
            <a:gdLst/>
            <a:ahLst/>
            <a:rect l="l" t="t" r="r" b="b"/>
            <a:pathLst>
              <a:path w="213" h="207">
                <a:moveTo>
                  <a:pt x="210" y="207"/>
                </a:moveTo>
                <a:lnTo>
                  <a:pt x="21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06908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63744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60600" y="3632040"/>
            <a:ext cx="1600200" cy="2102040"/>
          </a:xfrm>
          <a:custGeom>
            <a:avLst/>
            <a:gdLst/>
            <a:ahLst/>
            <a:rect l="l" t="t" r="r" b="b"/>
            <a:pathLst>
              <a:path w="1008" h="1324">
                <a:moveTo>
                  <a:pt x="0" y="0"/>
                </a:moveTo>
                <a:cubicBezTo>
                  <a:pt x="27" y="99"/>
                  <a:pt x="104" y="408"/>
                  <a:pt x="160" y="592"/>
                </a:cubicBezTo>
                <a:cubicBezTo>
                  <a:pt x="216" y="776"/>
                  <a:pt x="274" y="983"/>
                  <a:pt x="336" y="1104"/>
                </a:cubicBezTo>
                <a:cubicBezTo>
                  <a:pt x="398" y="1225"/>
                  <a:pt x="468" y="1324"/>
                  <a:pt x="532" y="1321"/>
                </a:cubicBezTo>
                <a:cubicBezTo>
                  <a:pt x="596" y="1318"/>
                  <a:pt x="662" y="1207"/>
                  <a:pt x="720" y="1088"/>
                </a:cubicBezTo>
                <a:cubicBezTo>
                  <a:pt x="778" y="969"/>
                  <a:pt x="832" y="789"/>
                  <a:pt x="880" y="608"/>
                </a:cubicBezTo>
                <a:cubicBezTo>
                  <a:pt x="928" y="427"/>
                  <a:pt x="981" y="126"/>
                  <a:pt x="100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3295800" y="5391000"/>
            <a:ext cx="317520" cy="343080"/>
          </a:xfrm>
          <a:custGeom>
            <a:avLst/>
            <a:gdLst/>
            <a:ahLst/>
            <a:rect l="l" t="t" r="r" b="b"/>
            <a:pathLst>
              <a:path w="200" h="216">
                <a:moveTo>
                  <a:pt x="200" y="0"/>
                </a:moveTo>
                <a:lnTo>
                  <a:pt x="200" y="216"/>
                </a:lnTo>
                <a:lnTo>
                  <a:pt x="0" y="21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54348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083040" y="5078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6877080" y="5010840"/>
            <a:ext cx="1600200" cy="2102040"/>
          </a:xfrm>
          <a:custGeom>
            <a:avLst/>
            <a:gdLst/>
            <a:ahLst/>
            <a:rect l="l" t="t" r="r" b="b"/>
            <a:pathLst>
              <a:path w="1008" h="1324">
                <a:moveTo>
                  <a:pt x="0" y="0"/>
                </a:moveTo>
                <a:cubicBezTo>
                  <a:pt x="27" y="99"/>
                  <a:pt x="104" y="408"/>
                  <a:pt x="160" y="592"/>
                </a:cubicBezTo>
                <a:cubicBezTo>
                  <a:pt x="216" y="776"/>
                  <a:pt x="274" y="983"/>
                  <a:pt x="336" y="1104"/>
                </a:cubicBezTo>
                <a:cubicBezTo>
                  <a:pt x="398" y="1225"/>
                  <a:pt x="468" y="1324"/>
                  <a:pt x="532" y="1321"/>
                </a:cubicBezTo>
                <a:cubicBezTo>
                  <a:pt x="596" y="1318"/>
                  <a:pt x="662" y="1207"/>
                  <a:pt x="720" y="1088"/>
                </a:cubicBezTo>
                <a:cubicBezTo>
                  <a:pt x="778" y="969"/>
                  <a:pt x="832" y="789"/>
                  <a:pt x="880" y="608"/>
                </a:cubicBezTo>
                <a:cubicBezTo>
                  <a:pt x="928" y="427"/>
                  <a:pt x="981" y="126"/>
                  <a:pt x="100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7380360" y="4683240"/>
            <a:ext cx="338040" cy="328320"/>
          </a:xfrm>
          <a:custGeom>
            <a:avLst/>
            <a:gdLst/>
            <a:ahLst/>
            <a:rect l="l" t="t" r="r" b="b"/>
            <a:pathLst>
              <a:path w="213" h="207">
                <a:moveTo>
                  <a:pt x="210" y="207"/>
                </a:moveTo>
                <a:lnTo>
                  <a:pt x="213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7021800" y="4795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526520" y="436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986200" y="620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4643280" y="2563920"/>
            <a:ext cx="1800360" cy="576000"/>
          </a:xfrm>
          <a:prstGeom prst="wedgeEllipseCallout">
            <a:avLst>
              <a:gd name="adj1" fmla="val 29893"/>
              <a:gd name="adj2" fmla="val -27809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401840" y="2205000"/>
            <a:ext cx="2232000" cy="576360"/>
          </a:xfrm>
          <a:prstGeom prst="wedgeEllipseCallout">
            <a:avLst>
              <a:gd name="adj1" fmla="val 46018"/>
              <a:gd name="adj2" fmla="val -23953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restart="whenNotActive" nodeType="interactiveSeq" fill="hold">
                <p:stCondLst>
                  <p:cond evt="onClick">
                    <p:tgtEl>
                      <p:spTgt spid="794"/>
                    </p:tgtEl>
                  </p:cond>
                </p:stCondLst>
                <p:childTnLst>
                  <p:par>
                    <p:cTn id="815" fill="hold">
                      <p:stCondLst>
                        <p:cond evt="onClick">
                          <p:tgtEl>
                            <p:spTgt spid="794"/>
                          </p:tgtEl>
                        </p:cond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000"/>
                            </p:stCondLst>
                            <p:childTnLst>
                              <p:par>
                                <p:cTn id="8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07407E-006 L 0.0375 -0.00024 L 0.0375 0.05069 E">
                                      <p:cBhvr>
                                        <p:cTn id="826" dur="20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835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835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500"/>
                            </p:stCondLst>
                            <p:childTnLst>
                              <p:par>
                                <p:cTn id="83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5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7" restart="whenNotActive" nodeType="interactiveSeq" fill="hold">
                <p:stCondLst>
                  <p:cond evt="onClick">
                    <p:tgtEl>
                      <p:spTgt spid="796"/>
                    </p:tgtEl>
                  </p:cond>
                </p:stCondLst>
                <p:childTnLst>
                  <p:par>
                    <p:cTn id="838" fill="hold">
                      <p:stCondLst>
                        <p:cond evt="onClick">
                          <p:tgtEl>
                            <p:spTgt spid="796"/>
                          </p:tgtEl>
                        </p:cond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5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795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795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684360" y="134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84360" y="4149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684360" y="5518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50920" y="11592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кую из функций можно назвать обратной пропорциональностью?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419640" y="3284640"/>
            <a:ext cx="2160360" cy="576000"/>
          </a:xfrm>
          <a:prstGeom prst="wedgeEllipseCallout">
            <a:avLst>
              <a:gd name="adj1" fmla="val -90777"/>
              <a:gd name="adj2" fmla="val 1428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03640" y="2133720"/>
            <a:ext cx="1944720" cy="720720"/>
          </a:xfrm>
          <a:prstGeom prst="wedgeEllipseCallout">
            <a:avLst>
              <a:gd name="adj1" fmla="val -82652"/>
              <a:gd name="adj2" fmla="val 9339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74920" y="1268280"/>
            <a:ext cx="2160720" cy="576360"/>
          </a:xfrm>
          <a:prstGeom prst="wedgeEllipseCallout">
            <a:avLst>
              <a:gd name="adj1" fmla="val -73513"/>
              <a:gd name="adj2" fmla="val 4779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564000" y="4437000"/>
            <a:ext cx="2232000" cy="649440"/>
          </a:xfrm>
          <a:prstGeom prst="wedgeEllipseCallout">
            <a:avLst>
              <a:gd name="adj1" fmla="val -79870"/>
              <a:gd name="adj2" fmla="val 14437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684360" y="2779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1258920" y="2516040"/>
                <a:ext cx="129708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1258920" y="1052640"/>
                <a:ext cx="129708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х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1203480" y="3933720"/>
                <a:ext cx="12636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1027080" y="5300640"/>
                <a:ext cx="17622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х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7524720" y="115920"/>
                <a:ext cx="1381320" cy="13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57" dur="indefinite" restart="never" nodeType="tmRoot">
          <p:childTnLst>
            <p:seq>
              <p:cTn id="858" restart="whenNotActive" nodeType="interactiveSeq" fill="hold">
                <p:stCondLst>
                  <p:cond evt="onClick">
                    <p:tgtEl>
                      <p:spTgt spid="841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841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840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840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842"/>
                    </p:tgtEl>
                  </p:cond>
                </p:stCondLst>
                <p:childTnLst>
                  <p:par>
                    <p:cTn id="879" fill="hold">
                      <p:stCondLst>
                        <p:cond evt="onClick">
                          <p:tgtEl>
                            <p:spTgt spid="842"/>
                          </p:tgtEl>
                        </p:cond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500"/>
                            </p:stCondLst>
                            <p:childTnLst>
                              <p:par>
                                <p:cTn id="88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848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848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4" name=""/>
          <p:cNvGrpSpPr/>
          <p:nvPr/>
        </p:nvGrpSpPr>
        <p:grpSpPr>
          <a:xfrm>
            <a:off x="3851280" y="1052640"/>
            <a:ext cx="4991040" cy="5078160"/>
            <a:chOff x="3851280" y="1052640"/>
            <a:chExt cx="4991040" cy="5078160"/>
          </a:xfrm>
        </p:grpSpPr>
        <p:sp>
          <p:nvSpPr>
            <p:cNvPr id="855" name=""/>
            <p:cNvSpPr/>
            <p:nvPr/>
          </p:nvSpPr>
          <p:spPr>
            <a:xfrm>
              <a:off x="3870360" y="1064880"/>
              <a:ext cx="3240" cy="503532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946680" y="3024000"/>
              <a:ext cx="4857840" cy="288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889440" y="5821200"/>
              <a:ext cx="4902120" cy="108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73600" y="5541840"/>
              <a:ext cx="4911840" cy="288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73600" y="525744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876840" y="4983120"/>
              <a:ext cx="4914720" cy="108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70360" y="4703400"/>
              <a:ext cx="4908600" cy="144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64240" y="4417920"/>
              <a:ext cx="4921200" cy="576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64240" y="4138560"/>
              <a:ext cx="4933800" cy="1224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851280" y="3859200"/>
              <a:ext cx="4946760" cy="576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946680" y="3306600"/>
              <a:ext cx="4844880" cy="612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76840" y="2747880"/>
              <a:ext cx="4921200" cy="108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57760" y="2468520"/>
              <a:ext cx="4940280" cy="576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864240" y="2188800"/>
              <a:ext cx="4933800" cy="612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857760" y="191592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870360" y="1636560"/>
              <a:ext cx="4927680" cy="108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882960" y="1357200"/>
              <a:ext cx="4908600" cy="1224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895920" y="1064880"/>
              <a:ext cx="4902120" cy="1872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857760" y="6100560"/>
              <a:ext cx="4946760" cy="108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798040" y="1090440"/>
              <a:ext cx="1440" cy="497808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487000" y="1077840"/>
              <a:ext cx="6120" cy="50349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175600" y="1077840"/>
              <a:ext cx="6480" cy="5028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71040" y="1077840"/>
              <a:ext cx="1440" cy="50158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559640" y="1071360"/>
              <a:ext cx="648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36000" y="1064880"/>
              <a:ext cx="22320" cy="506556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43680" y="1090440"/>
              <a:ext cx="6480" cy="501624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639120" y="1090440"/>
              <a:ext cx="1440" cy="50032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016680" y="1052640"/>
              <a:ext cx="17640" cy="50781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71176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407200" y="10839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089680" y="1077840"/>
              <a:ext cx="12600" cy="502236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791240" y="1077840"/>
              <a:ext cx="6120" cy="502236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48632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175280" y="1077840"/>
              <a:ext cx="1440" cy="502236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516720" y="3571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3924360" y="1079640"/>
            <a:ext cx="4897440" cy="5003640"/>
            <a:chOff x="3924360" y="1079640"/>
            <a:chExt cx="4897440" cy="5003640"/>
          </a:xfrm>
        </p:grpSpPr>
        <p:sp>
          <p:nvSpPr>
            <p:cNvPr id="891" name=""/>
            <p:cNvSpPr/>
            <p:nvPr/>
          </p:nvSpPr>
          <p:spPr>
            <a:xfrm>
              <a:off x="3924360" y="357192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311880" y="1079640"/>
              <a:ext cx="25560" cy="5003640"/>
            </a:xfrm>
            <a:custGeom>
              <a:avLst/>
              <a:gdLst/>
              <a:ahLst/>
              <a:rect l="l" t="t" r="r" b="b"/>
              <a:pathLst>
                <a:path w="16" h="3152">
                  <a:moveTo>
                    <a:pt x="16" y="315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3996720" y="1413000"/>
              <a:ext cx="4600440" cy="4246200"/>
              <a:chOff x="3996720" y="1413000"/>
              <a:chExt cx="4600440" cy="4246200"/>
            </a:xfrm>
          </p:grpSpPr>
          <p:sp>
            <p:nvSpPr>
              <p:cNvPr id="894" name=""/>
              <p:cNvSpPr/>
              <p:nvPr/>
            </p:nvSpPr>
            <p:spPr>
              <a:xfrm>
                <a:off x="6442920" y="3571920"/>
                <a:ext cx="215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  2   3  4   5   6  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996720" y="3500280"/>
                <a:ext cx="21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 -6 -5 -4  -3  -2  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013800" y="1413000"/>
                <a:ext cx="30708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29440" y="3645000"/>
                <a:ext cx="38340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98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647640" y="231948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ая, проходящая чере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тные четвер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50920" y="3794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линия является графиком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50920" y="36147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50920" y="23907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50920" y="134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50920" y="47671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684360" y="1413000"/>
            <a:ext cx="48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ая, проходящая через начало коорд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979640" y="907920"/>
            <a:ext cx="2160720" cy="576360"/>
          </a:xfrm>
          <a:prstGeom prst="wedgeEllipseCallout">
            <a:avLst>
              <a:gd name="adj1" fmla="val -105472"/>
              <a:gd name="adj2" fmla="val 4917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835280" y="3213000"/>
            <a:ext cx="2160360" cy="576360"/>
          </a:xfrm>
          <a:prstGeom prst="wedgeEllipseCallout">
            <a:avLst>
              <a:gd name="adj1" fmla="val -106648"/>
              <a:gd name="adj2" fmla="val -1293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419640" y="5734080"/>
            <a:ext cx="2232000" cy="649080"/>
          </a:xfrm>
          <a:prstGeom prst="wedgeEllipseCallout">
            <a:avLst>
              <a:gd name="adj1" fmla="val -109601"/>
              <a:gd name="adj2" fmla="val -6882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11280" y="354348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ер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84360" y="4838760"/>
            <a:ext cx="52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3" name=""/>
              <p:cNvSpPr txBox="1"/>
              <p:nvPr/>
            </p:nvSpPr>
            <p:spPr>
              <a:xfrm>
                <a:off x="6516720" y="115920"/>
                <a:ext cx="15843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14" name=""/>
          <p:cNvGrpSpPr/>
          <p:nvPr/>
        </p:nvGrpSpPr>
        <p:grpSpPr>
          <a:xfrm>
            <a:off x="3924000" y="1268280"/>
            <a:ext cx="4826160" cy="4681800"/>
            <a:chOff x="3924000" y="1268280"/>
            <a:chExt cx="4826160" cy="4681800"/>
          </a:xfrm>
        </p:grpSpPr>
        <p:sp>
          <p:nvSpPr>
            <p:cNvPr id="915" name=""/>
            <p:cNvSpPr/>
            <p:nvPr/>
          </p:nvSpPr>
          <p:spPr>
            <a:xfrm>
              <a:off x="6443640" y="3733920"/>
              <a:ext cx="2306520" cy="2216160"/>
            </a:xfrm>
            <a:custGeom>
              <a:avLst/>
              <a:gdLst/>
              <a:ahLst/>
              <a:rect l="l" t="t" r="r" b="b"/>
              <a:pathLst>
                <a:path w="1453" h="1396">
                  <a:moveTo>
                    <a:pt x="0" y="1396"/>
                  </a:moveTo>
                  <a:cubicBezTo>
                    <a:pt x="26" y="1014"/>
                    <a:pt x="49" y="660"/>
                    <a:pt x="136" y="443"/>
                  </a:cubicBezTo>
                  <a:cubicBezTo>
                    <a:pt x="223" y="226"/>
                    <a:pt x="305" y="170"/>
                    <a:pt x="525" y="96"/>
                  </a:cubicBezTo>
                  <a:cubicBezTo>
                    <a:pt x="745" y="22"/>
                    <a:pt x="1260" y="20"/>
                    <a:pt x="1453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3923640" y="1268280"/>
              <a:ext cx="2306520" cy="2216160"/>
            </a:xfrm>
            <a:custGeom>
              <a:avLst/>
              <a:gdLst/>
              <a:ahLst/>
              <a:rect l="l" t="t" r="r" b="b"/>
              <a:pathLst>
                <a:path w="1453" h="1396">
                  <a:moveTo>
                    <a:pt x="0" y="1396"/>
                  </a:moveTo>
                  <a:cubicBezTo>
                    <a:pt x="26" y="1014"/>
                    <a:pt x="49" y="660"/>
                    <a:pt x="136" y="443"/>
                  </a:cubicBezTo>
                  <a:cubicBezTo>
                    <a:pt x="223" y="226"/>
                    <a:pt x="305" y="170"/>
                    <a:pt x="525" y="96"/>
                  </a:cubicBezTo>
                  <a:cubicBezTo>
                    <a:pt x="745" y="22"/>
                    <a:pt x="1260" y="20"/>
                    <a:pt x="1453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"/>
          <p:cNvSpPr/>
          <p:nvPr/>
        </p:nvSpPr>
        <p:spPr>
          <a:xfrm>
            <a:off x="2195640" y="3860640"/>
            <a:ext cx="1944720" cy="720720"/>
          </a:xfrm>
          <a:prstGeom prst="wedgeEllipseCallout">
            <a:avLst>
              <a:gd name="adj1" fmla="val -113671"/>
              <a:gd name="adj2" fmla="val -1079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fill="hold">
                            <p:stCondLst>
                              <p:cond delay="500"/>
                            </p:stCondLst>
                            <p:childTnLst>
                              <p:par>
                                <p:cTn id="91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2" restart="whenNotActive" nodeType="interactiveSeq" fill="hold">
                <p:stCondLst>
                  <p:cond evt="onClick">
                    <p:tgtEl>
                      <p:spTgt spid="904"/>
                    </p:tgtEl>
                  </p:cond>
                </p:stCondLst>
                <p:childTnLst>
                  <p:par>
                    <p:cTn id="923" fill="hold">
                      <p:stCondLst>
                        <p:cond evt="onClick">
                          <p:tgtEl>
                            <p:spTgt spid="904"/>
                          </p:tgtEl>
                        </p:cond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7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500"/>
                            </p:stCondLst>
                            <p:childTnLst>
                              <p:par>
                                <p:cTn id="92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0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2" restart="whenNotActive" nodeType="interactiveSeq" fill="hold">
                <p:stCondLst>
                  <p:cond evt="onClick">
                    <p:tgtEl>
                      <p:spTgt spid="906"/>
                    </p:tgtEl>
                  </p:cond>
                </p:stCondLst>
                <p:childTnLst>
                  <p:par>
                    <p:cTn id="933" fill="hold">
                      <p:stCondLst>
                        <p:cond evt="onClick">
                          <p:tgtEl>
                            <p:spTgt spid="906"/>
                          </p:tgtEl>
                        </p:cond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500"/>
                            </p:stCondLst>
                            <p:childTnLst>
                              <p:par>
                                <p:cTn id="93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903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903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"/>
                            </p:stCondLst>
                            <p:childTnLst>
                              <p:par>
                                <p:cTn id="9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fill="hold">
                            <p:stCondLst>
                              <p:cond delay="1000"/>
                            </p:stCondLst>
                            <p:childTnLst>
                              <p:par>
                                <p:cTn id="9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3851280" y="1052640"/>
            <a:ext cx="4991040" cy="5078160"/>
            <a:chOff x="3851280" y="1052640"/>
            <a:chExt cx="4991040" cy="5078160"/>
          </a:xfrm>
        </p:grpSpPr>
        <p:sp>
          <p:nvSpPr>
            <p:cNvPr id="919" name=""/>
            <p:cNvSpPr/>
            <p:nvPr/>
          </p:nvSpPr>
          <p:spPr>
            <a:xfrm>
              <a:off x="3870360" y="1064880"/>
              <a:ext cx="3240" cy="503532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946680" y="3024000"/>
              <a:ext cx="4857840" cy="288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889440" y="5821200"/>
              <a:ext cx="4902120" cy="108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73600" y="5541840"/>
              <a:ext cx="4911840" cy="288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873600" y="525744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876840" y="4983120"/>
              <a:ext cx="4914720" cy="108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870360" y="4703400"/>
              <a:ext cx="4908600" cy="144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64240" y="4417920"/>
              <a:ext cx="4921200" cy="576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864240" y="4138560"/>
              <a:ext cx="4933800" cy="1224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851280" y="3859200"/>
              <a:ext cx="4946760" cy="576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946680" y="3306600"/>
              <a:ext cx="4844880" cy="612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876840" y="2747880"/>
              <a:ext cx="4921200" cy="108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857760" y="2468520"/>
              <a:ext cx="4940280" cy="576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864240" y="2188800"/>
              <a:ext cx="4933800" cy="612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857760" y="191592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70360" y="1636560"/>
              <a:ext cx="4927680" cy="108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882960" y="1357200"/>
              <a:ext cx="4908600" cy="1224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895920" y="1064880"/>
              <a:ext cx="4902120" cy="1872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857760" y="6100560"/>
              <a:ext cx="4946760" cy="108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8798040" y="1090440"/>
              <a:ext cx="1440" cy="497808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487000" y="1077840"/>
              <a:ext cx="6120" cy="50349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175600" y="1077840"/>
              <a:ext cx="6480" cy="5028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871040" y="1077840"/>
              <a:ext cx="1440" cy="50158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559640" y="1071360"/>
              <a:ext cx="648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236000" y="1064880"/>
              <a:ext cx="22320" cy="506556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943680" y="1090440"/>
              <a:ext cx="6480" cy="501624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639120" y="1090440"/>
              <a:ext cx="1440" cy="50032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016680" y="1052640"/>
              <a:ext cx="17640" cy="50781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71176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407200" y="10839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089680" y="1077840"/>
              <a:ext cx="12600" cy="502236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791240" y="1077840"/>
              <a:ext cx="6120" cy="502236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48632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4175280" y="1077840"/>
              <a:ext cx="1440" cy="502236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3" name=""/>
          <p:cNvSpPr/>
          <p:nvPr/>
        </p:nvSpPr>
        <p:spPr>
          <a:xfrm>
            <a:off x="6516720" y="3571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3924360" y="1079640"/>
            <a:ext cx="4897440" cy="5003640"/>
            <a:chOff x="3924360" y="1079640"/>
            <a:chExt cx="4897440" cy="5003640"/>
          </a:xfrm>
        </p:grpSpPr>
        <p:sp>
          <p:nvSpPr>
            <p:cNvPr id="955" name=""/>
            <p:cNvSpPr/>
            <p:nvPr/>
          </p:nvSpPr>
          <p:spPr>
            <a:xfrm>
              <a:off x="3924360" y="357192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11880" y="1079640"/>
              <a:ext cx="25560" cy="5003640"/>
            </a:xfrm>
            <a:custGeom>
              <a:avLst/>
              <a:gdLst/>
              <a:ahLst/>
              <a:rect l="l" t="t" r="r" b="b"/>
              <a:pathLst>
                <a:path w="16" h="3152">
                  <a:moveTo>
                    <a:pt x="16" y="315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3996720" y="1413000"/>
              <a:ext cx="4600440" cy="4246200"/>
              <a:chOff x="3996720" y="1413000"/>
              <a:chExt cx="4600440" cy="4246200"/>
            </a:xfrm>
          </p:grpSpPr>
          <p:sp>
            <p:nvSpPr>
              <p:cNvPr id="958" name=""/>
              <p:cNvSpPr/>
              <p:nvPr/>
            </p:nvSpPr>
            <p:spPr>
              <a:xfrm>
                <a:off x="6442920" y="3571920"/>
                <a:ext cx="215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  2   3  4   5   6  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996720" y="3500280"/>
                <a:ext cx="21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 -6 -5 -4  -3  -2  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013800" y="1413000"/>
                <a:ext cx="30708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6229440" y="3645000"/>
                <a:ext cx="38340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50920" y="2602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равнение горизонтальной асимптоты гиперб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50920" y="227664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250920" y="33242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250920" y="458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250920" y="57006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84360" y="2276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=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700360" y="4292640"/>
            <a:ext cx="2160720" cy="576360"/>
          </a:xfrm>
          <a:prstGeom prst="wedgeEllipseCallout">
            <a:avLst>
              <a:gd name="adj1" fmla="val -97245"/>
              <a:gd name="adj2" fmla="val 9325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771640" y="3068640"/>
            <a:ext cx="2160720" cy="576360"/>
          </a:xfrm>
          <a:prstGeom prst="wedgeEllipseCallout">
            <a:avLst>
              <a:gd name="adj1" fmla="val -100773"/>
              <a:gd name="adj2" fmla="val 95453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2843280" y="5661000"/>
            <a:ext cx="2232000" cy="649440"/>
          </a:xfrm>
          <a:prstGeom prst="wedgeEllipseCallout">
            <a:avLst>
              <a:gd name="adj1" fmla="val -95944"/>
              <a:gd name="adj2" fmla="val 75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3" name=""/>
              <p:cNvSpPr txBox="1"/>
              <p:nvPr/>
            </p:nvSpPr>
            <p:spPr>
              <a:xfrm>
                <a:off x="490680" y="836640"/>
                <a:ext cx="22590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(</m:t>
                    </m:r>
                    <m:r>
                      <m:t xml:space="preserve">х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4" name=""/>
          <p:cNvSpPr/>
          <p:nvPr/>
        </p:nvSpPr>
        <p:spPr>
          <a:xfrm>
            <a:off x="2700360" y="1844640"/>
            <a:ext cx="1944720" cy="720720"/>
          </a:xfrm>
          <a:prstGeom prst="wedgeEllipseCallout">
            <a:avLst>
              <a:gd name="adj1" fmla="val -95222"/>
              <a:gd name="adj2" fmla="val 7070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3276360" y="533520"/>
            <a:ext cx="6134400" cy="6108120"/>
            <a:chOff x="3276360" y="533520"/>
            <a:chExt cx="6134400" cy="6108120"/>
          </a:xfrm>
        </p:grpSpPr>
        <p:grpSp>
          <p:nvGrpSpPr>
            <p:cNvPr id="976" name=""/>
            <p:cNvGrpSpPr/>
            <p:nvPr/>
          </p:nvGrpSpPr>
          <p:grpSpPr>
            <a:xfrm>
              <a:off x="3276360" y="533520"/>
              <a:ext cx="6134400" cy="6108120"/>
              <a:chOff x="3276360" y="533520"/>
              <a:chExt cx="6134400" cy="6108120"/>
            </a:xfrm>
          </p:grpSpPr>
          <p:sp>
            <p:nvSpPr>
              <p:cNvPr id="977" name=""/>
              <p:cNvSpPr/>
              <p:nvPr/>
            </p:nvSpPr>
            <p:spPr>
              <a:xfrm>
                <a:off x="6413400" y="533520"/>
                <a:ext cx="2997360" cy="2997000"/>
              </a:xfrm>
              <a:custGeom>
                <a:avLst/>
                <a:gdLst/>
                <a:ahLst/>
                <a:rect l="l" t="t" r="r" b="b"/>
                <a:pathLst>
                  <a:path w="1888" h="1888">
                    <a:moveTo>
                      <a:pt x="1888" y="1888"/>
                    </a:moveTo>
                    <a:cubicBezTo>
                      <a:pt x="1733" y="1864"/>
                      <a:pt x="1177" y="1808"/>
                      <a:pt x="928" y="1744"/>
                    </a:cubicBezTo>
                    <a:cubicBezTo>
                      <a:pt x="679" y="1680"/>
                      <a:pt x="523" y="1621"/>
                      <a:pt x="392" y="1504"/>
                    </a:cubicBezTo>
                    <a:cubicBezTo>
                      <a:pt x="261" y="1387"/>
                      <a:pt x="209" y="1291"/>
                      <a:pt x="144" y="1040"/>
                    </a:cubicBezTo>
                    <a:cubicBezTo>
                      <a:pt x="79" y="789"/>
                      <a:pt x="30" y="21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 flipV="1">
                <a:off x="3276000" y="3644280"/>
                <a:ext cx="2997000" cy="2997000"/>
              </a:xfrm>
              <a:custGeom>
                <a:avLst/>
                <a:gdLst/>
                <a:ahLst/>
                <a:rect l="l" t="t" r="r" b="b"/>
                <a:pathLst>
                  <a:path w="1888" h="1888">
                    <a:moveTo>
                      <a:pt x="1888" y="1888"/>
                    </a:moveTo>
                    <a:cubicBezTo>
                      <a:pt x="1733" y="1864"/>
                      <a:pt x="1177" y="1808"/>
                      <a:pt x="928" y="1744"/>
                    </a:cubicBezTo>
                    <a:cubicBezTo>
                      <a:pt x="679" y="1680"/>
                      <a:pt x="523" y="1621"/>
                      <a:pt x="392" y="1504"/>
                    </a:cubicBezTo>
                    <a:cubicBezTo>
                      <a:pt x="261" y="1387"/>
                      <a:pt x="209" y="1291"/>
                      <a:pt x="144" y="1040"/>
                    </a:cubicBezTo>
                    <a:cubicBezTo>
                      <a:pt x="79" y="789"/>
                      <a:pt x="30" y="21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9" name=""/>
            <p:cNvSpPr/>
            <p:nvPr/>
          </p:nvSpPr>
          <p:spPr>
            <a:xfrm>
              <a:off x="3780000" y="3573360"/>
              <a:ext cx="5364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6300720" y="620640"/>
              <a:ext cx="23760" cy="5958000"/>
            </a:xfrm>
            <a:custGeom>
              <a:avLst/>
              <a:gdLst/>
              <a:ahLst/>
              <a:rect l="l" t="t" r="r" b="b"/>
              <a:pathLst>
                <a:path w="15" h="3753">
                  <a:moveTo>
                    <a:pt x="0" y="0"/>
                  </a:moveTo>
                  <a:lnTo>
                    <a:pt x="15" y="375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7451640" y="40053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у =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84360" y="3357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 =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84360" y="4581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=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68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 =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rot="16200000">
            <a:off x="6459120" y="1327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х =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9" dur="indefinite" restart="never" nodeType="tmRoot">
          <p:childTnLst>
            <p:seq>
              <p:cTn id="960" restart="whenNotActive" nodeType="interactiveSeq" fill="hold">
                <p:stCondLst>
                  <p:cond evt="onClick">
                    <p:tgtEl>
                      <p:spTgt spid="967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967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966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966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8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0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981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0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991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500"/>
                            </p:stCondLst>
                            <p:childTnLst>
                              <p:par>
                                <p:cTn id="9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2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7037E-007 L 0.10278 -3.7037E-007 L 0.10555 0.12592 E">
                                      <p:cBhvr>
                                        <p:cTn id="1009" dur="2000" fill="hold"/>
                                        <p:tgtEl>
                                          <p:spTgt spid="9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9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9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3851280" y="1052640"/>
            <a:ext cx="4991040" cy="5078160"/>
            <a:chOff x="3851280" y="1052640"/>
            <a:chExt cx="4991040" cy="5078160"/>
          </a:xfrm>
        </p:grpSpPr>
        <p:sp>
          <p:nvSpPr>
            <p:cNvPr id="987" name=""/>
            <p:cNvSpPr/>
            <p:nvPr/>
          </p:nvSpPr>
          <p:spPr>
            <a:xfrm>
              <a:off x="3870360" y="1064880"/>
              <a:ext cx="3240" cy="503532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946680" y="3024000"/>
              <a:ext cx="4857840" cy="288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889440" y="5821200"/>
              <a:ext cx="4902120" cy="108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873600" y="5541840"/>
              <a:ext cx="4911840" cy="288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73600" y="525744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76840" y="4983120"/>
              <a:ext cx="4914720" cy="108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70360" y="4703400"/>
              <a:ext cx="4908600" cy="144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864240" y="4417920"/>
              <a:ext cx="4921200" cy="576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864240" y="4138560"/>
              <a:ext cx="4933800" cy="1224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51280" y="3859200"/>
              <a:ext cx="4946760" cy="576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946680" y="3306600"/>
              <a:ext cx="4844880" cy="612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876840" y="2747880"/>
              <a:ext cx="4921200" cy="108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857760" y="2468520"/>
              <a:ext cx="4940280" cy="576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864240" y="2188800"/>
              <a:ext cx="4933800" cy="612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57760" y="191592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870360" y="1636560"/>
              <a:ext cx="4927680" cy="108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882960" y="1357200"/>
              <a:ext cx="4908600" cy="1224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895920" y="1064880"/>
              <a:ext cx="4902120" cy="1872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857760" y="6100560"/>
              <a:ext cx="4946760" cy="108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798040" y="1090440"/>
              <a:ext cx="1440" cy="497808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487000" y="1077840"/>
              <a:ext cx="6120" cy="50349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175600" y="1077840"/>
              <a:ext cx="6480" cy="5028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871040" y="1077840"/>
              <a:ext cx="1440" cy="50158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559640" y="1071360"/>
              <a:ext cx="648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36000" y="1064880"/>
              <a:ext cx="22320" cy="506556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943680" y="1090440"/>
              <a:ext cx="6480" cy="501624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639120" y="1090440"/>
              <a:ext cx="1440" cy="50032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016680" y="1052640"/>
              <a:ext cx="17640" cy="50781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71176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407200" y="10839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89680" y="1077840"/>
              <a:ext cx="12600" cy="502236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791240" y="1077840"/>
              <a:ext cx="6120" cy="502236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48632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175280" y="1077840"/>
              <a:ext cx="1440" cy="502236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"/>
          <p:cNvSpPr/>
          <p:nvPr/>
        </p:nvSpPr>
        <p:spPr>
          <a:xfrm>
            <a:off x="6516720" y="3571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3924360" y="1079640"/>
            <a:ext cx="4897440" cy="5003640"/>
            <a:chOff x="3924360" y="1079640"/>
            <a:chExt cx="4897440" cy="5003640"/>
          </a:xfrm>
        </p:grpSpPr>
        <p:sp>
          <p:nvSpPr>
            <p:cNvPr id="1023" name=""/>
            <p:cNvSpPr/>
            <p:nvPr/>
          </p:nvSpPr>
          <p:spPr>
            <a:xfrm>
              <a:off x="3924360" y="357192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311880" y="1079640"/>
              <a:ext cx="25560" cy="5003640"/>
            </a:xfrm>
            <a:custGeom>
              <a:avLst/>
              <a:gdLst/>
              <a:ahLst/>
              <a:rect l="l" t="t" r="r" b="b"/>
              <a:pathLst>
                <a:path w="16" h="3152">
                  <a:moveTo>
                    <a:pt x="16" y="315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3996720" y="1413000"/>
              <a:ext cx="4600440" cy="4246200"/>
              <a:chOff x="3996720" y="1413000"/>
              <a:chExt cx="4600440" cy="4246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6442920" y="3571920"/>
                <a:ext cx="215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  2   3  4   5   6  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996720" y="3500280"/>
                <a:ext cx="21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 -6 -5 -4  -3  -2  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013800" y="1413000"/>
                <a:ext cx="30708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29440" y="3645000"/>
                <a:ext cx="38340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250920" y="18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уясь графиком функции, определите, чему равно значение функции при х = 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324000" y="5229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324000" y="27511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324000" y="170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324000" y="40068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2195640" y="1413000"/>
            <a:ext cx="2160360" cy="576000"/>
          </a:xfrm>
          <a:prstGeom prst="wedgeEllipseCallout">
            <a:avLst>
              <a:gd name="adj1" fmla="val -96657"/>
              <a:gd name="adj2" fmla="val 8581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835280" y="2494080"/>
            <a:ext cx="2160360" cy="576000"/>
          </a:xfrm>
          <a:prstGeom prst="wedgeEllipseCallout">
            <a:avLst>
              <a:gd name="adj1" fmla="val -78435"/>
              <a:gd name="adj2" fmla="val 9325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1979640" y="3718080"/>
            <a:ext cx="2232000" cy="649080"/>
          </a:xfrm>
          <a:prstGeom prst="wedgeEllipseCallout">
            <a:avLst>
              <a:gd name="adj1" fmla="val -95944"/>
              <a:gd name="adj2" fmla="val 9938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138560" y="3716280"/>
            <a:ext cx="2148120" cy="2354400"/>
          </a:xfrm>
          <a:custGeom>
            <a:avLst/>
            <a:gdLst/>
            <a:ahLst/>
            <a:rect l="l" t="t" r="r" b="b"/>
            <a:pathLst>
              <a:path w="1353" h="1483">
                <a:moveTo>
                  <a:pt x="1353" y="1483"/>
                </a:moveTo>
                <a:cubicBezTo>
                  <a:pt x="1337" y="1307"/>
                  <a:pt x="1326" y="659"/>
                  <a:pt x="1257" y="427"/>
                </a:cubicBezTo>
                <a:cubicBezTo>
                  <a:pt x="1188" y="195"/>
                  <a:pt x="1147" y="162"/>
                  <a:pt x="937" y="91"/>
                </a:cubicBezTo>
                <a:cubicBezTo>
                  <a:pt x="727" y="20"/>
                  <a:pt x="195" y="19"/>
                  <a:pt x="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372360" y="1341360"/>
            <a:ext cx="2327040" cy="2171880"/>
          </a:xfrm>
          <a:custGeom>
            <a:avLst/>
            <a:gdLst/>
            <a:ahLst/>
            <a:rect l="l" t="t" r="r" b="b"/>
            <a:pathLst>
              <a:path w="1466" h="1368">
                <a:moveTo>
                  <a:pt x="0" y="0"/>
                </a:moveTo>
                <a:cubicBezTo>
                  <a:pt x="26" y="382"/>
                  <a:pt x="49" y="736"/>
                  <a:pt x="136" y="953"/>
                </a:cubicBezTo>
                <a:cubicBezTo>
                  <a:pt x="223" y="1170"/>
                  <a:pt x="303" y="1232"/>
                  <a:pt x="525" y="1300"/>
                </a:cubicBezTo>
                <a:cubicBezTo>
                  <a:pt x="747" y="1368"/>
                  <a:pt x="1270" y="1350"/>
                  <a:pt x="1466" y="136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195640" y="5084640"/>
            <a:ext cx="1944720" cy="720720"/>
          </a:xfrm>
          <a:prstGeom prst="wedgeEllipseCallout">
            <a:avLst>
              <a:gd name="adj1" fmla="val -109754"/>
              <a:gd name="adj2" fmla="val 6586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26920" y="2781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755640" y="177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826920" y="3836880"/>
            <a:ext cx="360360" cy="772560"/>
            <a:chOff x="826920" y="3836880"/>
            <a:chExt cx="360360" cy="772560"/>
          </a:xfrm>
        </p:grpSpPr>
        <p:sp>
          <p:nvSpPr>
            <p:cNvPr id="1047" name=""/>
            <p:cNvSpPr/>
            <p:nvPr/>
          </p:nvSpPr>
          <p:spPr>
            <a:xfrm>
              <a:off x="826920" y="38368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826920" y="4149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896760" y="4221000"/>
              <a:ext cx="219240" cy="1800"/>
            </a:xfrm>
            <a:custGeom>
              <a:avLst/>
              <a:gdLst/>
              <a:ahLst/>
              <a:rect l="l" t="t" r="r" b="b"/>
              <a:pathLst>
                <a:path w="138" h="1">
                  <a:moveTo>
                    <a:pt x="0" y="0"/>
                  </a:moveTo>
                  <a:lnTo>
                    <a:pt x="138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"/>
          <p:cNvSpPr/>
          <p:nvPr/>
        </p:nvSpPr>
        <p:spPr>
          <a:xfrm>
            <a:off x="755640" y="5276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311880" y="3289320"/>
            <a:ext cx="636480" cy="284040"/>
          </a:xfrm>
          <a:custGeom>
            <a:avLst/>
            <a:gdLst/>
            <a:ahLst/>
            <a:rect l="l" t="t" r="r" b="b"/>
            <a:pathLst>
              <a:path w="401" h="179">
                <a:moveTo>
                  <a:pt x="401" y="179"/>
                </a:moveTo>
                <a:lnTo>
                  <a:pt x="40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4" dur="indefinite" restart="never" nodeType="tmRoot">
          <p:childTnLst>
            <p:seq>
              <p:cTn id="1025" restart="whenNotActive" nodeType="interactiveSeq" fill="hold">
                <p:stCondLst>
                  <p:cond evt="onClick">
                    <p:tgtEl>
                      <p:spTgt spid="1036"/>
                    </p:tgtEl>
                  </p:cond>
                </p:stCondLst>
                <p:childTnLst>
                  <p:par>
                    <p:cTn id="1026" fill="hold">
                      <p:stCondLst>
                        <p:cond evt="onClick">
                          <p:tgtEl>
                            <p:spTgt spid="1036"/>
                          </p:tgtEl>
                        </p:cond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500"/>
                            </p:stCondLst>
                            <p:childTnLst>
                              <p:par>
                                <p:cTn id="103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5" restart="whenNotActive" nodeType="interactiveSeq" fill="hold">
                <p:stCondLst>
                  <p:cond evt="onClick">
                    <p:tgtEl>
                      <p:spTgt spid="1035"/>
                    </p:tgtEl>
                  </p:cond>
                </p:stCondLst>
                <p:childTnLst>
                  <p:par>
                    <p:cTn id="1036" fill="hold">
                      <p:stCondLst>
                        <p:cond evt="onClick">
                          <p:tgtEl>
                            <p:spTgt spid="1035"/>
                          </p:tgtEl>
                        </p:cond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"/>
                            </p:stCondLst>
                            <p:childTnLst>
                              <p:par>
                                <p:cTn id="104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1037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1037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500"/>
                            </p:stCondLst>
                            <p:childTnLst>
                              <p:par>
                                <p:cTn id="105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5" restart="whenNotActive" nodeType="interactiveSeq" fill="hold">
                <p:stCondLst>
                  <p:cond evt="onClick">
                    <p:tgtEl>
                      <p:spTgt spid="1034"/>
                    </p:tgtEl>
                  </p:cond>
                </p:stCondLst>
                <p:childTnLst>
                  <p:par>
                    <p:cTn id="1056" fill="hold">
                      <p:stCondLst>
                        <p:cond evt="onClick">
                          <p:tgtEl>
                            <p:spTgt spid="1034"/>
                          </p:tgtEl>
                        </p:cond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4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3851280" y="1052640"/>
            <a:ext cx="4991040" cy="5078160"/>
            <a:chOff x="3851280" y="1052640"/>
            <a:chExt cx="4991040" cy="5078160"/>
          </a:xfrm>
        </p:grpSpPr>
        <p:sp>
          <p:nvSpPr>
            <p:cNvPr id="104" name=""/>
            <p:cNvSpPr/>
            <p:nvPr/>
          </p:nvSpPr>
          <p:spPr>
            <a:xfrm>
              <a:off x="3870360" y="1064880"/>
              <a:ext cx="3240" cy="503532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946680" y="3024000"/>
              <a:ext cx="4857840" cy="288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889440" y="5821200"/>
              <a:ext cx="4902120" cy="108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873600" y="5541840"/>
              <a:ext cx="4911840" cy="288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73600" y="525744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76840" y="4983120"/>
              <a:ext cx="4914720" cy="108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70360" y="4703400"/>
              <a:ext cx="4908600" cy="144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64240" y="4417920"/>
              <a:ext cx="4921200" cy="576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64240" y="4138560"/>
              <a:ext cx="4933800" cy="1224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51280" y="3859200"/>
              <a:ext cx="4946760" cy="576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46680" y="3306600"/>
              <a:ext cx="4844880" cy="612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76840" y="2747880"/>
              <a:ext cx="4921200" cy="108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57760" y="2468520"/>
              <a:ext cx="4940280" cy="576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4240" y="2188800"/>
              <a:ext cx="4933800" cy="612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857760" y="191592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70360" y="1636560"/>
              <a:ext cx="4927680" cy="108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82960" y="1357200"/>
              <a:ext cx="4908600" cy="1224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95920" y="1064880"/>
              <a:ext cx="4902120" cy="1872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57760" y="6100560"/>
              <a:ext cx="4946760" cy="108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98040" y="1090440"/>
              <a:ext cx="1440" cy="497808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87000" y="1077840"/>
              <a:ext cx="6120" cy="503496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75600" y="1077840"/>
              <a:ext cx="6480" cy="502884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71040" y="1077840"/>
              <a:ext cx="1440" cy="501588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59640" y="1071360"/>
              <a:ext cx="648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6000" y="1064880"/>
              <a:ext cx="22320" cy="506556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43680" y="1090440"/>
              <a:ext cx="6480" cy="501624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39120" y="1090440"/>
              <a:ext cx="1440" cy="500328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16680" y="1052640"/>
              <a:ext cx="17640" cy="50781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176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07200" y="108396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89680" y="1077840"/>
              <a:ext cx="12600" cy="502236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91240" y="1077840"/>
              <a:ext cx="6120" cy="502236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486320" y="1077840"/>
              <a:ext cx="1800" cy="503496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75280" y="1077840"/>
              <a:ext cx="1440" cy="502236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3924360" y="357192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62640" y="1028880"/>
            <a:ext cx="1800" cy="5054400"/>
          </a:xfrm>
          <a:custGeom>
            <a:avLst/>
            <a:gdLst/>
            <a:ahLst/>
            <a:rect l="l" t="t" r="r" b="b"/>
            <a:pathLst>
              <a:path w="1" h="3184">
                <a:moveTo>
                  <a:pt x="0" y="3184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16720" y="3571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442920" y="357192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96720" y="3500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3800" y="1413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29440" y="364500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2240" y="4003560"/>
            <a:ext cx="239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(х+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407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867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95640" y="2205000"/>
            <a:ext cx="1944720" cy="720720"/>
          </a:xfrm>
          <a:prstGeom prst="wedgeEllipseCallout">
            <a:avLst>
              <a:gd name="adj1" fmla="val -59796"/>
              <a:gd name="adj2" fmla="val 9845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60280"/>
            <a:ext cx="8642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шите уравнение параболы, изображенной на рисунке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1520" y="32115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–(х–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1880" y="48672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(х–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1520" y="573084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–(х–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76840" y="3030480"/>
            <a:ext cx="1905120" cy="2976480"/>
          </a:xfrm>
          <a:custGeom>
            <a:avLst/>
            <a:gdLst/>
            <a:ahLst/>
            <a:rect l="l" t="t" r="r" b="b"/>
            <a:pathLst>
              <a:path w="1200" h="1875">
                <a:moveTo>
                  <a:pt x="0" y="1875"/>
                </a:moveTo>
                <a:cubicBezTo>
                  <a:pt x="37" y="1683"/>
                  <a:pt x="152" y="992"/>
                  <a:pt x="224" y="707"/>
                </a:cubicBezTo>
                <a:cubicBezTo>
                  <a:pt x="296" y="422"/>
                  <a:pt x="368" y="280"/>
                  <a:pt x="432" y="163"/>
                </a:cubicBezTo>
                <a:cubicBezTo>
                  <a:pt x="496" y="46"/>
                  <a:pt x="547" y="0"/>
                  <a:pt x="608" y="3"/>
                </a:cubicBezTo>
                <a:cubicBezTo>
                  <a:pt x="669" y="6"/>
                  <a:pt x="736" y="65"/>
                  <a:pt x="800" y="179"/>
                </a:cubicBezTo>
                <a:cubicBezTo>
                  <a:pt x="864" y="293"/>
                  <a:pt x="925" y="416"/>
                  <a:pt x="992" y="691"/>
                </a:cubicBezTo>
                <a:cubicBezTo>
                  <a:pt x="1059" y="966"/>
                  <a:pt x="1157" y="1590"/>
                  <a:pt x="1200" y="1827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3640" y="4508640"/>
            <a:ext cx="216036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03640" y="357336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348000" y="5661000"/>
            <a:ext cx="2232000" cy="64944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435640" y="3573360"/>
            <a:ext cx="1905120" cy="2976840"/>
          </a:xfrm>
          <a:custGeom>
            <a:avLst/>
            <a:gdLst/>
            <a:ahLst/>
            <a:rect l="l" t="t" r="r" b="b"/>
            <a:pathLst>
              <a:path w="1200" h="1875">
                <a:moveTo>
                  <a:pt x="0" y="1875"/>
                </a:moveTo>
                <a:cubicBezTo>
                  <a:pt x="37" y="1683"/>
                  <a:pt x="152" y="992"/>
                  <a:pt x="224" y="707"/>
                </a:cubicBezTo>
                <a:cubicBezTo>
                  <a:pt x="296" y="422"/>
                  <a:pt x="368" y="280"/>
                  <a:pt x="432" y="163"/>
                </a:cubicBezTo>
                <a:cubicBezTo>
                  <a:pt x="496" y="46"/>
                  <a:pt x="547" y="0"/>
                  <a:pt x="608" y="3"/>
                </a:cubicBezTo>
                <a:cubicBezTo>
                  <a:pt x="669" y="6"/>
                  <a:pt x="736" y="65"/>
                  <a:pt x="800" y="179"/>
                </a:cubicBezTo>
                <a:cubicBezTo>
                  <a:pt x="864" y="293"/>
                  <a:pt x="925" y="416"/>
                  <a:pt x="992" y="691"/>
                </a:cubicBezTo>
                <a:cubicBezTo>
                  <a:pt x="1059" y="966"/>
                  <a:pt x="1157" y="1590"/>
                  <a:pt x="1200" y="182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1.48148E-006 L 0.02778 1.48148E-006 L 0.02778 -0.07778 E">
                                      <p:cBhvr>
                                        <p:cTn id="67" dur="5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52" name=""/>
              <p:cNvSpPr txBox="1"/>
              <p:nvPr/>
            </p:nvSpPr>
            <p:spPr>
              <a:xfrm>
                <a:off x="7093080" y="44280"/>
                <a:ext cx="122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53" name=""/>
          <p:cNvSpPr/>
          <p:nvPr/>
        </p:nvSpPr>
        <p:spPr>
          <a:xfrm>
            <a:off x="5364000" y="1052640"/>
            <a:ext cx="100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005440" y="1052640"/>
            <a:ext cx="358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645800" y="1074600"/>
            <a:ext cx="17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(4;– 0,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1045800" y="400356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68360" y="4003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68360" y="3211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68360" y="4867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46836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250920" y="115920"/>
            <a:ext cx="86421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каких значениях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ходит через точ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1045800" y="314172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1182600" y="4797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1182600" y="56610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203640" y="4508640"/>
            <a:ext cx="216036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987640" y="3573360"/>
            <a:ext cx="1944720" cy="720720"/>
          </a:xfrm>
          <a:prstGeom prst="wedgeEllipseCallout">
            <a:avLst>
              <a:gd name="adj1" fmla="val -110736"/>
              <a:gd name="adj2" fmla="val 5749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059280" y="249228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3348000" y="5661000"/>
            <a:ext cx="2232000" cy="64944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restart="whenNotActive" nodeType="interactiveSeq" fill="hold">
                <p:stCondLst>
                  <p:cond evt="onClick">
                    <p:tgtEl>
                      <p:spTgt spid="1058"/>
                    </p:tgtEl>
                  </p:cond>
                </p:stCondLst>
                <p:childTnLst>
                  <p:par>
                    <p:cTn id="1067" fill="hold">
                      <p:stCondLst>
                        <p:cond evt="onClick">
                          <p:tgtEl>
                            <p:spTgt spid="1058"/>
                          </p:tgtEl>
                        </p:cond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500"/>
                            </p:stCondLst>
                            <p:childTnLst>
                              <p:par>
                                <p:cTn id="10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7037E-006 L 0.29931 -3.7037E-006 L 0.31493 -0.03564 E">
                                      <p:cBhvr>
                                        <p:cTn id="107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L 0.07882 -0.05254 L 0.12639 -0.0875 E">
                                      <p:cBhvr>
                                        <p:cTn id="1084" dur="2000" fill="hold"/>
                                        <p:tgtEl>
                                          <p:spTgt spid="10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5" restart="whenNotActive" nodeType="interactiveSeq" fill="hold">
                <p:stCondLst>
                  <p:cond evt="onClick">
                    <p:tgtEl>
                      <p:spTgt spid="1060"/>
                    </p:tgtEl>
                  </p:cond>
                </p:stCondLst>
                <p:childTnLst>
                  <p:par>
                    <p:cTn id="1086" fill="hold">
                      <p:stCondLst>
                        <p:cond evt="onClick">
                          <p:tgtEl>
                            <p:spTgt spid="1060"/>
                          </p:tgtEl>
                        </p:cond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5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096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10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3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5" restart="whenNotActive" nodeType="interactiveSeq" fill="hold">
                <p:stCondLst>
                  <p:cond evt="onClick">
                    <p:tgtEl>
                      <p:spTgt spid="1061"/>
                    </p:tgtEl>
                  </p:cond>
                </p:stCondLst>
                <p:childTnLst>
                  <p:par>
                    <p:cTn id="1106" fill="hold">
                      <p:stCondLst>
                        <p:cond evt="onClick">
                          <p:tgtEl>
                            <p:spTgt spid="1061"/>
                          </p:tgtEl>
                        </p:cond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"/>
          <p:cNvSpPr/>
          <p:nvPr/>
        </p:nvSpPr>
        <p:spPr>
          <a:xfrm>
            <a:off x="108000" y="18900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из графиков функций, представленных на рисунке является гипербол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6299280" y="465120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7524720" y="357192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2316240" y="3933720"/>
            <a:ext cx="2663640" cy="2519280"/>
            <a:chOff x="2316240" y="3933720"/>
            <a:chExt cx="2663640" cy="2519280"/>
          </a:xfrm>
        </p:grpSpPr>
        <p:sp>
          <p:nvSpPr>
            <p:cNvPr id="1074" name=""/>
            <p:cNvSpPr/>
            <p:nvPr/>
          </p:nvSpPr>
          <p:spPr>
            <a:xfrm>
              <a:off x="2316240" y="537516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3613320" y="39337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6084720" y="620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227640" y="3716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36960" y="3645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372960" y="6021360"/>
            <a:ext cx="2340000" cy="503280"/>
          </a:xfrm>
          <a:prstGeom prst="wedgeEllipseCallout">
            <a:avLst>
              <a:gd name="adj1" fmla="val 50814"/>
              <a:gd name="adj2" fmla="val -40993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4643280" y="5443560"/>
            <a:ext cx="2160720" cy="576360"/>
          </a:xfrm>
          <a:prstGeom prst="wedgeEllipseCallout">
            <a:avLst>
              <a:gd name="adj1" fmla="val 41254"/>
              <a:gd name="adj2" fmla="val -299037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709488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5643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50752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3924720" y="112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7094880" y="33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53488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8726760" y="429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491040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3589200" y="386064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7499520" y="34275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2627280" y="1125360"/>
            <a:ext cx="2663640" cy="2519280"/>
            <a:chOff x="2627280" y="1125360"/>
            <a:chExt cx="2663640" cy="2519280"/>
          </a:xfrm>
        </p:grpSpPr>
        <p:sp>
          <p:nvSpPr>
            <p:cNvPr id="1093" name=""/>
            <p:cNvSpPr/>
            <p:nvPr/>
          </p:nvSpPr>
          <p:spPr>
            <a:xfrm>
              <a:off x="2627280" y="256680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924360" y="112536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"/>
          <p:cNvGrpSpPr/>
          <p:nvPr/>
        </p:nvGrpSpPr>
        <p:grpSpPr>
          <a:xfrm>
            <a:off x="6156360" y="477720"/>
            <a:ext cx="2663640" cy="2519280"/>
            <a:chOff x="6156360" y="477720"/>
            <a:chExt cx="2663640" cy="2519280"/>
          </a:xfrm>
        </p:grpSpPr>
        <p:sp>
          <p:nvSpPr>
            <p:cNvPr id="1096" name=""/>
            <p:cNvSpPr/>
            <p:nvPr/>
          </p:nvSpPr>
          <p:spPr>
            <a:xfrm>
              <a:off x="6156360" y="191916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453440" y="47772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3615120" y="5078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7285320" y="436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7669440" y="155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7139160" y="20620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3417840" y="463680"/>
            <a:ext cx="1600200" cy="2101680"/>
          </a:xfrm>
          <a:custGeom>
            <a:avLst/>
            <a:gdLst/>
            <a:ahLst/>
            <a:rect l="l" t="t" r="r" b="b"/>
            <a:pathLst>
              <a:path w="1008" h="1324">
                <a:moveTo>
                  <a:pt x="0" y="0"/>
                </a:moveTo>
                <a:cubicBezTo>
                  <a:pt x="27" y="99"/>
                  <a:pt x="104" y="408"/>
                  <a:pt x="160" y="592"/>
                </a:cubicBezTo>
                <a:cubicBezTo>
                  <a:pt x="216" y="776"/>
                  <a:pt x="274" y="983"/>
                  <a:pt x="336" y="1104"/>
                </a:cubicBezTo>
                <a:cubicBezTo>
                  <a:pt x="398" y="1225"/>
                  <a:pt x="468" y="1324"/>
                  <a:pt x="532" y="1321"/>
                </a:cubicBezTo>
                <a:cubicBezTo>
                  <a:pt x="596" y="1318"/>
                  <a:pt x="662" y="1207"/>
                  <a:pt x="720" y="1088"/>
                </a:cubicBezTo>
                <a:cubicBezTo>
                  <a:pt x="778" y="969"/>
                  <a:pt x="832" y="789"/>
                  <a:pt x="880" y="608"/>
                </a:cubicBezTo>
                <a:cubicBezTo>
                  <a:pt x="928" y="427"/>
                  <a:pt x="981" y="126"/>
                  <a:pt x="1008" y="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06908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63744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3543480" y="55166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3083040" y="50785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7164720" y="4795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7669440" y="436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2986200" y="620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4067280" y="2997360"/>
            <a:ext cx="2665440" cy="576000"/>
          </a:xfrm>
          <a:prstGeom prst="wedgeEllipseCallout">
            <a:avLst>
              <a:gd name="adj1" fmla="val 23138"/>
              <a:gd name="adj2" fmla="val -36212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гипербо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401840" y="2205000"/>
            <a:ext cx="2232000" cy="576360"/>
          </a:xfrm>
          <a:prstGeom prst="wedgeEllipseCallout">
            <a:avLst>
              <a:gd name="adj1" fmla="val 46018"/>
              <a:gd name="adj2" fmla="val -23953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2050920" y="4005360"/>
            <a:ext cx="3025800" cy="1353960"/>
          </a:xfrm>
          <a:custGeom>
            <a:avLst/>
            <a:gdLst/>
            <a:ahLst/>
            <a:rect l="l" t="t" r="r" b="b"/>
            <a:pathLst>
              <a:path w="1906" h="853">
                <a:moveTo>
                  <a:pt x="0" y="0"/>
                </a:moveTo>
                <a:lnTo>
                  <a:pt x="980" y="853"/>
                </a:lnTo>
                <a:lnTo>
                  <a:pt x="190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 flipH="1">
            <a:off x="6443640" y="3573360"/>
            <a:ext cx="2448000" cy="25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7524720" y="40644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8" y="107"/>
                  <a:pt x="40" y="500"/>
                  <a:pt x="108" y="644"/>
                </a:cubicBezTo>
                <a:cubicBezTo>
                  <a:pt x="176" y="788"/>
                  <a:pt x="275" y="818"/>
                  <a:pt x="408" y="862"/>
                </a:cubicBezTo>
                <a:cubicBezTo>
                  <a:pt x="541" y="906"/>
                  <a:pt x="725" y="904"/>
                  <a:pt x="907" y="90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H="1" flipV="1">
            <a:off x="5940360" y="1989000"/>
            <a:ext cx="1440000" cy="1441440"/>
          </a:xfrm>
          <a:custGeom>
            <a:avLst/>
            <a:gdLst/>
            <a:ahLst/>
            <a:rect l="l" t="t" r="r" b="b"/>
            <a:pathLst>
              <a:path w="907" h="908">
                <a:moveTo>
                  <a:pt x="0" y="0"/>
                </a:moveTo>
                <a:cubicBezTo>
                  <a:pt x="18" y="107"/>
                  <a:pt x="40" y="500"/>
                  <a:pt x="108" y="644"/>
                </a:cubicBezTo>
                <a:cubicBezTo>
                  <a:pt x="176" y="788"/>
                  <a:pt x="275" y="818"/>
                  <a:pt x="408" y="862"/>
                </a:cubicBezTo>
                <a:cubicBezTo>
                  <a:pt x="541" y="906"/>
                  <a:pt x="725" y="904"/>
                  <a:pt x="907" y="908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5" dur="indefinite" restart="never" nodeType="tmRoot">
          <p:childTnLst>
            <p:seq>
              <p:cTn id="1116" restart="whenNotActive" nodeType="interactiveSeq" fill="hold">
                <p:stCondLst>
                  <p:cond evt="onClick">
                    <p:tgtEl>
                      <p:spTgt spid="1076"/>
                    </p:tgtEl>
                  </p:cond>
                </p:stCondLst>
                <p:childTnLst>
                  <p:par>
                    <p:cTn id="1117" fill="hold">
                      <p:stCondLst>
                        <p:cond evt="onClick">
                          <p:tgtEl>
                            <p:spTgt spid="1076"/>
                          </p:tgtEl>
                        </p:cond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2" restart="whenNotActive" nodeType="interactiveSeq" fill="hold">
                <p:stCondLst>
                  <p:cond evt="onClick">
                    <p:tgtEl>
                      <p:spTgt spid="1109"/>
                    </p:tgtEl>
                  </p:cond>
                </p:stCondLst>
                <p:childTnLst>
                  <p:par>
                    <p:cTn id="1123" fill="hold">
                      <p:stCondLst>
                        <p:cond evt="onClick">
                          <p:tgtEl>
                            <p:spTgt spid="1109"/>
                          </p:tgtEl>
                        </p:cond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12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0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2" restart="whenNotActive" nodeType="interactiveSeq" fill="hold">
                <p:stCondLst>
                  <p:cond evt="onClick">
                    <p:tgtEl>
                      <p:spTgt spid="1078"/>
                    </p:tgtEl>
                  </p:cond>
                </p:stCondLst>
                <p:childTnLst>
                  <p:par>
                    <p:cTn id="1133" fill="hold">
                      <p:stCondLst>
                        <p:cond evt="onClick">
                          <p:tgtEl>
                            <p:spTgt spid="1078"/>
                          </p:tgtEl>
                        </p:cond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7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"/>
          <p:cNvGrpSpPr/>
          <p:nvPr/>
        </p:nvGrpSpPr>
        <p:grpSpPr>
          <a:xfrm>
            <a:off x="3851280" y="1052640"/>
            <a:ext cx="4991040" cy="5078160"/>
            <a:chOff x="3851280" y="1052640"/>
            <a:chExt cx="4991040" cy="5078160"/>
          </a:xfrm>
        </p:grpSpPr>
        <p:grpSp>
          <p:nvGrpSpPr>
            <p:cNvPr id="1117" name=""/>
            <p:cNvGrpSpPr/>
            <p:nvPr/>
          </p:nvGrpSpPr>
          <p:grpSpPr>
            <a:xfrm>
              <a:off x="3851280" y="1052640"/>
              <a:ext cx="4991040" cy="5078160"/>
              <a:chOff x="3851280" y="1052640"/>
              <a:chExt cx="4991040" cy="5078160"/>
            </a:xfrm>
          </p:grpSpPr>
          <p:sp>
            <p:nvSpPr>
              <p:cNvPr id="1118" name=""/>
              <p:cNvSpPr/>
              <p:nvPr/>
            </p:nvSpPr>
            <p:spPr>
              <a:xfrm>
                <a:off x="3870360" y="1064880"/>
                <a:ext cx="3240" cy="5035320"/>
              </a:xfrm>
              <a:custGeom>
                <a:avLst/>
                <a:gdLst/>
                <a:ahLst/>
                <a:rect l="l" t="t" r="r" b="b"/>
                <a:pathLst>
                  <a:path w="2" h="3172">
                    <a:moveTo>
                      <a:pt x="0" y="0"/>
                    </a:moveTo>
                    <a:lnTo>
                      <a:pt x="2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946680" y="3024000"/>
                <a:ext cx="4857840" cy="2880"/>
              </a:xfrm>
              <a:custGeom>
                <a:avLst/>
                <a:gdLst/>
                <a:ahLst/>
                <a:rect l="l" t="t" r="r" b="b"/>
                <a:pathLst>
                  <a:path w="3060" h="2">
                    <a:moveTo>
                      <a:pt x="0" y="0"/>
                    </a:moveTo>
                    <a:lnTo>
                      <a:pt x="3060" y="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3889440" y="5821200"/>
                <a:ext cx="4902120" cy="1080"/>
              </a:xfrm>
              <a:custGeom>
                <a:avLst/>
                <a:gdLst/>
                <a:ahLst/>
                <a:rect l="l" t="t" r="r" b="b"/>
                <a:pathLst>
                  <a:path w="3088" h="1">
                    <a:moveTo>
                      <a:pt x="0" y="0"/>
                    </a:moveTo>
                    <a:lnTo>
                      <a:pt x="308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3873600" y="5541840"/>
                <a:ext cx="4911840" cy="2880"/>
              </a:xfrm>
              <a:custGeom>
                <a:avLst/>
                <a:gdLst/>
                <a:ahLst/>
                <a:rect l="l" t="t" r="r" b="b"/>
                <a:pathLst>
                  <a:path w="3094" h="2">
                    <a:moveTo>
                      <a:pt x="0" y="2"/>
                    </a:moveTo>
                    <a:lnTo>
                      <a:pt x="309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3873600" y="5257440"/>
                <a:ext cx="496872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3876840" y="4983120"/>
                <a:ext cx="4914720" cy="1080"/>
              </a:xfrm>
              <a:custGeom>
                <a:avLst/>
                <a:gdLst/>
                <a:ahLst/>
                <a:rect l="l" t="t" r="r" b="b"/>
                <a:pathLst>
                  <a:path w="3096" h="1">
                    <a:moveTo>
                      <a:pt x="0" y="0"/>
                    </a:moveTo>
                    <a:lnTo>
                      <a:pt x="309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3870360" y="4703400"/>
                <a:ext cx="4908600" cy="1440"/>
              </a:xfrm>
              <a:custGeom>
                <a:avLst/>
                <a:gdLst/>
                <a:ahLst/>
                <a:rect l="l" t="t" r="r" b="b"/>
                <a:pathLst>
                  <a:path w="3092" h="1">
                    <a:moveTo>
                      <a:pt x="0" y="0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3864240" y="4417920"/>
                <a:ext cx="4921200" cy="5760"/>
              </a:xfrm>
              <a:custGeom>
                <a:avLst/>
                <a:gdLst/>
                <a:ahLst/>
                <a:rect l="l" t="t" r="r" b="b"/>
                <a:pathLst>
                  <a:path w="3100" h="4">
                    <a:moveTo>
                      <a:pt x="0" y="4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3864240" y="4138560"/>
                <a:ext cx="4933800" cy="12240"/>
              </a:xfrm>
              <a:custGeom>
                <a:avLst/>
                <a:gdLst/>
                <a:ahLst/>
                <a:rect l="l" t="t" r="r" b="b"/>
                <a:pathLst>
                  <a:path w="3108" h="8">
                    <a:moveTo>
                      <a:pt x="0" y="8"/>
                    </a:moveTo>
                    <a:lnTo>
                      <a:pt x="310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3851280" y="3859200"/>
                <a:ext cx="4946760" cy="5760"/>
              </a:xfrm>
              <a:custGeom>
                <a:avLst/>
                <a:gdLst/>
                <a:ahLst/>
                <a:rect l="l" t="t" r="r" b="b"/>
                <a:pathLst>
                  <a:path w="3116" h="4">
                    <a:moveTo>
                      <a:pt x="0" y="0"/>
                    </a:moveTo>
                    <a:lnTo>
                      <a:pt x="3116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3946680" y="3306600"/>
                <a:ext cx="4844880" cy="6120"/>
              </a:xfrm>
              <a:custGeom>
                <a:avLst/>
                <a:gdLst/>
                <a:ahLst/>
                <a:rect l="l" t="t" r="r" b="b"/>
                <a:pathLst>
                  <a:path w="3052" h="4">
                    <a:moveTo>
                      <a:pt x="0" y="4"/>
                    </a:moveTo>
                    <a:lnTo>
                      <a:pt x="305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3876840" y="2747880"/>
                <a:ext cx="4921200" cy="1080"/>
              </a:xfrm>
              <a:custGeom>
                <a:avLst/>
                <a:gdLst/>
                <a:ahLst/>
                <a:rect l="l" t="t" r="r" b="b"/>
                <a:pathLst>
                  <a:path w="3100" h="1">
                    <a:moveTo>
                      <a:pt x="0" y="0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3857760" y="2468520"/>
                <a:ext cx="4940280" cy="576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3864240" y="2188800"/>
                <a:ext cx="4933800" cy="6120"/>
              </a:xfrm>
              <a:custGeom>
                <a:avLst/>
                <a:gdLst/>
                <a:ahLst/>
                <a:rect l="l" t="t" r="r" b="b"/>
                <a:pathLst>
                  <a:path w="3108" h="4">
                    <a:moveTo>
                      <a:pt x="0" y="0"/>
                    </a:moveTo>
                    <a:lnTo>
                      <a:pt x="3108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3857760" y="1915920"/>
                <a:ext cx="4940280" cy="612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870360" y="1636560"/>
                <a:ext cx="4927680" cy="1080"/>
              </a:xfrm>
              <a:custGeom>
                <a:avLst/>
                <a:gdLst/>
                <a:ahLst/>
                <a:rect l="l" t="t" r="r" b="b"/>
                <a:pathLst>
                  <a:path w="3104" h="1">
                    <a:moveTo>
                      <a:pt x="0" y="0"/>
                    </a:moveTo>
                    <a:lnTo>
                      <a:pt x="310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3882960" y="1357200"/>
                <a:ext cx="4908600" cy="12240"/>
              </a:xfrm>
              <a:custGeom>
                <a:avLst/>
                <a:gdLst/>
                <a:ahLst/>
                <a:rect l="l" t="t" r="r" b="b"/>
                <a:pathLst>
                  <a:path w="3092" h="8">
                    <a:moveTo>
                      <a:pt x="0" y="8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3895920" y="1064880"/>
                <a:ext cx="4902120" cy="18720"/>
              </a:xfrm>
              <a:custGeom>
                <a:avLst/>
                <a:gdLst/>
                <a:ahLst/>
                <a:rect l="l" t="t" r="r" b="b"/>
                <a:pathLst>
                  <a:path w="3088" h="12">
                    <a:moveTo>
                      <a:pt x="0" y="0"/>
                    </a:moveTo>
                    <a:lnTo>
                      <a:pt x="3088" y="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3857760" y="6100560"/>
                <a:ext cx="4946760" cy="1080"/>
              </a:xfrm>
              <a:custGeom>
                <a:avLst/>
                <a:gdLst/>
                <a:ahLst/>
                <a:rect l="l" t="t" r="r" b="b"/>
                <a:pathLst>
                  <a:path w="3116" h="1">
                    <a:moveTo>
                      <a:pt x="0" y="0"/>
                    </a:moveTo>
                    <a:lnTo>
                      <a:pt x="311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798040" y="1090440"/>
                <a:ext cx="1440" cy="4978080"/>
              </a:xfrm>
              <a:custGeom>
                <a:avLst/>
                <a:gdLst/>
                <a:ahLst/>
                <a:rect l="l" t="t" r="r" b="b"/>
                <a:pathLst>
                  <a:path w="1" h="3136">
                    <a:moveTo>
                      <a:pt x="0" y="0"/>
                    </a:moveTo>
                    <a:lnTo>
                      <a:pt x="0" y="3136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8487000" y="1077840"/>
                <a:ext cx="6120" cy="503496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8175600" y="1077840"/>
                <a:ext cx="6480" cy="5028840"/>
              </a:xfrm>
              <a:custGeom>
                <a:avLst/>
                <a:gdLst/>
                <a:ahLst/>
                <a:rect l="l" t="t" r="r" b="b"/>
                <a:pathLst>
                  <a:path w="4" h="3168">
                    <a:moveTo>
                      <a:pt x="4" y="0"/>
                    </a:moveTo>
                    <a:lnTo>
                      <a:pt x="0" y="3168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871040" y="1077840"/>
                <a:ext cx="1440" cy="5015880"/>
              </a:xfrm>
              <a:custGeom>
                <a:avLst/>
                <a:gdLst/>
                <a:ahLst/>
                <a:rect l="l" t="t" r="r" b="b"/>
                <a:pathLst>
                  <a:path w="1" h="3160">
                    <a:moveTo>
                      <a:pt x="0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59640" y="1071360"/>
                <a:ext cx="6480" cy="503532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236000" y="1064880"/>
                <a:ext cx="22320" cy="5065560"/>
              </a:xfrm>
              <a:custGeom>
                <a:avLst/>
                <a:gdLst/>
                <a:ahLst/>
                <a:rect l="l" t="t" r="r" b="b"/>
                <a:pathLst>
                  <a:path w="14" h="3191">
                    <a:moveTo>
                      <a:pt x="0" y="0"/>
                    </a:moveTo>
                    <a:lnTo>
                      <a:pt x="14" y="3191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943680" y="1090440"/>
                <a:ext cx="6480" cy="5016240"/>
              </a:xfrm>
              <a:custGeom>
                <a:avLst/>
                <a:gdLst/>
                <a:ahLst/>
                <a:rect l="l" t="t" r="r" b="b"/>
                <a:pathLst>
                  <a:path w="4" h="3160">
                    <a:moveTo>
                      <a:pt x="4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639120" y="1090440"/>
                <a:ext cx="1440" cy="5003280"/>
              </a:xfrm>
              <a:custGeom>
                <a:avLst/>
                <a:gdLst/>
                <a:ahLst/>
                <a:rect l="l" t="t" r="r" b="b"/>
                <a:pathLst>
                  <a:path w="1" h="3152">
                    <a:moveTo>
                      <a:pt x="0" y="0"/>
                    </a:moveTo>
                    <a:lnTo>
                      <a:pt x="0" y="315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016680" y="1052640"/>
                <a:ext cx="17640" cy="5078160"/>
              </a:xfrm>
              <a:custGeom>
                <a:avLst/>
                <a:gdLst/>
                <a:ahLst/>
                <a:rect l="l" t="t" r="r" b="b"/>
                <a:pathLst>
                  <a:path w="11" h="3199">
                    <a:moveTo>
                      <a:pt x="0" y="0"/>
                    </a:moveTo>
                    <a:lnTo>
                      <a:pt x="11" y="3199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711760" y="1077840"/>
                <a:ext cx="1800" cy="5034960"/>
              </a:xfrm>
              <a:custGeom>
                <a:avLst/>
                <a:gdLst/>
                <a:ahLst/>
                <a:rect l="l" t="t" r="r" b="b"/>
                <a:pathLst>
                  <a:path w="1" h="3172">
                    <a:moveTo>
                      <a:pt x="0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407200" y="1083960"/>
                <a:ext cx="6120" cy="5022720"/>
              </a:xfrm>
              <a:custGeom>
                <a:avLst/>
                <a:gdLst/>
                <a:ahLst/>
                <a:rect l="l" t="t" r="r" b="b"/>
                <a:pathLst>
                  <a:path w="4" h="3164">
                    <a:moveTo>
                      <a:pt x="4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089680" y="1077840"/>
                <a:ext cx="12600" cy="5022360"/>
              </a:xfrm>
              <a:custGeom>
                <a:avLst/>
                <a:gdLst/>
                <a:ahLst/>
                <a:rect l="l" t="t" r="r" b="b"/>
                <a:pathLst>
                  <a:path w="8" h="3164">
                    <a:moveTo>
                      <a:pt x="0" y="0"/>
                    </a:moveTo>
                    <a:lnTo>
                      <a:pt x="8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4791240" y="1077840"/>
                <a:ext cx="6120" cy="5022360"/>
              </a:xfrm>
              <a:custGeom>
                <a:avLst/>
                <a:gdLst/>
                <a:ahLst/>
                <a:rect l="l" t="t" r="r" b="b"/>
                <a:pathLst>
                  <a:path w="4" h="3164">
                    <a:moveTo>
                      <a:pt x="4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4486320" y="1077840"/>
                <a:ext cx="1800" cy="5034960"/>
              </a:xfrm>
              <a:custGeom>
                <a:avLst/>
                <a:gdLst/>
                <a:ahLst/>
                <a:rect l="l" t="t" r="r" b="b"/>
                <a:pathLst>
                  <a:path w="1" h="3172">
                    <a:moveTo>
                      <a:pt x="0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175280" y="1077840"/>
                <a:ext cx="1440" cy="5022360"/>
              </a:xfrm>
              <a:custGeom>
                <a:avLst/>
                <a:gdLst/>
                <a:ahLst/>
                <a:rect l="l" t="t" r="r" b="b"/>
                <a:pathLst>
                  <a:path w="1" h="3164">
                    <a:moveTo>
                      <a:pt x="0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2" name=""/>
            <p:cNvSpPr/>
            <p:nvPr/>
          </p:nvSpPr>
          <p:spPr>
            <a:xfrm>
              <a:off x="6516720" y="3571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3924360" y="1079640"/>
              <a:ext cx="4897440" cy="5003640"/>
              <a:chOff x="3924360" y="1079640"/>
              <a:chExt cx="4897440" cy="5003640"/>
            </a:xfrm>
          </p:grpSpPr>
          <p:sp>
            <p:nvSpPr>
              <p:cNvPr id="1154" name=""/>
              <p:cNvSpPr/>
              <p:nvPr/>
            </p:nvSpPr>
            <p:spPr>
              <a:xfrm>
                <a:off x="3924360" y="3571920"/>
                <a:ext cx="48974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311880" y="1079640"/>
                <a:ext cx="25560" cy="5003640"/>
              </a:xfrm>
              <a:custGeom>
                <a:avLst/>
                <a:gdLst/>
                <a:ahLst/>
                <a:rect l="l" t="t" r="r" b="b"/>
                <a:pathLst>
                  <a:path w="16" h="3152">
                    <a:moveTo>
                      <a:pt x="16" y="3152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3996720" y="1413000"/>
                <a:ext cx="4600440" cy="4246200"/>
                <a:chOff x="3996720" y="1413000"/>
                <a:chExt cx="4600440" cy="424620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6442920" y="3571920"/>
                  <a:ext cx="2154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   2   3  4   5   6   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996720" y="3500280"/>
                  <a:ext cx="21754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7 -6 -5 -4  -3  -2  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6013800" y="1413000"/>
                  <a:ext cx="30708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6229440" y="3645000"/>
                  <a:ext cx="38340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2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7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1" name=""/>
            <p:cNvSpPr/>
            <p:nvPr/>
          </p:nvSpPr>
          <p:spPr>
            <a:xfrm>
              <a:off x="4138560" y="3716280"/>
              <a:ext cx="2148120" cy="2354400"/>
            </a:xfrm>
            <a:custGeom>
              <a:avLst/>
              <a:gdLst/>
              <a:ahLst/>
              <a:rect l="l" t="t" r="r" b="b"/>
              <a:pathLst>
                <a:path w="1353" h="1483">
                  <a:moveTo>
                    <a:pt x="1353" y="1483"/>
                  </a:moveTo>
                  <a:cubicBezTo>
                    <a:pt x="1337" y="1307"/>
                    <a:pt x="1326" y="659"/>
                    <a:pt x="1257" y="427"/>
                  </a:cubicBezTo>
                  <a:cubicBezTo>
                    <a:pt x="1188" y="195"/>
                    <a:pt x="1147" y="162"/>
                    <a:pt x="937" y="91"/>
                  </a:cubicBezTo>
                  <a:cubicBezTo>
                    <a:pt x="727" y="20"/>
                    <a:pt x="195" y="19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72360" y="1341360"/>
              <a:ext cx="2327040" cy="2171880"/>
            </a:xfrm>
            <a:custGeom>
              <a:avLst/>
              <a:gdLst/>
              <a:ahLst/>
              <a:rect l="l" t="t" r="r" b="b"/>
              <a:pathLst>
                <a:path w="1466" h="1368">
                  <a:moveTo>
                    <a:pt x="0" y="0"/>
                  </a:moveTo>
                  <a:cubicBezTo>
                    <a:pt x="26" y="382"/>
                    <a:pt x="49" y="736"/>
                    <a:pt x="136" y="953"/>
                  </a:cubicBezTo>
                  <a:cubicBezTo>
                    <a:pt x="223" y="1170"/>
                    <a:pt x="303" y="1232"/>
                    <a:pt x="525" y="1300"/>
                  </a:cubicBezTo>
                  <a:cubicBezTo>
                    <a:pt x="747" y="1368"/>
                    <a:pt x="1270" y="1350"/>
                    <a:pt x="1466" y="1363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50920" y="18900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аких координатных четвертях расположен график функ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24000" y="5734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24000" y="371808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324000" y="2727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24000" y="4672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2916360" y="2349360"/>
            <a:ext cx="2160360" cy="576360"/>
          </a:xfrm>
          <a:prstGeom prst="wedgeEllipseCallout">
            <a:avLst>
              <a:gd name="adj1" fmla="val -96657"/>
              <a:gd name="adj2" fmla="val 8581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556000" y="3284640"/>
            <a:ext cx="2160360" cy="576000"/>
          </a:xfrm>
          <a:prstGeom prst="wedgeEllipseCallout">
            <a:avLst>
              <a:gd name="adj1" fmla="val -78435"/>
              <a:gd name="adj2" fmla="val 9325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484360" y="4365720"/>
            <a:ext cx="2232000" cy="649080"/>
          </a:xfrm>
          <a:prstGeom prst="wedgeEllipseCallout">
            <a:avLst>
              <a:gd name="adj1" fmla="val -95944"/>
              <a:gd name="adj2" fmla="val 9938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771640" y="5734080"/>
            <a:ext cx="1944720" cy="720720"/>
          </a:xfrm>
          <a:prstGeom prst="wedgeEllipseCallout">
            <a:avLst>
              <a:gd name="adj1" fmla="val -109754"/>
              <a:gd name="adj2" fmla="val 6586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826920" y="5661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6" name=""/>
              <p:cNvSpPr txBox="1"/>
              <p:nvPr/>
            </p:nvSpPr>
            <p:spPr>
              <a:xfrm>
                <a:off x="900000" y="1098720"/>
                <a:ext cx="2735280" cy="11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7" name=""/>
          <p:cNvSpPr/>
          <p:nvPr/>
        </p:nvSpPr>
        <p:spPr>
          <a:xfrm>
            <a:off x="826920" y="4599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900000" y="3591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971640" y="2583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851280" y="1125360"/>
            <a:ext cx="4608360" cy="4802400"/>
            <a:chOff x="3851280" y="1125360"/>
            <a:chExt cx="4608360" cy="4802400"/>
          </a:xfrm>
        </p:grpSpPr>
        <p:sp>
          <p:nvSpPr>
            <p:cNvPr id="1181" name=""/>
            <p:cNvSpPr/>
            <p:nvPr/>
          </p:nvSpPr>
          <p:spPr>
            <a:xfrm>
              <a:off x="7667640" y="1197000"/>
              <a:ext cx="79200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40360" y="1125360"/>
              <a:ext cx="8632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851280" y="4941720"/>
              <a:ext cx="93672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III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80360" y="5013360"/>
              <a:ext cx="79200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400" spc="-1" strike="noStrike">
                  <a:solidFill>
                    <a:srgbClr val="000000"/>
                  </a:solidFill>
                  <a:latin typeface="Times New Roman"/>
                </a:rPr>
                <a:t>IV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52" dur="indefinite" restart="never" nodeType="tmRoot">
          <p:childTnLst>
            <p:seq>
              <p:cTn id="1153" restart="whenNotActive" nodeType="interactiveSeq" fill="hold">
                <p:stCondLst>
                  <p:cond evt="onClick">
                    <p:tgtEl>
                      <p:spTgt spid="1169"/>
                    </p:tgtEl>
                  </p:cond>
                </p:stCondLst>
                <p:childTnLst>
                  <p:par>
                    <p:cTn id="1154" fill="hold">
                      <p:stCondLst>
                        <p:cond evt="onClick">
                          <p:tgtEl>
                            <p:spTgt spid="1169"/>
                          </p:tgtEl>
                        </p:cond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1" dur="5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3" restart="whenNotActive" nodeType="interactiveSeq" fill="hold">
                <p:stCondLst>
                  <p:cond evt="onClick">
                    <p:tgtEl>
                      <p:spTgt spid="1168"/>
                    </p:tgtEl>
                  </p:cond>
                </p:stCondLst>
                <p:childTnLst>
                  <p:par>
                    <p:cTn id="1164" fill="hold">
                      <p:stCondLst>
                        <p:cond evt="onClick">
                          <p:tgtEl>
                            <p:spTgt spid="1168"/>
                          </p:tgtEl>
                        </p:cond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1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3" restart="whenNotActive" nodeType="interactiveSeq" fill="hold">
                <p:stCondLst>
                  <p:cond evt="onClick">
                    <p:tgtEl>
                      <p:spTgt spid="1170"/>
                    </p:tgtEl>
                  </p:cond>
                </p:stCondLst>
                <p:childTnLst>
                  <p:par>
                    <p:cTn id="1174" fill="hold">
                      <p:stCondLst>
                        <p:cond evt="onClick">
                          <p:tgtEl>
                            <p:spTgt spid="1170"/>
                          </p:tgtEl>
                        </p:cond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18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1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3" restart="whenNotActive" nodeType="interactiveSeq" fill="hold">
                <p:stCondLst>
                  <p:cond evt="onClick">
                    <p:tgtEl>
                      <p:spTgt spid="1167"/>
                    </p:tgtEl>
                  </p:cond>
                </p:stCondLst>
                <p:childTnLst>
                  <p:par>
                    <p:cTn id="1184" fill="hold">
                      <p:stCondLst>
                        <p:cond evt="onClick">
                          <p:tgtEl>
                            <p:spTgt spid="1167"/>
                          </p:tgtEl>
                        </p:cond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8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"/>
          <p:cNvSpPr/>
          <p:nvPr/>
        </p:nvSpPr>
        <p:spPr>
          <a:xfrm>
            <a:off x="4067280" y="1557360"/>
            <a:ext cx="4429080" cy="2016000"/>
          </a:xfrm>
          <a:custGeom>
            <a:avLst/>
            <a:gdLst/>
            <a:ahLst/>
            <a:rect l="l" t="t" r="r" b="b"/>
            <a:pathLst>
              <a:path w="2790" h="1270">
                <a:moveTo>
                  <a:pt x="2790" y="51"/>
                </a:moveTo>
                <a:lnTo>
                  <a:pt x="1407" y="127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870360" y="1065240"/>
            <a:ext cx="3240" cy="503568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3946680" y="3024360"/>
            <a:ext cx="485748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889440" y="5948280"/>
            <a:ext cx="4902120" cy="1800"/>
          </a:xfrm>
          <a:custGeom>
            <a:avLst/>
            <a:gdLst/>
            <a:ahLst/>
            <a:rect l="l" t="t" r="r" b="b"/>
            <a:pathLst>
              <a:path w="3088" h="1">
                <a:moveTo>
                  <a:pt x="0" y="0"/>
                </a:moveTo>
                <a:lnTo>
                  <a:pt x="308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873600" y="5657760"/>
            <a:ext cx="4911480" cy="3240"/>
          </a:xfrm>
          <a:custGeom>
            <a:avLst/>
            <a:gdLst/>
            <a:ahLst/>
            <a:rect l="l" t="t" r="r" b="b"/>
            <a:pathLst>
              <a:path w="3094" h="2">
                <a:moveTo>
                  <a:pt x="0" y="2"/>
                </a:moveTo>
                <a:lnTo>
                  <a:pt x="309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873600" y="5373720"/>
            <a:ext cx="4968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876840" y="508320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870360" y="479592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3863880" y="450216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3835440" y="4195800"/>
            <a:ext cx="4952880" cy="25200"/>
          </a:xfrm>
          <a:custGeom>
            <a:avLst/>
            <a:gdLst/>
            <a:ahLst/>
            <a:rect l="l" t="t" r="r" b="b"/>
            <a:pathLst>
              <a:path w="3120" h="16">
                <a:moveTo>
                  <a:pt x="0" y="16"/>
                </a:moveTo>
                <a:lnTo>
                  <a:pt x="312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835440" y="3886200"/>
            <a:ext cx="4952880" cy="1440"/>
          </a:xfrm>
          <a:custGeom>
            <a:avLst/>
            <a:gdLst/>
            <a:ahLst/>
            <a:rect l="l" t="t" r="r" b="b"/>
            <a:pathLst>
              <a:path w="3120" h="1">
                <a:moveTo>
                  <a:pt x="0" y="0"/>
                </a:moveTo>
                <a:lnTo>
                  <a:pt x="312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3946680" y="3306600"/>
            <a:ext cx="484488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3876840" y="274788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3857760" y="246852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3863880" y="2189160"/>
            <a:ext cx="4934160" cy="6480"/>
          </a:xfrm>
          <a:custGeom>
            <a:avLst/>
            <a:gdLst/>
            <a:ahLst/>
            <a:rect l="l" t="t" r="r" b="b"/>
            <a:pathLst>
              <a:path w="3108" h="4">
                <a:moveTo>
                  <a:pt x="0" y="0"/>
                </a:moveTo>
                <a:lnTo>
                  <a:pt x="3108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857760" y="1916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3870360" y="1636560"/>
            <a:ext cx="4927680" cy="1800"/>
          </a:xfrm>
          <a:custGeom>
            <a:avLst/>
            <a:gdLst/>
            <a:ahLst/>
            <a:rect l="l" t="t" r="r" b="b"/>
            <a:pathLst>
              <a:path w="3104" h="1">
                <a:moveTo>
                  <a:pt x="0" y="0"/>
                </a:moveTo>
                <a:lnTo>
                  <a:pt x="310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3882960" y="1357200"/>
            <a:ext cx="4908600" cy="12960"/>
          </a:xfrm>
          <a:custGeom>
            <a:avLst/>
            <a:gdLst/>
            <a:ahLst/>
            <a:rect l="l" t="t" r="r" b="b"/>
            <a:pathLst>
              <a:path w="3092" h="8">
                <a:moveTo>
                  <a:pt x="0" y="8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3895560" y="1065240"/>
            <a:ext cx="4902480" cy="19080"/>
          </a:xfrm>
          <a:custGeom>
            <a:avLst/>
            <a:gdLst/>
            <a:ahLst/>
            <a:rect l="l" t="t" r="r" b="b"/>
            <a:pathLst>
              <a:path w="3088" h="12">
                <a:moveTo>
                  <a:pt x="0" y="0"/>
                </a:moveTo>
                <a:lnTo>
                  <a:pt x="3088" y="1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8798040" y="1090440"/>
            <a:ext cx="1440" cy="4978440"/>
          </a:xfrm>
          <a:custGeom>
            <a:avLst/>
            <a:gdLst/>
            <a:ahLst/>
            <a:rect l="l" t="t" r="r" b="b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8486640" y="1077840"/>
            <a:ext cx="6480" cy="503568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8175600" y="1125360"/>
            <a:ext cx="6480" cy="5029200"/>
          </a:xfrm>
          <a:custGeom>
            <a:avLst/>
            <a:gdLst/>
            <a:ahLst/>
            <a:rect l="l" t="t" r="r" b="b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7870680" y="1077840"/>
            <a:ext cx="1800" cy="5016600"/>
          </a:xfrm>
          <a:custGeom>
            <a:avLst/>
            <a:gdLst/>
            <a:ahLst/>
            <a:rect l="l" t="t" r="r" b="b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7559640" y="1071720"/>
            <a:ext cx="6480" cy="503532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7236000" y="1065240"/>
            <a:ext cx="21960" cy="5065560"/>
          </a:xfrm>
          <a:custGeom>
            <a:avLst/>
            <a:gdLst/>
            <a:ahLst/>
            <a:rect l="l" t="t" r="r" b="b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6943680" y="1090440"/>
            <a:ext cx="6480" cy="5016600"/>
          </a:xfrm>
          <a:custGeom>
            <a:avLst/>
            <a:gdLst/>
            <a:ahLst/>
            <a:rect l="l" t="t" r="r" b="b"/>
            <a:pathLst>
              <a:path w="4" h="3160">
                <a:moveTo>
                  <a:pt x="4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654960" y="1092240"/>
            <a:ext cx="1440" cy="5054400"/>
          </a:xfrm>
          <a:custGeom>
            <a:avLst/>
            <a:gdLst/>
            <a:ahLst/>
            <a:rect l="l" t="t" r="r" b="b"/>
            <a:pathLst>
              <a:path w="1" h="3184">
                <a:moveTo>
                  <a:pt x="0" y="0"/>
                </a:moveTo>
                <a:lnTo>
                  <a:pt x="0" y="318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6016680" y="1052640"/>
            <a:ext cx="17280" cy="5078160"/>
          </a:xfrm>
          <a:custGeom>
            <a:avLst/>
            <a:gdLst/>
            <a:ahLst/>
            <a:rect l="l" t="t" r="r" b="b"/>
            <a:pathLst>
              <a:path w="11" h="3199">
                <a:moveTo>
                  <a:pt x="0" y="0"/>
                </a:moveTo>
                <a:lnTo>
                  <a:pt x="11" y="3199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5711760" y="1077840"/>
            <a:ext cx="1800" cy="503568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5407200" y="1084320"/>
            <a:ext cx="6120" cy="502272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5089680" y="1077840"/>
            <a:ext cx="12600" cy="5023080"/>
          </a:xfrm>
          <a:custGeom>
            <a:avLst/>
            <a:gdLst/>
            <a:ahLst/>
            <a:rect l="l" t="t" r="r" b="b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791240" y="1077840"/>
            <a:ext cx="6120" cy="502308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486320" y="1077840"/>
            <a:ext cx="1440" cy="503568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4175280" y="1077840"/>
            <a:ext cx="1440" cy="5023080"/>
          </a:xfrm>
          <a:custGeom>
            <a:avLst/>
            <a:gdLst/>
            <a:ahLst/>
            <a:rect l="l" t="t" r="r" b="b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3924360" y="357192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324480" y="1041480"/>
            <a:ext cx="25560" cy="5130720"/>
          </a:xfrm>
          <a:custGeom>
            <a:avLst/>
            <a:gdLst/>
            <a:ahLst/>
            <a:rect l="l" t="t" r="r" b="b"/>
            <a:pathLst>
              <a:path w="16" h="3232">
                <a:moveTo>
                  <a:pt x="16" y="323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6442920" y="3284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996720" y="3500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6013800" y="1413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986800" y="371952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901440" y="4003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32400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324000" y="407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32400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32400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1619280" y="4365720"/>
            <a:ext cx="1944720" cy="720720"/>
          </a:xfrm>
          <a:prstGeom prst="wedgeEllipseCallout">
            <a:avLst>
              <a:gd name="adj1" fmla="val -70245"/>
              <a:gd name="adj2" fmla="val 9493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50920" y="26028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графику функции найдите  наибольшее значение функции 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3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901440" y="3211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901440" y="486720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901080" y="573084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627280" y="2924280"/>
            <a:ext cx="216072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268360" y="3645000"/>
            <a:ext cx="2160720" cy="57600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484360" y="5877000"/>
            <a:ext cx="2232000" cy="64908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0" name=""/>
              <p:cNvSpPr txBox="1"/>
              <p:nvPr/>
            </p:nvSpPr>
            <p:spPr>
              <a:xfrm>
                <a:off x="1066680" y="1700280"/>
                <a:ext cx="196704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41" name=""/>
          <p:cNvGrpSpPr/>
          <p:nvPr/>
        </p:nvGrpSpPr>
        <p:grpSpPr>
          <a:xfrm>
            <a:off x="2556000" y="2276640"/>
            <a:ext cx="431640" cy="72360"/>
            <a:chOff x="2556000" y="2276640"/>
            <a:chExt cx="431640" cy="72360"/>
          </a:xfrm>
        </p:grpSpPr>
        <p:sp>
          <p:nvSpPr>
            <p:cNvPr id="1242" name=""/>
            <p:cNvSpPr/>
            <p:nvPr/>
          </p:nvSpPr>
          <p:spPr>
            <a:xfrm>
              <a:off x="2556000" y="2276640"/>
              <a:ext cx="4302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75080" y="2347920"/>
              <a:ext cx="412560" cy="108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5702400" y="3568680"/>
            <a:ext cx="1533600" cy="6480"/>
          </a:xfrm>
          <a:custGeom>
            <a:avLst/>
            <a:gdLst/>
            <a:ahLst/>
            <a:rect l="l" t="t" r="r" b="b"/>
            <a:pathLst>
              <a:path w="966" h="4">
                <a:moveTo>
                  <a:pt x="0" y="0"/>
                </a:moveTo>
                <a:lnTo>
                  <a:pt x="966" y="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337440" y="2755800"/>
            <a:ext cx="888840" cy="1800"/>
          </a:xfrm>
          <a:custGeom>
            <a:avLst/>
            <a:gdLst/>
            <a:ahLst/>
            <a:rect l="l" t="t" r="r" b="b"/>
            <a:pathLst>
              <a:path w="560" h="1">
                <a:moveTo>
                  <a:pt x="560" y="0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5702400" y="2755800"/>
            <a:ext cx="1549440" cy="817560"/>
          </a:xfrm>
          <a:custGeom>
            <a:avLst/>
            <a:gdLst/>
            <a:ahLst/>
            <a:rect l="l" t="t" r="r" b="b"/>
            <a:pathLst>
              <a:path w="976" h="515">
                <a:moveTo>
                  <a:pt x="0" y="176"/>
                </a:moveTo>
                <a:lnTo>
                  <a:pt x="377" y="515"/>
                </a:lnTo>
                <a:lnTo>
                  <a:pt x="97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0" dur="indefinite" restart="never" nodeType="tmRoot">
          <p:childTnLst>
            <p:seq>
              <p:cTn id="1211" restart="whenNotActive" nodeType="interactiveSeq" fill="hold">
                <p:stCondLst>
                  <p:cond evt="onClick">
                    <p:tgtEl>
                      <p:spTgt spid="1228"/>
                    </p:tgtEl>
                  </p:cond>
                </p:stCondLst>
                <p:childTnLst>
                  <p:par>
                    <p:cTn id="1212" fill="hold">
                      <p:stCondLst>
                        <p:cond evt="onClick">
                          <p:tgtEl>
                            <p:spTgt spid="1228"/>
                          </p:tgtEl>
                        </p:cond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fill="hold">
                            <p:stCondLst>
                              <p:cond delay="500"/>
                            </p:stCondLst>
                            <p:childTnLst>
                              <p:par>
                                <p:cTn id="1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2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4" dur="20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5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26" dur="2000"/>
                                        <p:tgtEl>
                                          <p:spTgt spid="1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1" dur="2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2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8500"/>
                            </p:stCondLst>
                            <p:childTnLst>
                              <p:par>
                                <p:cTn id="12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3" dur="2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1230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1230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fill="hold">
                            <p:stCondLst>
                              <p:cond delay="500"/>
                            </p:stCondLst>
                            <p:childTnLst>
                              <p:par>
                                <p:cTn id="125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4" restart="whenNotActive" nodeType="interactiveSeq" fill="hold">
                <p:stCondLst>
                  <p:cond evt="onClick">
                    <p:tgtEl>
                      <p:spTgt spid="1229"/>
                    </p:tgtEl>
                  </p:cond>
                </p:stCondLst>
                <p:childTnLst>
                  <p:par>
                    <p:cTn id="1255" fill="hold">
                      <p:stCondLst>
                        <p:cond evt="onClick">
                          <p:tgtEl>
                            <p:spTgt spid="1229"/>
                          </p:tgtEl>
                        </p:cond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1231"/>
                    </p:tgtEl>
                  </p:cond>
                </p:stCondLst>
                <p:childTnLst>
                  <p:par>
                    <p:cTn id="1265" fill="hold">
                      <p:stCondLst>
                        <p:cond evt="onClick">
                          <p:tgtEl>
                            <p:spTgt spid="1231"/>
                          </p:tgtEl>
                        </p:cond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500"/>
                            </p:stCondLst>
                            <p:childTnLst>
                              <p:par>
                                <p:cTn id="127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47" name=""/>
              <p:cNvSpPr txBox="1"/>
              <p:nvPr/>
            </p:nvSpPr>
            <p:spPr>
              <a:xfrm>
                <a:off x="5724360" y="189000"/>
                <a:ext cx="13813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8" name=""/>
          <p:cNvSpPr/>
          <p:nvPr/>
        </p:nvSpPr>
        <p:spPr>
          <a:xfrm>
            <a:off x="1908000" y="3933720"/>
            <a:ext cx="43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403280" y="3933720"/>
            <a:ext cx="576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383600" y="54936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468360" y="4003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468360" y="32115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468360" y="4867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46836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393840" y="412920"/>
            <a:ext cx="864216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адлежит ли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у функ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046160" y="3141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(3; 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1182240" y="4797360"/>
            <a:ext cx="18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(–2;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181880" y="5661000"/>
            <a:ext cx="17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(2;–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4284720" y="4724280"/>
            <a:ext cx="2160360" cy="57636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995640" y="3500280"/>
            <a:ext cx="1944720" cy="720720"/>
          </a:xfrm>
          <a:prstGeom prst="wedgeEllipseCallout">
            <a:avLst>
              <a:gd name="adj1" fmla="val -110736"/>
              <a:gd name="adj2" fmla="val 5749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059280" y="249228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4284720" y="5734080"/>
            <a:ext cx="2232000" cy="64908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973080" y="3933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(2; 8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4" dur="indefinite" restart="never" nodeType="tmRoot">
          <p:childTnLst>
            <p:seq>
              <p:cTn id="1275" restart="whenNotActive" nodeType="interactiveSeq" fill="hold">
                <p:stCondLst>
                  <p:cond evt="onClick">
                    <p:tgtEl>
                      <p:spTgt spid="1252"/>
                    </p:tgtEl>
                  </p:cond>
                </p:stCondLst>
                <p:childTnLst>
                  <p:par>
                    <p:cTn id="1276" fill="hold">
                      <p:stCondLst>
                        <p:cond evt="onClick">
                          <p:tgtEl>
                            <p:spTgt spid="1252"/>
                          </p:tgtEl>
                        </p:cond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0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500"/>
                            </p:stCondLst>
                            <p:childTnLst>
                              <p:par>
                                <p:cTn id="1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5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7037E-007 L 0.19843 -0.06412 L 0.56093 -0.44444 E">
                                      <p:cBhvr>
                                        <p:cTn id="1287" dur="2000" fill="hold"/>
                                        <p:tgtEl>
                                          <p:spTgt spid="1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07882 -0.05255 L 0.41476 -0.5 E">
                                      <p:cBhvr>
                                        <p:cTn id="1293" dur="2000" fill="hold"/>
                                        <p:tgtEl>
                                          <p:spTgt spid="1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7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9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0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301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500"/>
                            </p:stCondLst>
                            <p:childTnLst>
                              <p:par>
                                <p:cTn id="130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8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1253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1253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0" restart="whenNotActive" nodeType="interactiveSeq" fill="hold">
                <p:stCondLst>
                  <p:cond evt="onClick">
                    <p:tgtEl>
                      <p:spTgt spid="1255"/>
                    </p:tgtEl>
                  </p:cond>
                </p:stCondLst>
                <p:childTnLst>
                  <p:par>
                    <p:cTn id="1321" fill="hold">
                      <p:stCondLst>
                        <p:cond evt="onClick">
                          <p:tgtEl>
                            <p:spTgt spid="1255"/>
                          </p:tgtEl>
                        </p:cond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5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00"/>
                            </p:stCondLst>
                            <p:childTnLst>
                              <p:par>
                                <p:cTn id="1327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5" name=""/>
          <p:cNvGrpSpPr/>
          <p:nvPr/>
        </p:nvGrpSpPr>
        <p:grpSpPr>
          <a:xfrm>
            <a:off x="3851280" y="1484280"/>
            <a:ext cx="4991040" cy="5078520"/>
            <a:chOff x="3851280" y="1484280"/>
            <a:chExt cx="4991040" cy="5078520"/>
          </a:xfrm>
        </p:grpSpPr>
        <p:sp>
          <p:nvSpPr>
            <p:cNvPr id="1266" name=""/>
            <p:cNvSpPr/>
            <p:nvPr/>
          </p:nvSpPr>
          <p:spPr>
            <a:xfrm>
              <a:off x="3870360" y="149688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946680" y="345600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889440" y="625320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73600" y="597384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873600" y="568944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876840" y="541512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870360" y="513540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864240" y="484992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64240" y="457056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851280" y="429120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946680" y="373860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876840" y="317988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57760" y="290052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4240" y="262080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857760" y="234792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870360" y="206856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882960" y="178920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895920" y="149688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857760" y="653256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798040" y="152244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487000" y="150984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175600" y="150984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871040" y="150984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559640" y="150336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236000" y="149688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943680" y="152244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639120" y="152244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016680" y="148428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11760" y="150984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407200" y="151596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5089680" y="150984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791240" y="150984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486320" y="150984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175280" y="150984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0" name=""/>
          <p:cNvSpPr/>
          <p:nvPr/>
        </p:nvSpPr>
        <p:spPr>
          <a:xfrm>
            <a:off x="6516720" y="4003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3924360" y="1511280"/>
            <a:ext cx="4897440" cy="5003640"/>
            <a:chOff x="3924360" y="1511280"/>
            <a:chExt cx="4897440" cy="5003640"/>
          </a:xfrm>
        </p:grpSpPr>
        <p:sp>
          <p:nvSpPr>
            <p:cNvPr id="1302" name=""/>
            <p:cNvSpPr/>
            <p:nvPr/>
          </p:nvSpPr>
          <p:spPr>
            <a:xfrm>
              <a:off x="3924360" y="400356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311880" y="1511280"/>
              <a:ext cx="25560" cy="5003640"/>
            </a:xfrm>
            <a:custGeom>
              <a:avLst/>
              <a:gdLst/>
              <a:ahLst/>
              <a:rect l="l" t="t" r="r" b="b"/>
              <a:pathLst>
                <a:path w="16" h="3152">
                  <a:moveTo>
                    <a:pt x="16" y="315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3996720" y="1844640"/>
              <a:ext cx="4600440" cy="4246200"/>
              <a:chOff x="3996720" y="1844640"/>
              <a:chExt cx="4600440" cy="4246200"/>
            </a:xfrm>
          </p:grpSpPr>
          <p:sp>
            <p:nvSpPr>
              <p:cNvPr id="1305" name=""/>
              <p:cNvSpPr/>
              <p:nvPr/>
            </p:nvSpPr>
            <p:spPr>
              <a:xfrm>
                <a:off x="6442920" y="4003560"/>
                <a:ext cx="215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  2   3  4   5   6  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96720" y="3931920"/>
                <a:ext cx="21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 -6 -5 -4  -3  -2  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013800" y="1844640"/>
                <a:ext cx="30708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229440" y="4076640"/>
                <a:ext cx="38340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9" name=""/>
          <p:cNvSpPr/>
          <p:nvPr/>
        </p:nvSpPr>
        <p:spPr>
          <a:xfrm>
            <a:off x="108000" y="144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какой функции получится при переносе гипербол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 единицы вверх вдоль оси О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50920" y="191628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250920" y="3070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250920" y="429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50920" y="551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5" name=""/>
              <p:cNvSpPr txBox="1"/>
              <p:nvPr/>
            </p:nvSpPr>
            <p:spPr>
              <a:xfrm>
                <a:off x="900000" y="1773360"/>
                <a:ext cx="1409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6" name=""/>
          <p:cNvSpPr/>
          <p:nvPr/>
        </p:nvSpPr>
        <p:spPr>
          <a:xfrm>
            <a:off x="3276720" y="1413000"/>
            <a:ext cx="1944720" cy="720720"/>
          </a:xfrm>
          <a:prstGeom prst="wedgeEllipseCallout">
            <a:avLst>
              <a:gd name="adj1" fmla="val -96532"/>
              <a:gd name="adj2" fmla="val 5308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3276360" y="981000"/>
            <a:ext cx="6134400" cy="6108120"/>
            <a:chOff x="3276360" y="981000"/>
            <a:chExt cx="6134400" cy="6108120"/>
          </a:xfrm>
        </p:grpSpPr>
        <p:grpSp>
          <p:nvGrpSpPr>
            <p:cNvPr id="1318" name=""/>
            <p:cNvGrpSpPr/>
            <p:nvPr/>
          </p:nvGrpSpPr>
          <p:grpSpPr>
            <a:xfrm>
              <a:off x="3276360" y="981000"/>
              <a:ext cx="6134400" cy="6108120"/>
              <a:chOff x="3276360" y="981000"/>
              <a:chExt cx="6134400" cy="6108120"/>
            </a:xfrm>
          </p:grpSpPr>
          <p:sp>
            <p:nvSpPr>
              <p:cNvPr id="1319" name=""/>
              <p:cNvSpPr/>
              <p:nvPr/>
            </p:nvSpPr>
            <p:spPr>
              <a:xfrm>
                <a:off x="6413400" y="981000"/>
                <a:ext cx="2997360" cy="2997000"/>
              </a:xfrm>
              <a:custGeom>
                <a:avLst/>
                <a:gdLst/>
                <a:ahLst/>
                <a:rect l="l" t="t" r="r" b="b"/>
                <a:pathLst>
                  <a:path w="1888" h="1888">
                    <a:moveTo>
                      <a:pt x="1888" y="1888"/>
                    </a:moveTo>
                    <a:cubicBezTo>
                      <a:pt x="1733" y="1864"/>
                      <a:pt x="1177" y="1808"/>
                      <a:pt x="928" y="1744"/>
                    </a:cubicBezTo>
                    <a:cubicBezTo>
                      <a:pt x="679" y="1680"/>
                      <a:pt x="523" y="1621"/>
                      <a:pt x="392" y="1504"/>
                    </a:cubicBezTo>
                    <a:cubicBezTo>
                      <a:pt x="261" y="1387"/>
                      <a:pt x="209" y="1291"/>
                      <a:pt x="144" y="1040"/>
                    </a:cubicBezTo>
                    <a:cubicBezTo>
                      <a:pt x="79" y="789"/>
                      <a:pt x="30" y="21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 flipV="1">
                <a:off x="3276000" y="4091760"/>
                <a:ext cx="2997000" cy="2997000"/>
              </a:xfrm>
              <a:custGeom>
                <a:avLst/>
                <a:gdLst/>
                <a:ahLst/>
                <a:rect l="l" t="t" r="r" b="b"/>
                <a:pathLst>
                  <a:path w="1888" h="1888">
                    <a:moveTo>
                      <a:pt x="1888" y="1888"/>
                    </a:moveTo>
                    <a:cubicBezTo>
                      <a:pt x="1733" y="1864"/>
                      <a:pt x="1177" y="1808"/>
                      <a:pt x="928" y="1744"/>
                    </a:cubicBezTo>
                    <a:cubicBezTo>
                      <a:pt x="679" y="1680"/>
                      <a:pt x="523" y="1621"/>
                      <a:pt x="392" y="1504"/>
                    </a:cubicBezTo>
                    <a:cubicBezTo>
                      <a:pt x="261" y="1387"/>
                      <a:pt x="209" y="1291"/>
                      <a:pt x="144" y="1040"/>
                    </a:cubicBezTo>
                    <a:cubicBezTo>
                      <a:pt x="79" y="789"/>
                      <a:pt x="30" y="21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1" name=""/>
            <p:cNvSpPr/>
            <p:nvPr/>
          </p:nvSpPr>
          <p:spPr>
            <a:xfrm>
              <a:off x="3780000" y="4020840"/>
              <a:ext cx="5364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300720" y="1068120"/>
              <a:ext cx="23760" cy="5958000"/>
            </a:xfrm>
            <a:custGeom>
              <a:avLst/>
              <a:gdLst/>
              <a:ahLst/>
              <a:rect l="l" t="t" r="r" b="b"/>
              <a:pathLst>
                <a:path w="15" h="3753">
                  <a:moveTo>
                    <a:pt x="0" y="0"/>
                  </a:moveTo>
                  <a:lnTo>
                    <a:pt x="15" y="3753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3" name=""/>
              <p:cNvSpPr txBox="1"/>
              <p:nvPr/>
            </p:nvSpPr>
            <p:spPr>
              <a:xfrm>
                <a:off x="179280" y="476280"/>
                <a:ext cx="90972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4" name=""/>
          <p:cNvSpPr/>
          <p:nvPr/>
        </p:nvSpPr>
        <p:spPr>
          <a:xfrm>
            <a:off x="3132000" y="4221000"/>
            <a:ext cx="2160720" cy="576360"/>
          </a:xfrm>
          <a:prstGeom prst="wedgeEllipseCallout">
            <a:avLst>
              <a:gd name="adj1" fmla="val -97245"/>
              <a:gd name="adj2" fmla="val 9325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3564000" y="2781360"/>
            <a:ext cx="2160360" cy="576360"/>
          </a:xfrm>
          <a:prstGeom prst="wedgeEllipseCallout">
            <a:avLst>
              <a:gd name="adj1" fmla="val -98050"/>
              <a:gd name="adj2" fmla="val 96833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/>
          <p:nvPr/>
        </p:nvSpPr>
        <p:spPr>
          <a:xfrm>
            <a:off x="2987640" y="5734080"/>
            <a:ext cx="2232000" cy="649080"/>
          </a:xfrm>
          <a:prstGeom prst="wedgeEllipseCallout">
            <a:avLst>
              <a:gd name="adj1" fmla="val -95944"/>
              <a:gd name="adj2" fmla="val 75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7" name=""/>
              <p:cNvSpPr txBox="1"/>
              <p:nvPr/>
            </p:nvSpPr>
            <p:spPr>
              <a:xfrm>
                <a:off x="900000" y="2852640"/>
                <a:ext cx="18795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8" name=""/>
              <p:cNvSpPr txBox="1"/>
              <p:nvPr/>
            </p:nvSpPr>
            <p:spPr>
              <a:xfrm>
                <a:off x="914400" y="4076640"/>
                <a:ext cx="13809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900000" y="5300640"/>
                <a:ext cx="140976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330" dur="indefinite" restart="never" nodeType="tmRoot">
          <p:childTnLst>
            <p:seq>
              <p:cTn id="1331" restart="whenNotActive" nodeType="interactiveSeq" fill="hold">
                <p:stCondLst>
                  <p:cond evt="onClick">
                    <p:tgtEl>
                      <p:spTgt spid="1313"/>
                    </p:tgtEl>
                  </p:cond>
                </p:stCondLst>
                <p:childTnLst>
                  <p:par>
                    <p:cTn id="1332" fill="hold">
                      <p:stCondLst>
                        <p:cond evt="onClick">
                          <p:tgtEl>
                            <p:spTgt spid="1313"/>
                          </p:tgtEl>
                        </p:cond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9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312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1312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6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7" fill="hold">
                            <p:stCondLst>
                              <p:cond delay="500"/>
                            </p:stCondLst>
                            <p:childTnLst>
                              <p:par>
                                <p:cTn id="134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9" dur="5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52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500"/>
                            </p:stCondLst>
                            <p:childTnLst>
                              <p:par>
                                <p:cTn id="135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9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362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6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500"/>
                            </p:stCondLst>
                            <p:childTnLst>
                              <p:par>
                                <p:cTn id="1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7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4.07407E-006 L -0.00069 -0.08658 L -0.00347 -0.16436 E">
                                      <p:cBhvr>
                                        <p:cTn id="1380" dur="3000" fill="hold"/>
                                        <p:tgtEl>
                                          <p:spTgt spid="1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0" name=""/>
          <p:cNvGrpSpPr/>
          <p:nvPr/>
        </p:nvGrpSpPr>
        <p:grpSpPr>
          <a:xfrm>
            <a:off x="3851280" y="1484280"/>
            <a:ext cx="4991040" cy="5078520"/>
            <a:chOff x="3851280" y="1484280"/>
            <a:chExt cx="4991040" cy="5078520"/>
          </a:xfrm>
        </p:grpSpPr>
        <p:sp>
          <p:nvSpPr>
            <p:cNvPr id="1331" name=""/>
            <p:cNvSpPr/>
            <p:nvPr/>
          </p:nvSpPr>
          <p:spPr>
            <a:xfrm>
              <a:off x="3870360" y="1496880"/>
              <a:ext cx="3240" cy="5035680"/>
            </a:xfrm>
            <a:custGeom>
              <a:avLst/>
              <a:gdLst/>
              <a:ahLst/>
              <a:rect l="l" t="t" r="r" b="b"/>
              <a:pathLst>
                <a:path w="2" h="3172">
                  <a:moveTo>
                    <a:pt x="0" y="0"/>
                  </a:moveTo>
                  <a:lnTo>
                    <a:pt x="2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946680" y="3456000"/>
              <a:ext cx="4857840" cy="3240"/>
            </a:xfrm>
            <a:custGeom>
              <a:avLst/>
              <a:gdLst/>
              <a:ahLst/>
              <a:rect l="l" t="t" r="r" b="b"/>
              <a:pathLst>
                <a:path w="3060" h="2">
                  <a:moveTo>
                    <a:pt x="0" y="0"/>
                  </a:moveTo>
                  <a:lnTo>
                    <a:pt x="3060" y="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889440" y="6253200"/>
              <a:ext cx="4902120" cy="1440"/>
            </a:xfrm>
            <a:custGeom>
              <a:avLst/>
              <a:gdLst/>
              <a:ahLst/>
              <a:rect l="l" t="t" r="r" b="b"/>
              <a:pathLst>
                <a:path w="3088" h="1">
                  <a:moveTo>
                    <a:pt x="0" y="0"/>
                  </a:moveTo>
                  <a:lnTo>
                    <a:pt x="308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873600" y="5973840"/>
              <a:ext cx="4911840" cy="3240"/>
            </a:xfrm>
            <a:custGeom>
              <a:avLst/>
              <a:gdLst/>
              <a:ahLst/>
              <a:rect l="l" t="t" r="r" b="b"/>
              <a:pathLst>
                <a:path w="3094" h="2">
                  <a:moveTo>
                    <a:pt x="0" y="2"/>
                  </a:moveTo>
                  <a:lnTo>
                    <a:pt x="309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873600" y="5689440"/>
              <a:ext cx="4968720" cy="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876840" y="5415120"/>
              <a:ext cx="4914720" cy="1440"/>
            </a:xfrm>
            <a:custGeom>
              <a:avLst/>
              <a:gdLst/>
              <a:ahLst/>
              <a:rect l="l" t="t" r="r" b="b"/>
              <a:pathLst>
                <a:path w="3096" h="1">
                  <a:moveTo>
                    <a:pt x="0" y="0"/>
                  </a:moveTo>
                  <a:lnTo>
                    <a:pt x="309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70360" y="5135400"/>
              <a:ext cx="4908600" cy="1800"/>
            </a:xfrm>
            <a:custGeom>
              <a:avLst/>
              <a:gdLst/>
              <a:ahLst/>
              <a:rect l="l" t="t" r="r" b="b"/>
              <a:pathLst>
                <a:path w="3092" h="1">
                  <a:moveTo>
                    <a:pt x="0" y="0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864240" y="4849920"/>
              <a:ext cx="4921200" cy="6120"/>
            </a:xfrm>
            <a:custGeom>
              <a:avLst/>
              <a:gdLst/>
              <a:ahLst/>
              <a:rect l="l" t="t" r="r" b="b"/>
              <a:pathLst>
                <a:path w="3100" h="4">
                  <a:moveTo>
                    <a:pt x="0" y="4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864240" y="4570560"/>
              <a:ext cx="4933800" cy="12600"/>
            </a:xfrm>
            <a:custGeom>
              <a:avLst/>
              <a:gdLst/>
              <a:ahLst/>
              <a:rect l="l" t="t" r="r" b="b"/>
              <a:pathLst>
                <a:path w="3108" h="8">
                  <a:moveTo>
                    <a:pt x="0" y="8"/>
                  </a:moveTo>
                  <a:lnTo>
                    <a:pt x="3108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851280" y="4291200"/>
              <a:ext cx="4946760" cy="6120"/>
            </a:xfrm>
            <a:custGeom>
              <a:avLst/>
              <a:gdLst/>
              <a:ahLst/>
              <a:rect l="l" t="t" r="r" b="b"/>
              <a:pathLst>
                <a:path w="3116" h="4">
                  <a:moveTo>
                    <a:pt x="0" y="0"/>
                  </a:moveTo>
                  <a:lnTo>
                    <a:pt x="3116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946680" y="3738600"/>
              <a:ext cx="4844880" cy="6480"/>
            </a:xfrm>
            <a:custGeom>
              <a:avLst/>
              <a:gdLst/>
              <a:ahLst/>
              <a:rect l="l" t="t" r="r" b="b"/>
              <a:pathLst>
                <a:path w="3052" h="4">
                  <a:moveTo>
                    <a:pt x="0" y="4"/>
                  </a:moveTo>
                  <a:lnTo>
                    <a:pt x="305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876840" y="3179880"/>
              <a:ext cx="4921200" cy="1440"/>
            </a:xfrm>
            <a:custGeom>
              <a:avLst/>
              <a:gdLst/>
              <a:ahLst/>
              <a:rect l="l" t="t" r="r" b="b"/>
              <a:pathLst>
                <a:path w="3100" h="1">
                  <a:moveTo>
                    <a:pt x="0" y="0"/>
                  </a:moveTo>
                  <a:lnTo>
                    <a:pt x="3100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57760" y="2900520"/>
              <a:ext cx="4940280" cy="612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864240" y="2620800"/>
              <a:ext cx="4933800" cy="6480"/>
            </a:xfrm>
            <a:custGeom>
              <a:avLst/>
              <a:gdLst/>
              <a:ahLst/>
              <a:rect l="l" t="t" r="r" b="b"/>
              <a:pathLst>
                <a:path w="3108" h="4">
                  <a:moveTo>
                    <a:pt x="0" y="0"/>
                  </a:moveTo>
                  <a:lnTo>
                    <a:pt x="3108" y="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857760" y="2347920"/>
              <a:ext cx="4940280" cy="6480"/>
            </a:xfrm>
            <a:custGeom>
              <a:avLst/>
              <a:gdLst/>
              <a:ahLst/>
              <a:rect l="l" t="t" r="r" b="b"/>
              <a:pathLst>
                <a:path w="3112" h="4">
                  <a:moveTo>
                    <a:pt x="0" y="4"/>
                  </a:moveTo>
                  <a:lnTo>
                    <a:pt x="311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70360" y="2068560"/>
              <a:ext cx="4927680" cy="1440"/>
            </a:xfrm>
            <a:custGeom>
              <a:avLst/>
              <a:gdLst/>
              <a:ahLst/>
              <a:rect l="l" t="t" r="r" b="b"/>
              <a:pathLst>
                <a:path w="3104" h="1">
                  <a:moveTo>
                    <a:pt x="0" y="0"/>
                  </a:moveTo>
                  <a:lnTo>
                    <a:pt x="3104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882960" y="1789200"/>
              <a:ext cx="4908600" cy="12600"/>
            </a:xfrm>
            <a:custGeom>
              <a:avLst/>
              <a:gdLst/>
              <a:ahLst/>
              <a:rect l="l" t="t" r="r" b="b"/>
              <a:pathLst>
                <a:path w="3092" h="8">
                  <a:moveTo>
                    <a:pt x="0" y="8"/>
                  </a:moveTo>
                  <a:lnTo>
                    <a:pt x="3092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95920" y="1496880"/>
              <a:ext cx="4902120" cy="19080"/>
            </a:xfrm>
            <a:custGeom>
              <a:avLst/>
              <a:gdLst/>
              <a:ahLst/>
              <a:rect l="l" t="t" r="r" b="b"/>
              <a:pathLst>
                <a:path w="3088" h="12">
                  <a:moveTo>
                    <a:pt x="0" y="0"/>
                  </a:moveTo>
                  <a:lnTo>
                    <a:pt x="3088" y="1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857760" y="6532560"/>
              <a:ext cx="4946760" cy="1440"/>
            </a:xfrm>
            <a:custGeom>
              <a:avLst/>
              <a:gdLst/>
              <a:ahLst/>
              <a:rect l="l" t="t" r="r" b="b"/>
              <a:pathLst>
                <a:path w="3116" h="1">
                  <a:moveTo>
                    <a:pt x="0" y="0"/>
                  </a:moveTo>
                  <a:lnTo>
                    <a:pt x="3116" y="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798040" y="152244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487000" y="1509840"/>
              <a:ext cx="612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175600" y="150984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871040" y="1509840"/>
              <a:ext cx="1440" cy="501624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559640" y="150336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236000" y="1496880"/>
              <a:ext cx="22320" cy="506592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943680" y="152244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639120" y="1522440"/>
              <a:ext cx="1440" cy="500364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6016680" y="1484280"/>
              <a:ext cx="17640" cy="507852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11760" y="150984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07200" y="1515960"/>
              <a:ext cx="6120" cy="502308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89680" y="1509840"/>
              <a:ext cx="12600" cy="5022720"/>
            </a:xfrm>
            <a:custGeom>
              <a:avLst/>
              <a:gdLst/>
              <a:ahLst/>
              <a:rect l="l" t="t" r="r" b="b"/>
              <a:pathLst>
                <a:path w="8" h="3164">
                  <a:moveTo>
                    <a:pt x="0" y="0"/>
                  </a:moveTo>
                  <a:lnTo>
                    <a:pt x="8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791240" y="150984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486320" y="1509840"/>
              <a:ext cx="1800" cy="503532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175280" y="1509840"/>
              <a:ext cx="1440" cy="5022720"/>
            </a:xfrm>
            <a:custGeom>
              <a:avLst/>
              <a:gdLst/>
              <a:ahLst/>
              <a:rect l="l" t="t" r="r" b="b"/>
              <a:pathLst>
                <a:path w="1" h="3164">
                  <a:moveTo>
                    <a:pt x="0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6516720" y="4003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3924360" y="1511280"/>
            <a:ext cx="4897440" cy="5003640"/>
            <a:chOff x="3924360" y="1511280"/>
            <a:chExt cx="4897440" cy="5003640"/>
          </a:xfrm>
        </p:grpSpPr>
        <p:sp>
          <p:nvSpPr>
            <p:cNvPr id="1367" name=""/>
            <p:cNvSpPr/>
            <p:nvPr/>
          </p:nvSpPr>
          <p:spPr>
            <a:xfrm>
              <a:off x="3924360" y="400356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311880" y="1511280"/>
              <a:ext cx="25560" cy="5003640"/>
            </a:xfrm>
            <a:custGeom>
              <a:avLst/>
              <a:gdLst/>
              <a:ahLst/>
              <a:rect l="l" t="t" r="r" b="b"/>
              <a:pathLst>
                <a:path w="16" h="3152">
                  <a:moveTo>
                    <a:pt x="16" y="315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3996720" y="1844640"/>
              <a:ext cx="4600440" cy="4246200"/>
              <a:chOff x="3996720" y="1844640"/>
              <a:chExt cx="4600440" cy="4246200"/>
            </a:xfrm>
          </p:grpSpPr>
          <p:sp>
            <p:nvSpPr>
              <p:cNvPr id="1370" name=""/>
              <p:cNvSpPr/>
              <p:nvPr/>
            </p:nvSpPr>
            <p:spPr>
              <a:xfrm>
                <a:off x="6442920" y="4003560"/>
                <a:ext cx="215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   2   3  4   5   6   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3996720" y="3931920"/>
                <a:ext cx="2175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 -6 -5 -4  -3  -2  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013800" y="1844640"/>
                <a:ext cx="30708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229440" y="4076640"/>
                <a:ext cx="38340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6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-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74" name=""/>
          <p:cNvSpPr/>
          <p:nvPr/>
        </p:nvSpPr>
        <p:spPr>
          <a:xfrm>
            <a:off x="108000" y="216000"/>
            <a:ext cx="885672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получить график функции                            , над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перболу             перенести н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50920" y="14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50920" y="2781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50920" y="4292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50920" y="57006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5724360" y="-31680"/>
                <a:ext cx="2094120" cy="101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1" name=""/>
          <p:cNvGrpSpPr/>
          <p:nvPr/>
        </p:nvGrpSpPr>
        <p:grpSpPr>
          <a:xfrm>
            <a:off x="3276360" y="981000"/>
            <a:ext cx="6134400" cy="6108120"/>
            <a:chOff x="3276360" y="981000"/>
            <a:chExt cx="6134400" cy="6108120"/>
          </a:xfrm>
        </p:grpSpPr>
        <p:grpSp>
          <p:nvGrpSpPr>
            <p:cNvPr id="1382" name=""/>
            <p:cNvGrpSpPr/>
            <p:nvPr/>
          </p:nvGrpSpPr>
          <p:grpSpPr>
            <a:xfrm>
              <a:off x="3276360" y="981000"/>
              <a:ext cx="6134400" cy="6108120"/>
              <a:chOff x="3276360" y="981000"/>
              <a:chExt cx="6134400" cy="6108120"/>
            </a:xfrm>
          </p:grpSpPr>
          <p:sp>
            <p:nvSpPr>
              <p:cNvPr id="1383" name=""/>
              <p:cNvSpPr/>
              <p:nvPr/>
            </p:nvSpPr>
            <p:spPr>
              <a:xfrm>
                <a:off x="6413400" y="981000"/>
                <a:ext cx="2997360" cy="2997000"/>
              </a:xfrm>
              <a:custGeom>
                <a:avLst/>
                <a:gdLst/>
                <a:ahLst/>
                <a:rect l="l" t="t" r="r" b="b"/>
                <a:pathLst>
                  <a:path w="1888" h="1888">
                    <a:moveTo>
                      <a:pt x="1888" y="1888"/>
                    </a:moveTo>
                    <a:cubicBezTo>
                      <a:pt x="1733" y="1864"/>
                      <a:pt x="1177" y="1808"/>
                      <a:pt x="928" y="1744"/>
                    </a:cubicBezTo>
                    <a:cubicBezTo>
                      <a:pt x="679" y="1680"/>
                      <a:pt x="523" y="1621"/>
                      <a:pt x="392" y="1504"/>
                    </a:cubicBezTo>
                    <a:cubicBezTo>
                      <a:pt x="261" y="1387"/>
                      <a:pt x="209" y="1291"/>
                      <a:pt x="144" y="1040"/>
                    </a:cubicBezTo>
                    <a:cubicBezTo>
                      <a:pt x="79" y="789"/>
                      <a:pt x="30" y="21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 flipH="1" flipV="1">
                <a:off x="3276000" y="4091760"/>
                <a:ext cx="2997000" cy="2997000"/>
              </a:xfrm>
              <a:custGeom>
                <a:avLst/>
                <a:gdLst/>
                <a:ahLst/>
                <a:rect l="l" t="t" r="r" b="b"/>
                <a:pathLst>
                  <a:path w="1888" h="1888">
                    <a:moveTo>
                      <a:pt x="1888" y="1888"/>
                    </a:moveTo>
                    <a:cubicBezTo>
                      <a:pt x="1733" y="1864"/>
                      <a:pt x="1177" y="1808"/>
                      <a:pt x="928" y="1744"/>
                    </a:cubicBezTo>
                    <a:cubicBezTo>
                      <a:pt x="679" y="1680"/>
                      <a:pt x="523" y="1621"/>
                      <a:pt x="392" y="1504"/>
                    </a:cubicBezTo>
                    <a:cubicBezTo>
                      <a:pt x="261" y="1387"/>
                      <a:pt x="209" y="1291"/>
                      <a:pt x="144" y="1040"/>
                    </a:cubicBezTo>
                    <a:cubicBezTo>
                      <a:pt x="79" y="789"/>
                      <a:pt x="30" y="217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5" name=""/>
            <p:cNvSpPr/>
            <p:nvPr/>
          </p:nvSpPr>
          <p:spPr>
            <a:xfrm>
              <a:off x="3780000" y="4020840"/>
              <a:ext cx="536400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300720" y="1068120"/>
              <a:ext cx="23760" cy="5958000"/>
            </a:xfrm>
            <a:custGeom>
              <a:avLst/>
              <a:gdLst/>
              <a:ahLst/>
              <a:rect l="l" t="t" r="r" b="b"/>
              <a:pathLst>
                <a:path w="15" h="3753">
                  <a:moveTo>
                    <a:pt x="0" y="0"/>
                  </a:moveTo>
                  <a:lnTo>
                    <a:pt x="15" y="3753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87" name=""/>
              <p:cNvSpPr txBox="1"/>
              <p:nvPr/>
            </p:nvSpPr>
            <p:spPr>
              <a:xfrm>
                <a:off x="1765440" y="504720"/>
                <a:ext cx="9093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х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88" name=""/>
          <p:cNvSpPr/>
          <p:nvPr/>
        </p:nvSpPr>
        <p:spPr>
          <a:xfrm>
            <a:off x="681480" y="1341360"/>
            <a:ext cx="35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единицы ввер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Оу и на 2 еди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ево 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81480" y="2708280"/>
            <a:ext cx="35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единицы вниз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Оу и на 2 еди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 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81480" y="5516640"/>
            <a:ext cx="35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единицы вниз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Оу и на 2 еди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ево 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681480" y="4149720"/>
            <a:ext cx="35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единицы вввер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и Оу и на 2 единиц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раво 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5508720" y="4076640"/>
            <a:ext cx="2160360" cy="576360"/>
          </a:xfrm>
          <a:prstGeom prst="wedgeEllipseCallout">
            <a:avLst>
              <a:gd name="adj1" fmla="val -97245"/>
              <a:gd name="adj2" fmla="val 9325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148360" y="2349360"/>
            <a:ext cx="2160360" cy="576360"/>
          </a:xfrm>
          <a:prstGeom prst="wedgeEllipseCallout">
            <a:avLst>
              <a:gd name="adj1" fmla="val -98050"/>
              <a:gd name="adj2" fmla="val 96833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5435640" y="5589720"/>
            <a:ext cx="2232000" cy="649080"/>
          </a:xfrm>
          <a:prstGeom prst="wedgeEllipseCallout">
            <a:avLst>
              <a:gd name="adj1" fmla="val -95944"/>
              <a:gd name="adj2" fmla="val 759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 flipH="1">
            <a:off x="6948360" y="981000"/>
            <a:ext cx="43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 flipV="1">
            <a:off x="7885080" y="18864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564000" y="2133720"/>
            <a:ext cx="1944720" cy="720720"/>
          </a:xfrm>
          <a:prstGeom prst="wedgeEllipseCallout">
            <a:avLst>
              <a:gd name="adj1" fmla="val -91712"/>
              <a:gd name="adj2" fmla="val 1541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1" dur="indefinite" restart="never" nodeType="tmRoot">
          <p:childTnLst>
            <p:seq>
              <p:cTn id="1382" restart="whenNotActive" nodeType="interactiveSeq" fill="hold">
                <p:stCondLst>
                  <p:cond evt="onClick">
                    <p:tgtEl>
                      <p:spTgt spid="1378"/>
                    </p:tgtEl>
                  </p:cond>
                </p:stCondLst>
                <p:childTnLst>
                  <p:par>
                    <p:cTn id="1383" fill="hold">
                      <p:stCondLst>
                        <p:cond evt="onClick">
                          <p:tgtEl>
                            <p:spTgt spid="1378"/>
                          </p:tgtEl>
                        </p:cond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500"/>
                            </p:stCondLst>
                            <p:childTnLst>
                              <p:par>
                                <p:cTn id="138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2" restart="whenNotActive" nodeType="interactiveSeq" fill="hold">
                <p:stCondLst>
                  <p:cond evt="onClick">
                    <p:tgtEl>
                      <p:spTgt spid="1377"/>
                    </p:tgtEl>
                  </p:cond>
                </p:stCondLst>
                <p:childTnLst>
                  <p:par>
                    <p:cTn id="1393" fill="hold">
                      <p:stCondLst>
                        <p:cond evt="onClick">
                          <p:tgtEl>
                            <p:spTgt spid="1377"/>
                          </p:tgtEl>
                        </p:cond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7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0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2" restart="whenNotActive" nodeType="interactiveSeq" fill="hold">
                <p:stCondLst>
                  <p:cond evt="onClick">
                    <p:tgtEl>
                      <p:spTgt spid="1379"/>
                    </p:tgtEl>
                  </p:cond>
                </p:stCondLst>
                <p:childTnLst>
                  <p:par>
                    <p:cTn id="1403" fill="hold">
                      <p:stCondLst>
                        <p:cond evt="onClick">
                          <p:tgtEl>
                            <p:spTgt spid="1379"/>
                          </p:tgtEl>
                        </p:cond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500"/>
                            </p:stCondLst>
                            <p:childTnLst>
                              <p:par>
                                <p:cTn id="1409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0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2" restart="whenNotActive" nodeType="interactiveSeq" fill="hold">
                <p:stCondLst>
                  <p:cond evt="onClick">
                    <p:tgtEl>
                      <p:spTgt spid="1376"/>
                    </p:tgtEl>
                  </p:cond>
                </p:stCondLst>
                <p:childTnLst>
                  <p:par>
                    <p:cTn id="1413" fill="hold">
                      <p:stCondLst>
                        <p:cond evt="onClick">
                          <p:tgtEl>
                            <p:spTgt spid="1376"/>
                          </p:tgtEl>
                        </p:cond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7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1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4" dur="5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8" dur="2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045E-016 4.07407E-006 L -0.06667 -0.00093 L -0.06562 -0.08149 E">
                                      <p:cBhvr>
                                        <p:cTn id="1439" dur="3000" fill="hold"/>
                                        <p:tgtEl>
                                          <p:spTgt spid="1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"/>
          <p:cNvSpPr/>
          <p:nvPr/>
        </p:nvSpPr>
        <p:spPr>
          <a:xfrm>
            <a:off x="4686480" y="977760"/>
            <a:ext cx="4457520" cy="2032200"/>
          </a:xfrm>
          <a:custGeom>
            <a:avLst/>
            <a:gdLst/>
            <a:ahLst/>
            <a:rect l="l" t="t" r="r" b="b"/>
            <a:pathLst>
              <a:path w="2808" h="1280">
                <a:moveTo>
                  <a:pt x="2808" y="53"/>
                </a:moveTo>
                <a:lnTo>
                  <a:pt x="1424" y="128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3870360" y="1065240"/>
            <a:ext cx="3240" cy="503568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3946680" y="3024360"/>
            <a:ext cx="485748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3889440" y="5948280"/>
            <a:ext cx="4902120" cy="1800"/>
          </a:xfrm>
          <a:custGeom>
            <a:avLst/>
            <a:gdLst/>
            <a:ahLst/>
            <a:rect l="l" t="t" r="r" b="b"/>
            <a:pathLst>
              <a:path w="3088" h="1">
                <a:moveTo>
                  <a:pt x="0" y="0"/>
                </a:moveTo>
                <a:lnTo>
                  <a:pt x="308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"/>
          <p:cNvSpPr/>
          <p:nvPr/>
        </p:nvSpPr>
        <p:spPr>
          <a:xfrm>
            <a:off x="3873600" y="5657760"/>
            <a:ext cx="4911480" cy="3240"/>
          </a:xfrm>
          <a:custGeom>
            <a:avLst/>
            <a:gdLst/>
            <a:ahLst/>
            <a:rect l="l" t="t" r="r" b="b"/>
            <a:pathLst>
              <a:path w="3094" h="2">
                <a:moveTo>
                  <a:pt x="0" y="2"/>
                </a:moveTo>
                <a:lnTo>
                  <a:pt x="309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"/>
          <p:cNvSpPr/>
          <p:nvPr/>
        </p:nvSpPr>
        <p:spPr>
          <a:xfrm>
            <a:off x="3873600" y="5373720"/>
            <a:ext cx="4968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"/>
          <p:cNvSpPr/>
          <p:nvPr/>
        </p:nvSpPr>
        <p:spPr>
          <a:xfrm>
            <a:off x="3876840" y="508320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"/>
          <p:cNvSpPr/>
          <p:nvPr/>
        </p:nvSpPr>
        <p:spPr>
          <a:xfrm>
            <a:off x="3870360" y="479592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"/>
          <p:cNvSpPr/>
          <p:nvPr/>
        </p:nvSpPr>
        <p:spPr>
          <a:xfrm>
            <a:off x="3863880" y="450216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3835440" y="4195800"/>
            <a:ext cx="4952880" cy="25200"/>
          </a:xfrm>
          <a:custGeom>
            <a:avLst/>
            <a:gdLst/>
            <a:ahLst/>
            <a:rect l="l" t="t" r="r" b="b"/>
            <a:pathLst>
              <a:path w="3120" h="16">
                <a:moveTo>
                  <a:pt x="0" y="16"/>
                </a:moveTo>
                <a:lnTo>
                  <a:pt x="312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3835440" y="3886200"/>
            <a:ext cx="4952880" cy="1440"/>
          </a:xfrm>
          <a:custGeom>
            <a:avLst/>
            <a:gdLst/>
            <a:ahLst/>
            <a:rect l="l" t="t" r="r" b="b"/>
            <a:pathLst>
              <a:path w="3120" h="1">
                <a:moveTo>
                  <a:pt x="0" y="0"/>
                </a:moveTo>
                <a:lnTo>
                  <a:pt x="312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946680" y="3306600"/>
            <a:ext cx="484488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3876840" y="274788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3857760" y="246852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3863880" y="2189160"/>
            <a:ext cx="4934160" cy="6480"/>
          </a:xfrm>
          <a:custGeom>
            <a:avLst/>
            <a:gdLst/>
            <a:ahLst/>
            <a:rect l="l" t="t" r="r" b="b"/>
            <a:pathLst>
              <a:path w="3108" h="4">
                <a:moveTo>
                  <a:pt x="0" y="0"/>
                </a:moveTo>
                <a:lnTo>
                  <a:pt x="3108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3857760" y="1916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3870360" y="1636560"/>
            <a:ext cx="4927680" cy="1800"/>
          </a:xfrm>
          <a:custGeom>
            <a:avLst/>
            <a:gdLst/>
            <a:ahLst/>
            <a:rect l="l" t="t" r="r" b="b"/>
            <a:pathLst>
              <a:path w="3104" h="1">
                <a:moveTo>
                  <a:pt x="0" y="0"/>
                </a:moveTo>
                <a:lnTo>
                  <a:pt x="310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/>
          <p:cNvSpPr/>
          <p:nvPr/>
        </p:nvSpPr>
        <p:spPr>
          <a:xfrm>
            <a:off x="3882960" y="1357200"/>
            <a:ext cx="4908600" cy="12960"/>
          </a:xfrm>
          <a:custGeom>
            <a:avLst/>
            <a:gdLst/>
            <a:ahLst/>
            <a:rect l="l" t="t" r="r" b="b"/>
            <a:pathLst>
              <a:path w="3092" h="8">
                <a:moveTo>
                  <a:pt x="0" y="8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3895560" y="1065240"/>
            <a:ext cx="4902480" cy="19080"/>
          </a:xfrm>
          <a:custGeom>
            <a:avLst/>
            <a:gdLst/>
            <a:ahLst/>
            <a:rect l="l" t="t" r="r" b="b"/>
            <a:pathLst>
              <a:path w="3088" h="12">
                <a:moveTo>
                  <a:pt x="0" y="0"/>
                </a:moveTo>
                <a:lnTo>
                  <a:pt x="3088" y="1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8798040" y="1090440"/>
            <a:ext cx="1440" cy="4978440"/>
          </a:xfrm>
          <a:custGeom>
            <a:avLst/>
            <a:gdLst/>
            <a:ahLst/>
            <a:rect l="l" t="t" r="r" b="b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8486640" y="1077840"/>
            <a:ext cx="6480" cy="503568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8175600" y="1125360"/>
            <a:ext cx="6480" cy="5029200"/>
          </a:xfrm>
          <a:custGeom>
            <a:avLst/>
            <a:gdLst/>
            <a:ahLst/>
            <a:rect l="l" t="t" r="r" b="b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/>
          <p:nvPr/>
        </p:nvSpPr>
        <p:spPr>
          <a:xfrm>
            <a:off x="7870680" y="1077840"/>
            <a:ext cx="1800" cy="5016600"/>
          </a:xfrm>
          <a:custGeom>
            <a:avLst/>
            <a:gdLst/>
            <a:ahLst/>
            <a:rect l="l" t="t" r="r" b="b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7559640" y="1071720"/>
            <a:ext cx="6480" cy="503532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7236000" y="1065240"/>
            <a:ext cx="21960" cy="5065560"/>
          </a:xfrm>
          <a:custGeom>
            <a:avLst/>
            <a:gdLst/>
            <a:ahLst/>
            <a:rect l="l" t="t" r="r" b="b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943680" y="1090440"/>
            <a:ext cx="6480" cy="5016600"/>
          </a:xfrm>
          <a:custGeom>
            <a:avLst/>
            <a:gdLst/>
            <a:ahLst/>
            <a:rect l="l" t="t" r="r" b="b"/>
            <a:pathLst>
              <a:path w="4" h="3160">
                <a:moveTo>
                  <a:pt x="4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654960" y="1092240"/>
            <a:ext cx="1440" cy="5054400"/>
          </a:xfrm>
          <a:custGeom>
            <a:avLst/>
            <a:gdLst/>
            <a:ahLst/>
            <a:rect l="l" t="t" r="r" b="b"/>
            <a:pathLst>
              <a:path w="1" h="3184">
                <a:moveTo>
                  <a:pt x="0" y="0"/>
                </a:moveTo>
                <a:lnTo>
                  <a:pt x="0" y="318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6016680" y="1052640"/>
            <a:ext cx="17280" cy="5078160"/>
          </a:xfrm>
          <a:custGeom>
            <a:avLst/>
            <a:gdLst/>
            <a:ahLst/>
            <a:rect l="l" t="t" r="r" b="b"/>
            <a:pathLst>
              <a:path w="11" h="3199">
                <a:moveTo>
                  <a:pt x="0" y="0"/>
                </a:moveTo>
                <a:lnTo>
                  <a:pt x="11" y="3199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5711760" y="1077840"/>
            <a:ext cx="1800" cy="503568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>
            <a:off x="5407200" y="1084320"/>
            <a:ext cx="6120" cy="502272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089680" y="1077840"/>
            <a:ext cx="12600" cy="5023080"/>
          </a:xfrm>
          <a:custGeom>
            <a:avLst/>
            <a:gdLst/>
            <a:ahLst/>
            <a:rect l="l" t="t" r="r" b="b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4791240" y="1077840"/>
            <a:ext cx="6120" cy="502308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486320" y="1077840"/>
            <a:ext cx="1440" cy="503568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4175280" y="1077840"/>
            <a:ext cx="1440" cy="5023080"/>
          </a:xfrm>
          <a:custGeom>
            <a:avLst/>
            <a:gdLst/>
            <a:ahLst/>
            <a:rect l="l" t="t" r="r" b="b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924360" y="357192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>
            <a:off x="6324480" y="1041480"/>
            <a:ext cx="25560" cy="5130720"/>
          </a:xfrm>
          <a:custGeom>
            <a:avLst/>
            <a:gdLst/>
            <a:ahLst/>
            <a:rect l="l" t="t" r="r" b="b"/>
            <a:pathLst>
              <a:path w="16" h="3232">
                <a:moveTo>
                  <a:pt x="16" y="323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6442920" y="3284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3996720" y="3500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6013800" y="1413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5986800" y="371952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324000" y="4437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324000" y="3068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324000" y="177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32400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3132000" y="4149720"/>
            <a:ext cx="1944720" cy="720720"/>
          </a:xfrm>
          <a:prstGeom prst="wedgeEllipseCallout">
            <a:avLst>
              <a:gd name="adj1" fmla="val -70245"/>
              <a:gd name="adj2" fmla="val 9493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901080" y="1771560"/>
            <a:ext cx="198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=2, b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2556000" y="1341360"/>
            <a:ext cx="2160360" cy="57636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>
            <a:off x="2556000" y="242100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>
            <a:off x="3851280" y="5805360"/>
            <a:ext cx="2232000" cy="64944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250920" y="44280"/>
            <a:ext cx="8893080" cy="957600"/>
            <a:chOff x="250920" y="44280"/>
            <a:chExt cx="8893080" cy="957600"/>
          </a:xfrm>
        </p:grpSpPr>
        <p:sp>
          <p:nvSpPr>
            <p:cNvPr id="1450" name=""/>
            <p:cNvSpPr/>
            <p:nvPr/>
          </p:nvSpPr>
          <p:spPr>
            <a:xfrm>
              <a:off x="250920" y="115920"/>
              <a:ext cx="889308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Функция 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                   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задана графиком, изображенным на рисунке. Определите значения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ru-RU" sz="2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1" name=""/>
                <p:cNvSpPr txBox="1"/>
                <p:nvPr/>
              </p:nvSpPr>
              <p:spPr>
                <a:xfrm>
                  <a:off x="1692360" y="44280"/>
                  <a:ext cx="2016000" cy="62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=</m:t>
                      </m:r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 </m:t>
                          </m:r>
                          <m:r>
                            <m:t xml:space="preserve">+</m:t>
                          </m:r>
                          <m:r>
                            <m:t xml:space="preserve"> </m:t>
                          </m:r>
                          <m:r>
                            <m:t xml:space="preserve">а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2" name=""/>
          <p:cNvSpPr/>
          <p:nvPr/>
        </p:nvSpPr>
        <p:spPr>
          <a:xfrm>
            <a:off x="901080" y="566100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=2, b=–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828000" y="4365720"/>
            <a:ext cx="223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=–2, b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827640" y="299736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=–2, b=–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4025880" y="1511280"/>
            <a:ext cx="4470480" cy="2062080"/>
          </a:xfrm>
          <a:custGeom>
            <a:avLst/>
            <a:gdLst/>
            <a:ahLst/>
            <a:rect l="l" t="t" r="r" b="b"/>
            <a:pathLst>
              <a:path w="2816" h="1299">
                <a:moveTo>
                  <a:pt x="2816" y="80"/>
                </a:moveTo>
                <a:lnTo>
                  <a:pt x="1433" y="1299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337440" y="3035160"/>
            <a:ext cx="610920" cy="538200"/>
          </a:xfrm>
          <a:custGeom>
            <a:avLst/>
            <a:gdLst/>
            <a:ahLst/>
            <a:rect l="l" t="t" r="r" b="b"/>
            <a:pathLst>
              <a:path w="385" h="339">
                <a:moveTo>
                  <a:pt x="0" y="0"/>
                </a:moveTo>
                <a:lnTo>
                  <a:pt x="384" y="0"/>
                </a:lnTo>
                <a:lnTo>
                  <a:pt x="385" y="339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0" dur="indefinite" restart="never" nodeType="tmRoot">
          <p:childTnLst>
            <p:seq>
              <p:cTn id="1441" restart="whenNotActive" nodeType="interactiveSeq" fill="hold">
                <p:stCondLst>
                  <p:cond evt="onClick">
                    <p:tgtEl>
                      <p:spTgt spid="1440"/>
                    </p:tgtEl>
                  </p:cond>
                </p:stCondLst>
                <p:childTnLst>
                  <p:par>
                    <p:cTn id="1442" fill="hold">
                      <p:stCondLst>
                        <p:cond evt="onClick">
                          <p:tgtEl>
                            <p:spTgt spid="1440"/>
                          </p:tgtEl>
                        </p:cond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6" dur="5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3.7037E-006 L 0.06666 3.7037E-006 L 0.06944 -0.08148 E">
                                      <p:cBhvr>
                                        <p:cTn id="1453" dur="2000" fill="hold"/>
                                        <p:tgtEl>
                                          <p:spTgt spid="1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4" restart="whenNotActive" nodeType="interactiveSeq" fill="hold">
                <p:stCondLst>
                  <p:cond evt="onClick">
                    <p:tgtEl>
                      <p:spTgt spid="1442"/>
                    </p:tgtEl>
                  </p:cond>
                </p:stCondLst>
                <p:childTnLst>
                  <p:par>
                    <p:cTn id="1455" fill="hold">
                      <p:stCondLst>
                        <p:cond evt="onClick">
                          <p:tgtEl>
                            <p:spTgt spid="1442"/>
                          </p:tgtEl>
                        </p:cond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0" fill="hold">
                            <p:stCondLst>
                              <p:cond delay="500"/>
                            </p:stCondLst>
                            <p:childTnLst>
                              <p:par>
                                <p:cTn id="146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2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4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465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9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2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4" restart="whenNotActive" nodeType="interactiveSeq" fill="hold">
                <p:stCondLst>
                  <p:cond evt="onClick">
                    <p:tgtEl>
                      <p:spTgt spid="1443"/>
                    </p:tgtEl>
                  </p:cond>
                </p:stCondLst>
                <p:childTnLst>
                  <p:par>
                    <p:cTn id="1475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2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"/>
          <p:cNvSpPr/>
          <p:nvPr/>
        </p:nvSpPr>
        <p:spPr>
          <a:xfrm>
            <a:off x="108000" y="189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ой из графиков соответствует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299280" y="4651200"/>
            <a:ext cx="2692440" cy="12960"/>
          </a:xfrm>
          <a:custGeom>
            <a:avLst/>
            <a:gdLst/>
            <a:ahLst/>
            <a:rect l="l" t="t" r="r" b="b"/>
            <a:pathLst>
              <a:path w="1696" h="8">
                <a:moveTo>
                  <a:pt x="0" y="8"/>
                </a:moveTo>
                <a:lnTo>
                  <a:pt x="16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 flipV="1">
            <a:off x="7524720" y="3571920"/>
            <a:ext cx="0" cy="2519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067280" y="5950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6084720" y="5877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6300720" y="33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>
            <a:hlinkClick r:id="" action="ppaction://hlinkshowjump?jump=endshow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356436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50752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3924720" y="112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8726760" y="4290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7499520" y="34275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9" name=""/>
          <p:cNvGrpSpPr/>
          <p:nvPr/>
        </p:nvGrpSpPr>
        <p:grpSpPr>
          <a:xfrm>
            <a:off x="2627280" y="1125360"/>
            <a:ext cx="2663640" cy="2519280"/>
            <a:chOff x="2627280" y="1125360"/>
            <a:chExt cx="2663640" cy="2519280"/>
          </a:xfrm>
        </p:grpSpPr>
        <p:sp>
          <p:nvSpPr>
            <p:cNvPr id="1470" name=""/>
            <p:cNvSpPr/>
            <p:nvPr/>
          </p:nvSpPr>
          <p:spPr>
            <a:xfrm>
              <a:off x="2627280" y="256680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3924360" y="112536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7285320" y="436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4069080" y="2492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3637440" y="20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7164720" y="4795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7669440" y="436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3780000" y="333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24000" y="5950080"/>
            <a:ext cx="2017440" cy="576000"/>
          </a:xfrm>
          <a:prstGeom prst="wedgeEllipseCallout">
            <a:avLst>
              <a:gd name="adj1" fmla="val 119393"/>
              <a:gd name="adj2" fmla="val 21902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 flipH="1">
            <a:off x="6443640" y="3573360"/>
            <a:ext cx="2448000" cy="2592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0" name=""/>
              <p:cNvSpPr txBox="1"/>
              <p:nvPr/>
            </p:nvSpPr>
            <p:spPr>
              <a:xfrm>
                <a:off x="34920" y="1413000"/>
                <a:ext cx="2592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81" name=""/>
          <p:cNvGrpSpPr/>
          <p:nvPr/>
        </p:nvGrpSpPr>
        <p:grpSpPr>
          <a:xfrm>
            <a:off x="5003640" y="260280"/>
            <a:ext cx="4101480" cy="3240000"/>
            <a:chOff x="5003640" y="260280"/>
            <a:chExt cx="4101480" cy="3240000"/>
          </a:xfrm>
        </p:grpSpPr>
        <p:grpSp>
          <p:nvGrpSpPr>
            <p:cNvPr id="1482" name=""/>
            <p:cNvGrpSpPr/>
            <p:nvPr/>
          </p:nvGrpSpPr>
          <p:grpSpPr>
            <a:xfrm>
              <a:off x="6203880" y="981000"/>
              <a:ext cx="2663640" cy="2519280"/>
              <a:chOff x="6203880" y="981000"/>
              <a:chExt cx="2663640" cy="2519280"/>
            </a:xfrm>
          </p:grpSpPr>
          <p:sp>
            <p:nvSpPr>
              <p:cNvPr id="1483" name=""/>
              <p:cNvSpPr/>
              <p:nvPr/>
            </p:nvSpPr>
            <p:spPr>
              <a:xfrm>
                <a:off x="6203880" y="2422440"/>
                <a:ext cx="266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 flipV="1">
                <a:off x="7500960" y="981000"/>
                <a:ext cx="0" cy="2519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5" name=""/>
            <p:cNvSpPr/>
            <p:nvPr/>
          </p:nvSpPr>
          <p:spPr>
            <a:xfrm>
              <a:off x="8798040" y="1989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476840" y="907920"/>
              <a:ext cx="31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502760" y="2125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453440" y="1412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970680" y="21254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003640" y="260280"/>
              <a:ext cx="3025800" cy="1353960"/>
            </a:xfrm>
            <a:custGeom>
              <a:avLst/>
              <a:gdLst/>
              <a:ahLst/>
              <a:rect l="l" t="t" r="r" b="b"/>
              <a:pathLst>
                <a:path w="1906" h="853">
                  <a:moveTo>
                    <a:pt x="0" y="0"/>
                  </a:moveTo>
                  <a:lnTo>
                    <a:pt x="980" y="853"/>
                  </a:lnTo>
                  <a:lnTo>
                    <a:pt x="1906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580080" y="1628640"/>
              <a:ext cx="942840" cy="792000"/>
            </a:xfrm>
            <a:custGeom>
              <a:avLst/>
              <a:gdLst/>
              <a:ahLst/>
              <a:rect l="l" t="t" r="r" b="b"/>
              <a:pathLst>
                <a:path w="594" h="499">
                  <a:moveTo>
                    <a:pt x="594" y="0"/>
                  </a:moveTo>
                  <a:lnTo>
                    <a:pt x="0" y="2"/>
                  </a:lnTo>
                  <a:lnTo>
                    <a:pt x="5" y="49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73800" y="234792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3" name=""/>
          <p:cNvSpPr/>
          <p:nvPr/>
        </p:nvSpPr>
        <p:spPr>
          <a:xfrm>
            <a:off x="2409840" y="1197000"/>
            <a:ext cx="3025800" cy="1380960"/>
          </a:xfrm>
          <a:custGeom>
            <a:avLst/>
            <a:gdLst/>
            <a:ahLst/>
            <a:rect l="l" t="t" r="r" b="b"/>
            <a:pathLst>
              <a:path w="1906" h="870">
                <a:moveTo>
                  <a:pt x="0" y="0"/>
                </a:moveTo>
                <a:lnTo>
                  <a:pt x="946" y="870"/>
                </a:lnTo>
                <a:lnTo>
                  <a:pt x="1906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334836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334836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788360" y="515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2409840" y="3718080"/>
            <a:ext cx="2663640" cy="2519280"/>
            <a:chOff x="2409840" y="3718080"/>
            <a:chExt cx="2663640" cy="2519280"/>
          </a:xfrm>
        </p:grpSpPr>
        <p:sp>
          <p:nvSpPr>
            <p:cNvPr id="1498" name=""/>
            <p:cNvSpPr/>
            <p:nvPr/>
          </p:nvSpPr>
          <p:spPr>
            <a:xfrm>
              <a:off x="2409840" y="5159520"/>
              <a:ext cx="266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3706920" y="3718080"/>
              <a:ext cx="0" cy="2519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0" name=""/>
          <p:cNvSpPr/>
          <p:nvPr/>
        </p:nvSpPr>
        <p:spPr>
          <a:xfrm>
            <a:off x="3922920" y="4797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556000" y="4797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1308240" y="4581360"/>
            <a:ext cx="2973240" cy="1400400"/>
          </a:xfrm>
          <a:custGeom>
            <a:avLst/>
            <a:gdLst/>
            <a:ahLst/>
            <a:rect l="l" t="t" r="r" b="b"/>
            <a:pathLst>
              <a:path w="1873" h="882">
                <a:moveTo>
                  <a:pt x="0" y="2"/>
                </a:moveTo>
                <a:lnTo>
                  <a:pt x="944" y="882"/>
                </a:lnTo>
                <a:lnTo>
                  <a:pt x="1873" y="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3635640" y="57261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778120" y="5157720"/>
            <a:ext cx="942840" cy="824040"/>
          </a:xfrm>
          <a:custGeom>
            <a:avLst/>
            <a:gdLst/>
            <a:ahLst/>
            <a:rect l="l" t="t" r="r" b="b"/>
            <a:pathLst>
              <a:path w="594" h="519">
                <a:moveTo>
                  <a:pt x="594" y="519"/>
                </a:moveTo>
                <a:lnTo>
                  <a:pt x="18" y="519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2484360" y="2924280"/>
            <a:ext cx="2232000" cy="576000"/>
          </a:xfrm>
          <a:prstGeom prst="wedgeEllipseCallout">
            <a:avLst>
              <a:gd name="adj1" fmla="val 58537"/>
              <a:gd name="adj2" fmla="val -192425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4427640" y="1844640"/>
            <a:ext cx="2340000" cy="503280"/>
          </a:xfrm>
          <a:prstGeom prst="wedgeEllipseCallout">
            <a:avLst>
              <a:gd name="adj1" fmla="val 48777"/>
              <a:gd name="adj2" fmla="val -29100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5219640" y="4005360"/>
            <a:ext cx="2160720" cy="576000"/>
          </a:xfrm>
          <a:prstGeom prst="wedgeEllipseCallout">
            <a:avLst>
              <a:gd name="adj1" fmla="val 11060"/>
              <a:gd name="adj2" fmla="val 28994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2070000" y="3619440"/>
            <a:ext cx="3098880" cy="1524240"/>
          </a:xfrm>
          <a:custGeom>
            <a:avLst/>
            <a:gdLst/>
            <a:ahLst/>
            <a:rect l="l" t="t" r="r" b="b"/>
            <a:pathLst>
              <a:path w="1952" h="960">
                <a:moveTo>
                  <a:pt x="0" y="0"/>
                </a:moveTo>
                <a:lnTo>
                  <a:pt x="1014" y="960"/>
                </a:lnTo>
                <a:lnTo>
                  <a:pt x="1952" y="64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H="1">
            <a:off x="1476000" y="206064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2627280" y="155736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4" dur="indefinite" restart="never" nodeType="tmRoot">
          <p:childTnLst>
            <p:seq>
              <p:cTn id="1485" restart="whenNotActive" nodeType="interactiveSeq" fill="hold">
                <p:stCondLst>
                  <p:cond evt="onClick">
                    <p:tgtEl>
                      <p:spTgt spid="1460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1460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0" dur="5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500"/>
                            </p:stCondLst>
                            <p:childTnLst>
                              <p:par>
                                <p:cTn id="1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8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2.59259E-006 L -0.09461 2.59259E-006 L -0.09635 0.12477 E">
                                      <p:cBhvr>
                                        <p:cTn id="1505" dur="2000" fill="hold"/>
                                        <p:tgtEl>
                                          <p:spTgt spid="1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6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507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1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2" fill="hold">
                            <p:stCondLst>
                              <p:cond delay="500"/>
                            </p:stCondLst>
                            <p:childTnLst>
                              <p:par>
                                <p:cTn id="15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4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517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1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00"/>
                            </p:stCondLst>
                            <p:childTnLst>
                              <p:par>
                                <p:cTn id="15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4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461"/>
                    </p:tgtEl>
                  </p:cond>
                </p:stCondLst>
                <p:childTnLst>
                  <p:par>
                    <p:cTn id="1527" fill="hold">
                      <p:stCondLst>
                        <p:cond evt="onClick">
                          <p:tgtEl>
                            <p:spTgt spid="1461"/>
                          </p:tgtEl>
                        </p:cond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4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70360" y="1065240"/>
            <a:ext cx="3240" cy="503568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946680" y="3024360"/>
            <a:ext cx="485748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889440" y="5948280"/>
            <a:ext cx="4902120" cy="1800"/>
          </a:xfrm>
          <a:custGeom>
            <a:avLst/>
            <a:gdLst/>
            <a:ahLst/>
            <a:rect l="l" t="t" r="r" b="b"/>
            <a:pathLst>
              <a:path w="3088" h="1">
                <a:moveTo>
                  <a:pt x="0" y="0"/>
                </a:moveTo>
                <a:lnTo>
                  <a:pt x="308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73600" y="5657760"/>
            <a:ext cx="4911480" cy="3240"/>
          </a:xfrm>
          <a:custGeom>
            <a:avLst/>
            <a:gdLst/>
            <a:ahLst/>
            <a:rect l="l" t="t" r="r" b="b"/>
            <a:pathLst>
              <a:path w="3094" h="2">
                <a:moveTo>
                  <a:pt x="0" y="2"/>
                </a:moveTo>
                <a:lnTo>
                  <a:pt x="309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73600" y="5373720"/>
            <a:ext cx="4968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76840" y="508320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70360" y="479592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63880" y="450216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35440" y="4195800"/>
            <a:ext cx="4952880" cy="25200"/>
          </a:xfrm>
          <a:custGeom>
            <a:avLst/>
            <a:gdLst/>
            <a:ahLst/>
            <a:rect l="l" t="t" r="r" b="b"/>
            <a:pathLst>
              <a:path w="3120" h="16">
                <a:moveTo>
                  <a:pt x="0" y="16"/>
                </a:moveTo>
                <a:lnTo>
                  <a:pt x="312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35440" y="3886200"/>
            <a:ext cx="4952880" cy="1440"/>
          </a:xfrm>
          <a:custGeom>
            <a:avLst/>
            <a:gdLst/>
            <a:ahLst/>
            <a:rect l="l" t="t" r="r" b="b"/>
            <a:pathLst>
              <a:path w="3120" h="1">
                <a:moveTo>
                  <a:pt x="0" y="0"/>
                </a:moveTo>
                <a:lnTo>
                  <a:pt x="312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6680" y="3306600"/>
            <a:ext cx="484488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76840" y="274788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857760" y="246852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63880" y="2189160"/>
            <a:ext cx="4934160" cy="6480"/>
          </a:xfrm>
          <a:custGeom>
            <a:avLst/>
            <a:gdLst/>
            <a:ahLst/>
            <a:rect l="l" t="t" r="r" b="b"/>
            <a:pathLst>
              <a:path w="3108" h="4">
                <a:moveTo>
                  <a:pt x="0" y="0"/>
                </a:moveTo>
                <a:lnTo>
                  <a:pt x="3108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7760" y="1916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70360" y="1636560"/>
            <a:ext cx="4927680" cy="1800"/>
          </a:xfrm>
          <a:custGeom>
            <a:avLst/>
            <a:gdLst/>
            <a:ahLst/>
            <a:rect l="l" t="t" r="r" b="b"/>
            <a:pathLst>
              <a:path w="3104" h="1">
                <a:moveTo>
                  <a:pt x="0" y="0"/>
                </a:moveTo>
                <a:lnTo>
                  <a:pt x="310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82960" y="1357200"/>
            <a:ext cx="4908600" cy="12960"/>
          </a:xfrm>
          <a:custGeom>
            <a:avLst/>
            <a:gdLst/>
            <a:ahLst/>
            <a:rect l="l" t="t" r="r" b="b"/>
            <a:pathLst>
              <a:path w="3092" h="8">
                <a:moveTo>
                  <a:pt x="0" y="8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95560" y="1065240"/>
            <a:ext cx="4902480" cy="19080"/>
          </a:xfrm>
          <a:custGeom>
            <a:avLst/>
            <a:gdLst/>
            <a:ahLst/>
            <a:rect l="l" t="t" r="r" b="b"/>
            <a:pathLst>
              <a:path w="3088" h="12">
                <a:moveTo>
                  <a:pt x="0" y="0"/>
                </a:moveTo>
                <a:lnTo>
                  <a:pt x="3088" y="1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798040" y="1090440"/>
            <a:ext cx="1440" cy="4978440"/>
          </a:xfrm>
          <a:custGeom>
            <a:avLst/>
            <a:gdLst/>
            <a:ahLst/>
            <a:rect l="l" t="t" r="r" b="b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486640" y="1077840"/>
            <a:ext cx="6480" cy="503568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75600" y="1125360"/>
            <a:ext cx="6480" cy="5029200"/>
          </a:xfrm>
          <a:custGeom>
            <a:avLst/>
            <a:gdLst/>
            <a:ahLst/>
            <a:rect l="l" t="t" r="r" b="b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70680" y="1077840"/>
            <a:ext cx="1800" cy="5016600"/>
          </a:xfrm>
          <a:custGeom>
            <a:avLst/>
            <a:gdLst/>
            <a:ahLst/>
            <a:rect l="l" t="t" r="r" b="b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9640" y="1071720"/>
            <a:ext cx="6480" cy="503532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1065240"/>
            <a:ext cx="21960" cy="5065560"/>
          </a:xfrm>
          <a:custGeom>
            <a:avLst/>
            <a:gdLst/>
            <a:ahLst/>
            <a:rect l="l" t="t" r="r" b="b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943680" y="1090440"/>
            <a:ext cx="6480" cy="5016600"/>
          </a:xfrm>
          <a:custGeom>
            <a:avLst/>
            <a:gdLst/>
            <a:ahLst/>
            <a:rect l="l" t="t" r="r" b="b"/>
            <a:pathLst>
              <a:path w="4" h="3160">
                <a:moveTo>
                  <a:pt x="4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54960" y="1092240"/>
            <a:ext cx="1440" cy="5054400"/>
          </a:xfrm>
          <a:custGeom>
            <a:avLst/>
            <a:gdLst/>
            <a:ahLst/>
            <a:rect l="l" t="t" r="r" b="b"/>
            <a:pathLst>
              <a:path w="1" h="3184">
                <a:moveTo>
                  <a:pt x="0" y="0"/>
                </a:moveTo>
                <a:lnTo>
                  <a:pt x="0" y="318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16680" y="1052640"/>
            <a:ext cx="17280" cy="5078160"/>
          </a:xfrm>
          <a:custGeom>
            <a:avLst/>
            <a:gdLst/>
            <a:ahLst/>
            <a:rect l="l" t="t" r="r" b="b"/>
            <a:pathLst>
              <a:path w="11" h="3199">
                <a:moveTo>
                  <a:pt x="0" y="0"/>
                </a:moveTo>
                <a:lnTo>
                  <a:pt x="11" y="3199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11760" y="1077840"/>
            <a:ext cx="1800" cy="503568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07200" y="1084320"/>
            <a:ext cx="6120" cy="502272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089680" y="1077840"/>
            <a:ext cx="12600" cy="5023080"/>
          </a:xfrm>
          <a:custGeom>
            <a:avLst/>
            <a:gdLst/>
            <a:ahLst/>
            <a:rect l="l" t="t" r="r" b="b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91240" y="1077840"/>
            <a:ext cx="6120" cy="502308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86320" y="1077840"/>
            <a:ext cx="1440" cy="503568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75280" y="1077840"/>
            <a:ext cx="1440" cy="5023080"/>
          </a:xfrm>
          <a:custGeom>
            <a:avLst/>
            <a:gdLst/>
            <a:ahLst/>
            <a:rect l="l" t="t" r="r" b="b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24360" y="357192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1041480"/>
            <a:ext cx="25560" cy="5130720"/>
          </a:xfrm>
          <a:custGeom>
            <a:avLst/>
            <a:gdLst/>
            <a:ahLst/>
            <a:rect l="l" t="t" r="r" b="b"/>
            <a:pathLst>
              <a:path w="16" h="3232">
                <a:moveTo>
                  <a:pt x="16" y="323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16720" y="3571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442920" y="3284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96720" y="3500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013800" y="1413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986800" y="371952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01440" y="4003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400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407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4365720"/>
            <a:ext cx="1944720" cy="720720"/>
          </a:xfrm>
          <a:prstGeom prst="wedgeEllipseCallout">
            <a:avLst>
              <a:gd name="adj1" fmla="val -59796"/>
              <a:gd name="adj2" fmla="val 9845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26028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графику функции найдите  наименьшее значение функции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01440" y="3211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01080" y="4867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01440" y="5730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676840" y="906840"/>
            <a:ext cx="1905120" cy="2976840"/>
          </a:xfrm>
          <a:custGeom>
            <a:avLst/>
            <a:gdLst/>
            <a:ahLst/>
            <a:rect l="l" t="t" r="r" b="b"/>
            <a:pathLst>
              <a:path w="1200" h="1875">
                <a:moveTo>
                  <a:pt x="0" y="1875"/>
                </a:moveTo>
                <a:cubicBezTo>
                  <a:pt x="37" y="1683"/>
                  <a:pt x="152" y="992"/>
                  <a:pt x="224" y="707"/>
                </a:cubicBezTo>
                <a:cubicBezTo>
                  <a:pt x="296" y="422"/>
                  <a:pt x="368" y="280"/>
                  <a:pt x="432" y="163"/>
                </a:cubicBezTo>
                <a:cubicBezTo>
                  <a:pt x="496" y="46"/>
                  <a:pt x="547" y="0"/>
                  <a:pt x="608" y="3"/>
                </a:cubicBezTo>
                <a:cubicBezTo>
                  <a:pt x="669" y="6"/>
                  <a:pt x="736" y="65"/>
                  <a:pt x="800" y="179"/>
                </a:cubicBezTo>
                <a:cubicBezTo>
                  <a:pt x="864" y="293"/>
                  <a:pt x="925" y="416"/>
                  <a:pt x="992" y="691"/>
                </a:cubicBezTo>
                <a:cubicBezTo>
                  <a:pt x="1059" y="966"/>
                  <a:pt x="1157" y="1590"/>
                  <a:pt x="1200" y="1827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627280" y="2924280"/>
            <a:ext cx="216072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68360" y="3645000"/>
            <a:ext cx="2160720" cy="57600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484360" y="5877000"/>
            <a:ext cx="2232000" cy="64908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300720" y="1066680"/>
            <a:ext cx="71640" cy="2865600"/>
            <a:chOff x="6300720" y="1066680"/>
            <a:chExt cx="71640" cy="2865600"/>
          </a:xfrm>
        </p:grpSpPr>
        <p:sp>
          <p:nvSpPr>
            <p:cNvPr id="219" name=""/>
            <p:cNvSpPr/>
            <p:nvPr/>
          </p:nvSpPr>
          <p:spPr>
            <a:xfrm>
              <a:off x="6324480" y="1066680"/>
              <a:ext cx="25560" cy="2793960"/>
            </a:xfrm>
            <a:custGeom>
              <a:avLst/>
              <a:gdLst/>
              <a:ahLst/>
              <a:rect l="l" t="t" r="r" b="b"/>
              <a:pathLst>
                <a:path w="16" h="1760">
                  <a:moveTo>
                    <a:pt x="16" y="176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00720" y="3860640"/>
              <a:ext cx="71640" cy="7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250920" y="1700280"/>
                <a:ext cx="360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2" name=""/>
          <p:cNvGrpSpPr/>
          <p:nvPr/>
        </p:nvGrpSpPr>
        <p:grpSpPr>
          <a:xfrm>
            <a:off x="2340000" y="2276640"/>
            <a:ext cx="504720" cy="72360"/>
            <a:chOff x="2340000" y="2276640"/>
            <a:chExt cx="504720" cy="72360"/>
          </a:xfrm>
        </p:grpSpPr>
        <p:sp>
          <p:nvSpPr>
            <p:cNvPr id="223" name=""/>
            <p:cNvSpPr/>
            <p:nvPr/>
          </p:nvSpPr>
          <p:spPr>
            <a:xfrm>
              <a:off x="2340000" y="2276640"/>
              <a:ext cx="5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2320" y="2347920"/>
              <a:ext cx="482400" cy="108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6375240" y="3873600"/>
            <a:ext cx="304920" cy="12600"/>
          </a:xfrm>
          <a:custGeom>
            <a:avLst/>
            <a:gdLst/>
            <a:ahLst/>
            <a:rect l="l" t="t" r="r" b="b"/>
            <a:pathLst>
              <a:path w="192" h="8">
                <a:moveTo>
                  <a:pt x="192" y="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676840" y="909720"/>
            <a:ext cx="1905120" cy="2975040"/>
          </a:xfrm>
          <a:custGeom>
            <a:avLst/>
            <a:gdLst/>
            <a:ahLst/>
            <a:rect l="l" t="t" r="r" b="b"/>
            <a:pathLst>
              <a:path w="1200" h="1874">
                <a:moveTo>
                  <a:pt x="0" y="0"/>
                </a:moveTo>
                <a:cubicBezTo>
                  <a:pt x="37" y="192"/>
                  <a:pt x="152" y="885"/>
                  <a:pt x="224" y="1168"/>
                </a:cubicBezTo>
                <a:cubicBezTo>
                  <a:pt x="296" y="1451"/>
                  <a:pt x="364" y="1584"/>
                  <a:pt x="430" y="1701"/>
                </a:cubicBezTo>
                <a:cubicBezTo>
                  <a:pt x="496" y="1818"/>
                  <a:pt x="556" y="1874"/>
                  <a:pt x="618" y="1873"/>
                </a:cubicBezTo>
                <a:cubicBezTo>
                  <a:pt x="680" y="1872"/>
                  <a:pt x="738" y="1815"/>
                  <a:pt x="800" y="1696"/>
                </a:cubicBezTo>
                <a:cubicBezTo>
                  <a:pt x="862" y="1577"/>
                  <a:pt x="923" y="1436"/>
                  <a:pt x="990" y="1161"/>
                </a:cubicBezTo>
                <a:cubicBezTo>
                  <a:pt x="1057" y="886"/>
                  <a:pt x="1156" y="280"/>
                  <a:pt x="1200" y="48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37440" y="2746440"/>
            <a:ext cx="911160" cy="1146240"/>
          </a:xfrm>
          <a:custGeom>
            <a:avLst/>
            <a:gdLst/>
            <a:ahLst/>
            <a:rect l="l" t="t" r="r" b="b"/>
            <a:pathLst>
              <a:path w="574" h="722">
                <a:moveTo>
                  <a:pt x="0" y="510"/>
                </a:moveTo>
                <a:cubicBezTo>
                  <a:pt x="13" y="531"/>
                  <a:pt x="46" y="601"/>
                  <a:pt x="78" y="636"/>
                </a:cubicBezTo>
                <a:cubicBezTo>
                  <a:pt x="110" y="671"/>
                  <a:pt x="148" y="722"/>
                  <a:pt x="192" y="718"/>
                </a:cubicBezTo>
                <a:cubicBezTo>
                  <a:pt x="236" y="714"/>
                  <a:pt x="293" y="674"/>
                  <a:pt x="340" y="611"/>
                </a:cubicBezTo>
                <a:cubicBezTo>
                  <a:pt x="387" y="548"/>
                  <a:pt x="437" y="441"/>
                  <a:pt x="476" y="339"/>
                </a:cubicBezTo>
                <a:cubicBezTo>
                  <a:pt x="515" y="237"/>
                  <a:pt x="554" y="71"/>
                  <a:pt x="574" y="0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70360" y="1065240"/>
            <a:ext cx="3240" cy="5035680"/>
          </a:xfrm>
          <a:custGeom>
            <a:avLst/>
            <a:gdLst/>
            <a:ahLst/>
            <a:rect l="l" t="t" r="r" b="b"/>
            <a:pathLst>
              <a:path w="2" h="3172">
                <a:moveTo>
                  <a:pt x="0" y="0"/>
                </a:moveTo>
                <a:lnTo>
                  <a:pt x="2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46680" y="3024360"/>
            <a:ext cx="4857480" cy="2880"/>
          </a:xfrm>
          <a:custGeom>
            <a:avLst/>
            <a:gdLst/>
            <a:ahLst/>
            <a:rect l="l" t="t" r="r" b="b"/>
            <a:pathLst>
              <a:path w="3060" h="2">
                <a:moveTo>
                  <a:pt x="0" y="0"/>
                </a:moveTo>
                <a:lnTo>
                  <a:pt x="3060" y="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9440" y="5948280"/>
            <a:ext cx="4902120" cy="1800"/>
          </a:xfrm>
          <a:custGeom>
            <a:avLst/>
            <a:gdLst/>
            <a:ahLst/>
            <a:rect l="l" t="t" r="r" b="b"/>
            <a:pathLst>
              <a:path w="3088" h="1">
                <a:moveTo>
                  <a:pt x="0" y="0"/>
                </a:moveTo>
                <a:lnTo>
                  <a:pt x="3088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73600" y="5657760"/>
            <a:ext cx="4911480" cy="3240"/>
          </a:xfrm>
          <a:custGeom>
            <a:avLst/>
            <a:gdLst/>
            <a:ahLst/>
            <a:rect l="l" t="t" r="r" b="b"/>
            <a:pathLst>
              <a:path w="3094" h="2">
                <a:moveTo>
                  <a:pt x="0" y="2"/>
                </a:moveTo>
                <a:lnTo>
                  <a:pt x="309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73600" y="5373720"/>
            <a:ext cx="49687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76840" y="5083200"/>
            <a:ext cx="4914720" cy="1440"/>
          </a:xfrm>
          <a:custGeom>
            <a:avLst/>
            <a:gdLst/>
            <a:ahLst/>
            <a:rect l="l" t="t" r="r" b="b"/>
            <a:pathLst>
              <a:path w="3096" h="1">
                <a:moveTo>
                  <a:pt x="0" y="0"/>
                </a:moveTo>
                <a:lnTo>
                  <a:pt x="3096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70360" y="4795920"/>
            <a:ext cx="4908600" cy="1440"/>
          </a:xfrm>
          <a:custGeom>
            <a:avLst/>
            <a:gdLst/>
            <a:ahLst/>
            <a:rect l="l" t="t" r="r" b="b"/>
            <a:pathLst>
              <a:path w="3092" h="1">
                <a:moveTo>
                  <a:pt x="0" y="0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63880" y="4502160"/>
            <a:ext cx="4921200" cy="6480"/>
          </a:xfrm>
          <a:custGeom>
            <a:avLst/>
            <a:gdLst/>
            <a:ahLst/>
            <a:rect l="l" t="t" r="r" b="b"/>
            <a:pathLst>
              <a:path w="3100" h="4">
                <a:moveTo>
                  <a:pt x="0" y="4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35440" y="4195800"/>
            <a:ext cx="4952880" cy="25200"/>
          </a:xfrm>
          <a:custGeom>
            <a:avLst/>
            <a:gdLst/>
            <a:ahLst/>
            <a:rect l="l" t="t" r="r" b="b"/>
            <a:pathLst>
              <a:path w="3120" h="16">
                <a:moveTo>
                  <a:pt x="0" y="16"/>
                </a:moveTo>
                <a:lnTo>
                  <a:pt x="312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35440" y="3886200"/>
            <a:ext cx="4952880" cy="1440"/>
          </a:xfrm>
          <a:custGeom>
            <a:avLst/>
            <a:gdLst/>
            <a:ahLst/>
            <a:rect l="l" t="t" r="r" b="b"/>
            <a:pathLst>
              <a:path w="3120" h="1">
                <a:moveTo>
                  <a:pt x="0" y="0"/>
                </a:moveTo>
                <a:lnTo>
                  <a:pt x="312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946680" y="3306600"/>
            <a:ext cx="4844880" cy="6480"/>
          </a:xfrm>
          <a:custGeom>
            <a:avLst/>
            <a:gdLst/>
            <a:ahLst/>
            <a:rect l="l" t="t" r="r" b="b"/>
            <a:pathLst>
              <a:path w="3052" h="4">
                <a:moveTo>
                  <a:pt x="0" y="4"/>
                </a:moveTo>
                <a:lnTo>
                  <a:pt x="305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76840" y="2747880"/>
            <a:ext cx="4921200" cy="1800"/>
          </a:xfrm>
          <a:custGeom>
            <a:avLst/>
            <a:gdLst/>
            <a:ahLst/>
            <a:rect l="l" t="t" r="r" b="b"/>
            <a:pathLst>
              <a:path w="3100" h="1">
                <a:moveTo>
                  <a:pt x="0" y="0"/>
                </a:moveTo>
                <a:lnTo>
                  <a:pt x="3100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857760" y="2468520"/>
            <a:ext cx="4940280" cy="648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63880" y="2189160"/>
            <a:ext cx="4934160" cy="6480"/>
          </a:xfrm>
          <a:custGeom>
            <a:avLst/>
            <a:gdLst/>
            <a:ahLst/>
            <a:rect l="l" t="t" r="r" b="b"/>
            <a:pathLst>
              <a:path w="3108" h="4">
                <a:moveTo>
                  <a:pt x="0" y="0"/>
                </a:moveTo>
                <a:lnTo>
                  <a:pt x="3108" y="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57760" y="1916280"/>
            <a:ext cx="4940280" cy="6120"/>
          </a:xfrm>
          <a:custGeom>
            <a:avLst/>
            <a:gdLst/>
            <a:ahLst/>
            <a:rect l="l" t="t" r="r" b="b"/>
            <a:pathLst>
              <a:path w="3112" h="4">
                <a:moveTo>
                  <a:pt x="0" y="4"/>
                </a:moveTo>
                <a:lnTo>
                  <a:pt x="311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70360" y="1636560"/>
            <a:ext cx="4927680" cy="1800"/>
          </a:xfrm>
          <a:custGeom>
            <a:avLst/>
            <a:gdLst/>
            <a:ahLst/>
            <a:rect l="l" t="t" r="r" b="b"/>
            <a:pathLst>
              <a:path w="3104" h="1">
                <a:moveTo>
                  <a:pt x="0" y="0"/>
                </a:moveTo>
                <a:lnTo>
                  <a:pt x="3104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2960" y="1357200"/>
            <a:ext cx="4908600" cy="12960"/>
          </a:xfrm>
          <a:custGeom>
            <a:avLst/>
            <a:gdLst/>
            <a:ahLst/>
            <a:rect l="l" t="t" r="r" b="b"/>
            <a:pathLst>
              <a:path w="3092" h="8">
                <a:moveTo>
                  <a:pt x="0" y="8"/>
                </a:moveTo>
                <a:lnTo>
                  <a:pt x="3092" y="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95560" y="1065240"/>
            <a:ext cx="4902480" cy="19080"/>
          </a:xfrm>
          <a:custGeom>
            <a:avLst/>
            <a:gdLst/>
            <a:ahLst/>
            <a:rect l="l" t="t" r="r" b="b"/>
            <a:pathLst>
              <a:path w="3088" h="12">
                <a:moveTo>
                  <a:pt x="0" y="0"/>
                </a:moveTo>
                <a:lnTo>
                  <a:pt x="3088" y="1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798040" y="1090440"/>
            <a:ext cx="1440" cy="4978440"/>
          </a:xfrm>
          <a:custGeom>
            <a:avLst/>
            <a:gdLst/>
            <a:ahLst/>
            <a:rect l="l" t="t" r="r" b="b"/>
            <a:pathLst>
              <a:path w="1" h="3136">
                <a:moveTo>
                  <a:pt x="0" y="0"/>
                </a:moveTo>
                <a:lnTo>
                  <a:pt x="0" y="3136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86640" y="1077840"/>
            <a:ext cx="6480" cy="503568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175600" y="1125360"/>
            <a:ext cx="6480" cy="5029200"/>
          </a:xfrm>
          <a:custGeom>
            <a:avLst/>
            <a:gdLst/>
            <a:ahLst/>
            <a:rect l="l" t="t" r="r" b="b"/>
            <a:pathLst>
              <a:path w="4" h="3168">
                <a:moveTo>
                  <a:pt x="4" y="0"/>
                </a:moveTo>
                <a:lnTo>
                  <a:pt x="0" y="3168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70680" y="1077840"/>
            <a:ext cx="1800" cy="5016600"/>
          </a:xfrm>
          <a:custGeom>
            <a:avLst/>
            <a:gdLst/>
            <a:ahLst/>
            <a:rect l="l" t="t" r="r" b="b"/>
            <a:pathLst>
              <a:path w="1" h="3160">
                <a:moveTo>
                  <a:pt x="0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59640" y="1071720"/>
            <a:ext cx="6480" cy="5035320"/>
          </a:xfrm>
          <a:custGeom>
            <a:avLst/>
            <a:gdLst/>
            <a:ahLst/>
            <a:rect l="l" t="t" r="r" b="b"/>
            <a:pathLst>
              <a:path w="4" h="3172">
                <a:moveTo>
                  <a:pt x="4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1065240"/>
            <a:ext cx="21960" cy="5065560"/>
          </a:xfrm>
          <a:custGeom>
            <a:avLst/>
            <a:gdLst/>
            <a:ahLst/>
            <a:rect l="l" t="t" r="r" b="b"/>
            <a:pathLst>
              <a:path w="14" h="3191">
                <a:moveTo>
                  <a:pt x="0" y="0"/>
                </a:moveTo>
                <a:lnTo>
                  <a:pt x="14" y="3191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3680" y="1090440"/>
            <a:ext cx="6480" cy="5016600"/>
          </a:xfrm>
          <a:custGeom>
            <a:avLst/>
            <a:gdLst/>
            <a:ahLst/>
            <a:rect l="l" t="t" r="r" b="b"/>
            <a:pathLst>
              <a:path w="4" h="3160">
                <a:moveTo>
                  <a:pt x="4" y="0"/>
                </a:moveTo>
                <a:lnTo>
                  <a:pt x="0" y="3160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54960" y="1092240"/>
            <a:ext cx="1440" cy="5054400"/>
          </a:xfrm>
          <a:custGeom>
            <a:avLst/>
            <a:gdLst/>
            <a:ahLst/>
            <a:rect l="l" t="t" r="r" b="b"/>
            <a:pathLst>
              <a:path w="1" h="3184">
                <a:moveTo>
                  <a:pt x="0" y="0"/>
                </a:moveTo>
                <a:lnTo>
                  <a:pt x="0" y="318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16680" y="1052640"/>
            <a:ext cx="17280" cy="5078160"/>
          </a:xfrm>
          <a:custGeom>
            <a:avLst/>
            <a:gdLst/>
            <a:ahLst/>
            <a:rect l="l" t="t" r="r" b="b"/>
            <a:pathLst>
              <a:path w="11" h="3199">
                <a:moveTo>
                  <a:pt x="0" y="0"/>
                </a:moveTo>
                <a:lnTo>
                  <a:pt x="11" y="3199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11760" y="1077840"/>
            <a:ext cx="1800" cy="503568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07200" y="1084320"/>
            <a:ext cx="6120" cy="502272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89680" y="1077840"/>
            <a:ext cx="12600" cy="5023080"/>
          </a:xfrm>
          <a:custGeom>
            <a:avLst/>
            <a:gdLst/>
            <a:ahLst/>
            <a:rect l="l" t="t" r="r" b="b"/>
            <a:pathLst>
              <a:path w="8" h="3164">
                <a:moveTo>
                  <a:pt x="0" y="0"/>
                </a:moveTo>
                <a:lnTo>
                  <a:pt x="8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91240" y="1077840"/>
            <a:ext cx="6120" cy="5023080"/>
          </a:xfrm>
          <a:custGeom>
            <a:avLst/>
            <a:gdLst/>
            <a:ahLst/>
            <a:rect l="l" t="t" r="r" b="b"/>
            <a:pathLst>
              <a:path w="4" h="3164">
                <a:moveTo>
                  <a:pt x="4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86320" y="1077840"/>
            <a:ext cx="1440" cy="5035680"/>
          </a:xfrm>
          <a:custGeom>
            <a:avLst/>
            <a:gdLst/>
            <a:ahLst/>
            <a:rect l="l" t="t" r="r" b="b"/>
            <a:pathLst>
              <a:path w="1" h="3172">
                <a:moveTo>
                  <a:pt x="0" y="0"/>
                </a:moveTo>
                <a:lnTo>
                  <a:pt x="0" y="3172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75280" y="1077840"/>
            <a:ext cx="1440" cy="5023080"/>
          </a:xfrm>
          <a:custGeom>
            <a:avLst/>
            <a:gdLst/>
            <a:ahLst/>
            <a:rect l="l" t="t" r="r" b="b"/>
            <a:pathLst>
              <a:path w="1" h="3164">
                <a:moveTo>
                  <a:pt x="0" y="0"/>
                </a:moveTo>
                <a:lnTo>
                  <a:pt x="0" y="3164"/>
                </a:lnTo>
              </a:path>
            </a:pathLst>
          </a:custGeom>
          <a:noFill/>
          <a:ln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24360" y="3571920"/>
            <a:ext cx="4897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041480"/>
            <a:ext cx="25560" cy="5130720"/>
          </a:xfrm>
          <a:custGeom>
            <a:avLst/>
            <a:gdLst/>
            <a:ahLst/>
            <a:rect l="l" t="t" r="r" b="b"/>
            <a:pathLst>
              <a:path w="16" h="3232">
                <a:moveTo>
                  <a:pt x="16" y="3232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442920" y="3284640"/>
            <a:ext cx="215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  2   3  4   5   6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96720" y="350028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 -6 -5 -4  -3  -2 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13800" y="1413000"/>
            <a:ext cx="307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86800" y="3719520"/>
            <a:ext cx="38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1440" y="4003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4941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4000" y="40766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2130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57308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619280" y="4365720"/>
            <a:ext cx="1944720" cy="720720"/>
          </a:xfrm>
          <a:prstGeom prst="wedgeEllipseCallout">
            <a:avLst>
              <a:gd name="adj1" fmla="val -59796"/>
              <a:gd name="adj2" fmla="val 9845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50920" y="260280"/>
            <a:ext cx="8642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графику функции найдите  наименьшее значение функции на отрезк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0; 3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1440" y="32115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1080" y="486720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1440" y="573084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627280" y="2924280"/>
            <a:ext cx="2160720" cy="57600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3645000"/>
            <a:ext cx="2160720" cy="57600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84360" y="5877000"/>
            <a:ext cx="2232000" cy="64908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955800" y="1700280"/>
                <a:ext cx="21891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3" name=""/>
          <p:cNvGrpSpPr/>
          <p:nvPr/>
        </p:nvGrpSpPr>
        <p:grpSpPr>
          <a:xfrm>
            <a:off x="2050920" y="2276640"/>
            <a:ext cx="504720" cy="72360"/>
            <a:chOff x="2050920" y="2276640"/>
            <a:chExt cx="504720" cy="72360"/>
          </a:xfrm>
        </p:grpSpPr>
        <p:sp>
          <p:nvSpPr>
            <p:cNvPr id="284" name=""/>
            <p:cNvSpPr/>
            <p:nvPr/>
          </p:nvSpPr>
          <p:spPr>
            <a:xfrm>
              <a:off x="2050920" y="2276640"/>
              <a:ext cx="503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073240" y="2347920"/>
              <a:ext cx="482400" cy="108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6311880" y="3556080"/>
            <a:ext cx="924120" cy="19080"/>
          </a:xfrm>
          <a:custGeom>
            <a:avLst/>
            <a:gdLst/>
            <a:ahLst/>
            <a:rect l="l" t="t" r="r" b="b"/>
            <a:pathLst>
              <a:path w="582" h="12">
                <a:moveTo>
                  <a:pt x="0" y="0"/>
                </a:moveTo>
                <a:lnTo>
                  <a:pt x="582" y="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350040" y="3886200"/>
            <a:ext cx="304920" cy="12600"/>
          </a:xfrm>
          <a:custGeom>
            <a:avLst/>
            <a:gdLst/>
            <a:ahLst/>
            <a:rect l="l" t="t" r="r" b="b"/>
            <a:pathLst>
              <a:path w="192" h="8">
                <a:moveTo>
                  <a:pt x="192" y="8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cc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6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6500"/>
                            </p:stCondLst>
                            <p:childTnLst>
                              <p:par>
                                <p:cTn id="17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5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87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3780000" y="1052640"/>
            <a:ext cx="5062320" cy="5078160"/>
            <a:chOff x="3780000" y="1052640"/>
            <a:chExt cx="5062320" cy="5078160"/>
          </a:xfrm>
        </p:grpSpPr>
        <p:grpSp>
          <p:nvGrpSpPr>
            <p:cNvPr id="289" name=""/>
            <p:cNvGrpSpPr/>
            <p:nvPr/>
          </p:nvGrpSpPr>
          <p:grpSpPr>
            <a:xfrm>
              <a:off x="3851280" y="1052640"/>
              <a:ext cx="4991040" cy="5078160"/>
              <a:chOff x="3851280" y="1052640"/>
              <a:chExt cx="4991040" cy="5078160"/>
            </a:xfrm>
          </p:grpSpPr>
          <p:sp>
            <p:nvSpPr>
              <p:cNvPr id="290" name=""/>
              <p:cNvSpPr/>
              <p:nvPr/>
            </p:nvSpPr>
            <p:spPr>
              <a:xfrm>
                <a:off x="3870360" y="1064880"/>
                <a:ext cx="3240" cy="5035320"/>
              </a:xfrm>
              <a:custGeom>
                <a:avLst/>
                <a:gdLst/>
                <a:ahLst/>
                <a:rect l="l" t="t" r="r" b="b"/>
                <a:pathLst>
                  <a:path w="2" h="3172">
                    <a:moveTo>
                      <a:pt x="0" y="0"/>
                    </a:moveTo>
                    <a:lnTo>
                      <a:pt x="2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946680" y="3024000"/>
                <a:ext cx="4857840" cy="2880"/>
              </a:xfrm>
              <a:custGeom>
                <a:avLst/>
                <a:gdLst/>
                <a:ahLst/>
                <a:rect l="l" t="t" r="r" b="b"/>
                <a:pathLst>
                  <a:path w="3060" h="2">
                    <a:moveTo>
                      <a:pt x="0" y="0"/>
                    </a:moveTo>
                    <a:lnTo>
                      <a:pt x="3060" y="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889440" y="5821200"/>
                <a:ext cx="4902120" cy="1080"/>
              </a:xfrm>
              <a:custGeom>
                <a:avLst/>
                <a:gdLst/>
                <a:ahLst/>
                <a:rect l="l" t="t" r="r" b="b"/>
                <a:pathLst>
                  <a:path w="3088" h="1">
                    <a:moveTo>
                      <a:pt x="0" y="0"/>
                    </a:moveTo>
                    <a:lnTo>
                      <a:pt x="308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73600" y="5541840"/>
                <a:ext cx="4911840" cy="2880"/>
              </a:xfrm>
              <a:custGeom>
                <a:avLst/>
                <a:gdLst/>
                <a:ahLst/>
                <a:rect l="l" t="t" r="r" b="b"/>
                <a:pathLst>
                  <a:path w="3094" h="2">
                    <a:moveTo>
                      <a:pt x="0" y="2"/>
                    </a:moveTo>
                    <a:lnTo>
                      <a:pt x="309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73600" y="5257440"/>
                <a:ext cx="496872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76840" y="4983120"/>
                <a:ext cx="4914720" cy="1080"/>
              </a:xfrm>
              <a:custGeom>
                <a:avLst/>
                <a:gdLst/>
                <a:ahLst/>
                <a:rect l="l" t="t" r="r" b="b"/>
                <a:pathLst>
                  <a:path w="3096" h="1">
                    <a:moveTo>
                      <a:pt x="0" y="0"/>
                    </a:moveTo>
                    <a:lnTo>
                      <a:pt x="309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70360" y="4703400"/>
                <a:ext cx="4908600" cy="1440"/>
              </a:xfrm>
              <a:custGeom>
                <a:avLst/>
                <a:gdLst/>
                <a:ahLst/>
                <a:rect l="l" t="t" r="r" b="b"/>
                <a:pathLst>
                  <a:path w="3092" h="1">
                    <a:moveTo>
                      <a:pt x="0" y="0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64240" y="4417920"/>
                <a:ext cx="4921200" cy="5760"/>
              </a:xfrm>
              <a:custGeom>
                <a:avLst/>
                <a:gdLst/>
                <a:ahLst/>
                <a:rect l="l" t="t" r="r" b="b"/>
                <a:pathLst>
                  <a:path w="3100" h="4">
                    <a:moveTo>
                      <a:pt x="0" y="4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64240" y="4138560"/>
                <a:ext cx="4933800" cy="12240"/>
              </a:xfrm>
              <a:custGeom>
                <a:avLst/>
                <a:gdLst/>
                <a:ahLst/>
                <a:rect l="l" t="t" r="r" b="b"/>
                <a:pathLst>
                  <a:path w="3108" h="8">
                    <a:moveTo>
                      <a:pt x="0" y="8"/>
                    </a:moveTo>
                    <a:lnTo>
                      <a:pt x="310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51280" y="3859200"/>
                <a:ext cx="4946760" cy="5760"/>
              </a:xfrm>
              <a:custGeom>
                <a:avLst/>
                <a:gdLst/>
                <a:ahLst/>
                <a:rect l="l" t="t" r="r" b="b"/>
                <a:pathLst>
                  <a:path w="3116" h="4">
                    <a:moveTo>
                      <a:pt x="0" y="0"/>
                    </a:moveTo>
                    <a:lnTo>
                      <a:pt x="3116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946680" y="3306600"/>
                <a:ext cx="4844880" cy="6120"/>
              </a:xfrm>
              <a:custGeom>
                <a:avLst/>
                <a:gdLst/>
                <a:ahLst/>
                <a:rect l="l" t="t" r="r" b="b"/>
                <a:pathLst>
                  <a:path w="3052" h="4">
                    <a:moveTo>
                      <a:pt x="0" y="4"/>
                    </a:moveTo>
                    <a:lnTo>
                      <a:pt x="305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76840" y="2747880"/>
                <a:ext cx="4921200" cy="1080"/>
              </a:xfrm>
              <a:custGeom>
                <a:avLst/>
                <a:gdLst/>
                <a:ahLst/>
                <a:rect l="l" t="t" r="r" b="b"/>
                <a:pathLst>
                  <a:path w="3100" h="1">
                    <a:moveTo>
                      <a:pt x="0" y="0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57760" y="2468520"/>
                <a:ext cx="4940280" cy="576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64240" y="2188800"/>
                <a:ext cx="4933800" cy="6120"/>
              </a:xfrm>
              <a:custGeom>
                <a:avLst/>
                <a:gdLst/>
                <a:ahLst/>
                <a:rect l="l" t="t" r="r" b="b"/>
                <a:pathLst>
                  <a:path w="3108" h="4">
                    <a:moveTo>
                      <a:pt x="0" y="0"/>
                    </a:moveTo>
                    <a:lnTo>
                      <a:pt x="3108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857760" y="1915920"/>
                <a:ext cx="4940280" cy="612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70360" y="1636560"/>
                <a:ext cx="4927680" cy="1080"/>
              </a:xfrm>
              <a:custGeom>
                <a:avLst/>
                <a:gdLst/>
                <a:ahLst/>
                <a:rect l="l" t="t" r="r" b="b"/>
                <a:pathLst>
                  <a:path w="3104" h="1">
                    <a:moveTo>
                      <a:pt x="0" y="0"/>
                    </a:moveTo>
                    <a:lnTo>
                      <a:pt x="310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82960" y="1357200"/>
                <a:ext cx="4908600" cy="12240"/>
              </a:xfrm>
              <a:custGeom>
                <a:avLst/>
                <a:gdLst/>
                <a:ahLst/>
                <a:rect l="l" t="t" r="r" b="b"/>
                <a:pathLst>
                  <a:path w="3092" h="8">
                    <a:moveTo>
                      <a:pt x="0" y="8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895920" y="1064880"/>
                <a:ext cx="4902120" cy="18720"/>
              </a:xfrm>
              <a:custGeom>
                <a:avLst/>
                <a:gdLst/>
                <a:ahLst/>
                <a:rect l="l" t="t" r="r" b="b"/>
                <a:pathLst>
                  <a:path w="3088" h="12">
                    <a:moveTo>
                      <a:pt x="0" y="0"/>
                    </a:moveTo>
                    <a:lnTo>
                      <a:pt x="3088" y="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57760" y="6100560"/>
                <a:ext cx="4946760" cy="1080"/>
              </a:xfrm>
              <a:custGeom>
                <a:avLst/>
                <a:gdLst/>
                <a:ahLst/>
                <a:rect l="l" t="t" r="r" b="b"/>
                <a:pathLst>
                  <a:path w="3116" h="1">
                    <a:moveTo>
                      <a:pt x="0" y="0"/>
                    </a:moveTo>
                    <a:lnTo>
                      <a:pt x="311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798040" y="1090440"/>
                <a:ext cx="1440" cy="4978080"/>
              </a:xfrm>
              <a:custGeom>
                <a:avLst/>
                <a:gdLst/>
                <a:ahLst/>
                <a:rect l="l" t="t" r="r" b="b"/>
                <a:pathLst>
                  <a:path w="1" h="3136">
                    <a:moveTo>
                      <a:pt x="0" y="0"/>
                    </a:moveTo>
                    <a:lnTo>
                      <a:pt x="0" y="3136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8487000" y="1077840"/>
                <a:ext cx="6120" cy="503496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8175600" y="1077840"/>
                <a:ext cx="6480" cy="5028840"/>
              </a:xfrm>
              <a:custGeom>
                <a:avLst/>
                <a:gdLst/>
                <a:ahLst/>
                <a:rect l="l" t="t" r="r" b="b"/>
                <a:pathLst>
                  <a:path w="4" h="3168">
                    <a:moveTo>
                      <a:pt x="4" y="0"/>
                    </a:moveTo>
                    <a:lnTo>
                      <a:pt x="0" y="3168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871040" y="1077840"/>
                <a:ext cx="1440" cy="5015880"/>
              </a:xfrm>
              <a:custGeom>
                <a:avLst/>
                <a:gdLst/>
                <a:ahLst/>
                <a:rect l="l" t="t" r="r" b="b"/>
                <a:pathLst>
                  <a:path w="1" h="3160">
                    <a:moveTo>
                      <a:pt x="0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559640" y="1071360"/>
                <a:ext cx="6480" cy="503532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236000" y="1064880"/>
                <a:ext cx="22320" cy="5065560"/>
              </a:xfrm>
              <a:custGeom>
                <a:avLst/>
                <a:gdLst/>
                <a:ahLst/>
                <a:rect l="l" t="t" r="r" b="b"/>
                <a:pathLst>
                  <a:path w="14" h="3191">
                    <a:moveTo>
                      <a:pt x="0" y="0"/>
                    </a:moveTo>
                    <a:lnTo>
                      <a:pt x="14" y="3191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943680" y="1090440"/>
                <a:ext cx="6480" cy="5016240"/>
              </a:xfrm>
              <a:custGeom>
                <a:avLst/>
                <a:gdLst/>
                <a:ahLst/>
                <a:rect l="l" t="t" r="r" b="b"/>
                <a:pathLst>
                  <a:path w="4" h="3160">
                    <a:moveTo>
                      <a:pt x="4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639120" y="1090440"/>
                <a:ext cx="1440" cy="5003280"/>
              </a:xfrm>
              <a:custGeom>
                <a:avLst/>
                <a:gdLst/>
                <a:ahLst/>
                <a:rect l="l" t="t" r="r" b="b"/>
                <a:pathLst>
                  <a:path w="1" h="3152">
                    <a:moveTo>
                      <a:pt x="0" y="0"/>
                    </a:moveTo>
                    <a:lnTo>
                      <a:pt x="0" y="315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16680" y="1052640"/>
                <a:ext cx="17640" cy="5078160"/>
              </a:xfrm>
              <a:custGeom>
                <a:avLst/>
                <a:gdLst/>
                <a:ahLst/>
                <a:rect l="l" t="t" r="r" b="b"/>
                <a:pathLst>
                  <a:path w="11" h="3199">
                    <a:moveTo>
                      <a:pt x="0" y="0"/>
                    </a:moveTo>
                    <a:lnTo>
                      <a:pt x="11" y="3199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11760" y="1077840"/>
                <a:ext cx="1800" cy="5034960"/>
              </a:xfrm>
              <a:custGeom>
                <a:avLst/>
                <a:gdLst/>
                <a:ahLst/>
                <a:rect l="l" t="t" r="r" b="b"/>
                <a:pathLst>
                  <a:path w="1" h="3172">
                    <a:moveTo>
                      <a:pt x="0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407200" y="1083960"/>
                <a:ext cx="6120" cy="5022720"/>
              </a:xfrm>
              <a:custGeom>
                <a:avLst/>
                <a:gdLst/>
                <a:ahLst/>
                <a:rect l="l" t="t" r="r" b="b"/>
                <a:pathLst>
                  <a:path w="4" h="3164">
                    <a:moveTo>
                      <a:pt x="4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089680" y="1077840"/>
                <a:ext cx="12600" cy="5022360"/>
              </a:xfrm>
              <a:custGeom>
                <a:avLst/>
                <a:gdLst/>
                <a:ahLst/>
                <a:rect l="l" t="t" r="r" b="b"/>
                <a:pathLst>
                  <a:path w="8" h="3164">
                    <a:moveTo>
                      <a:pt x="0" y="0"/>
                    </a:moveTo>
                    <a:lnTo>
                      <a:pt x="8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791240" y="1077840"/>
                <a:ext cx="6120" cy="5022360"/>
              </a:xfrm>
              <a:custGeom>
                <a:avLst/>
                <a:gdLst/>
                <a:ahLst/>
                <a:rect l="l" t="t" r="r" b="b"/>
                <a:pathLst>
                  <a:path w="4" h="3164">
                    <a:moveTo>
                      <a:pt x="4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86320" y="1077840"/>
                <a:ext cx="1800" cy="5034960"/>
              </a:xfrm>
              <a:custGeom>
                <a:avLst/>
                <a:gdLst/>
                <a:ahLst/>
                <a:rect l="l" t="t" r="r" b="b"/>
                <a:pathLst>
                  <a:path w="1" h="3172">
                    <a:moveTo>
                      <a:pt x="0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175280" y="1077840"/>
                <a:ext cx="1440" cy="5022360"/>
              </a:xfrm>
              <a:custGeom>
                <a:avLst/>
                <a:gdLst/>
                <a:ahLst/>
                <a:rect l="l" t="t" r="r" b="b"/>
                <a:pathLst>
                  <a:path w="1" h="3164">
                    <a:moveTo>
                      <a:pt x="0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3924360" y="357192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311880" y="1079640"/>
              <a:ext cx="25560" cy="5003640"/>
            </a:xfrm>
            <a:custGeom>
              <a:avLst/>
              <a:gdLst/>
              <a:ahLst/>
              <a:rect l="l" t="t" r="r" b="b"/>
              <a:pathLst>
                <a:path w="16" h="3152">
                  <a:moveTo>
                    <a:pt x="16" y="315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16720" y="3571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42920" y="3571920"/>
              <a:ext cx="21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2   3  4   5   6 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96720" y="35002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 -6 -5 -4  -3  -2  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13800" y="1413000"/>
              <a:ext cx="307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229440" y="3645000"/>
              <a:ext cx="383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80000" y="4221000"/>
              <a:ext cx="1944360" cy="720720"/>
            </a:xfrm>
            <a:prstGeom prst="wedgeEllipseCallout">
              <a:avLst>
                <a:gd name="adj1" fmla="val -59796"/>
                <a:gd name="adj2" fmla="val 98458"/>
              </a:avLst>
            </a:prstGeom>
            <a:gradFill rotWithShape="0">
              <a:gsLst>
                <a:gs pos="0">
                  <a:srgbClr val="ff00ff"/>
                </a:gs>
                <a:gs pos="50000">
                  <a:srgbClr val="ffffff"/>
                </a:gs>
                <a:gs pos="100000">
                  <a:srgbClr val="ff00ff"/>
                </a:gs>
              </a:gsLst>
              <a:lin ang="81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ВЕРНО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V="1">
            <a:off x="5676840" y="596520"/>
            <a:ext cx="1271520" cy="2976480"/>
          </a:xfrm>
          <a:custGeom>
            <a:avLst/>
            <a:gdLst/>
            <a:ahLst/>
            <a:rect l="l" t="t" r="r" b="b"/>
            <a:pathLst>
              <a:path w="1200" h="1875">
                <a:moveTo>
                  <a:pt x="0" y="1875"/>
                </a:moveTo>
                <a:cubicBezTo>
                  <a:pt x="37" y="1683"/>
                  <a:pt x="152" y="992"/>
                  <a:pt x="224" y="707"/>
                </a:cubicBezTo>
                <a:cubicBezTo>
                  <a:pt x="296" y="422"/>
                  <a:pt x="368" y="280"/>
                  <a:pt x="432" y="163"/>
                </a:cubicBezTo>
                <a:cubicBezTo>
                  <a:pt x="496" y="46"/>
                  <a:pt x="547" y="0"/>
                  <a:pt x="608" y="3"/>
                </a:cubicBezTo>
                <a:cubicBezTo>
                  <a:pt x="669" y="6"/>
                  <a:pt x="736" y="65"/>
                  <a:pt x="800" y="179"/>
                </a:cubicBezTo>
                <a:cubicBezTo>
                  <a:pt x="864" y="293"/>
                  <a:pt x="925" y="416"/>
                  <a:pt x="992" y="691"/>
                </a:cubicBezTo>
                <a:cubicBezTo>
                  <a:pt x="1059" y="966"/>
                  <a:pt x="1157" y="1590"/>
                  <a:pt x="1200" y="1827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1640" y="622440"/>
            <a:ext cx="1296720" cy="2971800"/>
          </a:xfrm>
          <a:custGeom>
            <a:avLst/>
            <a:gdLst/>
            <a:ahLst/>
            <a:rect l="l" t="t" r="r" b="b"/>
            <a:pathLst>
              <a:path w="817" h="1872">
                <a:moveTo>
                  <a:pt x="0" y="0"/>
                </a:moveTo>
                <a:cubicBezTo>
                  <a:pt x="27" y="195"/>
                  <a:pt x="109" y="885"/>
                  <a:pt x="160" y="1168"/>
                </a:cubicBezTo>
                <a:cubicBezTo>
                  <a:pt x="211" y="1451"/>
                  <a:pt x="262" y="1579"/>
                  <a:pt x="304" y="1696"/>
                </a:cubicBezTo>
                <a:cubicBezTo>
                  <a:pt x="346" y="1813"/>
                  <a:pt x="374" y="1872"/>
                  <a:pt x="414" y="1872"/>
                </a:cubicBezTo>
                <a:cubicBezTo>
                  <a:pt x="454" y="1872"/>
                  <a:pt x="501" y="1810"/>
                  <a:pt x="545" y="1696"/>
                </a:cubicBezTo>
                <a:cubicBezTo>
                  <a:pt x="588" y="1582"/>
                  <a:pt x="630" y="1459"/>
                  <a:pt x="675" y="1184"/>
                </a:cubicBezTo>
                <a:cubicBezTo>
                  <a:pt x="721" y="909"/>
                  <a:pt x="788" y="285"/>
                  <a:pt x="817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11520" y="400536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(2х–2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49435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4000" y="407844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4000" y="32148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4000" y="587844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50920" y="18900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фик какой из функций получится при переносе параболы у = 2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единицы вверх вдоль оси Оу и на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ицы вправо вдоль оси Ох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11520" y="321300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=2(х–2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–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1520" y="487044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=2(х–2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11520" y="573264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(2х+2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492360" y="2709720"/>
            <a:ext cx="2160720" cy="576360"/>
          </a:xfrm>
          <a:prstGeom prst="wedgeEllipseCallout">
            <a:avLst>
              <a:gd name="adj1" fmla="val -105472"/>
              <a:gd name="adj2" fmla="val 4917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3640" y="3575160"/>
            <a:ext cx="2160360" cy="576000"/>
          </a:xfrm>
          <a:prstGeom prst="wedgeEllipseCallout">
            <a:avLst>
              <a:gd name="adj1" fmla="val -95259"/>
              <a:gd name="adj2" fmla="val 7313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48000" y="5662440"/>
            <a:ext cx="2232000" cy="649440"/>
          </a:xfrm>
          <a:prstGeom prst="wedgeEllipseCallout">
            <a:avLst>
              <a:gd name="adj1" fmla="val -100925"/>
              <a:gd name="adj2" fmla="val 22124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340000" y="551664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564000" y="5013000"/>
            <a:ext cx="0" cy="43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218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2000"/>
                            </p:stCondLst>
                            <p:childTnLst>
                              <p:par>
                                <p:cTn id="2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1.85185E-006 L 0.06944 1.85185E-006 L 0.06944 -0.08149 E">
                                      <p:cBhvr>
                                        <p:cTn id="240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5292720" y="596880"/>
            <a:ext cx="3670920" cy="5533920"/>
            <a:chOff x="5292720" y="596880"/>
            <a:chExt cx="3670920" cy="5533920"/>
          </a:xfrm>
        </p:grpSpPr>
        <p:sp>
          <p:nvSpPr>
            <p:cNvPr id="351" name=""/>
            <p:cNvSpPr/>
            <p:nvPr/>
          </p:nvSpPr>
          <p:spPr>
            <a:xfrm>
              <a:off x="8798040" y="1090440"/>
              <a:ext cx="1440" cy="4978440"/>
            </a:xfrm>
            <a:custGeom>
              <a:avLst/>
              <a:gdLst/>
              <a:ahLst/>
              <a:rect l="l" t="t" r="r" b="b"/>
              <a:pathLst>
                <a:path w="1" h="3136">
                  <a:moveTo>
                    <a:pt x="0" y="0"/>
                  </a:moveTo>
                  <a:lnTo>
                    <a:pt x="0" y="3136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486640" y="1077840"/>
              <a:ext cx="6480" cy="503568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75600" y="1077840"/>
              <a:ext cx="6480" cy="5029200"/>
            </a:xfrm>
            <a:custGeom>
              <a:avLst/>
              <a:gdLst/>
              <a:ahLst/>
              <a:rect l="l" t="t" r="r" b="b"/>
              <a:pathLst>
                <a:path w="4" h="3168">
                  <a:moveTo>
                    <a:pt x="4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70680" y="1077840"/>
              <a:ext cx="1800" cy="5016600"/>
            </a:xfrm>
            <a:custGeom>
              <a:avLst/>
              <a:gdLst/>
              <a:ahLst/>
              <a:rect l="l" t="t" r="r" b="b"/>
              <a:pathLst>
                <a:path w="1" h="3160">
                  <a:moveTo>
                    <a:pt x="0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559640" y="1071720"/>
              <a:ext cx="6480" cy="5035320"/>
            </a:xfrm>
            <a:custGeom>
              <a:avLst/>
              <a:gdLst/>
              <a:ahLst/>
              <a:rect l="l" t="t" r="r" b="b"/>
              <a:pathLst>
                <a:path w="4" h="3172">
                  <a:moveTo>
                    <a:pt x="4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6000" y="1065240"/>
              <a:ext cx="21960" cy="5065560"/>
            </a:xfrm>
            <a:custGeom>
              <a:avLst/>
              <a:gdLst/>
              <a:ahLst/>
              <a:rect l="l" t="t" r="r" b="b"/>
              <a:pathLst>
                <a:path w="14" h="3191">
                  <a:moveTo>
                    <a:pt x="0" y="0"/>
                  </a:moveTo>
                  <a:lnTo>
                    <a:pt x="14" y="3191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43680" y="1090440"/>
              <a:ext cx="6480" cy="5016600"/>
            </a:xfrm>
            <a:custGeom>
              <a:avLst/>
              <a:gdLst/>
              <a:ahLst/>
              <a:rect l="l" t="t" r="r" b="b"/>
              <a:pathLst>
                <a:path w="4" h="3160">
                  <a:moveTo>
                    <a:pt x="4" y="0"/>
                  </a:moveTo>
                  <a:lnTo>
                    <a:pt x="0" y="3160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38760" y="1090440"/>
              <a:ext cx="1800" cy="5004000"/>
            </a:xfrm>
            <a:custGeom>
              <a:avLst/>
              <a:gdLst/>
              <a:ahLst/>
              <a:rect l="l" t="t" r="r" b="b"/>
              <a:pathLst>
                <a:path w="1" h="3152">
                  <a:moveTo>
                    <a:pt x="0" y="0"/>
                  </a:moveTo>
                  <a:lnTo>
                    <a:pt x="0" y="315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016680" y="1052640"/>
              <a:ext cx="17280" cy="5078160"/>
            </a:xfrm>
            <a:custGeom>
              <a:avLst/>
              <a:gdLst/>
              <a:ahLst/>
              <a:rect l="l" t="t" r="r" b="b"/>
              <a:pathLst>
                <a:path w="11" h="3199">
                  <a:moveTo>
                    <a:pt x="0" y="0"/>
                  </a:moveTo>
                  <a:lnTo>
                    <a:pt x="11" y="3199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711760" y="1077840"/>
              <a:ext cx="1800" cy="5035680"/>
            </a:xfrm>
            <a:custGeom>
              <a:avLst/>
              <a:gdLst/>
              <a:ahLst/>
              <a:rect l="l" t="t" r="r" b="b"/>
              <a:pathLst>
                <a:path w="1" h="3172">
                  <a:moveTo>
                    <a:pt x="0" y="0"/>
                  </a:moveTo>
                  <a:lnTo>
                    <a:pt x="0" y="3172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07200" y="1084320"/>
              <a:ext cx="6120" cy="5022720"/>
            </a:xfrm>
            <a:custGeom>
              <a:avLst/>
              <a:gdLst/>
              <a:ahLst/>
              <a:rect l="l" t="t" r="r" b="b"/>
              <a:pathLst>
                <a:path w="4" h="3164">
                  <a:moveTo>
                    <a:pt x="4" y="0"/>
                  </a:moveTo>
                  <a:lnTo>
                    <a:pt x="0" y="3164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5292720" y="1065240"/>
              <a:ext cx="3549600" cy="5037120"/>
              <a:chOff x="5292720" y="1065240"/>
              <a:chExt cx="3549600" cy="5037120"/>
            </a:xfrm>
          </p:grpSpPr>
          <p:sp>
            <p:nvSpPr>
              <p:cNvPr id="363" name=""/>
              <p:cNvSpPr/>
              <p:nvPr/>
            </p:nvSpPr>
            <p:spPr>
              <a:xfrm>
                <a:off x="5360400" y="3024360"/>
                <a:ext cx="3454560" cy="2880"/>
              </a:xfrm>
              <a:custGeom>
                <a:avLst/>
                <a:gdLst/>
                <a:ahLst/>
                <a:rect l="l" t="t" r="r" b="b"/>
                <a:pathLst>
                  <a:path w="3060" h="2">
                    <a:moveTo>
                      <a:pt x="0" y="0"/>
                    </a:moveTo>
                    <a:lnTo>
                      <a:pt x="3060" y="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319720" y="5821200"/>
                <a:ext cx="3486240" cy="1800"/>
              </a:xfrm>
              <a:custGeom>
                <a:avLst/>
                <a:gdLst/>
                <a:ahLst/>
                <a:rect l="l" t="t" r="r" b="b"/>
                <a:pathLst>
                  <a:path w="3088" h="1">
                    <a:moveTo>
                      <a:pt x="0" y="0"/>
                    </a:moveTo>
                    <a:lnTo>
                      <a:pt x="308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308560" y="5541840"/>
                <a:ext cx="3493080" cy="3240"/>
              </a:xfrm>
              <a:custGeom>
                <a:avLst/>
                <a:gdLst/>
                <a:ahLst/>
                <a:rect l="l" t="t" r="r" b="b"/>
                <a:pathLst>
                  <a:path w="3094" h="2">
                    <a:moveTo>
                      <a:pt x="0" y="2"/>
                    </a:moveTo>
                    <a:lnTo>
                      <a:pt x="309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08560" y="5257800"/>
                <a:ext cx="353376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10720" y="4983120"/>
                <a:ext cx="3495240" cy="1800"/>
              </a:xfrm>
              <a:custGeom>
                <a:avLst/>
                <a:gdLst/>
                <a:ahLst/>
                <a:rect l="l" t="t" r="r" b="b"/>
                <a:pathLst>
                  <a:path w="3096" h="1">
                    <a:moveTo>
                      <a:pt x="0" y="0"/>
                    </a:moveTo>
                    <a:lnTo>
                      <a:pt x="309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306040" y="4703760"/>
                <a:ext cx="3490920" cy="1440"/>
              </a:xfrm>
              <a:custGeom>
                <a:avLst/>
                <a:gdLst/>
                <a:ahLst/>
                <a:rect l="l" t="t" r="r" b="b"/>
                <a:pathLst>
                  <a:path w="3092" h="1">
                    <a:moveTo>
                      <a:pt x="0" y="0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01360" y="4417920"/>
                <a:ext cx="3499920" cy="6480"/>
              </a:xfrm>
              <a:custGeom>
                <a:avLst/>
                <a:gdLst/>
                <a:ahLst/>
                <a:rect l="l" t="t" r="r" b="b"/>
                <a:pathLst>
                  <a:path w="3100" h="4">
                    <a:moveTo>
                      <a:pt x="0" y="4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01360" y="4138560"/>
                <a:ext cx="3508920" cy="12600"/>
              </a:xfrm>
              <a:custGeom>
                <a:avLst/>
                <a:gdLst/>
                <a:ahLst/>
                <a:rect l="l" t="t" r="r" b="b"/>
                <a:pathLst>
                  <a:path w="3108" h="8">
                    <a:moveTo>
                      <a:pt x="0" y="8"/>
                    </a:moveTo>
                    <a:lnTo>
                      <a:pt x="310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92720" y="3859200"/>
                <a:ext cx="3517920" cy="6480"/>
              </a:xfrm>
              <a:custGeom>
                <a:avLst/>
                <a:gdLst/>
                <a:ahLst/>
                <a:rect l="l" t="t" r="r" b="b"/>
                <a:pathLst>
                  <a:path w="3116" h="4">
                    <a:moveTo>
                      <a:pt x="0" y="0"/>
                    </a:moveTo>
                    <a:lnTo>
                      <a:pt x="3116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360400" y="3306600"/>
                <a:ext cx="3445560" cy="6480"/>
              </a:xfrm>
              <a:custGeom>
                <a:avLst/>
                <a:gdLst/>
                <a:ahLst/>
                <a:rect l="l" t="t" r="r" b="b"/>
                <a:pathLst>
                  <a:path w="3052" h="4">
                    <a:moveTo>
                      <a:pt x="0" y="4"/>
                    </a:moveTo>
                    <a:lnTo>
                      <a:pt x="305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310720" y="2747880"/>
                <a:ext cx="3499920" cy="1800"/>
              </a:xfrm>
              <a:custGeom>
                <a:avLst/>
                <a:gdLst/>
                <a:ahLst/>
                <a:rect l="l" t="t" r="r" b="b"/>
                <a:pathLst>
                  <a:path w="3100" h="1">
                    <a:moveTo>
                      <a:pt x="0" y="0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297040" y="2468520"/>
                <a:ext cx="3513600" cy="648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301360" y="2189160"/>
                <a:ext cx="3508920" cy="6480"/>
              </a:xfrm>
              <a:custGeom>
                <a:avLst/>
                <a:gdLst/>
                <a:ahLst/>
                <a:rect l="l" t="t" r="r" b="b"/>
                <a:pathLst>
                  <a:path w="3108" h="4">
                    <a:moveTo>
                      <a:pt x="0" y="0"/>
                    </a:moveTo>
                    <a:lnTo>
                      <a:pt x="3108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297040" y="1916280"/>
                <a:ext cx="3513600" cy="612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306040" y="1636560"/>
                <a:ext cx="3504600" cy="1800"/>
              </a:xfrm>
              <a:custGeom>
                <a:avLst/>
                <a:gdLst/>
                <a:ahLst/>
                <a:rect l="l" t="t" r="r" b="b"/>
                <a:pathLst>
                  <a:path w="3104" h="1">
                    <a:moveTo>
                      <a:pt x="0" y="0"/>
                    </a:moveTo>
                    <a:lnTo>
                      <a:pt x="310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315040" y="1357200"/>
                <a:ext cx="3490920" cy="12960"/>
              </a:xfrm>
              <a:custGeom>
                <a:avLst/>
                <a:gdLst/>
                <a:ahLst/>
                <a:rect l="l" t="t" r="r" b="b"/>
                <a:pathLst>
                  <a:path w="3092" h="8">
                    <a:moveTo>
                      <a:pt x="0" y="8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324040" y="1065240"/>
                <a:ext cx="3486600" cy="19080"/>
              </a:xfrm>
              <a:custGeom>
                <a:avLst/>
                <a:gdLst/>
                <a:ahLst/>
                <a:rect l="l" t="t" r="r" b="b"/>
                <a:pathLst>
                  <a:path w="3088" h="12">
                    <a:moveTo>
                      <a:pt x="0" y="0"/>
                    </a:moveTo>
                    <a:lnTo>
                      <a:pt x="3088" y="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297040" y="6100920"/>
                <a:ext cx="3517920" cy="1440"/>
              </a:xfrm>
              <a:custGeom>
                <a:avLst/>
                <a:gdLst/>
                <a:ahLst/>
                <a:rect l="l" t="t" r="r" b="b"/>
                <a:pathLst>
                  <a:path w="3116" h="1">
                    <a:moveTo>
                      <a:pt x="0" y="0"/>
                    </a:moveTo>
                    <a:lnTo>
                      <a:pt x="311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344560" y="3571920"/>
                <a:ext cx="3483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>
              <a:off x="7858080" y="1092240"/>
              <a:ext cx="3240" cy="4991040"/>
            </a:xfrm>
            <a:custGeom>
              <a:avLst/>
              <a:gdLst/>
              <a:ahLst/>
              <a:rect l="l" t="t" r="r" b="b"/>
              <a:pathLst>
                <a:path w="2" h="3144">
                  <a:moveTo>
                    <a:pt x="0" y="3144"/>
                  </a:moveTo>
                  <a:lnTo>
                    <a:pt x="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16720" y="3571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019360" y="3567240"/>
              <a:ext cx="94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2   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97080" y="3500280"/>
              <a:ext cx="19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 -5 - 4 -3  -2  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34440" y="1413000"/>
              <a:ext cx="307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50440" y="3645000"/>
              <a:ext cx="383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877080" y="596520"/>
              <a:ext cx="1871640" cy="2976480"/>
            </a:xfrm>
            <a:custGeom>
              <a:avLst/>
              <a:gdLst/>
              <a:ahLst/>
              <a:rect l="l" t="t" r="r" b="b"/>
              <a:pathLst>
                <a:path w="1200" h="1875">
                  <a:moveTo>
                    <a:pt x="0" y="1875"/>
                  </a:moveTo>
                  <a:cubicBezTo>
                    <a:pt x="37" y="1683"/>
                    <a:pt x="152" y="992"/>
                    <a:pt x="224" y="707"/>
                  </a:cubicBezTo>
                  <a:cubicBezTo>
                    <a:pt x="296" y="422"/>
                    <a:pt x="368" y="280"/>
                    <a:pt x="432" y="163"/>
                  </a:cubicBezTo>
                  <a:cubicBezTo>
                    <a:pt x="496" y="46"/>
                    <a:pt x="547" y="0"/>
                    <a:pt x="608" y="3"/>
                  </a:cubicBezTo>
                  <a:cubicBezTo>
                    <a:pt x="669" y="6"/>
                    <a:pt x="736" y="65"/>
                    <a:pt x="800" y="179"/>
                  </a:cubicBezTo>
                  <a:cubicBezTo>
                    <a:pt x="864" y="293"/>
                    <a:pt x="925" y="416"/>
                    <a:pt x="992" y="691"/>
                  </a:cubicBezTo>
                  <a:cubicBezTo>
                    <a:pt x="1059" y="966"/>
                    <a:pt x="1157" y="1590"/>
                    <a:pt x="1200" y="1827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11880" y="1054080"/>
              <a:ext cx="25560" cy="5029200"/>
            </a:xfrm>
            <a:custGeom>
              <a:avLst/>
              <a:gdLst/>
              <a:ahLst/>
              <a:rect l="l" t="t" r="r" b="b"/>
              <a:pathLst>
                <a:path w="16" h="3168">
                  <a:moveTo>
                    <a:pt x="16" y="0"/>
                  </a:moveTo>
                  <a:lnTo>
                    <a:pt x="0" y="3168"/>
                  </a:lnTo>
                </a:path>
              </a:pathLst>
            </a:custGeom>
            <a:noFill/>
            <a:ln w="12600">
              <a:solidFill>
                <a:srgbClr val="4d4d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3851280" y="5084640"/>
            <a:ext cx="1944720" cy="720720"/>
          </a:xfrm>
          <a:prstGeom prst="wedgeEllipseCallout">
            <a:avLst>
              <a:gd name="adj1" fmla="val -121185"/>
              <a:gd name="adj2" fmla="val 70703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5000" y="601560"/>
            <a:ext cx="1873080" cy="2970360"/>
          </a:xfrm>
          <a:custGeom>
            <a:avLst/>
            <a:gdLst/>
            <a:ahLst/>
            <a:rect l="l" t="t" r="r" b="b"/>
            <a:pathLst>
              <a:path w="1180" h="1871">
                <a:moveTo>
                  <a:pt x="0" y="0"/>
                </a:moveTo>
                <a:cubicBezTo>
                  <a:pt x="39" y="195"/>
                  <a:pt x="161" y="883"/>
                  <a:pt x="231" y="1168"/>
                </a:cubicBezTo>
                <a:cubicBezTo>
                  <a:pt x="301" y="1453"/>
                  <a:pt x="359" y="1592"/>
                  <a:pt x="423" y="1709"/>
                </a:cubicBezTo>
                <a:cubicBezTo>
                  <a:pt x="487" y="1826"/>
                  <a:pt x="554" y="1871"/>
                  <a:pt x="615" y="1869"/>
                </a:cubicBezTo>
                <a:cubicBezTo>
                  <a:pt x="676" y="1867"/>
                  <a:pt x="727" y="1810"/>
                  <a:pt x="787" y="1696"/>
                </a:cubicBezTo>
                <a:cubicBezTo>
                  <a:pt x="847" y="1582"/>
                  <a:pt x="910" y="1459"/>
                  <a:pt x="975" y="1184"/>
                </a:cubicBezTo>
                <a:cubicBezTo>
                  <a:pt x="1041" y="909"/>
                  <a:pt x="1138" y="285"/>
                  <a:pt x="1180" y="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000" y="5302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2637000"/>
            <a:ext cx="360360" cy="50292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2920"/>
              <a:gd name="textAreaBottom" fmla="*/ 479880 h 502920"/>
            </a:gdLst>
            <a:ahLst/>
            <a:rect l="textAreaLeft" t="textAreaTop" r="textAreaRight" b="textAreaBottom"/>
            <a:pathLst>
              <a:path w="21600" h="30137">
                <a:moveTo>
                  <a:pt x="0" y="0"/>
                </a:moveTo>
                <a:lnTo>
                  <a:pt x="21600" y="0"/>
                </a:lnTo>
                <a:lnTo>
                  <a:pt x="21600" y="30137"/>
                </a:lnTo>
                <a:lnTo>
                  <a:pt x="0" y="30137"/>
                </a:lnTo>
                <a:close/>
              </a:path>
              <a:path fill="lightenLess" w="21600" h="3013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37">
                <a:moveTo>
                  <a:pt x="21600" y="0"/>
                </a:moveTo>
                <a:lnTo>
                  <a:pt x="21600" y="30137"/>
                </a:lnTo>
                <a:lnTo>
                  <a:pt x="20200" y="28737"/>
                </a:lnTo>
                <a:lnTo>
                  <a:pt x="20200" y="1400"/>
                </a:lnTo>
                <a:close/>
              </a:path>
              <a:path fill="darkenLess" w="21600" h="30137">
                <a:moveTo>
                  <a:pt x="21600" y="30137"/>
                </a:moveTo>
                <a:lnTo>
                  <a:pt x="0" y="30137"/>
                </a:lnTo>
                <a:lnTo>
                  <a:pt x="1400" y="28737"/>
                </a:lnTo>
                <a:lnTo>
                  <a:pt x="20200" y="28737"/>
                </a:lnTo>
                <a:close/>
              </a:path>
              <a:path fill="lighten" w="21600" h="30137">
                <a:moveTo>
                  <a:pt x="0" y="3013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3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4000" y="1484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24000" y="400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08000" y="115920"/>
            <a:ext cx="8642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 функции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(х) = х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12х +3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ается в результате сдвига парабол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(х) = х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57080" y="2565360"/>
            <a:ext cx="29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12 единиц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564000" y="1484280"/>
            <a:ext cx="2160360" cy="576360"/>
          </a:xfrm>
          <a:prstGeom prst="wedgeEllipseCallout">
            <a:avLst>
              <a:gd name="adj1" fmla="val -105472"/>
              <a:gd name="adj2" fmla="val 4917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92360" y="2781360"/>
            <a:ext cx="2160720" cy="576360"/>
          </a:xfrm>
          <a:prstGeom prst="wedgeEllipseCallout">
            <a:avLst>
              <a:gd name="adj1" fmla="val -95259"/>
              <a:gd name="adj2" fmla="val 7313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80000" y="3860640"/>
            <a:ext cx="2232000" cy="649440"/>
          </a:xfrm>
          <a:prstGeom prst="wedgeEllipseCallout">
            <a:avLst>
              <a:gd name="adj1" fmla="val -100925"/>
              <a:gd name="adj2" fmla="val 8643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5080" y="1311120"/>
            <a:ext cx="304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36 единиц ввер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с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7440" y="4005360"/>
            <a:ext cx="296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6 единиц впра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28000" y="5229360"/>
            <a:ext cx="281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6 единиц вле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63640" y="616572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(х) = х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+ 12х +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003640" y="616572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 (х + 6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6011640" y="666900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500"/>
                            </p:stCondLst>
                            <p:childTnLst>
                              <p:par>
                                <p:cTn id="2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121 -0.00093 L -0.13455 0.00069 L -1.94444E-006 3.7037E-007 E">
                                      <p:cBhvr>
                                        <p:cTn id="304" dur="5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326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47640" y="260496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3 единицы влево 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4 единицы вверх по ос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50920" y="189000"/>
            <a:ext cx="8642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 функции                                  может быть получ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носом графика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940360" y="1413000"/>
            <a:ext cx="2901960" cy="4717800"/>
            <a:chOff x="5940360" y="1413000"/>
            <a:chExt cx="2901960" cy="4717800"/>
          </a:xfrm>
        </p:grpSpPr>
        <p:grpSp>
          <p:nvGrpSpPr>
            <p:cNvPr id="412" name=""/>
            <p:cNvGrpSpPr/>
            <p:nvPr/>
          </p:nvGrpSpPr>
          <p:grpSpPr>
            <a:xfrm>
              <a:off x="5940360" y="1916280"/>
              <a:ext cx="2901960" cy="4186080"/>
              <a:chOff x="5940360" y="1916280"/>
              <a:chExt cx="2901960" cy="4186080"/>
            </a:xfrm>
          </p:grpSpPr>
          <p:sp>
            <p:nvSpPr>
              <p:cNvPr id="413" name=""/>
              <p:cNvSpPr/>
              <p:nvPr/>
            </p:nvSpPr>
            <p:spPr>
              <a:xfrm>
                <a:off x="5995800" y="3024360"/>
                <a:ext cx="2824200" cy="2880"/>
              </a:xfrm>
              <a:custGeom>
                <a:avLst/>
                <a:gdLst/>
                <a:ahLst/>
                <a:rect l="l" t="t" r="r" b="b"/>
                <a:pathLst>
                  <a:path w="3060" h="2">
                    <a:moveTo>
                      <a:pt x="0" y="0"/>
                    </a:moveTo>
                    <a:lnTo>
                      <a:pt x="3060" y="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62320" y="5821200"/>
                <a:ext cx="2850120" cy="1800"/>
              </a:xfrm>
              <a:custGeom>
                <a:avLst/>
                <a:gdLst/>
                <a:ahLst/>
                <a:rect l="l" t="t" r="r" b="b"/>
                <a:pathLst>
                  <a:path w="3088" h="1">
                    <a:moveTo>
                      <a:pt x="0" y="0"/>
                    </a:moveTo>
                    <a:lnTo>
                      <a:pt x="308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953320" y="5541840"/>
                <a:ext cx="2855520" cy="3240"/>
              </a:xfrm>
              <a:custGeom>
                <a:avLst/>
                <a:gdLst/>
                <a:ahLst/>
                <a:rect l="l" t="t" r="r" b="b"/>
                <a:pathLst>
                  <a:path w="3094" h="2">
                    <a:moveTo>
                      <a:pt x="0" y="2"/>
                    </a:moveTo>
                    <a:lnTo>
                      <a:pt x="309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953320" y="5257800"/>
                <a:ext cx="288900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955120" y="4983120"/>
                <a:ext cx="2857680" cy="1800"/>
              </a:xfrm>
              <a:custGeom>
                <a:avLst/>
                <a:gdLst/>
                <a:ahLst/>
                <a:rect l="l" t="t" r="r" b="b"/>
                <a:pathLst>
                  <a:path w="3096" h="1">
                    <a:moveTo>
                      <a:pt x="0" y="0"/>
                    </a:moveTo>
                    <a:lnTo>
                      <a:pt x="309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51160" y="4703760"/>
                <a:ext cx="2854080" cy="1440"/>
              </a:xfrm>
              <a:custGeom>
                <a:avLst/>
                <a:gdLst/>
                <a:ahLst/>
                <a:rect l="l" t="t" r="r" b="b"/>
                <a:pathLst>
                  <a:path w="3092" h="1">
                    <a:moveTo>
                      <a:pt x="0" y="0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47560" y="4417920"/>
                <a:ext cx="2861280" cy="6480"/>
              </a:xfrm>
              <a:custGeom>
                <a:avLst/>
                <a:gdLst/>
                <a:ahLst/>
                <a:rect l="l" t="t" r="r" b="b"/>
                <a:pathLst>
                  <a:path w="3100" h="4">
                    <a:moveTo>
                      <a:pt x="0" y="4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47560" y="4138560"/>
                <a:ext cx="2868840" cy="12600"/>
              </a:xfrm>
              <a:custGeom>
                <a:avLst/>
                <a:gdLst/>
                <a:ahLst/>
                <a:rect l="l" t="t" r="r" b="b"/>
                <a:pathLst>
                  <a:path w="3108" h="8">
                    <a:moveTo>
                      <a:pt x="0" y="8"/>
                    </a:moveTo>
                    <a:lnTo>
                      <a:pt x="310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940360" y="3859200"/>
                <a:ext cx="2876040" cy="6480"/>
              </a:xfrm>
              <a:custGeom>
                <a:avLst/>
                <a:gdLst/>
                <a:ahLst/>
                <a:rect l="l" t="t" r="r" b="b"/>
                <a:pathLst>
                  <a:path w="3116" h="4">
                    <a:moveTo>
                      <a:pt x="0" y="0"/>
                    </a:moveTo>
                    <a:lnTo>
                      <a:pt x="3116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995800" y="3306600"/>
                <a:ext cx="2817000" cy="6480"/>
              </a:xfrm>
              <a:custGeom>
                <a:avLst/>
                <a:gdLst/>
                <a:ahLst/>
                <a:rect l="l" t="t" r="r" b="b"/>
                <a:pathLst>
                  <a:path w="3052" h="4">
                    <a:moveTo>
                      <a:pt x="0" y="4"/>
                    </a:moveTo>
                    <a:lnTo>
                      <a:pt x="305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955120" y="2747880"/>
                <a:ext cx="2861280" cy="1800"/>
              </a:xfrm>
              <a:custGeom>
                <a:avLst/>
                <a:gdLst/>
                <a:ahLst/>
                <a:rect l="l" t="t" r="r" b="b"/>
                <a:pathLst>
                  <a:path w="3100" h="1">
                    <a:moveTo>
                      <a:pt x="0" y="0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943960" y="2468520"/>
                <a:ext cx="2872440" cy="648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947560" y="2189160"/>
                <a:ext cx="2868840" cy="6480"/>
              </a:xfrm>
              <a:custGeom>
                <a:avLst/>
                <a:gdLst/>
                <a:ahLst/>
                <a:rect l="l" t="t" r="r" b="b"/>
                <a:pathLst>
                  <a:path w="3108" h="4">
                    <a:moveTo>
                      <a:pt x="0" y="0"/>
                    </a:moveTo>
                    <a:lnTo>
                      <a:pt x="3108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943960" y="1916280"/>
                <a:ext cx="2872440" cy="612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943960" y="6100920"/>
                <a:ext cx="2876040" cy="1440"/>
              </a:xfrm>
              <a:custGeom>
                <a:avLst/>
                <a:gdLst/>
                <a:ahLst/>
                <a:rect l="l" t="t" r="r" b="b"/>
                <a:pathLst>
                  <a:path w="3116" h="1">
                    <a:moveTo>
                      <a:pt x="0" y="0"/>
                    </a:moveTo>
                    <a:lnTo>
                      <a:pt x="311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982840" y="3571920"/>
                <a:ext cx="2847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" name=""/>
            <p:cNvGrpSpPr/>
            <p:nvPr/>
          </p:nvGrpSpPr>
          <p:grpSpPr>
            <a:xfrm>
              <a:off x="6016680" y="1773360"/>
              <a:ext cx="2782800" cy="4357440"/>
              <a:chOff x="6016680" y="1773360"/>
              <a:chExt cx="2782800" cy="4357440"/>
            </a:xfrm>
          </p:grpSpPr>
          <p:sp>
            <p:nvSpPr>
              <p:cNvPr id="430" name=""/>
              <p:cNvSpPr/>
              <p:nvPr/>
            </p:nvSpPr>
            <p:spPr>
              <a:xfrm>
                <a:off x="8798040" y="1805760"/>
                <a:ext cx="1440" cy="4271760"/>
              </a:xfrm>
              <a:custGeom>
                <a:avLst/>
                <a:gdLst/>
                <a:ahLst/>
                <a:rect l="l" t="t" r="r" b="b"/>
                <a:pathLst>
                  <a:path w="1" h="3136">
                    <a:moveTo>
                      <a:pt x="0" y="0"/>
                    </a:moveTo>
                    <a:lnTo>
                      <a:pt x="0" y="3136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486640" y="1794960"/>
                <a:ext cx="6480" cy="432072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175600" y="1794960"/>
                <a:ext cx="6480" cy="4315320"/>
              </a:xfrm>
              <a:custGeom>
                <a:avLst/>
                <a:gdLst/>
                <a:ahLst/>
                <a:rect l="l" t="t" r="r" b="b"/>
                <a:pathLst>
                  <a:path w="4" h="3168">
                    <a:moveTo>
                      <a:pt x="4" y="0"/>
                    </a:moveTo>
                    <a:lnTo>
                      <a:pt x="0" y="3168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870680" y="1794960"/>
                <a:ext cx="1800" cy="4304520"/>
              </a:xfrm>
              <a:custGeom>
                <a:avLst/>
                <a:gdLst/>
                <a:ahLst/>
                <a:rect l="l" t="t" r="r" b="b"/>
                <a:pathLst>
                  <a:path w="1" h="3160">
                    <a:moveTo>
                      <a:pt x="0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559640" y="1789560"/>
                <a:ext cx="6480" cy="432072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236000" y="1784160"/>
                <a:ext cx="21960" cy="4346640"/>
              </a:xfrm>
              <a:custGeom>
                <a:avLst/>
                <a:gdLst/>
                <a:ahLst/>
                <a:rect l="l" t="t" r="r" b="b"/>
                <a:pathLst>
                  <a:path w="14" h="3191">
                    <a:moveTo>
                      <a:pt x="0" y="0"/>
                    </a:moveTo>
                    <a:lnTo>
                      <a:pt x="14" y="3191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43680" y="1805760"/>
                <a:ext cx="6480" cy="4304520"/>
              </a:xfrm>
              <a:custGeom>
                <a:avLst/>
                <a:gdLst/>
                <a:ahLst/>
                <a:rect l="l" t="t" r="r" b="b"/>
                <a:pathLst>
                  <a:path w="4" h="3160">
                    <a:moveTo>
                      <a:pt x="4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638760" y="1805760"/>
                <a:ext cx="1800" cy="4293720"/>
              </a:xfrm>
              <a:custGeom>
                <a:avLst/>
                <a:gdLst/>
                <a:ahLst/>
                <a:rect l="l" t="t" r="r" b="b"/>
                <a:pathLst>
                  <a:path w="1" h="3152">
                    <a:moveTo>
                      <a:pt x="0" y="0"/>
                    </a:moveTo>
                    <a:lnTo>
                      <a:pt x="0" y="315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016680" y="1773360"/>
                <a:ext cx="17280" cy="4357440"/>
              </a:xfrm>
              <a:custGeom>
                <a:avLst/>
                <a:gdLst/>
                <a:ahLst/>
                <a:rect l="l" t="t" r="r" b="b"/>
                <a:pathLst>
                  <a:path w="11" h="3199">
                    <a:moveTo>
                      <a:pt x="0" y="0"/>
                    </a:moveTo>
                    <a:lnTo>
                      <a:pt x="11" y="3199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311880" y="1796400"/>
                <a:ext cx="25560" cy="4293360"/>
              </a:xfrm>
              <a:custGeom>
                <a:avLst/>
                <a:gdLst/>
                <a:ahLst/>
                <a:rect l="l" t="t" r="r" b="b"/>
                <a:pathLst>
                  <a:path w="16" h="3152">
                    <a:moveTo>
                      <a:pt x="16" y="3152"/>
                    </a:move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6516720" y="3571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442920" y="3571920"/>
              <a:ext cx="21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2   3  4   5   6 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013800" y="1413000"/>
              <a:ext cx="307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229440" y="3645000"/>
              <a:ext cx="383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0920" y="39006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0920" y="26766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0920" y="162720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0920" y="50529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4360" y="16984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3 единицы вверх по ос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148360" y="1266840"/>
            <a:ext cx="2160360" cy="576360"/>
          </a:xfrm>
          <a:prstGeom prst="wedgeEllipseCallout">
            <a:avLst>
              <a:gd name="adj1" fmla="val -105472"/>
              <a:gd name="adj2" fmla="val 49171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435640" y="2130480"/>
            <a:ext cx="2160720" cy="576360"/>
          </a:xfrm>
          <a:prstGeom prst="wedgeEllipseCallout">
            <a:avLst>
              <a:gd name="adj1" fmla="val -107092"/>
              <a:gd name="adj2" fmla="val 53583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419640" y="6019920"/>
            <a:ext cx="2232000" cy="649080"/>
          </a:xfrm>
          <a:prstGeom prst="wedgeEllipseCallout">
            <a:avLst>
              <a:gd name="adj1" fmla="val -109601"/>
              <a:gd name="adj2" fmla="val -68828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2844720" y="0"/>
                <a:ext cx="25192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4572000" y="549360"/>
                <a:ext cx="13683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х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611280" y="382896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3 единицы вправо 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4 единицы вверх по ос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4360" y="5124600"/>
            <a:ext cx="52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4 единицы влево по оси 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3 единицы вниз по оси О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300720" y="2708280"/>
            <a:ext cx="3167280" cy="865080"/>
          </a:xfrm>
          <a:custGeom>
            <a:avLst/>
            <a:gdLst/>
            <a:ahLst/>
            <a:rect l="l" t="t" r="r" b="b"/>
            <a:pathLst>
              <a:path w="1995" h="545">
                <a:moveTo>
                  <a:pt x="0" y="545"/>
                </a:moveTo>
                <a:cubicBezTo>
                  <a:pt x="33" y="515"/>
                  <a:pt x="63" y="426"/>
                  <a:pt x="199" y="366"/>
                </a:cubicBezTo>
                <a:cubicBezTo>
                  <a:pt x="335" y="306"/>
                  <a:pt x="517" y="243"/>
                  <a:pt x="816" y="182"/>
                </a:cubicBezTo>
                <a:cubicBezTo>
                  <a:pt x="1115" y="121"/>
                  <a:pt x="1553" y="61"/>
                  <a:pt x="1995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11640" y="3065400"/>
            <a:ext cx="1944720" cy="720720"/>
          </a:xfrm>
          <a:prstGeom prst="wedgeEllipseCallout">
            <a:avLst>
              <a:gd name="adj1" fmla="val -126569"/>
              <a:gd name="adj2" fmla="val 68500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427640" y="62064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35640" y="117360"/>
            <a:ext cx="0" cy="43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restart="whenNotActive" nodeType="interactiveSeq" fill="hold">
                <p:stCondLst>
                  <p:cond evt="onClick">
                    <p:tgtEl>
                      <p:spTgt spid="448"/>
                    </p:tgtEl>
                  </p:cond>
                </p:stCondLst>
                <p:childTnLst>
                  <p:par>
                    <p:cTn id="337" fill="hold">
                      <p:stCondLst>
                        <p:cond evt="onClick">
                          <p:tgtEl>
                            <p:spTgt spid="448"/>
                          </p:tgtEl>
                        </p:cond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6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357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446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446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3.7037E-007 L 0.10226 -3.7037E-007 L 0.09896 -0.15972 E">
                                      <p:cBhvr>
                                        <p:cTn id="390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"/>
          <p:cNvGrpSpPr/>
          <p:nvPr/>
        </p:nvGrpSpPr>
        <p:grpSpPr>
          <a:xfrm>
            <a:off x="3851280" y="1052640"/>
            <a:ext cx="4991040" cy="5497560"/>
            <a:chOff x="3851280" y="1052640"/>
            <a:chExt cx="4991040" cy="5497560"/>
          </a:xfrm>
        </p:grpSpPr>
        <p:grpSp>
          <p:nvGrpSpPr>
            <p:cNvPr id="463" name=""/>
            <p:cNvGrpSpPr/>
            <p:nvPr/>
          </p:nvGrpSpPr>
          <p:grpSpPr>
            <a:xfrm>
              <a:off x="3851280" y="1052640"/>
              <a:ext cx="4991040" cy="5078160"/>
              <a:chOff x="3851280" y="1052640"/>
              <a:chExt cx="4991040" cy="5078160"/>
            </a:xfrm>
          </p:grpSpPr>
          <p:sp>
            <p:nvSpPr>
              <p:cNvPr id="464" name=""/>
              <p:cNvSpPr/>
              <p:nvPr/>
            </p:nvSpPr>
            <p:spPr>
              <a:xfrm>
                <a:off x="3870360" y="1064880"/>
                <a:ext cx="3240" cy="5035320"/>
              </a:xfrm>
              <a:custGeom>
                <a:avLst/>
                <a:gdLst/>
                <a:ahLst/>
                <a:rect l="l" t="t" r="r" b="b"/>
                <a:pathLst>
                  <a:path w="2" h="3172">
                    <a:moveTo>
                      <a:pt x="0" y="0"/>
                    </a:moveTo>
                    <a:lnTo>
                      <a:pt x="2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3946680" y="3024000"/>
                <a:ext cx="4857840" cy="2880"/>
              </a:xfrm>
              <a:custGeom>
                <a:avLst/>
                <a:gdLst/>
                <a:ahLst/>
                <a:rect l="l" t="t" r="r" b="b"/>
                <a:pathLst>
                  <a:path w="3060" h="2">
                    <a:moveTo>
                      <a:pt x="0" y="0"/>
                    </a:moveTo>
                    <a:lnTo>
                      <a:pt x="3060" y="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89440" y="5821200"/>
                <a:ext cx="4902120" cy="1080"/>
              </a:xfrm>
              <a:custGeom>
                <a:avLst/>
                <a:gdLst/>
                <a:ahLst/>
                <a:rect l="l" t="t" r="r" b="b"/>
                <a:pathLst>
                  <a:path w="3088" h="1">
                    <a:moveTo>
                      <a:pt x="0" y="0"/>
                    </a:moveTo>
                    <a:lnTo>
                      <a:pt x="308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873600" y="5541840"/>
                <a:ext cx="4911840" cy="2880"/>
              </a:xfrm>
              <a:custGeom>
                <a:avLst/>
                <a:gdLst/>
                <a:ahLst/>
                <a:rect l="l" t="t" r="r" b="b"/>
                <a:pathLst>
                  <a:path w="3094" h="2">
                    <a:moveTo>
                      <a:pt x="0" y="2"/>
                    </a:moveTo>
                    <a:lnTo>
                      <a:pt x="309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73600" y="5257440"/>
                <a:ext cx="4968720" cy="0"/>
              </a:xfrm>
              <a:prstGeom prst="line">
                <a:avLst/>
              </a:prstGeom>
              <a:ln w="12600">
                <a:solidFill>
                  <a:srgbClr val="4d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876840" y="4983120"/>
                <a:ext cx="4914720" cy="1080"/>
              </a:xfrm>
              <a:custGeom>
                <a:avLst/>
                <a:gdLst/>
                <a:ahLst/>
                <a:rect l="l" t="t" r="r" b="b"/>
                <a:pathLst>
                  <a:path w="3096" h="1">
                    <a:moveTo>
                      <a:pt x="0" y="0"/>
                    </a:moveTo>
                    <a:lnTo>
                      <a:pt x="309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870360" y="4703400"/>
                <a:ext cx="4908600" cy="1440"/>
              </a:xfrm>
              <a:custGeom>
                <a:avLst/>
                <a:gdLst/>
                <a:ahLst/>
                <a:rect l="l" t="t" r="r" b="b"/>
                <a:pathLst>
                  <a:path w="3092" h="1">
                    <a:moveTo>
                      <a:pt x="0" y="0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864240" y="4417920"/>
                <a:ext cx="4921200" cy="5760"/>
              </a:xfrm>
              <a:custGeom>
                <a:avLst/>
                <a:gdLst/>
                <a:ahLst/>
                <a:rect l="l" t="t" r="r" b="b"/>
                <a:pathLst>
                  <a:path w="3100" h="4">
                    <a:moveTo>
                      <a:pt x="0" y="4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864240" y="4138560"/>
                <a:ext cx="4933800" cy="12240"/>
              </a:xfrm>
              <a:custGeom>
                <a:avLst/>
                <a:gdLst/>
                <a:ahLst/>
                <a:rect l="l" t="t" r="r" b="b"/>
                <a:pathLst>
                  <a:path w="3108" h="8">
                    <a:moveTo>
                      <a:pt x="0" y="8"/>
                    </a:moveTo>
                    <a:lnTo>
                      <a:pt x="3108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851280" y="3859200"/>
                <a:ext cx="4946760" cy="5760"/>
              </a:xfrm>
              <a:custGeom>
                <a:avLst/>
                <a:gdLst/>
                <a:ahLst/>
                <a:rect l="l" t="t" r="r" b="b"/>
                <a:pathLst>
                  <a:path w="3116" h="4">
                    <a:moveTo>
                      <a:pt x="0" y="0"/>
                    </a:moveTo>
                    <a:lnTo>
                      <a:pt x="3116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946680" y="3306600"/>
                <a:ext cx="4844880" cy="6120"/>
              </a:xfrm>
              <a:custGeom>
                <a:avLst/>
                <a:gdLst/>
                <a:ahLst/>
                <a:rect l="l" t="t" r="r" b="b"/>
                <a:pathLst>
                  <a:path w="3052" h="4">
                    <a:moveTo>
                      <a:pt x="0" y="4"/>
                    </a:moveTo>
                    <a:lnTo>
                      <a:pt x="305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76840" y="2747880"/>
                <a:ext cx="4921200" cy="1080"/>
              </a:xfrm>
              <a:custGeom>
                <a:avLst/>
                <a:gdLst/>
                <a:ahLst/>
                <a:rect l="l" t="t" r="r" b="b"/>
                <a:pathLst>
                  <a:path w="3100" h="1">
                    <a:moveTo>
                      <a:pt x="0" y="0"/>
                    </a:moveTo>
                    <a:lnTo>
                      <a:pt x="3100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57760" y="2468520"/>
                <a:ext cx="4940280" cy="576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64240" y="2188800"/>
                <a:ext cx="4933800" cy="6120"/>
              </a:xfrm>
              <a:custGeom>
                <a:avLst/>
                <a:gdLst/>
                <a:ahLst/>
                <a:rect l="l" t="t" r="r" b="b"/>
                <a:pathLst>
                  <a:path w="3108" h="4">
                    <a:moveTo>
                      <a:pt x="0" y="0"/>
                    </a:moveTo>
                    <a:lnTo>
                      <a:pt x="3108" y="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857760" y="1915920"/>
                <a:ext cx="4940280" cy="6120"/>
              </a:xfrm>
              <a:custGeom>
                <a:avLst/>
                <a:gdLst/>
                <a:ahLst/>
                <a:rect l="l" t="t" r="r" b="b"/>
                <a:pathLst>
                  <a:path w="3112" h="4">
                    <a:moveTo>
                      <a:pt x="0" y="4"/>
                    </a:moveTo>
                    <a:lnTo>
                      <a:pt x="311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870360" y="1636560"/>
                <a:ext cx="4927680" cy="1080"/>
              </a:xfrm>
              <a:custGeom>
                <a:avLst/>
                <a:gdLst/>
                <a:ahLst/>
                <a:rect l="l" t="t" r="r" b="b"/>
                <a:pathLst>
                  <a:path w="3104" h="1">
                    <a:moveTo>
                      <a:pt x="0" y="0"/>
                    </a:moveTo>
                    <a:lnTo>
                      <a:pt x="3104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882960" y="1357200"/>
                <a:ext cx="4908600" cy="12240"/>
              </a:xfrm>
              <a:custGeom>
                <a:avLst/>
                <a:gdLst/>
                <a:ahLst/>
                <a:rect l="l" t="t" r="r" b="b"/>
                <a:pathLst>
                  <a:path w="3092" h="8">
                    <a:moveTo>
                      <a:pt x="0" y="8"/>
                    </a:moveTo>
                    <a:lnTo>
                      <a:pt x="3092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895920" y="1064880"/>
                <a:ext cx="4902120" cy="18720"/>
              </a:xfrm>
              <a:custGeom>
                <a:avLst/>
                <a:gdLst/>
                <a:ahLst/>
                <a:rect l="l" t="t" r="r" b="b"/>
                <a:pathLst>
                  <a:path w="3088" h="12">
                    <a:moveTo>
                      <a:pt x="0" y="0"/>
                    </a:moveTo>
                    <a:lnTo>
                      <a:pt x="3088" y="1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57760" y="6100560"/>
                <a:ext cx="4946760" cy="1080"/>
              </a:xfrm>
              <a:custGeom>
                <a:avLst/>
                <a:gdLst/>
                <a:ahLst/>
                <a:rect l="l" t="t" r="r" b="b"/>
                <a:pathLst>
                  <a:path w="3116" h="1">
                    <a:moveTo>
                      <a:pt x="0" y="0"/>
                    </a:moveTo>
                    <a:lnTo>
                      <a:pt x="3116" y="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798040" y="1090440"/>
                <a:ext cx="1440" cy="4978080"/>
              </a:xfrm>
              <a:custGeom>
                <a:avLst/>
                <a:gdLst/>
                <a:ahLst/>
                <a:rect l="l" t="t" r="r" b="b"/>
                <a:pathLst>
                  <a:path w="1" h="3136">
                    <a:moveTo>
                      <a:pt x="0" y="0"/>
                    </a:moveTo>
                    <a:lnTo>
                      <a:pt x="0" y="3136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487000" y="1077840"/>
                <a:ext cx="6120" cy="503496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175600" y="1077840"/>
                <a:ext cx="6480" cy="5028840"/>
              </a:xfrm>
              <a:custGeom>
                <a:avLst/>
                <a:gdLst/>
                <a:ahLst/>
                <a:rect l="l" t="t" r="r" b="b"/>
                <a:pathLst>
                  <a:path w="4" h="3168">
                    <a:moveTo>
                      <a:pt x="4" y="0"/>
                    </a:moveTo>
                    <a:lnTo>
                      <a:pt x="0" y="3168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71040" y="1077840"/>
                <a:ext cx="1440" cy="5015880"/>
              </a:xfrm>
              <a:custGeom>
                <a:avLst/>
                <a:gdLst/>
                <a:ahLst/>
                <a:rect l="l" t="t" r="r" b="b"/>
                <a:pathLst>
                  <a:path w="1" h="3160">
                    <a:moveTo>
                      <a:pt x="0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559640" y="1071360"/>
                <a:ext cx="6480" cy="5035320"/>
              </a:xfrm>
              <a:custGeom>
                <a:avLst/>
                <a:gdLst/>
                <a:ahLst/>
                <a:rect l="l" t="t" r="r" b="b"/>
                <a:pathLst>
                  <a:path w="4" h="3172">
                    <a:moveTo>
                      <a:pt x="4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236000" y="1064880"/>
                <a:ext cx="22320" cy="5065560"/>
              </a:xfrm>
              <a:custGeom>
                <a:avLst/>
                <a:gdLst/>
                <a:ahLst/>
                <a:rect l="l" t="t" r="r" b="b"/>
                <a:pathLst>
                  <a:path w="14" h="3191">
                    <a:moveTo>
                      <a:pt x="0" y="0"/>
                    </a:moveTo>
                    <a:lnTo>
                      <a:pt x="14" y="3191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943680" y="1090440"/>
                <a:ext cx="6480" cy="5016240"/>
              </a:xfrm>
              <a:custGeom>
                <a:avLst/>
                <a:gdLst/>
                <a:ahLst/>
                <a:rect l="l" t="t" r="r" b="b"/>
                <a:pathLst>
                  <a:path w="4" h="3160">
                    <a:moveTo>
                      <a:pt x="4" y="0"/>
                    </a:moveTo>
                    <a:lnTo>
                      <a:pt x="0" y="3160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639120" y="1090440"/>
                <a:ext cx="1440" cy="5003280"/>
              </a:xfrm>
              <a:custGeom>
                <a:avLst/>
                <a:gdLst/>
                <a:ahLst/>
                <a:rect l="l" t="t" r="r" b="b"/>
                <a:pathLst>
                  <a:path w="1" h="3152">
                    <a:moveTo>
                      <a:pt x="0" y="0"/>
                    </a:moveTo>
                    <a:lnTo>
                      <a:pt x="0" y="315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16680" y="1052640"/>
                <a:ext cx="17640" cy="5078160"/>
              </a:xfrm>
              <a:custGeom>
                <a:avLst/>
                <a:gdLst/>
                <a:ahLst/>
                <a:rect l="l" t="t" r="r" b="b"/>
                <a:pathLst>
                  <a:path w="11" h="3199">
                    <a:moveTo>
                      <a:pt x="0" y="0"/>
                    </a:moveTo>
                    <a:lnTo>
                      <a:pt x="11" y="3199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711760" y="1077840"/>
                <a:ext cx="1800" cy="5034960"/>
              </a:xfrm>
              <a:custGeom>
                <a:avLst/>
                <a:gdLst/>
                <a:ahLst/>
                <a:rect l="l" t="t" r="r" b="b"/>
                <a:pathLst>
                  <a:path w="1" h="3172">
                    <a:moveTo>
                      <a:pt x="0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407200" y="1083960"/>
                <a:ext cx="6120" cy="5022720"/>
              </a:xfrm>
              <a:custGeom>
                <a:avLst/>
                <a:gdLst/>
                <a:ahLst/>
                <a:rect l="l" t="t" r="r" b="b"/>
                <a:pathLst>
                  <a:path w="4" h="3164">
                    <a:moveTo>
                      <a:pt x="4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089680" y="1077840"/>
                <a:ext cx="12600" cy="5022360"/>
              </a:xfrm>
              <a:custGeom>
                <a:avLst/>
                <a:gdLst/>
                <a:ahLst/>
                <a:rect l="l" t="t" r="r" b="b"/>
                <a:pathLst>
                  <a:path w="8" h="3164">
                    <a:moveTo>
                      <a:pt x="0" y="0"/>
                    </a:moveTo>
                    <a:lnTo>
                      <a:pt x="8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91240" y="1077840"/>
                <a:ext cx="6120" cy="5022360"/>
              </a:xfrm>
              <a:custGeom>
                <a:avLst/>
                <a:gdLst/>
                <a:ahLst/>
                <a:rect l="l" t="t" r="r" b="b"/>
                <a:pathLst>
                  <a:path w="4" h="3164">
                    <a:moveTo>
                      <a:pt x="4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486320" y="1077840"/>
                <a:ext cx="1800" cy="5034960"/>
              </a:xfrm>
              <a:custGeom>
                <a:avLst/>
                <a:gdLst/>
                <a:ahLst/>
                <a:rect l="l" t="t" r="r" b="b"/>
                <a:pathLst>
                  <a:path w="1" h="3172">
                    <a:moveTo>
                      <a:pt x="0" y="0"/>
                    </a:moveTo>
                    <a:lnTo>
                      <a:pt x="0" y="3172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175280" y="1077840"/>
                <a:ext cx="1440" cy="5022360"/>
              </a:xfrm>
              <a:custGeom>
                <a:avLst/>
                <a:gdLst/>
                <a:ahLst/>
                <a:rect l="l" t="t" r="r" b="b"/>
                <a:pathLst>
                  <a:path w="1" h="3164">
                    <a:moveTo>
                      <a:pt x="0" y="0"/>
                    </a:moveTo>
                    <a:lnTo>
                      <a:pt x="0" y="3164"/>
                    </a:lnTo>
                  </a:path>
                </a:pathLst>
              </a:custGeom>
              <a:noFill/>
              <a:ln w="12600">
                <a:solidFill>
                  <a:srgbClr val="4d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/>
            <p:nvPr/>
          </p:nvSpPr>
          <p:spPr>
            <a:xfrm>
              <a:off x="3924360" y="3571920"/>
              <a:ext cx="4897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11880" y="1079640"/>
              <a:ext cx="25560" cy="5003640"/>
            </a:xfrm>
            <a:custGeom>
              <a:avLst/>
              <a:gdLst/>
              <a:ahLst/>
              <a:rect l="l" t="t" r="r" b="b"/>
              <a:pathLst>
                <a:path w="16" h="3152">
                  <a:moveTo>
                    <a:pt x="16" y="315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16720" y="35719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42920" y="3571920"/>
              <a:ext cx="215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   2   3  4   5   6   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96720" y="3500280"/>
              <a:ext cx="217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 -6 -5 -4  -3  -2  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13800" y="1413000"/>
              <a:ext cx="3070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29440" y="3645000"/>
              <a:ext cx="3834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64000" y="3573360"/>
              <a:ext cx="1872000" cy="2976840"/>
            </a:xfrm>
            <a:custGeom>
              <a:avLst/>
              <a:gdLst/>
              <a:ahLst/>
              <a:rect l="l" t="t" r="r" b="b"/>
              <a:pathLst>
                <a:path w="1200" h="1875">
                  <a:moveTo>
                    <a:pt x="0" y="1875"/>
                  </a:moveTo>
                  <a:cubicBezTo>
                    <a:pt x="37" y="1683"/>
                    <a:pt x="152" y="992"/>
                    <a:pt x="224" y="707"/>
                  </a:cubicBezTo>
                  <a:cubicBezTo>
                    <a:pt x="296" y="422"/>
                    <a:pt x="368" y="280"/>
                    <a:pt x="432" y="163"/>
                  </a:cubicBezTo>
                  <a:cubicBezTo>
                    <a:pt x="496" y="46"/>
                    <a:pt x="547" y="0"/>
                    <a:pt x="608" y="3"/>
                  </a:cubicBezTo>
                  <a:cubicBezTo>
                    <a:pt x="669" y="6"/>
                    <a:pt x="736" y="65"/>
                    <a:pt x="800" y="179"/>
                  </a:cubicBezTo>
                  <a:cubicBezTo>
                    <a:pt x="864" y="293"/>
                    <a:pt x="925" y="416"/>
                    <a:pt x="992" y="691"/>
                  </a:cubicBezTo>
                  <a:cubicBezTo>
                    <a:pt x="1059" y="966"/>
                    <a:pt x="1157" y="1590"/>
                    <a:pt x="1200" y="1827"/>
                  </a:cubicBezTo>
                </a:path>
              </a:pathLst>
            </a:custGeom>
            <a:noFill/>
            <a:ln w="2844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132000" y="3141720"/>
            <a:ext cx="1944720" cy="720720"/>
          </a:xfrm>
          <a:prstGeom prst="wedgeEllipseCallout">
            <a:avLst>
              <a:gd name="adj1" fmla="val -90490"/>
              <a:gd name="adj2" fmla="val 6035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11880" y="2060640"/>
            <a:ext cx="257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=3х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4х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24000" y="39355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21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4000" y="1270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3070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189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из функций является ограниченной сверх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911520" y="126828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(–х–2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1880" y="292572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(х+2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11520" y="378792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–(х+2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92360" y="765000"/>
            <a:ext cx="2160720" cy="57636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03640" y="163044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635280" y="2422440"/>
            <a:ext cx="2232000" cy="649440"/>
          </a:xfrm>
          <a:prstGeom prst="wedgeEllipseCallout">
            <a:avLst>
              <a:gd name="adj1" fmla="val -100925"/>
              <a:gd name="adj2" fmla="val 22370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364000" y="3573360"/>
            <a:ext cx="1872000" cy="2976840"/>
          </a:xfrm>
          <a:custGeom>
            <a:avLst/>
            <a:gdLst/>
            <a:ahLst/>
            <a:rect l="l" t="t" r="r" b="b"/>
            <a:pathLst>
              <a:path w="1200" h="1875">
                <a:moveTo>
                  <a:pt x="0" y="1875"/>
                </a:moveTo>
                <a:cubicBezTo>
                  <a:pt x="37" y="1683"/>
                  <a:pt x="152" y="992"/>
                  <a:pt x="224" y="707"/>
                </a:cubicBezTo>
                <a:cubicBezTo>
                  <a:pt x="296" y="422"/>
                  <a:pt x="368" y="280"/>
                  <a:pt x="432" y="163"/>
                </a:cubicBezTo>
                <a:cubicBezTo>
                  <a:pt x="496" y="46"/>
                  <a:pt x="547" y="0"/>
                  <a:pt x="608" y="3"/>
                </a:cubicBezTo>
                <a:cubicBezTo>
                  <a:pt x="669" y="6"/>
                  <a:pt x="736" y="65"/>
                  <a:pt x="800" y="179"/>
                </a:cubicBezTo>
                <a:cubicBezTo>
                  <a:pt x="864" y="293"/>
                  <a:pt x="925" y="416"/>
                  <a:pt x="992" y="691"/>
                </a:cubicBezTo>
                <a:cubicBezTo>
                  <a:pt x="1059" y="966"/>
                  <a:pt x="1157" y="1590"/>
                  <a:pt x="1200" y="182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393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2.96296E-006 L -0.06563 -2.96296E-006 L -0.06563 0.03982 L -0.06701 0.04074 E">
                                      <p:cBhvr>
                                        <p:cTn id="407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8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429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419640" y="620640"/>
            <a:ext cx="1944360" cy="720720"/>
          </a:xfrm>
          <a:prstGeom prst="wedgeEllipseCallout">
            <a:avLst>
              <a:gd name="adj1" fmla="val -90490"/>
              <a:gd name="adj2" fmla="val 60351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81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ЕР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141300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4000" y="12682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24000" y="21337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4000" y="400536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4000" y="307008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0920" y="18900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из функций является ограниченной сниз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911520" y="126828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(–х–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911880" y="2925720"/>
            <a:ext cx="20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–2х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11160" y="378792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–2(х–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19640" y="4149720"/>
            <a:ext cx="2160360" cy="576360"/>
          </a:xfrm>
          <a:prstGeom prst="wedgeEllipseCallout">
            <a:avLst>
              <a:gd name="adj1" fmla="val -105472"/>
              <a:gd name="adj2" fmla="val 49449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203640" y="1630440"/>
            <a:ext cx="2160360" cy="576360"/>
          </a:xfrm>
          <a:prstGeom prst="wedgeEllipseCallout">
            <a:avLst>
              <a:gd name="adj1" fmla="val -95259"/>
              <a:gd name="adj2" fmla="val 73416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635280" y="2421000"/>
            <a:ext cx="2232000" cy="649080"/>
          </a:xfrm>
          <a:prstGeom prst="wedgeEllipseCallout">
            <a:avLst>
              <a:gd name="adj1" fmla="val -103199"/>
              <a:gd name="adj2" fmla="val 45842"/>
            </a:avLst>
          </a:prstGeom>
          <a:gradFill rotWithShape="0">
            <a:gsLst>
              <a:gs pos="0">
                <a:srgbClr val="00ffcc"/>
              </a:gs>
              <a:gs pos="50000">
                <a:srgbClr val="ffffff"/>
              </a:gs>
              <a:gs pos="100000">
                <a:srgbClr val="00ffcc"/>
              </a:gs>
            </a:gsLst>
            <a:lin ang="8100000"/>
          </a:gra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УМАЙ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38440" y="2133720"/>
            <a:ext cx="264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–(х–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640" y="501336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у=(–х–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09040" y="4863960"/>
            <a:ext cx="301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(х+1)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ru-RU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33400" y="5018040"/>
            <a:ext cx="249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х+1)</a:t>
            </a:r>
            <a:r>
              <a:rPr b="0" lang="ru-RU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2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943240" y="5661000"/>
            <a:ext cx="201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&gt; 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8388360" y="6093000"/>
            <a:ext cx="576360" cy="57600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3794"/>
                </a:moveTo>
                <a:lnTo>
                  <a:pt x="17813" y="10800"/>
                </a:lnTo>
                <a:lnTo>
                  <a:pt x="380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258920" y="2565360"/>
            <a:ext cx="433440" cy="358920"/>
          </a:xfrm>
          <a:custGeom>
            <a:avLst/>
            <a:gdLst/>
            <a:ahLst/>
            <a:rect l="l" t="t" r="r" b="b"/>
            <a:pathLst>
              <a:path w="273" h="226">
                <a:moveTo>
                  <a:pt x="0" y="90"/>
                </a:moveTo>
                <a:lnTo>
                  <a:pt x="91" y="136"/>
                </a:lnTo>
                <a:lnTo>
                  <a:pt x="182" y="226"/>
                </a:lnTo>
                <a:lnTo>
                  <a:pt x="227" y="90"/>
                </a:lnTo>
                <a:lnTo>
                  <a:pt x="273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3284640"/>
            <a:ext cx="433440" cy="358560"/>
          </a:xfrm>
          <a:custGeom>
            <a:avLst/>
            <a:gdLst/>
            <a:ahLst/>
            <a:rect l="l" t="t" r="r" b="b"/>
            <a:pathLst>
              <a:path w="273" h="226">
                <a:moveTo>
                  <a:pt x="0" y="90"/>
                </a:moveTo>
                <a:lnTo>
                  <a:pt x="91" y="136"/>
                </a:lnTo>
                <a:lnTo>
                  <a:pt x="182" y="226"/>
                </a:lnTo>
                <a:lnTo>
                  <a:pt x="227" y="90"/>
                </a:lnTo>
                <a:lnTo>
                  <a:pt x="273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332000" y="4221000"/>
            <a:ext cx="433440" cy="358920"/>
          </a:xfrm>
          <a:custGeom>
            <a:avLst/>
            <a:gdLst/>
            <a:ahLst/>
            <a:rect l="l" t="t" r="r" b="b"/>
            <a:pathLst>
              <a:path w="273" h="226">
                <a:moveTo>
                  <a:pt x="0" y="90"/>
                </a:moveTo>
                <a:lnTo>
                  <a:pt x="91" y="136"/>
                </a:lnTo>
                <a:lnTo>
                  <a:pt x="182" y="226"/>
                </a:lnTo>
                <a:lnTo>
                  <a:pt x="227" y="90"/>
                </a:lnTo>
                <a:lnTo>
                  <a:pt x="273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50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3500"/>
                            </p:stCondLst>
                            <p:childTnLst>
                              <p:par>
                                <p:cTn id="46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500"/>
                            </p:stCondLst>
                            <p:childTnLst>
                              <p:par>
                                <p:cTn id="476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0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8500"/>
                            </p:stCondLst>
                            <p:childTnLst>
                              <p:par>
                                <p:cTn id="4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7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488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4T13:06:22Z</dcterms:created>
  <dc:creator>ADMINISTRATION</dc:creator>
  <dc:description/>
  <dc:language>en-US</dc:language>
  <cp:lastModifiedBy>Марина</cp:lastModifiedBy>
  <dcterms:modified xsi:type="dcterms:W3CDTF">2011-02-07T20:26:19Z</dcterms:modified>
  <cp:revision>63</cp:revision>
  <dc:subject/>
  <dc:title>Слайд 1</dc:title>
</cp:coreProperties>
</file>