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D3DB-E431-44B4-A28E-E55080CC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CACD-88FC-4B25-8CEB-053E18CC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ECB1-05E9-43AE-BF34-CB84C9B4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FD41-7838-42DC-8472-9E0F8231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9E01-45FB-49F5-8D22-3A9F2B7E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1EDAF-FACA-468E-9803-174036D4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9115-A9F5-4280-9F71-AE1194DD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B75F-187A-4865-8586-B0368E7C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7ED4-1FF6-4DE6-9D1C-2032D539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6A28-9C48-4F7A-A26A-C1C61751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3296-2EFE-4807-BA1A-78FCB6AA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15B7-D2AD-465B-808E-1EE7AFFA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018E-B960-4534-826F-729BDE72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3DFA-26E3-46A7-A723-9F179026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6EC5-9290-4E10-9F41-9A237C05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6942-B1EE-4AFC-8E00-43F60C0B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1000-BBB3-4E6B-87A6-336E12525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F676-80A1-4C53-B6B9-B21A483E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6E4C-AADC-4108-A08E-A0FFC943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A1EB-3217-4EA1-A740-384973F7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2C8C-B718-46FA-A846-630D932E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F310-2119-441C-A796-8754987F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3A27-BE17-4491-82DC-996F1D37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DF0D-BB7D-4898-B50E-A1A0E834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75E0-FD17-4C10-BAB6-57B31C2536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BFA8-CF5A-4FC0-ADD9-CA5AAB5199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1055;&#1086;&#1074;&#1090;&#1086;&#1088;&#1077;&#1085;&#1080;&#1077;%208.ppt" TargetMode="External"/><Relationship Id="rId2" Type="http://schemas.openxmlformats.org/officeDocument/2006/relationships/hyperlink" Target="file:///itog-alg_8.ppt" TargetMode="External"/><Relationship Id="rId3" Type="http://schemas.openxmlformats.org/officeDocument/2006/relationships/hyperlink" Target="file:///&#1055;&#1086;&#1076;&#1075;&#1086;&#1090;&#1086;&#1074;&#1082;&#1072;%20&#1091;&#1095;&#1072;&#1097;&#1080;&#1093;&#1089;&#1103;%20&#1086;&#1089;&#1085;&#1086;&#1074;&#1085;&#1086;&#1081;%20&#1096;&#1082;&#1086;&#1083;&#1099;%20&#1082;%20&#1043;&#1048;&#1040;%20&#1087;&#1086;%20&#1084;&#1072;&#1090;&#1077;&#1084;&#1072;&#1090;&#1080;&#1082;&#1077;.ppt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Компьютерное тестирование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итайская притча гласи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Скажи мне – и я забуд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кажи мне – и я запомню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Дай сделать – и я пой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0033"/>
                </a:solidFill>
                <a:latin typeface="Times New Roman"/>
              </a:rPr>
              <a:t>Компьютерное тестирование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Достоинства компьютерного тестир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естовые программы позволяют быстро оценивать результат работы, точно определять темы, в которых имеются пробелы в зна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Использование компьютерного теста позволяет проверить степень усвоения материала у всех учащихся, что невозможно, например, при устном опро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и компьютерном тестировании учащийся видит свой результат сразу после выполнения задания, а не по происшествии какого-либо времени, когда для него оценка теряет свою актуа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Решая тест, ученик получает объективную оценку </a:t>
            </a: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1"/>
              </a:rPr>
              <a:t>знаний</a:t>
            </a:r>
            <a:r>
              <a:rPr b="0" lang="en-US" sz="2000" spc="-1" strike="noStrike" u="sng">
                <a:solidFill>
                  <a:srgbClr val="990033"/>
                </a:solidFill>
                <a:uFillTx/>
                <a:latin typeface="Arial"/>
                <a:hlinkClick r:id="rId2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и ум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3"/>
          </p:cNvPr>
          <p:cNvSpPr/>
          <p:nvPr/>
        </p:nvSpPr>
        <p:spPr>
          <a:xfrm>
            <a:off x="8101080" y="6308640"/>
            <a:ext cx="503280" cy="54936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49360"/>
              <a:gd name="textAreaBottom" fmla="*/ 516960 h 549360"/>
            </a:gdLst>
            <a:ahLst/>
            <a:rect l="textAreaLeft" t="textAreaTop" r="textAreaRight" b="textAreaBottom"/>
            <a:pathLst>
              <a:path w="21600" h="23576">
                <a:moveTo>
                  <a:pt x="0" y="0"/>
                </a:moveTo>
                <a:lnTo>
                  <a:pt x="21600" y="0"/>
                </a:lnTo>
                <a:lnTo>
                  <a:pt x="21600" y="23576"/>
                </a:lnTo>
                <a:lnTo>
                  <a:pt x="0" y="23576"/>
                </a:lnTo>
                <a:close/>
              </a:path>
              <a:path fill="lightenLess" w="21600" h="235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576">
                <a:moveTo>
                  <a:pt x="21600" y="0"/>
                </a:moveTo>
                <a:lnTo>
                  <a:pt x="21600" y="23576"/>
                </a:lnTo>
                <a:lnTo>
                  <a:pt x="20200" y="22176"/>
                </a:lnTo>
                <a:lnTo>
                  <a:pt x="20200" y="1400"/>
                </a:lnTo>
                <a:close/>
              </a:path>
              <a:path fill="darkenLess" w="21600" h="23576">
                <a:moveTo>
                  <a:pt x="21600" y="23576"/>
                </a:moveTo>
                <a:lnTo>
                  <a:pt x="0" y="23576"/>
                </a:lnTo>
                <a:lnTo>
                  <a:pt x="1400" y="22176"/>
                </a:lnTo>
                <a:lnTo>
                  <a:pt x="20200" y="22176"/>
                </a:lnTo>
                <a:close/>
              </a:path>
              <a:path fill="lighten" w="21600" h="23576">
                <a:moveTo>
                  <a:pt x="0" y="235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176"/>
                </a:lnTo>
                <a:close/>
              </a:path>
              <a:path fill="darken" w="21600" h="23576">
                <a:moveTo>
                  <a:pt x="3794" y="8481"/>
                </a:moveTo>
                <a:lnTo>
                  <a:pt x="7301" y="8481"/>
                </a:lnTo>
                <a:lnTo>
                  <a:pt x="7301" y="13816"/>
                </a:lnTo>
                <a:cubicBezTo>
                  <a:pt x="7301" y="14739"/>
                  <a:pt x="8102" y="15470"/>
                  <a:pt x="9138" y="15470"/>
                </a:cubicBezTo>
                <a:lnTo>
                  <a:pt x="10800" y="15470"/>
                </a:lnTo>
                <a:cubicBezTo>
                  <a:pt x="11836" y="15470"/>
                  <a:pt x="12636" y="14739"/>
                  <a:pt x="12636" y="13816"/>
                </a:cubicBezTo>
                <a:lnTo>
                  <a:pt x="12636" y="8481"/>
                </a:lnTo>
                <a:lnTo>
                  <a:pt x="10800" y="8481"/>
                </a:lnTo>
                <a:lnTo>
                  <a:pt x="14308" y="4973"/>
                </a:lnTo>
                <a:lnTo>
                  <a:pt x="17981" y="8481"/>
                </a:lnTo>
                <a:lnTo>
                  <a:pt x="16144" y="8481"/>
                </a:lnTo>
                <a:lnTo>
                  <a:pt x="16144" y="13816"/>
                </a:lnTo>
                <a:cubicBezTo>
                  <a:pt x="16144" y="16584"/>
                  <a:pt x="13568" y="19143"/>
                  <a:pt x="10800" y="19143"/>
                </a:cubicBezTo>
                <a:lnTo>
                  <a:pt x="9138" y="19143"/>
                </a:lnTo>
                <a:cubicBezTo>
                  <a:pt x="6370" y="19143"/>
                  <a:pt x="3794" y="16584"/>
                  <a:pt x="3794" y="13816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20:34:22Z</dcterms:created>
  <dc:creator>Марина</dc:creator>
  <dc:description/>
  <dc:language>en-US</dc:language>
  <cp:lastModifiedBy>марина</cp:lastModifiedBy>
  <dcterms:modified xsi:type="dcterms:W3CDTF">2011-10-13T15:57:09Z</dcterms:modified>
  <cp:revision>5</cp:revision>
  <dc:subject/>
  <dc:title>Компьютерное тестирование</dc:title>
</cp:coreProperties>
</file>