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1E53-7898-442F-A55D-1BE7DD241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F718-4D80-4130-88A9-CF99C4D1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47F-8F6E-4908-AC78-E535BDAF5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23AA-256F-4EC4-AEA3-F4318FB80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E188-E36B-4870-A956-FEEABC9D5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E8A7-11C0-4BDC-B283-16C70168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DBA0-8E99-402B-A2E6-90931BAD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BE31-13BC-42FA-9892-D98C433F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EDBA-B35F-4D03-B834-40AF8767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6E96-E879-4688-A5EC-B09AEFEA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6E1F-DAEA-4490-A9B9-2544697C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E907-B65C-4C57-9511-EF8D43A7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72417-F4A1-4C6E-BF59-25CD862E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6220-E112-4B04-BEB9-CB33B7FE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A8A8-B720-424E-B9FA-E90B21D1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EFB2-C7D2-4607-BC16-3F60C997B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C03F-79BB-4577-807F-0ED493F8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1C2B-94DC-43AE-BD26-F910FDD1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1F63-81ED-4764-B567-A41CE5D87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6A2-C6FA-4736-A47E-A94C7F9B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9E7-C084-4DA5-9DB0-776D1C9D8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9EC2-709E-409F-B130-27FD2040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904-6F87-4536-9F7A-1302D2B6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3C0E-464D-4EBF-8299-D3D36644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55F5E-707C-4D82-AF1A-B24F8052D2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abe9d"/>
                  </a:gs>
                  <a:gs pos="100000">
                    <a:srgbClr val="667e6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5b7b65"/>
                </a:gs>
                <a:gs pos="100000">
                  <a:srgbClr val="374a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9abe9d"/>
                </a:gs>
                <a:gs pos="100000">
                  <a:srgbClr val="90b2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abe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9abe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9abe9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5b7b6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66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6D22-0314-49D8-B613-DBDC52BF6EC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4e705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9ce8a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Blackadder ITC"/>
              </a:rPr>
              <a:t>Квадратичная функция и ее свойства</a:t>
            </a:r>
            <a:r>
              <a:rPr b="0" lang="en-US" sz="5400" spc="-1" strike="noStrike">
                <a:solidFill>
                  <a:srgbClr val="336600"/>
                </a:solidFill>
                <a:latin typeface="Blackadder ITC"/>
              </a:rPr>
              <a:t>.</a:t>
            </a:r>
            <a:endParaRPr b="0" lang="en-US" sz="5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6635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Определение.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ункция вида     </a:t>
            </a:r>
            <a:r>
              <a:rPr b="0" lang="ru-RU" sz="3600" spc="-1" strike="noStrike">
                <a:solidFill>
                  <a:srgbClr val="ff3300"/>
                </a:solidFill>
                <a:latin typeface="Verdana"/>
              </a:rPr>
              <a:t>у = ах</a:t>
            </a:r>
            <a:r>
              <a:rPr b="0" lang="ru-RU" sz="36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ru-RU" sz="3600" spc="-1" strike="noStrike">
                <a:solidFill>
                  <a:srgbClr val="ff3300"/>
                </a:solidFill>
                <a:latin typeface="Verdana"/>
              </a:rPr>
              <a:t>+</a:t>
            </a:r>
            <a:r>
              <a:rPr b="0" lang="en-US" sz="36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0" lang="ru-RU" sz="3600" spc="-1" strike="noStrike">
                <a:solidFill>
                  <a:srgbClr val="ff3300"/>
                </a:solidFill>
                <a:latin typeface="Verdana"/>
              </a:rPr>
              <a:t>х+с,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где а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b, c –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заданные числа, а≠0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х – действительная переменная, называется </a:t>
            </a:r>
            <a:r>
              <a:rPr b="0" lang="ru-RU" sz="3600" spc="-1" strike="noStrike">
                <a:solidFill>
                  <a:srgbClr val="ff3300"/>
                </a:solidFill>
                <a:latin typeface="Verdana"/>
              </a:rPr>
              <a:t>квадратичной функцией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Примеры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) 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5х+1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4)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=x</a:t>
            </a:r>
            <a:r>
              <a:rPr b="0" lang="en-US" sz="2800" spc="-1" strike="noStrike" baseline="30000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7x-1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2) у=3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-1                       5) у=4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) у=-2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х+3                 6)  у=-3х</a:t>
            </a:r>
            <a:r>
              <a:rPr b="0" lang="ru-RU" sz="28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+2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333440" cy="1323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7236000" y="115920"/>
            <a:ext cx="133344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" dur="3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Вершина параболы: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91520" cy="47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610320" y="2587680"/>
                <a:ext cx="1144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087960" y="3943440"/>
                <a:ext cx="1155960" cy="21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220640"/>
            <a:ext cx="867564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Зада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координаты вершины параболы:                   1) у = х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-4х-5         2) у=-5х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+3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:(2;-9)            Ответ:(0;3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ff3300"/>
                </a:solidFill>
                <a:latin typeface="Verdana"/>
              </a:rPr>
              <a:t>Уравнение оси симметрии:  </a:t>
            </a:r>
            <a:r>
              <a:rPr b="1" lang="ru-RU" sz="4000" spc="-1" strike="noStrike">
                <a:solidFill>
                  <a:srgbClr val="ff3300"/>
                </a:solidFill>
                <a:latin typeface="Verdana"/>
              </a:rPr>
              <a:t>х=х </a:t>
            </a:r>
            <a:r>
              <a:rPr b="1" lang="ru-RU" sz="4000" spc="-1" strike="noStrike" baseline="-25000">
                <a:solidFill>
                  <a:srgbClr val="ff3300"/>
                </a:solidFill>
                <a:latin typeface="Verdana"/>
              </a:rPr>
              <a:t>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79280" y="1628640"/>
                <a:ext cx="8569440" cy="19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Arial"/>
              </a:rPr>
              <a:t>Координаты точек пересечения параболы с осями координат.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С Ох: у=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        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ах</a:t>
            </a:r>
            <a:r>
              <a:rPr b="1" lang="ru-RU" sz="24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+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b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х+с=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С Оу: х=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         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у=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Задани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йти координаты точек пересечения параболы с осями координат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1)у=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х;          2)у=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+3;             3)у=5х</a:t>
            </a:r>
            <a:r>
              <a:rPr b="1" lang="ru-RU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3х-2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(0;0);(1;0)           (0;3)               (1;0);(-0,4;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7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002800" cy="10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Тест.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4920" y="1379520"/>
          <a:ext cx="9109080" cy="5531040"/>
        </p:xfrm>
        <a:graphic>
          <a:graphicData uri="http://schemas.openxmlformats.org/drawingml/2006/table">
            <a:tbl>
              <a:tblPr/>
              <a:tblGrid>
                <a:gridCol w="1488960"/>
                <a:gridCol w="1524240"/>
                <a:gridCol w="1379520"/>
                <a:gridCol w="1668240"/>
                <a:gridCol w="1524240"/>
                <a:gridCol w="1523880"/>
              </a:tblGrid>
              <a:tr h="7038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Для каждой из функций, графики которых изображены, выберите соответствующее условие и отметьте знаком «+»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D&gt;0;a&gt;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D&gt;0;a&lt;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D&lt;0;a&gt;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D&lt;0;a&lt;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D=0;a&gt;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D=0;a&lt;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1333440" cy="1324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3059280" y="2205000"/>
            <a:ext cx="1333440" cy="1324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572000" y="2276640"/>
            <a:ext cx="1333440" cy="13237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227640" y="2205000"/>
            <a:ext cx="1333800" cy="1324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>
            <a:off x="7667640" y="2276640"/>
            <a:ext cx="1333440" cy="1323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635280" y="393372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124000" y="443700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494172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59640" y="544500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72360" y="602136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строить график функции и по графику выяснить ее свойства.</a:t>
            </a:r>
            <a:endParaRPr b="0" lang="en-US" sz="40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8595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у= -х</a:t>
            </a:r>
            <a:r>
              <a:rPr b="0" lang="ru-RU" sz="4800" spc="-1" strike="noStrike" baseline="30000">
                <a:solidFill>
                  <a:srgbClr val="ff33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ff3300"/>
                </a:solidFill>
                <a:latin typeface="Verdana"/>
              </a:rPr>
              <a:t>-6х-8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2492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95640" y="278136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Свойства функ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920" y="38242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0 на промежут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4438800"/>
            <a:ext cx="42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0 на промежут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501336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ункция возрастает на промежут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5589720"/>
            <a:ext cx="55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Функция убывает на промежут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31640" y="6058080"/>
            <a:ext cx="54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Наибольшее значение функции рав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348000" y="386064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(-4;-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8000" y="4508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(-∞;-4);(-2;∞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6720" y="5013360"/>
            <a:ext cx="27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(-∞;-3</a:t>
            </a: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24360" y="5589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[-3</a:t>
            </a:r>
            <a:r>
              <a:rPr b="1" lang="ru-RU" sz="2400" spc="-1" strike="noStrike">
                <a:solidFill>
                  <a:srgbClr val="ff3300"/>
                </a:solidFill>
                <a:latin typeface="Verdana"/>
              </a:rPr>
              <a:t>;∞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6000" y="60930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</a:rPr>
              <a:t>1, при х=-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002800" cy="87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Тест.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4920" y="941400"/>
          <a:ext cx="9109080" cy="5916600"/>
        </p:xfrm>
        <a:graphic>
          <a:graphicData uri="http://schemas.openxmlformats.org/drawingml/2006/table">
            <a:tbl>
              <a:tblPr/>
              <a:tblGrid>
                <a:gridCol w="1488960"/>
                <a:gridCol w="1524240"/>
                <a:gridCol w="1379520"/>
                <a:gridCol w="1668240"/>
                <a:gridCol w="1524240"/>
                <a:gridCol w="1523880"/>
              </a:tblGrid>
              <a:tr h="6462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(-1;1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(-</a:t>
                      </a: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;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(1;</a:t>
                      </a: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∞</a:t>
                      </a: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(-∞;∞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(-1;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≠-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ет значений 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0" y="1089000"/>
          <a:ext cx="9144000" cy="5918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379520"/>
                <a:gridCol w="1668240"/>
                <a:gridCol w="1524240"/>
                <a:gridCol w="152388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&lt;</a:t>
                      </a:r>
                      <a:r>
                        <a:rPr b="0" lang="ru-RU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&lt;</a:t>
                      </a:r>
                      <a:r>
                        <a:rPr b="0" lang="ru-RU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&gt;</a:t>
                      </a:r>
                      <a:r>
                        <a:rPr b="0" lang="ru-RU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&gt;</a:t>
                      </a:r>
                      <a:r>
                        <a:rPr b="0" lang="ru-RU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у</a:t>
                      </a:r>
                      <a:r>
                        <a:rPr b="0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&lt;</a:t>
                      </a:r>
                      <a:r>
                        <a:rPr b="0" lang="ru-RU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584360" y="1773360"/>
            <a:ext cx="1401840" cy="14619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3059280" y="1773360"/>
            <a:ext cx="1338120" cy="15238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667640" y="1808280"/>
            <a:ext cx="1338120" cy="1420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4535640" y="1844640"/>
            <a:ext cx="1439640" cy="1440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6192720" y="1844640"/>
            <a:ext cx="1338480" cy="1324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050920" y="602136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4869000"/>
            <a:ext cx="216000" cy="21564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076720" y="4221000"/>
            <a:ext cx="216000" cy="2160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5408640"/>
            <a:ext cx="215640" cy="2160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209080" y="6524640"/>
            <a:ext cx="215640" cy="216000"/>
          </a:xfrm>
          <a:prstGeom prst="smileyFace">
            <a:avLst>
              <a:gd name="adj" fmla="val 9282"/>
            </a:avLst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e9d"/>
            </a:gs>
            <a:gs pos="100000">
              <a:srgbClr val="3c4a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Домашнее</a:t>
            </a:r>
            <a:r>
              <a:rPr b="0" i="1" lang="en-US" sz="4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33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№ 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630(2,3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№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635(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№</a:t>
            </a:r>
            <a:r>
              <a:rPr b="0" lang="en-US" sz="3200" spc="-1" strike="noStrike">
                <a:solidFill>
                  <a:srgbClr val="ff9900"/>
                </a:solidFill>
                <a:latin typeface="Verdana"/>
              </a:rPr>
              <a:t>639(2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4788000" y="3822840"/>
            <a:ext cx="32400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7:44:30Z</dcterms:created>
  <dc:creator>Малышев</dc:creator>
  <dc:description/>
  <dc:language>en-US</dc:language>
  <cp:lastModifiedBy>Марина</cp:lastModifiedBy>
  <dcterms:modified xsi:type="dcterms:W3CDTF">2011-10-06T15:08:02Z</dcterms:modified>
  <cp:revision>21</cp:revision>
  <dc:subject/>
  <dc:title>Квадратичная функция и ее свойства.</dc:title>
</cp:coreProperties>
</file>