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AA8-A00D-4B3C-BCF4-D6CD734CD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5BE-A166-4C4F-BF3C-74F46979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102-CA6A-4693-8ABF-6CF62584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7D87-0CDF-4FE2-A6F9-27F90B1E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3A9A-C16E-4F65-BB3F-11049E762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243-AE1D-4D35-AB83-AB725285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9B34-90F9-4B40-920F-C42DE2A5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1E812-BFB0-46AC-AD0E-66795E788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5136-004B-4445-97E1-E9B58002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3D129-22F4-410B-8B5F-B1CB755BE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6546-3913-4BED-AF2A-5CC6D3A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0AD2-57DB-4DC8-B0BD-6847326E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9401-1FBA-4FDB-BD99-56854555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CD73-AE8B-4EA6-B7B0-0C24F010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D4EC-0355-4398-9305-3E9C0C8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A677-0646-4B72-8FEE-61CB3B04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A8F6-E305-4444-99AA-73C1342BE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A47-4161-4569-A9D9-8F2C9AC4A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9709-3C95-465E-9EE9-B2FEF5106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8EB-D48E-4A8D-A198-C220DF89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261-4777-47DD-8335-52756DFD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34B8-C64A-46E1-AFAE-0640856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A49-C2B0-4672-A30D-F33C7A88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4F2-024A-4718-AA92-D13094D9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EE6F-7FE4-4238-9F73-0AC9D819E1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5621-3645-4205-99D9-7330EA0BF4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file:///&#1055;&#1086;&#1076;&#1075;&#1086;&#1090;&#1086;&#1074;&#1082;&#1072;%20&#1091;&#1095;&#1072;&#1097;&#1080;&#1093;&#1089;&#1103;%20&#1086;&#1089;&#1085;&#1086;&#1074;&#1085;&#1086;&#1081;%20&#1096;&#1082;&#1086;&#1083;&#1099;%20&#1082;%20&#1043;&#1048;&#1040;%20&#1087;&#1086;%20&#1084;&#1072;&#1090;&#1077;&#1084;&#1072;&#1090;&#1080;&#1082;&#1077;.pp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99"/>
                </a:solidFill>
                <a:latin typeface="Times New Roman"/>
              </a:rPr>
              <a:t>Тематические тесты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0033"/>
                </a:solidFill>
                <a:uFillTx/>
                <a:latin typeface="Arial"/>
              </a:rPr>
              <a:t>Преимущества тематического тес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 нём собраны разные задания по одной тем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а уроках можно рассматривать отдельные задания из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 такому тесту удобно проводить повтор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добно осуществлять контроль знаний и умений учащихся по данн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77040"/>
            <a:ext cx="77724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105080" cy="6264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859280" y="260280"/>
            <a:ext cx="4033800" cy="619308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3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7493"/>
                </a:moveTo>
                <a:lnTo>
                  <a:pt x="10360" y="7493"/>
                </a:lnTo>
                <a:lnTo>
                  <a:pt x="10360" y="12828"/>
                </a:lnTo>
                <a:cubicBezTo>
                  <a:pt x="10360" y="13751"/>
                  <a:pt x="11161" y="14482"/>
                  <a:pt x="12197" y="14482"/>
                </a:cubicBezTo>
                <a:lnTo>
                  <a:pt x="13859" y="14482"/>
                </a:lnTo>
                <a:cubicBezTo>
                  <a:pt x="14895" y="14482"/>
                  <a:pt x="15695" y="13751"/>
                  <a:pt x="15695" y="12828"/>
                </a:cubicBezTo>
                <a:lnTo>
                  <a:pt x="15695" y="7493"/>
                </a:lnTo>
                <a:lnTo>
                  <a:pt x="13859" y="7493"/>
                </a:lnTo>
                <a:lnTo>
                  <a:pt x="17367" y="3985"/>
                </a:lnTo>
                <a:lnTo>
                  <a:pt x="21039" y="7493"/>
                </a:lnTo>
                <a:lnTo>
                  <a:pt x="19203" y="7493"/>
                </a:lnTo>
                <a:lnTo>
                  <a:pt x="19203" y="12828"/>
                </a:lnTo>
                <a:cubicBezTo>
                  <a:pt x="19203" y="15596"/>
                  <a:pt x="16627" y="18155"/>
                  <a:pt x="13859" y="18155"/>
                </a:cubicBezTo>
                <a:lnTo>
                  <a:pt x="12197" y="18155"/>
                </a:lnTo>
                <a:cubicBezTo>
                  <a:pt x="9429" y="18155"/>
                  <a:pt x="6852" y="15596"/>
                  <a:pt x="6852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0:23:09Z</dcterms:created>
  <dc:creator>Марина</dc:creator>
  <dc:description/>
  <dc:language>en-US</dc:language>
  <cp:lastModifiedBy>Марина</cp:lastModifiedBy>
  <dcterms:modified xsi:type="dcterms:W3CDTF">2011-03-01T17:20:46Z</dcterms:modified>
  <cp:revision>3</cp:revision>
  <dc:subject/>
  <dc:title>Слайд 1</dc:title>
</cp:coreProperties>
</file>