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EBEE-F9E9-42D8-9A5E-293399D5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C0F5-A642-4D1A-A8C0-94537752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3EA4-36AA-42D4-902B-A5C73647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817A-0333-42BD-BB39-00FB22853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AA94-3388-42D2-A533-FBC9B5CC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F8B1-2437-4899-ADB7-DF3504E4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AB3-56AF-4AE4-98B5-7CB29968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8EFB-8D02-4EFE-854F-0584B1FB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5500-6D38-4162-B9E8-6526F39F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7D9B-DC44-4A17-86F8-52BCD7F7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1744-CEAC-497A-8710-A8376CC3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1A1F-6E93-4809-ADD6-BA8178C8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5140-6618-4D98-8367-5CE202670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11.xm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thgia.ru:8080/or/gia12/Main.html?view=Pos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8900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ГИА - 201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58920" y="184644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Открытый банк зада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по математи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58920" y="3502080"/>
            <a:ext cx="65530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ча №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5200560"/>
            <a:ext cx="6553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ратанова Марина Никола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ОУ СОШ №256 городского округа ЗА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Фокино Примор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3716280"/>
            <a:ext cx="25430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м уравнением задается прям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ходящая через точки A и B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062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5280" y="602136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84464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(-6; -18),  В (17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2916360" y="2492280"/>
            <a:ext cx="3384360" cy="657000"/>
            <a:chOff x="2916360" y="2492280"/>
            <a:chExt cx="3384360" cy="657000"/>
          </a:xfrm>
        </p:grpSpPr>
        <p:sp>
          <p:nvSpPr>
            <p:cNvPr id="264" name=""/>
            <p:cNvSpPr/>
            <p:nvPr/>
          </p:nvSpPr>
          <p:spPr>
            <a:xfrm>
              <a:off x="2916360" y="2492280"/>
              <a:ext cx="3384360" cy="57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492360" y="2492280"/>
                  <a:ext cx="206496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6" name=""/>
          <p:cNvSpPr/>
          <p:nvPr/>
        </p:nvSpPr>
        <p:spPr>
          <a:xfrm>
            <a:off x="1547640" y="3284640"/>
            <a:ext cx="5148360" cy="2374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ахождения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вим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ек в уравнение линей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м и решим сис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5796000" y="306864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08720" y="573408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14160" y="5805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6157800" y="5734080"/>
                <a:ext cx="20653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1" name="">
            <a:hlinkClick r:id="rId3" action="ppaction://hlinksldjump"/>
          </p:cNvPr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акой координатной четвер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дится точка пересечения прямых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062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rId2" action="ppaction://hlinksldjump"/>
          </p:cNvPr>
          <p:cNvSpPr/>
          <p:nvPr/>
        </p:nvSpPr>
        <p:spPr>
          <a:xfrm>
            <a:off x="539640" y="609300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95640" y="5300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995640" y="3141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95640" y="42228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94200" y="2133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rId3" action="ppaction://hlinksldjump"/>
          </p:cNvPr>
          <p:cNvSpPr/>
          <p:nvPr/>
        </p:nvSpPr>
        <p:spPr>
          <a:xfrm>
            <a:off x="7812000" y="6237360"/>
            <a:ext cx="863640" cy="39348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47386" h="21600">
                <a:moveTo>
                  <a:pt x="0" y="0"/>
                </a:moveTo>
                <a:lnTo>
                  <a:pt x="47386" y="0"/>
                </a:lnTo>
                <a:lnTo>
                  <a:pt x="47386" y="21600"/>
                </a:lnTo>
                <a:lnTo>
                  <a:pt x="0" y="21600"/>
                </a:lnTo>
                <a:close/>
              </a:path>
              <a:path fill="lightenLess" w="47386" h="21600">
                <a:moveTo>
                  <a:pt x="0" y="0"/>
                </a:moveTo>
                <a:lnTo>
                  <a:pt x="47386" y="0"/>
                </a:lnTo>
                <a:lnTo>
                  <a:pt x="45986" y="1400"/>
                </a:lnTo>
                <a:lnTo>
                  <a:pt x="1400" y="1400"/>
                </a:lnTo>
                <a:close/>
              </a:path>
              <a:path fill="darken" w="47386" h="21600">
                <a:moveTo>
                  <a:pt x="47386" y="0"/>
                </a:moveTo>
                <a:lnTo>
                  <a:pt x="47386" y="21600"/>
                </a:lnTo>
                <a:lnTo>
                  <a:pt x="45986" y="20200"/>
                </a:lnTo>
                <a:lnTo>
                  <a:pt x="45986" y="1400"/>
                </a:lnTo>
                <a:close/>
              </a:path>
              <a:path fill="darkenLess" w="47386" h="21600">
                <a:moveTo>
                  <a:pt x="47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86" y="20200"/>
                </a:lnTo>
                <a:close/>
              </a:path>
              <a:path fill="lighten" w="47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86" h="21600">
                <a:moveTo>
                  <a:pt x="16686" y="3794"/>
                </a:moveTo>
                <a:lnTo>
                  <a:pt x="30699" y="10800"/>
                </a:lnTo>
                <a:lnTo>
                  <a:pt x="16686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596360" y="220500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96360" y="321300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4221000"/>
            <a:ext cx="64764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596360" y="522936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7524720" y="2060640"/>
            <a:ext cx="828720" cy="9237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5"/>
          <a:stretch/>
        </p:blipFill>
        <p:spPr>
          <a:xfrm>
            <a:off x="7524720" y="5084640"/>
            <a:ext cx="828720" cy="92412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6"/>
          <a:stretch/>
        </p:blipFill>
        <p:spPr>
          <a:xfrm>
            <a:off x="7523280" y="4078440"/>
            <a:ext cx="828720" cy="9237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7596360" y="2781360"/>
            <a:ext cx="1037880" cy="100944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860720" y="2133720"/>
            <a:ext cx="23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788720" y="3214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788720" y="4222800"/>
            <a:ext cx="268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788720" y="5230800"/>
            <a:ext cx="265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четвер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2924280"/>
            <a:ext cx="338436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579600" y="3141720"/>
                <a:ext cx="26463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755640" y="3860640"/>
                <a:ext cx="2027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0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6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68360" y="3213000"/>
            <a:ext cx="338436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828720" y="3430440"/>
                <a:ext cx="26463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828720" y="4005360"/>
                <a:ext cx="20271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1835280" y="765000"/>
            <a:ext cx="5327640" cy="2374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нахождения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ординат точки перес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фиков линей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й составим и ре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у уравн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12720" y="3430440"/>
            <a:ext cx="216000" cy="11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6227640" y="69228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1280" y="4898880"/>
            <a:ext cx="215640" cy="1152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828720" y="4869000"/>
                <a:ext cx="1407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828720" y="5373720"/>
                <a:ext cx="1073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5" name=""/>
          <p:cNvSpPr/>
          <p:nvPr/>
        </p:nvSpPr>
        <p:spPr>
          <a:xfrm>
            <a:off x="2268360" y="5373720"/>
            <a:ext cx="976320" cy="21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349440" y="508644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-2;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92720" y="3429000"/>
            <a:ext cx="3024360" cy="3024360"/>
          </a:xfrm>
          <a:prstGeom prst="rect">
            <a:avLst/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04000" y="3716280"/>
            <a:ext cx="122400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cc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80000" y="3716280"/>
            <a:ext cx="1224000" cy="122400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580000" y="4941720"/>
            <a:ext cx="1224000" cy="1224000"/>
          </a:xfrm>
          <a:prstGeom prst="rect">
            <a:avLst/>
          </a:prstGeom>
          <a:gradFill rotWithShape="0">
            <a:gsLst>
              <a:gs pos="0">
                <a:srgbClr val="00ff00"/>
              </a:gs>
              <a:gs pos="100000">
                <a:srgbClr val="fefef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4000" y="4941720"/>
            <a:ext cx="122400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99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804000" y="3500280"/>
            <a:ext cx="1440" cy="282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35640" y="4941720"/>
            <a:ext cx="2727360" cy="1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13800" y="44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4364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382160" y="40053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9080" y="4005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97800" y="5445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382520" y="5445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518520" y="4941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349440" y="5084640"/>
            <a:ext cx="136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-2;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3" action="ppaction://hlinksldjump"/>
          </p:cNvPr>
          <p:cNvSpPr/>
          <p:nvPr/>
        </p:nvSpPr>
        <p:spPr>
          <a:xfrm>
            <a:off x="7524720" y="285264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76" h="21600">
                <a:moveTo>
                  <a:pt x="18182" y="10800"/>
                </a:moveTo>
                <a:lnTo>
                  <a:pt x="32194" y="3794"/>
                </a:lnTo>
                <a:lnTo>
                  <a:pt x="32194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5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3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066 -0.16806 E">
                                      <p:cBhvr>
                                        <p:cTn id="684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ужность, изображенная на рисун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а уравнение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я этот рисунок, определит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из систем уравнений не имеет решений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2062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>
            <a:hlinkClick r:id="rId2" action="ppaction://hlinksldjump"/>
          </p:cNvPr>
          <p:cNvSpPr/>
          <p:nvPr/>
        </p:nvSpPr>
        <p:spPr>
          <a:xfrm>
            <a:off x="539640" y="609300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95640" y="5877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995640" y="465300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3357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995640" y="207648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>
            <a:hlinkClick r:id="rId3" action="ppaction://hlinksldjump"/>
          </p:cNvPr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667640" y="220356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667640" y="342900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667640" y="465300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67640" y="5805360"/>
            <a:ext cx="64764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7596360" y="2060640"/>
            <a:ext cx="828360" cy="9237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7596360" y="5661000"/>
            <a:ext cx="828360" cy="9241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7596360" y="3284640"/>
            <a:ext cx="828360" cy="923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7"/>
          <a:stretch/>
        </p:blipFill>
        <p:spPr>
          <a:xfrm>
            <a:off x="7667640" y="4221000"/>
            <a:ext cx="1038240" cy="1009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5508720" y="503280"/>
                <a:ext cx="223200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4932360" y="1700280"/>
                <a:ext cx="230364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41" name=""/>
          <p:cNvGraphicFramePr/>
          <p:nvPr/>
        </p:nvGraphicFramePr>
        <p:xfrm>
          <a:off x="0" y="1914480"/>
          <a:ext cx="3848040" cy="4106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0" y="1914480"/>
                    <a:ext cx="384804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4932360" y="5446800"/>
                <a:ext cx="230364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4932360" y="2924280"/>
                <a:ext cx="2376360" cy="14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4932360" y="4221000"/>
                <a:ext cx="237492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7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708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3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724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28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rId2" action="ppaction://hlinksldjump"/>
          </p:cNvPr>
          <p:cNvSpPr/>
          <p:nvPr/>
        </p:nvSpPr>
        <p:spPr>
          <a:xfrm>
            <a:off x="7451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47640" y="907920"/>
            <a:ext cx="5148360" cy="1800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а не имеет 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сли графики функ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пересека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3"/>
          <a:stretch/>
        </p:blipFill>
        <p:spPr>
          <a:xfrm>
            <a:off x="5724360" y="83664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88000" y="3789360"/>
            <a:ext cx="3024000" cy="172728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70000" y="2781360"/>
          <a:ext cx="3576600" cy="3816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0000" y="2781360"/>
                    <a:ext cx="357660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250920" y="2781360"/>
          <a:ext cx="3616200" cy="388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2781360"/>
                    <a:ext cx="361620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076720" y="3933720"/>
                <a:ext cx="237492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9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0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систему уравн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062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609300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24000" y="2924280"/>
            <a:ext cx="338436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11280" y="2997360"/>
                <a:ext cx="287964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3419640" y="1844640"/>
            <a:ext cx="5329080" cy="381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пользуйтесь мет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лгебраического сло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чего снач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ножьте втор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авнение на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-------------------------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ите другой спосо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659640" y="220500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5508720" y="573408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14160" y="5805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51640" y="5805360"/>
            <a:ext cx="30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2; -1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систему уравн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062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39640" y="609300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4000" y="2924280"/>
            <a:ext cx="338436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539640" y="2924280"/>
                <a:ext cx="283392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+</m:t>
                            </m:r>
                            <m:r>
                              <m:t xml:space="preserve">у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>
            <a:off x="3564000" y="1844640"/>
            <a:ext cx="5184720" cy="3240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спользуйтес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ом подстано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разите из пер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равнения </a:t>
            </a:r>
            <a:r>
              <a:rPr b="1" i="1" lang="en-US" sz="3600" spc="-1" strike="noStrike">
                <a:solidFill>
                  <a:srgbClr val="800080"/>
                </a:solidFill>
                <a:latin typeface="Times New Roman"/>
              </a:rPr>
              <a:t>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и подставь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учившееся вы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 второе уравн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508720" y="573408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4160" y="5805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651640" y="5805360"/>
            <a:ext cx="30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0; 3),  (-3; 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0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1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02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ите координаты точек пересе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раболы и прям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062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609300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2924280"/>
            <a:ext cx="338436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76440" y="2968560"/>
                <a:ext cx="2558880" cy="16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х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х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6659640" y="170028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5508720" y="573408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14160" y="5805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51640" y="5805360"/>
            <a:ext cx="30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8; 24),  (-2; 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4067280" y="4149720"/>
                <a:ext cx="30970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9" name=""/>
              <p:cNvSpPr txBox="1"/>
              <p:nvPr/>
            </p:nvSpPr>
            <p:spPr>
              <a:xfrm>
                <a:off x="4067280" y="2781360"/>
                <a:ext cx="36716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х</m:t>
                    </m:r>
                    <m:r>
                      <m:t xml:space="preserve">=</m:t>
                    </m:r>
                    <m:r>
                      <m:t xml:space="preserve">х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4067280" y="3573360"/>
                <a:ext cx="29970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ординатной плоскости постро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и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эти граф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систему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206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9640" y="609300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250920" y="1773360"/>
          <a:ext cx="395604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73360"/>
                    <a:ext cx="395604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5025960" y="2205000"/>
            <a:ext cx="338472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5219640" y="2205000"/>
                <a:ext cx="287964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5508720" y="573408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4160" y="5805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651640" y="5805360"/>
            <a:ext cx="30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-4; -6),  (2; 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19374000">
            <a:off x="755640" y="4652640"/>
            <a:ext cx="187200" cy="976320"/>
          </a:xfrm>
          <a:prstGeom prst="downArrow">
            <a:avLst>
              <a:gd name="adj1" fmla="val 50000"/>
              <a:gd name="adj2" fmla="val 1303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00360" y="393372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16000" y="551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197000" y="4021200"/>
            <a:ext cx="1062000" cy="1600200"/>
          </a:xfrm>
          <a:custGeom>
            <a:avLst/>
            <a:gdLst/>
            <a:ahLst/>
            <a:rect l="l" t="t" r="r" b="b"/>
            <a:pathLst>
              <a:path w="669" h="1008">
                <a:moveTo>
                  <a:pt x="8" y="0"/>
                </a:moveTo>
                <a:lnTo>
                  <a:pt x="0" y="1008"/>
                </a:lnTo>
                <a:lnTo>
                  <a:pt x="669" y="1008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8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869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80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8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2.96296E-006 L 0.17084 -0.22848 E">
                                      <p:cBhvr>
                                        <p:cTn id="885" dur="2000" fill="hold"/>
                                        <p:tgtEl>
                                          <p:spTgt spid="4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8000"/>
                            </p:stCondLst>
                            <p:childTnLst>
                              <p:par>
                                <p:cTn id="893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4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ординатной плоскости постро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афики уравн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пользуя эти графи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ите систему уравнени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114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39640" y="609300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79280" y="1916280"/>
          <a:ext cx="3961080" cy="39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916280"/>
                    <a:ext cx="396108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2" name=""/>
          <p:cNvSpPr/>
          <p:nvPr/>
        </p:nvSpPr>
        <p:spPr>
          <a:xfrm>
            <a:off x="5025960" y="2205000"/>
            <a:ext cx="3384720" cy="1728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5083200" y="2205000"/>
                <a:ext cx="315432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у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14" name=""/>
          <p:cNvSpPr/>
          <p:nvPr/>
        </p:nvSpPr>
        <p:spPr>
          <a:xfrm>
            <a:off x="5508720" y="573408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214160" y="5805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651640" y="5805360"/>
            <a:ext cx="30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-5; 8),  (2;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616600">
            <a:off x="1186920" y="1916280"/>
            <a:ext cx="165240" cy="903240"/>
          </a:xfrm>
          <a:prstGeom prst="downArrow">
            <a:avLst>
              <a:gd name="adj1" fmla="val 50000"/>
              <a:gd name="adj2" fmla="val 1366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700360" y="44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26920" y="2708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914400" y="2755800"/>
            <a:ext cx="1305000" cy="2032200"/>
          </a:xfrm>
          <a:custGeom>
            <a:avLst/>
            <a:gdLst/>
            <a:ahLst/>
            <a:rect l="l" t="t" r="r" b="b"/>
            <a:pathLst>
              <a:path w="822" h="1280">
                <a:moveTo>
                  <a:pt x="822" y="0"/>
                </a:moveTo>
                <a:lnTo>
                  <a:pt x="8" y="0"/>
                </a:lnTo>
                <a:lnTo>
                  <a:pt x="0" y="1280"/>
                </a:lnTo>
              </a:path>
            </a:pathLst>
          </a:custGeom>
          <a:noFill/>
          <a:ln w="255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0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26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3000"/>
                            </p:stCondLst>
                            <p:childTnLst>
                              <p:par>
                                <p:cTn id="928" nodeType="after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11111E-006 1.11111E-006 L 0.20364 0.2493 E">
                                      <p:cBhvr>
                                        <p:cTn id="929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7000"/>
                            </p:stCondLst>
                            <p:childTnLst>
                              <p:par>
                                <p:cTn id="9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8000"/>
                            </p:stCondLst>
                            <p:childTnLst>
                              <p:par>
                                <p:cTn id="93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им уравнением задается пряма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ходящая через точки A(2; -5) и B(14; 1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061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1908000" y="4149720"/>
                <a:ext cx="20624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4500720" y="2133720"/>
            <a:ext cx="2304720" cy="504720"/>
          </a:xfrm>
          <a:custGeom>
            <a:avLst/>
            <a:gdLst>
              <a:gd name="textAreaLeft" fmla="*/ 32400 w 2304720"/>
              <a:gd name="textAreaRight" fmla="*/ 2272320 w 23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78" h="21600">
                <a:moveTo>
                  <a:pt x="0" y="0"/>
                </a:moveTo>
                <a:lnTo>
                  <a:pt x="98578" y="0"/>
                </a:lnTo>
                <a:lnTo>
                  <a:pt x="98578" y="21600"/>
                </a:lnTo>
                <a:lnTo>
                  <a:pt x="0" y="21600"/>
                </a:lnTo>
                <a:close/>
              </a:path>
              <a:path fill="lightenLess" w="98578" h="21600">
                <a:moveTo>
                  <a:pt x="0" y="0"/>
                </a:moveTo>
                <a:lnTo>
                  <a:pt x="98578" y="0"/>
                </a:lnTo>
                <a:lnTo>
                  <a:pt x="97178" y="1400"/>
                </a:lnTo>
                <a:lnTo>
                  <a:pt x="1400" y="1400"/>
                </a:lnTo>
                <a:close/>
              </a:path>
              <a:path fill="darken" w="98578" h="21600">
                <a:moveTo>
                  <a:pt x="98578" y="0"/>
                </a:moveTo>
                <a:lnTo>
                  <a:pt x="98578" y="21600"/>
                </a:lnTo>
                <a:lnTo>
                  <a:pt x="97178" y="20200"/>
                </a:lnTo>
                <a:lnTo>
                  <a:pt x="97178" y="1400"/>
                </a:lnTo>
                <a:close/>
              </a:path>
              <a:path fill="darkenLess" w="98578" h="21600">
                <a:moveTo>
                  <a:pt x="98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78" y="20200"/>
                </a:lnTo>
                <a:close/>
              </a:path>
              <a:path fill="lighten" w="98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42920" y="306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42920" y="4149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42920" y="5157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908000" y="3068640"/>
                <a:ext cx="2109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908000" y="2060640"/>
                <a:ext cx="18608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>
            <a:hlinkClick r:id="rId3" action="ppaction://hlinksldjump"/>
          </p:cNvPr>
          <p:cNvSpPr/>
          <p:nvPr/>
        </p:nvSpPr>
        <p:spPr>
          <a:xfrm>
            <a:off x="4500720" y="3141720"/>
            <a:ext cx="2304720" cy="504720"/>
          </a:xfrm>
          <a:custGeom>
            <a:avLst/>
            <a:gdLst>
              <a:gd name="textAreaLeft" fmla="*/ 32400 w 2304720"/>
              <a:gd name="textAreaRight" fmla="*/ 2272320 w 23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78" h="21600">
                <a:moveTo>
                  <a:pt x="0" y="0"/>
                </a:moveTo>
                <a:lnTo>
                  <a:pt x="98578" y="0"/>
                </a:lnTo>
                <a:lnTo>
                  <a:pt x="98578" y="21600"/>
                </a:lnTo>
                <a:lnTo>
                  <a:pt x="0" y="21600"/>
                </a:lnTo>
                <a:close/>
              </a:path>
              <a:path fill="lightenLess" w="98578" h="21600">
                <a:moveTo>
                  <a:pt x="0" y="0"/>
                </a:moveTo>
                <a:lnTo>
                  <a:pt x="98578" y="0"/>
                </a:lnTo>
                <a:lnTo>
                  <a:pt x="97178" y="1400"/>
                </a:lnTo>
                <a:lnTo>
                  <a:pt x="1400" y="1400"/>
                </a:lnTo>
                <a:close/>
              </a:path>
              <a:path fill="darken" w="98578" h="21600">
                <a:moveTo>
                  <a:pt x="98578" y="0"/>
                </a:moveTo>
                <a:lnTo>
                  <a:pt x="98578" y="21600"/>
                </a:lnTo>
                <a:lnTo>
                  <a:pt x="97178" y="20200"/>
                </a:lnTo>
                <a:lnTo>
                  <a:pt x="97178" y="1400"/>
                </a:lnTo>
                <a:close/>
              </a:path>
              <a:path fill="darkenLess" w="98578" h="21600">
                <a:moveTo>
                  <a:pt x="98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78" y="20200"/>
                </a:lnTo>
                <a:close/>
              </a:path>
              <a:path fill="lighten" w="98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4" action="ppaction://hlinksldjump"/>
          </p:cNvPr>
          <p:cNvSpPr/>
          <p:nvPr/>
        </p:nvSpPr>
        <p:spPr>
          <a:xfrm>
            <a:off x="4500720" y="4221000"/>
            <a:ext cx="2304720" cy="505080"/>
          </a:xfrm>
          <a:custGeom>
            <a:avLst/>
            <a:gdLst>
              <a:gd name="textAreaLeft" fmla="*/ 32400 w 2304720"/>
              <a:gd name="textAreaRight" fmla="*/ 2272320 w 23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508" h="21600">
                <a:moveTo>
                  <a:pt x="0" y="0"/>
                </a:moveTo>
                <a:lnTo>
                  <a:pt x="98508" y="0"/>
                </a:lnTo>
                <a:lnTo>
                  <a:pt x="98508" y="21600"/>
                </a:lnTo>
                <a:lnTo>
                  <a:pt x="0" y="21600"/>
                </a:lnTo>
                <a:close/>
              </a:path>
              <a:path fill="lightenLess" w="98508" h="21600">
                <a:moveTo>
                  <a:pt x="0" y="0"/>
                </a:moveTo>
                <a:lnTo>
                  <a:pt x="98508" y="0"/>
                </a:lnTo>
                <a:lnTo>
                  <a:pt x="97108" y="1400"/>
                </a:lnTo>
                <a:lnTo>
                  <a:pt x="1400" y="1400"/>
                </a:lnTo>
                <a:close/>
              </a:path>
              <a:path fill="darken" w="98508" h="21600">
                <a:moveTo>
                  <a:pt x="98508" y="0"/>
                </a:moveTo>
                <a:lnTo>
                  <a:pt x="98508" y="21600"/>
                </a:lnTo>
                <a:lnTo>
                  <a:pt x="97108" y="20200"/>
                </a:lnTo>
                <a:lnTo>
                  <a:pt x="97108" y="1400"/>
                </a:lnTo>
                <a:close/>
              </a:path>
              <a:path fill="darkenLess" w="98508" h="21600">
                <a:moveTo>
                  <a:pt x="985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08" y="20200"/>
                </a:lnTo>
                <a:close/>
              </a:path>
              <a:path fill="lighten" w="985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908000" y="5157720"/>
                <a:ext cx="20671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">
            <a:hlinkClick r:id="rId5" action="ppaction://hlinksldjump"/>
          </p:cNvPr>
          <p:cNvSpPr/>
          <p:nvPr/>
        </p:nvSpPr>
        <p:spPr>
          <a:xfrm>
            <a:off x="4500720" y="5229360"/>
            <a:ext cx="2304720" cy="504720"/>
          </a:xfrm>
          <a:custGeom>
            <a:avLst/>
            <a:gdLst>
              <a:gd name="textAreaLeft" fmla="*/ 32400 w 2304720"/>
              <a:gd name="textAreaRight" fmla="*/ 2272320 w 23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78" h="21600">
                <a:moveTo>
                  <a:pt x="0" y="0"/>
                </a:moveTo>
                <a:lnTo>
                  <a:pt x="98578" y="0"/>
                </a:lnTo>
                <a:lnTo>
                  <a:pt x="98578" y="21600"/>
                </a:lnTo>
                <a:lnTo>
                  <a:pt x="0" y="21600"/>
                </a:lnTo>
                <a:close/>
              </a:path>
              <a:path fill="lightenLess" w="98578" h="21600">
                <a:moveTo>
                  <a:pt x="0" y="0"/>
                </a:moveTo>
                <a:lnTo>
                  <a:pt x="98578" y="0"/>
                </a:lnTo>
                <a:lnTo>
                  <a:pt x="97178" y="1400"/>
                </a:lnTo>
                <a:lnTo>
                  <a:pt x="1400" y="1400"/>
                </a:lnTo>
                <a:close/>
              </a:path>
              <a:path fill="darken" w="98578" h="21600">
                <a:moveTo>
                  <a:pt x="98578" y="0"/>
                </a:moveTo>
                <a:lnTo>
                  <a:pt x="98578" y="21600"/>
                </a:lnTo>
                <a:lnTo>
                  <a:pt x="97178" y="20200"/>
                </a:lnTo>
                <a:lnTo>
                  <a:pt x="97178" y="1400"/>
                </a:lnTo>
                <a:close/>
              </a:path>
              <a:path fill="darkenLess" w="98578" h="21600">
                <a:moveTo>
                  <a:pt x="985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78" y="20200"/>
                </a:lnTo>
                <a:close/>
              </a:path>
              <a:path fill="lighten" w="985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2060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 action="ppaction://hlinksldjump"/>
          </p:cNvPr>
          <p:cNvSpPr/>
          <p:nvPr/>
        </p:nvSpPr>
        <p:spPr>
          <a:xfrm>
            <a:off x="7812000" y="6237360"/>
            <a:ext cx="863640" cy="39348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47386" h="21600">
                <a:moveTo>
                  <a:pt x="0" y="0"/>
                </a:moveTo>
                <a:lnTo>
                  <a:pt x="47386" y="0"/>
                </a:lnTo>
                <a:lnTo>
                  <a:pt x="47386" y="21600"/>
                </a:lnTo>
                <a:lnTo>
                  <a:pt x="0" y="21600"/>
                </a:lnTo>
                <a:close/>
              </a:path>
              <a:path fill="lightenLess" w="47386" h="21600">
                <a:moveTo>
                  <a:pt x="0" y="0"/>
                </a:moveTo>
                <a:lnTo>
                  <a:pt x="47386" y="0"/>
                </a:lnTo>
                <a:lnTo>
                  <a:pt x="45986" y="1400"/>
                </a:lnTo>
                <a:lnTo>
                  <a:pt x="1400" y="1400"/>
                </a:lnTo>
                <a:close/>
              </a:path>
              <a:path fill="darken" w="47386" h="21600">
                <a:moveTo>
                  <a:pt x="47386" y="0"/>
                </a:moveTo>
                <a:lnTo>
                  <a:pt x="47386" y="21600"/>
                </a:lnTo>
                <a:lnTo>
                  <a:pt x="45986" y="20200"/>
                </a:lnTo>
                <a:lnTo>
                  <a:pt x="45986" y="1400"/>
                </a:lnTo>
                <a:close/>
              </a:path>
              <a:path fill="darkenLess" w="47386" h="21600">
                <a:moveTo>
                  <a:pt x="47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86" y="20200"/>
                </a:lnTo>
                <a:close/>
              </a:path>
              <a:path fill="lighten" w="47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86" h="21600">
                <a:moveTo>
                  <a:pt x="16686" y="3794"/>
                </a:moveTo>
                <a:lnTo>
                  <a:pt x="30699" y="10800"/>
                </a:lnTo>
                <a:lnTo>
                  <a:pt x="16686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67640" y="206064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67640" y="306864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67640" y="407664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67640" y="5084640"/>
            <a:ext cx="64764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96360" y="1916280"/>
            <a:ext cx="828360" cy="923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7596360" y="2924280"/>
            <a:ext cx="828360" cy="9237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7596360" y="4941720"/>
            <a:ext cx="828360" cy="924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0"/>
          <a:stretch/>
        </p:blipFill>
        <p:spPr>
          <a:xfrm>
            <a:off x="7667640" y="3645000"/>
            <a:ext cx="10382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ите координаты точки 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114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025960" y="2205000"/>
            <a:ext cx="3384720" cy="302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кружность за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ям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5292720" y="3068640"/>
                <a:ext cx="27874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6" name=""/>
          <p:cNvSpPr/>
          <p:nvPr/>
        </p:nvSpPr>
        <p:spPr>
          <a:xfrm>
            <a:off x="5508720" y="573408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1640" y="5805360"/>
            <a:ext cx="30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-1;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1849320"/>
          <a:ext cx="4859280" cy="45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49320"/>
                    <a:ext cx="485928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4285800" y="5805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611280" y="6165720"/>
            <a:ext cx="2305080" cy="50508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523" h="21600">
                <a:moveTo>
                  <a:pt x="0" y="0"/>
                </a:moveTo>
                <a:lnTo>
                  <a:pt x="98523" y="0"/>
                </a:lnTo>
                <a:lnTo>
                  <a:pt x="98523" y="21600"/>
                </a:lnTo>
                <a:lnTo>
                  <a:pt x="0" y="21600"/>
                </a:lnTo>
                <a:close/>
              </a:path>
              <a:path fill="lightenLess" w="98523" h="21600">
                <a:moveTo>
                  <a:pt x="0" y="0"/>
                </a:moveTo>
                <a:lnTo>
                  <a:pt x="98523" y="0"/>
                </a:lnTo>
                <a:lnTo>
                  <a:pt x="97123" y="1400"/>
                </a:lnTo>
                <a:lnTo>
                  <a:pt x="1400" y="1400"/>
                </a:lnTo>
                <a:close/>
              </a:path>
              <a:path fill="darken" w="98523" h="21600">
                <a:moveTo>
                  <a:pt x="98523" y="0"/>
                </a:moveTo>
                <a:lnTo>
                  <a:pt x="98523" y="21600"/>
                </a:lnTo>
                <a:lnTo>
                  <a:pt x="97123" y="20200"/>
                </a:lnTo>
                <a:lnTo>
                  <a:pt x="97123" y="1400"/>
                </a:lnTo>
                <a:close/>
              </a:path>
              <a:path fill="darkenLess" w="98523" h="21600">
                <a:moveTo>
                  <a:pt x="98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23" y="20200"/>
                </a:lnTo>
                <a:close/>
              </a:path>
              <a:path fill="lighten" w="98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6012000" y="4365720"/>
                <a:ext cx="15843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3" name=""/>
          <p:cNvSpPr/>
          <p:nvPr/>
        </p:nvSpPr>
        <p:spPr>
          <a:xfrm>
            <a:off x="2702520" y="2997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54944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0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51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547640" y="907920"/>
            <a:ext cx="5148360" cy="1225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 координаты 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чения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2665440" cy="201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788000" y="2565360"/>
                <a:ext cx="262404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440" name=""/>
          <p:cNvGraphicFramePr/>
          <p:nvPr/>
        </p:nvGraphicFramePr>
        <p:xfrm>
          <a:off x="250920" y="2852640"/>
          <a:ext cx="4066920" cy="377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2852640"/>
                    <a:ext cx="406692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2558160" y="3716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549440" y="5589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572000" y="2637000"/>
            <a:ext cx="144360" cy="143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5" name=""/>
              <p:cNvSpPr txBox="1"/>
              <p:nvPr/>
            </p:nvSpPr>
            <p:spPr>
              <a:xfrm>
                <a:off x="4740120" y="4869000"/>
                <a:ext cx="2903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702320" y="4292640"/>
                <a:ext cx="287784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 rot="19374000">
            <a:off x="1547640" y="4723920"/>
            <a:ext cx="187560" cy="976320"/>
          </a:xfrm>
          <a:prstGeom prst="downArrow">
            <a:avLst>
              <a:gd name="adj1" fmla="val 50000"/>
              <a:gd name="adj2" fmla="val 13013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551664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4076640"/>
            <a:ext cx="1942920" cy="1800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4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12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числите координаты точки 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№ 2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80360" y="6464160"/>
            <a:ext cx="863640" cy="39384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47342" h="21600">
                <a:moveTo>
                  <a:pt x="0" y="0"/>
                </a:moveTo>
                <a:lnTo>
                  <a:pt x="47342" y="0"/>
                </a:lnTo>
                <a:lnTo>
                  <a:pt x="47342" y="21600"/>
                </a:lnTo>
                <a:lnTo>
                  <a:pt x="0" y="21600"/>
                </a:lnTo>
                <a:close/>
              </a:path>
              <a:path fill="lightenLess" w="47342" h="21600">
                <a:moveTo>
                  <a:pt x="0" y="0"/>
                </a:moveTo>
                <a:lnTo>
                  <a:pt x="47342" y="0"/>
                </a:lnTo>
                <a:lnTo>
                  <a:pt x="45942" y="1400"/>
                </a:lnTo>
                <a:lnTo>
                  <a:pt x="1400" y="1400"/>
                </a:lnTo>
                <a:close/>
              </a:path>
              <a:path fill="darken" w="47342" h="21600">
                <a:moveTo>
                  <a:pt x="47342" y="0"/>
                </a:moveTo>
                <a:lnTo>
                  <a:pt x="47342" y="21600"/>
                </a:lnTo>
                <a:lnTo>
                  <a:pt x="45942" y="20200"/>
                </a:lnTo>
                <a:lnTo>
                  <a:pt x="45942" y="1400"/>
                </a:lnTo>
                <a:close/>
              </a:path>
              <a:path fill="darkenLess" w="47342" h="21600">
                <a:moveTo>
                  <a:pt x="473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42" y="20200"/>
                </a:lnTo>
                <a:close/>
              </a:path>
              <a:path fill="lighten" w="473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42" h="21600">
                <a:moveTo>
                  <a:pt x="16665" y="3794"/>
                </a:moveTo>
                <a:lnTo>
                  <a:pt x="30678" y="10800"/>
                </a:lnTo>
                <a:lnTo>
                  <a:pt x="1666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025960" y="2205000"/>
            <a:ext cx="3384720" cy="30243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арабола за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ям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4" name=""/>
              <p:cNvSpPr txBox="1"/>
              <p:nvPr/>
            </p:nvSpPr>
            <p:spPr>
              <a:xfrm>
                <a:off x="5383080" y="3068640"/>
                <a:ext cx="26053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5" name=""/>
          <p:cNvSpPr/>
          <p:nvPr/>
        </p:nvSpPr>
        <p:spPr>
          <a:xfrm>
            <a:off x="5508720" y="5734080"/>
            <a:ext cx="3384360" cy="574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51640" y="5805360"/>
            <a:ext cx="3024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-1; 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>
            <a:hlinkClick r:id="" action="ppaction://hlinkshowjump?jump=nextslide"/>
          </p:cNvPr>
          <p:cNvSpPr/>
          <p:nvPr/>
        </p:nvSpPr>
        <p:spPr>
          <a:xfrm>
            <a:off x="611280" y="6165720"/>
            <a:ext cx="2305080" cy="50508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98523" h="21600">
                <a:moveTo>
                  <a:pt x="0" y="0"/>
                </a:moveTo>
                <a:lnTo>
                  <a:pt x="98523" y="0"/>
                </a:lnTo>
                <a:lnTo>
                  <a:pt x="98523" y="21600"/>
                </a:lnTo>
                <a:lnTo>
                  <a:pt x="0" y="21600"/>
                </a:lnTo>
                <a:close/>
              </a:path>
              <a:path fill="lightenLess" w="98523" h="21600">
                <a:moveTo>
                  <a:pt x="0" y="0"/>
                </a:moveTo>
                <a:lnTo>
                  <a:pt x="98523" y="0"/>
                </a:lnTo>
                <a:lnTo>
                  <a:pt x="97123" y="1400"/>
                </a:lnTo>
                <a:lnTo>
                  <a:pt x="1400" y="1400"/>
                </a:lnTo>
                <a:close/>
              </a:path>
              <a:path fill="darken" w="98523" h="21600">
                <a:moveTo>
                  <a:pt x="98523" y="0"/>
                </a:moveTo>
                <a:lnTo>
                  <a:pt x="98523" y="21600"/>
                </a:lnTo>
                <a:lnTo>
                  <a:pt x="97123" y="20200"/>
                </a:lnTo>
                <a:lnTo>
                  <a:pt x="97123" y="1400"/>
                </a:lnTo>
                <a:close/>
              </a:path>
              <a:path fill="darkenLess" w="98523" h="21600">
                <a:moveTo>
                  <a:pt x="985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23" y="20200"/>
                </a:lnTo>
                <a:close/>
              </a:path>
              <a:path fill="lighten" w="985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"/>
              <p:cNvSpPr txBox="1"/>
              <p:nvPr/>
            </p:nvSpPr>
            <p:spPr>
              <a:xfrm>
                <a:off x="5867280" y="4379760"/>
                <a:ext cx="1800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9" name=""/>
          <p:cNvSpPr/>
          <p:nvPr/>
        </p:nvSpPr>
        <p:spPr>
          <a:xfrm>
            <a:off x="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"/>
          <p:cNvGraphicFramePr/>
          <p:nvPr/>
        </p:nvGraphicFramePr>
        <p:xfrm>
          <a:off x="0" y="1866960"/>
          <a:ext cx="4572000" cy="42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66960"/>
                    <a:ext cx="457200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"/>
          <p:cNvSpPr/>
          <p:nvPr/>
        </p:nvSpPr>
        <p:spPr>
          <a:xfrm>
            <a:off x="4285800" y="580536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549800" y="2637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133800" y="50133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451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547640" y="907920"/>
            <a:ext cx="5148360" cy="12258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йдём координаты т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сечения граф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унк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2665440" cy="20145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873680" y="2565360"/>
                <a:ext cx="2452680" cy="15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у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х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4572000" y="2637000"/>
            <a:ext cx="144360" cy="1439640"/>
          </a:xfrm>
          <a:custGeom>
            <a:avLst/>
            <a:gdLst>
              <a:gd name="textAreaLeft" fmla="*/ 92160 w 144360"/>
              <a:gd name="textAreaRight" fmla="*/ 144360 w 14436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4721400" y="4869000"/>
                <a:ext cx="2941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4716360" y="4226040"/>
                <a:ext cx="288000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6012000" y="4005360"/>
            <a:ext cx="1942920" cy="1800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24000" y="2546280"/>
          <a:ext cx="3960720" cy="3678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2546280"/>
                    <a:ext cx="3960720" cy="367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6" name=""/>
          <p:cNvSpPr/>
          <p:nvPr/>
        </p:nvSpPr>
        <p:spPr>
          <a:xfrm>
            <a:off x="1549800" y="3068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061080" y="51577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3729200">
            <a:off x="2498400" y="5430240"/>
            <a:ext cx="227160" cy="976320"/>
          </a:xfrm>
          <a:prstGeom prst="downArrow">
            <a:avLst>
              <a:gd name="adj1" fmla="val 50000"/>
              <a:gd name="adj2" fmla="val 10744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348000" y="4581360"/>
            <a:ext cx="914400" cy="9144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83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16320" y="2349360"/>
            <a:ext cx="796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athgia.ru:8080/or/gia12/Main.html?view=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4360" y="692280"/>
            <a:ext cx="7775280" cy="15127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создании презентации были использов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чи с сай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Открытый банк заданий по математик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ИА –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 action="ppaction://hlinksldjump"/>
          </p:cNvPr>
          <p:cNvSpPr/>
          <p:nvPr/>
        </p:nvSpPr>
        <p:spPr>
          <a:xfrm>
            <a:off x="7451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059280" y="4797360"/>
                <a:ext cx="24415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3132000" y="5589720"/>
                <a:ext cx="21081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164360" y="5084640"/>
                <a:ext cx="1324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1187280" y="2133720"/>
            <a:ext cx="5148360" cy="2374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ходимо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ординат точек под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219640" y="206064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524720" y="4941720"/>
            <a:ext cx="43020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19640" y="260280"/>
            <a:ext cx="338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(2; -5),  В (14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0560" y="1341360"/>
            <a:ext cx="648000" cy="64764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12" h="21600">
                <a:moveTo>
                  <a:pt x="0" y="0"/>
                </a:moveTo>
                <a:lnTo>
                  <a:pt x="21612" y="0"/>
                </a:lnTo>
                <a:lnTo>
                  <a:pt x="21612" y="21600"/>
                </a:lnTo>
                <a:lnTo>
                  <a:pt x="0" y="21600"/>
                </a:lnTo>
                <a:close/>
              </a:path>
              <a:path fill="lightenLess" w="21612" h="21600">
                <a:moveTo>
                  <a:pt x="0" y="0"/>
                </a:moveTo>
                <a:lnTo>
                  <a:pt x="21612" y="0"/>
                </a:lnTo>
                <a:lnTo>
                  <a:pt x="20212" y="1400"/>
                </a:lnTo>
                <a:lnTo>
                  <a:pt x="1400" y="1400"/>
                </a:lnTo>
                <a:close/>
              </a:path>
              <a:path fill="darken" w="21612" h="21600">
                <a:moveTo>
                  <a:pt x="21612" y="0"/>
                </a:moveTo>
                <a:lnTo>
                  <a:pt x="21612" y="21600"/>
                </a:lnTo>
                <a:lnTo>
                  <a:pt x="20212" y="20200"/>
                </a:lnTo>
                <a:lnTo>
                  <a:pt x="20212" y="1400"/>
                </a:lnTo>
                <a:close/>
              </a:path>
              <a:path fill="darkenLess" w="21612" h="21600">
                <a:moveTo>
                  <a:pt x="21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2" y="20200"/>
                </a:lnTo>
                <a:close/>
              </a:path>
              <a:path fill="lighten" w="21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556000" y="1341360"/>
                <a:ext cx="186048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46836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4360" y="471960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 (2; -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66100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4360" y="551664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(14;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4797360"/>
            <a:ext cx="287280" cy="129564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12000" y="5300640"/>
            <a:ext cx="976320" cy="21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500"/>
                            </p:stCondLst>
                            <p:childTnLst>
                              <p:par>
                                <p:cTn id="10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916360" y="4797360"/>
                <a:ext cx="293832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059280" y="5589720"/>
                <a:ext cx="2685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7554960" y="5084640"/>
                <a:ext cx="140652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187280" y="2133720"/>
            <a:ext cx="5148360" cy="2374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ходимо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ординат точек под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885080" y="5013360"/>
            <a:ext cx="4302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19640" y="260280"/>
            <a:ext cx="338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(2; -5),  В (14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44360" y="471960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 (2; -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66100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044360" y="5445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(14;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0360" y="4797360"/>
            <a:ext cx="287280" cy="129564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43640" y="5300640"/>
            <a:ext cx="976320" cy="21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050920" y="1125360"/>
            <a:ext cx="648000" cy="648000"/>
          </a:xfrm>
          <a:custGeom>
            <a:avLst/>
            <a:gdLst>
              <a:gd name="textAreaLeft" fmla="*/ 41760 w 648000"/>
              <a:gd name="textAreaRight" fmla="*/ 606240 w 64800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916360" y="1123920"/>
                <a:ext cx="21096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>
            <a:hlinkClick r:id="rId3" action="ppaction://hlinksldjump"/>
          </p:cNvPr>
          <p:cNvSpPr/>
          <p:nvPr/>
        </p:nvSpPr>
        <p:spPr>
          <a:xfrm>
            <a:off x="7451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916360" y="4797360"/>
                <a:ext cx="31464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3203640" y="5516640"/>
                <a:ext cx="26035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493040" y="5105520"/>
                <a:ext cx="15303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"/>
          <p:cNvSpPr/>
          <p:nvPr/>
        </p:nvSpPr>
        <p:spPr>
          <a:xfrm>
            <a:off x="1187280" y="2133720"/>
            <a:ext cx="5148360" cy="2374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ходимо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ординат точек под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028000" y="5013360"/>
            <a:ext cx="430200" cy="792000"/>
          </a:xfrm>
          <a:prstGeom prst="ellipse">
            <a:avLst/>
          </a:prstGeom>
          <a:noFill/>
          <a:ln w="50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60280"/>
            <a:ext cx="338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(2; -5),  В (14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4360" y="471960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 (2; -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8360" y="566100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4360" y="5445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(14;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4797360"/>
            <a:ext cx="287280" cy="1295640"/>
          </a:xfrm>
          <a:custGeom>
            <a:avLst/>
            <a:gdLst>
              <a:gd name="textAreaLeft" fmla="*/ 0 w 287280"/>
              <a:gd name="textAreaRight" fmla="*/ 103680 w 28728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443640" y="5300640"/>
            <a:ext cx="976320" cy="21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843280" y="1197000"/>
                <a:ext cx="20620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1978200" y="1125360"/>
            <a:ext cx="647640" cy="64800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21600" h="21612">
                <a:moveTo>
                  <a:pt x="0" y="0"/>
                </a:moveTo>
                <a:lnTo>
                  <a:pt x="21600" y="0"/>
                </a:lnTo>
                <a:lnTo>
                  <a:pt x="21600" y="21612"/>
                </a:lnTo>
                <a:lnTo>
                  <a:pt x="0" y="21612"/>
                </a:lnTo>
                <a:close/>
              </a:path>
              <a:path fill="lightenLess" w="21600" h="2161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2">
                <a:moveTo>
                  <a:pt x="21600" y="0"/>
                </a:moveTo>
                <a:lnTo>
                  <a:pt x="21600" y="21612"/>
                </a:lnTo>
                <a:lnTo>
                  <a:pt x="20200" y="20212"/>
                </a:lnTo>
                <a:lnTo>
                  <a:pt x="20200" y="1400"/>
                </a:lnTo>
                <a:close/>
              </a:path>
              <a:path fill="darkenLess" w="21600" h="21612">
                <a:moveTo>
                  <a:pt x="21600" y="21612"/>
                </a:moveTo>
                <a:lnTo>
                  <a:pt x="0" y="21612"/>
                </a:lnTo>
                <a:lnTo>
                  <a:pt x="1400" y="20212"/>
                </a:lnTo>
                <a:lnTo>
                  <a:pt x="20200" y="20212"/>
                </a:lnTo>
                <a:close/>
              </a:path>
              <a:path fill="lighten" w="21600" h="21612">
                <a:moveTo>
                  <a:pt x="0" y="2161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2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rId3" action="ppaction://hlinksldjump"/>
          </p:cNvPr>
          <p:cNvSpPr/>
          <p:nvPr/>
        </p:nvSpPr>
        <p:spPr>
          <a:xfrm>
            <a:off x="7451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987640" y="4724280"/>
                <a:ext cx="273060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348000" y="5445000"/>
                <a:ext cx="210816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236000" y="5084640"/>
                <a:ext cx="1657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187280" y="2133720"/>
            <a:ext cx="5148360" cy="2374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обходимо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ординат точек подст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данное урав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219640" y="206064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7885080" y="5013360"/>
            <a:ext cx="50328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19640" y="260280"/>
            <a:ext cx="338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 (2; -5),  В (14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4941720"/>
            <a:ext cx="431640" cy="4114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44360" y="4719600"/>
            <a:ext cx="18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А (2; -5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5661000"/>
            <a:ext cx="431640" cy="411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4360" y="54450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 (14; 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24360" y="4797360"/>
            <a:ext cx="287640" cy="1295640"/>
          </a:xfrm>
          <a:custGeom>
            <a:avLst/>
            <a:gdLst>
              <a:gd name="textAreaLeft" fmla="*/ 0 w 287640"/>
              <a:gd name="textAreaRight" fmla="*/ 103680 w 2876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27640" y="5300640"/>
            <a:ext cx="976320" cy="21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843280" y="1052640"/>
                <a:ext cx="20667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2124000" y="1052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7451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ординатной плоскости отмеч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чки C и D. Какое уравнение з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ую, проходящую через эти точки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061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547640" y="5157720"/>
                <a:ext cx="18720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539640" y="609300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8200" y="3068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157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414972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03280" y="3068640"/>
                <a:ext cx="21099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332000" y="2060640"/>
                <a:ext cx="214956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619280" y="4221000"/>
                <a:ext cx="185904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38200" y="2060640"/>
            <a:ext cx="647640" cy="647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7812000" y="6237360"/>
            <a:ext cx="863640" cy="39348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47386" h="21600">
                <a:moveTo>
                  <a:pt x="0" y="0"/>
                </a:moveTo>
                <a:lnTo>
                  <a:pt x="47386" y="0"/>
                </a:lnTo>
                <a:lnTo>
                  <a:pt x="47386" y="21600"/>
                </a:lnTo>
                <a:lnTo>
                  <a:pt x="0" y="21600"/>
                </a:lnTo>
                <a:close/>
              </a:path>
              <a:path fill="lightenLess" w="47386" h="21600">
                <a:moveTo>
                  <a:pt x="0" y="0"/>
                </a:moveTo>
                <a:lnTo>
                  <a:pt x="47386" y="0"/>
                </a:lnTo>
                <a:lnTo>
                  <a:pt x="45986" y="1400"/>
                </a:lnTo>
                <a:lnTo>
                  <a:pt x="1400" y="1400"/>
                </a:lnTo>
                <a:close/>
              </a:path>
              <a:path fill="darken" w="47386" h="21600">
                <a:moveTo>
                  <a:pt x="47386" y="0"/>
                </a:moveTo>
                <a:lnTo>
                  <a:pt x="47386" y="21600"/>
                </a:lnTo>
                <a:lnTo>
                  <a:pt x="45986" y="20200"/>
                </a:lnTo>
                <a:lnTo>
                  <a:pt x="45986" y="1400"/>
                </a:lnTo>
                <a:close/>
              </a:path>
              <a:path fill="darkenLess" w="47386" h="21600">
                <a:moveTo>
                  <a:pt x="47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86" y="20200"/>
                </a:lnTo>
                <a:close/>
              </a:path>
              <a:path fill="lighten" w="47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86" h="21600">
                <a:moveTo>
                  <a:pt x="16686" y="3794"/>
                </a:moveTo>
                <a:lnTo>
                  <a:pt x="30699" y="10800"/>
                </a:lnTo>
                <a:lnTo>
                  <a:pt x="16686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40360" y="213192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40360" y="3139920"/>
            <a:ext cx="647640" cy="648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40360" y="414828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156280"/>
            <a:ext cx="647640" cy="647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4068720" y="1987560"/>
            <a:ext cx="828720" cy="9237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4068720" y="2995560"/>
            <a:ext cx="828720" cy="9241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067280" y="4005360"/>
            <a:ext cx="828720" cy="923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140360" y="4724280"/>
            <a:ext cx="1038240" cy="100980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5435640" y="2565360"/>
            <a:ext cx="3025800" cy="2879640"/>
            <a:chOff x="5435640" y="2565360"/>
            <a:chExt cx="3025800" cy="2879640"/>
          </a:xfrm>
        </p:grpSpPr>
        <p:sp>
          <p:nvSpPr>
            <p:cNvPr id="158" name=""/>
            <p:cNvSpPr/>
            <p:nvPr/>
          </p:nvSpPr>
          <p:spPr>
            <a:xfrm>
              <a:off x="5435640" y="2565360"/>
              <a:ext cx="3025800" cy="2879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435640" y="292392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435640" y="357336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35640" y="3789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35640" y="4005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35640" y="270792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435640" y="313992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35640" y="335592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435640" y="4221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435640" y="4437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35640" y="465264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35640" y="486864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35640" y="508464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35640" y="530028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8000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9600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200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2764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7708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66108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44508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2472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30872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09308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5672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74072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7236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38836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"/>
          <p:cNvSpPr/>
          <p:nvPr/>
        </p:nvSpPr>
        <p:spPr>
          <a:xfrm flipH="1">
            <a:off x="6155640" y="5013360"/>
            <a:ext cx="14436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7884360" y="3284640"/>
            <a:ext cx="14292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41800" y="458136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(14; 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3800" y="3357720"/>
            <a:ext cx="14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19;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4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24000" y="26028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сказ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2" action="ppaction://hlinksldjump"/>
          </p:cNvPr>
          <p:cNvSpPr/>
          <p:nvPr/>
        </p:nvSpPr>
        <p:spPr>
          <a:xfrm>
            <a:off x="7451640" y="5950080"/>
            <a:ext cx="1008000" cy="43164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50418" h="21600">
                <a:moveTo>
                  <a:pt x="0" y="0"/>
                </a:moveTo>
                <a:lnTo>
                  <a:pt x="50418" y="0"/>
                </a:lnTo>
                <a:lnTo>
                  <a:pt x="50418" y="21600"/>
                </a:lnTo>
                <a:lnTo>
                  <a:pt x="0" y="21600"/>
                </a:lnTo>
                <a:close/>
              </a:path>
              <a:path fill="lightenLess" w="50418" h="21600">
                <a:moveTo>
                  <a:pt x="0" y="0"/>
                </a:moveTo>
                <a:lnTo>
                  <a:pt x="50418" y="0"/>
                </a:lnTo>
                <a:lnTo>
                  <a:pt x="49018" y="1400"/>
                </a:lnTo>
                <a:lnTo>
                  <a:pt x="1400" y="1400"/>
                </a:lnTo>
                <a:close/>
              </a:path>
              <a:path fill="darken" w="50418" h="21600">
                <a:moveTo>
                  <a:pt x="50418" y="0"/>
                </a:moveTo>
                <a:lnTo>
                  <a:pt x="50418" y="21600"/>
                </a:lnTo>
                <a:lnTo>
                  <a:pt x="49018" y="20200"/>
                </a:lnTo>
                <a:lnTo>
                  <a:pt x="49018" y="1400"/>
                </a:lnTo>
                <a:close/>
              </a:path>
              <a:path fill="darkenLess" w="50418" h="21600">
                <a:moveTo>
                  <a:pt x="504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18" y="20200"/>
                </a:lnTo>
                <a:close/>
              </a:path>
              <a:path fill="lighten" w="504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418" h="21600">
                <a:moveTo>
                  <a:pt x="18203" y="10800"/>
                </a:moveTo>
                <a:lnTo>
                  <a:pt x="32215" y="3794"/>
                </a:lnTo>
                <a:lnTo>
                  <a:pt x="32215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32000" y="1700280"/>
            <a:ext cx="5148000" cy="23749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808080"/>
              </a:gs>
              <a:gs pos="50000">
                <a:srgbClr val="fefefe"/>
              </a:gs>
              <a:gs pos="100000">
                <a:srgbClr val="80808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нахождения зна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вим координ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чек в уравнение линей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учим сист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5580000" y="1484280"/>
            <a:ext cx="2665440" cy="201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132000" y="907920"/>
            <a:ext cx="3384720" cy="57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(14; 10),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;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132000" y="189000"/>
            <a:ext cx="3384720" cy="657000"/>
            <a:chOff x="3132000" y="189000"/>
            <a:chExt cx="3384720" cy="657000"/>
          </a:xfrm>
        </p:grpSpPr>
        <p:sp>
          <p:nvSpPr>
            <p:cNvPr id="196" name=""/>
            <p:cNvSpPr/>
            <p:nvPr/>
          </p:nvSpPr>
          <p:spPr>
            <a:xfrm>
              <a:off x="3132000" y="189000"/>
              <a:ext cx="3384720" cy="57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3708360" y="189000"/>
                  <a:ext cx="206532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90400" y="4478400"/>
                <a:ext cx="27306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611280" y="5084640"/>
                <a:ext cx="2725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95280" y="450864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14920" y="4467240"/>
            <a:ext cx="216000" cy="115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003640" y="4437000"/>
                <a:ext cx="107640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003640" y="5013360"/>
                <a:ext cx="1403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835280" y="5805360"/>
                <a:ext cx="1861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140360" y="5754600"/>
                <a:ext cx="20034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492360" y="4941720"/>
            <a:ext cx="976320" cy="21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16720" y="4869000"/>
            <a:ext cx="503280" cy="1368360"/>
          </a:xfrm>
          <a:custGeom>
            <a:avLst/>
            <a:gdLst>
              <a:gd name="textAreaLeft" fmla="*/ 67320 w 503280"/>
              <a:gd name="textAreaRight" fmla="*/ 435960 w 5032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67280" y="5734080"/>
            <a:ext cx="2233440" cy="719280"/>
          </a:xfrm>
          <a:prstGeom prst="rect">
            <a:avLst/>
          </a:prstGeom>
          <a:noFill/>
          <a:ln w="47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95640" y="260280"/>
            <a:ext cx="6769080" cy="1513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efefef"/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ординатной плоскости отмече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очки C и D. Какое уравнение з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ямую, проходящую через эти точки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260280"/>
            <a:ext cx="1800360" cy="151308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50000">
                <a:srgbClr val="edddfe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дание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№ 20853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6121440" y="3760920"/>
                <a:ext cx="1092240" cy="2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395280" y="2060640"/>
            <a:ext cx="2305080" cy="504720"/>
          </a:xfrm>
          <a:custGeom>
            <a:avLst/>
            <a:gdLst>
              <a:gd name="textAreaLeft" fmla="*/ 32400 w 2305080"/>
              <a:gd name="textAreaRight" fmla="*/ 2272680 w 23050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98593" h="21600">
                <a:moveTo>
                  <a:pt x="0" y="0"/>
                </a:moveTo>
                <a:lnTo>
                  <a:pt x="98593" y="0"/>
                </a:lnTo>
                <a:lnTo>
                  <a:pt x="98593" y="21600"/>
                </a:lnTo>
                <a:lnTo>
                  <a:pt x="0" y="21600"/>
                </a:lnTo>
                <a:close/>
              </a:path>
              <a:path fill="lightenLess" w="98593" h="21600">
                <a:moveTo>
                  <a:pt x="0" y="0"/>
                </a:moveTo>
                <a:lnTo>
                  <a:pt x="98593" y="0"/>
                </a:lnTo>
                <a:lnTo>
                  <a:pt x="97193" y="1400"/>
                </a:lnTo>
                <a:lnTo>
                  <a:pt x="1400" y="1400"/>
                </a:lnTo>
                <a:close/>
              </a:path>
              <a:path fill="darken" w="98593" h="21600">
                <a:moveTo>
                  <a:pt x="98593" y="0"/>
                </a:moveTo>
                <a:lnTo>
                  <a:pt x="98593" y="21600"/>
                </a:lnTo>
                <a:lnTo>
                  <a:pt x="97193" y="20200"/>
                </a:lnTo>
                <a:lnTo>
                  <a:pt x="97193" y="1400"/>
                </a:lnTo>
                <a:close/>
              </a:path>
              <a:path fill="darkenLess" w="98593" h="21600">
                <a:moveTo>
                  <a:pt x="985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193" y="20200"/>
                </a:lnTo>
                <a:close/>
              </a:path>
              <a:path fill="lighten" w="985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казк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rId2" action="ppaction://hlinksldjump"/>
          </p:cNvPr>
          <p:cNvSpPr/>
          <p:nvPr/>
        </p:nvSpPr>
        <p:spPr>
          <a:xfrm>
            <a:off x="7812000" y="6237360"/>
            <a:ext cx="863640" cy="393480"/>
          </a:xfrm>
          <a:custGeom>
            <a:avLst/>
            <a:gdLst>
              <a:gd name="textAreaLeft" fmla="*/ 25200 w 863640"/>
              <a:gd name="textAreaRight" fmla="*/ 838440 w 863640"/>
              <a:gd name="textAreaTop" fmla="*/ 25200 h 393480"/>
              <a:gd name="textAreaBottom" fmla="*/ 368280 h 393480"/>
            </a:gdLst>
            <a:ahLst/>
            <a:rect l="textAreaLeft" t="textAreaTop" r="textAreaRight" b="textAreaBottom"/>
            <a:pathLst>
              <a:path w="47386" h="21600">
                <a:moveTo>
                  <a:pt x="0" y="0"/>
                </a:moveTo>
                <a:lnTo>
                  <a:pt x="47386" y="0"/>
                </a:lnTo>
                <a:lnTo>
                  <a:pt x="47386" y="21600"/>
                </a:lnTo>
                <a:lnTo>
                  <a:pt x="0" y="21600"/>
                </a:lnTo>
                <a:close/>
              </a:path>
              <a:path fill="lightenLess" w="47386" h="21600">
                <a:moveTo>
                  <a:pt x="0" y="0"/>
                </a:moveTo>
                <a:lnTo>
                  <a:pt x="47386" y="0"/>
                </a:lnTo>
                <a:lnTo>
                  <a:pt x="45986" y="1400"/>
                </a:lnTo>
                <a:lnTo>
                  <a:pt x="1400" y="1400"/>
                </a:lnTo>
                <a:close/>
              </a:path>
              <a:path fill="darken" w="47386" h="21600">
                <a:moveTo>
                  <a:pt x="47386" y="0"/>
                </a:moveTo>
                <a:lnTo>
                  <a:pt x="47386" y="21600"/>
                </a:lnTo>
                <a:lnTo>
                  <a:pt x="45986" y="20200"/>
                </a:lnTo>
                <a:lnTo>
                  <a:pt x="45986" y="1400"/>
                </a:lnTo>
                <a:close/>
              </a:path>
              <a:path fill="darkenLess" w="47386" h="21600">
                <a:moveTo>
                  <a:pt x="473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986" y="20200"/>
                </a:lnTo>
                <a:close/>
              </a:path>
              <a:path fill="lighten" w="473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386" h="21600">
                <a:moveTo>
                  <a:pt x="16686" y="3794"/>
                </a:moveTo>
                <a:lnTo>
                  <a:pt x="30699" y="10800"/>
                </a:lnTo>
                <a:lnTo>
                  <a:pt x="16686" y="17806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80808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435640" y="2565360"/>
            <a:ext cx="3025800" cy="2879640"/>
            <a:chOff x="5435640" y="2565360"/>
            <a:chExt cx="3025800" cy="2879640"/>
          </a:xfrm>
        </p:grpSpPr>
        <p:sp>
          <p:nvSpPr>
            <p:cNvPr id="215" name=""/>
            <p:cNvSpPr/>
            <p:nvPr/>
          </p:nvSpPr>
          <p:spPr>
            <a:xfrm>
              <a:off x="5435640" y="2565360"/>
              <a:ext cx="3025800" cy="2879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5640" y="292392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35640" y="357336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35640" y="3789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35640" y="4005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435640" y="270792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435640" y="313992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435640" y="335592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35640" y="4221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35640" y="443700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435640" y="465264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35640" y="486864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35640" y="508464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35640" y="5300280"/>
              <a:ext cx="30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8000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600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01200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2764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7708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6108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4508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52472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0872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308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95672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4072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17236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388360" y="2565360"/>
              <a:ext cx="0" cy="28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 flipH="1">
            <a:off x="7666920" y="3933720"/>
            <a:ext cx="144360" cy="14472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155640" y="3284640"/>
            <a:ext cx="142920" cy="144360"/>
          </a:xfrm>
          <a:prstGeom prst="ellipse">
            <a:avLst/>
          </a:prstGeom>
          <a:solidFill>
            <a:srgbClr val="800080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33800" y="40766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 (-6; -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96720" y="3429000"/>
            <a:ext cx="16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(-10; -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95280" y="2708280"/>
            <a:ext cx="3384720" cy="657000"/>
            <a:chOff x="395280" y="2708280"/>
            <a:chExt cx="3384720" cy="657000"/>
          </a:xfrm>
        </p:grpSpPr>
        <p:sp>
          <p:nvSpPr>
            <p:cNvPr id="248" name=""/>
            <p:cNvSpPr/>
            <p:nvPr/>
          </p:nvSpPr>
          <p:spPr>
            <a:xfrm>
              <a:off x="395280" y="2708280"/>
              <a:ext cx="3384720" cy="574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9" name=""/>
                <p:cNvSpPr txBox="1"/>
                <p:nvPr/>
              </p:nvSpPr>
              <p:spPr>
                <a:xfrm>
                  <a:off x="971640" y="2708280"/>
                  <a:ext cx="2065320" cy="65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x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39640" y="3284640"/>
                <a:ext cx="372276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39640" y="3860640"/>
                <a:ext cx="34704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344520" y="3387600"/>
            <a:ext cx="216000" cy="11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12720" y="5734080"/>
            <a:ext cx="117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35640" y="5661000"/>
            <a:ext cx="302400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2200" y="4754520"/>
            <a:ext cx="216000" cy="115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39640" y="4724280"/>
                <a:ext cx="202752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611280" y="5229360"/>
                <a:ext cx="202248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508720" y="5661000"/>
                <a:ext cx="287964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х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4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0:13:57Z</dcterms:created>
  <dc:creator>КарМаН</dc:creator>
  <dc:description/>
  <dc:language>en-US</dc:language>
  <cp:lastModifiedBy>КарМаН</cp:lastModifiedBy>
  <dcterms:modified xsi:type="dcterms:W3CDTF">2011-07-10T01:08:33Z</dcterms:modified>
  <cp:revision>30</cp:revision>
  <dc:subject/>
  <dc:title>Слайд 1</dc:title>
</cp:coreProperties>
</file>