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874F-646B-42E7-A16B-29447986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B587-120B-44CE-8CC3-BB098A9B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AAC5-0E4A-41B0-879A-6FE5631F9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1E93-462B-4F02-B6B1-15A9ECD1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D6CB-EE2C-49B4-82C6-862A251A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8965-1088-437F-8B16-1CFDFFC1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7F6F-BC3B-48F8-BD94-20D49674F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DD376-5B08-47EC-93FC-4FAD63C8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60CD-D786-4EC5-8096-2EFC0A4F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48BEC-C894-4E4E-8E34-D6A35510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205A-E238-464A-9CDE-8E9FAC55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18F4-0884-4340-9634-FB55122C3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2E77-FFCB-49E7-AA3A-4DC5631E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FE3C-1867-4A83-981D-EA2961B7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45E6-F491-4C9D-8F6C-970156AD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0E9C-59D8-486E-83A3-F942711E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3107-5AAD-4E8C-B7CF-2337589A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0DF4F-C0DD-43AF-9A6E-1D2F2B225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E0F4C-8828-4AE3-917D-85428B40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296E9-1F52-4A84-A073-237A7208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040AB-4EE9-4E36-A5C6-FEB7B3A6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DFCCF-0180-44A0-8D08-AB8DA9AA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EA43-EBFE-42A1-AF0F-4A1FDD29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B8EEE-A4CD-4AFC-A5BF-0BBB322B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3B01E-5166-4B89-8884-51A54642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076F5-E9E7-4021-8484-43CDCBB5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1C1BA-ECAF-464E-85AE-18CF9413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D1387-5ADA-40E9-BE1E-558EFA0E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0DC29-085B-4058-9758-952E6B0BF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E3046-D666-4411-BFA4-4759DEAD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0C0D-A6DB-4D41-9DDB-5E4687F0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3686-FA1E-4613-A449-4B67C3D6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F21D-163A-4169-8C25-84830186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7989-BC2F-4384-801F-48E89961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EA2E-FC8E-483D-8E0C-21460CE0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5165-6092-45D1-A49F-94565746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B70D-3F74-43E5-8576-9096E09E927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6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C010-74AD-4549-A0D2-EA18CCE4DBF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D52F-55C4-47CB-89B8-BB7E933571F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203640" y="105264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Линейная функция.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" action="ppaction://hlinkshowjump?jump=nextslide"/>
          </p:cNvPr>
          <p:cNvSpPr/>
          <p:nvPr/>
        </p:nvSpPr>
        <p:spPr>
          <a:xfrm>
            <a:off x="838836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059280" y="2924280"/>
                <a:ext cx="424800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8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"/>
          <p:cNvGrpSpPr/>
          <p:nvPr/>
        </p:nvGrpSpPr>
        <p:grpSpPr>
          <a:xfrm>
            <a:off x="3824280" y="260280"/>
            <a:ext cx="5114880" cy="4865760"/>
            <a:chOff x="3824280" y="260280"/>
            <a:chExt cx="5114880" cy="4865760"/>
          </a:xfrm>
        </p:grpSpPr>
        <p:grpSp>
          <p:nvGrpSpPr>
            <p:cNvPr id="489" name=""/>
            <p:cNvGrpSpPr/>
            <p:nvPr/>
          </p:nvGrpSpPr>
          <p:grpSpPr>
            <a:xfrm>
              <a:off x="3824280" y="322200"/>
              <a:ext cx="4997520" cy="4803840"/>
              <a:chOff x="3824280" y="322200"/>
              <a:chExt cx="4997520" cy="4803840"/>
            </a:xfrm>
          </p:grpSpPr>
          <p:sp>
            <p:nvSpPr>
              <p:cNvPr id="490" name=""/>
              <p:cNvSpPr/>
              <p:nvPr/>
            </p:nvSpPr>
            <p:spPr>
              <a:xfrm>
                <a:off x="3851280" y="33480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824280" y="4675320"/>
                <a:ext cx="4959360" cy="1260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249800" y="334800"/>
                <a:ext cx="12600" cy="4753080"/>
              </a:xfrm>
              <a:custGeom>
                <a:avLst/>
                <a:gdLst/>
                <a:ahLst/>
                <a:rect l="l" t="t" r="r" b="b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851280" y="4292640"/>
                <a:ext cx="49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851280" y="5084640"/>
                <a:ext cx="4959360" cy="1296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838680" y="3889440"/>
                <a:ext cx="4970520" cy="1260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851280" y="3500280"/>
                <a:ext cx="4970520" cy="1296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824280" y="3103560"/>
                <a:ext cx="4971960" cy="12600"/>
              </a:xfrm>
              <a:custGeom>
                <a:avLst/>
                <a:gdLst/>
                <a:ahLst/>
                <a:rect l="l" t="t" r="r" b="b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863880" y="22924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851280" y="19162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851280" y="1506600"/>
                <a:ext cx="4957920" cy="12600"/>
              </a:xfrm>
              <a:custGeom>
                <a:avLst/>
                <a:gdLst/>
                <a:ahLst/>
                <a:rect l="l" t="t" r="r" b="b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851280" y="112392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863880" y="708120"/>
                <a:ext cx="494532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851280" y="333360"/>
                <a:ext cx="494496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662360" y="322200"/>
                <a:ext cx="12960" cy="4803840"/>
              </a:xfrm>
              <a:custGeom>
                <a:avLst/>
                <a:gdLst/>
                <a:ahLst/>
                <a:rect l="l" t="t" r="r" b="b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076720" y="3333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508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884920" y="347760"/>
                <a:ext cx="14400" cy="4778280"/>
              </a:xfrm>
              <a:custGeom>
                <a:avLst/>
                <a:gdLst/>
                <a:ahLst/>
                <a:rect l="l" t="t" r="r" b="b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732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134120" y="32220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559640" y="3477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956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38836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860616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942160" y="26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6932520" y="136440"/>
            <a:ext cx="1309680" cy="2570400"/>
          </a:xfrm>
          <a:custGeom>
            <a:avLst/>
            <a:gdLst/>
            <a:ahLst/>
            <a:rect l="l" t="t" r="r" b="b"/>
            <a:pathLst>
              <a:path w="825" h="1619">
                <a:moveTo>
                  <a:pt x="0" y="1619"/>
                </a:moveTo>
                <a:lnTo>
                  <a:pt x="825" y="0"/>
                </a:lnTo>
              </a:path>
            </a:pathLst>
          </a:custGeom>
          <a:noFill/>
          <a:ln w="284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924360" y="2708280"/>
            <a:ext cx="48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6300720" y="333360"/>
            <a:ext cx="0" cy="468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5535720" y="2717640"/>
            <a:ext cx="1407960" cy="2670480"/>
          </a:xfrm>
          <a:custGeom>
            <a:avLst/>
            <a:gdLst/>
            <a:ahLst/>
            <a:rect l="l" t="t" r="r" b="b"/>
            <a:pathLst>
              <a:path w="887" h="1682">
                <a:moveTo>
                  <a:pt x="0" y="1682"/>
                </a:moveTo>
                <a:lnTo>
                  <a:pt x="887" y="0"/>
                </a:lnTo>
              </a:path>
            </a:pathLst>
          </a:custGeom>
          <a:noFill/>
          <a:ln w="284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166760" y="22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465120" y="549360"/>
                <a:ext cx="2021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22" name=""/>
          <p:cNvSpPr/>
          <p:nvPr/>
        </p:nvSpPr>
        <p:spPr>
          <a:xfrm>
            <a:off x="6080040" y="1136520"/>
            <a:ext cx="11160" cy="3176640"/>
          </a:xfrm>
          <a:custGeom>
            <a:avLst/>
            <a:gdLst/>
            <a:ahLst/>
            <a:rect l="l" t="t" r="r" b="b"/>
            <a:pathLst>
              <a:path w="7" h="2001">
                <a:moveTo>
                  <a:pt x="7" y="2001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71640" y="2565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35120" y="452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57080" y="1700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=2х –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610240" y="-641520"/>
            <a:ext cx="3040200" cy="3359160"/>
          </a:xfrm>
          <a:custGeom>
            <a:avLst/>
            <a:gdLst/>
            <a:ahLst/>
            <a:rect l="l" t="t" r="r" b="b"/>
            <a:pathLst>
              <a:path w="1915" h="2116">
                <a:moveTo>
                  <a:pt x="1689" y="326"/>
                </a:moveTo>
                <a:cubicBezTo>
                  <a:pt x="1681" y="351"/>
                  <a:pt x="1915" y="0"/>
                  <a:pt x="1759" y="241"/>
                </a:cubicBezTo>
                <a:cubicBezTo>
                  <a:pt x="1761" y="263"/>
                  <a:pt x="1727" y="254"/>
                  <a:pt x="1704" y="311"/>
                </a:cubicBezTo>
                <a:cubicBezTo>
                  <a:pt x="1681" y="368"/>
                  <a:pt x="1764" y="282"/>
                  <a:pt x="1619" y="583"/>
                </a:cubicBezTo>
                <a:lnTo>
                  <a:pt x="833" y="2116"/>
                </a:lnTo>
                <a:lnTo>
                  <a:pt x="0" y="497"/>
                </a:ln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6588000" y="2060280"/>
            <a:ext cx="0" cy="1297080"/>
          </a:xfrm>
          <a:prstGeom prst="line">
            <a:avLst/>
          </a:prstGeom>
          <a:ln w="28440">
            <a:solidFill>
              <a:srgbClr val="00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72080" y="147600"/>
            <a:ext cx="1800" cy="5054760"/>
          </a:xfrm>
          <a:custGeom>
            <a:avLst/>
            <a:gdLst/>
            <a:ahLst/>
            <a:rect l="l" t="t" r="r" b="b"/>
            <a:pathLst>
              <a:path w="1" h="3184">
                <a:moveTo>
                  <a:pt x="0" y="318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785080" y="320760"/>
            <a:ext cx="1800" cy="4794120"/>
          </a:xfrm>
          <a:custGeom>
            <a:avLst/>
            <a:gdLst/>
            <a:ahLst/>
            <a:rect l="l" t="t" r="r" b="b"/>
            <a:pathLst>
              <a:path w="1" h="3020">
                <a:moveTo>
                  <a:pt x="0" y="0"/>
                </a:moveTo>
                <a:lnTo>
                  <a:pt x="0" y="302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227640" y="3860640"/>
            <a:ext cx="144720" cy="142920"/>
          </a:xfrm>
          <a:prstGeom prst="flowChartConnector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6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2000"/>
                            </p:stCondLst>
                            <p:childTnLst>
                              <p:par>
                                <p:cTn id="651" nodeType="afterEffect" fill="hold" presetClass="exit" presetID="49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55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3492360" y="119700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Линейная функция.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>
            <a:hlinkClick r:id="" action="ppaction://hlinkshowjump?jump=nextslide"/>
          </p:cNvPr>
          <p:cNvSpPr/>
          <p:nvPr/>
        </p:nvSpPr>
        <p:spPr>
          <a:xfrm>
            <a:off x="838836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556000" y="3068640"/>
                <a:ext cx="432108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k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36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6300720" y="0"/>
            <a:ext cx="2843280" cy="5445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6300720" y="-360"/>
            <a:ext cx="2087640" cy="393372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924360" y="2708280"/>
            <a:ext cx="48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6300720" y="333360"/>
            <a:ext cx="0" cy="468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27640" y="404640"/>
            <a:ext cx="1873080" cy="352764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166760" y="22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684360" y="2060640"/>
                <a:ext cx="2251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5" name=""/>
          <p:cNvSpPr/>
          <p:nvPr/>
        </p:nvSpPr>
        <p:spPr>
          <a:xfrm>
            <a:off x="735120" y="452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187280" y="3141720"/>
            <a:ext cx="1152720" cy="360360"/>
          </a:xfrm>
          <a:custGeom>
            <a:avLst/>
            <a:gdLst>
              <a:gd name="textAreaLeft" fmla="*/ 23040 w 1152720"/>
              <a:gd name="textAreaRight" fmla="*/ 1129680 w 1152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47" h="21600">
                <a:moveTo>
                  <a:pt x="0" y="0"/>
                </a:moveTo>
                <a:lnTo>
                  <a:pt x="69047" y="0"/>
                </a:lnTo>
                <a:lnTo>
                  <a:pt x="69047" y="21600"/>
                </a:lnTo>
                <a:lnTo>
                  <a:pt x="0" y="21600"/>
                </a:lnTo>
                <a:close/>
              </a:path>
              <a:path fill="lightenLess" w="69047" h="21600">
                <a:moveTo>
                  <a:pt x="0" y="0"/>
                </a:moveTo>
                <a:lnTo>
                  <a:pt x="69047" y="0"/>
                </a:lnTo>
                <a:lnTo>
                  <a:pt x="67647" y="1400"/>
                </a:lnTo>
                <a:lnTo>
                  <a:pt x="1400" y="1400"/>
                </a:lnTo>
                <a:close/>
              </a:path>
              <a:path fill="darken" w="69047" h="21600">
                <a:moveTo>
                  <a:pt x="69047" y="0"/>
                </a:moveTo>
                <a:lnTo>
                  <a:pt x="69047" y="21600"/>
                </a:lnTo>
                <a:lnTo>
                  <a:pt x="67647" y="20200"/>
                </a:lnTo>
                <a:lnTo>
                  <a:pt x="67647" y="1400"/>
                </a:lnTo>
                <a:close/>
              </a:path>
              <a:path fill="darkenLess" w="69047" h="21600">
                <a:moveTo>
                  <a:pt x="69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47" y="20200"/>
                </a:lnTo>
                <a:close/>
              </a:path>
              <a:path fill="lighten" w="69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rot="17919000">
            <a:off x="7019640" y="98280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у = 2х-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6443640" y="4076640"/>
                <a:ext cx="22496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9" name=""/>
          <p:cNvSpPr/>
          <p:nvPr/>
        </p:nvSpPr>
        <p:spPr>
          <a:xfrm flipH="1">
            <a:off x="5508720" y="3933720"/>
            <a:ext cx="792000" cy="144000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1332000" y="1773360"/>
                <a:ext cx="17272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4313160" y="44280"/>
            <a:ext cx="4075200" cy="2664000"/>
          </a:xfrm>
          <a:custGeom>
            <a:avLst/>
            <a:gdLst/>
            <a:ahLst/>
            <a:rect l="l" t="t" r="r" b="b"/>
            <a:pathLst>
              <a:path w="2567" h="1678">
                <a:moveTo>
                  <a:pt x="2567" y="0"/>
                </a:moveTo>
                <a:lnTo>
                  <a:pt x="1660" y="1678"/>
                </a:lnTo>
                <a:lnTo>
                  <a:pt x="1252" y="907"/>
                </a:lnTo>
                <a:lnTo>
                  <a:pt x="843" y="1678"/>
                </a:lnTo>
                <a:lnTo>
                  <a:pt x="0" y="92"/>
                </a:ln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2" name=""/>
              <p:cNvSpPr txBox="1"/>
              <p:nvPr/>
            </p:nvSpPr>
            <p:spPr>
              <a:xfrm>
                <a:off x="900000" y="1123920"/>
                <a:ext cx="21592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826920" y="189000"/>
                <a:ext cx="252108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2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х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4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3824280" y="260280"/>
            <a:ext cx="5114880" cy="4865760"/>
            <a:chOff x="3824280" y="260280"/>
            <a:chExt cx="5114880" cy="4865760"/>
          </a:xfrm>
        </p:grpSpPr>
        <p:grpSp>
          <p:nvGrpSpPr>
            <p:cNvPr id="557" name=""/>
            <p:cNvGrpSpPr/>
            <p:nvPr/>
          </p:nvGrpSpPr>
          <p:grpSpPr>
            <a:xfrm>
              <a:off x="3824280" y="322200"/>
              <a:ext cx="4997520" cy="4803840"/>
              <a:chOff x="3824280" y="322200"/>
              <a:chExt cx="4997520" cy="4803840"/>
            </a:xfrm>
          </p:grpSpPr>
          <p:sp>
            <p:nvSpPr>
              <p:cNvPr id="558" name=""/>
              <p:cNvSpPr/>
              <p:nvPr/>
            </p:nvSpPr>
            <p:spPr>
              <a:xfrm>
                <a:off x="3851280" y="33480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824280" y="4675320"/>
                <a:ext cx="4959360" cy="1260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249800" y="334800"/>
                <a:ext cx="12600" cy="4753080"/>
              </a:xfrm>
              <a:custGeom>
                <a:avLst/>
                <a:gdLst/>
                <a:ahLst/>
                <a:rect l="l" t="t" r="r" b="b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851280" y="4292640"/>
                <a:ext cx="49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851280" y="5084640"/>
                <a:ext cx="4959360" cy="1296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838680" y="3889440"/>
                <a:ext cx="4970520" cy="1260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851280" y="3500280"/>
                <a:ext cx="4970520" cy="1296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824280" y="3103560"/>
                <a:ext cx="4971960" cy="12600"/>
              </a:xfrm>
              <a:custGeom>
                <a:avLst/>
                <a:gdLst/>
                <a:ahLst/>
                <a:rect l="l" t="t" r="r" b="b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863880" y="22924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851280" y="19162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851280" y="1506600"/>
                <a:ext cx="4957920" cy="12600"/>
              </a:xfrm>
              <a:custGeom>
                <a:avLst/>
                <a:gdLst/>
                <a:ahLst/>
                <a:rect l="l" t="t" r="r" b="b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851280" y="112392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863880" y="708120"/>
                <a:ext cx="494532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851280" y="333360"/>
                <a:ext cx="494496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62360" y="322200"/>
                <a:ext cx="12960" cy="4803840"/>
              </a:xfrm>
              <a:custGeom>
                <a:avLst/>
                <a:gdLst/>
                <a:ahLst/>
                <a:rect l="l" t="t" r="r" b="b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076720" y="3333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508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84920" y="347760"/>
                <a:ext cx="14400" cy="4778280"/>
              </a:xfrm>
              <a:custGeom>
                <a:avLst/>
                <a:gdLst/>
                <a:ahLst/>
                <a:rect l="l" t="t" r="r" b="b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732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134120" y="32220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559640" y="3477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956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38836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>
              <a:off x="860616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942160" y="26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8785080" y="320760"/>
            <a:ext cx="1800" cy="4794120"/>
          </a:xfrm>
          <a:custGeom>
            <a:avLst/>
            <a:gdLst/>
            <a:ahLst/>
            <a:rect l="l" t="t" r="r" b="b"/>
            <a:pathLst>
              <a:path w="1" h="3020">
                <a:moveTo>
                  <a:pt x="0" y="0"/>
                </a:moveTo>
                <a:lnTo>
                  <a:pt x="0" y="302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6" dur="indefinite" restart="never" nodeType="tmRoot">
          <p:childTnLst>
            <p:seq>
              <p:cTn id="667" restart="whenNotActive" nodeType="interactiveSeq" fill="hold">
                <p:stCondLst>
                  <p:cond evt="onClick">
                    <p:tgtEl>
                      <p:spTgt spid="546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000"/>
                            </p:stCondLst>
                            <p:childTnLst>
                              <p:par>
                                <p:cTn id="6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000"/>
                            </p:stCondLst>
                            <p:childTnLst>
                              <p:par>
                                <p:cTn id="6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500"/>
                            </p:stCondLst>
                            <p:childTnLst>
                              <p:par>
                                <p:cTn id="704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5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06" dur="2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3500"/>
                            </p:stCondLst>
                            <p:childTnLst>
                              <p:par>
                                <p:cTn id="708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4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evt="onClick">
                          <p:tgtEl>
                            <p:spTgt spid="546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500"/>
                            </p:stCondLst>
                            <p:childTnLst>
                              <p:par>
                                <p:cTn id="74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4500"/>
                            </p:stCondLst>
                            <p:childTnLst>
                              <p:par>
                                <p:cTn id="749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7000"/>
                            </p:stCondLst>
                            <p:childTnLst>
                              <p:par>
                                <p:cTn id="756" nodeType="afterEffect" fill="hold" presetClass="path" presetID="63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3.20074E-006 L 0.31111 0.02081 E">
                                      <p:cBhvr>
                                        <p:cTn id="757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969840" y="95076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остроение графиков с помощью параллельного переноса вдоль осей координат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>
            <a:hlinkClick r:id="" action="ppaction://hlinkshowjump?jump=nextslide"/>
          </p:cNvPr>
          <p:cNvSpPr/>
          <p:nvPr/>
        </p:nvSpPr>
        <p:spPr>
          <a:xfrm>
            <a:off x="838836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116000" y="2565360"/>
                <a:ext cx="18241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1042920" y="3860640"/>
                <a:ext cx="187344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5076720" y="2492280"/>
                <a:ext cx="18241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5148360" y="3716280"/>
                <a:ext cx="18050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971640" y="5084640"/>
                <a:ext cx="23050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5003640" y="4941720"/>
                <a:ext cx="23767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3" name=""/>
          <p:cNvSpPr/>
          <p:nvPr/>
        </p:nvSpPr>
        <p:spPr>
          <a:xfrm flipV="1">
            <a:off x="2987640" y="256536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987640" y="407664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6227640" y="3141720"/>
            <a:ext cx="5032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372360" y="4437000"/>
            <a:ext cx="5032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3348000" y="5157720"/>
            <a:ext cx="0" cy="4320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050920" y="5805360"/>
            <a:ext cx="5032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6156360" y="5734080"/>
            <a:ext cx="5032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7524720" y="494172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244000" y="270828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10800" y="380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13">
                <a:moveTo>
                  <a:pt x="10800" y="417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13">
                <a:moveTo>
                  <a:pt x="8224" y="8230"/>
                </a:moveTo>
                <a:lnTo>
                  <a:pt x="12088" y="8230"/>
                </a:lnTo>
                <a:lnTo>
                  <a:pt x="12088" y="15228"/>
                </a:lnTo>
                <a:lnTo>
                  <a:pt x="13376" y="15228"/>
                </a:lnTo>
                <a:lnTo>
                  <a:pt x="13376" y="16151"/>
                </a:lnTo>
                <a:lnTo>
                  <a:pt x="8224" y="16151"/>
                </a:lnTo>
                <a:lnTo>
                  <a:pt x="8224" y="15228"/>
                </a:lnTo>
                <a:lnTo>
                  <a:pt x="9512" y="15228"/>
                </a:lnTo>
                <a:lnTo>
                  <a:pt x="9512" y="9136"/>
                </a:lnTo>
                <a:lnTo>
                  <a:pt x="8224" y="913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8" dur="indefinite" restart="never" nodeType="tmRoot">
          <p:childTnLst>
            <p:seq>
              <p:cTn id="759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760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4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924360" y="2708280"/>
            <a:ext cx="48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6300720" y="333360"/>
            <a:ext cx="0" cy="468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166760" y="22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35120" y="452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403280" y="1989000"/>
            <a:ext cx="1152720" cy="360360"/>
          </a:xfrm>
          <a:custGeom>
            <a:avLst/>
            <a:gdLst>
              <a:gd name="textAreaLeft" fmla="*/ 23040 w 1152720"/>
              <a:gd name="textAreaRight" fmla="*/ 1129680 w 1152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47" h="21600">
                <a:moveTo>
                  <a:pt x="0" y="0"/>
                </a:moveTo>
                <a:lnTo>
                  <a:pt x="69047" y="0"/>
                </a:lnTo>
                <a:lnTo>
                  <a:pt x="69047" y="21600"/>
                </a:lnTo>
                <a:lnTo>
                  <a:pt x="0" y="21600"/>
                </a:lnTo>
                <a:close/>
              </a:path>
              <a:path fill="lightenLess" w="69047" h="21600">
                <a:moveTo>
                  <a:pt x="0" y="0"/>
                </a:moveTo>
                <a:lnTo>
                  <a:pt x="69047" y="0"/>
                </a:lnTo>
                <a:lnTo>
                  <a:pt x="67647" y="1400"/>
                </a:lnTo>
                <a:lnTo>
                  <a:pt x="1400" y="1400"/>
                </a:lnTo>
                <a:close/>
              </a:path>
              <a:path fill="darken" w="69047" h="21600">
                <a:moveTo>
                  <a:pt x="69047" y="0"/>
                </a:moveTo>
                <a:lnTo>
                  <a:pt x="69047" y="21600"/>
                </a:lnTo>
                <a:lnTo>
                  <a:pt x="67647" y="20200"/>
                </a:lnTo>
                <a:lnTo>
                  <a:pt x="67647" y="1400"/>
                </a:lnTo>
                <a:close/>
              </a:path>
              <a:path fill="darkenLess" w="69047" h="21600">
                <a:moveTo>
                  <a:pt x="69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47" y="20200"/>
                </a:lnTo>
                <a:close/>
              </a:path>
              <a:path fill="lighten" w="69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3824280" y="260280"/>
            <a:ext cx="5114880" cy="4865760"/>
            <a:chOff x="3824280" y="260280"/>
            <a:chExt cx="5114880" cy="4865760"/>
          </a:xfrm>
        </p:grpSpPr>
        <p:grpSp>
          <p:nvGrpSpPr>
            <p:cNvPr id="611" name=""/>
            <p:cNvGrpSpPr/>
            <p:nvPr/>
          </p:nvGrpSpPr>
          <p:grpSpPr>
            <a:xfrm>
              <a:off x="3824280" y="322200"/>
              <a:ext cx="4997520" cy="4803840"/>
              <a:chOff x="3824280" y="322200"/>
              <a:chExt cx="4997520" cy="4803840"/>
            </a:xfrm>
          </p:grpSpPr>
          <p:sp>
            <p:nvSpPr>
              <p:cNvPr id="612" name=""/>
              <p:cNvSpPr/>
              <p:nvPr/>
            </p:nvSpPr>
            <p:spPr>
              <a:xfrm>
                <a:off x="3851280" y="33480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824280" y="4675320"/>
                <a:ext cx="4959360" cy="1260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249800" y="334800"/>
                <a:ext cx="12600" cy="4753080"/>
              </a:xfrm>
              <a:custGeom>
                <a:avLst/>
                <a:gdLst/>
                <a:ahLst/>
                <a:rect l="l" t="t" r="r" b="b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851280" y="4292640"/>
                <a:ext cx="49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851280" y="5084640"/>
                <a:ext cx="4959360" cy="1296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838680" y="3889440"/>
                <a:ext cx="4970520" cy="1260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851280" y="3500280"/>
                <a:ext cx="4970520" cy="1296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824280" y="3103560"/>
                <a:ext cx="4971960" cy="12600"/>
              </a:xfrm>
              <a:custGeom>
                <a:avLst/>
                <a:gdLst/>
                <a:ahLst/>
                <a:rect l="l" t="t" r="r" b="b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863880" y="22924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851280" y="19162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851280" y="1506600"/>
                <a:ext cx="4957920" cy="12600"/>
              </a:xfrm>
              <a:custGeom>
                <a:avLst/>
                <a:gdLst/>
                <a:ahLst/>
                <a:rect l="l" t="t" r="r" b="b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851280" y="112392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863880" y="708120"/>
                <a:ext cx="494532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851280" y="333360"/>
                <a:ext cx="494496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662360" y="322200"/>
                <a:ext cx="12960" cy="4803840"/>
              </a:xfrm>
              <a:custGeom>
                <a:avLst/>
                <a:gdLst/>
                <a:ahLst/>
                <a:rect l="l" t="t" r="r" b="b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076720" y="3333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08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884920" y="347760"/>
                <a:ext cx="14400" cy="4778280"/>
              </a:xfrm>
              <a:custGeom>
                <a:avLst/>
                <a:gdLst/>
                <a:ahLst/>
                <a:rect l="l" t="t" r="r" b="b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732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134120" y="32220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559640" y="3477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956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38836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5" name=""/>
            <p:cNvSpPr/>
            <p:nvPr/>
          </p:nvSpPr>
          <p:spPr>
            <a:xfrm>
              <a:off x="860616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942160" y="26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8785080" y="320760"/>
            <a:ext cx="1800" cy="4794120"/>
          </a:xfrm>
          <a:custGeom>
            <a:avLst/>
            <a:gdLst/>
            <a:ahLst/>
            <a:rect l="l" t="t" r="r" b="b"/>
            <a:pathLst>
              <a:path w="1" h="3020">
                <a:moveTo>
                  <a:pt x="0" y="0"/>
                </a:moveTo>
                <a:lnTo>
                  <a:pt x="0" y="302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564000" y="0"/>
            <a:ext cx="5494320" cy="2717640"/>
          </a:xfrm>
          <a:custGeom>
            <a:avLst/>
            <a:gdLst/>
            <a:ahLst/>
            <a:rect l="l" t="t" r="r" b="b"/>
            <a:pathLst>
              <a:path w="3461" h="1712">
                <a:moveTo>
                  <a:pt x="0" y="0"/>
                </a:moveTo>
                <a:lnTo>
                  <a:pt x="1725" y="1712"/>
                </a:lnTo>
                <a:lnTo>
                  <a:pt x="3461" y="31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2720" y="263700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1116000" y="333360"/>
                <a:ext cx="18241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1" name=""/>
          <p:cNvSpPr/>
          <p:nvPr/>
        </p:nvSpPr>
        <p:spPr>
          <a:xfrm flipV="1">
            <a:off x="2987640" y="3429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229440" y="1700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942160" y="263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612720" y="3429000"/>
            <a:ext cx="23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rot="16079400">
            <a:off x="5831640" y="3032640"/>
            <a:ext cx="1011240" cy="361800"/>
          </a:xfrm>
          <a:custGeom>
            <a:avLst/>
            <a:gdLst>
              <a:gd name="textAreaLeft" fmla="*/ 158040 w 1011240"/>
              <a:gd name="textAreaRight" fmla="*/ 884880 w 1011240"/>
              <a:gd name="textAreaTop" fmla="*/ 90360 h 361800"/>
              <a:gd name="textAreaBottom" fmla="*/ 271440 h 361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8" dur="indefinite" restart="never" nodeType="tmRoot">
          <p:childTnLst>
            <p:seq>
              <p:cTn id="809" restart="whenNotActive" nodeType="interactiveSeq" fill="hold">
                <p:stCondLst>
                  <p:cond evt="onClick">
                    <p:tgtEl>
                      <p:spTgt spid="607"/>
                    </p:tgtEl>
                  </p:cond>
                </p:stCondLst>
                <p:childTnLst>
                  <p:par>
                    <p:cTn id="810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2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1000"/>
                            </p:stCondLst>
                            <p:childTnLst>
                              <p:par>
                                <p:cTn id="83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85185E-006 L -0.00208 -0.11806 E">
                                      <p:cBhvr>
                                        <p:cTn id="835" dur="2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-0.00382 -0.11018 E">
                                      <p:cBhvr>
                                        <p:cTn id="837" dur="2000" fill="hold"/>
                                        <p:tgtEl>
                                          <p:spTgt spid="6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3000"/>
                            </p:stCondLst>
                            <p:childTnLst>
                              <p:par>
                                <p:cTn id="8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3500"/>
                            </p:stCondLst>
                            <p:childTnLst>
                              <p:par>
                                <p:cTn id="8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4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612360" y="3429000"/>
            <a:ext cx="23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924360" y="2708280"/>
            <a:ext cx="48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6300720" y="333360"/>
            <a:ext cx="0" cy="468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166760" y="22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35120" y="452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403280" y="1989000"/>
            <a:ext cx="1152720" cy="360360"/>
          </a:xfrm>
          <a:custGeom>
            <a:avLst/>
            <a:gdLst>
              <a:gd name="textAreaLeft" fmla="*/ 23040 w 1152720"/>
              <a:gd name="textAreaRight" fmla="*/ 1129680 w 1152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47" h="21600">
                <a:moveTo>
                  <a:pt x="0" y="0"/>
                </a:moveTo>
                <a:lnTo>
                  <a:pt x="69047" y="0"/>
                </a:lnTo>
                <a:lnTo>
                  <a:pt x="69047" y="21600"/>
                </a:lnTo>
                <a:lnTo>
                  <a:pt x="0" y="21600"/>
                </a:lnTo>
                <a:close/>
              </a:path>
              <a:path fill="lightenLess" w="69047" h="21600">
                <a:moveTo>
                  <a:pt x="0" y="0"/>
                </a:moveTo>
                <a:lnTo>
                  <a:pt x="69047" y="0"/>
                </a:lnTo>
                <a:lnTo>
                  <a:pt x="67647" y="1400"/>
                </a:lnTo>
                <a:lnTo>
                  <a:pt x="1400" y="1400"/>
                </a:lnTo>
                <a:close/>
              </a:path>
              <a:path fill="darken" w="69047" h="21600">
                <a:moveTo>
                  <a:pt x="69047" y="0"/>
                </a:moveTo>
                <a:lnTo>
                  <a:pt x="69047" y="21600"/>
                </a:lnTo>
                <a:lnTo>
                  <a:pt x="67647" y="20200"/>
                </a:lnTo>
                <a:lnTo>
                  <a:pt x="67647" y="1400"/>
                </a:lnTo>
                <a:close/>
              </a:path>
              <a:path fill="darkenLess" w="69047" h="21600">
                <a:moveTo>
                  <a:pt x="69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47" y="20200"/>
                </a:lnTo>
                <a:close/>
              </a:path>
              <a:path fill="lighten" w="69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824280" y="260280"/>
            <a:ext cx="5114880" cy="4865760"/>
            <a:chOff x="3824280" y="260280"/>
            <a:chExt cx="5114880" cy="4865760"/>
          </a:xfrm>
        </p:grpSpPr>
        <p:grpSp>
          <p:nvGrpSpPr>
            <p:cNvPr id="656" name=""/>
            <p:cNvGrpSpPr/>
            <p:nvPr/>
          </p:nvGrpSpPr>
          <p:grpSpPr>
            <a:xfrm>
              <a:off x="3824280" y="322200"/>
              <a:ext cx="4997520" cy="4803840"/>
              <a:chOff x="3824280" y="322200"/>
              <a:chExt cx="4997520" cy="4803840"/>
            </a:xfrm>
          </p:grpSpPr>
          <p:sp>
            <p:nvSpPr>
              <p:cNvPr id="657" name=""/>
              <p:cNvSpPr/>
              <p:nvPr/>
            </p:nvSpPr>
            <p:spPr>
              <a:xfrm>
                <a:off x="3851280" y="33480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24280" y="4675320"/>
                <a:ext cx="4959360" cy="1260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249800" y="334800"/>
                <a:ext cx="12600" cy="4753080"/>
              </a:xfrm>
              <a:custGeom>
                <a:avLst/>
                <a:gdLst/>
                <a:ahLst/>
                <a:rect l="l" t="t" r="r" b="b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851280" y="4292640"/>
                <a:ext cx="49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851280" y="5084640"/>
                <a:ext cx="4959360" cy="1296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838680" y="3889440"/>
                <a:ext cx="4970520" cy="1260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851280" y="3500280"/>
                <a:ext cx="4970520" cy="1296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3824280" y="3103560"/>
                <a:ext cx="4971960" cy="12600"/>
              </a:xfrm>
              <a:custGeom>
                <a:avLst/>
                <a:gdLst/>
                <a:ahLst/>
                <a:rect l="l" t="t" r="r" b="b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3863880" y="22924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3851280" y="19162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3851280" y="1506600"/>
                <a:ext cx="4957920" cy="12600"/>
              </a:xfrm>
              <a:custGeom>
                <a:avLst/>
                <a:gdLst/>
                <a:ahLst/>
                <a:rect l="l" t="t" r="r" b="b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3851280" y="112392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863880" y="708120"/>
                <a:ext cx="494532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851280" y="333360"/>
                <a:ext cx="494496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662360" y="322200"/>
                <a:ext cx="12960" cy="4803840"/>
              </a:xfrm>
              <a:custGeom>
                <a:avLst/>
                <a:gdLst/>
                <a:ahLst/>
                <a:rect l="l" t="t" r="r" b="b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076720" y="3333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08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884920" y="347760"/>
                <a:ext cx="14400" cy="4778280"/>
              </a:xfrm>
              <a:custGeom>
                <a:avLst/>
                <a:gdLst/>
                <a:ahLst/>
                <a:rect l="l" t="t" r="r" b="b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6732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134120" y="32220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559640" y="3477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956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38836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0" name=""/>
            <p:cNvSpPr/>
            <p:nvPr/>
          </p:nvSpPr>
          <p:spPr>
            <a:xfrm>
              <a:off x="860616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942160" y="26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8785080" y="320760"/>
            <a:ext cx="1800" cy="4794120"/>
          </a:xfrm>
          <a:custGeom>
            <a:avLst/>
            <a:gdLst/>
            <a:ahLst/>
            <a:rect l="l" t="t" r="r" b="b"/>
            <a:pathLst>
              <a:path w="1" h="3020">
                <a:moveTo>
                  <a:pt x="0" y="0"/>
                </a:moveTo>
                <a:lnTo>
                  <a:pt x="0" y="302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564000" y="0"/>
            <a:ext cx="5432400" cy="2717640"/>
          </a:xfrm>
          <a:custGeom>
            <a:avLst/>
            <a:gdLst/>
            <a:ahLst/>
            <a:rect l="l" t="t" r="r" b="b"/>
            <a:pathLst>
              <a:path w="3422" h="1712">
                <a:moveTo>
                  <a:pt x="0" y="0"/>
                </a:moveTo>
                <a:lnTo>
                  <a:pt x="1725" y="1712"/>
                </a:lnTo>
                <a:lnTo>
                  <a:pt x="3422" y="62"/>
                </a:lnTo>
              </a:path>
            </a:pathLst>
          </a:custGeom>
          <a:noFill/>
          <a:ln w="28440">
            <a:solidFill>
              <a:srgbClr val="cc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12720" y="263700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132000" y="3500280"/>
            <a:ext cx="0" cy="5781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304320" y="364500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942160" y="263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1042920" y="476280"/>
                <a:ext cx="187344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9" name=""/>
          <p:cNvSpPr/>
          <p:nvPr/>
        </p:nvSpPr>
        <p:spPr>
          <a:xfrm>
            <a:off x="6227640" y="3860640"/>
            <a:ext cx="144720" cy="14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rot="5400000">
            <a:off x="5760000" y="2024640"/>
            <a:ext cx="1011240" cy="362160"/>
          </a:xfrm>
          <a:custGeom>
            <a:avLst/>
            <a:gdLst>
              <a:gd name="textAreaLeft" fmla="*/ 158040 w 1011240"/>
              <a:gd name="textAreaRight" fmla="*/ 884880 w 1011240"/>
              <a:gd name="textAreaTop" fmla="*/ 90360 h 362160"/>
              <a:gd name="textAreaBottom" fmla="*/ 271800 h 362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6" dur="indefinite" restart="never" nodeType="tmRoot">
          <p:childTnLst>
            <p:seq>
              <p:cTn id="847" restart="whenNotActive" nodeType="interactiveSeq" fill="hold">
                <p:stCondLst>
                  <p:cond evt="onClick">
                    <p:tgtEl>
                      <p:spTgt spid="652"/>
                    </p:tgtEl>
                  </p:cond>
                </p:stCondLst>
                <p:childTnLst>
                  <p:par>
                    <p:cTn id="848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500"/>
                            </p:stCondLst>
                            <p:childTnLst>
                              <p:par>
                                <p:cTn id="8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evt="onClick">
                          <p:tgtEl>
                            <p:spTgt spid="652"/>
                          </p:tgtEl>
                        </p:cond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00"/>
                            </p:stCondLst>
                            <p:childTnLst>
                              <p:par>
                                <p:cTn id="8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872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1.85185E-006 L -0.00208 0.17592 E">
                                      <p:cBhvr>
                                        <p:cTn id="873" dur="2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00382 0.16805 E">
                                      <p:cBhvr>
                                        <p:cTn id="875" dur="2000" fill="hold"/>
                                        <p:tgtEl>
                                          <p:spTgt spid="6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8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613080" y="3429000"/>
            <a:ext cx="23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924360" y="2708280"/>
            <a:ext cx="48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6300720" y="333360"/>
            <a:ext cx="0" cy="468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166760" y="22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35120" y="452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403280" y="1989000"/>
            <a:ext cx="1152720" cy="360360"/>
          </a:xfrm>
          <a:custGeom>
            <a:avLst/>
            <a:gdLst>
              <a:gd name="textAreaLeft" fmla="*/ 23040 w 1152720"/>
              <a:gd name="textAreaRight" fmla="*/ 1129680 w 1152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47" h="21600">
                <a:moveTo>
                  <a:pt x="0" y="0"/>
                </a:moveTo>
                <a:lnTo>
                  <a:pt x="69047" y="0"/>
                </a:lnTo>
                <a:lnTo>
                  <a:pt x="69047" y="21600"/>
                </a:lnTo>
                <a:lnTo>
                  <a:pt x="0" y="21600"/>
                </a:lnTo>
                <a:close/>
              </a:path>
              <a:path fill="lightenLess" w="69047" h="21600">
                <a:moveTo>
                  <a:pt x="0" y="0"/>
                </a:moveTo>
                <a:lnTo>
                  <a:pt x="69047" y="0"/>
                </a:lnTo>
                <a:lnTo>
                  <a:pt x="67647" y="1400"/>
                </a:lnTo>
                <a:lnTo>
                  <a:pt x="1400" y="1400"/>
                </a:lnTo>
                <a:close/>
              </a:path>
              <a:path fill="darken" w="69047" h="21600">
                <a:moveTo>
                  <a:pt x="69047" y="0"/>
                </a:moveTo>
                <a:lnTo>
                  <a:pt x="69047" y="21600"/>
                </a:lnTo>
                <a:lnTo>
                  <a:pt x="67647" y="20200"/>
                </a:lnTo>
                <a:lnTo>
                  <a:pt x="67647" y="1400"/>
                </a:lnTo>
                <a:close/>
              </a:path>
              <a:path fill="darkenLess" w="69047" h="21600">
                <a:moveTo>
                  <a:pt x="69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47" y="20200"/>
                </a:lnTo>
                <a:close/>
              </a:path>
              <a:path fill="lighten" w="69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3824280" y="260280"/>
            <a:ext cx="5114880" cy="4865760"/>
            <a:chOff x="3824280" y="260280"/>
            <a:chExt cx="5114880" cy="4865760"/>
          </a:xfrm>
        </p:grpSpPr>
        <p:grpSp>
          <p:nvGrpSpPr>
            <p:cNvPr id="701" name=""/>
            <p:cNvGrpSpPr/>
            <p:nvPr/>
          </p:nvGrpSpPr>
          <p:grpSpPr>
            <a:xfrm>
              <a:off x="3824280" y="322200"/>
              <a:ext cx="4997520" cy="4803840"/>
              <a:chOff x="3824280" y="322200"/>
              <a:chExt cx="4997520" cy="4803840"/>
            </a:xfrm>
          </p:grpSpPr>
          <p:sp>
            <p:nvSpPr>
              <p:cNvPr id="702" name=""/>
              <p:cNvSpPr/>
              <p:nvPr/>
            </p:nvSpPr>
            <p:spPr>
              <a:xfrm>
                <a:off x="3851280" y="33480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3824280" y="4675320"/>
                <a:ext cx="4959360" cy="1260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249800" y="334800"/>
                <a:ext cx="12600" cy="4753080"/>
              </a:xfrm>
              <a:custGeom>
                <a:avLst/>
                <a:gdLst/>
                <a:ahLst/>
                <a:rect l="l" t="t" r="r" b="b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851280" y="4292640"/>
                <a:ext cx="49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3851280" y="5084640"/>
                <a:ext cx="4959360" cy="1296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838680" y="3889440"/>
                <a:ext cx="4970520" cy="1260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851280" y="3500280"/>
                <a:ext cx="4970520" cy="1296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824280" y="3103560"/>
                <a:ext cx="4971960" cy="12600"/>
              </a:xfrm>
              <a:custGeom>
                <a:avLst/>
                <a:gdLst/>
                <a:ahLst/>
                <a:rect l="l" t="t" r="r" b="b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863880" y="22924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3851280" y="19162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851280" y="1506600"/>
                <a:ext cx="4957920" cy="12600"/>
              </a:xfrm>
              <a:custGeom>
                <a:avLst/>
                <a:gdLst/>
                <a:ahLst/>
                <a:rect l="l" t="t" r="r" b="b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851280" y="112392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3863880" y="708120"/>
                <a:ext cx="494532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851280" y="333360"/>
                <a:ext cx="494496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662360" y="322200"/>
                <a:ext cx="12960" cy="4803840"/>
              </a:xfrm>
              <a:custGeom>
                <a:avLst/>
                <a:gdLst/>
                <a:ahLst/>
                <a:rect l="l" t="t" r="r" b="b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076720" y="3333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08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884920" y="347760"/>
                <a:ext cx="14400" cy="4778280"/>
              </a:xfrm>
              <a:custGeom>
                <a:avLst/>
                <a:gdLst/>
                <a:ahLst/>
                <a:rect l="l" t="t" r="r" b="b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732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134120" y="32220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559640" y="3477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956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38836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>
              <a:off x="860616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942160" y="26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8785080" y="320760"/>
            <a:ext cx="1800" cy="4794120"/>
          </a:xfrm>
          <a:custGeom>
            <a:avLst/>
            <a:gdLst/>
            <a:ahLst/>
            <a:rect l="l" t="t" r="r" b="b"/>
            <a:pathLst>
              <a:path w="1" h="3020">
                <a:moveTo>
                  <a:pt x="0" y="0"/>
                </a:moveTo>
                <a:lnTo>
                  <a:pt x="0" y="302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564000" y="0"/>
            <a:ext cx="5432400" cy="2717640"/>
          </a:xfrm>
          <a:custGeom>
            <a:avLst/>
            <a:gdLst/>
            <a:ahLst/>
            <a:rect l="l" t="t" r="r" b="b"/>
            <a:pathLst>
              <a:path w="3422" h="1712">
                <a:moveTo>
                  <a:pt x="0" y="0"/>
                </a:moveTo>
                <a:lnTo>
                  <a:pt x="1725" y="1712"/>
                </a:lnTo>
                <a:lnTo>
                  <a:pt x="3422" y="62"/>
                </a:lnTo>
              </a:path>
            </a:pathLst>
          </a:custGeom>
          <a:noFill/>
          <a:ln w="28440">
            <a:solidFill>
              <a:srgbClr val="66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12720" y="263700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H="1">
            <a:off x="2411280" y="4076640"/>
            <a:ext cx="50328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221440" y="2708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942160" y="263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435640" y="263700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 rot="10800000">
            <a:off x="6372000" y="2565360"/>
            <a:ext cx="1011240" cy="362160"/>
          </a:xfrm>
          <a:custGeom>
            <a:avLst/>
            <a:gdLst>
              <a:gd name="textAreaLeft" fmla="*/ 158040 w 1011240"/>
              <a:gd name="textAreaRight" fmla="*/ 884880 w 1011240"/>
              <a:gd name="textAreaTop" fmla="*/ 90360 h 362160"/>
              <a:gd name="textAreaBottom" fmla="*/ 271800 h 362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"/>
              <p:cNvSpPr txBox="1"/>
              <p:nvPr/>
            </p:nvSpPr>
            <p:spPr>
              <a:xfrm>
                <a:off x="1187280" y="333360"/>
                <a:ext cx="182412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887" dur="indefinite" restart="never" nodeType="tmRoot">
          <p:childTnLst>
            <p:seq>
              <p:cTn id="888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889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7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500"/>
                            </p:stCondLst>
                            <p:childTnLst>
                              <p:par>
                                <p:cTn id="9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85185E-006 L -0.08438 -0.00255 E">
                                      <p:cBhvr>
                                        <p:cTn id="914" dur="2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-0.08281 2.22222E-006 E">
                                      <p:cBhvr>
                                        <p:cTn id="916" dur="2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3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2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5000"/>
                            </p:stCondLst>
                            <p:childTnLst>
                              <p:par>
                                <p:cTn id="9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6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612360" y="3429000"/>
            <a:ext cx="23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–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924360" y="2708280"/>
            <a:ext cx="48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6300720" y="333360"/>
            <a:ext cx="0" cy="468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166760" y="22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35120" y="452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403280" y="1989000"/>
            <a:ext cx="1152720" cy="360360"/>
          </a:xfrm>
          <a:custGeom>
            <a:avLst/>
            <a:gdLst>
              <a:gd name="textAreaLeft" fmla="*/ 23040 w 1152720"/>
              <a:gd name="textAreaRight" fmla="*/ 1129680 w 1152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47" h="21600">
                <a:moveTo>
                  <a:pt x="0" y="0"/>
                </a:moveTo>
                <a:lnTo>
                  <a:pt x="69047" y="0"/>
                </a:lnTo>
                <a:lnTo>
                  <a:pt x="69047" y="21600"/>
                </a:lnTo>
                <a:lnTo>
                  <a:pt x="0" y="21600"/>
                </a:lnTo>
                <a:close/>
              </a:path>
              <a:path fill="lightenLess" w="69047" h="21600">
                <a:moveTo>
                  <a:pt x="0" y="0"/>
                </a:moveTo>
                <a:lnTo>
                  <a:pt x="69047" y="0"/>
                </a:lnTo>
                <a:lnTo>
                  <a:pt x="67647" y="1400"/>
                </a:lnTo>
                <a:lnTo>
                  <a:pt x="1400" y="1400"/>
                </a:lnTo>
                <a:close/>
              </a:path>
              <a:path fill="darken" w="69047" h="21600">
                <a:moveTo>
                  <a:pt x="69047" y="0"/>
                </a:moveTo>
                <a:lnTo>
                  <a:pt x="69047" y="21600"/>
                </a:lnTo>
                <a:lnTo>
                  <a:pt x="67647" y="20200"/>
                </a:lnTo>
                <a:lnTo>
                  <a:pt x="67647" y="1400"/>
                </a:lnTo>
                <a:close/>
              </a:path>
              <a:path fill="darkenLess" w="69047" h="21600">
                <a:moveTo>
                  <a:pt x="69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47" y="20200"/>
                </a:lnTo>
                <a:close/>
              </a:path>
              <a:path fill="lighten" w="69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" name=""/>
          <p:cNvGrpSpPr/>
          <p:nvPr/>
        </p:nvGrpSpPr>
        <p:grpSpPr>
          <a:xfrm>
            <a:off x="3824280" y="260280"/>
            <a:ext cx="5114880" cy="4865760"/>
            <a:chOff x="3824280" y="260280"/>
            <a:chExt cx="5114880" cy="4865760"/>
          </a:xfrm>
        </p:grpSpPr>
        <p:grpSp>
          <p:nvGrpSpPr>
            <p:cNvPr id="746" name=""/>
            <p:cNvGrpSpPr/>
            <p:nvPr/>
          </p:nvGrpSpPr>
          <p:grpSpPr>
            <a:xfrm>
              <a:off x="3824280" y="322200"/>
              <a:ext cx="4997520" cy="4803840"/>
              <a:chOff x="3824280" y="322200"/>
              <a:chExt cx="4997520" cy="4803840"/>
            </a:xfrm>
          </p:grpSpPr>
          <p:sp>
            <p:nvSpPr>
              <p:cNvPr id="747" name=""/>
              <p:cNvSpPr/>
              <p:nvPr/>
            </p:nvSpPr>
            <p:spPr>
              <a:xfrm>
                <a:off x="3851280" y="33480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824280" y="4675320"/>
                <a:ext cx="4959360" cy="1260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249800" y="334800"/>
                <a:ext cx="12600" cy="4753080"/>
              </a:xfrm>
              <a:custGeom>
                <a:avLst/>
                <a:gdLst/>
                <a:ahLst/>
                <a:rect l="l" t="t" r="r" b="b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851280" y="4292640"/>
                <a:ext cx="49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851280" y="5084640"/>
                <a:ext cx="4959360" cy="1296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838680" y="3889440"/>
                <a:ext cx="4970520" cy="1260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851280" y="3500280"/>
                <a:ext cx="4970520" cy="1296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824280" y="3103560"/>
                <a:ext cx="4971960" cy="12600"/>
              </a:xfrm>
              <a:custGeom>
                <a:avLst/>
                <a:gdLst/>
                <a:ahLst/>
                <a:rect l="l" t="t" r="r" b="b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863880" y="22924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851280" y="19162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851280" y="1506600"/>
                <a:ext cx="4957920" cy="12600"/>
              </a:xfrm>
              <a:custGeom>
                <a:avLst/>
                <a:gdLst/>
                <a:ahLst/>
                <a:rect l="l" t="t" r="r" b="b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851280" y="112392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863880" y="708120"/>
                <a:ext cx="494532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851280" y="333360"/>
                <a:ext cx="494496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662360" y="322200"/>
                <a:ext cx="12960" cy="4803840"/>
              </a:xfrm>
              <a:custGeom>
                <a:avLst/>
                <a:gdLst/>
                <a:ahLst/>
                <a:rect l="l" t="t" r="r" b="b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076720" y="3333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508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884920" y="347760"/>
                <a:ext cx="14400" cy="4778280"/>
              </a:xfrm>
              <a:custGeom>
                <a:avLst/>
                <a:gdLst/>
                <a:ahLst/>
                <a:rect l="l" t="t" r="r" b="b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732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134120" y="32220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559640" y="3477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956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38836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" name=""/>
            <p:cNvSpPr/>
            <p:nvPr/>
          </p:nvSpPr>
          <p:spPr>
            <a:xfrm>
              <a:off x="860616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942160" y="26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8785080" y="320760"/>
            <a:ext cx="1800" cy="4794120"/>
          </a:xfrm>
          <a:custGeom>
            <a:avLst/>
            <a:gdLst/>
            <a:ahLst/>
            <a:rect l="l" t="t" r="r" b="b"/>
            <a:pathLst>
              <a:path w="1" h="3020">
                <a:moveTo>
                  <a:pt x="0" y="0"/>
                </a:moveTo>
                <a:lnTo>
                  <a:pt x="0" y="302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3510000" y="12600"/>
            <a:ext cx="5486400" cy="2705040"/>
          </a:xfrm>
          <a:custGeom>
            <a:avLst/>
            <a:gdLst/>
            <a:ahLst/>
            <a:rect l="l" t="t" r="r" b="b"/>
            <a:pathLst>
              <a:path w="3456" h="1704">
                <a:moveTo>
                  <a:pt x="0" y="0"/>
                </a:moveTo>
                <a:lnTo>
                  <a:pt x="1759" y="1704"/>
                </a:lnTo>
                <a:lnTo>
                  <a:pt x="3456" y="5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12720" y="263700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340000" y="407664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518520" y="2708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5942160" y="263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6659640" y="263700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5148360" y="2492280"/>
            <a:ext cx="1011240" cy="362160"/>
          </a:xfrm>
          <a:custGeom>
            <a:avLst/>
            <a:gdLst>
              <a:gd name="textAreaLeft" fmla="*/ 158040 w 1011240"/>
              <a:gd name="textAreaRight" fmla="*/ 884880 w 1011240"/>
              <a:gd name="textAreaTop" fmla="*/ 90360 h 362160"/>
              <a:gd name="textAreaBottom" fmla="*/ 271800 h 362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0" name=""/>
              <p:cNvSpPr txBox="1"/>
              <p:nvPr/>
            </p:nvSpPr>
            <p:spPr>
              <a:xfrm>
                <a:off x="1116000" y="333360"/>
                <a:ext cx="18050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28" dur="indefinite" restart="never" nodeType="tmRoot">
          <p:childTnLst>
            <p:seq>
              <p:cTn id="929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930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5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85185E-006 L 0.04947 -0.00255 E">
                                      <p:cBhvr>
                                        <p:cTn id="955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81481E-006 L 0.05503 0.0051 E">
                                      <p:cBhvr>
                                        <p:cTn id="957" dur="20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3000"/>
                            </p:stCondLst>
                            <p:childTnLst>
                              <p:par>
                                <p:cTn id="9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1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5000"/>
                            </p:stCondLst>
                            <p:childTnLst>
                              <p:par>
                                <p:cTn id="96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7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612720" y="4653000"/>
            <a:ext cx="279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–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12360" y="3429000"/>
            <a:ext cx="233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–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3924360" y="2708280"/>
            <a:ext cx="48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6300720" y="333360"/>
            <a:ext cx="0" cy="468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166760" y="22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35120" y="452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403280" y="1989000"/>
            <a:ext cx="1152720" cy="360360"/>
          </a:xfrm>
          <a:custGeom>
            <a:avLst/>
            <a:gdLst>
              <a:gd name="textAreaLeft" fmla="*/ 23040 w 1152720"/>
              <a:gd name="textAreaRight" fmla="*/ 1129680 w 1152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47" h="21600">
                <a:moveTo>
                  <a:pt x="0" y="0"/>
                </a:moveTo>
                <a:lnTo>
                  <a:pt x="69047" y="0"/>
                </a:lnTo>
                <a:lnTo>
                  <a:pt x="69047" y="21600"/>
                </a:lnTo>
                <a:lnTo>
                  <a:pt x="0" y="21600"/>
                </a:lnTo>
                <a:close/>
              </a:path>
              <a:path fill="lightenLess" w="69047" h="21600">
                <a:moveTo>
                  <a:pt x="0" y="0"/>
                </a:moveTo>
                <a:lnTo>
                  <a:pt x="69047" y="0"/>
                </a:lnTo>
                <a:lnTo>
                  <a:pt x="67647" y="1400"/>
                </a:lnTo>
                <a:lnTo>
                  <a:pt x="1400" y="1400"/>
                </a:lnTo>
                <a:close/>
              </a:path>
              <a:path fill="darken" w="69047" h="21600">
                <a:moveTo>
                  <a:pt x="69047" y="0"/>
                </a:moveTo>
                <a:lnTo>
                  <a:pt x="69047" y="21600"/>
                </a:lnTo>
                <a:lnTo>
                  <a:pt x="67647" y="20200"/>
                </a:lnTo>
                <a:lnTo>
                  <a:pt x="67647" y="1400"/>
                </a:lnTo>
                <a:close/>
              </a:path>
              <a:path fill="darkenLess" w="69047" h="21600">
                <a:moveTo>
                  <a:pt x="69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47" y="20200"/>
                </a:lnTo>
                <a:close/>
              </a:path>
              <a:path fill="lighten" w="69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3824280" y="260280"/>
            <a:ext cx="5114880" cy="4865760"/>
            <a:chOff x="3824280" y="260280"/>
            <a:chExt cx="5114880" cy="4865760"/>
          </a:xfrm>
        </p:grpSpPr>
        <p:grpSp>
          <p:nvGrpSpPr>
            <p:cNvPr id="792" name=""/>
            <p:cNvGrpSpPr/>
            <p:nvPr/>
          </p:nvGrpSpPr>
          <p:grpSpPr>
            <a:xfrm>
              <a:off x="3824280" y="322200"/>
              <a:ext cx="4997520" cy="4803840"/>
              <a:chOff x="3824280" y="322200"/>
              <a:chExt cx="4997520" cy="4803840"/>
            </a:xfrm>
          </p:grpSpPr>
          <p:sp>
            <p:nvSpPr>
              <p:cNvPr id="793" name=""/>
              <p:cNvSpPr/>
              <p:nvPr/>
            </p:nvSpPr>
            <p:spPr>
              <a:xfrm>
                <a:off x="3851280" y="33480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824280" y="4675320"/>
                <a:ext cx="4959360" cy="1260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4249800" y="334800"/>
                <a:ext cx="12600" cy="4753080"/>
              </a:xfrm>
              <a:custGeom>
                <a:avLst/>
                <a:gdLst/>
                <a:ahLst/>
                <a:rect l="l" t="t" r="r" b="b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851280" y="4292640"/>
                <a:ext cx="49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851280" y="5084640"/>
                <a:ext cx="4959360" cy="1296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838680" y="3889440"/>
                <a:ext cx="4970520" cy="1260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851280" y="3500280"/>
                <a:ext cx="4970520" cy="1296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824280" y="3103560"/>
                <a:ext cx="4971960" cy="12600"/>
              </a:xfrm>
              <a:custGeom>
                <a:avLst/>
                <a:gdLst/>
                <a:ahLst/>
                <a:rect l="l" t="t" r="r" b="b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863880" y="22924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851280" y="19162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851280" y="1506600"/>
                <a:ext cx="4957920" cy="12600"/>
              </a:xfrm>
              <a:custGeom>
                <a:avLst/>
                <a:gdLst/>
                <a:ahLst/>
                <a:rect l="l" t="t" r="r" b="b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851280" y="112392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863880" y="708120"/>
                <a:ext cx="494532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851280" y="333360"/>
                <a:ext cx="494496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62360" y="322200"/>
                <a:ext cx="12960" cy="4803840"/>
              </a:xfrm>
              <a:custGeom>
                <a:avLst/>
                <a:gdLst/>
                <a:ahLst/>
                <a:rect l="l" t="t" r="r" b="b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076720" y="3333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508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5884920" y="347760"/>
                <a:ext cx="14400" cy="4778280"/>
              </a:xfrm>
              <a:custGeom>
                <a:avLst/>
                <a:gdLst/>
                <a:ahLst/>
                <a:rect l="l" t="t" r="r" b="b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732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134120" y="32220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559640" y="3477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7956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38836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>
              <a:off x="860616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42160" y="26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8785080" y="320760"/>
            <a:ext cx="1800" cy="4794120"/>
          </a:xfrm>
          <a:custGeom>
            <a:avLst/>
            <a:gdLst/>
            <a:ahLst/>
            <a:rect l="l" t="t" r="r" b="b"/>
            <a:pathLst>
              <a:path w="1" h="3020">
                <a:moveTo>
                  <a:pt x="0" y="0"/>
                </a:moveTo>
                <a:lnTo>
                  <a:pt x="0" y="302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510000" y="12600"/>
            <a:ext cx="5486400" cy="2718000"/>
          </a:xfrm>
          <a:custGeom>
            <a:avLst/>
            <a:gdLst/>
            <a:ahLst/>
            <a:rect l="l" t="t" r="r" b="b"/>
            <a:pathLst>
              <a:path w="3456" h="1712">
                <a:moveTo>
                  <a:pt x="0" y="0"/>
                </a:moveTo>
                <a:lnTo>
                  <a:pt x="1751" y="1712"/>
                </a:lnTo>
                <a:lnTo>
                  <a:pt x="3456" y="5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612720" y="263700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340000" y="407664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518520" y="27082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942160" y="263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659640" y="1844640"/>
            <a:ext cx="14436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148360" y="2492280"/>
            <a:ext cx="1011240" cy="362160"/>
          </a:xfrm>
          <a:custGeom>
            <a:avLst/>
            <a:gdLst>
              <a:gd name="textAreaLeft" fmla="*/ 158040 w 1011240"/>
              <a:gd name="textAreaRight" fmla="*/ 884880 w 1011240"/>
              <a:gd name="textAreaTop" fmla="*/ 90360 h 362160"/>
              <a:gd name="textAreaBottom" fmla="*/ 271800 h 362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971640" y="549360"/>
                <a:ext cx="230508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7" name=""/>
          <p:cNvSpPr/>
          <p:nvPr/>
        </p:nvSpPr>
        <p:spPr>
          <a:xfrm flipV="1">
            <a:off x="3492360" y="465300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 rot="16200000">
            <a:off x="6261840" y="3105720"/>
            <a:ext cx="1011240" cy="361800"/>
          </a:xfrm>
          <a:custGeom>
            <a:avLst/>
            <a:gdLst>
              <a:gd name="textAreaLeft" fmla="*/ 158040 w 1011240"/>
              <a:gd name="textAreaRight" fmla="*/ 884880 w 1011240"/>
              <a:gd name="textAreaTop" fmla="*/ 90360 h 361800"/>
              <a:gd name="textAreaBottom" fmla="*/ 271440 h 361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9" dur="indefinite" restart="never" nodeType="tmRoot">
          <p:childTnLst>
            <p:seq>
              <p:cTn id="970" restart="whenNotActive" nodeType="interactiveSeq" fill="hold">
                <p:stCondLst>
                  <p:cond evt="onClick">
                    <p:tgtEl>
                      <p:spTgt spid="788"/>
                    </p:tgtEl>
                  </p:cond>
                </p:stCondLst>
                <p:childTnLst>
                  <p:par>
                    <p:cTn id="971" fill="hold">
                      <p:stCondLst>
                        <p:cond evt="onClick">
                          <p:tgtEl>
                            <p:spTgt spid="788"/>
                          </p:tgtEl>
                        </p:cond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500"/>
                            </p:stCondLst>
                            <p:childTnLst>
                              <p:par>
                                <p:cTn id="9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evt="onClick">
                          <p:tgtEl>
                            <p:spTgt spid="788"/>
                          </p:tgtEl>
                        </p:cond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evt="onClick">
                          <p:tgtEl>
                            <p:spTgt spid="788"/>
                          </p:tgtEl>
                        </p:cond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500"/>
                            </p:stCondLst>
                            <p:childTnLst>
                              <p:par>
                                <p:cTn id="9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9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85185E-006 L 0.04947 -0.00255 E">
                                      <p:cBhvr>
                                        <p:cTn id="996" dur="20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4.81481E-006 L 0.05503 0.0051 E">
                                      <p:cBhvr>
                                        <p:cTn id="998" dur="2000" fill="hold"/>
                                        <p:tgtEl>
                                          <p:spTgt spid="8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2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evt="onClick">
                          <p:tgtEl>
                            <p:spTgt spid="788"/>
                          </p:tgtEl>
                        </p:cond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5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-0.004 -0.10509 E">
                                      <p:cBhvr>
                                        <p:cTn id="1021" dur="2000" fill="hold"/>
                                        <p:tgtEl>
                                          <p:spTgt spid="8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948 -0.00255 L 0.05243 -0.11991 E">
                                      <p:cBhvr>
                                        <p:cTn id="1023" dur="20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2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0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613080" y="4653000"/>
            <a:ext cx="281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+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13080" y="3429000"/>
            <a:ext cx="23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+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924360" y="2708280"/>
            <a:ext cx="48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 flipV="1">
            <a:off x="6300720" y="333360"/>
            <a:ext cx="0" cy="468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1166760" y="22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35120" y="452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403280" y="1989000"/>
            <a:ext cx="1152720" cy="360360"/>
          </a:xfrm>
          <a:custGeom>
            <a:avLst/>
            <a:gdLst>
              <a:gd name="textAreaLeft" fmla="*/ 23040 w 1152720"/>
              <a:gd name="textAreaRight" fmla="*/ 1129680 w 1152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47" h="21600">
                <a:moveTo>
                  <a:pt x="0" y="0"/>
                </a:moveTo>
                <a:lnTo>
                  <a:pt x="69047" y="0"/>
                </a:lnTo>
                <a:lnTo>
                  <a:pt x="69047" y="21600"/>
                </a:lnTo>
                <a:lnTo>
                  <a:pt x="0" y="21600"/>
                </a:lnTo>
                <a:close/>
              </a:path>
              <a:path fill="lightenLess" w="69047" h="21600">
                <a:moveTo>
                  <a:pt x="0" y="0"/>
                </a:moveTo>
                <a:lnTo>
                  <a:pt x="69047" y="0"/>
                </a:lnTo>
                <a:lnTo>
                  <a:pt x="67647" y="1400"/>
                </a:lnTo>
                <a:lnTo>
                  <a:pt x="1400" y="1400"/>
                </a:lnTo>
                <a:close/>
              </a:path>
              <a:path fill="darken" w="69047" h="21600">
                <a:moveTo>
                  <a:pt x="69047" y="0"/>
                </a:moveTo>
                <a:lnTo>
                  <a:pt x="69047" y="21600"/>
                </a:lnTo>
                <a:lnTo>
                  <a:pt x="67647" y="20200"/>
                </a:lnTo>
                <a:lnTo>
                  <a:pt x="67647" y="1400"/>
                </a:lnTo>
                <a:close/>
              </a:path>
              <a:path fill="darkenLess" w="69047" h="21600">
                <a:moveTo>
                  <a:pt x="69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47" y="20200"/>
                </a:lnTo>
                <a:close/>
              </a:path>
              <a:path fill="lighten" w="69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3824280" y="260280"/>
            <a:ext cx="5114880" cy="4865760"/>
            <a:chOff x="3824280" y="260280"/>
            <a:chExt cx="5114880" cy="4865760"/>
          </a:xfrm>
        </p:grpSpPr>
        <p:grpSp>
          <p:nvGrpSpPr>
            <p:cNvPr id="840" name=""/>
            <p:cNvGrpSpPr/>
            <p:nvPr/>
          </p:nvGrpSpPr>
          <p:grpSpPr>
            <a:xfrm>
              <a:off x="3824280" y="322200"/>
              <a:ext cx="4997520" cy="4803840"/>
              <a:chOff x="3824280" y="322200"/>
              <a:chExt cx="4997520" cy="4803840"/>
            </a:xfrm>
          </p:grpSpPr>
          <p:sp>
            <p:nvSpPr>
              <p:cNvPr id="841" name=""/>
              <p:cNvSpPr/>
              <p:nvPr/>
            </p:nvSpPr>
            <p:spPr>
              <a:xfrm>
                <a:off x="3851280" y="33480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824280" y="4675320"/>
                <a:ext cx="4959360" cy="1260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249800" y="334800"/>
                <a:ext cx="12600" cy="4753080"/>
              </a:xfrm>
              <a:custGeom>
                <a:avLst/>
                <a:gdLst/>
                <a:ahLst/>
                <a:rect l="l" t="t" r="r" b="b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851280" y="4292640"/>
                <a:ext cx="49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851280" y="5084640"/>
                <a:ext cx="4959360" cy="1296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838680" y="3889440"/>
                <a:ext cx="4970520" cy="1260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851280" y="3500280"/>
                <a:ext cx="4970520" cy="1296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824280" y="3103560"/>
                <a:ext cx="4971960" cy="12600"/>
              </a:xfrm>
              <a:custGeom>
                <a:avLst/>
                <a:gdLst/>
                <a:ahLst/>
                <a:rect l="l" t="t" r="r" b="b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863880" y="22924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851280" y="19162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851280" y="1506600"/>
                <a:ext cx="4957920" cy="12600"/>
              </a:xfrm>
              <a:custGeom>
                <a:avLst/>
                <a:gdLst/>
                <a:ahLst/>
                <a:rect l="l" t="t" r="r" b="b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851280" y="112392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863880" y="708120"/>
                <a:ext cx="494532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851280" y="333360"/>
                <a:ext cx="494496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662360" y="322200"/>
                <a:ext cx="12960" cy="4803840"/>
              </a:xfrm>
              <a:custGeom>
                <a:avLst/>
                <a:gdLst/>
                <a:ahLst/>
                <a:rect l="l" t="t" r="r" b="b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076720" y="3333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508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884920" y="347760"/>
                <a:ext cx="14400" cy="4778280"/>
              </a:xfrm>
              <a:custGeom>
                <a:avLst/>
                <a:gdLst/>
                <a:ahLst/>
                <a:rect l="l" t="t" r="r" b="b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732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134120" y="32220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559640" y="3477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956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838836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>
              <a:off x="860616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942160" y="26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"/>
          <p:cNvSpPr/>
          <p:nvPr/>
        </p:nvSpPr>
        <p:spPr>
          <a:xfrm>
            <a:off x="8785080" y="320760"/>
            <a:ext cx="1800" cy="4794120"/>
          </a:xfrm>
          <a:custGeom>
            <a:avLst/>
            <a:gdLst/>
            <a:ahLst/>
            <a:rect l="l" t="t" r="r" b="b"/>
            <a:pathLst>
              <a:path w="1" h="3020">
                <a:moveTo>
                  <a:pt x="0" y="0"/>
                </a:moveTo>
                <a:lnTo>
                  <a:pt x="0" y="302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510000" y="12600"/>
            <a:ext cx="5486400" cy="2694240"/>
          </a:xfrm>
          <a:custGeom>
            <a:avLst/>
            <a:gdLst/>
            <a:ahLst/>
            <a:rect l="l" t="t" r="r" b="b"/>
            <a:pathLst>
              <a:path w="3456" h="1697">
                <a:moveTo>
                  <a:pt x="0" y="0"/>
                </a:moveTo>
                <a:lnTo>
                  <a:pt x="1743" y="1697"/>
                </a:lnTo>
                <a:lnTo>
                  <a:pt x="3456" y="54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12720" y="2637000"/>
            <a:ext cx="188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у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 flipH="1">
            <a:off x="2340000" y="4076640"/>
            <a:ext cx="5047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789800" y="27082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942160" y="26370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003640" y="220500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 rot="10800000">
            <a:off x="6443640" y="2492280"/>
            <a:ext cx="1008000" cy="36216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90360 h 362160"/>
              <a:gd name="textAreaBottom" fmla="*/ 271800 h 362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3492360" y="4653000"/>
            <a:ext cx="0" cy="50472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rot="16200000">
            <a:off x="4606200" y="3177000"/>
            <a:ext cx="1011240" cy="361800"/>
          </a:xfrm>
          <a:custGeom>
            <a:avLst/>
            <a:gdLst>
              <a:gd name="textAreaLeft" fmla="*/ 158040 w 1011240"/>
              <a:gd name="textAreaRight" fmla="*/ 884880 w 1011240"/>
              <a:gd name="textAreaTop" fmla="*/ 90360 h 361800"/>
              <a:gd name="textAreaBottom" fmla="*/ 271440 h 361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6" name=""/>
              <p:cNvSpPr txBox="1"/>
              <p:nvPr/>
            </p:nvSpPr>
            <p:spPr>
              <a:xfrm>
                <a:off x="826920" y="476280"/>
                <a:ext cx="23767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032" dur="indefinite" restart="never" nodeType="tmRoot">
          <p:childTnLst>
            <p:seq>
              <p:cTn id="1033" restart="whenNotActive" nodeType="interactiveSeq" fill="hold">
                <p:stCondLst>
                  <p:cond evt="onClick">
                    <p:tgtEl>
                      <p:spTgt spid="836"/>
                    </p:tgtEl>
                  </p:cond>
                </p:stCondLst>
                <p:childTnLst>
                  <p:par>
                    <p:cTn id="1034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2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500"/>
                            </p:stCondLst>
                            <p:childTnLst>
                              <p:par>
                                <p:cTn id="10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 L -0.12864 -0.0044 E">
                                      <p:cBhvr>
                                        <p:cTn id="1059" dur="20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81481E-006 L -0.13386 0.0051 E">
                                      <p:cBhvr>
                                        <p:cTn id="1061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8" dur="2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evt="onClick">
                          <p:tgtEl>
                            <p:spTgt spid="836"/>
                          </p:tgtEl>
                        </p:cond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2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33333E-006 L -0.004 -0.06319 E">
                                      <p:cBhvr>
                                        <p:cTn id="1084" dur="2000" fill="hold"/>
                                        <p:tgtEl>
                                          <p:spTgt spid="8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864 -0.0044 L -0.12864 -0.05509 E">
                                      <p:cBhvr>
                                        <p:cTn id="1086" dur="20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2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4500"/>
                            </p:stCondLst>
                            <p:childTnLst>
                              <p:par>
                                <p:cTn id="10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3" dur="2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564000" y="333360"/>
            <a:ext cx="2736720" cy="511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00720" y="0"/>
            <a:ext cx="2843280" cy="5445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300720" y="-360"/>
            <a:ext cx="2087640" cy="393372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4360" y="2708280"/>
            <a:ext cx="48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6300720" y="333360"/>
            <a:ext cx="0" cy="468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486320" y="222120"/>
            <a:ext cx="1814400" cy="3638520"/>
          </a:xfrm>
          <a:custGeom>
            <a:avLst/>
            <a:gdLst/>
            <a:ahLst/>
            <a:rect l="l" t="t" r="r" b="b"/>
            <a:pathLst>
              <a:path w="1143" h="2292">
                <a:moveTo>
                  <a:pt x="0" y="0"/>
                </a:moveTo>
                <a:lnTo>
                  <a:pt x="1143" y="2292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66760" y="22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84360" y="1989000"/>
                <a:ext cx="2251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735120" y="452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79280" y="5373720"/>
                <a:ext cx="471168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5148360" y="544500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у = 2х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−3   Точки (0;-3) и (4;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49800" y="6093000"/>
            <a:ext cx="35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у =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2х−3 Точки (0;-3) и (-4; 5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16000" y="465300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2565360"/>
            <a:ext cx="247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IIIIIIIIIIIIIIIIIIIIIIIIIIIIIIIIIIIIIIIII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7919000">
            <a:off x="7019640" y="98280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у = 2х-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73680" y="2565360"/>
            <a:ext cx="246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IIIIIIIIIIIIIIIIIIIIIIIIIIIIIIIIIIIIIIIII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3658800">
            <a:off x="4602960" y="1236960"/>
            <a:ext cx="116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у =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2х-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516720" y="3789360"/>
                <a:ext cx="22492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7885080" y="692280"/>
            <a:ext cx="144360" cy="144360"/>
          </a:xfrm>
          <a:prstGeom prst="flowChartConnector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508720" y="3933720"/>
            <a:ext cx="792000" cy="144000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00720" y="3860640"/>
            <a:ext cx="792360" cy="144000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92428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                   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х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ль подмодульного вы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бсцисса точки перел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1440" y="2602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1 спосо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604360" y="630864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851280" y="260280"/>
            <a:ext cx="5114880" cy="4865760"/>
            <a:chOff x="3851280" y="260280"/>
            <a:chExt cx="5114880" cy="4865760"/>
          </a:xfrm>
        </p:grpSpPr>
        <p:grpSp>
          <p:nvGrpSpPr>
            <p:cNvPr id="166" name=""/>
            <p:cNvGrpSpPr/>
            <p:nvPr/>
          </p:nvGrpSpPr>
          <p:grpSpPr>
            <a:xfrm>
              <a:off x="3851280" y="322200"/>
              <a:ext cx="4997520" cy="4803840"/>
              <a:chOff x="3851280" y="322200"/>
              <a:chExt cx="4997520" cy="4803840"/>
            </a:xfrm>
          </p:grpSpPr>
          <p:sp>
            <p:nvSpPr>
              <p:cNvPr id="167" name=""/>
              <p:cNvSpPr/>
              <p:nvPr/>
            </p:nvSpPr>
            <p:spPr>
              <a:xfrm>
                <a:off x="3878280" y="33480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851280" y="4675320"/>
                <a:ext cx="4959360" cy="1260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276800" y="334800"/>
                <a:ext cx="12600" cy="4753080"/>
              </a:xfrm>
              <a:custGeom>
                <a:avLst/>
                <a:gdLst/>
                <a:ahLst/>
                <a:rect l="l" t="t" r="r" b="b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878280" y="4292640"/>
                <a:ext cx="49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78280" y="5084640"/>
                <a:ext cx="4959360" cy="1296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865680" y="3889440"/>
                <a:ext cx="4970520" cy="1260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878280" y="3500280"/>
                <a:ext cx="4970520" cy="1296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851280" y="3103560"/>
                <a:ext cx="4971960" cy="12600"/>
              </a:xfrm>
              <a:custGeom>
                <a:avLst/>
                <a:gdLst/>
                <a:ahLst/>
                <a:rect l="l" t="t" r="r" b="b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890880" y="22924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878280" y="19162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878280" y="1506600"/>
                <a:ext cx="4957920" cy="12600"/>
              </a:xfrm>
              <a:custGeom>
                <a:avLst/>
                <a:gdLst/>
                <a:ahLst/>
                <a:rect l="l" t="t" r="r" b="b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878280" y="112392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90880" y="708120"/>
                <a:ext cx="494532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878280" y="333360"/>
                <a:ext cx="494496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689360" y="322200"/>
                <a:ext cx="12960" cy="4803840"/>
              </a:xfrm>
              <a:custGeom>
                <a:avLst/>
                <a:gdLst/>
                <a:ahLst/>
                <a:rect l="l" t="t" r="r" b="b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103720" y="3333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535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911920" y="347760"/>
                <a:ext cx="14400" cy="4778280"/>
              </a:xfrm>
              <a:custGeom>
                <a:avLst/>
                <a:gdLst/>
                <a:ahLst/>
                <a:rect l="l" t="t" r="r" b="b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759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161120" y="32220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586640" y="3477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983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41536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863316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69160" y="26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8785080" y="320760"/>
            <a:ext cx="1800" cy="4794120"/>
          </a:xfrm>
          <a:custGeom>
            <a:avLst/>
            <a:gdLst/>
            <a:ahLst/>
            <a:rect l="l" t="t" r="r" b="b"/>
            <a:pathLst>
              <a:path w="1" h="3020">
                <a:moveTo>
                  <a:pt x="0" y="0"/>
                </a:moveTo>
                <a:lnTo>
                  <a:pt x="0" y="302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3789360"/>
            <a:ext cx="144720" cy="144360"/>
          </a:xfrm>
          <a:prstGeom prst="flowChartConnector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43280" y="620640"/>
            <a:ext cx="144720" cy="144360"/>
          </a:xfrm>
          <a:prstGeom prst="flowChartConnector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000"/>
                            </p:stCondLst>
                            <p:childTnLst>
                              <p:par>
                                <p:cTn id="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000"/>
                            </p:stCondLst>
                            <p:childTnLst>
                              <p:par>
                                <p:cTn id="73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5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7" nodeType="afterEffect" fill="hold" presetClass="exit" presetID="49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1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5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5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1187280" y="1197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Обратная пропорциональность.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>
            <a:hlinkClick r:id="" action="ppaction://hlinkshowjump?jump=nextslide"/>
          </p:cNvPr>
          <p:cNvSpPr/>
          <p:nvPr/>
        </p:nvSpPr>
        <p:spPr>
          <a:xfrm>
            <a:off x="838836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9" name=""/>
              <p:cNvSpPr txBox="1"/>
              <p:nvPr/>
            </p:nvSpPr>
            <p:spPr>
              <a:xfrm>
                <a:off x="3276720" y="2565360"/>
                <a:ext cx="232416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0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1" name=""/>
          <p:cNvGrpSpPr/>
          <p:nvPr/>
        </p:nvGrpSpPr>
        <p:grpSpPr>
          <a:xfrm>
            <a:off x="3824280" y="260280"/>
            <a:ext cx="5114880" cy="4865760"/>
            <a:chOff x="3824280" y="260280"/>
            <a:chExt cx="5114880" cy="4865760"/>
          </a:xfrm>
        </p:grpSpPr>
        <p:grpSp>
          <p:nvGrpSpPr>
            <p:cNvPr id="882" name=""/>
            <p:cNvGrpSpPr/>
            <p:nvPr/>
          </p:nvGrpSpPr>
          <p:grpSpPr>
            <a:xfrm>
              <a:off x="3824280" y="322200"/>
              <a:ext cx="4997520" cy="4803840"/>
              <a:chOff x="3824280" y="322200"/>
              <a:chExt cx="4997520" cy="4803840"/>
            </a:xfrm>
          </p:grpSpPr>
          <p:sp>
            <p:nvSpPr>
              <p:cNvPr id="883" name=""/>
              <p:cNvSpPr/>
              <p:nvPr/>
            </p:nvSpPr>
            <p:spPr>
              <a:xfrm>
                <a:off x="3851280" y="33480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24280" y="4675320"/>
                <a:ext cx="4959360" cy="1260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4249800" y="334800"/>
                <a:ext cx="12600" cy="4753080"/>
              </a:xfrm>
              <a:custGeom>
                <a:avLst/>
                <a:gdLst/>
                <a:ahLst/>
                <a:rect l="l" t="t" r="r" b="b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851280" y="4292640"/>
                <a:ext cx="49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851280" y="5084640"/>
                <a:ext cx="4959360" cy="1296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838680" y="3889440"/>
                <a:ext cx="4970520" cy="1260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851280" y="3500280"/>
                <a:ext cx="4970520" cy="1296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824280" y="3103560"/>
                <a:ext cx="4971960" cy="12600"/>
              </a:xfrm>
              <a:custGeom>
                <a:avLst/>
                <a:gdLst/>
                <a:ahLst/>
                <a:rect l="l" t="t" r="r" b="b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863880" y="22924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851280" y="19162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851280" y="1506600"/>
                <a:ext cx="4957920" cy="12600"/>
              </a:xfrm>
              <a:custGeom>
                <a:avLst/>
                <a:gdLst/>
                <a:ahLst/>
                <a:rect l="l" t="t" r="r" b="b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851280" y="112392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863880" y="708120"/>
                <a:ext cx="494532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851280" y="333360"/>
                <a:ext cx="494496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62360" y="322200"/>
                <a:ext cx="12960" cy="4803840"/>
              </a:xfrm>
              <a:custGeom>
                <a:avLst/>
                <a:gdLst/>
                <a:ahLst/>
                <a:rect l="l" t="t" r="r" b="b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076720" y="3333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508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884920" y="347760"/>
                <a:ext cx="14400" cy="4778280"/>
              </a:xfrm>
              <a:custGeom>
                <a:avLst/>
                <a:gdLst/>
                <a:ahLst/>
                <a:rect l="l" t="t" r="r" b="b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732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134120" y="32220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559640" y="3477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956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838836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>
              <a:off x="860616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942160" y="26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"/>
          <p:cNvSpPr/>
          <p:nvPr/>
        </p:nvSpPr>
        <p:spPr>
          <a:xfrm>
            <a:off x="3924360" y="2708280"/>
            <a:ext cx="48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6300720" y="333360"/>
            <a:ext cx="0" cy="468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21840" y="1628640"/>
            <a:ext cx="33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ипербола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I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оординатных четвертях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6227640" y="2637000"/>
            <a:ext cx="144720" cy="142560"/>
          </a:xfrm>
          <a:prstGeom prst="flowChartConnector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908000" y="2492280"/>
            <a:ext cx="1295640" cy="358920"/>
          </a:xfrm>
          <a:custGeom>
            <a:avLst/>
            <a:gdLst>
              <a:gd name="textAreaLeft" fmla="*/ 23040 w 1295640"/>
              <a:gd name="textAreaRight" fmla="*/ 1272600 w 129564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77916" h="21600">
                <a:moveTo>
                  <a:pt x="0" y="0"/>
                </a:moveTo>
                <a:lnTo>
                  <a:pt x="77916" y="0"/>
                </a:lnTo>
                <a:lnTo>
                  <a:pt x="77916" y="21600"/>
                </a:lnTo>
                <a:lnTo>
                  <a:pt x="0" y="21600"/>
                </a:lnTo>
                <a:close/>
              </a:path>
              <a:path fill="lightenLess" w="77916" h="21600">
                <a:moveTo>
                  <a:pt x="0" y="0"/>
                </a:moveTo>
                <a:lnTo>
                  <a:pt x="77916" y="0"/>
                </a:lnTo>
                <a:lnTo>
                  <a:pt x="76516" y="1400"/>
                </a:lnTo>
                <a:lnTo>
                  <a:pt x="1400" y="1400"/>
                </a:lnTo>
                <a:close/>
              </a:path>
              <a:path fill="darken" w="77916" h="21600">
                <a:moveTo>
                  <a:pt x="77916" y="0"/>
                </a:moveTo>
                <a:lnTo>
                  <a:pt x="77916" y="21600"/>
                </a:lnTo>
                <a:lnTo>
                  <a:pt x="76516" y="20200"/>
                </a:lnTo>
                <a:lnTo>
                  <a:pt x="76516" y="1400"/>
                </a:lnTo>
                <a:close/>
              </a:path>
              <a:path fill="darkenLess" w="77916" h="21600">
                <a:moveTo>
                  <a:pt x="77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516" y="20200"/>
                </a:lnTo>
                <a:close/>
              </a:path>
              <a:path fill="lighten" w="77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4" name=""/>
              <p:cNvSpPr txBox="1"/>
              <p:nvPr/>
            </p:nvSpPr>
            <p:spPr>
              <a:xfrm>
                <a:off x="1619280" y="692280"/>
                <a:ext cx="703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5" name=""/>
          <p:cNvSpPr/>
          <p:nvPr/>
        </p:nvSpPr>
        <p:spPr>
          <a:xfrm>
            <a:off x="6372360" y="333360"/>
            <a:ext cx="2520720" cy="2232000"/>
          </a:xfrm>
          <a:custGeom>
            <a:avLst/>
            <a:gdLst/>
            <a:ahLst/>
            <a:rect l="l" t="t" r="r" b="b"/>
            <a:pathLst>
              <a:path w="1588" h="1406">
                <a:moveTo>
                  <a:pt x="0" y="0"/>
                </a:moveTo>
                <a:cubicBezTo>
                  <a:pt x="26" y="166"/>
                  <a:pt x="53" y="332"/>
                  <a:pt x="91" y="498"/>
                </a:cubicBezTo>
                <a:cubicBezTo>
                  <a:pt x="129" y="664"/>
                  <a:pt x="161" y="872"/>
                  <a:pt x="227" y="997"/>
                </a:cubicBezTo>
                <a:cubicBezTo>
                  <a:pt x="293" y="1122"/>
                  <a:pt x="357" y="1186"/>
                  <a:pt x="485" y="1246"/>
                </a:cubicBezTo>
                <a:cubicBezTo>
                  <a:pt x="613" y="1306"/>
                  <a:pt x="814" y="1333"/>
                  <a:pt x="998" y="1360"/>
                </a:cubicBezTo>
                <a:cubicBezTo>
                  <a:pt x="1182" y="1387"/>
                  <a:pt x="1490" y="1398"/>
                  <a:pt x="1588" y="1406"/>
                </a:cubicBezTo>
              </a:path>
            </a:pathLst>
          </a:custGeom>
          <a:noFill/>
          <a:ln w="284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6300720" y="620640"/>
            <a:ext cx="0" cy="44640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3924360" y="2852640"/>
            <a:ext cx="2232000" cy="2016360"/>
          </a:xfrm>
          <a:custGeom>
            <a:avLst/>
            <a:gdLst/>
            <a:ahLst/>
            <a:rect l="l" t="t" r="r" b="b"/>
            <a:pathLst>
              <a:path w="1406" h="1270">
                <a:moveTo>
                  <a:pt x="0" y="0"/>
                </a:moveTo>
                <a:cubicBezTo>
                  <a:pt x="85" y="8"/>
                  <a:pt x="344" y="22"/>
                  <a:pt x="509" y="48"/>
                </a:cubicBezTo>
                <a:cubicBezTo>
                  <a:pt x="674" y="74"/>
                  <a:pt x="870" y="96"/>
                  <a:pt x="992" y="157"/>
                </a:cubicBezTo>
                <a:cubicBezTo>
                  <a:pt x="1114" y="218"/>
                  <a:pt x="1181" y="306"/>
                  <a:pt x="1241" y="414"/>
                </a:cubicBezTo>
                <a:cubicBezTo>
                  <a:pt x="1301" y="522"/>
                  <a:pt x="1323" y="660"/>
                  <a:pt x="1350" y="803"/>
                </a:cubicBezTo>
                <a:cubicBezTo>
                  <a:pt x="1377" y="946"/>
                  <a:pt x="1394" y="1173"/>
                  <a:pt x="1406" y="1270"/>
                </a:cubicBezTo>
              </a:path>
            </a:pathLst>
          </a:custGeom>
          <a:noFill/>
          <a:ln w="284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1979640" y="1123920"/>
                <a:ext cx="36036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0" name=""/>
          <p:cNvSpPr/>
          <p:nvPr/>
        </p:nvSpPr>
        <p:spPr>
          <a:xfrm>
            <a:off x="6372360" y="209520"/>
            <a:ext cx="2462040" cy="2355840"/>
          </a:xfrm>
          <a:custGeom>
            <a:avLst/>
            <a:gdLst/>
            <a:ahLst/>
            <a:rect l="l" t="t" r="r" b="b"/>
            <a:pathLst>
              <a:path w="1551" h="1484">
                <a:moveTo>
                  <a:pt x="1551" y="0"/>
                </a:moveTo>
                <a:cubicBezTo>
                  <a:pt x="1543" y="96"/>
                  <a:pt x="1529" y="397"/>
                  <a:pt x="1497" y="576"/>
                </a:cubicBezTo>
                <a:cubicBezTo>
                  <a:pt x="1465" y="755"/>
                  <a:pt x="1449" y="944"/>
                  <a:pt x="1361" y="1075"/>
                </a:cubicBezTo>
                <a:cubicBezTo>
                  <a:pt x="1273" y="1206"/>
                  <a:pt x="1129" y="1299"/>
                  <a:pt x="968" y="1362"/>
                </a:cubicBezTo>
                <a:cubicBezTo>
                  <a:pt x="807" y="1425"/>
                  <a:pt x="553" y="1436"/>
                  <a:pt x="392" y="1456"/>
                </a:cubicBezTo>
                <a:cubicBezTo>
                  <a:pt x="231" y="1476"/>
                  <a:pt x="82" y="1478"/>
                  <a:pt x="0" y="1484"/>
                </a:cubicBezTo>
              </a:path>
            </a:pathLst>
          </a:custGeom>
          <a:noFill/>
          <a:ln w="284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rot="2215200">
            <a:off x="2555640" y="549360"/>
            <a:ext cx="504720" cy="1295280"/>
          </a:xfrm>
          <a:custGeom>
            <a:avLst/>
            <a:gdLst>
              <a:gd name="textAreaLeft" fmla="*/ 67320 w 504720"/>
              <a:gd name="textAreaRight" fmla="*/ 437400 w 504720"/>
              <a:gd name="textAreaTop" fmla="*/ 241200 h 1295280"/>
              <a:gd name="textAreaBottom" fmla="*/ 92448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052" stAng="-5400000" swAng="5400000"/>
                <a:lnTo>
                  <a:pt x="21600" y="11388"/>
                </a:lnTo>
                <a:arcTo wR="21600" hR="8052" stAng="0" swAng="2790968"/>
                <a:lnTo>
                  <a:pt x="7200" y="21139"/>
                </a:lnTo>
                <a:lnTo>
                  <a:pt x="0" y="17772"/>
                </a:lnTo>
                <a:lnTo>
                  <a:pt x="7200" y="13483"/>
                </a:lnTo>
                <a:lnTo>
                  <a:pt x="7200" y="15643"/>
                </a:lnTo>
                <a:arcTo wR="21600" hR="8052" stAng="2790968" swAng="-2520173"/>
                <a:lnTo>
                  <a:pt x="21131" y="9720"/>
                </a:lnTo>
                <a:arcTo wR="21600" hR="8052" stAng="-270795" swAng="-5129205"/>
                <a:close/>
              </a:path>
              <a:path fill="darkenLess" w="21600" h="21600">
                <a:moveTo>
                  <a:pt x="0" y="0"/>
                </a:moveTo>
                <a:arcTo wR="21600" hR="8052" stAng="-5400000" swAng="5400000"/>
                <a:lnTo>
                  <a:pt x="21600" y="11388"/>
                </a:lnTo>
                <a:arcTo wR="21600" hR="8052" stAng="0" swAng="-270795"/>
                <a:lnTo>
                  <a:pt x="21131" y="9720"/>
                </a:lnTo>
                <a:arcTo wR="21600" hR="8052" stAng="-270795" swAng="-5129205"/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50000">
                <a:srgbClr val="ffff99"/>
              </a:gs>
              <a:gs pos="100000">
                <a:srgbClr val="00ff00"/>
              </a:gs>
            </a:gsLst>
            <a:lin ang="5886000"/>
          </a:gra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>
            <a:hlinkClick r:id="" action="ppaction://hlinkshowjump?jump=endshow"/>
          </p:cNvPr>
          <p:cNvSpPr/>
          <p:nvPr/>
        </p:nvSpPr>
        <p:spPr>
          <a:xfrm>
            <a:off x="838836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8785080" y="320760"/>
            <a:ext cx="1800" cy="4794120"/>
          </a:xfrm>
          <a:custGeom>
            <a:avLst/>
            <a:gdLst/>
            <a:ahLst/>
            <a:rect l="l" t="t" r="r" b="b"/>
            <a:pathLst>
              <a:path w="1" h="3020">
                <a:moveTo>
                  <a:pt x="0" y="0"/>
                </a:moveTo>
                <a:lnTo>
                  <a:pt x="0" y="302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1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6" restart="whenNotActive" nodeType="interactiveSeq" fill="hold">
                <p:stCondLst>
                  <p:cond evt="onClick">
                    <p:tgtEl>
                      <p:spTgt spid="913"/>
                    </p:tgtEl>
                  </p:cond>
                </p:stCondLst>
                <p:childTnLst>
                  <p:par>
                    <p:cTn id="1107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4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1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2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2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2" dur="1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evt="onClick">
                          <p:tgtEl>
                            <p:spTgt spid="913"/>
                          </p:tgtEl>
                        </p:cond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7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91397E-006 L -0.2875 0.00508 E">
                                      <p:cBhvr>
                                        <p:cTn id="1150" dur="2000" fill="hold"/>
                                        <p:tgtEl>
                                          <p:spTgt spid="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300720" y="0"/>
            <a:ext cx="2843280" cy="5445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00720" y="-25560"/>
            <a:ext cx="2040120" cy="3959280"/>
          </a:xfrm>
          <a:custGeom>
            <a:avLst/>
            <a:gdLst/>
            <a:ahLst/>
            <a:rect l="l" t="t" r="r" b="b"/>
            <a:pathLst>
              <a:path w="1285" h="2494">
                <a:moveTo>
                  <a:pt x="0" y="2494"/>
                </a:moveTo>
                <a:lnTo>
                  <a:pt x="1285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24360" y="2708280"/>
            <a:ext cx="48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00720" y="333360"/>
            <a:ext cx="0" cy="468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473720" y="320760"/>
            <a:ext cx="1827000" cy="3611520"/>
          </a:xfrm>
          <a:custGeom>
            <a:avLst/>
            <a:gdLst/>
            <a:ahLst/>
            <a:rect l="l" t="t" r="r" b="b"/>
            <a:pathLst>
              <a:path w="1151" h="2275">
                <a:moveTo>
                  <a:pt x="0" y="0"/>
                </a:moveTo>
                <a:lnTo>
                  <a:pt x="1151" y="2275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66760" y="22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39640" y="2205000"/>
                <a:ext cx="2251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735120" y="452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87280" y="3141720"/>
            <a:ext cx="1152720" cy="360360"/>
          </a:xfrm>
          <a:custGeom>
            <a:avLst/>
            <a:gdLst>
              <a:gd name="textAreaLeft" fmla="*/ 23040 w 1152720"/>
              <a:gd name="textAreaRight" fmla="*/ 1129680 w 1152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47" h="21600">
                <a:moveTo>
                  <a:pt x="0" y="0"/>
                </a:moveTo>
                <a:lnTo>
                  <a:pt x="69047" y="0"/>
                </a:lnTo>
                <a:lnTo>
                  <a:pt x="69047" y="21600"/>
                </a:lnTo>
                <a:lnTo>
                  <a:pt x="0" y="21600"/>
                </a:lnTo>
                <a:close/>
              </a:path>
              <a:path fill="lightenLess" w="69047" h="21600">
                <a:moveTo>
                  <a:pt x="0" y="0"/>
                </a:moveTo>
                <a:lnTo>
                  <a:pt x="69047" y="0"/>
                </a:lnTo>
                <a:lnTo>
                  <a:pt x="67647" y="1400"/>
                </a:lnTo>
                <a:lnTo>
                  <a:pt x="1400" y="1400"/>
                </a:lnTo>
                <a:close/>
              </a:path>
              <a:path fill="darken" w="69047" h="21600">
                <a:moveTo>
                  <a:pt x="69047" y="0"/>
                </a:moveTo>
                <a:lnTo>
                  <a:pt x="69047" y="21600"/>
                </a:lnTo>
                <a:lnTo>
                  <a:pt x="67647" y="20200"/>
                </a:lnTo>
                <a:lnTo>
                  <a:pt x="67647" y="1400"/>
                </a:lnTo>
                <a:close/>
              </a:path>
              <a:path fill="darkenLess" w="69047" h="21600">
                <a:moveTo>
                  <a:pt x="69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47" y="20200"/>
                </a:lnTo>
                <a:close/>
              </a:path>
              <a:path fill="lighten" w="69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2565360"/>
            <a:ext cx="2470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IIIIIIIIIIIIIIIIIIIIIIIIIIIIIIIIIIIIIIIIIII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7919000">
            <a:off x="7019640" y="98280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у = 2х-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6443640" y="4076640"/>
                <a:ext cx="22496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 flipH="1">
            <a:off x="5508720" y="3933720"/>
            <a:ext cx="792000" cy="144000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3080" y="1890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 спосо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508360" y="2276640"/>
            <a:ext cx="165564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4932360" y="1268280"/>
            <a:ext cx="273528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84600" y="482760"/>
            <a:ext cx="3497400" cy="10800"/>
          </a:xfrm>
          <a:custGeom>
            <a:avLst/>
            <a:gdLst/>
            <a:ahLst/>
            <a:rect l="l" t="t" r="r" b="b"/>
            <a:pathLst>
              <a:path w="2203" h="7">
                <a:moveTo>
                  <a:pt x="2203" y="7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24280" y="260280"/>
            <a:ext cx="5114880" cy="4865760"/>
            <a:chOff x="3824280" y="260280"/>
            <a:chExt cx="5114880" cy="4865760"/>
          </a:xfrm>
        </p:grpSpPr>
        <p:grpSp>
          <p:nvGrpSpPr>
            <p:cNvPr id="216" name=""/>
            <p:cNvGrpSpPr/>
            <p:nvPr/>
          </p:nvGrpSpPr>
          <p:grpSpPr>
            <a:xfrm>
              <a:off x="3824280" y="322200"/>
              <a:ext cx="4997520" cy="4803840"/>
              <a:chOff x="3824280" y="322200"/>
              <a:chExt cx="4997520" cy="4803840"/>
            </a:xfrm>
          </p:grpSpPr>
          <p:sp>
            <p:nvSpPr>
              <p:cNvPr id="217" name=""/>
              <p:cNvSpPr/>
              <p:nvPr/>
            </p:nvSpPr>
            <p:spPr>
              <a:xfrm>
                <a:off x="3851280" y="33480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824280" y="4675320"/>
                <a:ext cx="4959360" cy="1260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249800" y="334800"/>
                <a:ext cx="12600" cy="4753080"/>
              </a:xfrm>
              <a:custGeom>
                <a:avLst/>
                <a:gdLst/>
                <a:ahLst/>
                <a:rect l="l" t="t" r="r" b="b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51280" y="4292640"/>
                <a:ext cx="49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51280" y="5084640"/>
                <a:ext cx="4959360" cy="1296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838680" y="3889440"/>
                <a:ext cx="4970520" cy="1260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851280" y="3500280"/>
                <a:ext cx="4970520" cy="1296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824280" y="3103560"/>
                <a:ext cx="4971960" cy="12600"/>
              </a:xfrm>
              <a:custGeom>
                <a:avLst/>
                <a:gdLst/>
                <a:ahLst/>
                <a:rect l="l" t="t" r="r" b="b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863880" y="22924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851280" y="19162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851280" y="1506600"/>
                <a:ext cx="4957920" cy="12600"/>
              </a:xfrm>
              <a:custGeom>
                <a:avLst/>
                <a:gdLst/>
                <a:ahLst/>
                <a:rect l="l" t="t" r="r" b="b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851280" y="112392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863880" y="708120"/>
                <a:ext cx="494532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851280" y="333360"/>
                <a:ext cx="494496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662360" y="322200"/>
                <a:ext cx="12960" cy="4803840"/>
              </a:xfrm>
              <a:custGeom>
                <a:avLst/>
                <a:gdLst/>
                <a:ahLst/>
                <a:rect l="l" t="t" r="r" b="b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076720" y="3333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508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884920" y="347760"/>
                <a:ext cx="14400" cy="4778280"/>
              </a:xfrm>
              <a:custGeom>
                <a:avLst/>
                <a:gdLst/>
                <a:ahLst/>
                <a:rect l="l" t="t" r="r" b="b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732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134120" y="32220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559640" y="3477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956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38836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860616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942160" y="26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8785080" y="320760"/>
            <a:ext cx="1800" cy="4794120"/>
          </a:xfrm>
          <a:custGeom>
            <a:avLst/>
            <a:gdLst/>
            <a:ahLst/>
            <a:rect l="l" t="t" r="r" b="b"/>
            <a:pathLst>
              <a:path w="1" h="3020">
                <a:moveTo>
                  <a:pt x="0" y="0"/>
                </a:moveTo>
                <a:lnTo>
                  <a:pt x="0" y="302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" name=""/>
          <p:cNvGrpSpPr/>
          <p:nvPr/>
        </p:nvGrpSpPr>
        <p:grpSpPr>
          <a:xfrm>
            <a:off x="3824280" y="260280"/>
            <a:ext cx="5114880" cy="4865760"/>
            <a:chOff x="3824280" y="260280"/>
            <a:chExt cx="5114880" cy="4865760"/>
          </a:xfrm>
        </p:grpSpPr>
        <p:grpSp>
          <p:nvGrpSpPr>
            <p:cNvPr id="244" name=""/>
            <p:cNvGrpSpPr/>
            <p:nvPr/>
          </p:nvGrpSpPr>
          <p:grpSpPr>
            <a:xfrm>
              <a:off x="3824280" y="322200"/>
              <a:ext cx="4997520" cy="4803840"/>
              <a:chOff x="3824280" y="322200"/>
              <a:chExt cx="4997520" cy="4803840"/>
            </a:xfrm>
          </p:grpSpPr>
          <p:sp>
            <p:nvSpPr>
              <p:cNvPr id="245" name=""/>
              <p:cNvSpPr/>
              <p:nvPr/>
            </p:nvSpPr>
            <p:spPr>
              <a:xfrm>
                <a:off x="3851280" y="33480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824280" y="4675320"/>
                <a:ext cx="4959360" cy="1260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249800" y="334800"/>
                <a:ext cx="12600" cy="4753080"/>
              </a:xfrm>
              <a:custGeom>
                <a:avLst/>
                <a:gdLst/>
                <a:ahLst/>
                <a:rect l="l" t="t" r="r" b="b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851280" y="4292640"/>
                <a:ext cx="49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851280" y="5084640"/>
                <a:ext cx="4959360" cy="1296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838680" y="3889440"/>
                <a:ext cx="4970520" cy="1260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851280" y="3500280"/>
                <a:ext cx="4970520" cy="1296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824280" y="3103560"/>
                <a:ext cx="4971960" cy="12600"/>
              </a:xfrm>
              <a:custGeom>
                <a:avLst/>
                <a:gdLst/>
                <a:ahLst/>
                <a:rect l="l" t="t" r="r" b="b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863880" y="22924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851280" y="19162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851280" y="1506600"/>
                <a:ext cx="4957920" cy="12600"/>
              </a:xfrm>
              <a:custGeom>
                <a:avLst/>
                <a:gdLst/>
                <a:ahLst/>
                <a:rect l="l" t="t" r="r" b="b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851280" y="112392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863880" y="708120"/>
                <a:ext cx="494532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851280" y="333360"/>
                <a:ext cx="494496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662360" y="322200"/>
                <a:ext cx="12960" cy="4803840"/>
              </a:xfrm>
              <a:custGeom>
                <a:avLst/>
                <a:gdLst/>
                <a:ahLst/>
                <a:rect l="l" t="t" r="r" b="b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076720" y="3333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508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884920" y="347760"/>
                <a:ext cx="14400" cy="4778280"/>
              </a:xfrm>
              <a:custGeom>
                <a:avLst/>
                <a:gdLst/>
                <a:ahLst/>
                <a:rect l="l" t="t" r="r" b="b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732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134120" y="32220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559640" y="3477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956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838836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860616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942160" y="26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 flipV="1">
            <a:off x="6300720" y="-360"/>
            <a:ext cx="1224000" cy="2320920"/>
          </a:xfrm>
          <a:prstGeom prst="line">
            <a:avLst/>
          </a:prstGeom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924360" y="2708280"/>
            <a:ext cx="48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6300720" y="333360"/>
            <a:ext cx="0" cy="468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716360" y="2349360"/>
            <a:ext cx="1584360" cy="2880000"/>
          </a:xfrm>
          <a:prstGeom prst="line">
            <a:avLst/>
          </a:prstGeom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66760" y="22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042920" y="692280"/>
                <a:ext cx="22114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 flipH="1">
            <a:off x="6012000" y="1700280"/>
            <a:ext cx="5760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724360" y="1197000"/>
            <a:ext cx="115272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375160" y="457200"/>
            <a:ext cx="1860840" cy="19080"/>
          </a:xfrm>
          <a:custGeom>
            <a:avLst/>
            <a:gdLst/>
            <a:ahLst/>
            <a:rect l="l" t="t" r="r" b="b"/>
            <a:pathLst>
              <a:path w="1172" h="12">
                <a:moveTo>
                  <a:pt x="1172" y="12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71640" y="2565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5120" y="452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04720" y="17002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=2х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054760" y="-123840"/>
            <a:ext cx="2450880" cy="2473200"/>
          </a:xfrm>
          <a:custGeom>
            <a:avLst/>
            <a:gdLst/>
            <a:ahLst/>
            <a:rect l="l" t="t" r="r" b="b"/>
            <a:pathLst>
              <a:path w="1544" h="1558">
                <a:moveTo>
                  <a:pt x="1544" y="78"/>
                </a:moveTo>
                <a:cubicBezTo>
                  <a:pt x="1538" y="103"/>
                  <a:pt x="1532" y="142"/>
                  <a:pt x="1519" y="164"/>
                </a:cubicBezTo>
                <a:cubicBezTo>
                  <a:pt x="1497" y="201"/>
                  <a:pt x="1501" y="162"/>
                  <a:pt x="1501" y="198"/>
                </a:cubicBezTo>
                <a:lnTo>
                  <a:pt x="785" y="1558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785080" y="320760"/>
            <a:ext cx="1800" cy="4794120"/>
          </a:xfrm>
          <a:custGeom>
            <a:avLst/>
            <a:gdLst/>
            <a:ahLst/>
            <a:rect l="l" t="t" r="r" b="b"/>
            <a:pathLst>
              <a:path w="1" h="3020">
                <a:moveTo>
                  <a:pt x="0" y="0"/>
                </a:moveTo>
                <a:lnTo>
                  <a:pt x="0" y="302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227640" y="2276640"/>
            <a:ext cx="144720" cy="142560"/>
          </a:xfrm>
          <a:prstGeom prst="flowChartConnector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4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3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xit" presetID="49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3824280" y="260280"/>
            <a:ext cx="5114880" cy="4865760"/>
            <a:chOff x="3824280" y="260280"/>
            <a:chExt cx="5114880" cy="4865760"/>
          </a:xfrm>
        </p:grpSpPr>
        <p:grpSp>
          <p:nvGrpSpPr>
            <p:cNvPr id="289" name=""/>
            <p:cNvGrpSpPr/>
            <p:nvPr/>
          </p:nvGrpSpPr>
          <p:grpSpPr>
            <a:xfrm>
              <a:off x="3824280" y="322200"/>
              <a:ext cx="4997520" cy="4803840"/>
              <a:chOff x="3824280" y="322200"/>
              <a:chExt cx="4997520" cy="4803840"/>
            </a:xfrm>
          </p:grpSpPr>
          <p:sp>
            <p:nvSpPr>
              <p:cNvPr id="290" name=""/>
              <p:cNvSpPr/>
              <p:nvPr/>
            </p:nvSpPr>
            <p:spPr>
              <a:xfrm>
                <a:off x="3851280" y="33480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824280" y="4675320"/>
                <a:ext cx="4959360" cy="1260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249800" y="334800"/>
                <a:ext cx="12600" cy="4753080"/>
              </a:xfrm>
              <a:custGeom>
                <a:avLst/>
                <a:gdLst/>
                <a:ahLst/>
                <a:rect l="l" t="t" r="r" b="b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851280" y="4292640"/>
                <a:ext cx="49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851280" y="5084640"/>
                <a:ext cx="4959360" cy="1296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838680" y="3889440"/>
                <a:ext cx="4970520" cy="1260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851280" y="3500280"/>
                <a:ext cx="4970520" cy="1296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3824280" y="3103560"/>
                <a:ext cx="4971960" cy="12600"/>
              </a:xfrm>
              <a:custGeom>
                <a:avLst/>
                <a:gdLst/>
                <a:ahLst/>
                <a:rect l="l" t="t" r="r" b="b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863880" y="22924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851280" y="19162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51280" y="1506600"/>
                <a:ext cx="4957920" cy="12600"/>
              </a:xfrm>
              <a:custGeom>
                <a:avLst/>
                <a:gdLst/>
                <a:ahLst/>
                <a:rect l="l" t="t" r="r" b="b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851280" y="112392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863880" y="708120"/>
                <a:ext cx="494532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851280" y="333360"/>
                <a:ext cx="494496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662360" y="322200"/>
                <a:ext cx="12960" cy="4803840"/>
              </a:xfrm>
              <a:custGeom>
                <a:avLst/>
                <a:gdLst/>
                <a:ahLst/>
                <a:rect l="l" t="t" r="r" b="b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076720" y="3333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508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884920" y="347760"/>
                <a:ext cx="14400" cy="4778280"/>
              </a:xfrm>
              <a:custGeom>
                <a:avLst/>
                <a:gdLst/>
                <a:ahLst/>
                <a:rect l="l" t="t" r="r" b="b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32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134120" y="32220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559640" y="3477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956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838836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860616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42160" y="26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 flipV="1">
            <a:off x="6300720" y="2133360"/>
            <a:ext cx="2843280" cy="1384200"/>
          </a:xfrm>
          <a:prstGeom prst="line">
            <a:avLst/>
          </a:prstGeom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924360" y="2708280"/>
            <a:ext cx="48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300720" y="333360"/>
            <a:ext cx="0" cy="468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708360" y="3500280"/>
            <a:ext cx="2664000" cy="1224000"/>
          </a:xfrm>
          <a:prstGeom prst="line">
            <a:avLst/>
          </a:prstGeom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43280" y="2133720"/>
            <a:ext cx="3457440" cy="1366560"/>
          </a:xfrm>
          <a:prstGeom prst="line">
            <a:avLst/>
          </a:prstGeom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66760" y="22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179280" y="549360"/>
                <a:ext cx="25923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0,5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 </m:t>
                        </m:r>
                        <m:r>
                          <m:t xml:space="preserve">х</m:t>
                        </m:r>
                        <m:r>
                          <m:t xml:space="preserve"> </m:t>
                        </m:r>
                      </m:e>
                    </m:d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3" name=""/>
          <p:cNvSpPr/>
          <p:nvPr/>
        </p:nvSpPr>
        <p:spPr>
          <a:xfrm flipH="1">
            <a:off x="5292360" y="3068640"/>
            <a:ext cx="187164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3995640" y="2565360"/>
            <a:ext cx="417672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771640" y="2133720"/>
            <a:ext cx="6191280" cy="0"/>
          </a:xfrm>
          <a:prstGeom prst="line">
            <a:avLst/>
          </a:prstGeom>
          <a:ln w="28440">
            <a:solidFill>
              <a:srgbClr val="00cc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227640" y="3429000"/>
            <a:ext cx="144720" cy="142920"/>
          </a:xfrm>
          <a:prstGeom prst="flowChartConnector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71640" y="256536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35120" y="452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6720" y="1700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=0,5х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84360" y="1989000"/>
            <a:ext cx="6624720" cy="1511280"/>
          </a:xfrm>
          <a:custGeom>
            <a:avLst/>
            <a:gdLst/>
            <a:ahLst/>
            <a:rect l="l" t="t" r="r" b="b"/>
            <a:pathLst>
              <a:path w="4173" h="952">
                <a:moveTo>
                  <a:pt x="4173" y="91"/>
                </a:moveTo>
                <a:lnTo>
                  <a:pt x="2404" y="95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785080" y="320760"/>
            <a:ext cx="1800" cy="4794120"/>
          </a:xfrm>
          <a:custGeom>
            <a:avLst/>
            <a:gdLst/>
            <a:ahLst/>
            <a:rect l="l" t="t" r="r" b="b"/>
            <a:pathLst>
              <a:path w="1" h="3020">
                <a:moveTo>
                  <a:pt x="0" y="0"/>
                </a:moveTo>
                <a:lnTo>
                  <a:pt x="0" y="302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2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31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8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1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xit" presetID="49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348000" y="119700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Линейная функция.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203640" y="2997360"/>
                <a:ext cx="380664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kх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36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3564000" y="333360"/>
            <a:ext cx="3960720" cy="511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524720" y="0"/>
            <a:ext cx="1619280" cy="544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524720" y="247680"/>
            <a:ext cx="1495440" cy="2967120"/>
          </a:xfrm>
          <a:custGeom>
            <a:avLst/>
            <a:gdLst/>
            <a:ahLst/>
            <a:rect l="l" t="t" r="r" b="b"/>
            <a:pathLst>
              <a:path w="942" h="1869">
                <a:moveTo>
                  <a:pt x="0" y="1869"/>
                </a:moveTo>
                <a:lnTo>
                  <a:pt x="942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780000" y="3213000"/>
            <a:ext cx="496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6300720" y="0"/>
            <a:ext cx="0" cy="530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943600" y="123840"/>
            <a:ext cx="1581120" cy="3089160"/>
          </a:xfrm>
          <a:custGeom>
            <a:avLst/>
            <a:gdLst/>
            <a:ahLst/>
            <a:rect l="l" t="t" r="r" b="b"/>
            <a:pathLst>
              <a:path w="996" h="1946">
                <a:moveTo>
                  <a:pt x="0" y="0"/>
                </a:moveTo>
                <a:lnTo>
                  <a:pt x="996" y="1946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66760" y="22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706320" y="620640"/>
                <a:ext cx="20606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735120" y="452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243000" y="5373720"/>
                <a:ext cx="458460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,</m:t>
                            </m:r>
                            <m:r>
                              <m:t xml:space="preserve"> </m:t>
                            </m:r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5148360" y="544500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у = 2х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−6   Точки (3;0) и (5; 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149800" y="60930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у =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2х+6 Точки (2;2) и (0; 6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116000" y="465300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17919000">
            <a:off x="7740360" y="76680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у = 2х-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rot="3869400">
            <a:off x="6229800" y="1049760"/>
            <a:ext cx="12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у =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2х+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4067280" y="1628640"/>
                <a:ext cx="20588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55" name=""/>
          <p:cNvSpPr/>
          <p:nvPr/>
        </p:nvSpPr>
        <p:spPr>
          <a:xfrm>
            <a:off x="7020000" y="2349360"/>
            <a:ext cx="144360" cy="144720"/>
          </a:xfrm>
          <a:prstGeom prst="flowChartConnector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300720" y="3213000"/>
            <a:ext cx="1224000" cy="230364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524720" y="3213000"/>
            <a:ext cx="1309680" cy="2495520"/>
          </a:xfrm>
          <a:custGeom>
            <a:avLst/>
            <a:gdLst/>
            <a:ahLst/>
            <a:rect l="l" t="t" r="r" b="b"/>
            <a:pathLst>
              <a:path w="825" h="1572">
                <a:moveTo>
                  <a:pt x="0" y="0"/>
                </a:moveTo>
                <a:lnTo>
                  <a:pt x="825" y="1572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1700280"/>
            <a:ext cx="424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                   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2х- 6=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2х=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х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ль подмодульного выр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бсцисса точки перел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524720" y="0"/>
            <a:ext cx="0" cy="5373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451640" y="3141720"/>
            <a:ext cx="144720" cy="144360"/>
          </a:xfrm>
          <a:prstGeom prst="flowChartConnector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04720" y="1890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1 спосо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8604360" y="623736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780000" y="363600"/>
            <a:ext cx="5114160" cy="4865760"/>
            <a:chOff x="3780000" y="363600"/>
            <a:chExt cx="5114160" cy="4865760"/>
          </a:xfrm>
        </p:grpSpPr>
        <p:grpSp>
          <p:nvGrpSpPr>
            <p:cNvPr id="365" name=""/>
            <p:cNvGrpSpPr/>
            <p:nvPr/>
          </p:nvGrpSpPr>
          <p:grpSpPr>
            <a:xfrm>
              <a:off x="3780000" y="425520"/>
              <a:ext cx="4996800" cy="4803840"/>
              <a:chOff x="3780000" y="425520"/>
              <a:chExt cx="4996800" cy="4803840"/>
            </a:xfrm>
          </p:grpSpPr>
          <p:sp>
            <p:nvSpPr>
              <p:cNvPr id="366" name=""/>
              <p:cNvSpPr/>
              <p:nvPr/>
            </p:nvSpPr>
            <p:spPr>
              <a:xfrm>
                <a:off x="3806640" y="438120"/>
                <a:ext cx="108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780000" y="4778640"/>
                <a:ext cx="4959000" cy="1260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205160" y="438120"/>
                <a:ext cx="12240" cy="4753080"/>
              </a:xfrm>
              <a:custGeom>
                <a:avLst/>
                <a:gdLst/>
                <a:ahLst/>
                <a:rect l="l" t="t" r="r" b="b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3806640" y="4395960"/>
                <a:ext cx="49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806640" y="5187960"/>
                <a:ext cx="4959000" cy="1296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794040" y="3992760"/>
                <a:ext cx="4970160" cy="1260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806640" y="3603600"/>
                <a:ext cx="4970160" cy="1296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780000" y="3206880"/>
                <a:ext cx="4971600" cy="12600"/>
              </a:xfrm>
              <a:custGeom>
                <a:avLst/>
                <a:gdLst/>
                <a:ahLst/>
                <a:rect l="l" t="t" r="r" b="b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819240" y="2395800"/>
                <a:ext cx="493200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806640" y="2019600"/>
                <a:ext cx="493200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806640" y="1609920"/>
                <a:ext cx="4957560" cy="12600"/>
              </a:xfrm>
              <a:custGeom>
                <a:avLst/>
                <a:gdLst/>
                <a:ahLst/>
                <a:rect l="l" t="t" r="r" b="b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06640" y="1227240"/>
                <a:ext cx="493200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819240" y="811440"/>
                <a:ext cx="494496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806640" y="436680"/>
                <a:ext cx="494460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617720" y="425520"/>
                <a:ext cx="12600" cy="4803840"/>
              </a:xfrm>
              <a:custGeom>
                <a:avLst/>
                <a:gdLst/>
                <a:ahLst/>
                <a:rect l="l" t="t" r="r" b="b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032080" y="43668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464080" y="436680"/>
                <a:ext cx="108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40280" y="451080"/>
                <a:ext cx="14040" cy="4778280"/>
              </a:xfrm>
              <a:custGeom>
                <a:avLst/>
                <a:gdLst/>
                <a:ahLst/>
                <a:rect l="l" t="t" r="r" b="b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688080" y="436680"/>
                <a:ext cx="108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089480" y="42552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515000" y="45108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912080" y="436680"/>
                <a:ext cx="108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343720" y="436680"/>
                <a:ext cx="108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8561160" y="2740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97160" y="363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3879720" y="2805120"/>
            <a:ext cx="4954680" cy="1440"/>
          </a:xfrm>
          <a:custGeom>
            <a:avLst/>
            <a:gdLst/>
            <a:ahLst/>
            <a:rect l="l" t="t" r="r" b="b"/>
            <a:pathLst>
              <a:path w="3121" h="1">
                <a:moveTo>
                  <a:pt x="0" y="0"/>
                </a:moveTo>
                <a:lnTo>
                  <a:pt x="3121" y="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785080" y="320760"/>
            <a:ext cx="1800" cy="4794120"/>
          </a:xfrm>
          <a:custGeom>
            <a:avLst/>
            <a:gdLst/>
            <a:ahLst/>
            <a:rect l="l" t="t" r="r" b="b"/>
            <a:pathLst>
              <a:path w="1" h="3020">
                <a:moveTo>
                  <a:pt x="0" y="0"/>
                </a:moveTo>
                <a:lnTo>
                  <a:pt x="0" y="302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27640" y="765000"/>
            <a:ext cx="144720" cy="144720"/>
          </a:xfrm>
          <a:prstGeom prst="flowChartConnector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244000" y="1557360"/>
            <a:ext cx="144360" cy="144360"/>
          </a:xfrm>
          <a:prstGeom prst="flowChartConnector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350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000"/>
                            </p:stCondLst>
                            <p:childTnLst>
                              <p:par>
                                <p:cTn id="3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500"/>
                            </p:stCondLst>
                            <p:childTnLst>
                              <p:par>
                                <p:cTn id="3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000"/>
                            </p:stCondLst>
                            <p:childTnLst>
                              <p:par>
                                <p:cTn id="4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9000"/>
                            </p:stCondLst>
                            <p:childTnLst>
                              <p:par>
                                <p:cTn id="420" nodeType="afterEffect" fill="hold" presetClass="exit" presetID="49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500"/>
                            </p:stCondLst>
                            <p:childTnLst>
                              <p:par>
                                <p:cTn id="46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35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500"/>
                            </p:stCondLst>
                            <p:childTnLst>
                              <p:par>
                                <p:cTn id="472" nodeType="afterEffect" fill="hold" presetClass="exit" presetID="49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7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6000"/>
                            </p:stCondLst>
                            <p:childTnLst>
                              <p:par>
                                <p:cTn id="47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7500"/>
                            </p:stCondLst>
                            <p:childTnLst>
                              <p:par>
                                <p:cTn id="48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9500"/>
                            </p:stCondLst>
                            <p:childTnLst>
                              <p:par>
                                <p:cTn id="4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3708360" y="3213000"/>
            <a:ext cx="5111640" cy="295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524720" y="297000"/>
            <a:ext cx="1582920" cy="2917800"/>
          </a:xfrm>
          <a:custGeom>
            <a:avLst/>
            <a:gdLst/>
            <a:ahLst/>
            <a:rect l="l" t="t" r="r" b="b"/>
            <a:pathLst>
              <a:path w="997" h="1838">
                <a:moveTo>
                  <a:pt x="0" y="1838"/>
                </a:moveTo>
                <a:lnTo>
                  <a:pt x="997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780000" y="3213000"/>
            <a:ext cx="496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300720" y="0"/>
            <a:ext cx="0" cy="5300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66760" y="22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84360" y="981000"/>
                <a:ext cx="20602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735120" y="452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16000" y="4653000"/>
            <a:ext cx="1152360" cy="360360"/>
          </a:xfrm>
          <a:custGeom>
            <a:avLst/>
            <a:gdLst>
              <a:gd name="textAreaLeft" fmla="*/ 23040 w 1152360"/>
              <a:gd name="textAreaRight" fmla="*/ 1129320 w 1152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25" h="21600">
                <a:moveTo>
                  <a:pt x="0" y="0"/>
                </a:moveTo>
                <a:lnTo>
                  <a:pt x="69025" y="0"/>
                </a:lnTo>
                <a:lnTo>
                  <a:pt x="69025" y="21600"/>
                </a:lnTo>
                <a:lnTo>
                  <a:pt x="0" y="21600"/>
                </a:lnTo>
                <a:close/>
              </a:path>
              <a:path fill="lightenLess" w="69025" h="21600">
                <a:moveTo>
                  <a:pt x="0" y="0"/>
                </a:moveTo>
                <a:lnTo>
                  <a:pt x="69025" y="0"/>
                </a:lnTo>
                <a:lnTo>
                  <a:pt x="67625" y="1400"/>
                </a:lnTo>
                <a:lnTo>
                  <a:pt x="1400" y="1400"/>
                </a:lnTo>
                <a:close/>
              </a:path>
              <a:path fill="darken" w="69025" h="21600">
                <a:moveTo>
                  <a:pt x="69025" y="0"/>
                </a:moveTo>
                <a:lnTo>
                  <a:pt x="69025" y="21600"/>
                </a:lnTo>
                <a:lnTo>
                  <a:pt x="67625" y="20200"/>
                </a:lnTo>
                <a:lnTo>
                  <a:pt x="67625" y="1400"/>
                </a:lnTo>
                <a:close/>
              </a:path>
              <a:path fill="darkenLess" w="69025" h="21600">
                <a:moveTo>
                  <a:pt x="69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25" y="20200"/>
                </a:lnTo>
                <a:close/>
              </a:path>
              <a:path fill="lighten" w="69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7919000">
            <a:off x="7740360" y="76680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у = 2х-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4067280" y="1628640"/>
                <a:ext cx="20588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6" name=""/>
          <p:cNvSpPr/>
          <p:nvPr/>
        </p:nvSpPr>
        <p:spPr>
          <a:xfrm>
            <a:off x="6351480" y="3213000"/>
            <a:ext cx="1174680" cy="2347920"/>
          </a:xfrm>
          <a:custGeom>
            <a:avLst/>
            <a:gdLst/>
            <a:ahLst/>
            <a:rect l="l" t="t" r="r" b="b"/>
            <a:pathLst>
              <a:path w="740" h="1479">
                <a:moveTo>
                  <a:pt x="740" y="0"/>
                </a:moveTo>
                <a:lnTo>
                  <a:pt x="0" y="1479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71640" y="2276640"/>
            <a:ext cx="13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у = 2х- 6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451640" y="3141720"/>
            <a:ext cx="144720" cy="144360"/>
          </a:xfrm>
          <a:prstGeom prst="flowChartConnector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54840" y="320760"/>
            <a:ext cx="1469880" cy="2892240"/>
          </a:xfrm>
          <a:custGeom>
            <a:avLst/>
            <a:gdLst/>
            <a:ahLst/>
            <a:rect l="l" t="t" r="r" b="b"/>
            <a:pathLst>
              <a:path w="926" h="1822">
                <a:moveTo>
                  <a:pt x="926" y="1822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693800" y="33336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 спосо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24280" y="363600"/>
            <a:ext cx="5114880" cy="4865760"/>
            <a:chOff x="3824280" y="363600"/>
            <a:chExt cx="5114880" cy="4865760"/>
          </a:xfrm>
        </p:grpSpPr>
        <p:grpSp>
          <p:nvGrpSpPr>
            <p:cNvPr id="414" name=""/>
            <p:cNvGrpSpPr/>
            <p:nvPr/>
          </p:nvGrpSpPr>
          <p:grpSpPr>
            <a:xfrm>
              <a:off x="3824280" y="425520"/>
              <a:ext cx="4997520" cy="4803840"/>
              <a:chOff x="3824280" y="425520"/>
              <a:chExt cx="4997520" cy="4803840"/>
            </a:xfrm>
          </p:grpSpPr>
          <p:sp>
            <p:nvSpPr>
              <p:cNvPr id="415" name=""/>
              <p:cNvSpPr/>
              <p:nvPr/>
            </p:nvSpPr>
            <p:spPr>
              <a:xfrm>
                <a:off x="3851280" y="43812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824280" y="4778640"/>
                <a:ext cx="4959360" cy="1260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249800" y="438120"/>
                <a:ext cx="12600" cy="4753080"/>
              </a:xfrm>
              <a:custGeom>
                <a:avLst/>
                <a:gdLst/>
                <a:ahLst/>
                <a:rect l="l" t="t" r="r" b="b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851280" y="4395960"/>
                <a:ext cx="49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851280" y="5187960"/>
                <a:ext cx="4959360" cy="1296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838680" y="3992760"/>
                <a:ext cx="4970520" cy="1260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851280" y="3603600"/>
                <a:ext cx="4970520" cy="1296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824280" y="3206880"/>
                <a:ext cx="4971960" cy="12600"/>
              </a:xfrm>
              <a:custGeom>
                <a:avLst/>
                <a:gdLst/>
                <a:ahLst/>
                <a:rect l="l" t="t" r="r" b="b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863880" y="239580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851280" y="201960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851280" y="1609920"/>
                <a:ext cx="4957920" cy="12600"/>
              </a:xfrm>
              <a:custGeom>
                <a:avLst/>
                <a:gdLst/>
                <a:ahLst/>
                <a:rect l="l" t="t" r="r" b="b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851280" y="122724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863880" y="811440"/>
                <a:ext cx="494532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851280" y="436680"/>
                <a:ext cx="494496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662360" y="425520"/>
                <a:ext cx="12960" cy="4803840"/>
              </a:xfrm>
              <a:custGeom>
                <a:avLst/>
                <a:gdLst/>
                <a:ahLst/>
                <a:rect l="l" t="t" r="r" b="b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076720" y="43668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508720" y="43668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884920" y="451080"/>
                <a:ext cx="14400" cy="4778280"/>
              </a:xfrm>
              <a:custGeom>
                <a:avLst/>
                <a:gdLst/>
                <a:ahLst/>
                <a:rect l="l" t="t" r="r" b="b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732720" y="43668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134120" y="42552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559640" y="45108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956720" y="43668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388360" y="43668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8606160" y="2740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942160" y="363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3817800" y="2779560"/>
            <a:ext cx="4967280" cy="25560"/>
          </a:xfrm>
          <a:custGeom>
            <a:avLst/>
            <a:gdLst/>
            <a:ahLst/>
            <a:rect l="l" t="t" r="r" b="b"/>
            <a:pathLst>
              <a:path w="3129" h="16">
                <a:moveTo>
                  <a:pt x="3129" y="0"/>
                </a:moveTo>
                <a:lnTo>
                  <a:pt x="0" y="16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785080" y="320760"/>
            <a:ext cx="1800" cy="4794120"/>
          </a:xfrm>
          <a:custGeom>
            <a:avLst/>
            <a:gdLst/>
            <a:ahLst/>
            <a:rect l="l" t="t" r="r" b="b"/>
            <a:pathLst>
              <a:path w="1" h="3020">
                <a:moveTo>
                  <a:pt x="0" y="0"/>
                </a:moveTo>
                <a:lnTo>
                  <a:pt x="0" y="302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317080" y="1557360"/>
            <a:ext cx="144360" cy="144360"/>
          </a:xfrm>
          <a:prstGeom prst="flowChartConnector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000"/>
                            </p:stCondLst>
                            <p:childTnLst>
                              <p:par>
                                <p:cTn id="5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4000"/>
                            </p:stCondLst>
                            <p:childTnLst>
                              <p:par>
                                <p:cTn id="5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500"/>
                            </p:stCondLst>
                            <p:childTnLst>
                              <p:par>
                                <p:cTn id="546" nodeType="afterEffect" fill="hold" presetClass="emph" presetID="7" presetSubtype="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547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548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xit" presetID="49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7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7500"/>
                            </p:stCondLst>
                            <p:childTnLst>
                              <p:par>
                                <p:cTn id="5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3824280" y="260280"/>
            <a:ext cx="5114880" cy="4865760"/>
            <a:chOff x="3824280" y="260280"/>
            <a:chExt cx="5114880" cy="4865760"/>
          </a:xfrm>
        </p:grpSpPr>
        <p:grpSp>
          <p:nvGrpSpPr>
            <p:cNvPr id="444" name=""/>
            <p:cNvGrpSpPr/>
            <p:nvPr/>
          </p:nvGrpSpPr>
          <p:grpSpPr>
            <a:xfrm>
              <a:off x="3824280" y="322200"/>
              <a:ext cx="4997520" cy="4803840"/>
              <a:chOff x="3824280" y="322200"/>
              <a:chExt cx="4997520" cy="4803840"/>
            </a:xfrm>
          </p:grpSpPr>
          <p:sp>
            <p:nvSpPr>
              <p:cNvPr id="445" name=""/>
              <p:cNvSpPr/>
              <p:nvPr/>
            </p:nvSpPr>
            <p:spPr>
              <a:xfrm>
                <a:off x="3851280" y="33480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824280" y="4675320"/>
                <a:ext cx="4959360" cy="1260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4249800" y="334800"/>
                <a:ext cx="12600" cy="4753080"/>
              </a:xfrm>
              <a:custGeom>
                <a:avLst/>
                <a:gdLst/>
                <a:ahLst/>
                <a:rect l="l" t="t" r="r" b="b"/>
                <a:pathLst>
                  <a:path w="8" h="2994">
                    <a:moveTo>
                      <a:pt x="0" y="0"/>
                    </a:moveTo>
                    <a:lnTo>
                      <a:pt x="8" y="2994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851280" y="4292640"/>
                <a:ext cx="496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851280" y="5084640"/>
                <a:ext cx="4959360" cy="12960"/>
              </a:xfrm>
              <a:custGeom>
                <a:avLst/>
                <a:gdLst/>
                <a:ahLst/>
                <a:rect l="l" t="t" r="r" b="b"/>
                <a:pathLst>
                  <a:path w="3124" h="8">
                    <a:moveTo>
                      <a:pt x="0" y="0"/>
                    </a:moveTo>
                    <a:lnTo>
                      <a:pt x="3124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838680" y="3889440"/>
                <a:ext cx="4970520" cy="1260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851280" y="3500280"/>
                <a:ext cx="4970520" cy="12960"/>
              </a:xfrm>
              <a:custGeom>
                <a:avLst/>
                <a:gdLst/>
                <a:ahLst/>
                <a:rect l="l" t="t" r="r" b="b"/>
                <a:pathLst>
                  <a:path w="3131" h="8">
                    <a:moveTo>
                      <a:pt x="0" y="8"/>
                    </a:moveTo>
                    <a:lnTo>
                      <a:pt x="313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824280" y="3103560"/>
                <a:ext cx="4971960" cy="12600"/>
              </a:xfrm>
              <a:custGeom>
                <a:avLst/>
                <a:gdLst/>
                <a:ahLst/>
                <a:rect l="l" t="t" r="r" b="b"/>
                <a:pathLst>
                  <a:path w="3132" h="8">
                    <a:moveTo>
                      <a:pt x="0" y="0"/>
                    </a:moveTo>
                    <a:lnTo>
                      <a:pt x="3132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863880" y="22924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851280" y="191628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851280" y="1506600"/>
                <a:ext cx="4957920" cy="12600"/>
              </a:xfrm>
              <a:custGeom>
                <a:avLst/>
                <a:gdLst/>
                <a:ahLst/>
                <a:rect l="l" t="t" r="r" b="b"/>
                <a:pathLst>
                  <a:path w="3123" h="8">
                    <a:moveTo>
                      <a:pt x="0" y="0"/>
                    </a:moveTo>
                    <a:lnTo>
                      <a:pt x="3123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851280" y="1123920"/>
                <a:ext cx="4932360" cy="12600"/>
              </a:xfrm>
              <a:custGeom>
                <a:avLst/>
                <a:gdLst/>
                <a:ahLst/>
                <a:rect l="l" t="t" r="r" b="b"/>
                <a:pathLst>
                  <a:path w="3107" h="8">
                    <a:moveTo>
                      <a:pt x="0" y="8"/>
                    </a:moveTo>
                    <a:lnTo>
                      <a:pt x="310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863880" y="708120"/>
                <a:ext cx="494532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851280" y="333360"/>
                <a:ext cx="4944960" cy="12600"/>
              </a:xfrm>
              <a:custGeom>
                <a:avLst/>
                <a:gdLst/>
                <a:ahLst/>
                <a:rect l="l" t="t" r="r" b="b"/>
                <a:pathLst>
                  <a:path w="3115" h="8">
                    <a:moveTo>
                      <a:pt x="0" y="0"/>
                    </a:moveTo>
                    <a:lnTo>
                      <a:pt x="3115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662360" y="322200"/>
                <a:ext cx="12960" cy="4803840"/>
              </a:xfrm>
              <a:custGeom>
                <a:avLst/>
                <a:gdLst/>
                <a:ahLst/>
                <a:rect l="l" t="t" r="r" b="b"/>
                <a:pathLst>
                  <a:path w="8" h="3026">
                    <a:moveTo>
                      <a:pt x="8" y="0"/>
                    </a:moveTo>
                    <a:lnTo>
                      <a:pt x="0" y="302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076720" y="3333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508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884920" y="347760"/>
                <a:ext cx="14400" cy="4778280"/>
              </a:xfrm>
              <a:custGeom>
                <a:avLst/>
                <a:gdLst/>
                <a:ahLst/>
                <a:rect l="l" t="t" r="r" b="b"/>
                <a:pathLst>
                  <a:path w="9" h="3010">
                    <a:moveTo>
                      <a:pt x="9" y="0"/>
                    </a:moveTo>
                    <a:lnTo>
                      <a:pt x="0" y="301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732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134120" y="32220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559640" y="347760"/>
                <a:ext cx="180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95672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388360" y="333360"/>
                <a:ext cx="1440" cy="4765680"/>
              </a:xfrm>
              <a:custGeom>
                <a:avLst/>
                <a:gdLst/>
                <a:ahLst/>
                <a:rect l="l" t="t" r="r" b="b"/>
                <a:pathLst>
                  <a:path w="1" h="3002">
                    <a:moveTo>
                      <a:pt x="0" y="0"/>
                    </a:moveTo>
                    <a:lnTo>
                      <a:pt x="0" y="300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"/>
            <p:cNvSpPr/>
            <p:nvPr/>
          </p:nvSpPr>
          <p:spPr>
            <a:xfrm>
              <a:off x="860616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42160" y="26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 flipV="1">
            <a:off x="5867280" y="404280"/>
            <a:ext cx="1224000" cy="2320920"/>
          </a:xfrm>
          <a:prstGeom prst="line">
            <a:avLst/>
          </a:prstGeom>
          <a:ln w="284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924360" y="2708280"/>
            <a:ext cx="4895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6300720" y="333360"/>
            <a:ext cx="0" cy="468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400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522680" y="2708280"/>
            <a:ext cx="1346400" cy="2654280"/>
          </a:xfrm>
          <a:custGeom>
            <a:avLst/>
            <a:gdLst/>
            <a:ahLst/>
            <a:rect l="l" t="t" r="r" b="b"/>
            <a:pathLst>
              <a:path w="848" h="1672">
                <a:moveTo>
                  <a:pt x="0" y="1672"/>
                </a:moveTo>
                <a:lnTo>
                  <a:pt x="848" y="0"/>
                </a:lnTo>
              </a:path>
            </a:pathLst>
          </a:custGeom>
          <a:noFill/>
          <a:ln w="2844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166760" y="229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258920" y="765000"/>
                <a:ext cx="2058840" cy="7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2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7" name=""/>
          <p:cNvSpPr/>
          <p:nvPr/>
        </p:nvSpPr>
        <p:spPr>
          <a:xfrm flipV="1">
            <a:off x="5508720" y="2060280"/>
            <a:ext cx="0" cy="1297080"/>
          </a:xfrm>
          <a:prstGeom prst="line">
            <a:avLst/>
          </a:prstGeom>
          <a:ln w="28440">
            <a:solidFill>
              <a:srgbClr val="0099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078520" y="1123920"/>
            <a:ext cx="1440" cy="3102120"/>
          </a:xfrm>
          <a:custGeom>
            <a:avLst/>
            <a:gdLst/>
            <a:ahLst/>
            <a:rect l="l" t="t" r="r" b="b"/>
            <a:pathLst>
              <a:path w="1" h="1954">
                <a:moveTo>
                  <a:pt x="0" y="1954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70280" y="444600"/>
            <a:ext cx="1800" cy="4620960"/>
          </a:xfrm>
          <a:custGeom>
            <a:avLst/>
            <a:gdLst/>
            <a:ahLst/>
            <a:rect l="l" t="t" r="r" b="b"/>
            <a:pathLst>
              <a:path w="1" h="2911">
                <a:moveTo>
                  <a:pt x="0" y="2911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99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763640" y="2781360"/>
            <a:ext cx="1152720" cy="360360"/>
          </a:xfrm>
          <a:custGeom>
            <a:avLst/>
            <a:gdLst>
              <a:gd name="textAreaLeft" fmla="*/ 23040 w 1152720"/>
              <a:gd name="textAreaRight" fmla="*/ 1129680 w 1152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9047" h="21600">
                <a:moveTo>
                  <a:pt x="0" y="0"/>
                </a:moveTo>
                <a:lnTo>
                  <a:pt x="69047" y="0"/>
                </a:lnTo>
                <a:lnTo>
                  <a:pt x="69047" y="21600"/>
                </a:lnTo>
                <a:lnTo>
                  <a:pt x="0" y="21600"/>
                </a:lnTo>
                <a:close/>
              </a:path>
              <a:path fill="lightenLess" w="69047" h="21600">
                <a:moveTo>
                  <a:pt x="0" y="0"/>
                </a:moveTo>
                <a:lnTo>
                  <a:pt x="69047" y="0"/>
                </a:lnTo>
                <a:lnTo>
                  <a:pt x="67647" y="1400"/>
                </a:lnTo>
                <a:lnTo>
                  <a:pt x="1400" y="1400"/>
                </a:lnTo>
                <a:close/>
              </a:path>
              <a:path fill="darken" w="69047" h="21600">
                <a:moveTo>
                  <a:pt x="69047" y="0"/>
                </a:moveTo>
                <a:lnTo>
                  <a:pt x="69047" y="21600"/>
                </a:lnTo>
                <a:lnTo>
                  <a:pt x="67647" y="20200"/>
                </a:lnTo>
                <a:lnTo>
                  <a:pt x="67647" y="1400"/>
                </a:lnTo>
                <a:close/>
              </a:path>
              <a:path fill="darkenLess" w="69047" h="21600">
                <a:moveTo>
                  <a:pt x="690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47" y="20200"/>
                </a:lnTo>
                <a:close/>
              </a:path>
              <a:path fill="lighten" w="690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Показ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35120" y="452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549080" y="17002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=2х +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97560" y="185760"/>
            <a:ext cx="2476440" cy="2523960"/>
          </a:xfrm>
          <a:custGeom>
            <a:avLst/>
            <a:gdLst/>
            <a:ahLst/>
            <a:rect l="l" t="t" r="r" b="b"/>
            <a:pathLst>
              <a:path w="1560" h="1590">
                <a:moveTo>
                  <a:pt x="1560" y="110"/>
                </a:moveTo>
                <a:cubicBezTo>
                  <a:pt x="1554" y="135"/>
                  <a:pt x="1548" y="174"/>
                  <a:pt x="1535" y="196"/>
                </a:cubicBezTo>
                <a:cubicBezTo>
                  <a:pt x="1513" y="233"/>
                  <a:pt x="1517" y="194"/>
                  <a:pt x="1517" y="230"/>
                </a:cubicBezTo>
                <a:lnTo>
                  <a:pt x="801" y="159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>
            <a:hlinkClick r:id="" action="ppaction://hlinkshowjump?jump=previousslide"/>
          </p:cNvPr>
          <p:cNvSpPr/>
          <p:nvPr/>
        </p:nvSpPr>
        <p:spPr>
          <a:xfrm>
            <a:off x="179280" y="18900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>
            <a:hlinkClick r:id="" action="ppaction://hlinkshowjump?jump=nextslide"/>
          </p:cNvPr>
          <p:cNvSpPr/>
          <p:nvPr/>
        </p:nvSpPr>
        <p:spPr>
          <a:xfrm>
            <a:off x="8459640" y="6165720"/>
            <a:ext cx="503280" cy="50328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785080" y="320760"/>
            <a:ext cx="1800" cy="4794120"/>
          </a:xfrm>
          <a:custGeom>
            <a:avLst/>
            <a:gdLst/>
            <a:ahLst/>
            <a:rect l="l" t="t" r="r" b="b"/>
            <a:pathLst>
              <a:path w="1" h="3020">
                <a:moveTo>
                  <a:pt x="0" y="0"/>
                </a:moveTo>
                <a:lnTo>
                  <a:pt x="0" y="3020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227640" y="1844640"/>
            <a:ext cx="144720" cy="142920"/>
          </a:xfrm>
          <a:prstGeom prst="flowChartConnector">
            <a:avLst/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568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0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6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9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2000"/>
                            </p:stCondLst>
                            <p:childTnLst>
                              <p:par>
                                <p:cTn id="601" nodeType="afterEffect" fill="hold" presetClass="exit" presetID="49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2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0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1:37:36Z</dcterms:created>
  <dc:creator>ADMINISTRATION</dc:creator>
  <dc:description/>
  <dc:language>en-US</dc:language>
  <cp:lastModifiedBy>Марина</cp:lastModifiedBy>
  <dcterms:modified xsi:type="dcterms:W3CDTF">2011-10-06T17:06:08Z</dcterms:modified>
  <cp:revision>12</cp:revision>
  <dc:subject/>
  <dc:title>Слайд 1</dc:title>
</cp:coreProperties>
</file>