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F360-BE61-47CB-BC1F-F528D15282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9 класс.          9.1 Работа, технология, производство. 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 9.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9 класс.          9.1 Работа, технология, производство. 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 9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9 класс.          9.1 Работа, технология, производство. 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 9.1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9 класс.          9.1 Работа, технология, производство.          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дача  9.1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1, 2:   Бродский И.Л., Видус А.М., Коротаев А.Б. Сборник текстовых задач по математике ля профильных классов. 7-11 классы/ Под ред. И.Л. Бродского. М.: АРКТИ, 2004. – 140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3:    Справочное пособие по методам решения задач по математике для средней школы. Цыпкин А.Г., Пинский А.И. / под ред. В.И. Благодатских. – М.: Наука. Главная редакция физико-математической литературы, 1983.-41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1, 2:  Математика. Учебник для 6 класса. Часть 3. Г.В.Дорофеев, Л.Г. Петерсон.  .№ 473, №73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а 3:  Справочное пособие по методам решения задач по математике для средней школы. Цыпкин А.Г., Пинский А.И. / под ред. В.И. Благодатских. – М.: Наука. Главная редакция физико-математической литературы, 1983.-416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16AF-0AEA-43B6-B6B3-7E8AC789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53E-D2E3-4625-A01B-69264A0B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166F-688A-4056-95A7-0AF74124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D11E-1CDF-47D0-9F8E-24F400E5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F7AB-44E9-4613-88C0-6ABCD4038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3A0-080C-49CA-87AB-D3CBDF2F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626C-C653-4643-96A1-84CF7C64F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1567-6D66-4B97-8B5E-DA2AAB04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6230-3EA3-4D37-9907-DEAB1234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6546-9CB6-4C2D-BB3D-CCCA38DF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555-BBB0-46BD-9623-88FD6ED7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A233-2EDB-43B3-9ED3-DC9507B4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A18C-F4AE-4CEB-AE04-03A36CA5AD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37800" y="63360"/>
            <a:ext cx="9067320" cy="6705360"/>
            <a:chOff x="37800" y="63360"/>
            <a:chExt cx="9067320" cy="6705360"/>
          </a:xfrm>
        </p:grpSpPr>
        <p:sp>
          <p:nvSpPr>
            <p:cNvPr id="49" name=""/>
            <p:cNvSpPr/>
            <p:nvPr/>
          </p:nvSpPr>
          <p:spPr>
            <a:xfrm>
              <a:off x="507600" y="907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7560" y="67550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065160" y="5277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1440" y="5277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1440" y="62773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648640" y="62632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 rot="16200000">
              <a:off x="863064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4680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533520" y="152280"/>
            <a:ext cx="853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Задачи на работу обычно содержат следующие величи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ремя, в течение которого производится рабо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роизводительность труда, работа, произведенная в единицу времени (возможны и другие обозначения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, W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– 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бота, произведенная за время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124080"/>
            <a:ext cx="56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равнения, связывающее эти три величи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204560" y="3581280"/>
            <a:ext cx="1446840" cy="893160"/>
            <a:chOff x="1204560" y="3581280"/>
            <a:chExt cx="1446840" cy="893160"/>
          </a:xfrm>
        </p:grpSpPr>
        <p:sp>
          <p:nvSpPr>
            <p:cNvPr id="60" name=""/>
            <p:cNvSpPr/>
            <p:nvPr/>
          </p:nvSpPr>
          <p:spPr>
            <a:xfrm>
              <a:off x="2155320" y="3651120"/>
              <a:ext cx="4960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5400" spc="-1" strike="noStrike">
                  <a:solidFill>
                    <a:srgbClr val="0000ff"/>
                  </a:solidFill>
                  <a:latin typeface="Times New Roman"/>
                </a:rPr>
                <a:t>v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04560" y="3651120"/>
              <a:ext cx="457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08840" y="358128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267080" y="3962520"/>
            <a:ext cx="1344960" cy="1517040"/>
            <a:chOff x="4267080" y="3962520"/>
            <a:chExt cx="1344960" cy="1517040"/>
          </a:xfrm>
        </p:grpSpPr>
        <p:sp>
          <p:nvSpPr>
            <p:cNvPr id="64" name=""/>
            <p:cNvSpPr/>
            <p:nvPr/>
          </p:nvSpPr>
          <p:spPr>
            <a:xfrm>
              <a:off x="5068800" y="4711680"/>
              <a:ext cx="457200" cy="18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163840" y="465624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154120" y="3962520"/>
              <a:ext cx="457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267080" y="426096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14040" y="419256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705360" y="4800600"/>
            <a:ext cx="1418400" cy="1517040"/>
            <a:chOff x="6705360" y="4800600"/>
            <a:chExt cx="1418400" cy="1517040"/>
          </a:xfrm>
        </p:grpSpPr>
        <p:sp>
          <p:nvSpPr>
            <p:cNvPr id="70" name=""/>
            <p:cNvSpPr/>
            <p:nvPr/>
          </p:nvSpPr>
          <p:spPr>
            <a:xfrm>
              <a:off x="7580520" y="5550120"/>
              <a:ext cx="4572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708680" y="549432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65840" y="4800600"/>
              <a:ext cx="457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360" y="512136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25400" y="505296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93120" y="1066680"/>
            <a:ext cx="249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8240" y="2146320"/>
            <a:ext cx="3740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6840" y="647640"/>
            <a:ext cx="156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105520" y="1600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вый столбик – время, необходимое на выполнение работы каждым насосом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167652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другой столбик внесем выполненную работу – это 1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1600200"/>
            <a:ext cx="382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новом столбике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разить производительность (скорость)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боту :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7800" y="63360"/>
            <a:ext cx="9067320" cy="6705360"/>
            <a:chOff x="37800" y="63360"/>
            <a:chExt cx="9067320" cy="6705360"/>
          </a:xfrm>
        </p:grpSpPr>
        <p:sp>
          <p:nvSpPr>
            <p:cNvPr id="82" name=""/>
            <p:cNvSpPr/>
            <p:nvPr/>
          </p:nvSpPr>
          <p:spPr>
            <a:xfrm>
              <a:off x="507600" y="907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47560" y="67550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065160" y="5277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91440" y="5277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1440" y="62773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8648640" y="62632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6200000">
              <a:off x="863064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5400000">
              <a:off x="4680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104840" y="2362320"/>
            <a:ext cx="72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-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971800"/>
            <a:ext cx="304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1674720"/>
            <a:ext cx="4610160" cy="1828800"/>
            <a:chOff x="380880" y="1674720"/>
            <a:chExt cx="4610160" cy="1828800"/>
          </a:xfrm>
        </p:grpSpPr>
        <p:sp>
          <p:nvSpPr>
            <p:cNvPr id="93" name=""/>
            <p:cNvSpPr/>
            <p:nvPr/>
          </p:nvSpPr>
          <p:spPr>
            <a:xfrm>
              <a:off x="449280" y="23590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31280" y="29685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380880" y="1674720"/>
              <a:ext cx="4610160" cy="1828800"/>
              <a:chOff x="380880" y="1674720"/>
              <a:chExt cx="4610160" cy="182880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380880" y="2208240"/>
                <a:ext cx="4610160" cy="640800"/>
                <a:chOff x="380880" y="2208240"/>
                <a:chExt cx="4610160" cy="6408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80880" y="2208240"/>
                  <a:ext cx="4610160" cy="39240"/>
                </a:xfrm>
                <a:custGeom>
                  <a:avLst/>
                  <a:gdLst/>
                  <a:ahLst/>
                  <a:rect l="l" t="t" r="r" b="b"/>
                  <a:pathLst>
                    <a:path w="4881" h="25">
                      <a:moveTo>
                        <a:pt x="0" y="25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80880" y="2796840"/>
                  <a:ext cx="4610160" cy="52200"/>
                </a:xfrm>
                <a:custGeom>
                  <a:avLst/>
                  <a:gdLst/>
                  <a:ahLst/>
                  <a:rect l="l" t="t" r="r" b="b"/>
                  <a:pathLst>
                    <a:path w="4881" h="33">
                      <a:moveTo>
                        <a:pt x="0" y="33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841680" y="1674720"/>
                <a:ext cx="6840" cy="1828800"/>
              </a:xfrm>
              <a:custGeom>
                <a:avLst/>
                <a:gdLst/>
                <a:ahLst/>
                <a:rect l="l" t="t" r="r" b="b"/>
                <a:pathLst>
                  <a:path w="5" h="1162">
                    <a:moveTo>
                      <a:pt x="5" y="0"/>
                    </a:moveTo>
                    <a:lnTo>
                      <a:pt x="0" y="11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380880" y="1650960"/>
            <a:ext cx="4610160" cy="1852560"/>
          </a:xfrm>
          <a:custGeom>
            <a:avLst/>
            <a:gdLst/>
            <a:ahLst/>
            <a:rect l="l" t="t" r="r" b="b"/>
            <a:pathLst>
              <a:path w="4805" h="1503">
                <a:moveTo>
                  <a:pt x="0" y="0"/>
                </a:moveTo>
                <a:lnTo>
                  <a:pt x="4797" y="7"/>
                </a:lnTo>
                <a:lnTo>
                  <a:pt x="4805" y="1464"/>
                </a:lnTo>
                <a:lnTo>
                  <a:pt x="0" y="1503"/>
                </a:lnTo>
                <a:lnTo>
                  <a:pt x="6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249280" y="2362320"/>
            <a:ext cx="349200" cy="1051200"/>
            <a:chOff x="2249280" y="2362320"/>
            <a:chExt cx="349200" cy="1051200"/>
          </a:xfrm>
        </p:grpSpPr>
        <p:sp>
          <p:nvSpPr>
            <p:cNvPr id="102" name=""/>
            <p:cNvSpPr/>
            <p:nvPr/>
          </p:nvSpPr>
          <p:spPr>
            <a:xfrm>
              <a:off x="2262240" y="23623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49280" y="29844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695760" y="2184480"/>
            <a:ext cx="635040" cy="686160"/>
            <a:chOff x="3695760" y="2184480"/>
            <a:chExt cx="635040" cy="686160"/>
          </a:xfrm>
        </p:grpSpPr>
        <p:sp>
          <p:nvSpPr>
            <p:cNvPr id="105" name=""/>
            <p:cNvSpPr/>
            <p:nvPr/>
          </p:nvSpPr>
          <p:spPr>
            <a:xfrm>
              <a:off x="3799080" y="21844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95760" y="244152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-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27440" y="2530440"/>
              <a:ext cx="476280" cy="1080"/>
            </a:xfrm>
            <a:custGeom>
              <a:avLst/>
              <a:gdLst/>
              <a:ahLst/>
              <a:rect l="l" t="t" r="r" b="b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28600" y="15228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 одновременной работе двух насосов пруд был очищен 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ч 55 мин. За сколько времени мог бы очистить пруд каждый насос, работая отдельно,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ин из них может эту работу выполнить на 2 ч быстрее другого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117440"/>
            <a:ext cx="8153640" cy="355680"/>
          </a:xfrm>
          <a:custGeom>
            <a:avLst/>
            <a:gdLst/>
            <a:ahLst/>
            <a:rect l="l" t="t" r="r" b="b"/>
            <a:pathLst>
              <a:path w="5136" h="224">
                <a:moveTo>
                  <a:pt x="0" y="16"/>
                </a:moveTo>
                <a:lnTo>
                  <a:pt x="5016" y="0"/>
                </a:lnTo>
                <a:lnTo>
                  <a:pt x="5136" y="216"/>
                </a:lnTo>
                <a:lnTo>
                  <a:pt x="112" y="224"/>
                </a:lnTo>
                <a:lnTo>
                  <a:pt x="0" y="32"/>
                </a:lnTo>
                <a:lnTo>
                  <a:pt x="0" y="16"/>
                </a:lnTo>
                <a:close/>
              </a:path>
            </a:pathLst>
          </a:custGeom>
          <a:gradFill rotWithShape="0">
            <a:gsLst>
              <a:gs pos="0">
                <a:srgbClr val="ff99ff">
                  <a:alpha val="18039"/>
                </a:srgbClr>
              </a:gs>
              <a:gs pos="50000">
                <a:srgbClr val="ff0000">
                  <a:alpha val="31372"/>
                </a:srgbClr>
              </a:gs>
              <a:gs pos="100000">
                <a:srgbClr val="ff99ff">
                  <a:alpha val="18039"/>
                </a:srgbClr>
              </a:gs>
            </a:gsLst>
            <a:lin ang="8100000"/>
          </a:gradFill>
          <a:ln w="9360">
            <a:solidFill>
              <a:srgbClr val="ff00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6920" y="411480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20960" y="502920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20960" y="594360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62520" y="5410080"/>
            <a:ext cx="4294080" cy="672840"/>
            <a:chOff x="3962520" y="5410080"/>
            <a:chExt cx="4294080" cy="672840"/>
          </a:xfrm>
        </p:grpSpPr>
        <p:sp>
          <p:nvSpPr>
            <p:cNvPr id="114" name=""/>
            <p:cNvSpPr/>
            <p:nvPr/>
          </p:nvSpPr>
          <p:spPr>
            <a:xfrm>
              <a:off x="3962520" y="541008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а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помож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м составить 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924680" y="575460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94000" y="55623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4114800" y="3429000"/>
            <a:ext cx="4294080" cy="672840"/>
            <a:chOff x="4114800" y="3429000"/>
            <a:chExt cx="4294080" cy="672840"/>
          </a:xfrm>
        </p:grpSpPr>
        <p:sp>
          <p:nvSpPr>
            <p:cNvPr id="118" name=""/>
            <p:cNvSpPr/>
            <p:nvPr/>
          </p:nvSpPr>
          <p:spPr>
            <a:xfrm>
              <a:off x="4114800" y="342900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корость совместной работы находим сложением скор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76960" y="377352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46280" y="35812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886200" y="4419720"/>
            <a:ext cx="4294080" cy="672840"/>
            <a:chOff x="3886200" y="4419720"/>
            <a:chExt cx="4294080" cy="672840"/>
          </a:xfrm>
        </p:grpSpPr>
        <p:sp>
          <p:nvSpPr>
            <p:cNvPr id="122" name=""/>
            <p:cNvSpPr/>
            <p:nvPr/>
          </p:nvSpPr>
          <p:spPr>
            <a:xfrm>
              <a:off x="3886200" y="441972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бота выполнена полностью, т.е. выполнена 1 часть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48360" y="476424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7680" y="4572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00280" y="92700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Это условие поможет ввести  х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416400" y="1638360"/>
            <a:ext cx="1378440" cy="549000"/>
            <a:chOff x="3416400" y="1638360"/>
            <a:chExt cx="1378440" cy="549000"/>
          </a:xfrm>
        </p:grpSpPr>
        <p:sp>
          <p:nvSpPr>
            <p:cNvPr id="127" name=""/>
            <p:cNvSpPr/>
            <p:nvPr/>
          </p:nvSpPr>
          <p:spPr>
            <a:xfrm>
              <a:off x="3542760" y="1774800"/>
              <a:ext cx="12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80000"/>
                  </a:solidFill>
                  <a:latin typeface="Arial"/>
                </a:rPr>
                <a:t>, часть/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16400" y="163836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828800" y="1663560"/>
            <a:ext cx="1486080" cy="1839960"/>
            <a:chOff x="1828800" y="1663560"/>
            <a:chExt cx="1486080" cy="1839960"/>
          </a:xfrm>
        </p:grpSpPr>
        <p:sp>
          <p:nvSpPr>
            <p:cNvPr id="130" name=""/>
            <p:cNvSpPr/>
            <p:nvPr/>
          </p:nvSpPr>
          <p:spPr>
            <a:xfrm>
              <a:off x="1828800" y="1674720"/>
              <a:ext cx="468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09840" y="1674720"/>
              <a:ext cx="504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1942920" y="1663560"/>
              <a:ext cx="1262880" cy="549720"/>
              <a:chOff x="1942920" y="1663560"/>
              <a:chExt cx="1262880" cy="549720"/>
            </a:xfrm>
          </p:grpSpPr>
          <p:sp>
            <p:nvSpPr>
              <p:cNvPr id="133" name=""/>
              <p:cNvSpPr/>
              <p:nvPr/>
            </p:nvSpPr>
            <p:spPr>
              <a:xfrm>
                <a:off x="2171520" y="1814400"/>
                <a:ext cx="10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80000"/>
                    </a:solidFill>
                    <a:latin typeface="Arial"/>
                  </a:rPr>
                  <a:t>, 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942920" y="166356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1079640" y="1676520"/>
            <a:ext cx="531360" cy="562320"/>
            <a:chOff x="1079640" y="1676520"/>
            <a:chExt cx="531360" cy="562320"/>
          </a:xfrm>
        </p:grpSpPr>
        <p:sp>
          <p:nvSpPr>
            <p:cNvPr id="136" name=""/>
            <p:cNvSpPr/>
            <p:nvPr/>
          </p:nvSpPr>
          <p:spPr>
            <a:xfrm>
              <a:off x="1142280" y="18399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80000"/>
                  </a:solidFill>
                  <a:latin typeface="Arial"/>
                </a:rPr>
                <a:t>, 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79640" y="16765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3772080" y="2828880"/>
            <a:ext cx="457200" cy="699120"/>
            <a:chOff x="3772080" y="2828880"/>
            <a:chExt cx="457200" cy="699120"/>
          </a:xfrm>
        </p:grpSpPr>
        <p:sp>
          <p:nvSpPr>
            <p:cNvPr id="139" name=""/>
            <p:cNvSpPr/>
            <p:nvPr/>
          </p:nvSpPr>
          <p:spPr>
            <a:xfrm>
              <a:off x="3786480" y="28288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72080" y="309888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22840" y="318780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391160" y="2209680"/>
            <a:ext cx="1418400" cy="1517040"/>
            <a:chOff x="7391160" y="2209680"/>
            <a:chExt cx="1418400" cy="1517040"/>
          </a:xfrm>
        </p:grpSpPr>
        <p:sp>
          <p:nvSpPr>
            <p:cNvPr id="143" name=""/>
            <p:cNvSpPr/>
            <p:nvPr/>
          </p:nvSpPr>
          <p:spPr>
            <a:xfrm>
              <a:off x="8266320" y="2959200"/>
              <a:ext cx="4572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94480" y="290340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51640" y="2209680"/>
              <a:ext cx="457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91160" y="253044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711200" y="246204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97600" y="3809880"/>
            <a:ext cx="2119680" cy="699120"/>
            <a:chOff x="597600" y="3809880"/>
            <a:chExt cx="2119680" cy="699120"/>
          </a:xfrm>
        </p:grpSpPr>
        <p:grpSp>
          <p:nvGrpSpPr>
            <p:cNvPr id="149" name=""/>
            <p:cNvGrpSpPr/>
            <p:nvPr/>
          </p:nvGrpSpPr>
          <p:grpSpPr>
            <a:xfrm>
              <a:off x="1422000" y="3809880"/>
              <a:ext cx="634680" cy="686160"/>
              <a:chOff x="1422000" y="3809880"/>
              <a:chExt cx="634680" cy="686160"/>
            </a:xfrm>
          </p:grpSpPr>
          <p:sp>
            <p:nvSpPr>
              <p:cNvPr id="150" name=""/>
              <p:cNvSpPr/>
              <p:nvPr/>
            </p:nvSpPr>
            <p:spPr>
              <a:xfrm>
                <a:off x="152460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422000" y="4066920"/>
                <a:ext cx="63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-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453320" y="4155840"/>
                <a:ext cx="475920" cy="108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2260440" y="3809880"/>
              <a:ext cx="456840" cy="699120"/>
              <a:chOff x="2260440" y="3809880"/>
              <a:chExt cx="456840" cy="699120"/>
            </a:xfrm>
          </p:grpSpPr>
          <p:sp>
            <p:nvSpPr>
              <p:cNvPr id="154" name=""/>
              <p:cNvSpPr/>
              <p:nvPr/>
            </p:nvSpPr>
            <p:spPr>
              <a:xfrm>
                <a:off x="227412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260440" y="4079880"/>
                <a:ext cx="456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310840" y="4168800"/>
                <a:ext cx="29160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942920" y="393660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7600" y="3809880"/>
              <a:ext cx="759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совм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56480" y="4800600"/>
            <a:ext cx="85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6480" y="5715000"/>
            <a:ext cx="50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990720" y="5562720"/>
                <a:ext cx="96192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981080" y="5562720"/>
                <a:ext cx="93024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ч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63" name=""/>
          <p:cNvGrpSpPr/>
          <p:nvPr/>
        </p:nvGrpSpPr>
        <p:grpSpPr>
          <a:xfrm>
            <a:off x="1422360" y="3809880"/>
            <a:ext cx="1295280" cy="699120"/>
            <a:chOff x="1422360" y="3809880"/>
            <a:chExt cx="1295280" cy="699120"/>
          </a:xfrm>
        </p:grpSpPr>
        <p:grpSp>
          <p:nvGrpSpPr>
            <p:cNvPr id="164" name=""/>
            <p:cNvGrpSpPr/>
            <p:nvPr/>
          </p:nvGrpSpPr>
          <p:grpSpPr>
            <a:xfrm>
              <a:off x="1422360" y="3809880"/>
              <a:ext cx="635040" cy="686520"/>
              <a:chOff x="1422360" y="3809880"/>
              <a:chExt cx="635040" cy="686520"/>
            </a:xfrm>
          </p:grpSpPr>
          <p:sp>
            <p:nvSpPr>
              <p:cNvPr id="165" name=""/>
              <p:cNvSpPr/>
              <p:nvPr/>
            </p:nvSpPr>
            <p:spPr>
              <a:xfrm>
                <a:off x="152568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422360" y="40672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-2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54040" y="4156200"/>
                <a:ext cx="476280" cy="144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2260440" y="3809880"/>
              <a:ext cx="457200" cy="699120"/>
              <a:chOff x="2260440" y="3809880"/>
              <a:chExt cx="457200" cy="699120"/>
            </a:xfrm>
          </p:grpSpPr>
          <p:sp>
            <p:nvSpPr>
              <p:cNvPr id="169" name=""/>
              <p:cNvSpPr/>
              <p:nvPr/>
            </p:nvSpPr>
            <p:spPr>
              <a:xfrm>
                <a:off x="227484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260440" y="407988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311200" y="41688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942920" y="393696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875520" y="4952880"/>
            <a:ext cx="43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2057400" y="5715000"/>
            <a:ext cx="533520" cy="737280"/>
            <a:chOff x="2057400" y="5715000"/>
            <a:chExt cx="533520" cy="737280"/>
          </a:xfrm>
        </p:grpSpPr>
        <p:sp>
          <p:nvSpPr>
            <p:cNvPr id="175" name=""/>
            <p:cNvSpPr/>
            <p:nvPr/>
          </p:nvSpPr>
          <p:spPr>
            <a:xfrm>
              <a:off x="2071800" y="5715000"/>
              <a:ext cx="49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57400" y="6023160"/>
              <a:ext cx="533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159280" y="6073920"/>
              <a:ext cx="291960" cy="1440"/>
            </a:xfrm>
            <a:custGeom>
              <a:avLst/>
              <a:gdLst/>
              <a:ahLst/>
              <a:rect l="l" t="t" r="r" b="b"/>
              <a:pathLst>
                <a:path w="184" h="1">
                  <a:moveTo>
                    <a:pt x="0" y="0"/>
                  </a:moveTo>
                  <a:lnTo>
                    <a:pt x="18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019920" y="2057400"/>
            <a:ext cx="1657080" cy="546120"/>
            <a:chOff x="6019920" y="2057400"/>
            <a:chExt cx="1657080" cy="546120"/>
          </a:xfrm>
        </p:grpSpPr>
        <mc:AlternateContent>
          <mc:Choice xmlns:a14="http://schemas.microsoft.com/office/drawing/2010/main" Requires="a14">
            <p:sp>
              <p:nvSpPr>
                <p:cNvPr id="179" name=""/>
                <p:cNvSpPr txBox="1"/>
                <p:nvPr/>
              </p:nvSpPr>
              <p:spPr>
                <a:xfrm>
                  <a:off x="7454880" y="227304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6019920" y="207000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7099200" y="2057400"/>
                  <a:ext cx="40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5181480" y="29718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еши уравнение 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6.2963E-006 L -0.06528 0.00184 L -0.10278 0.00184 E">
                                      <p:cBhvr>
                                        <p:cTn id="244" dur="2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0.41805 -0.15069 L 0.52222 -0.26481 E">
                                      <p:cBhvr>
                                        <p:cTn id="248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0.5625 -0.43125 L 0.6125 -0.54792 E">
                                      <p:cBhvr>
                                        <p:cTn id="285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76528 -0.32963 L 0.80556 -0.4118 E">
                                      <p:cBhvr>
                                        <p:cTn id="289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1422360" y="3809880"/>
            <a:ext cx="1295280" cy="699120"/>
            <a:chOff x="1422360" y="3809880"/>
            <a:chExt cx="1295280" cy="699120"/>
          </a:xfrm>
        </p:grpSpPr>
        <p:grpSp>
          <p:nvGrpSpPr>
            <p:cNvPr id="184" name=""/>
            <p:cNvGrpSpPr/>
            <p:nvPr/>
          </p:nvGrpSpPr>
          <p:grpSpPr>
            <a:xfrm>
              <a:off x="1422360" y="3809880"/>
              <a:ext cx="635040" cy="686520"/>
              <a:chOff x="1422360" y="3809880"/>
              <a:chExt cx="635040" cy="686520"/>
            </a:xfrm>
          </p:grpSpPr>
          <p:sp>
            <p:nvSpPr>
              <p:cNvPr id="185" name=""/>
              <p:cNvSpPr/>
              <p:nvPr/>
            </p:nvSpPr>
            <p:spPr>
              <a:xfrm>
                <a:off x="152568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22360" y="406728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-4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454040" y="4156200"/>
                <a:ext cx="476280" cy="144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2260440" y="3809880"/>
              <a:ext cx="457200" cy="699120"/>
              <a:chOff x="2260440" y="3809880"/>
              <a:chExt cx="457200" cy="699120"/>
            </a:xfrm>
          </p:grpSpPr>
          <p:sp>
            <p:nvSpPr>
              <p:cNvPr id="189" name=""/>
              <p:cNvSpPr/>
              <p:nvPr/>
            </p:nvSpPr>
            <p:spPr>
              <a:xfrm>
                <a:off x="227484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260440" y="407988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11200" y="41688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1942920" y="393696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5105520" y="1600200"/>
            <a:ext cx="382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новом столбике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разить производительность (скорость)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боту :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5520" y="4952880"/>
            <a:ext cx="433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600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вый столбик – время, необходимое на выполнение работы каждой бригадой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5520" y="160020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другой столбик внесем выполненную работу – это 1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37800" y="63360"/>
            <a:ext cx="9067320" cy="6705360"/>
            <a:chOff x="37800" y="63360"/>
            <a:chExt cx="9067320" cy="6705360"/>
          </a:xfrm>
        </p:grpSpPr>
        <p:sp>
          <p:nvSpPr>
            <p:cNvPr id="198" name=""/>
            <p:cNvSpPr/>
            <p:nvPr/>
          </p:nvSpPr>
          <p:spPr>
            <a:xfrm>
              <a:off x="507600" y="907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7560" y="67550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065160" y="5277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1440" y="5277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440" y="62773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8648640" y="62632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rot="16200000">
              <a:off x="863064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5400000">
              <a:off x="4680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104840" y="2362320"/>
            <a:ext cx="3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90720" y="297180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- 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80880" y="1674720"/>
            <a:ext cx="4610160" cy="1828800"/>
            <a:chOff x="380880" y="1674720"/>
            <a:chExt cx="4610160" cy="1828800"/>
          </a:xfrm>
        </p:grpSpPr>
        <p:sp>
          <p:nvSpPr>
            <p:cNvPr id="209" name=""/>
            <p:cNvSpPr/>
            <p:nvPr/>
          </p:nvSpPr>
          <p:spPr>
            <a:xfrm>
              <a:off x="449280" y="23590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1280" y="29685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80880" y="1674720"/>
              <a:ext cx="4610160" cy="1828800"/>
              <a:chOff x="380880" y="1674720"/>
              <a:chExt cx="4610160" cy="1828800"/>
            </a:xfrm>
          </p:grpSpPr>
          <p:grpSp>
            <p:nvGrpSpPr>
              <p:cNvPr id="212" name=""/>
              <p:cNvGrpSpPr/>
              <p:nvPr/>
            </p:nvGrpSpPr>
            <p:grpSpPr>
              <a:xfrm>
                <a:off x="380880" y="2208240"/>
                <a:ext cx="4610160" cy="640800"/>
                <a:chOff x="380880" y="2208240"/>
                <a:chExt cx="4610160" cy="6408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80880" y="2208240"/>
                  <a:ext cx="4610160" cy="39240"/>
                </a:xfrm>
                <a:custGeom>
                  <a:avLst/>
                  <a:gdLst/>
                  <a:ahLst/>
                  <a:rect l="l" t="t" r="r" b="b"/>
                  <a:pathLst>
                    <a:path w="4881" h="25">
                      <a:moveTo>
                        <a:pt x="0" y="25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80880" y="2796840"/>
                  <a:ext cx="4610160" cy="52200"/>
                </a:xfrm>
                <a:custGeom>
                  <a:avLst/>
                  <a:gdLst/>
                  <a:ahLst/>
                  <a:rect l="l" t="t" r="r" b="b"/>
                  <a:pathLst>
                    <a:path w="4881" h="33">
                      <a:moveTo>
                        <a:pt x="0" y="33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841680" y="1674720"/>
                <a:ext cx="6840" cy="1828800"/>
              </a:xfrm>
              <a:custGeom>
                <a:avLst/>
                <a:gdLst/>
                <a:ahLst/>
                <a:rect l="l" t="t" r="r" b="b"/>
                <a:pathLst>
                  <a:path w="5" h="1162">
                    <a:moveTo>
                      <a:pt x="5" y="0"/>
                    </a:moveTo>
                    <a:lnTo>
                      <a:pt x="0" y="11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80880" y="1676520"/>
            <a:ext cx="4610160" cy="1852560"/>
          </a:xfrm>
          <a:custGeom>
            <a:avLst/>
            <a:gdLst/>
            <a:ahLst/>
            <a:rect l="l" t="t" r="r" b="b"/>
            <a:pathLst>
              <a:path w="4805" h="1503">
                <a:moveTo>
                  <a:pt x="0" y="0"/>
                </a:moveTo>
                <a:lnTo>
                  <a:pt x="4797" y="7"/>
                </a:lnTo>
                <a:lnTo>
                  <a:pt x="4805" y="1464"/>
                </a:lnTo>
                <a:lnTo>
                  <a:pt x="0" y="1503"/>
                </a:lnTo>
                <a:lnTo>
                  <a:pt x="6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249280" y="2362320"/>
            <a:ext cx="349200" cy="1051200"/>
            <a:chOff x="2249280" y="2362320"/>
            <a:chExt cx="349200" cy="1051200"/>
          </a:xfrm>
        </p:grpSpPr>
        <p:sp>
          <p:nvSpPr>
            <p:cNvPr id="218" name=""/>
            <p:cNvSpPr/>
            <p:nvPr/>
          </p:nvSpPr>
          <p:spPr>
            <a:xfrm>
              <a:off x="2262240" y="23623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249280" y="29844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695760" y="2184480"/>
            <a:ext cx="635040" cy="686160"/>
            <a:chOff x="3695760" y="2184480"/>
            <a:chExt cx="635040" cy="686160"/>
          </a:xfrm>
        </p:grpSpPr>
        <p:sp>
          <p:nvSpPr>
            <p:cNvPr id="221" name=""/>
            <p:cNvSpPr/>
            <p:nvPr/>
          </p:nvSpPr>
          <p:spPr>
            <a:xfrm>
              <a:off x="3799080" y="21844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95760" y="244152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27440" y="2530440"/>
              <a:ext cx="476280" cy="1080"/>
            </a:xfrm>
            <a:custGeom>
              <a:avLst/>
              <a:gdLst/>
              <a:ahLst/>
              <a:rect l="l" t="t" r="r" b="b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228600" y="15228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дна из дорожных бригад может заасфальтировать некоторый участок дороги на 4 ч быстрее, чем другая. За сколько часов может заасфальтировать  участок каждая бригада, если известно, что за 24 ч совместной работы они заасфальтировали 5 таких участков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7080" y="165240"/>
            <a:ext cx="8204040" cy="672840"/>
          </a:xfrm>
          <a:custGeom>
            <a:avLst/>
            <a:gdLst/>
            <a:ahLst/>
            <a:rect l="l" t="t" r="r" b="b"/>
            <a:pathLst>
              <a:path w="5168" h="424">
                <a:moveTo>
                  <a:pt x="272" y="16"/>
                </a:moveTo>
                <a:lnTo>
                  <a:pt x="5054" y="0"/>
                </a:lnTo>
                <a:lnTo>
                  <a:pt x="5168" y="216"/>
                </a:lnTo>
                <a:lnTo>
                  <a:pt x="3288" y="224"/>
                </a:lnTo>
                <a:lnTo>
                  <a:pt x="3392" y="408"/>
                </a:lnTo>
                <a:lnTo>
                  <a:pt x="80" y="424"/>
                </a:lnTo>
                <a:lnTo>
                  <a:pt x="0" y="224"/>
                </a:lnTo>
                <a:lnTo>
                  <a:pt x="368" y="224"/>
                </a:lnTo>
                <a:lnTo>
                  <a:pt x="272" y="32"/>
                </a:lnTo>
                <a:lnTo>
                  <a:pt x="272" y="16"/>
                </a:lnTo>
                <a:close/>
              </a:path>
            </a:pathLst>
          </a:custGeom>
          <a:gradFill rotWithShape="0">
            <a:gsLst>
              <a:gs pos="0">
                <a:srgbClr val="ff99ff">
                  <a:alpha val="18039"/>
                </a:srgbClr>
              </a:gs>
              <a:gs pos="50000">
                <a:srgbClr val="ff0000">
                  <a:alpha val="31372"/>
                </a:srgbClr>
              </a:gs>
              <a:gs pos="100000">
                <a:srgbClr val="ff99ff">
                  <a:alpha val="18039"/>
                </a:srgbClr>
              </a:gs>
            </a:gsLst>
            <a:lin ang="8100000"/>
          </a:gradFill>
          <a:ln w="9360">
            <a:solidFill>
              <a:srgbClr val="ff00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896920" y="411480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820960" y="502920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20960" y="594360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962520" y="5410080"/>
            <a:ext cx="4294080" cy="672840"/>
            <a:chOff x="3962520" y="5410080"/>
            <a:chExt cx="4294080" cy="672840"/>
          </a:xfrm>
        </p:grpSpPr>
        <p:sp>
          <p:nvSpPr>
            <p:cNvPr id="230" name=""/>
            <p:cNvSpPr/>
            <p:nvPr/>
          </p:nvSpPr>
          <p:spPr>
            <a:xfrm>
              <a:off x="3962520" y="541008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а  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 помож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м составить уравн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924680" y="575460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94000" y="55623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4114800" y="3429000"/>
            <a:ext cx="4294080" cy="672840"/>
            <a:chOff x="4114800" y="3429000"/>
            <a:chExt cx="4294080" cy="672840"/>
          </a:xfrm>
        </p:grpSpPr>
        <p:sp>
          <p:nvSpPr>
            <p:cNvPr id="234" name=""/>
            <p:cNvSpPr/>
            <p:nvPr/>
          </p:nvSpPr>
          <p:spPr>
            <a:xfrm>
              <a:off x="4114800" y="342900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корость совместной работы находим сложением скор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76960" y="377352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946280" y="35812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886200" y="4419720"/>
            <a:ext cx="4294080" cy="672840"/>
            <a:chOff x="3886200" y="4419720"/>
            <a:chExt cx="4294080" cy="672840"/>
          </a:xfrm>
        </p:grpSpPr>
        <p:sp>
          <p:nvSpPr>
            <p:cNvPr id="238" name=""/>
            <p:cNvSpPr/>
            <p:nvPr/>
          </p:nvSpPr>
          <p:spPr>
            <a:xfrm>
              <a:off x="3886200" y="441972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а 24ч заасфальтировали 5 участков, т.е. работа составляет 5 ча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48360" y="476424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17680" y="45720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76040" y="2556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Это условие поможет ввести  х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3416400" y="1638360"/>
            <a:ext cx="1378440" cy="549000"/>
            <a:chOff x="3416400" y="1638360"/>
            <a:chExt cx="1378440" cy="549000"/>
          </a:xfrm>
        </p:grpSpPr>
        <p:sp>
          <p:nvSpPr>
            <p:cNvPr id="243" name=""/>
            <p:cNvSpPr/>
            <p:nvPr/>
          </p:nvSpPr>
          <p:spPr>
            <a:xfrm>
              <a:off x="3542760" y="1774800"/>
              <a:ext cx="12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80000"/>
                  </a:solidFill>
                  <a:latin typeface="Arial"/>
                </a:rPr>
                <a:t>, часть/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16400" y="163836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1828800" y="1663560"/>
            <a:ext cx="1486080" cy="1839960"/>
            <a:chOff x="1828800" y="1663560"/>
            <a:chExt cx="1486080" cy="1839960"/>
          </a:xfrm>
        </p:grpSpPr>
        <p:sp>
          <p:nvSpPr>
            <p:cNvPr id="246" name=""/>
            <p:cNvSpPr/>
            <p:nvPr/>
          </p:nvSpPr>
          <p:spPr>
            <a:xfrm>
              <a:off x="1828800" y="1674720"/>
              <a:ext cx="468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309840" y="1674720"/>
              <a:ext cx="504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42920" y="1663560"/>
              <a:ext cx="1262880" cy="549720"/>
              <a:chOff x="1942920" y="1663560"/>
              <a:chExt cx="1262880" cy="549720"/>
            </a:xfrm>
          </p:grpSpPr>
          <p:sp>
            <p:nvSpPr>
              <p:cNvPr id="249" name=""/>
              <p:cNvSpPr/>
              <p:nvPr/>
            </p:nvSpPr>
            <p:spPr>
              <a:xfrm>
                <a:off x="2171520" y="1814400"/>
                <a:ext cx="10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80000"/>
                    </a:solidFill>
                    <a:latin typeface="Arial"/>
                  </a:rPr>
                  <a:t>, 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42920" y="166356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1" name=""/>
          <p:cNvGrpSpPr/>
          <p:nvPr/>
        </p:nvGrpSpPr>
        <p:grpSpPr>
          <a:xfrm>
            <a:off x="1079640" y="1676520"/>
            <a:ext cx="531360" cy="562320"/>
            <a:chOff x="1079640" y="1676520"/>
            <a:chExt cx="531360" cy="562320"/>
          </a:xfrm>
        </p:grpSpPr>
        <p:sp>
          <p:nvSpPr>
            <p:cNvPr id="252" name=""/>
            <p:cNvSpPr/>
            <p:nvPr/>
          </p:nvSpPr>
          <p:spPr>
            <a:xfrm>
              <a:off x="1142280" y="18399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80000"/>
                  </a:solidFill>
                  <a:latin typeface="Arial"/>
                </a:rPr>
                <a:t>, 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079640" y="16765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3645000" y="2790720"/>
            <a:ext cx="761760" cy="724320"/>
            <a:chOff x="3645000" y="2790720"/>
            <a:chExt cx="761760" cy="724320"/>
          </a:xfrm>
        </p:grpSpPr>
        <p:sp>
          <p:nvSpPr>
            <p:cNvPr id="255" name=""/>
            <p:cNvSpPr/>
            <p:nvPr/>
          </p:nvSpPr>
          <p:spPr>
            <a:xfrm>
              <a:off x="3645000" y="3085920"/>
              <a:ext cx="76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- 4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86120" y="27907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46520" y="3149640"/>
              <a:ext cx="48276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7391160" y="2209680"/>
            <a:ext cx="1418400" cy="1517040"/>
            <a:chOff x="7391160" y="2209680"/>
            <a:chExt cx="1418400" cy="1517040"/>
          </a:xfrm>
        </p:grpSpPr>
        <p:sp>
          <p:nvSpPr>
            <p:cNvPr id="259" name=""/>
            <p:cNvSpPr/>
            <p:nvPr/>
          </p:nvSpPr>
          <p:spPr>
            <a:xfrm>
              <a:off x="8266320" y="2959200"/>
              <a:ext cx="4572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394480" y="290340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351640" y="2209680"/>
              <a:ext cx="457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391160" y="253044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711200" y="246204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97600" y="3809880"/>
            <a:ext cx="2119680" cy="699120"/>
            <a:chOff x="597600" y="3809880"/>
            <a:chExt cx="2119680" cy="699120"/>
          </a:xfrm>
        </p:grpSpPr>
        <p:grpSp>
          <p:nvGrpSpPr>
            <p:cNvPr id="265" name=""/>
            <p:cNvGrpSpPr/>
            <p:nvPr/>
          </p:nvGrpSpPr>
          <p:grpSpPr>
            <a:xfrm>
              <a:off x="1422000" y="3809880"/>
              <a:ext cx="634680" cy="686160"/>
              <a:chOff x="1422000" y="3809880"/>
              <a:chExt cx="634680" cy="686160"/>
            </a:xfrm>
          </p:grpSpPr>
          <p:sp>
            <p:nvSpPr>
              <p:cNvPr id="266" name=""/>
              <p:cNvSpPr/>
              <p:nvPr/>
            </p:nvSpPr>
            <p:spPr>
              <a:xfrm>
                <a:off x="152460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422000" y="4066920"/>
                <a:ext cx="634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-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453320" y="4155840"/>
                <a:ext cx="475920" cy="108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2260440" y="3809880"/>
              <a:ext cx="456840" cy="699120"/>
              <a:chOff x="2260440" y="3809880"/>
              <a:chExt cx="456840" cy="699120"/>
            </a:xfrm>
          </p:grpSpPr>
          <p:sp>
            <p:nvSpPr>
              <p:cNvPr id="270" name=""/>
              <p:cNvSpPr/>
              <p:nvPr/>
            </p:nvSpPr>
            <p:spPr>
              <a:xfrm>
                <a:off x="2274120" y="3809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260440" y="4079880"/>
                <a:ext cx="456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310840" y="4168800"/>
                <a:ext cx="29160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1942920" y="3936600"/>
              <a:ext cx="304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97600" y="3809880"/>
              <a:ext cx="759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совм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56480" y="4800600"/>
            <a:ext cx="852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56480" y="5715000"/>
            <a:ext cx="505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t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3600" y="5834160"/>
            <a:ext cx="49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01800" y="5834160"/>
            <a:ext cx="533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6019920" y="2057400"/>
            <a:ext cx="1657080" cy="546120"/>
            <a:chOff x="6019920" y="2057400"/>
            <a:chExt cx="1657080" cy="546120"/>
          </a:xfrm>
        </p:grpSpPr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7454880" y="227304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1" name=""/>
                <p:cNvSpPr txBox="1"/>
                <p:nvPr/>
              </p:nvSpPr>
              <p:spPr>
                <a:xfrm>
                  <a:off x="6019920" y="207000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82" name=""/>
                <p:cNvSpPr txBox="1"/>
                <p:nvPr/>
              </p:nvSpPr>
              <p:spPr>
                <a:xfrm>
                  <a:off x="7099200" y="2057400"/>
                  <a:ext cx="40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3" name=""/>
          <p:cNvSpPr/>
          <p:nvPr/>
        </p:nvSpPr>
        <p:spPr>
          <a:xfrm>
            <a:off x="6019920" y="1117440"/>
            <a:ext cx="304560" cy="330480"/>
          </a:xfrm>
          <a:custGeom>
            <a:avLst/>
            <a:gdLst/>
            <a:ahLst/>
            <a:rect l="l" t="t" r="r" b="b"/>
            <a:pathLst>
              <a:path w="560" h="208">
                <a:moveTo>
                  <a:pt x="0" y="0"/>
                </a:moveTo>
                <a:lnTo>
                  <a:pt x="510" y="8"/>
                </a:lnTo>
                <a:lnTo>
                  <a:pt x="560" y="208"/>
                </a:lnTo>
                <a:lnTo>
                  <a:pt x="47" y="200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18039"/>
                </a:srgbClr>
              </a:gs>
              <a:gs pos="50000">
                <a:srgbClr val="0000ff">
                  <a:alpha val="31372"/>
                </a:srgbClr>
              </a:gs>
              <a:gs pos="100000">
                <a:srgbClr val="3399ff">
                  <a:alpha val="18039"/>
                </a:srgbClr>
              </a:gs>
            </a:gsLst>
            <a:lin ang="8100000"/>
          </a:gra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1066680"/>
            <a:ext cx="609480" cy="330480"/>
          </a:xfrm>
          <a:custGeom>
            <a:avLst/>
            <a:gdLst/>
            <a:ahLst/>
            <a:rect l="l" t="t" r="r" b="b"/>
            <a:pathLst>
              <a:path w="560" h="208">
                <a:moveTo>
                  <a:pt x="0" y="0"/>
                </a:moveTo>
                <a:lnTo>
                  <a:pt x="510" y="8"/>
                </a:lnTo>
                <a:lnTo>
                  <a:pt x="560" y="208"/>
                </a:lnTo>
                <a:lnTo>
                  <a:pt x="47" y="200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18039"/>
                </a:srgbClr>
              </a:gs>
              <a:gs pos="50000">
                <a:srgbClr val="0000ff">
                  <a:alpha val="31372"/>
                </a:srgbClr>
              </a:gs>
              <a:gs pos="100000">
                <a:srgbClr val="3399ff">
                  <a:alpha val="18039"/>
                </a:srgbClr>
              </a:gs>
            </a:gsLst>
            <a:lin ang="8100000"/>
          </a:gra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181480" y="29718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еши уравнение 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4000"/>
                            </p:stCondLst>
                            <p:childTnLst>
                              <p:par>
                                <p:cTn id="4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300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0 L 0.41805 -0.15069 L 0.52222 -0.26481 E">
                                      <p:cBhvr>
                                        <p:cTn id="567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2.96296E-006 L 0.72222 -0.47407 L 0.72916 -0.54097 E">
                                      <p:cBhvr>
                                        <p:cTn id="587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59259E-006 L 0.76511 -0.32963 L 0.78334 -0.4044 E">
                                      <p:cBhvr>
                                        <p:cTn id="591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9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0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15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0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21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62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5105520" y="1600200"/>
            <a:ext cx="382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новом столбике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разить производительность (скорость)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боту :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105520" y="16002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вый столбик – время, необходимое на заполнение бассейна каждой труб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160020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другой столбик внесем выполненную работ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то 1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37800" y="63360"/>
            <a:ext cx="9067320" cy="6705360"/>
            <a:chOff x="37800" y="63360"/>
            <a:chExt cx="9067320" cy="6705360"/>
          </a:xfrm>
        </p:grpSpPr>
        <p:sp>
          <p:nvSpPr>
            <p:cNvPr id="290" name=""/>
            <p:cNvSpPr/>
            <p:nvPr/>
          </p:nvSpPr>
          <p:spPr>
            <a:xfrm>
              <a:off x="507600" y="907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7560" y="67550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065160" y="5277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1440" y="5277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1440" y="62773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648640" y="62632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 rot="16200000">
              <a:off x="863064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5400000">
              <a:off x="4680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143000" y="3048120"/>
            <a:ext cx="3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2362320"/>
            <a:ext cx="761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-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80880" y="1674720"/>
            <a:ext cx="4610160" cy="1828800"/>
            <a:chOff x="380880" y="1674720"/>
            <a:chExt cx="4610160" cy="1828800"/>
          </a:xfrm>
        </p:grpSpPr>
        <p:sp>
          <p:nvSpPr>
            <p:cNvPr id="301" name=""/>
            <p:cNvSpPr/>
            <p:nvPr/>
          </p:nvSpPr>
          <p:spPr>
            <a:xfrm>
              <a:off x="449280" y="23590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1280" y="29685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80880" y="1674720"/>
              <a:ext cx="4610160" cy="1828800"/>
              <a:chOff x="380880" y="1674720"/>
              <a:chExt cx="4610160" cy="1828800"/>
            </a:xfrm>
          </p:grpSpPr>
          <p:grpSp>
            <p:nvGrpSpPr>
              <p:cNvPr id="304" name=""/>
              <p:cNvGrpSpPr/>
              <p:nvPr/>
            </p:nvGrpSpPr>
            <p:grpSpPr>
              <a:xfrm>
                <a:off x="380880" y="2208240"/>
                <a:ext cx="4610160" cy="640800"/>
                <a:chOff x="380880" y="2208240"/>
                <a:chExt cx="4610160" cy="64080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80880" y="2208240"/>
                  <a:ext cx="4610160" cy="39240"/>
                </a:xfrm>
                <a:custGeom>
                  <a:avLst/>
                  <a:gdLst/>
                  <a:ahLst/>
                  <a:rect l="l" t="t" r="r" b="b"/>
                  <a:pathLst>
                    <a:path w="4881" h="25">
                      <a:moveTo>
                        <a:pt x="0" y="25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0880" y="2796840"/>
                  <a:ext cx="4610160" cy="52200"/>
                </a:xfrm>
                <a:custGeom>
                  <a:avLst/>
                  <a:gdLst/>
                  <a:ahLst/>
                  <a:rect l="l" t="t" r="r" b="b"/>
                  <a:pathLst>
                    <a:path w="4881" h="33">
                      <a:moveTo>
                        <a:pt x="0" y="33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"/>
              <p:cNvSpPr/>
              <p:nvPr/>
            </p:nvSpPr>
            <p:spPr>
              <a:xfrm>
                <a:off x="841680" y="1674720"/>
                <a:ext cx="6840" cy="1828800"/>
              </a:xfrm>
              <a:custGeom>
                <a:avLst/>
                <a:gdLst/>
                <a:ahLst/>
                <a:rect l="l" t="t" r="r" b="b"/>
                <a:pathLst>
                  <a:path w="5" h="1162">
                    <a:moveTo>
                      <a:pt x="5" y="0"/>
                    </a:moveTo>
                    <a:lnTo>
                      <a:pt x="0" y="11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380880" y="1676520"/>
            <a:ext cx="4610160" cy="1852560"/>
          </a:xfrm>
          <a:custGeom>
            <a:avLst/>
            <a:gdLst/>
            <a:ahLst/>
            <a:rect l="l" t="t" r="r" b="b"/>
            <a:pathLst>
              <a:path w="4805" h="1503">
                <a:moveTo>
                  <a:pt x="0" y="0"/>
                </a:moveTo>
                <a:lnTo>
                  <a:pt x="4797" y="7"/>
                </a:lnTo>
                <a:lnTo>
                  <a:pt x="4805" y="1464"/>
                </a:lnTo>
                <a:lnTo>
                  <a:pt x="0" y="1503"/>
                </a:lnTo>
                <a:lnTo>
                  <a:pt x="6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249280" y="2362320"/>
            <a:ext cx="349200" cy="1051200"/>
            <a:chOff x="2249280" y="2362320"/>
            <a:chExt cx="349200" cy="1051200"/>
          </a:xfrm>
        </p:grpSpPr>
        <p:sp>
          <p:nvSpPr>
            <p:cNvPr id="310" name=""/>
            <p:cNvSpPr/>
            <p:nvPr/>
          </p:nvSpPr>
          <p:spPr>
            <a:xfrm>
              <a:off x="2262240" y="23623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49280" y="29844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3657600" y="2819520"/>
            <a:ext cx="635040" cy="686160"/>
            <a:chOff x="3657600" y="2819520"/>
            <a:chExt cx="635040" cy="686160"/>
          </a:xfrm>
        </p:grpSpPr>
        <p:sp>
          <p:nvSpPr>
            <p:cNvPr id="313" name=""/>
            <p:cNvSpPr/>
            <p:nvPr/>
          </p:nvSpPr>
          <p:spPr>
            <a:xfrm>
              <a:off x="3760920" y="28195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57600" y="307656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89280" y="3165480"/>
              <a:ext cx="476280" cy="1080"/>
            </a:xfrm>
            <a:custGeom>
              <a:avLst/>
              <a:gdLst/>
              <a:ahLst/>
              <a:rect l="l" t="t" r="r" b="b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228600" y="152280"/>
            <a:ext cx="8305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Бассейн наполняется через первую трубу на 5 ч быстрее, чем через вторую. Бассейн можно наполнить, если открыть сначала первую трубу на 5 ч, а затем вторую на 7,5 ч. За сколько часов наполнится бассейн при совместной работе обеих труб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52280" y="152280"/>
            <a:ext cx="8420400" cy="685800"/>
          </a:xfrm>
          <a:custGeom>
            <a:avLst/>
            <a:gdLst/>
            <a:ahLst/>
            <a:rect l="l" t="t" r="r" b="b"/>
            <a:pathLst>
              <a:path w="5304" h="432">
                <a:moveTo>
                  <a:pt x="408" y="16"/>
                </a:moveTo>
                <a:lnTo>
                  <a:pt x="5190" y="0"/>
                </a:lnTo>
                <a:lnTo>
                  <a:pt x="5304" y="216"/>
                </a:lnTo>
                <a:lnTo>
                  <a:pt x="1104" y="224"/>
                </a:lnTo>
                <a:lnTo>
                  <a:pt x="1144" y="416"/>
                </a:lnTo>
                <a:lnTo>
                  <a:pt x="96" y="432"/>
                </a:lnTo>
                <a:lnTo>
                  <a:pt x="0" y="224"/>
                </a:lnTo>
                <a:lnTo>
                  <a:pt x="504" y="224"/>
                </a:lnTo>
                <a:lnTo>
                  <a:pt x="408" y="32"/>
                </a:lnTo>
                <a:lnTo>
                  <a:pt x="408" y="16"/>
                </a:lnTo>
                <a:close/>
              </a:path>
            </a:pathLst>
          </a:custGeom>
          <a:gradFill rotWithShape="0">
            <a:gsLst>
              <a:gs pos="0">
                <a:srgbClr val="ff99ff">
                  <a:alpha val="18039"/>
                </a:srgbClr>
              </a:gs>
              <a:gs pos="50000">
                <a:srgbClr val="ff0000">
                  <a:alpha val="31372"/>
                </a:srgbClr>
              </a:gs>
              <a:gs pos="100000">
                <a:srgbClr val="ff99ff">
                  <a:alpha val="18039"/>
                </a:srgbClr>
              </a:gs>
            </a:gsLst>
            <a:lin ang="8100000"/>
          </a:gradFill>
          <a:ln w="9360">
            <a:solidFill>
              <a:srgbClr val="ff00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354120" y="425916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54120" y="524988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4419720" y="3801960"/>
            <a:ext cx="4294080" cy="672840"/>
            <a:chOff x="4419720" y="3801960"/>
            <a:chExt cx="4294080" cy="672840"/>
          </a:xfrm>
        </p:grpSpPr>
        <p:sp>
          <p:nvSpPr>
            <p:cNvPr id="321" name=""/>
            <p:cNvSpPr/>
            <p:nvPr/>
          </p:nvSpPr>
          <p:spPr>
            <a:xfrm>
              <a:off x="4419720" y="380196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дем работу, которую выполн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труба за 5 ч по формуле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1880" y="414648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251200" y="395424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4419720" y="4792680"/>
            <a:ext cx="4294080" cy="672840"/>
            <a:chOff x="4419720" y="4792680"/>
            <a:chExt cx="4294080" cy="672840"/>
          </a:xfrm>
        </p:grpSpPr>
        <p:sp>
          <p:nvSpPr>
            <p:cNvPr id="325" name=""/>
            <p:cNvSpPr/>
            <p:nvPr/>
          </p:nvSpPr>
          <p:spPr>
            <a:xfrm>
              <a:off x="4419720" y="479268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Найдем работу, которую выполни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труба за 7,5 ч по формуле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81880" y="513720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51200" y="49449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1976040" y="25560"/>
            <a:ext cx="32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Это условие поможет ввести  х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3416400" y="1638360"/>
            <a:ext cx="1378440" cy="549000"/>
            <a:chOff x="3416400" y="1638360"/>
            <a:chExt cx="1378440" cy="549000"/>
          </a:xfrm>
        </p:grpSpPr>
        <p:sp>
          <p:nvSpPr>
            <p:cNvPr id="330" name=""/>
            <p:cNvSpPr/>
            <p:nvPr/>
          </p:nvSpPr>
          <p:spPr>
            <a:xfrm>
              <a:off x="3542760" y="1774800"/>
              <a:ext cx="1252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80000"/>
                  </a:solidFill>
                  <a:latin typeface="Arial"/>
                </a:rPr>
                <a:t>, часть/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16400" y="163836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828800" y="1663560"/>
            <a:ext cx="1486080" cy="1839960"/>
            <a:chOff x="1828800" y="1663560"/>
            <a:chExt cx="1486080" cy="1839960"/>
          </a:xfrm>
        </p:grpSpPr>
        <p:sp>
          <p:nvSpPr>
            <p:cNvPr id="333" name=""/>
            <p:cNvSpPr/>
            <p:nvPr/>
          </p:nvSpPr>
          <p:spPr>
            <a:xfrm>
              <a:off x="1828800" y="1674720"/>
              <a:ext cx="468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09840" y="1674720"/>
              <a:ext cx="504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1942920" y="1663560"/>
              <a:ext cx="1262880" cy="549720"/>
              <a:chOff x="1942920" y="1663560"/>
              <a:chExt cx="1262880" cy="549720"/>
            </a:xfrm>
          </p:grpSpPr>
          <p:sp>
            <p:nvSpPr>
              <p:cNvPr id="336" name=""/>
              <p:cNvSpPr/>
              <p:nvPr/>
            </p:nvSpPr>
            <p:spPr>
              <a:xfrm>
                <a:off x="2171520" y="1814400"/>
                <a:ext cx="10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80000"/>
                    </a:solidFill>
                    <a:latin typeface="Arial"/>
                  </a:rPr>
                  <a:t>, 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42920" y="166356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"/>
          <p:cNvGrpSpPr/>
          <p:nvPr/>
        </p:nvGrpSpPr>
        <p:grpSpPr>
          <a:xfrm>
            <a:off x="1079640" y="1676520"/>
            <a:ext cx="531360" cy="562320"/>
            <a:chOff x="1079640" y="1676520"/>
            <a:chExt cx="531360" cy="562320"/>
          </a:xfrm>
        </p:grpSpPr>
        <p:sp>
          <p:nvSpPr>
            <p:cNvPr id="339" name=""/>
            <p:cNvSpPr/>
            <p:nvPr/>
          </p:nvSpPr>
          <p:spPr>
            <a:xfrm>
              <a:off x="1142280" y="183996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80000"/>
                  </a:solidFill>
                  <a:latin typeface="Arial"/>
                </a:rPr>
                <a:t>, 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79640" y="16765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581280" y="2158920"/>
            <a:ext cx="761760" cy="724320"/>
            <a:chOff x="3581280" y="2158920"/>
            <a:chExt cx="761760" cy="724320"/>
          </a:xfrm>
        </p:grpSpPr>
        <p:sp>
          <p:nvSpPr>
            <p:cNvPr id="342" name=""/>
            <p:cNvSpPr/>
            <p:nvPr/>
          </p:nvSpPr>
          <p:spPr>
            <a:xfrm>
              <a:off x="3581280" y="2454120"/>
              <a:ext cx="76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- 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22400" y="21589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82800" y="2517840"/>
              <a:ext cx="48276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391160" y="2209680"/>
            <a:ext cx="1418400" cy="1517040"/>
            <a:chOff x="7391160" y="2209680"/>
            <a:chExt cx="1418400" cy="1517040"/>
          </a:xfrm>
        </p:grpSpPr>
        <p:sp>
          <p:nvSpPr>
            <p:cNvPr id="346" name=""/>
            <p:cNvSpPr/>
            <p:nvPr/>
          </p:nvSpPr>
          <p:spPr>
            <a:xfrm>
              <a:off x="8266320" y="2959200"/>
              <a:ext cx="4572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394480" y="290340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51640" y="2209680"/>
              <a:ext cx="457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391160" y="253044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11200" y="246204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157400" y="5122800"/>
            <a:ext cx="569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,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866960" y="5288040"/>
            <a:ext cx="457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16200" y="5351400"/>
            <a:ext cx="444240" cy="3240"/>
          </a:xfrm>
          <a:custGeom>
            <a:avLst/>
            <a:gdLst/>
            <a:ahLst/>
            <a:rect l="l" t="t" r="r" b="b"/>
            <a:pathLst>
              <a:path w="280" h="2">
                <a:moveTo>
                  <a:pt x="0" y="2"/>
                </a:move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8920" y="4043520"/>
            <a:ext cx="5680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ru-RU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62960" y="5021280"/>
            <a:ext cx="686880" cy="5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60440" y="800280"/>
            <a:ext cx="304920" cy="330120"/>
          </a:xfrm>
          <a:custGeom>
            <a:avLst/>
            <a:gdLst/>
            <a:ahLst/>
            <a:rect l="l" t="t" r="r" b="b"/>
            <a:pathLst>
              <a:path w="560" h="208">
                <a:moveTo>
                  <a:pt x="0" y="0"/>
                </a:moveTo>
                <a:lnTo>
                  <a:pt x="510" y="8"/>
                </a:lnTo>
                <a:lnTo>
                  <a:pt x="560" y="208"/>
                </a:lnTo>
                <a:lnTo>
                  <a:pt x="47" y="200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18039"/>
                </a:srgbClr>
              </a:gs>
              <a:gs pos="50000">
                <a:srgbClr val="0000ff">
                  <a:alpha val="31372"/>
                </a:srgbClr>
              </a:gs>
              <a:gs pos="100000">
                <a:srgbClr val="3399ff">
                  <a:alpha val="18039"/>
                </a:srgbClr>
              </a:gs>
            </a:gsLst>
            <a:lin ang="8100000"/>
          </a:gra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991040" y="800280"/>
            <a:ext cx="609840" cy="330120"/>
          </a:xfrm>
          <a:custGeom>
            <a:avLst/>
            <a:gdLst/>
            <a:ahLst/>
            <a:rect l="l" t="t" r="r" b="b"/>
            <a:pathLst>
              <a:path w="560" h="208">
                <a:moveTo>
                  <a:pt x="0" y="0"/>
                </a:moveTo>
                <a:lnTo>
                  <a:pt x="510" y="8"/>
                </a:lnTo>
                <a:lnTo>
                  <a:pt x="560" y="208"/>
                </a:lnTo>
                <a:lnTo>
                  <a:pt x="47" y="200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18039"/>
                </a:srgbClr>
              </a:gs>
              <a:gs pos="50000">
                <a:srgbClr val="0000ff">
                  <a:alpha val="31372"/>
                </a:srgbClr>
              </a:gs>
              <a:gs pos="100000">
                <a:srgbClr val="3399ff">
                  <a:alpha val="18039"/>
                </a:srgbClr>
              </a:gs>
            </a:gsLst>
            <a:lin ang="8100000"/>
          </a:gra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14600" y="402264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1536840" y="4327560"/>
            <a:ext cx="635040" cy="429120"/>
            <a:chOff x="1536840" y="4327560"/>
            <a:chExt cx="635040" cy="429120"/>
          </a:xfrm>
        </p:grpSpPr>
        <p:sp>
          <p:nvSpPr>
            <p:cNvPr id="360" name=""/>
            <p:cNvSpPr/>
            <p:nvPr/>
          </p:nvSpPr>
          <p:spPr>
            <a:xfrm>
              <a:off x="1536840" y="432756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Arial"/>
                </a:rPr>
                <a:t>х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68520" y="4416480"/>
              <a:ext cx="476280" cy="1440"/>
            </a:xfrm>
            <a:custGeom>
              <a:avLst/>
              <a:gdLst/>
              <a:ahLst/>
              <a:rect l="l" t="t" r="r" b="b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384200" y="4307040"/>
                <a:ext cx="2286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1144800" y="418320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625760" y="4995720"/>
            <a:ext cx="580680" cy="581040"/>
            <a:chOff x="1625760" y="4995720"/>
            <a:chExt cx="580680" cy="581040"/>
          </a:xfrm>
        </p:grpSpPr>
        <p:sp>
          <p:nvSpPr>
            <p:cNvPr id="365" name=""/>
            <p:cNvSpPr/>
            <p:nvPr/>
          </p:nvSpPr>
          <p:spPr>
            <a:xfrm>
              <a:off x="1792440" y="499572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6" name=""/>
                <p:cNvSpPr txBox="1"/>
                <p:nvPr/>
              </p:nvSpPr>
              <p:spPr>
                <a:xfrm>
                  <a:off x="1625760" y="5262480"/>
                  <a:ext cx="228600" cy="31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7" name=""/>
          <p:cNvSpPr/>
          <p:nvPr/>
        </p:nvSpPr>
        <p:spPr>
          <a:xfrm>
            <a:off x="2209680" y="403848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3080" y="46483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0" y="464832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536840" y="4025880"/>
            <a:ext cx="635040" cy="734040"/>
            <a:chOff x="1536840" y="4025880"/>
            <a:chExt cx="635040" cy="734040"/>
          </a:xfrm>
        </p:grpSpPr>
        <p:grpSp>
          <p:nvGrpSpPr>
            <p:cNvPr id="371" name=""/>
            <p:cNvGrpSpPr/>
            <p:nvPr/>
          </p:nvGrpSpPr>
          <p:grpSpPr>
            <a:xfrm>
              <a:off x="1536840" y="4330800"/>
              <a:ext cx="635040" cy="429120"/>
              <a:chOff x="1536840" y="4330800"/>
              <a:chExt cx="635040" cy="429120"/>
            </a:xfrm>
          </p:grpSpPr>
          <p:sp>
            <p:nvSpPr>
              <p:cNvPr id="372" name=""/>
              <p:cNvSpPr/>
              <p:nvPr/>
            </p:nvSpPr>
            <p:spPr>
              <a:xfrm>
                <a:off x="1536840" y="433080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200" spc="-1" strike="noStrike">
                    <a:solidFill>
                      <a:srgbClr val="000000"/>
                    </a:solidFill>
                    <a:latin typeface="Arial"/>
                  </a:rPr>
                  <a:t>х-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568520" y="4419720"/>
                <a:ext cx="476280" cy="144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627560" y="40258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1741680" y="4965840"/>
            <a:ext cx="569880" cy="733680"/>
            <a:chOff x="1741680" y="4965840"/>
            <a:chExt cx="569880" cy="733680"/>
          </a:xfrm>
        </p:grpSpPr>
        <p:sp>
          <p:nvSpPr>
            <p:cNvPr id="376" name=""/>
            <p:cNvSpPr/>
            <p:nvPr/>
          </p:nvSpPr>
          <p:spPr>
            <a:xfrm>
              <a:off x="1854360" y="5270400"/>
              <a:ext cx="4572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741680" y="4965840"/>
              <a:ext cx="5695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7,5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16200" y="5346360"/>
              <a:ext cx="444600" cy="2880"/>
            </a:xfrm>
            <a:custGeom>
              <a:avLst/>
              <a:gdLst/>
              <a:ahLst/>
              <a:rect l="l" t="t" r="r" b="b"/>
              <a:pathLst>
                <a:path w="280" h="2">
                  <a:moveTo>
                    <a:pt x="0" y="2"/>
                  </a:move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6325920" y="2057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181480" y="297180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еши уравнение 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4000"/>
                            </p:stCondLst>
                            <p:childTnLst>
                              <p:par>
                                <p:cTn id="7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0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2500"/>
                            </p:stCondLst>
                            <p:childTnLst>
                              <p:par>
                                <p:cTn id="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300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0.01614 -0.01806 L 0.05364 -0.02361 E">
                                      <p:cBhvr>
                                        <p:cTn id="836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805 0 L 0.04305 0.00185 E">
                                      <p:cBhvr>
                                        <p:cTn id="838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500"/>
                            </p:stCondLst>
                            <p:childTnLst>
                              <p:par>
                                <p:cTn id="8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1000"/>
                            </p:stCondLst>
                            <p:childTnLst>
                              <p:par>
                                <p:cTn id="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500"/>
                            </p:stCondLst>
                            <p:childTnLst>
                              <p:par>
                                <p:cTn id="8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223 -0.02593 L 0.0625 -0.02593 E">
                                      <p:cBhvr>
                                        <p:cTn id="887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222 0.00185 L 0.05139 0.0037 E">
                                      <p:cBhvr>
                                        <p:cTn id="889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0.39306 -0.18889 L 0.46389 -0.3074 E">
                                      <p:cBhvr>
                                        <p:cTn id="915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81481E-006 L 0.48958 -0.32361 L 0.53403 -0.44398 E">
                                      <p:cBhvr>
                                        <p:cTn id="934" dur="2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4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45 -0.2463 L 0.5059 -0.37963 E">
                                      <p:cBhvr>
                                        <p:cTn id="937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fill="hold">
                            <p:stCondLst>
                              <p:cond delay="650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2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943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8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949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4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955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5105520" y="2286000"/>
            <a:ext cx="382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новом столбике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ыразить производительность (скорость) работ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аботу : вре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105520" y="236232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Первый столбик – время, необходимое на выполнение всей работы каждой бригаде отдель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251460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В другой столбик внесем выполненную работ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это 1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7800" y="63360"/>
            <a:ext cx="9067320" cy="6705360"/>
            <a:chOff x="37800" y="63360"/>
            <a:chExt cx="9067320" cy="6705360"/>
          </a:xfrm>
        </p:grpSpPr>
        <p:sp>
          <p:nvSpPr>
            <p:cNvPr id="385" name=""/>
            <p:cNvSpPr/>
            <p:nvPr/>
          </p:nvSpPr>
          <p:spPr>
            <a:xfrm>
              <a:off x="507600" y="907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7560" y="67550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65160" y="5277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1440" y="5277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1440" y="62773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8648640" y="62632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rot="16200000">
              <a:off x="863064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5400000">
              <a:off x="4680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1066680" y="3048120"/>
            <a:ext cx="34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14400" y="3657600"/>
            <a:ext cx="990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х- 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380880" y="2360520"/>
            <a:ext cx="4610160" cy="1828800"/>
            <a:chOff x="380880" y="2360520"/>
            <a:chExt cx="4610160" cy="1828800"/>
          </a:xfrm>
        </p:grpSpPr>
        <p:sp>
          <p:nvSpPr>
            <p:cNvPr id="396" name=""/>
            <p:cNvSpPr/>
            <p:nvPr/>
          </p:nvSpPr>
          <p:spPr>
            <a:xfrm>
              <a:off x="449280" y="3044880"/>
              <a:ext cx="414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1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1280" y="36543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8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380880" y="2360520"/>
              <a:ext cx="4610160" cy="1828800"/>
              <a:chOff x="380880" y="2360520"/>
              <a:chExt cx="4610160" cy="1828800"/>
            </a:xfrm>
          </p:grpSpPr>
          <p:grpSp>
            <p:nvGrpSpPr>
              <p:cNvPr id="399" name=""/>
              <p:cNvGrpSpPr/>
              <p:nvPr/>
            </p:nvGrpSpPr>
            <p:grpSpPr>
              <a:xfrm>
                <a:off x="380880" y="2894040"/>
                <a:ext cx="4610160" cy="640800"/>
                <a:chOff x="380880" y="2894040"/>
                <a:chExt cx="4610160" cy="64080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80880" y="2894040"/>
                  <a:ext cx="4610160" cy="39240"/>
                </a:xfrm>
                <a:custGeom>
                  <a:avLst/>
                  <a:gdLst/>
                  <a:ahLst/>
                  <a:rect l="l" t="t" r="r" b="b"/>
                  <a:pathLst>
                    <a:path w="4881" h="25">
                      <a:moveTo>
                        <a:pt x="0" y="25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80880" y="3482640"/>
                  <a:ext cx="4610160" cy="52200"/>
                </a:xfrm>
                <a:custGeom>
                  <a:avLst/>
                  <a:gdLst/>
                  <a:ahLst/>
                  <a:rect l="l" t="t" r="r" b="b"/>
                  <a:pathLst>
                    <a:path w="4881" h="33">
                      <a:moveTo>
                        <a:pt x="0" y="33"/>
                      </a:moveTo>
                      <a:lnTo>
                        <a:pt x="488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"/>
              <p:cNvSpPr/>
              <p:nvPr/>
            </p:nvSpPr>
            <p:spPr>
              <a:xfrm>
                <a:off x="841680" y="2360520"/>
                <a:ext cx="6840" cy="1828800"/>
              </a:xfrm>
              <a:custGeom>
                <a:avLst/>
                <a:gdLst/>
                <a:ahLst/>
                <a:rect l="l" t="t" r="r" b="b"/>
                <a:pathLst>
                  <a:path w="5" h="1162">
                    <a:moveTo>
                      <a:pt x="5" y="0"/>
                    </a:moveTo>
                    <a:lnTo>
                      <a:pt x="0" y="116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"/>
          <p:cNvSpPr/>
          <p:nvPr/>
        </p:nvSpPr>
        <p:spPr>
          <a:xfrm>
            <a:off x="380880" y="2362320"/>
            <a:ext cx="4610160" cy="1852560"/>
          </a:xfrm>
          <a:custGeom>
            <a:avLst/>
            <a:gdLst/>
            <a:ahLst/>
            <a:rect l="l" t="t" r="r" b="b"/>
            <a:pathLst>
              <a:path w="4805" h="1503">
                <a:moveTo>
                  <a:pt x="0" y="0"/>
                </a:moveTo>
                <a:lnTo>
                  <a:pt x="4797" y="7"/>
                </a:lnTo>
                <a:lnTo>
                  <a:pt x="4805" y="1464"/>
                </a:lnTo>
                <a:lnTo>
                  <a:pt x="0" y="1503"/>
                </a:lnTo>
                <a:lnTo>
                  <a:pt x="6" y="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249280" y="3048120"/>
            <a:ext cx="349200" cy="1051200"/>
            <a:chOff x="2249280" y="3048120"/>
            <a:chExt cx="349200" cy="1051200"/>
          </a:xfrm>
        </p:grpSpPr>
        <p:sp>
          <p:nvSpPr>
            <p:cNvPr id="405" name=""/>
            <p:cNvSpPr/>
            <p:nvPr/>
          </p:nvSpPr>
          <p:spPr>
            <a:xfrm>
              <a:off x="2262240" y="304812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49280" y="367020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3733920" y="2857680"/>
            <a:ext cx="635040" cy="686160"/>
            <a:chOff x="3733920" y="2857680"/>
            <a:chExt cx="635040" cy="686160"/>
          </a:xfrm>
        </p:grpSpPr>
        <p:sp>
          <p:nvSpPr>
            <p:cNvPr id="408" name=""/>
            <p:cNvSpPr/>
            <p:nvPr/>
          </p:nvSpPr>
          <p:spPr>
            <a:xfrm>
              <a:off x="3837240" y="28576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33920" y="3114720"/>
              <a:ext cx="63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765600" y="3203640"/>
              <a:ext cx="476280" cy="1080"/>
            </a:xfrm>
            <a:custGeom>
              <a:avLst/>
              <a:gdLst/>
              <a:ahLst/>
              <a:rect l="l" t="t" r="r" b="b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228600" y="152280"/>
            <a:ext cx="830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строительстве работали две бригады. После 5 дней совместной работы вторую бригаду перевели на другой объект. Оставшуюся часть работы первая бригада закончила через 9 дней. За сколько дней могла бы выполнить всю работу каждая бригада, работая отдельно, если известно, что второй бригаде на выполнение всей работы потребовалось бы на 12 дней меньше, чем одной первой брига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1447920"/>
            <a:ext cx="8039160" cy="888840"/>
          </a:xfrm>
          <a:custGeom>
            <a:avLst/>
            <a:gdLst/>
            <a:ahLst/>
            <a:rect l="l" t="t" r="r" b="b"/>
            <a:pathLst>
              <a:path w="5064" h="560">
                <a:moveTo>
                  <a:pt x="16" y="184"/>
                </a:moveTo>
                <a:lnTo>
                  <a:pt x="3056" y="188"/>
                </a:lnTo>
                <a:lnTo>
                  <a:pt x="2964" y="0"/>
                </a:lnTo>
                <a:lnTo>
                  <a:pt x="4424" y="8"/>
                </a:lnTo>
                <a:lnTo>
                  <a:pt x="4520" y="176"/>
                </a:lnTo>
                <a:lnTo>
                  <a:pt x="4928" y="168"/>
                </a:lnTo>
                <a:lnTo>
                  <a:pt x="5064" y="376"/>
                </a:lnTo>
                <a:lnTo>
                  <a:pt x="2256" y="384"/>
                </a:lnTo>
                <a:lnTo>
                  <a:pt x="2344" y="560"/>
                </a:lnTo>
                <a:lnTo>
                  <a:pt x="144" y="552"/>
                </a:lnTo>
                <a:lnTo>
                  <a:pt x="0" y="184"/>
                </a:lnTo>
                <a:lnTo>
                  <a:pt x="16" y="184"/>
                </a:lnTo>
                <a:close/>
              </a:path>
            </a:pathLst>
          </a:custGeom>
          <a:gradFill rotWithShape="0">
            <a:gsLst>
              <a:gs pos="0">
                <a:srgbClr val="ff99ff">
                  <a:alpha val="18039"/>
                </a:srgbClr>
              </a:gs>
              <a:gs pos="50000">
                <a:srgbClr val="ff0000">
                  <a:alpha val="31372"/>
                </a:srgbClr>
              </a:gs>
              <a:gs pos="100000">
                <a:srgbClr val="ff99ff">
                  <a:alpha val="18039"/>
                </a:srgbClr>
              </a:gs>
            </a:gsLst>
            <a:lin ang="8100000"/>
          </a:gradFill>
          <a:ln w="9360">
            <a:solidFill>
              <a:srgbClr val="ff0000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99120" y="1359000"/>
            <a:ext cx="217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Это услов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поможе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                  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ввести  х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416400" y="2324160"/>
            <a:ext cx="1616400" cy="549000"/>
            <a:chOff x="3416400" y="2324160"/>
            <a:chExt cx="1616400" cy="549000"/>
          </a:xfrm>
        </p:grpSpPr>
        <p:sp>
          <p:nvSpPr>
            <p:cNvPr id="415" name=""/>
            <p:cNvSpPr/>
            <p:nvPr/>
          </p:nvSpPr>
          <p:spPr>
            <a:xfrm>
              <a:off x="3543120" y="2460600"/>
              <a:ext cx="1489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часть/д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16400" y="2324160"/>
              <a:ext cx="20340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1828800" y="2349360"/>
            <a:ext cx="1486080" cy="1839960"/>
            <a:chOff x="1828800" y="2349360"/>
            <a:chExt cx="1486080" cy="1839960"/>
          </a:xfrm>
        </p:grpSpPr>
        <p:sp>
          <p:nvSpPr>
            <p:cNvPr id="418" name=""/>
            <p:cNvSpPr/>
            <p:nvPr/>
          </p:nvSpPr>
          <p:spPr>
            <a:xfrm>
              <a:off x="1828800" y="2360520"/>
              <a:ext cx="468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309840" y="2360520"/>
              <a:ext cx="5040" cy="1828800"/>
            </a:xfrm>
            <a:custGeom>
              <a:avLst/>
              <a:gdLst/>
              <a:ahLst/>
              <a:rect l="l" t="t" r="r" b="b"/>
              <a:pathLst>
                <a:path w="3" h="1162">
                  <a:moveTo>
                    <a:pt x="3" y="0"/>
                  </a:moveTo>
                  <a:lnTo>
                    <a:pt x="0" y="11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" name=""/>
            <p:cNvGrpSpPr/>
            <p:nvPr/>
          </p:nvGrpSpPr>
          <p:grpSpPr>
            <a:xfrm>
              <a:off x="1942920" y="2349360"/>
              <a:ext cx="1262880" cy="549720"/>
              <a:chOff x="1942920" y="2349360"/>
              <a:chExt cx="1262880" cy="549720"/>
            </a:xfrm>
          </p:grpSpPr>
          <p:sp>
            <p:nvSpPr>
              <p:cNvPr id="421" name=""/>
              <p:cNvSpPr/>
              <p:nvPr/>
            </p:nvSpPr>
            <p:spPr>
              <a:xfrm>
                <a:off x="2171520" y="2500200"/>
                <a:ext cx="10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c80000"/>
                    </a:solidFill>
                    <a:latin typeface="Arial"/>
                  </a:rPr>
                  <a:t>, част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42920" y="2349360"/>
                <a:ext cx="30564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600" spc="-1" strike="noStrike">
                    <a:solidFill>
                      <a:srgbClr val="ff0000"/>
                    </a:solidFill>
                    <a:latin typeface="Times New Roman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3" name=""/>
          <p:cNvGrpSpPr/>
          <p:nvPr/>
        </p:nvGrpSpPr>
        <p:grpSpPr>
          <a:xfrm>
            <a:off x="1079640" y="2362320"/>
            <a:ext cx="770040" cy="562320"/>
            <a:chOff x="1079640" y="2362320"/>
            <a:chExt cx="770040" cy="562320"/>
          </a:xfrm>
        </p:grpSpPr>
        <p:sp>
          <p:nvSpPr>
            <p:cNvPr id="424" name=""/>
            <p:cNvSpPr/>
            <p:nvPr/>
          </p:nvSpPr>
          <p:spPr>
            <a:xfrm>
              <a:off x="1143000" y="2525760"/>
              <a:ext cx="70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c80000"/>
                  </a:solidFill>
                  <a:latin typeface="Arial"/>
                </a:rPr>
                <a:t>, дн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079640" y="2362320"/>
              <a:ext cx="12708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657600" y="3479760"/>
            <a:ext cx="761760" cy="724320"/>
            <a:chOff x="3657600" y="3479760"/>
            <a:chExt cx="761760" cy="724320"/>
          </a:xfrm>
        </p:grpSpPr>
        <p:sp>
          <p:nvSpPr>
            <p:cNvPr id="427" name=""/>
            <p:cNvSpPr/>
            <p:nvPr/>
          </p:nvSpPr>
          <p:spPr>
            <a:xfrm>
              <a:off x="3657600" y="3774960"/>
              <a:ext cx="7617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-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798720" y="34797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759120" y="3838680"/>
              <a:ext cx="482760" cy="1440"/>
            </a:xfrm>
            <a:custGeom>
              <a:avLst/>
              <a:gdLst/>
              <a:ahLst/>
              <a:rect l="l" t="t" r="r" b="b"/>
              <a:pathLst>
                <a:path w="304" h="1">
                  <a:moveTo>
                    <a:pt x="0" y="0"/>
                  </a:moveTo>
                  <a:lnTo>
                    <a:pt x="30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391160" y="2895480"/>
            <a:ext cx="1418400" cy="1517040"/>
            <a:chOff x="7391160" y="2895480"/>
            <a:chExt cx="1418400" cy="1517040"/>
          </a:xfrm>
        </p:grpSpPr>
        <p:sp>
          <p:nvSpPr>
            <p:cNvPr id="431" name=""/>
            <p:cNvSpPr/>
            <p:nvPr/>
          </p:nvSpPr>
          <p:spPr>
            <a:xfrm>
              <a:off x="8266320" y="3645000"/>
              <a:ext cx="457200" cy="14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394480" y="3589200"/>
              <a:ext cx="19116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51640" y="2895480"/>
              <a:ext cx="45792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91160" y="3216240"/>
              <a:ext cx="30564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711200" y="3147840"/>
              <a:ext cx="546480" cy="82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ff"/>
                  </a:solidFill>
                  <a:latin typeface="Symbol"/>
                  <a:ea typeface="Symbol"/>
                </a:rPr>
                <a:t>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6642000" y="190440"/>
            <a:ext cx="304920" cy="330120"/>
          </a:xfrm>
          <a:custGeom>
            <a:avLst/>
            <a:gdLst/>
            <a:ahLst/>
            <a:rect l="l" t="t" r="r" b="b"/>
            <a:pathLst>
              <a:path w="560" h="208">
                <a:moveTo>
                  <a:pt x="0" y="0"/>
                </a:moveTo>
                <a:lnTo>
                  <a:pt x="510" y="8"/>
                </a:lnTo>
                <a:lnTo>
                  <a:pt x="560" y="208"/>
                </a:lnTo>
                <a:lnTo>
                  <a:pt x="47" y="200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18039"/>
                </a:srgbClr>
              </a:gs>
              <a:gs pos="50000">
                <a:srgbClr val="0000ff">
                  <a:alpha val="31372"/>
                </a:srgbClr>
              </a:gs>
              <a:gs pos="100000">
                <a:srgbClr val="3399ff">
                  <a:alpha val="18039"/>
                </a:srgbClr>
              </a:gs>
            </a:gsLst>
            <a:lin ang="8100000"/>
          </a:gra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404120" y="787320"/>
            <a:ext cx="304920" cy="330120"/>
          </a:xfrm>
          <a:custGeom>
            <a:avLst/>
            <a:gdLst/>
            <a:ahLst/>
            <a:rect l="l" t="t" r="r" b="b"/>
            <a:pathLst>
              <a:path w="560" h="208">
                <a:moveTo>
                  <a:pt x="0" y="0"/>
                </a:moveTo>
                <a:lnTo>
                  <a:pt x="510" y="8"/>
                </a:lnTo>
                <a:lnTo>
                  <a:pt x="560" y="208"/>
                </a:lnTo>
                <a:lnTo>
                  <a:pt x="47" y="200"/>
                </a:lnTo>
                <a:lnTo>
                  <a:pt x="0" y="1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ff">
                  <a:alpha val="18039"/>
                </a:srgbClr>
              </a:gs>
              <a:gs pos="50000">
                <a:srgbClr val="0000ff">
                  <a:alpha val="31372"/>
                </a:srgbClr>
              </a:gs>
              <a:gs pos="100000">
                <a:srgbClr val="3399ff">
                  <a:alpha val="18039"/>
                </a:srgbClr>
              </a:gs>
            </a:gsLst>
            <a:lin ang="8100000"/>
          </a:gradFill>
          <a:ln w="9360">
            <a:solidFill>
              <a:srgbClr val="0000ff">
                <a:alpha val="1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5029200"/>
            <a:ext cx="304920" cy="167652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972880" y="56386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72880" y="56386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680160" y="165240"/>
            <a:ext cx="169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049560" y="454032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049560" y="541008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20960" y="6400800"/>
            <a:ext cx="9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ff"/>
                </a:solidFill>
                <a:uFillTx/>
                <a:latin typeface="Arial"/>
              </a:rPr>
              <a:t>справ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038480" y="5715000"/>
            <a:ext cx="4294800" cy="672840"/>
            <a:chOff x="4038480" y="5715000"/>
            <a:chExt cx="4294800" cy="672840"/>
          </a:xfrm>
        </p:grpSpPr>
        <p:sp>
          <p:nvSpPr>
            <p:cNvPr id="446" name=""/>
            <p:cNvSpPr/>
            <p:nvPr/>
          </p:nvSpPr>
          <p:spPr>
            <a:xfrm>
              <a:off x="4038480" y="5715000"/>
              <a:ext cx="426744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формуле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найдем работу, выполненную за 9дн. </a:t>
              </a:r>
              <a:r>
                <a:rPr b="1" lang="en-US" sz="18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ригадо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01000" y="6059520"/>
              <a:ext cx="228600" cy="228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70680" y="586728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886200" y="4038480"/>
            <a:ext cx="4294080" cy="672840"/>
            <a:chOff x="3886200" y="4038480"/>
            <a:chExt cx="4294080" cy="672840"/>
          </a:xfrm>
        </p:grpSpPr>
        <p:sp>
          <p:nvSpPr>
            <p:cNvPr id="450" name=""/>
            <p:cNvSpPr/>
            <p:nvPr/>
          </p:nvSpPr>
          <p:spPr>
            <a:xfrm>
              <a:off x="3886200" y="403848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корость совместной работы находим сложением скоросте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360" y="438300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717680" y="419076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962520" y="4876920"/>
            <a:ext cx="4294080" cy="672840"/>
            <a:chOff x="3962520" y="4876920"/>
            <a:chExt cx="4294080" cy="672840"/>
          </a:xfrm>
        </p:grpSpPr>
        <p:sp>
          <p:nvSpPr>
            <p:cNvPr id="454" name=""/>
            <p:cNvSpPr/>
            <p:nvPr/>
          </p:nvSpPr>
          <p:spPr>
            <a:xfrm>
              <a:off x="3962520" y="4876920"/>
              <a:ext cx="4267080" cy="609480"/>
            </a:xfrm>
            <a:prstGeom prst="wedgeRectCallout">
              <a:avLst>
                <a:gd name="adj1" fmla="val -58037"/>
                <a:gd name="adj2" fmla="val 99217"/>
              </a:avLst>
            </a:prstGeom>
            <a:gradFill rotWithShape="0">
              <a:gsLst>
                <a:gs pos="0">
                  <a:srgbClr val="33ccff">
                    <a:alpha val="50196"/>
                  </a:srgbClr>
                </a:gs>
                <a:gs pos="50000">
                  <a:srgbClr val="66ffff">
                    <a:alpha val="38039"/>
                  </a:srgbClr>
                </a:gs>
                <a:gs pos="100000">
                  <a:srgbClr val="33ccff">
                    <a:alpha val="50196"/>
                  </a:srgbClr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о формуле </a:t>
              </a:r>
              <a:r>
                <a:rPr b="1" i="1" lang="en-US" sz="1800" spc="-1" strike="noStrike">
                  <a:solidFill>
                    <a:srgbClr val="ff0000"/>
                  </a:solidFill>
                  <a:latin typeface="Arial"/>
                </a:rPr>
                <a:t>A = vt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 найдем работу, выполненную за 5дн. совместн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924680" y="5221440"/>
              <a:ext cx="228240" cy="228600"/>
            </a:xfrm>
            <a:custGeom>
              <a:avLst/>
              <a:gdLst>
                <a:gd name="textAreaLeft" fmla="*/ 10800 w 228240"/>
                <a:gd name="textAreaRight" fmla="*/ 217440 w 228240"/>
                <a:gd name="textAreaTop" fmla="*/ 10800 h 228600"/>
                <a:gd name="textAreaBottom" fmla="*/ 217800 h 228600"/>
              </a:gdLst>
              <a:ahLst/>
              <a:rect l="textAreaLeft" t="textAreaTop" r="textAreaRight" b="textAreaBottom"/>
              <a:pathLst>
                <a:path w="21600" h="21634">
                  <a:moveTo>
                    <a:pt x="3600" y="0"/>
                  </a:moveTo>
                  <a:arcTo wR="3600" hR="3600" stAng="16200000" swAng="-5400000"/>
                  <a:lnTo>
                    <a:pt x="0" y="18034"/>
                  </a:lnTo>
                  <a:arcTo wR="3600" hR="3600" stAng="10800000" swAng="-5400000"/>
                  <a:lnTo>
                    <a:pt x="18000" y="216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794000" y="5029200"/>
              <a:ext cx="462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93040" y="4254480"/>
            <a:ext cx="2120040" cy="699120"/>
            <a:chOff x="293040" y="4254480"/>
            <a:chExt cx="2120040" cy="699120"/>
          </a:xfrm>
        </p:grpSpPr>
        <p:grpSp>
          <p:nvGrpSpPr>
            <p:cNvPr id="458" name=""/>
            <p:cNvGrpSpPr/>
            <p:nvPr/>
          </p:nvGrpSpPr>
          <p:grpSpPr>
            <a:xfrm>
              <a:off x="1054080" y="4254480"/>
              <a:ext cx="1359000" cy="699120"/>
              <a:chOff x="1054080" y="4254480"/>
              <a:chExt cx="1359000" cy="699120"/>
            </a:xfrm>
          </p:grpSpPr>
          <p:sp>
            <p:nvSpPr>
              <p:cNvPr id="459" name=""/>
              <p:cNvSpPr/>
              <p:nvPr/>
            </p:nvSpPr>
            <p:spPr>
              <a:xfrm>
                <a:off x="1221120" y="42544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054080" y="4524480"/>
                <a:ext cx="863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-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149480" y="4600440"/>
                <a:ext cx="476280" cy="180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1955880" y="4254480"/>
                <a:ext cx="457200" cy="699120"/>
                <a:chOff x="1955880" y="4254480"/>
                <a:chExt cx="457200" cy="6991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970280" y="425448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955880" y="4524480"/>
                  <a:ext cx="4572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006640" y="461340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"/>
              <p:cNvSpPr/>
              <p:nvPr/>
            </p:nvSpPr>
            <p:spPr>
              <a:xfrm>
                <a:off x="1638360" y="4381560"/>
                <a:ext cx="30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>
              <a:off x="293040" y="4254480"/>
              <a:ext cx="759960" cy="56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</a:rPr>
                <a:t>v</a:t>
              </a:r>
              <a:r>
                <a:rPr b="1" lang="ru-RU" sz="2400" spc="-1" strike="noStrike" baseline="-25000">
                  <a:solidFill>
                    <a:srgbClr val="ff0000"/>
                  </a:solidFill>
                  <a:latin typeface="Times New Roman"/>
                </a:rPr>
                <a:t>совм</a:t>
              </a: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228240" y="5181480"/>
            <a:ext cx="597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32080" y="6019920"/>
            <a:ext cx="683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92960" y="736560"/>
            <a:ext cx="336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054080" y="4254480"/>
            <a:ext cx="1359000" cy="699120"/>
            <a:chOff x="1054080" y="4254480"/>
            <a:chExt cx="1359000" cy="699120"/>
          </a:xfrm>
        </p:grpSpPr>
        <p:sp>
          <p:nvSpPr>
            <p:cNvPr id="472" name=""/>
            <p:cNvSpPr/>
            <p:nvPr/>
          </p:nvSpPr>
          <p:spPr>
            <a:xfrm>
              <a:off x="1221120" y="425448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54080" y="4524480"/>
              <a:ext cx="86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-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49480" y="4600440"/>
              <a:ext cx="476280" cy="1800"/>
            </a:xfrm>
            <a:custGeom>
              <a:avLst/>
              <a:gdLst/>
              <a:ahLst/>
              <a:rect l="l" t="t" r="r" b="b"/>
              <a:pathLst>
                <a:path w="300" h="1">
                  <a:moveTo>
                    <a:pt x="0" y="0"/>
                  </a:moveTo>
                  <a:lnTo>
                    <a:pt x="30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1955880" y="4254480"/>
              <a:ext cx="457200" cy="699120"/>
              <a:chOff x="1955880" y="4254480"/>
              <a:chExt cx="457200" cy="699120"/>
            </a:xfrm>
          </p:grpSpPr>
          <p:sp>
            <p:nvSpPr>
              <p:cNvPr id="476" name=""/>
              <p:cNvSpPr/>
              <p:nvPr/>
            </p:nvSpPr>
            <p:spPr>
              <a:xfrm>
                <a:off x="1970280" y="42544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955880" y="4524480"/>
                <a:ext cx="4572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006640" y="4613400"/>
                <a:ext cx="291960" cy="1440"/>
              </a:xfrm>
              <a:custGeom>
                <a:avLst/>
                <a:gdLst/>
                <a:ahLst/>
                <a:rect l="l" t="t" r="r" b="b"/>
                <a:pathLst>
                  <a:path w="184" h="1">
                    <a:moveTo>
                      <a:pt x="0" y="0"/>
                    </a:moveTo>
                    <a:lnTo>
                      <a:pt x="184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638360" y="4381560"/>
              <a:ext cx="304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825480" y="5235480"/>
            <a:ext cx="1657080" cy="546120"/>
            <a:chOff x="825480" y="5235480"/>
            <a:chExt cx="1657080" cy="546120"/>
          </a:xfrm>
        </p:grpSpPr>
        <mc:AlternateContent>
          <mc:Choice xmlns:a14="http://schemas.microsoft.com/office/drawing/2010/main" Requires="a14">
            <p:sp>
              <p:nvSpPr>
                <p:cNvPr id="481" name=""/>
                <p:cNvSpPr txBox="1"/>
                <p:nvPr/>
              </p:nvSpPr>
              <p:spPr>
                <a:xfrm>
                  <a:off x="2260440" y="545112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825480" y="5248080"/>
                  <a:ext cx="40644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83" name=""/>
                <p:cNvSpPr txBox="1"/>
                <p:nvPr/>
              </p:nvSpPr>
              <p:spPr>
                <a:xfrm>
                  <a:off x="1904760" y="5235480"/>
                  <a:ext cx="40824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4" name=""/>
          <p:cNvGrpSpPr/>
          <p:nvPr/>
        </p:nvGrpSpPr>
        <p:grpSpPr>
          <a:xfrm>
            <a:off x="1143000" y="6019920"/>
            <a:ext cx="844560" cy="686160"/>
            <a:chOff x="1143000" y="6019920"/>
            <a:chExt cx="844560" cy="686160"/>
          </a:xfrm>
        </p:grpSpPr>
        <p:grpSp>
          <p:nvGrpSpPr>
            <p:cNvPr id="485" name=""/>
            <p:cNvGrpSpPr/>
            <p:nvPr/>
          </p:nvGrpSpPr>
          <p:grpSpPr>
            <a:xfrm>
              <a:off x="1143000" y="6019920"/>
              <a:ext cx="635040" cy="686160"/>
              <a:chOff x="1143000" y="6019920"/>
              <a:chExt cx="635040" cy="686160"/>
            </a:xfrm>
          </p:grpSpPr>
          <p:sp>
            <p:nvSpPr>
              <p:cNvPr id="486" name=""/>
              <p:cNvSpPr/>
              <p:nvPr/>
            </p:nvSpPr>
            <p:spPr>
              <a:xfrm>
                <a:off x="1246320" y="601992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143000" y="6276960"/>
                <a:ext cx="6350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174680" y="6365880"/>
                <a:ext cx="476280" cy="108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489" name=""/>
                <p:cNvSpPr txBox="1"/>
                <p:nvPr/>
              </p:nvSpPr>
              <p:spPr>
                <a:xfrm>
                  <a:off x="1765440" y="6273720"/>
                  <a:ext cx="22212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0" name=""/>
          <p:cNvGrpSpPr/>
          <p:nvPr/>
        </p:nvGrpSpPr>
        <p:grpSpPr>
          <a:xfrm>
            <a:off x="5029200" y="2666880"/>
            <a:ext cx="2903400" cy="711720"/>
            <a:chOff x="5029200" y="2666880"/>
            <a:chExt cx="2903400" cy="711720"/>
          </a:xfrm>
        </p:grpSpPr>
        <p:sp>
          <p:nvSpPr>
            <p:cNvPr id="491" name=""/>
            <p:cNvSpPr/>
            <p:nvPr/>
          </p:nvSpPr>
          <p:spPr>
            <a:xfrm>
              <a:off x="6808680" y="28191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"/>
            <p:cNvGrpSpPr/>
            <p:nvPr/>
          </p:nvGrpSpPr>
          <p:grpSpPr>
            <a:xfrm>
              <a:off x="5130720" y="2666880"/>
              <a:ext cx="1359000" cy="699120"/>
              <a:chOff x="5130720" y="2666880"/>
              <a:chExt cx="1359000" cy="699120"/>
            </a:xfrm>
          </p:grpSpPr>
          <p:sp>
            <p:nvSpPr>
              <p:cNvPr id="493" name=""/>
              <p:cNvSpPr/>
              <p:nvPr/>
            </p:nvSpPr>
            <p:spPr>
              <a:xfrm>
                <a:off x="5297760" y="2666880"/>
                <a:ext cx="3362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30720" y="2936880"/>
                <a:ext cx="8636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х-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226120" y="3012840"/>
                <a:ext cx="476280" cy="1800"/>
              </a:xfrm>
              <a:custGeom>
                <a:avLst/>
                <a:gdLst/>
                <a:ahLst/>
                <a:rect l="l" t="t" r="r" b="b"/>
                <a:pathLst>
                  <a:path w="300" h="1">
                    <a:moveTo>
                      <a:pt x="0" y="0"/>
                    </a:moveTo>
                    <a:lnTo>
                      <a:pt x="30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6032520" y="2666880"/>
                <a:ext cx="457200" cy="699120"/>
                <a:chOff x="6032520" y="2666880"/>
                <a:chExt cx="457200" cy="69912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6046920" y="2666880"/>
                  <a:ext cx="33624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032520" y="2936880"/>
                  <a:ext cx="4572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х</a:t>
                  </a:r>
                  <a:endParaRPr b="0" lang="en-US" sz="2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6083280" y="3025800"/>
                  <a:ext cx="291960" cy="1440"/>
                </a:xfrm>
                <a:custGeom>
                  <a:avLst/>
                  <a:gdLst/>
                  <a:ahLst/>
                  <a:rect l="l" t="t" r="r" b="b"/>
                  <a:pathLst>
                    <a:path w="184" h="1">
                      <a:moveTo>
                        <a:pt x="0" y="0"/>
                      </a:moveTo>
                      <a:lnTo>
                        <a:pt x="184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0" name=""/>
              <p:cNvSpPr/>
              <p:nvPr/>
            </p:nvSpPr>
            <p:spPr>
              <a:xfrm>
                <a:off x="5715000" y="2793960"/>
                <a:ext cx="3049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5029200" y="2781360"/>
              <a:ext cx="1657080" cy="545400"/>
              <a:chOff x="5029200" y="2781360"/>
              <a:chExt cx="1657080" cy="545400"/>
            </a:xfrm>
          </p:grpSpPr>
          <mc:AlternateContent>
            <mc:Choice xmlns:a14="http://schemas.microsoft.com/office/drawing/2010/main" Requires="a14">
              <p:sp>
                <p:nvSpPr>
                  <p:cNvPr id="502" name=""/>
                  <p:cNvSpPr txBox="1"/>
                  <p:nvPr/>
                </p:nvSpPr>
                <p:spPr>
                  <a:xfrm>
                    <a:off x="6464160" y="2996640"/>
                    <a:ext cx="222120" cy="3045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3" name=""/>
                  <p:cNvSpPr txBox="1"/>
                  <p:nvPr/>
                </p:nvSpPr>
                <p:spPr>
                  <a:xfrm>
                    <a:off x="5029200" y="2793600"/>
                    <a:ext cx="406440" cy="533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(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504" name=""/>
                  <p:cNvSpPr txBox="1"/>
                  <p:nvPr/>
                </p:nvSpPr>
                <p:spPr>
                  <a:xfrm>
                    <a:off x="6108480" y="2781360"/>
                    <a:ext cx="408240" cy="5328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505" name=""/>
            <p:cNvSpPr/>
            <p:nvPr/>
          </p:nvSpPr>
          <p:spPr>
            <a:xfrm>
              <a:off x="6642000" y="286992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15120" y="269244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112160" y="2949480"/>
              <a:ext cx="634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238880" y="3035160"/>
              <a:ext cx="279360" cy="3240"/>
            </a:xfrm>
            <a:custGeom>
              <a:avLst/>
              <a:gdLst/>
              <a:ahLst/>
              <a:rect l="l" t="t" r="r" b="b"/>
              <a:pathLst>
                <a:path w="176" h="2">
                  <a:moveTo>
                    <a:pt x="0" y="0"/>
                  </a:moveTo>
                  <a:lnTo>
                    <a:pt x="176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9" name=""/>
                <p:cNvSpPr txBox="1"/>
                <p:nvPr/>
              </p:nvSpPr>
              <p:spPr>
                <a:xfrm>
                  <a:off x="7505640" y="2946240"/>
                  <a:ext cx="222480" cy="304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10" name=""/>
            <p:cNvSpPr/>
            <p:nvPr/>
          </p:nvSpPr>
          <p:spPr>
            <a:xfrm>
              <a:off x="7596360" y="2819160"/>
              <a:ext cx="336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5181480" y="35812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Реши уравнение 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500"/>
                            </p:stCondLst>
                            <p:childTnLst>
                              <p:par>
                                <p:cTn id="9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8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81481E-006 L -0.00069 0.06413 L -0.01597 0.12894 E">
                                      <p:cBhvr>
                                        <p:cTn id="1167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-0.37309 0.65857 L -0.44705 0.75625 E">
                                      <p:cBhvr>
                                        <p:cTn id="1186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5556 0.76666 L -0.59445 0.78889 E">
                                      <p:cBhvr>
                                        <p:cTn id="122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fill="hold">
                            <p:stCondLst>
                              <p:cond delay="500"/>
                            </p:stCondLst>
                            <p:childTnLst>
                              <p:par>
                                <p:cTn id="1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0.45 -0.2463 L 0.53715 -0.41297 E">
                                      <p:cBhvr>
                                        <p:cTn id="124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9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449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449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0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1269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281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37800" y="63360"/>
            <a:ext cx="9067320" cy="6705360"/>
            <a:chOff x="37800" y="63360"/>
            <a:chExt cx="9067320" cy="6705360"/>
          </a:xfrm>
        </p:grpSpPr>
        <p:sp>
          <p:nvSpPr>
            <p:cNvPr id="513" name=""/>
            <p:cNvSpPr/>
            <p:nvPr/>
          </p:nvSpPr>
          <p:spPr>
            <a:xfrm>
              <a:off x="507600" y="90720"/>
              <a:ext cx="815508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7560" y="6755040"/>
              <a:ext cx="812880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065160" y="52776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1440" y="527760"/>
              <a:ext cx="2664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1440" y="6277320"/>
              <a:ext cx="45576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8648640" y="6263280"/>
              <a:ext cx="45612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16200000">
              <a:off x="863064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5400000">
              <a:off x="46800" y="54000"/>
              <a:ext cx="464400" cy="48276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291960" y="307080"/>
            <a:ext cx="8699760" cy="61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Задачи для самостоя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ва экскаватора, работая одновременно, выполняют некоторый объем земляных работ за 3 ч 45 мин. Один экскаватор, работая отдельно, может выполнить этот объем работ на 4 ч быстрее, чем другой. Сколько времени требуется каждому экскаватору в отдельности для выполнения того же объема земляных работ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тобы наполнить бассейн, сначала открыли  одну трубу и через 2 ч, не закрывая её, открыли вторую. Через 4 ч совместной работы труб бассейн был наполнен. Одна вторая труба могла бы наполнить бассейн в 1,5 раза быстрее, чем одна первая. За сколько часов можно наполнить бассейн через каждую труб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Arial"/>
              </a:rPr>
              <a:t>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ригада слесарей может выполнить некоторое задание по обработке деталей на 15 ч быстрее, чем бригада учеников. Если бригада учеников отработает 18 ч, выполняя это задание, а потом бригада слесарей продолжит выполнение задания в течение 6 ч, то и тогда будет выполнено только 0,6 всего задания. Сколько времени требуется бригаде учеников для самостояте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ения данного задания?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60948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а для поверки ответов.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8080" y="108000"/>
            <a:ext cx="9080280" cy="6705360"/>
            <a:chOff x="28080" y="108000"/>
            <a:chExt cx="9080280" cy="6705360"/>
          </a:xfrm>
        </p:grpSpPr>
        <p:sp>
          <p:nvSpPr>
            <p:cNvPr id="525" name=""/>
            <p:cNvSpPr/>
            <p:nvPr/>
          </p:nvSpPr>
          <p:spPr>
            <a:xfrm>
              <a:off x="498600" y="13536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38560" y="679968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068400" y="572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82080" y="57240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2080" y="632196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8651160" y="630792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rot="16200000">
              <a:off x="863352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5400000">
              <a:off x="3744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505400" y="5773680"/>
                <a:ext cx="921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34" name=""/>
          <p:cNvSpPr/>
          <p:nvPr/>
        </p:nvSpPr>
        <p:spPr>
          <a:xfrm>
            <a:off x="2818440" y="6172200"/>
            <a:ext cx="9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28600" y="7621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905120" y="7621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насос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114800" y="7621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насос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28600" y="1371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3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05120" y="13716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бригада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14320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бригада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41200" y="20700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4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92160" y="208296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бригада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28600" y="2819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5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05120" y="2819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бригада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886200" y="28195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бригада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28600" y="3962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1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905120" y="396252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экскав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038480" y="39625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экскав.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28600" y="472428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2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905120" y="47242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труба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038480" y="4724280"/>
            <a:ext cx="106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труба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04920" y="54864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а 3.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828800" y="548640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Бригада учеников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62120" y="2286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Уравнения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80880" y="342900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</a:rPr>
              <a:t>Задачи для самостоятельной работы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ff"/>
            </a:gs>
            <a:gs pos="100000">
              <a:srgbClr val="cc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5334120" y="180324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мин.,  рыжий кот               мин.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33920" y="327672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т:             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28600" y="251460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Опытный дрессировщик может вымыть слона за 40 мин, а его сын – за 2 ч. За сколько времени они вымоют трех слонов, работая вмест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838080"/>
            <a:ext cx="883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Рыжий и серый коты вместе могут съесть миску сметаны за 6 мин. За сколько времени может съесть эту сметану каждый кот в отдельности, если рыжий кот ест сметану на 25 % быстрее, чем серый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endshow"/>
          </p:cNvPr>
          <p:cNvSpPr/>
          <p:nvPr/>
        </p:nvSpPr>
        <p:spPr>
          <a:xfrm>
            <a:off x="8028000" y="6093000"/>
            <a:ext cx="503280" cy="5029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2920"/>
              <a:gd name="textAreaBottom" fmla="*/ 470520 h 50292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3801" y="3794"/>
                </a:moveTo>
                <a:lnTo>
                  <a:pt x="17814" y="10800"/>
                </a:lnTo>
                <a:lnTo>
                  <a:pt x="3801" y="178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28080" y="108000"/>
            <a:ext cx="9080280" cy="6705360"/>
            <a:chOff x="28080" y="108000"/>
            <a:chExt cx="9080280" cy="6705360"/>
          </a:xfrm>
        </p:grpSpPr>
        <p:sp>
          <p:nvSpPr>
            <p:cNvPr id="562" name=""/>
            <p:cNvSpPr/>
            <p:nvPr/>
          </p:nvSpPr>
          <p:spPr>
            <a:xfrm>
              <a:off x="498600" y="135360"/>
              <a:ext cx="8166600" cy="1440"/>
            </a:xfrm>
            <a:custGeom>
              <a:avLst/>
              <a:gdLst/>
              <a:ahLst/>
              <a:rect l="l" t="t" r="r" b="b"/>
              <a:pathLst>
                <a:path w="4864" h="1">
                  <a:moveTo>
                    <a:pt x="0" y="0"/>
                  </a:moveTo>
                  <a:lnTo>
                    <a:pt x="4864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8560" y="6799680"/>
              <a:ext cx="8140320" cy="1800"/>
            </a:xfrm>
            <a:custGeom>
              <a:avLst/>
              <a:gdLst/>
              <a:ahLst/>
              <a:rect l="l" t="t" r="r" b="b"/>
              <a:pathLst>
                <a:path w="4848" h="1">
                  <a:moveTo>
                    <a:pt x="0" y="0"/>
                  </a:moveTo>
                  <a:lnTo>
                    <a:pt x="4848" y="0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068400" y="572400"/>
              <a:ext cx="1440" cy="5762880"/>
            </a:xfrm>
            <a:custGeom>
              <a:avLst/>
              <a:gdLst/>
              <a:ahLst/>
              <a:rect l="l" t="t" r="r" b="b"/>
              <a:pathLst>
                <a:path w="1" h="3376">
                  <a:moveTo>
                    <a:pt x="0" y="0"/>
                  </a:moveTo>
                  <a:lnTo>
                    <a:pt x="0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2080" y="572400"/>
              <a:ext cx="27000" cy="5762880"/>
            </a:xfrm>
            <a:custGeom>
              <a:avLst/>
              <a:gdLst/>
              <a:ahLst/>
              <a:rect l="l" t="t" r="r" b="b"/>
              <a:pathLst>
                <a:path w="16" h="3376">
                  <a:moveTo>
                    <a:pt x="0" y="0"/>
                  </a:moveTo>
                  <a:lnTo>
                    <a:pt x="16" y="3376"/>
                  </a:ln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2080" y="6321960"/>
              <a:ext cx="45648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8651160" y="6307920"/>
              <a:ext cx="456840" cy="49140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 rot="16200000">
              <a:off x="863352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5400000">
              <a:off x="37440" y="98280"/>
              <a:ext cx="464400" cy="483480"/>
            </a:xfrm>
            <a:custGeom>
              <a:avLst/>
              <a:gdLst/>
              <a:ahLst/>
              <a:rect l="l" t="t" r="r" b="b"/>
              <a:pathLst>
                <a:path w="272" h="288">
                  <a:moveTo>
                    <a:pt x="0" y="0"/>
                  </a:moveTo>
                  <a:cubicBezTo>
                    <a:pt x="81" y="16"/>
                    <a:pt x="163" y="32"/>
                    <a:pt x="208" y="80"/>
                  </a:cubicBezTo>
                  <a:cubicBezTo>
                    <a:pt x="253" y="128"/>
                    <a:pt x="262" y="208"/>
                    <a:pt x="272" y="288"/>
                  </a:cubicBezTo>
                </a:path>
              </a:pathLst>
            </a:custGeom>
            <a:noFill/>
            <a:ln w="76320">
              <a:solidFill>
                <a:srgbClr val="00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70" name=""/>
              <p:cNvSpPr txBox="1"/>
              <p:nvPr/>
            </p:nvSpPr>
            <p:spPr>
              <a:xfrm>
                <a:off x="4505400" y="5773680"/>
                <a:ext cx="92160" cy="1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71" name=""/>
          <p:cNvSpPr/>
          <p:nvPr/>
        </p:nvSpPr>
        <p:spPr>
          <a:xfrm>
            <a:off x="2817000" y="6338880"/>
            <a:ext cx="82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ax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57200" y="152280"/>
            <a:ext cx="8534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ой, не сразу узнаешь задачу на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1" lang="en-US" sz="2000" spc="-1" strike="noStrike">
                <a:solidFill>
                  <a:srgbClr val="6600cc"/>
                </a:solidFill>
                <a:latin typeface="Arial"/>
              </a:rPr>
              <a:t>Дополнительные задач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"/>
          <p:cNvGrpSpPr/>
          <p:nvPr/>
        </p:nvGrpSpPr>
        <p:grpSpPr>
          <a:xfrm>
            <a:off x="228600" y="3733920"/>
            <a:ext cx="8686800" cy="2106000"/>
            <a:chOff x="228600" y="3733920"/>
            <a:chExt cx="8686800" cy="2106000"/>
          </a:xfrm>
        </p:grpSpPr>
        <p:sp>
          <p:nvSpPr>
            <p:cNvPr id="574" name=""/>
            <p:cNvSpPr/>
            <p:nvPr/>
          </p:nvSpPr>
          <p:spPr>
            <a:xfrm>
              <a:off x="228600" y="3733920"/>
              <a:ext cx="8686800" cy="21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6600cc"/>
                  </a:solidFill>
                  <a:latin typeface="Arial"/>
                </a:rPr>
                <a:t>     </a:t>
              </a:r>
              <a:r>
                <a:rPr b="1" lang="en-US" sz="2000" spc="-1" strike="noStrike">
                  <a:solidFill>
                    <a:srgbClr val="6600cc"/>
                  </a:solidFill>
                  <a:latin typeface="Arial"/>
                </a:rPr>
                <a:t>3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В кинотеатре имеются две разные двери. Через обе две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зрители могут покинуть зал в течение       мин. Если их выпуска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через одну большую дверь, то выход из зала займет времени на 4 мин меньше, чем в том случае, если их выпускать через меньшую дверь. Сколько времени требуется, чтобы выпустить зрителей из зала через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каждую дверь в отдельности?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4939560" y="4062240"/>
              <a:ext cx="426240" cy="610200"/>
              <a:chOff x="4939560" y="4062240"/>
              <a:chExt cx="426240" cy="610200"/>
            </a:xfrm>
          </p:grpSpPr>
          <p:sp>
            <p:nvSpPr>
              <p:cNvPr id="576" name=""/>
              <p:cNvSpPr/>
              <p:nvPr/>
            </p:nvSpPr>
            <p:spPr>
              <a:xfrm>
                <a:off x="5116320" y="4341600"/>
                <a:ext cx="2494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155560" y="436716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155560" y="406224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939560" y="4195800"/>
                <a:ext cx="1425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304920" y="182880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т: серый кот съест сметану за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8600" y="5788080"/>
            <a:ext cx="71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твет: через большую дверь            мин, через маленькую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ина</cp:lastModifiedBy>
  <dcterms:modified xsi:type="dcterms:W3CDTF">2011-10-06T17:09:55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